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gif" ContentType="image/gi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4B4-0482-4FF4-9BBB-EABC85F3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539-66B2-473D-9103-DB1DDA23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EEE-F446-486F-9B0C-68F099B8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75E-59BA-44BD-ACA6-D4CF4669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7E9-0847-44AE-8B1F-CB91E7F6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0C5-D62D-45D7-8240-A0B48DDB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D69-0B48-49A2-BCAB-28A7DE05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8F1-9A52-4615-8CB5-AFD238B6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034-ADA0-4D3A-ACA9-C45CC1C5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A50-D159-418C-B28F-552DD8ED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15D-754B-403D-B582-34AAA753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4B5-A85F-4859-8DB7-D99A0836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C283-FBE6-4DF9-9377-5ED9A31933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分数的基本性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写书上的括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观察左面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式子，分子、分母怎样变化。用一句话概括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观察右面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式子，分子、分母怎样变化。用一句话概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将两句话概括成一句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24000" y="198900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分数的分子和分母同时乘以或者除以相同的数（零除外），分数的大小不变。这叫做分数的基本性质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793960" y="2203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71640" y="1843200"/>
            <a:ext cx="792000" cy="1013040"/>
            <a:chOff x="971640" y="1843200"/>
            <a:chExt cx="792000" cy="1013040"/>
          </a:xfrm>
        </p:grpSpPr>
        <p:sp>
          <p:nvSpPr>
            <p:cNvPr id="262" name=""/>
            <p:cNvSpPr/>
            <p:nvPr/>
          </p:nvSpPr>
          <p:spPr>
            <a:xfrm>
              <a:off x="1187640" y="2274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71640" y="23479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7640" y="18432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692360" y="19875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2274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2347920"/>
            <a:ext cx="1943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11280" y="18432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93960" y="18432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53960" y="18432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53960" y="227664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643280" y="1843200"/>
            <a:ext cx="792000" cy="1013040"/>
            <a:chOff x="4643280" y="1843200"/>
            <a:chExt cx="792000" cy="1013040"/>
          </a:xfrm>
        </p:grpSpPr>
        <p:sp>
          <p:nvSpPr>
            <p:cNvPr id="273" name=""/>
            <p:cNvSpPr/>
            <p:nvPr/>
          </p:nvSpPr>
          <p:spPr>
            <a:xfrm>
              <a:off x="4859280" y="2274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43280" y="23479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59280" y="18432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140360" y="19875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2997360"/>
            <a:ext cx="4464000" cy="1084680"/>
            <a:chOff x="971640" y="2997360"/>
            <a:chExt cx="4464000" cy="1084680"/>
          </a:xfrm>
        </p:grpSpPr>
        <p:sp>
          <p:nvSpPr>
            <p:cNvPr id="278" name=""/>
            <p:cNvSpPr/>
            <p:nvPr/>
          </p:nvSpPr>
          <p:spPr>
            <a:xfrm>
              <a:off x="1621080" y="321156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40000" y="34988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97080" y="357192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0000" y="30672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82680" y="306720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82680" y="350064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427640" y="2997360"/>
              <a:ext cx="1008000" cy="1011600"/>
              <a:chOff x="4427640" y="2997360"/>
              <a:chExt cx="1008000" cy="1011600"/>
            </a:xfrm>
          </p:grpSpPr>
          <p:sp>
            <p:nvSpPr>
              <p:cNvPr id="285" name=""/>
              <p:cNvSpPr/>
              <p:nvPr/>
            </p:nvSpPr>
            <p:spPr>
              <a:xfrm>
                <a:off x="4689720" y="34275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45080" y="350208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27640" y="299736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　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4068720" y="321336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7280" y="3068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27280" y="3500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971640" y="2997360"/>
              <a:ext cx="792000" cy="1013040"/>
              <a:chOff x="971640" y="2997360"/>
              <a:chExt cx="792000" cy="1013040"/>
            </a:xfrm>
          </p:grpSpPr>
          <p:sp>
            <p:nvSpPr>
              <p:cNvPr id="292" name=""/>
              <p:cNvSpPr/>
              <p:nvPr/>
            </p:nvSpPr>
            <p:spPr>
              <a:xfrm>
                <a:off x="1187640" y="34290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971640" y="350208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87640" y="299736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826920" y="4149720"/>
            <a:ext cx="4680000" cy="1084680"/>
            <a:chOff x="826920" y="4149720"/>
            <a:chExt cx="4680000" cy="1084680"/>
          </a:xfrm>
        </p:grpSpPr>
        <p:grpSp>
          <p:nvGrpSpPr>
            <p:cNvPr id="296" name=""/>
            <p:cNvGrpSpPr/>
            <p:nvPr/>
          </p:nvGrpSpPr>
          <p:grpSpPr>
            <a:xfrm>
              <a:off x="826920" y="4221000"/>
              <a:ext cx="1008000" cy="1011600"/>
              <a:chOff x="826920" y="4221000"/>
              <a:chExt cx="1008000" cy="1011600"/>
            </a:xfrm>
          </p:grpSpPr>
          <p:sp>
            <p:nvSpPr>
              <p:cNvPr id="297" name=""/>
              <p:cNvSpPr/>
              <p:nvPr/>
            </p:nvSpPr>
            <p:spPr>
              <a:xfrm>
                <a:off x="1089000" y="46512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44360" y="472572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6920" y="422100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　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763640" y="44370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5280" y="46530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68360" y="472428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11280" y="42195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53960" y="421956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53960" y="465300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40000" y="436572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1640" y="4221000"/>
              <a:ext cx="504720" cy="5050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71640" y="4724280"/>
              <a:ext cx="504720" cy="5050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716360" y="4149720"/>
              <a:ext cx="790560" cy="1013040"/>
              <a:chOff x="4716360" y="4149720"/>
              <a:chExt cx="790560" cy="1013040"/>
            </a:xfrm>
          </p:grpSpPr>
          <p:sp>
            <p:nvSpPr>
              <p:cNvPr id="310" name=""/>
              <p:cNvSpPr/>
              <p:nvPr/>
            </p:nvSpPr>
            <p:spPr>
              <a:xfrm>
                <a:off x="4787640" y="4581360"/>
                <a:ext cx="66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6360" y="465300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87640" y="4149720"/>
                <a:ext cx="66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900000" y="5373720"/>
            <a:ext cx="4627440" cy="1086120"/>
            <a:chOff x="900000" y="5373720"/>
            <a:chExt cx="4627440" cy="1086120"/>
          </a:xfrm>
        </p:grpSpPr>
        <p:grpSp>
          <p:nvGrpSpPr>
            <p:cNvPr id="314" name=""/>
            <p:cNvGrpSpPr/>
            <p:nvPr/>
          </p:nvGrpSpPr>
          <p:grpSpPr>
            <a:xfrm>
              <a:off x="900000" y="5446800"/>
              <a:ext cx="1008000" cy="1011240"/>
              <a:chOff x="900000" y="5446800"/>
              <a:chExt cx="1008000" cy="1011240"/>
            </a:xfrm>
          </p:grpSpPr>
          <p:sp>
            <p:nvSpPr>
              <p:cNvPr id="315" name=""/>
              <p:cNvSpPr/>
              <p:nvPr/>
            </p:nvSpPr>
            <p:spPr>
              <a:xfrm>
                <a:off x="1162080" y="587664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17440" y="595116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00000" y="544680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　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1836720" y="56628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58784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41440" y="595008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84360" y="5445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27040" y="544500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27040" y="587844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13080" y="559116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44720" y="5446800"/>
              <a:ext cx="50472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44720" y="5950080"/>
              <a:ext cx="50472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0720" y="580716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16360" y="5878440"/>
              <a:ext cx="790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60720" y="537372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492360" y="18432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3500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92360" y="227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19640" y="306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71640" y="4149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71640" y="465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92360" y="4221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92360" y="4653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36880" y="5373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36880" y="5877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64000" y="544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64000" y="5877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在下面的（　）里填上适当的数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　　里填上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×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号或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÷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，使等式成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12000" y="549360"/>
            <a:ext cx="432000" cy="431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09960" y="18432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187280" y="1482840"/>
            <a:ext cx="792000" cy="1013040"/>
            <a:chOff x="1187280" y="1482840"/>
            <a:chExt cx="792000" cy="1013040"/>
          </a:xfrm>
        </p:grpSpPr>
        <p:sp>
          <p:nvSpPr>
            <p:cNvPr id="346" name=""/>
            <p:cNvSpPr/>
            <p:nvPr/>
          </p:nvSpPr>
          <p:spPr>
            <a:xfrm>
              <a:off x="1403280" y="19144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87280" y="19875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03280" y="1482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08000" y="16272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27280" y="19144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84360" y="1987560"/>
            <a:ext cx="1943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1482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09960" y="14828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93800" y="1482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9380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859280" y="1482840"/>
            <a:ext cx="792000" cy="1013040"/>
            <a:chOff x="4859280" y="1482840"/>
            <a:chExt cx="792000" cy="1013040"/>
          </a:xfrm>
        </p:grpSpPr>
        <p:sp>
          <p:nvSpPr>
            <p:cNvPr id="357" name=""/>
            <p:cNvSpPr/>
            <p:nvPr/>
          </p:nvSpPr>
          <p:spPr>
            <a:xfrm>
              <a:off x="5075280" y="19144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59280" y="19875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75280" y="1482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356000" y="16272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116000" y="2637000"/>
            <a:ext cx="3960720" cy="1084680"/>
            <a:chOff x="1116000" y="2637000"/>
            <a:chExt cx="3960720" cy="1084680"/>
          </a:xfrm>
        </p:grpSpPr>
        <p:sp>
          <p:nvSpPr>
            <p:cNvPr id="362" name=""/>
            <p:cNvSpPr/>
            <p:nvPr/>
          </p:nvSpPr>
          <p:spPr>
            <a:xfrm>
              <a:off x="1765440" y="28512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84360" y="31384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41440" y="3211560"/>
              <a:ext cx="144000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84360" y="27068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6520" y="2708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06520" y="3140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068720" y="2708280"/>
              <a:ext cx="1008000" cy="1011600"/>
              <a:chOff x="4068720" y="2708280"/>
              <a:chExt cx="1008000" cy="1011600"/>
            </a:xfrm>
          </p:grpSpPr>
          <p:sp>
            <p:nvSpPr>
              <p:cNvPr id="369" name=""/>
              <p:cNvSpPr/>
              <p:nvPr/>
            </p:nvSpPr>
            <p:spPr>
              <a:xfrm>
                <a:off x="4330800" y="313848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3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286160" y="321300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68720" y="270828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　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3709800" y="292428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71640" y="2708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71640" y="3140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116000" y="2637000"/>
              <a:ext cx="792000" cy="1013040"/>
              <a:chOff x="1116000" y="2637000"/>
              <a:chExt cx="792000" cy="1013040"/>
            </a:xfrm>
          </p:grpSpPr>
          <p:sp>
            <p:nvSpPr>
              <p:cNvPr id="376" name=""/>
              <p:cNvSpPr/>
              <p:nvPr/>
            </p:nvSpPr>
            <p:spPr>
              <a:xfrm>
                <a:off x="1332000" y="3068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00" y="314172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332000" y="26370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1187280" y="3789360"/>
            <a:ext cx="4413240" cy="1084680"/>
            <a:chOff x="1187280" y="3789360"/>
            <a:chExt cx="4413240" cy="1084680"/>
          </a:xfrm>
        </p:grpSpPr>
        <p:sp>
          <p:nvSpPr>
            <p:cNvPr id="380" name=""/>
            <p:cNvSpPr/>
            <p:nvPr/>
          </p:nvSpPr>
          <p:spPr>
            <a:xfrm>
              <a:off x="1836720" y="400356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55640" y="42908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12720" y="4363920"/>
              <a:ext cx="187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55640" y="38592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22160" y="38606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2160" y="42926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33800" y="42926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790880" y="4363560"/>
              <a:ext cx="71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02160" y="3860640"/>
              <a:ext cx="96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84360" y="407664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42920" y="3860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42920" y="4292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187280" y="3789360"/>
              <a:ext cx="792000" cy="1013040"/>
              <a:chOff x="1187280" y="3789360"/>
              <a:chExt cx="792000" cy="1013040"/>
            </a:xfrm>
          </p:grpSpPr>
          <p:sp>
            <p:nvSpPr>
              <p:cNvPr id="393" name=""/>
              <p:cNvSpPr/>
              <p:nvPr/>
            </p:nvSpPr>
            <p:spPr>
              <a:xfrm>
                <a:off x="1403280" y="42210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87280" y="429408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03280" y="378936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1187280" y="4941720"/>
            <a:ext cx="4464000" cy="1014840"/>
            <a:chOff x="1187280" y="4941720"/>
            <a:chExt cx="4464000" cy="1014840"/>
          </a:xfrm>
        </p:grpSpPr>
        <p:grpSp>
          <p:nvGrpSpPr>
            <p:cNvPr id="397" name=""/>
            <p:cNvGrpSpPr/>
            <p:nvPr/>
          </p:nvGrpSpPr>
          <p:grpSpPr>
            <a:xfrm>
              <a:off x="1187280" y="4941720"/>
              <a:ext cx="792000" cy="1013040"/>
              <a:chOff x="1187280" y="4941720"/>
              <a:chExt cx="792000" cy="1013040"/>
            </a:xfrm>
          </p:grpSpPr>
          <p:sp>
            <p:nvSpPr>
              <p:cNvPr id="398" name=""/>
              <p:cNvSpPr/>
              <p:nvPr/>
            </p:nvSpPr>
            <p:spPr>
              <a:xfrm>
                <a:off x="1403280" y="537336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187280" y="544644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03280" y="4941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1908000" y="508608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27280" y="5373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84360" y="5446440"/>
              <a:ext cx="1942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7280" y="49417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09600" y="49417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93800" y="4941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3800" y="5375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4859280" y="4941720"/>
              <a:ext cx="792000" cy="1013040"/>
              <a:chOff x="4859280" y="4941720"/>
              <a:chExt cx="792000" cy="1013040"/>
            </a:xfrm>
          </p:grpSpPr>
          <p:sp>
            <p:nvSpPr>
              <p:cNvPr id="409" name=""/>
              <p:cNvSpPr/>
              <p:nvPr/>
            </p:nvSpPr>
            <p:spPr>
              <a:xfrm>
                <a:off x="5075280" y="537336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859280" y="544644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75280" y="4941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4356000" y="508608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16000" y="53751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116000" y="4762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请你当法官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　（说明理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659640" y="177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5964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378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04000" y="508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4760" y="2550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76400" y="35593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08720" y="1628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80360" y="5013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971640" y="1557360"/>
            <a:ext cx="792000" cy="1013040"/>
            <a:chOff x="971640" y="1557360"/>
            <a:chExt cx="792000" cy="1013040"/>
          </a:xfrm>
        </p:grpSpPr>
        <p:sp>
          <p:nvSpPr>
            <p:cNvPr id="424" name=""/>
            <p:cNvSpPr/>
            <p:nvPr/>
          </p:nvSpPr>
          <p:spPr>
            <a:xfrm>
              <a:off x="1187640" y="1989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71640" y="206208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87640" y="1557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692360" y="17733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12000" y="3284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4000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68360" y="2062080"/>
            <a:ext cx="100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1557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71640" y="2852640"/>
            <a:ext cx="2879640" cy="1013040"/>
            <a:chOff x="971640" y="2852640"/>
            <a:chExt cx="2879640" cy="1013040"/>
          </a:xfrm>
        </p:grpSpPr>
        <p:grpSp>
          <p:nvGrpSpPr>
            <p:cNvPr id="433" name=""/>
            <p:cNvGrpSpPr/>
            <p:nvPr/>
          </p:nvGrpSpPr>
          <p:grpSpPr>
            <a:xfrm>
              <a:off x="971640" y="2852640"/>
              <a:ext cx="836640" cy="1013040"/>
              <a:chOff x="971640" y="2852640"/>
              <a:chExt cx="836640" cy="1013040"/>
            </a:xfrm>
          </p:grpSpPr>
          <p:sp>
            <p:nvSpPr>
              <p:cNvPr id="434" name=""/>
              <p:cNvSpPr/>
              <p:nvPr/>
            </p:nvSpPr>
            <p:spPr>
              <a:xfrm>
                <a:off x="971640" y="328428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97200" y="3355920"/>
                <a:ext cx="720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41560" y="285264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1692360" y="3068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4000" y="328428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68720" y="3357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51280" y="285264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572000" y="1484280"/>
            <a:ext cx="2952720" cy="1084680"/>
            <a:chOff x="4572000" y="1484280"/>
            <a:chExt cx="2952720" cy="1084680"/>
          </a:xfrm>
        </p:grpSpPr>
        <p:sp>
          <p:nvSpPr>
            <p:cNvPr id="442" name=""/>
            <p:cNvSpPr/>
            <p:nvPr/>
          </p:nvSpPr>
          <p:spPr>
            <a:xfrm>
              <a:off x="4643280" y="1987560"/>
              <a:ext cx="6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572000" y="2058480"/>
              <a:ext cx="81756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43280" y="1555560"/>
              <a:ext cx="6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64000" y="170028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96000" y="148428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40360" y="1989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24360" y="191592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570560" y="2852640"/>
            <a:ext cx="2736720" cy="1013040"/>
            <a:chOff x="4570560" y="2852640"/>
            <a:chExt cx="2736720" cy="1013040"/>
          </a:xfrm>
        </p:grpSpPr>
        <p:grpSp>
          <p:nvGrpSpPr>
            <p:cNvPr id="450" name=""/>
            <p:cNvGrpSpPr/>
            <p:nvPr/>
          </p:nvGrpSpPr>
          <p:grpSpPr>
            <a:xfrm>
              <a:off x="4570560" y="2852640"/>
              <a:ext cx="792000" cy="1013040"/>
              <a:chOff x="4570560" y="2852640"/>
              <a:chExt cx="792000" cy="1013040"/>
            </a:xfrm>
          </p:grpSpPr>
          <p:sp>
            <p:nvSpPr>
              <p:cNvPr id="451" name=""/>
              <p:cNvSpPr/>
              <p:nvPr/>
            </p:nvSpPr>
            <p:spPr>
              <a:xfrm>
                <a:off x="4786560" y="3284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0560" y="335736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786560" y="2852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5291280" y="3068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51640" y="3284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67640" y="3357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22920" y="2852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898560" y="4076640"/>
            <a:ext cx="5905440" cy="1013040"/>
            <a:chOff x="898560" y="4076640"/>
            <a:chExt cx="5905440" cy="1013040"/>
          </a:xfrm>
        </p:grpSpPr>
        <p:grpSp>
          <p:nvGrpSpPr>
            <p:cNvPr id="459" name=""/>
            <p:cNvGrpSpPr/>
            <p:nvPr/>
          </p:nvGrpSpPr>
          <p:grpSpPr>
            <a:xfrm>
              <a:off x="898560" y="4076640"/>
              <a:ext cx="792000" cy="1013040"/>
              <a:chOff x="898560" y="4076640"/>
              <a:chExt cx="792000" cy="1013040"/>
            </a:xfrm>
          </p:grpSpPr>
          <p:sp>
            <p:nvSpPr>
              <p:cNvPr id="460" name=""/>
              <p:cNvSpPr/>
              <p:nvPr/>
            </p:nvSpPr>
            <p:spPr>
              <a:xfrm>
                <a:off x="1114560" y="4508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8560" y="458136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4560" y="4076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1619280" y="4292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79640" y="4508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9564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50920" y="4076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03640" y="4292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4000" y="4508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8000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35280" y="4076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88000" y="429264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8360" y="4508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6436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59280" y="4076640"/>
              <a:ext cx="18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66560" y="5373720"/>
            <a:ext cx="5113440" cy="1013040"/>
            <a:chOff x="466560" y="5373720"/>
            <a:chExt cx="5113440" cy="1013040"/>
          </a:xfrm>
        </p:grpSpPr>
        <p:sp>
          <p:nvSpPr>
            <p:cNvPr id="476" name=""/>
            <p:cNvSpPr/>
            <p:nvPr/>
          </p:nvSpPr>
          <p:spPr>
            <a:xfrm>
              <a:off x="755640" y="580536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16000" y="5877000"/>
              <a:ext cx="71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6560" y="5373720"/>
              <a:ext cx="14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34920" y="558972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66920" y="58053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11280" y="587844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93840" y="537372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19280" y="558972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51280" y="53737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95640" y="587844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79640" y="580536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39640" y="549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在下面的括号里填上适当的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56000" y="148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22764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56000" y="2781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4508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24360" y="450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580000" y="407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00360" y="537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284720" y="580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00000" y="476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把相等的分数写在同一个圈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43280" y="3284640"/>
            <a:ext cx="381636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9640" y="3213000"/>
            <a:ext cx="381636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195640" y="551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79640" y="5589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95640" y="508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978200" y="1413000"/>
            <a:ext cx="938160" cy="1013040"/>
            <a:chOff x="1978200" y="1413000"/>
            <a:chExt cx="938160" cy="1013040"/>
          </a:xfrm>
        </p:grpSpPr>
        <p:sp>
          <p:nvSpPr>
            <p:cNvPr id="503" name=""/>
            <p:cNvSpPr/>
            <p:nvPr/>
          </p:nvSpPr>
          <p:spPr>
            <a:xfrm>
              <a:off x="2051280" y="1844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8200" y="1917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94200" y="1413000"/>
              <a:ext cx="57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900000" y="1413000"/>
            <a:ext cx="792000" cy="1013040"/>
            <a:chOff x="900000" y="1413000"/>
            <a:chExt cx="792000" cy="1013040"/>
          </a:xfrm>
        </p:grpSpPr>
        <p:sp>
          <p:nvSpPr>
            <p:cNvPr id="507" name=""/>
            <p:cNvSpPr/>
            <p:nvPr/>
          </p:nvSpPr>
          <p:spPr>
            <a:xfrm>
              <a:off x="971280" y="18446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00000" y="1917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116000" y="1413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6443640" y="5589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27640" y="566244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443640" y="51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203640" y="1413000"/>
            <a:ext cx="938160" cy="1013040"/>
            <a:chOff x="3203640" y="1413000"/>
            <a:chExt cx="938160" cy="1013040"/>
          </a:xfrm>
        </p:grpSpPr>
        <p:sp>
          <p:nvSpPr>
            <p:cNvPr id="514" name=""/>
            <p:cNvSpPr/>
            <p:nvPr/>
          </p:nvSpPr>
          <p:spPr>
            <a:xfrm>
              <a:off x="3276720" y="1844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03640" y="1917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76720" y="141300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282920" y="1413000"/>
            <a:ext cx="938160" cy="1013040"/>
            <a:chOff x="4282920" y="1413000"/>
            <a:chExt cx="938160" cy="1013040"/>
          </a:xfrm>
        </p:grpSpPr>
        <p:sp>
          <p:nvSpPr>
            <p:cNvPr id="518" name=""/>
            <p:cNvSpPr/>
            <p:nvPr/>
          </p:nvSpPr>
          <p:spPr>
            <a:xfrm>
              <a:off x="4356000" y="1844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82920" y="1917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56000" y="141300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506920" y="1413000"/>
            <a:ext cx="938160" cy="1013040"/>
            <a:chOff x="5506920" y="1413000"/>
            <a:chExt cx="938160" cy="1013040"/>
          </a:xfrm>
        </p:grpSpPr>
        <p:sp>
          <p:nvSpPr>
            <p:cNvPr id="522" name=""/>
            <p:cNvSpPr/>
            <p:nvPr/>
          </p:nvSpPr>
          <p:spPr>
            <a:xfrm>
              <a:off x="5580000" y="1844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06920" y="1917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80000" y="141300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804000" y="1413000"/>
            <a:ext cx="938160" cy="1013040"/>
            <a:chOff x="6804000" y="1413000"/>
            <a:chExt cx="938160" cy="1013040"/>
          </a:xfrm>
        </p:grpSpPr>
        <p:sp>
          <p:nvSpPr>
            <p:cNvPr id="526" name=""/>
            <p:cNvSpPr/>
            <p:nvPr/>
          </p:nvSpPr>
          <p:spPr>
            <a:xfrm>
              <a:off x="6877080" y="1844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04000" y="1917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77080" y="141300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64162E-006 L 0.53959 0.32508 E">
                                      <p:cBhvr>
                                        <p:cTn id="48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4162E-006 L 0.5158 0.34589 E">
                                      <p:cBhvr>
                                        <p:cTn id="487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64162E-006 L -0.35035 0.29364 E">
                                      <p:cBhvr>
                                        <p:cTn id="491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64162E-006 L -0.38975 0.31445 E">
                                      <p:cBhvr>
                                        <p:cTn id="495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64162E-006 L -0.41337 0.32508 E">
                                      <p:cBhvr>
                                        <p:cTn id="499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39640" y="549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211640" y="2060640"/>
            <a:ext cx="503280" cy="1013040"/>
            <a:chOff x="4211640" y="2060640"/>
            <a:chExt cx="503280" cy="1013040"/>
          </a:xfrm>
        </p:grpSpPr>
        <p:sp>
          <p:nvSpPr>
            <p:cNvPr id="531" name=""/>
            <p:cNvSpPr/>
            <p:nvPr/>
          </p:nvSpPr>
          <p:spPr>
            <a:xfrm>
              <a:off x="4282920" y="2492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1640" y="2563920"/>
              <a:ext cx="5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82920" y="2060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79280" y="981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把下面的分数化成分母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而大小不变的分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627280" y="2060640"/>
            <a:ext cx="938160" cy="1013040"/>
            <a:chOff x="2627280" y="2060640"/>
            <a:chExt cx="938160" cy="1013040"/>
          </a:xfrm>
        </p:grpSpPr>
        <p:sp>
          <p:nvSpPr>
            <p:cNvPr id="536" name=""/>
            <p:cNvSpPr/>
            <p:nvPr/>
          </p:nvSpPr>
          <p:spPr>
            <a:xfrm>
              <a:off x="2700360" y="249228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27280" y="2565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00360" y="20606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116000" y="2492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42920" y="256536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79640" y="206064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084720" y="2133720"/>
            <a:ext cx="503280" cy="1013040"/>
            <a:chOff x="6084720" y="2133720"/>
            <a:chExt cx="503280" cy="1013040"/>
          </a:xfrm>
        </p:grpSpPr>
        <p:sp>
          <p:nvSpPr>
            <p:cNvPr id="543" name=""/>
            <p:cNvSpPr/>
            <p:nvPr/>
          </p:nvSpPr>
          <p:spPr>
            <a:xfrm>
              <a:off x="6156000" y="25653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84720" y="2637000"/>
              <a:ext cx="5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56000" y="21337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093080" y="2060640"/>
            <a:ext cx="503280" cy="1013040"/>
            <a:chOff x="7093080" y="2060640"/>
            <a:chExt cx="503280" cy="1013040"/>
          </a:xfrm>
        </p:grpSpPr>
        <p:sp>
          <p:nvSpPr>
            <p:cNvPr id="547" name=""/>
            <p:cNvSpPr/>
            <p:nvPr/>
          </p:nvSpPr>
          <p:spPr>
            <a:xfrm>
              <a:off x="7164360" y="2492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93080" y="2563920"/>
              <a:ext cx="5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64360" y="2060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68360" y="148428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把下面的数化成分子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而大小不变的分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187280" y="2421000"/>
            <a:ext cx="938160" cy="1013040"/>
            <a:chOff x="1187280" y="2421000"/>
            <a:chExt cx="938160" cy="1013040"/>
          </a:xfrm>
        </p:grpSpPr>
        <p:sp>
          <p:nvSpPr>
            <p:cNvPr id="552" name=""/>
            <p:cNvSpPr/>
            <p:nvPr/>
          </p:nvSpPr>
          <p:spPr>
            <a:xfrm>
              <a:off x="1260360" y="2852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87280" y="2925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60360" y="24210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2627280" y="2852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54200" y="292572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70200" y="24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067280" y="2852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94200" y="292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10200" y="24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722920" y="2852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49840" y="292572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865840" y="24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162920" y="2852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946920" y="292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162920" y="24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8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和掌握分数的基本性质，知道分数的基本性质与整数除法中商不变性质的关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运用分数的基本性质把一个分数化成分母相同而大小不变的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故事引人，揭示课题</a:t>
            </a:r>
            <a:r>
              <a:rPr b="1" lang="zh-CN" sz="19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．教师讲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猴山上的猴子最喜欢吃猴王做的饼了。有一天，猴王做了三块大小一样的饼分给小猴们吃，它先把第一块饼平均切成四块，分给猴１一块。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到说：“太小了，我要两块。”猴王就把第二块饼平均切成八块，分给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块。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更贪，它抢着说：“我要三块，我要三块。”于是，猴王又把第三块饼平均切成十二块，分给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块。小朋友，你知道哪只猴子分得多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讨论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哪只猴子分得多？请大家发表自己的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38840" y="2952000"/>
            <a:ext cx="1891800" cy="1957680"/>
            <a:chOff x="438840" y="2952000"/>
            <a:chExt cx="1891800" cy="1957680"/>
          </a:xfrm>
        </p:grpSpPr>
        <p:sp>
          <p:nvSpPr>
            <p:cNvPr id="48" name=""/>
            <p:cNvSpPr/>
            <p:nvPr/>
          </p:nvSpPr>
          <p:spPr>
            <a:xfrm rot="21428400">
              <a:off x="482400" y="2995560"/>
              <a:ext cx="180000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1428400">
              <a:off x="486720" y="3065400"/>
              <a:ext cx="1800000" cy="180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18800" y="3083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02840" y="2997000"/>
              <a:ext cx="36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93720" y="3054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18840" y="298764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4480" y="299412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5760" y="299088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29760" y="300204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58480" y="300528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8800" y="308304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85400" y="3008160"/>
              <a:ext cx="36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65000" y="3051000"/>
              <a:ext cx="36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2600" y="3116160"/>
              <a:ext cx="36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85640" y="4003560"/>
            <a:ext cx="180036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2360" y="3068640"/>
            <a:ext cx="0" cy="1800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443760" y="2965680"/>
            <a:ext cx="1892520" cy="1957680"/>
            <a:chOff x="3443760" y="2965680"/>
            <a:chExt cx="1892520" cy="1957680"/>
          </a:xfrm>
        </p:grpSpPr>
        <p:sp>
          <p:nvSpPr>
            <p:cNvPr id="65" name=""/>
            <p:cNvSpPr/>
            <p:nvPr/>
          </p:nvSpPr>
          <p:spPr>
            <a:xfrm rot="21428400">
              <a:off x="3487320" y="3009600"/>
              <a:ext cx="1800360" cy="180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428400">
              <a:off x="3492000" y="3079440"/>
              <a:ext cx="1800360" cy="1800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24080" y="309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08120" y="301104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99000" y="3068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24120" y="3002040"/>
              <a:ext cx="360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9760" y="3008160"/>
              <a:ext cx="360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1040" y="3004920"/>
              <a:ext cx="360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35040" y="3016080"/>
              <a:ext cx="360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63760" y="3019320"/>
              <a:ext cx="360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24080" y="3097080"/>
              <a:ext cx="360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90680" y="302220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70280" y="306504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17880" y="313020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490920" y="3975120"/>
            <a:ext cx="180036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84800" y="3083040"/>
            <a:ext cx="0" cy="1800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755400" y="2954880"/>
            <a:ext cx="1892520" cy="1958040"/>
            <a:chOff x="6755400" y="2954880"/>
            <a:chExt cx="1892520" cy="1958040"/>
          </a:xfrm>
        </p:grpSpPr>
        <p:sp>
          <p:nvSpPr>
            <p:cNvPr id="82" name=""/>
            <p:cNvSpPr/>
            <p:nvPr/>
          </p:nvSpPr>
          <p:spPr>
            <a:xfrm rot="21428400">
              <a:off x="6798960" y="2998800"/>
              <a:ext cx="180036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1428400">
              <a:off x="6803640" y="3068640"/>
              <a:ext cx="1800360" cy="180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35720" y="3086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19760" y="3000240"/>
              <a:ext cx="36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10640" y="3057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35760" y="299088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1400" y="299736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2680" y="299412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46680" y="300528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75400" y="300852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35720" y="3086280"/>
              <a:ext cx="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02320" y="3011400"/>
              <a:ext cx="36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1920" y="3054240"/>
              <a:ext cx="36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29520" y="3119400"/>
              <a:ext cx="36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722760" y="3298680"/>
            <a:ext cx="1295280" cy="12970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779640" y="3270240"/>
            <a:ext cx="1268280" cy="1325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3984480"/>
            <a:ext cx="180036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7880" y="3063960"/>
            <a:ext cx="0" cy="1800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07200" y="3135240"/>
            <a:ext cx="936720" cy="158436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235640" y="3162240"/>
            <a:ext cx="936360" cy="1557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77080" y="3538440"/>
            <a:ext cx="1582560" cy="865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876720" y="3567240"/>
            <a:ext cx="1655640" cy="838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35600" y="2951640"/>
            <a:ext cx="1892520" cy="1958040"/>
            <a:chOff x="435600" y="2951640"/>
            <a:chExt cx="1892520" cy="1958040"/>
          </a:xfrm>
        </p:grpSpPr>
        <p:grpSp>
          <p:nvGrpSpPr>
            <p:cNvPr id="106" name=""/>
            <p:cNvGrpSpPr/>
            <p:nvPr/>
          </p:nvGrpSpPr>
          <p:grpSpPr>
            <a:xfrm>
              <a:off x="435600" y="2951640"/>
              <a:ext cx="1892520" cy="1958040"/>
              <a:chOff x="435600" y="2951640"/>
              <a:chExt cx="1892520" cy="1958040"/>
            </a:xfrm>
          </p:grpSpPr>
          <p:sp>
            <p:nvSpPr>
              <p:cNvPr id="107" name=""/>
              <p:cNvSpPr/>
              <p:nvPr/>
            </p:nvSpPr>
            <p:spPr>
              <a:xfrm rot="21428400">
                <a:off x="479160" y="2995560"/>
                <a:ext cx="1800360" cy="180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1428400">
                <a:off x="483840" y="3065400"/>
                <a:ext cx="1800360" cy="180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15920" y="3083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299960" y="2997000"/>
                <a:ext cx="360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90840" y="3054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15960" y="298764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71600" y="299412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2880" y="299088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26880" y="300204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55600" y="300528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15920" y="308304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82520" y="3008160"/>
                <a:ext cx="360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62120" y="3051000"/>
                <a:ext cx="360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09720" y="3116160"/>
                <a:ext cx="360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82760" y="4003560"/>
              <a:ext cx="1800000" cy="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19480" y="3068640"/>
              <a:ext cx="0" cy="1800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441960" y="2902320"/>
            <a:ext cx="1896480" cy="2035080"/>
            <a:chOff x="3441960" y="2902320"/>
            <a:chExt cx="1896480" cy="2035080"/>
          </a:xfrm>
        </p:grpSpPr>
        <p:grpSp>
          <p:nvGrpSpPr>
            <p:cNvPr id="124" name=""/>
            <p:cNvGrpSpPr/>
            <p:nvPr/>
          </p:nvGrpSpPr>
          <p:grpSpPr>
            <a:xfrm>
              <a:off x="3441960" y="2902320"/>
              <a:ext cx="1896480" cy="2035080"/>
              <a:chOff x="3441960" y="2902320"/>
              <a:chExt cx="1896480" cy="2035080"/>
            </a:xfrm>
          </p:grpSpPr>
          <p:sp>
            <p:nvSpPr>
              <p:cNvPr id="125" name=""/>
              <p:cNvSpPr/>
              <p:nvPr/>
            </p:nvSpPr>
            <p:spPr>
              <a:xfrm rot="21428400">
                <a:off x="3487320" y="2945880"/>
                <a:ext cx="1800360" cy="187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1428400">
                <a:off x="3492000" y="3018600"/>
                <a:ext cx="1800360" cy="1874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24080" y="3037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08120" y="2948040"/>
                <a:ext cx="360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99000" y="3007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24120" y="2938320"/>
                <a:ext cx="3600" cy="7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79760" y="2944800"/>
                <a:ext cx="3600" cy="7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51040" y="2941560"/>
                <a:ext cx="3600" cy="7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35040" y="2953080"/>
                <a:ext cx="3600" cy="7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63760" y="2956680"/>
                <a:ext cx="3600" cy="7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24080" y="3037320"/>
                <a:ext cx="3600" cy="7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90680" y="2959560"/>
                <a:ext cx="360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0280" y="3004200"/>
                <a:ext cx="360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17880" y="3071880"/>
                <a:ext cx="360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490920" y="3951360"/>
              <a:ext cx="1800000" cy="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84440" y="3022560"/>
              <a:ext cx="0" cy="18745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6800" y="3261960"/>
              <a:ext cx="1295640" cy="135036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779640" y="3217320"/>
              <a:ext cx="1268640" cy="1380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050920" y="0"/>
            <a:ext cx="633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和验证，得出结论：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只猴子分得的饼一样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755400" y="2940480"/>
            <a:ext cx="1892520" cy="1958040"/>
            <a:chOff x="6755400" y="2940480"/>
            <a:chExt cx="1892520" cy="1958040"/>
          </a:xfrm>
        </p:grpSpPr>
        <p:grpSp>
          <p:nvGrpSpPr>
            <p:cNvPr id="145" name=""/>
            <p:cNvGrpSpPr/>
            <p:nvPr/>
          </p:nvGrpSpPr>
          <p:grpSpPr>
            <a:xfrm>
              <a:off x="6755400" y="2940480"/>
              <a:ext cx="1892520" cy="1958040"/>
              <a:chOff x="6755400" y="2940480"/>
              <a:chExt cx="1892520" cy="1958040"/>
            </a:xfrm>
          </p:grpSpPr>
          <p:sp>
            <p:nvSpPr>
              <p:cNvPr id="146" name=""/>
              <p:cNvSpPr/>
              <p:nvPr/>
            </p:nvSpPr>
            <p:spPr>
              <a:xfrm rot="21428400">
                <a:off x="6798960" y="2984400"/>
                <a:ext cx="1800360" cy="180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428400">
                <a:off x="6803640" y="3054240"/>
                <a:ext cx="1800360" cy="180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35720" y="307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19760" y="2985840"/>
                <a:ext cx="360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10640" y="3043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835760" y="297648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91400" y="298296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62680" y="297972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546680" y="299088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75400" y="299412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35720" y="3071880"/>
                <a:ext cx="36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02320" y="2997000"/>
                <a:ext cx="360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81920" y="3039840"/>
                <a:ext cx="360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29520" y="3105000"/>
                <a:ext cx="360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804000" y="3970080"/>
              <a:ext cx="1800360" cy="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97880" y="3049560"/>
              <a:ext cx="0" cy="18000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7200" y="3120840"/>
              <a:ext cx="936720" cy="158436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235640" y="3147840"/>
              <a:ext cx="936360" cy="1557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77080" y="3524040"/>
              <a:ext cx="1582920" cy="8654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876720" y="3552840"/>
              <a:ext cx="1655640" cy="838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462480" y="2938320"/>
            <a:ext cx="936360" cy="1066680"/>
            <a:chOff x="3462480" y="2938320"/>
            <a:chExt cx="936360" cy="10666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0" t="0" r="50048" b="48042"/>
            <a:stretch/>
          </p:blipFill>
          <p:spPr>
            <a:xfrm>
              <a:off x="3462480" y="2938320"/>
              <a:ext cx="936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flipH="1">
              <a:off x="3520800" y="3000240"/>
              <a:ext cx="7920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520800" y="3153240"/>
              <a:ext cx="863280" cy="76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651120" y="3381840"/>
              <a:ext cx="73296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52800" y="3610440"/>
              <a:ext cx="445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168080" y="3763080"/>
              <a:ext cx="230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592080" y="3076200"/>
              <a:ext cx="504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3960" y="2968560"/>
            <a:ext cx="1008000" cy="1079640"/>
            <a:chOff x="453960" y="2968560"/>
            <a:chExt cx="1008000" cy="107964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rcRect l="0" t="0" r="46245" b="44368"/>
            <a:stretch/>
          </p:blipFill>
          <p:spPr>
            <a:xfrm>
              <a:off x="453960" y="2968560"/>
              <a:ext cx="10080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flipH="1">
              <a:off x="539280" y="3039840"/>
              <a:ext cx="792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39280" y="3184560"/>
              <a:ext cx="86364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69600" y="3400200"/>
              <a:ext cx="73332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971280" y="3616200"/>
              <a:ext cx="4460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87280" y="3760560"/>
              <a:ext cx="2304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11280" y="3111480"/>
              <a:ext cx="504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H="1">
            <a:off x="6827400" y="3035160"/>
            <a:ext cx="79236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827400" y="3179880"/>
            <a:ext cx="863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957720" y="3395520"/>
            <a:ext cx="73332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259400" y="3611520"/>
            <a:ext cx="4460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475400" y="3755880"/>
            <a:ext cx="2304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99400" y="31068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208 L 0.32518 -0.00323 E">
                                      <p:cBhvr>
                                        <p:cTn id="5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33526E-006 L 0.36146 0.00208 E">
                                      <p:cBhvr>
                                        <p:cTn id="5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如果有只猴子分四块饼，你会怎样分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引入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聪明的猴王是用什么办法来满足小猴子们的要求，又分得那么公平的呢？同学们想知道吗？学习了“分数的基本性质”就清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数的基本性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55640" y="105264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动手操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1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分组：把准备好的纸条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997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再涂上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80000" y="1989000"/>
            <a:ext cx="792000" cy="1013040"/>
            <a:chOff x="5580000" y="1989000"/>
            <a:chExt cx="792000" cy="1013040"/>
          </a:xfrm>
        </p:grpSpPr>
        <p:sp>
          <p:nvSpPr>
            <p:cNvPr id="194" name=""/>
            <p:cNvSpPr/>
            <p:nvPr/>
          </p:nvSpPr>
          <p:spPr>
            <a:xfrm>
              <a:off x="5796000" y="2420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80000" y="2493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6000" y="1989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659640" y="1989000"/>
            <a:ext cx="792000" cy="1013040"/>
            <a:chOff x="6659640" y="1989000"/>
            <a:chExt cx="792000" cy="1013040"/>
          </a:xfrm>
        </p:grpSpPr>
        <p:sp>
          <p:nvSpPr>
            <p:cNvPr id="198" name=""/>
            <p:cNvSpPr/>
            <p:nvPr/>
          </p:nvSpPr>
          <p:spPr>
            <a:xfrm>
              <a:off x="6875640" y="2420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640" y="24937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75640" y="1989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740720" y="2060640"/>
            <a:ext cx="792000" cy="1013040"/>
            <a:chOff x="7740720" y="2060640"/>
            <a:chExt cx="792000" cy="1013040"/>
          </a:xfrm>
        </p:grpSpPr>
        <p:sp>
          <p:nvSpPr>
            <p:cNvPr id="202" name=""/>
            <p:cNvSpPr/>
            <p:nvPr/>
          </p:nvSpPr>
          <p:spPr>
            <a:xfrm>
              <a:off x="7956720" y="2492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0720" y="2565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56720" y="2060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050920" y="458136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讨论：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4360" y="907920"/>
            <a:ext cx="583236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907920"/>
            <a:ext cx="3024000" cy="57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907920"/>
            <a:ext cx="0" cy="57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4360" y="2349360"/>
            <a:ext cx="5832360" cy="576360"/>
            <a:chOff x="684360" y="2349360"/>
            <a:chExt cx="5832360" cy="576360"/>
          </a:xfrm>
        </p:grpSpPr>
        <p:sp>
          <p:nvSpPr>
            <p:cNvPr id="211" name=""/>
            <p:cNvSpPr/>
            <p:nvPr/>
          </p:nvSpPr>
          <p:spPr>
            <a:xfrm>
              <a:off x="3637080" y="2349360"/>
              <a:ext cx="0" cy="57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4360" y="2349360"/>
              <a:ext cx="5832360" cy="5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95640" y="2349360"/>
              <a:ext cx="0" cy="57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77080" y="2349360"/>
              <a:ext cx="0" cy="57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403280" y="4076640"/>
            <a:ext cx="79236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2349360"/>
            <a:ext cx="1511280" cy="576360"/>
          </a:xfrm>
          <a:prstGeom prst="rect">
            <a:avLst/>
          </a:prstGeom>
          <a:solidFill>
            <a:srgbClr val="fad7a4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2349360"/>
            <a:ext cx="1439640" cy="576360"/>
          </a:xfrm>
          <a:prstGeom prst="rect">
            <a:avLst/>
          </a:prstGeom>
          <a:solidFill>
            <a:srgbClr val="fad7a4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84360" y="4076640"/>
            <a:ext cx="5832360" cy="576360"/>
            <a:chOff x="684360" y="4076640"/>
            <a:chExt cx="5832360" cy="576360"/>
          </a:xfrm>
        </p:grpSpPr>
        <p:sp>
          <p:nvSpPr>
            <p:cNvPr id="219" name=""/>
            <p:cNvSpPr/>
            <p:nvPr/>
          </p:nvSpPr>
          <p:spPr>
            <a:xfrm>
              <a:off x="684360" y="4076640"/>
              <a:ext cx="5832360" cy="5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37080" y="4076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95640" y="40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77080" y="4076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16360" y="4076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05080" y="4076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6360" y="4076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6000" y="4076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4360" y="4076640"/>
            <a:ext cx="71892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4076640"/>
            <a:ext cx="71892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6360" y="4076640"/>
            <a:ext cx="71892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020000" y="692280"/>
            <a:ext cx="792000" cy="1013040"/>
            <a:chOff x="7020000" y="692280"/>
            <a:chExt cx="792000" cy="1013040"/>
          </a:xfrm>
        </p:grpSpPr>
        <p:sp>
          <p:nvSpPr>
            <p:cNvPr id="231" name=""/>
            <p:cNvSpPr/>
            <p:nvPr/>
          </p:nvSpPr>
          <p:spPr>
            <a:xfrm>
              <a:off x="7236000" y="11239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20000" y="119700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36000" y="692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93080" y="2133720"/>
            <a:ext cx="792000" cy="1013040"/>
            <a:chOff x="7093080" y="2133720"/>
            <a:chExt cx="792000" cy="1013040"/>
          </a:xfrm>
        </p:grpSpPr>
        <p:sp>
          <p:nvSpPr>
            <p:cNvPr id="235" name=""/>
            <p:cNvSpPr/>
            <p:nvPr/>
          </p:nvSpPr>
          <p:spPr>
            <a:xfrm>
              <a:off x="7309080" y="2565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93080" y="263844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09080" y="21337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093080" y="3789360"/>
            <a:ext cx="792000" cy="1013040"/>
            <a:chOff x="7093080" y="3789360"/>
            <a:chExt cx="792000" cy="1013040"/>
          </a:xfrm>
        </p:grpSpPr>
        <p:sp>
          <p:nvSpPr>
            <p:cNvPr id="239" name=""/>
            <p:cNvSpPr/>
            <p:nvPr/>
          </p:nvSpPr>
          <p:spPr>
            <a:xfrm>
              <a:off x="7309080" y="422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93080" y="429408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09080" y="3789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258920" y="5084640"/>
            <a:ext cx="792000" cy="1013040"/>
            <a:chOff x="1258920" y="5084640"/>
            <a:chExt cx="792000" cy="1013040"/>
          </a:xfrm>
        </p:grpSpPr>
        <p:sp>
          <p:nvSpPr>
            <p:cNvPr id="243" name=""/>
            <p:cNvSpPr/>
            <p:nvPr/>
          </p:nvSpPr>
          <p:spPr>
            <a:xfrm>
              <a:off x="1474920" y="5516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58920" y="5589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74920" y="5084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843280" y="5084640"/>
            <a:ext cx="792000" cy="1013040"/>
            <a:chOff x="2843280" y="5084640"/>
            <a:chExt cx="792000" cy="1013040"/>
          </a:xfrm>
        </p:grpSpPr>
        <p:sp>
          <p:nvSpPr>
            <p:cNvPr id="247" name=""/>
            <p:cNvSpPr/>
            <p:nvPr/>
          </p:nvSpPr>
          <p:spPr>
            <a:xfrm>
              <a:off x="3059280" y="5516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3280" y="5589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59280" y="5084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427640" y="5084640"/>
            <a:ext cx="792000" cy="1013040"/>
            <a:chOff x="4427640" y="5084640"/>
            <a:chExt cx="792000" cy="1013040"/>
          </a:xfrm>
        </p:grpSpPr>
        <p:sp>
          <p:nvSpPr>
            <p:cNvPr id="251" name=""/>
            <p:cNvSpPr/>
            <p:nvPr/>
          </p:nvSpPr>
          <p:spPr>
            <a:xfrm>
              <a:off x="4643640" y="5516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27640" y="55893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3640" y="5084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195640" y="53006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530064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635280" y="-524160"/>
            <a:ext cx="73080" cy="560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4:13:20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