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7.wmf" ContentType="image/x-wmf"/>
  <Override PartName="/ppt/media/image126.wmf" ContentType="image/x-wmf"/>
  <Override PartName="/ppt/media/image123.wmf" ContentType="image/x-wmf"/>
  <Override PartName="/ppt/media/image122.wmf" ContentType="image/x-wmf"/>
  <Override PartName="/ppt/media/image69.gif" ContentType="image/gif"/>
  <Override PartName="/ppt/media/image121.wmf" ContentType="image/x-wmf"/>
  <Override PartName="/ppt/media/image120.wmf" ContentType="image/x-wmf"/>
  <Override PartName="/ppt/media/image67.gif" ContentType="image/gif"/>
  <Override PartName="/ppt/media/image119.wmf" ContentType="image/x-wmf"/>
  <Override PartName="/ppt/media/image117.wmf" ContentType="image/x-wmf"/>
  <Override PartName="/ppt/media/image3.jpeg" ContentType="image/jpeg"/>
  <Override PartName="/ppt/media/image115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109.wmf" ContentType="image/x-wmf"/>
  <Override PartName="/ppt/media/image108.wmf" ContentType="image/x-wmf"/>
  <Override PartName="/ppt/media/image107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35.png" ContentType="image/png"/>
  <Override PartName="/ppt/media/image101.wmf" ContentType="image/x-wmf"/>
  <Override PartName="/ppt/media/image99.wmf" ContentType="image/x-wmf"/>
  <Override PartName="/ppt/media/image96.wmf" ContentType="image/x-wmf"/>
  <Override PartName="/ppt/media/image28.wmf" ContentType="image/x-wmf"/>
  <Override PartName="/ppt/media/image86.wmf" ContentType="image/x-wmf"/>
  <Override PartName="/ppt/media/image18.wmf" ContentType="image/x-wmf"/>
  <Override PartName="/ppt/media/image9.png" ContentType="image/png"/>
  <Override PartName="/ppt/media/image43.wmf" ContentType="image/x-wmf"/>
  <Override PartName="/ppt/media/image29.wmf" ContentType="image/x-wmf"/>
  <Override PartName="/ppt/media/image94.wmf" ContentType="image/x-wmf"/>
  <Override PartName="/ppt/media/image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2.png" ContentType="image/png"/>
  <Override PartName="/ppt/media/image133.wmf" ContentType="image/x-wmf"/>
  <Override PartName="/ppt/media/image11.gif" ContentType="image/gif"/>
  <Override PartName="/ppt/media/image31.gif" ContentType="image/gi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139.wmf" ContentType="image/x-wmf"/>
  <Override PartName="/ppt/media/image42.wmf" ContentType="image/x-wmf"/>
  <Override PartName="/ppt/media/image5.gif" ContentType="image/gif"/>
  <Override PartName="/ppt/media/image146.wmf" ContentType="image/x-wmf"/>
  <Override PartName="/ppt/media/image92.gif" ContentType="image/gif"/>
  <Override PartName="/ppt/media/image24.gif" ContentType="image/gif"/>
  <Override PartName="/ppt/media/image1.jpeg" ContentType="image/jpeg"/>
  <Override PartName="/ppt/media/image54.wmf" ContentType="image/x-wmf"/>
  <Override PartName="/ppt/media/image22.png" ContentType="image/png"/>
  <Override PartName="/ppt/media/image55.wmf" ContentType="image/x-wmf"/>
  <Override PartName="/ppt/media/image95.gif" ContentType="image/gif"/>
  <Override PartName="/ppt/media/image56.wmf" ContentType="image/x-wmf"/>
  <Override PartName="/ppt/media/image151.wmf" ContentType="image/x-wmf"/>
  <Override PartName="/ppt/media/image129.png" ContentType="image/png"/>
  <Override PartName="/ppt/media/image32.png" ContentType="image/png"/>
  <Override PartName="/ppt/media/image152.wmf" ContentType="image/x-wmf"/>
  <Override PartName="/ppt/media/image154.wmf" ContentType="image/x-wmf"/>
  <Override PartName="/ppt/media/image144.png" ContentType="image/png"/>
  <Override PartName="/ppt/media/image155.wmf" ContentType="image/x-wmf"/>
  <Override PartName="/ppt/media/image59.wmf" ContentType="image/x-wmf"/>
  <Override PartName="/ppt/media/image110.wmf" ContentType="image/x-wmf"/>
  <Override PartName="/ppt/media/image145.wmf" ContentType="image/x-wmf"/>
  <Override PartName="/ppt/media/image26.png" ContentType="image/png"/>
  <Override PartName="/ppt/media/image91.png" ContentType="image/png"/>
  <Override PartName="/ppt/media/image147.wmf" ContentType="image/x-wmf"/>
  <Override PartName="/ppt/media/image50.wmf" ContentType="image/x-wmf"/>
  <Override PartName="/ppt/media/image90.gif" ContentType="image/gif"/>
  <Override PartName="/ppt/media/image53.wmf" ContentType="image/x-wmf"/>
  <Override PartName="/ppt/media/image157.wmf" ContentType="image/x-wmf"/>
  <Override PartName="/ppt/media/image83.wmf" ContentType="image/x-wmf"/>
  <Override PartName="/ppt/media/image15.wmf" ContentType="image/x-wmf"/>
  <Override PartName="/ppt/media/image72.jpeg" ContentType="image/jpeg"/>
  <Override PartName="/ppt/media/image140.wmf" ContentType="image/x-wmf"/>
  <Override PartName="/ppt/media/image19.gif" ContentType="image/gif"/>
  <Override PartName="/ppt/media/image44.wmf" ContentType="image/x-wmf"/>
  <Override PartName="/ppt/media/image136.wmf" ContentType="image/x-wmf"/>
  <Override PartName="/ppt/media/image160.gif" ContentType="image/gif"/>
  <Override PartName="/ppt/media/image48.wmf" ContentType="image/x-wmf"/>
  <Override PartName="/ppt/media/image141.wmf" ContentType="image/x-wmf"/>
  <Override PartName="/ppt/media/image88.gif" ContentType="image/gif"/>
  <Override PartName="/ppt/media/image134.wmf" ContentType="image/x-wmf"/>
  <Override PartName="/ppt/media/image12.gif" ContentType="image/gif"/>
  <Override PartName="/ppt/media/image80.png" ContentType="image/png"/>
  <Override PartName="/ppt/media/image47.wmf" ContentType="image/x-wmf"/>
  <Override PartName="/ppt/media/image132.wmf" ContentType="image/x-wmf"/>
  <Override PartName="/ppt/media/image10.gif" ContentType="image/gif"/>
  <Override PartName="/ppt/media/image130.wmf" ContentType="image/x-wmf"/>
  <Override PartName="/ppt/media/image79.wmf" ContentType="image/x-wmf"/>
  <Override PartName="/ppt/media/image128.wmf" ContentType="image/x-wmf"/>
  <Override PartName="/ppt/media/image38.wmf" ContentType="image/x-wmf"/>
  <Override PartName="/ppt/media/image78.gif" ContentType="image/gif"/>
  <Override PartName="/ppt/media/image131.wmf" ContentType="image/x-wmf"/>
  <Override PartName="/ppt/media/image8.wmf" ContentType="image/x-wmf"/>
  <Override PartName="/ppt/media/image85.wmf" ContentType="image/x-wmf"/>
  <Override PartName="/ppt/media/image156.wmf" ContentType="image/x-wmf"/>
  <Override PartName="/ppt/media/image4.wmf" ContentType="image/x-wmf"/>
  <Override PartName="/ppt/media/image81.wmf" ContentType="image/x-wmf"/>
  <Override PartName="/ppt/media/image13.wmf" ContentType="image/x-wmf"/>
  <Override PartName="/ppt/media/image27.wmf" ContentType="image/x-wmf"/>
  <Override PartName="/ppt/media/image49.wmf" ContentType="image/x-wmf"/>
  <Override PartName="/ppt/media/image33.png" ContentType="image/png"/>
  <Override PartName="/ppt/media/image100.wmf" ContentType="image/x-wmf"/>
  <Override PartName="/ppt/media/image89.gif" ContentType="image/gif"/>
  <Override PartName="/ppt/media/image142.wmf" ContentType="image/x-wmf"/>
  <Override PartName="/ppt/media/image87.wmf" ContentType="image/x-wmf"/>
  <Override PartName="/ppt/media/image34.gif" ContentType="image/gif"/>
  <Override PartName="/ppt/media/image20.png" ContentType="image/png"/>
  <Override PartName="/ppt/media/image21.wmf" ContentType="image/x-wmf"/>
  <Override PartName="/ppt/media/image118.wmf" ContentType="image/x-wmf"/>
  <Override PartName="/ppt/media/image23.wmf" ContentType="image/x-wmf"/>
  <Override PartName="/ppt/media/image63.gif" ContentType="image/gif"/>
  <Override PartName="/ppt/media/image57.wmf" ContentType="image/x-wmf"/>
  <Override PartName="/ppt/media/image97.gif" ContentType="image/gif"/>
  <Override PartName="/ppt/media/image150.wmf" ContentType="image/x-wmf"/>
  <Override PartName="/ppt/media/image65.gif" ContentType="image/gif"/>
  <Override PartName="/ppt/media/image68.png" ContentType="image/png"/>
  <Override PartName="/ppt/media/image135.wmf" ContentType="image/x-wmf"/>
  <Override PartName="/ppt/media/image30.png" ContentType="image/png"/>
  <Override PartName="/ppt/media/image98.wmf" ContentType="image/x-wmf"/>
  <Override PartName="/ppt/media/image25.wmf" ContentType="image/x-wmf"/>
  <Override PartName="/ppt/media/image93.wmf" ContentType="image/x-wmf"/>
  <Override PartName="/ppt/media/image17.jpeg" ContentType="image/jpeg"/>
  <Override PartName="/ppt/media/image60.png" ContentType="image/png"/>
  <Override PartName="/ppt/media/image114.wmf" ContentType="image/x-wmf"/>
  <Override PartName="/ppt/media/image62.png" ContentType="image/png"/>
  <Override PartName="/ppt/media/image116.wmf" ContentType="image/x-wmf"/>
  <Override PartName="/ppt/media/image64.wmf" ContentType="image/x-wmf"/>
  <Override PartName="/ppt/media/image66.gif" ContentType="image/gif"/>
  <Override PartName="/ppt/media/image16.gif" ContentType="image/gif"/>
  <Override PartName="/ppt/media/image70.png" ContentType="image/png"/>
  <Override PartName="/ppt/media/image124.wmf" ContentType="image/x-wmf"/>
  <Override PartName="/ppt/media/image71.png" ContentType="image/png"/>
  <Override PartName="/ppt/media/image58.png" ContentType="image/png"/>
  <Override PartName="/ppt/media/image125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43.wmf" ContentType="image/x-wmf"/>
  <Override PartName="/ppt/media/image76.png" ContentType="image/png"/>
  <Override PartName="/ppt/media/image77.wmf" ContentType="image/x-wmf"/>
  <Override PartName="/ppt/media/image82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939-C761-4EA5-9A25-37081CD4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760" y="44406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7A7-0882-4845-B4E0-5F0693E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080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D77-8B48-450F-86CF-D2DE6E3E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0620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864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76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0620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864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301-1058-4D32-9848-7E548ADA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8276-7EC6-4BA1-ABAC-38AC2B19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760" y="197820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E496-5F18-4684-8E4F-46AAD4C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DB0-8983-442C-A659-23EA253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F27B-3AA0-42F1-95A4-179466C0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14D-8B18-4DD0-B312-B7A3F9AC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48B9-3A54-4A8C-9EFD-23219C19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A17D-8EEB-4314-9DA2-A051FA9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760" y="197820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824-55FD-424B-8B75-494BF4C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4080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B74-C720-41EE-9A8A-622B9BA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E79-0925-48B0-A841-042FE22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760" y="44406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0F7A-CDE0-46EA-B378-A67E62FF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4080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2EB3-F85C-45EC-95FA-A891EC3A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0620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88640" y="1978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76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0620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88640" y="4440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E7E-D368-400B-9A5E-79FB926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56C-63CD-489C-9D45-D40208F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5AA-6963-4224-B230-279DE084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B54-F6AE-456A-BB0C-560DFBA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278-EB05-40B8-ADA2-5C56FDB5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F58-C90C-4839-A6EB-B5B4F2D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0800" y="4440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B62-4E59-40C0-9649-6793BE8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76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0800" y="1978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760" y="4440600"/>
            <a:ext cx="8229600" cy="22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81E-ECF4-4D0A-8850-322F6BD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760" y="197820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CD2-EBEB-42D8-8F70-8B24F3F179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448240" y="291960"/>
            <a:ext cx="3200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汶城联小万相坡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71484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E47-972E-4A72-A6B3-D4D5A6412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4.wmf"/><Relationship Id="rId20" Type="http://schemas.openxmlformats.org/officeDocument/2006/relationships/image" Target="../media/image45.png"/><Relationship Id="rId21" Type="http://schemas.openxmlformats.org/officeDocument/2006/relationships/image" Target="../media/image46.png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0.wmf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image" Target="../media/image6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image" Target="../media/image62.png"/><Relationship Id="rId8" Type="http://schemas.openxmlformats.org/officeDocument/2006/relationships/image" Target="../media/image6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image" Target="../media/image65.gif"/><Relationship Id="rId5" Type="http://schemas.openxmlformats.org/officeDocument/2006/relationships/image" Target="../media/image6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gif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gif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3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image" Target="../media/image78.gif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80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7.wmf"/><Relationship Id="rId18" Type="http://schemas.openxmlformats.org/officeDocument/2006/relationships/image" Target="../media/image88.gif"/><Relationship Id="rId19" Type="http://schemas.openxmlformats.org/officeDocument/2006/relationships/image" Target="../media/image89.gif"/><Relationship Id="rId20" Type="http://schemas.openxmlformats.org/officeDocument/2006/relationships/image" Target="../media/image90.gif"/><Relationship Id="rId21" Type="http://schemas.openxmlformats.org/officeDocument/2006/relationships/image" Target="../media/image91.png"/><Relationship Id="rId22" Type="http://schemas.openxmlformats.org/officeDocument/2006/relationships/image" Target="../media/image92.gi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9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94.wmf"/><Relationship Id="rId27" Type="http://schemas.openxmlformats.org/officeDocument/2006/relationships/image" Target="../media/image95.gif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wmf"/><Relationship Id="rId3" Type="http://schemas.openxmlformats.org/officeDocument/2006/relationships/image" Target="../media/image97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0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05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06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07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08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109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110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111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112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113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114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115.wmf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116.wmf"/><Relationship Id="rId42" Type="http://schemas.openxmlformats.org/officeDocument/2006/relationships/oleObject" Target="../embeddings/oleObject20.bin"/><Relationship Id="rId43" Type="http://schemas.openxmlformats.org/officeDocument/2006/relationships/image" Target="../media/image117.wmf"/><Relationship Id="rId4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image" Target="../media/image125.wmf"/><Relationship Id="rId14" Type="http://schemas.openxmlformats.org/officeDocument/2006/relationships/image" Target="../media/image126.wmf"/><Relationship Id="rId15" Type="http://schemas.openxmlformats.org/officeDocument/2006/relationships/image" Target="../media/image127.wmf"/><Relationship Id="rId16" Type="http://schemas.openxmlformats.org/officeDocument/2006/relationships/image" Target="../media/image128.wmf"/><Relationship Id="rId17" Type="http://schemas.openxmlformats.org/officeDocument/2006/relationships/image" Target="../media/image129.png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0.wmf"/><Relationship Id="rId3" Type="http://schemas.openxmlformats.org/officeDocument/2006/relationships/image" Target="../media/image131.wmf"/><Relationship Id="rId4" Type="http://schemas.openxmlformats.org/officeDocument/2006/relationships/image" Target="../media/image132.wmf"/><Relationship Id="rId5" Type="http://schemas.openxmlformats.org/officeDocument/2006/relationships/image" Target="../media/image133.wmf"/><Relationship Id="rId6" Type="http://schemas.openxmlformats.org/officeDocument/2006/relationships/image" Target="../media/image134.wmf"/><Relationship Id="rId7" Type="http://schemas.openxmlformats.org/officeDocument/2006/relationships/image" Target="../media/image135.wmf"/><Relationship Id="rId8" Type="http://schemas.openxmlformats.org/officeDocument/2006/relationships/image" Target="../media/image136.wmf"/><Relationship Id="rId9" Type="http://schemas.openxmlformats.org/officeDocument/2006/relationships/image" Target="../media/image137.wmf"/><Relationship Id="rId10" Type="http://schemas.openxmlformats.org/officeDocument/2006/relationships/image" Target="../media/image138.wmf"/><Relationship Id="rId11" Type="http://schemas.openxmlformats.org/officeDocument/2006/relationships/image" Target="../media/image139.wmf"/><Relationship Id="rId12" Type="http://schemas.openxmlformats.org/officeDocument/2006/relationships/image" Target="../media/image140.wmf"/><Relationship Id="rId13" Type="http://schemas.openxmlformats.org/officeDocument/2006/relationships/image" Target="../media/image141.wmf"/><Relationship Id="rId14" Type="http://schemas.openxmlformats.org/officeDocument/2006/relationships/image" Target="../media/image142.wmf"/><Relationship Id="rId15" Type="http://schemas.openxmlformats.org/officeDocument/2006/relationships/image" Target="../media/image143.wmf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4.png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149.wmf"/><Relationship Id="rId8" Type="http://schemas.openxmlformats.org/officeDocument/2006/relationships/image" Target="../media/image150.wmf"/><Relationship Id="rId9" Type="http://schemas.openxmlformats.org/officeDocument/2006/relationships/image" Target="../media/image151.wmf"/><Relationship Id="rId10" Type="http://schemas.openxmlformats.org/officeDocument/2006/relationships/image" Target="../media/image152.wmf"/><Relationship Id="rId11" Type="http://schemas.openxmlformats.org/officeDocument/2006/relationships/image" Target="../media/image153.wmf"/><Relationship Id="rId12" Type="http://schemas.openxmlformats.org/officeDocument/2006/relationships/image" Target="../media/image154.wmf"/><Relationship Id="rId13" Type="http://schemas.openxmlformats.org/officeDocument/2006/relationships/image" Target="../media/image155.wmf"/><Relationship Id="rId14" Type="http://schemas.openxmlformats.org/officeDocument/2006/relationships/image" Target="../media/image156.wmf"/><Relationship Id="rId15" Type="http://schemas.openxmlformats.org/officeDocument/2006/relationships/image" Target="../media/image157.wmf"/><Relationship Id="rId16" Type="http://schemas.openxmlformats.org/officeDocument/2006/relationships/image" Target="../media/image158.wmf"/><Relationship Id="rId17" Type="http://schemas.openxmlformats.org/officeDocument/2006/relationships/image" Target="../media/image159.wmf"/><Relationship Id="rId1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32901452&amp;tn=baiduimagedetail&amp;word=&#35199;&#29916;&amp;in=13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.baidu.com/i?ct=503316480&amp;z=232901452&amp;tn=baiduimagedetail&amp;word=&#35199;&#29916;&amp;in=13" TargetMode="External"/><Relationship Id="rId5" Type="http://schemas.openxmlformats.org/officeDocument/2006/relationships/image" Target="../media/image1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image" Target="../media/image30.png"/><Relationship Id="rId13" Type="http://schemas.openxmlformats.org/officeDocument/2006/relationships/image" Target="../media/image31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image" Target="../media/image2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820880" y="358920"/>
            <a:ext cx="5410080" cy="990360"/>
            <a:chOff x="1820880" y="358920"/>
            <a:chExt cx="5410080" cy="990360"/>
          </a:xfrm>
        </p:grpSpPr>
        <p:pic>
          <p:nvPicPr>
            <p:cNvPr id="84" name="Picture 3" descr="j0419570"/>
            <p:cNvPicPr/>
            <p:nvPr/>
          </p:nvPicPr>
          <p:blipFill>
            <a:blip r:embed="rId2"/>
            <a:stretch/>
          </p:blipFill>
          <p:spPr>
            <a:xfrm>
              <a:off x="3040200" y="434880"/>
              <a:ext cx="32763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4"/>
            <p:cNvSpPr/>
            <p:nvPr/>
          </p:nvSpPr>
          <p:spPr>
            <a:xfrm>
              <a:off x="3192480" y="358920"/>
              <a:ext cx="4038480" cy="99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导入新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" descr="01"/>
            <p:cNvPicPr/>
            <p:nvPr/>
          </p:nvPicPr>
          <p:blipFill>
            <a:blip r:embed="rId3"/>
            <a:stretch/>
          </p:blipFill>
          <p:spPr>
            <a:xfrm>
              <a:off x="1820880" y="510840"/>
              <a:ext cx="137160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620640" y="1525680"/>
            <a:ext cx="8001000" cy="2201760"/>
            <a:chOff x="620640" y="1525680"/>
            <a:chExt cx="8001000" cy="2201760"/>
          </a:xfrm>
        </p:grpSpPr>
        <p:sp>
          <p:nvSpPr>
            <p:cNvPr id="88" name=""/>
            <p:cNvSpPr/>
            <p:nvPr/>
          </p:nvSpPr>
          <p:spPr>
            <a:xfrm>
              <a:off x="620640" y="1525680"/>
              <a:ext cx="800100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幼圆"/>
                  <a:ea typeface="幼圆"/>
                </a:rPr>
                <a:t>　　在校园广场上铺地砖，今天上午铺了这个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幼圆"/>
                  <a:ea typeface="幼圆"/>
                </a:rPr>
                <a:t>场的 　，今天下午铺地砖的人多，铺了这个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幼圆"/>
                  <a:ea typeface="幼圆"/>
                </a:rPr>
                <a:t>场的　 。今天一共铺了这个广场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425600" y="2143080"/>
            <a:ext cx="449280" cy="809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5600" y="2143080"/>
                      <a:ext cx="449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471680" y="2917800"/>
            <a:ext cx="449280" cy="809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71680" y="2917800"/>
                      <a:ext cx="449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3" name=""/>
          <p:cNvGraphicFramePr/>
          <p:nvPr/>
        </p:nvGraphicFramePr>
        <p:xfrm>
          <a:off x="1755720" y="3878280"/>
          <a:ext cx="4079880" cy="2328840"/>
        </p:xfrm>
        <a:graphic>
          <a:graphicData uri="http://schemas.openxmlformats.org/drawingml/2006/table">
            <a:tbl>
              <a:tblPr/>
              <a:tblGrid>
                <a:gridCol w="1020600"/>
                <a:gridCol w="1019160"/>
                <a:gridCol w="1020960"/>
                <a:gridCol w="10191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17400" y="38685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幼圆"/>
              </a:rPr>
              <a:t>上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8308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幼圆"/>
              </a:rPr>
              <a:t>下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0400" y="3870360"/>
            <a:ext cx="1016280" cy="59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2800" y="3871800"/>
            <a:ext cx="1015920" cy="58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440" y="3862440"/>
            <a:ext cx="1015920" cy="61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2200" y="4464000"/>
            <a:ext cx="1006560" cy="585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4880" y="4468680"/>
            <a:ext cx="1015920" cy="581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3760" y="4456080"/>
            <a:ext cx="1015920" cy="581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3440" y="5040360"/>
            <a:ext cx="1015920" cy="585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2200" y="5041800"/>
            <a:ext cx="1006560" cy="585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2920" y="3881520"/>
            <a:ext cx="10159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21120" y="4473720"/>
            <a:ext cx="1006560" cy="571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16600" y="3997440"/>
            <a:ext cx="2914560" cy="1670040"/>
            <a:chOff x="5916600" y="3997440"/>
            <a:chExt cx="2914560" cy="1670040"/>
          </a:xfrm>
        </p:grpSpPr>
        <p:sp>
          <p:nvSpPr>
            <p:cNvPr id="107" name=""/>
            <p:cNvSpPr/>
            <p:nvPr/>
          </p:nvSpPr>
          <p:spPr>
            <a:xfrm>
              <a:off x="5916600" y="3997440"/>
              <a:ext cx="29145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华文中宋"/>
                </a:rPr>
                <a:t>今天一共铺了这个广场的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7377120" y="4578480"/>
              <a:ext cx="725400" cy="10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4265640" y="4657680"/>
            <a:ext cx="4456080" cy="1844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用算式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么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20760" y="3274920"/>
            <a:ext cx="8534160" cy="130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73280" y="3027240"/>
            <a:ext cx="70783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同分母分数相加、减，只把分子相加、减，分母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119400" y="352440"/>
            <a:ext cx="2555640" cy="2450880"/>
            <a:chOff x="3119400" y="352440"/>
            <a:chExt cx="2555640" cy="2450880"/>
          </a:xfrm>
        </p:grpSpPr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3849480" y="1052280"/>
              <a:ext cx="1140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119400" y="352440"/>
              <a:ext cx="2555640" cy="245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结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25600" y="4635360"/>
            <a:ext cx="7893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注意：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计算的结果，能约分的要约成最简分数；是假分数的，也可以化成带分数或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89160" y="2178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同分母分数加减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6531120" y="542880"/>
            <a:ext cx="1739880" cy="142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198440" y="1859040"/>
          <a:ext cx="1457280" cy="22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8440" y="1859040"/>
                    <a:ext cx="1457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257640" y="1984320"/>
          <a:ext cx="1744560" cy="20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57640" y="1984320"/>
                    <a:ext cx="174456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5683320" y="1981080"/>
          <a:ext cx="2338200" cy="212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83320" y="1981080"/>
                    <a:ext cx="23382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2556000" y="1889280"/>
          <a:ext cx="442800" cy="119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889280"/>
                    <a:ext cx="4428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556000" y="2986200"/>
          <a:ext cx="42228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6000" y="2986200"/>
                    <a:ext cx="422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4981680" y="1905120"/>
          <a:ext cx="349200" cy="942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81680" y="1905120"/>
                    <a:ext cx="3492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4981680" y="2986200"/>
          <a:ext cx="376200" cy="1019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81680" y="2986200"/>
                    <a:ext cx="376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7421400" y="3081240"/>
          <a:ext cx="586080" cy="1057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21400" y="3081240"/>
                    <a:ext cx="5860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459320" y="31813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65" name=""/>
          <p:cNvGraphicFramePr/>
          <p:nvPr/>
        </p:nvGraphicFramePr>
        <p:xfrm>
          <a:off x="7935840" y="2041560"/>
          <a:ext cx="563760" cy="1017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35840" y="2041560"/>
                    <a:ext cx="5637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" descr=""/>
          <p:cNvPicPr/>
          <p:nvPr/>
        </p:nvPicPr>
        <p:blipFill>
          <a:blip r:embed="rId20"/>
          <a:stretch/>
        </p:blipFill>
        <p:spPr>
          <a:xfrm>
            <a:off x="3009960" y="434808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301760" y="9428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练一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1"/>
          <a:stretch/>
        </p:blipFill>
        <p:spPr>
          <a:xfrm>
            <a:off x="2790720" y="744480"/>
            <a:ext cx="501192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723960" y="2133720"/>
            <a:ext cx="1447920" cy="1371600"/>
            <a:chOff x="723960" y="2133720"/>
            <a:chExt cx="1447920" cy="1371600"/>
          </a:xfrm>
        </p:grpSpPr>
        <p:sp>
          <p:nvSpPr>
            <p:cNvPr id="471" name=""/>
            <p:cNvSpPr/>
            <p:nvPr/>
          </p:nvSpPr>
          <p:spPr>
            <a:xfrm>
              <a:off x="743040" y="2133720"/>
              <a:ext cx="13716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16200000">
              <a:off x="762120" y="2095560"/>
              <a:ext cx="1371600" cy="1447920"/>
            </a:xfrm>
            <a:prstGeom prst="blockArc">
              <a:avLst>
                <a:gd name="adj1" fmla="val 0"/>
                <a:gd name="adj2" fmla="val 10800000"/>
                <a:gd name="adj3" fmla="val 491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552400" y="25448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170160" y="2133720"/>
            <a:ext cx="1419120" cy="1400040"/>
            <a:chOff x="3170160" y="2133720"/>
            <a:chExt cx="1419120" cy="1400040"/>
          </a:xfrm>
        </p:grpSpPr>
        <p:sp>
          <p:nvSpPr>
            <p:cNvPr id="475" name=""/>
            <p:cNvSpPr/>
            <p:nvPr/>
          </p:nvSpPr>
          <p:spPr>
            <a:xfrm>
              <a:off x="3217680" y="2162160"/>
              <a:ext cx="13716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3170160" y="2133720"/>
            <a:ext cx="781200" cy="105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70160" y="2133720"/>
                      <a:ext cx="781200" cy="10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"/>
            <p:cNvSpPr/>
            <p:nvPr/>
          </p:nvSpPr>
          <p:spPr>
            <a:xfrm>
              <a:off x="3932280" y="2162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322440" y="284796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41640" y="28288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241800" y="4476600"/>
            <a:ext cx="1419120" cy="1405080"/>
            <a:chOff x="3241800" y="4476600"/>
            <a:chExt cx="1419120" cy="1405080"/>
          </a:xfrm>
        </p:grpSpPr>
        <p:sp>
          <p:nvSpPr>
            <p:cNvPr id="482" name=""/>
            <p:cNvSpPr/>
            <p:nvPr/>
          </p:nvSpPr>
          <p:spPr>
            <a:xfrm>
              <a:off x="3289320" y="4510080"/>
              <a:ext cx="13716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3241800" y="4476600"/>
            <a:ext cx="781200" cy="107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1800" y="4476600"/>
                      <a:ext cx="781200" cy="10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3422880" y="4776480"/>
              <a:ext cx="113328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373200" y="4889160"/>
              <a:ext cx="1211760" cy="6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03920" y="4510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85800" y="4419720"/>
            <a:ext cx="1447920" cy="1371600"/>
            <a:chOff x="685800" y="4419720"/>
            <a:chExt cx="1447920" cy="1371600"/>
          </a:xfrm>
        </p:grpSpPr>
        <p:sp>
          <p:nvSpPr>
            <p:cNvPr id="489" name=""/>
            <p:cNvSpPr/>
            <p:nvPr/>
          </p:nvSpPr>
          <p:spPr>
            <a:xfrm>
              <a:off x="743040" y="4419720"/>
              <a:ext cx="13716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16200000">
              <a:off x="723960" y="4381560"/>
              <a:ext cx="1371600" cy="1447920"/>
            </a:xfrm>
            <a:prstGeom prst="blockArc">
              <a:avLst>
                <a:gd name="adj1" fmla="val 0"/>
                <a:gd name="adj2" fmla="val 10800000"/>
                <a:gd name="adj3" fmla="val 491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869400" y="4649400"/>
              <a:ext cx="108396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4686480"/>
              <a:ext cx="114300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09760" y="44197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552400" y="49784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657600"/>
            <a:ext cx="0" cy="60948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52960" y="3657600"/>
            <a:ext cx="0" cy="60948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45000" y="3643200"/>
            <a:ext cx="0" cy="60984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37360" y="3630600"/>
            <a:ext cx="0" cy="60948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027920" y="3628800"/>
            <a:ext cx="1440" cy="60948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192400" y="611280"/>
            <a:ext cx="4894200" cy="672480"/>
            <a:chOff x="2192400" y="611280"/>
            <a:chExt cx="4894200" cy="672480"/>
          </a:xfrm>
        </p:grpSpPr>
        <p:sp>
          <p:nvSpPr>
            <p:cNvPr id="501" name=""/>
            <p:cNvSpPr/>
            <p:nvPr/>
          </p:nvSpPr>
          <p:spPr>
            <a:xfrm>
              <a:off x="2235240" y="1195200"/>
              <a:ext cx="4802040" cy="8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92400" y="611280"/>
              <a:ext cx="48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cc"/>
                  </a:solidFill>
                  <a:latin typeface="Times New Roman"/>
                  <a:ea typeface="华文行楷"/>
                </a:rPr>
                <a:t>异分母分数加、减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3" name=""/>
          <p:cNvGraphicFramePr/>
          <p:nvPr/>
        </p:nvGraphicFramePr>
        <p:xfrm>
          <a:off x="5234040" y="4506840"/>
          <a:ext cx="403200" cy="108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34040" y="4506840"/>
                    <a:ext cx="4032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5670720" y="47512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  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72120" y="4549680"/>
          <a:ext cx="387360" cy="10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72120" y="4549680"/>
                    <a:ext cx="3873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6962760" y="4554360"/>
          <a:ext cx="387360" cy="10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962760" y="4554360"/>
                    <a:ext cx="3873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224320" y="2276640"/>
          <a:ext cx="403200" cy="108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24320" y="2276640"/>
                    <a:ext cx="4032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5661000" y="25210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  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062760" y="2319480"/>
          <a:ext cx="387360" cy="104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62760" y="2319480"/>
                    <a:ext cx="3873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6953400" y="2324160"/>
          <a:ext cx="387360" cy="1044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53400" y="2324160"/>
                    <a:ext cx="3873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4653000" y="1368360"/>
            <a:ext cx="3009960" cy="903240"/>
          </a:xfrm>
          <a:prstGeom prst="wedgeRoundRectCallout">
            <a:avLst>
              <a:gd name="adj1" fmla="val 6856"/>
              <a:gd name="adj2" fmla="val 94990"/>
              <a:gd name="adj3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分数单位不同，不能直接相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7500960" y="2882880"/>
            <a:ext cx="1293840" cy="210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080" y="3804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82600" y="473040"/>
            <a:ext cx="7715160" cy="1654200"/>
            <a:chOff x="1182600" y="473040"/>
            <a:chExt cx="7715160" cy="1654200"/>
          </a:xfrm>
        </p:grpSpPr>
        <p:sp>
          <p:nvSpPr>
            <p:cNvPr id="525" name=""/>
            <p:cNvSpPr/>
            <p:nvPr/>
          </p:nvSpPr>
          <p:spPr>
            <a:xfrm>
              <a:off x="1182600" y="1207800"/>
              <a:ext cx="7715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阳光小学有一块长方形试验田，其中　种西红柿， 种茄子。西红柿和茄子的面积一共占这块地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6" name=""/>
            <p:cNvGraphicFramePr/>
            <p:nvPr/>
          </p:nvGraphicFramePr>
          <p:xfrm>
            <a:off x="7699320" y="473040"/>
            <a:ext cx="372960" cy="100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99320" y="473040"/>
                      <a:ext cx="37296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8" name=""/>
            <p:cNvGraphicFramePr/>
            <p:nvPr/>
          </p:nvGraphicFramePr>
          <p:xfrm>
            <a:off x="2127240" y="1082520"/>
            <a:ext cx="387360" cy="104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27240" y="1082520"/>
                      <a:ext cx="38736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30" name=""/>
          <p:cNvGraphicFramePr/>
          <p:nvPr/>
        </p:nvGraphicFramePr>
        <p:xfrm>
          <a:off x="1544760" y="4971960"/>
          <a:ext cx="3800520" cy="113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4760" y="4971960"/>
                    <a:ext cx="38005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1477800" y="2952720"/>
          <a:ext cx="6905520" cy="1825560"/>
        </p:xfrm>
        <a:graphic>
          <a:graphicData uri="http://schemas.openxmlformats.org/drawingml/2006/table">
            <a:tbl>
              <a:tblPr/>
              <a:tblGrid>
                <a:gridCol w="1728720"/>
                <a:gridCol w="1725840"/>
                <a:gridCol w="1725480"/>
                <a:gridCol w="17254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3836880" y="30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西红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7480" y="3895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茄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5710320" y="2021040"/>
            <a:ext cx="1469880" cy="83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044720" y="620640"/>
            <a:ext cx="7681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茄子的面积比西红柿的面积多占这块地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307040" y="4422600"/>
          <a:ext cx="3762360" cy="114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7040" y="4422600"/>
                    <a:ext cx="37623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3760" y="276120"/>
          <a:ext cx="8663040" cy="6416640"/>
        </p:xfrm>
        <a:graphic>
          <a:graphicData uri="http://schemas.openxmlformats.org/drawingml/2006/table">
            <a:tbl>
              <a:tblPr/>
              <a:tblGrid>
                <a:gridCol w="2168640"/>
                <a:gridCol w="2165400"/>
                <a:gridCol w="2163600"/>
                <a:gridCol w="216540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3730680" y="209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西红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20960" y="2960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茄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1654200" y="4368960"/>
            <a:ext cx="2301840" cy="1761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1000" cy="69166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173320" y="2498760"/>
            <a:ext cx="52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异分母分数加减法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20880" y="3527280"/>
            <a:ext cx="7530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异分母分数相加减，先通分，然后按照同分母分数加减法的法则进行计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224160" y="426960"/>
            <a:ext cx="2555640" cy="2450880"/>
            <a:chOff x="3224160" y="426960"/>
            <a:chExt cx="2555640" cy="2450880"/>
          </a:xfrm>
        </p:grpSpPr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3954240" y="1126800"/>
              <a:ext cx="1140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224160" y="426960"/>
              <a:ext cx="2555640" cy="245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结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50" name=""/>
          <p:cNvGraphicFramePr/>
          <p:nvPr/>
        </p:nvGraphicFramePr>
        <p:xfrm>
          <a:off x="1325520" y="1558800"/>
          <a:ext cx="552312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5520" y="1558800"/>
                    <a:ext cx="55231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2" name=""/>
          <p:cNvGrpSpPr/>
          <p:nvPr/>
        </p:nvGrpSpPr>
        <p:grpSpPr>
          <a:xfrm>
            <a:off x="1333440" y="431640"/>
            <a:ext cx="3392640" cy="1004760"/>
            <a:chOff x="1333440" y="431640"/>
            <a:chExt cx="3392640" cy="1004760"/>
          </a:xfrm>
        </p:grpSpPr>
        <p:pic>
          <p:nvPicPr>
            <p:cNvPr id="553" name="" descr=""/>
            <p:cNvPicPr/>
            <p:nvPr/>
          </p:nvPicPr>
          <p:blipFill>
            <a:blip r:embed="rId4"/>
            <a:stretch/>
          </p:blipFill>
          <p:spPr>
            <a:xfrm>
              <a:off x="1333440" y="431640"/>
              <a:ext cx="1217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2679480" y="66168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计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1284120" y="2908440"/>
          <a:ext cx="4830840" cy="31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4120" y="2908440"/>
                    <a:ext cx="483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6934320" y="2351160"/>
            <a:ext cx="1503360" cy="3160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6550200" y="328680"/>
            <a:ext cx="1169640" cy="133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866880" y="1365120"/>
            <a:ext cx="720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整数加减混合运算的运算顺序是怎样的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1200" y="2527200"/>
            <a:ext cx="7875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仿宋"/>
              </a:rPr>
              <a:t>整数加减混合运算顺序是从左往右依次计算。遇到有括号的，应该先算括号里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120760" y="461880"/>
            <a:ext cx="4894200" cy="673200"/>
            <a:chOff x="2120760" y="461880"/>
            <a:chExt cx="4894200" cy="673200"/>
          </a:xfrm>
        </p:grpSpPr>
        <p:sp>
          <p:nvSpPr>
            <p:cNvPr id="562" name=""/>
            <p:cNvSpPr/>
            <p:nvPr/>
          </p:nvSpPr>
          <p:spPr>
            <a:xfrm>
              <a:off x="2163600" y="1046160"/>
              <a:ext cx="480204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20760" y="461880"/>
              <a:ext cx="48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cc"/>
                  </a:solidFill>
                  <a:latin typeface="Times New Roman"/>
                  <a:ea typeface="华文行楷"/>
                </a:rPr>
                <a:t>分数加减混合运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087560" y="3643200"/>
            <a:ext cx="5703840" cy="274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分数加减混合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算的运算顺序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该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1825560" y="1150920"/>
            <a:ext cx="609480" cy="1300320"/>
            <a:chOff x="1825560" y="1150920"/>
            <a:chExt cx="609480" cy="1300320"/>
          </a:xfrm>
        </p:grpSpPr>
        <p:sp>
          <p:nvSpPr>
            <p:cNvPr id="566" name=""/>
            <p:cNvSpPr/>
            <p:nvPr/>
          </p:nvSpPr>
          <p:spPr>
            <a:xfrm>
              <a:off x="1944360" y="1150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41480" y="1747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25560" y="1782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21200" y="1112760"/>
            <a:ext cx="609480" cy="1338480"/>
            <a:chOff x="3121200" y="1112760"/>
            <a:chExt cx="609480" cy="1338480"/>
          </a:xfrm>
        </p:grpSpPr>
        <p:sp>
          <p:nvSpPr>
            <p:cNvPr id="570" name=""/>
            <p:cNvSpPr/>
            <p:nvPr/>
          </p:nvSpPr>
          <p:spPr>
            <a:xfrm>
              <a:off x="3259080" y="1112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5840" y="1747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21200" y="1782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398480" y="1154160"/>
            <a:ext cx="689760" cy="1319400"/>
            <a:chOff x="4398480" y="1154160"/>
            <a:chExt cx="689760" cy="1319400"/>
          </a:xfrm>
        </p:grpSpPr>
        <p:sp>
          <p:nvSpPr>
            <p:cNvPr id="574" name=""/>
            <p:cNvSpPr/>
            <p:nvPr/>
          </p:nvSpPr>
          <p:spPr>
            <a:xfrm>
              <a:off x="4535280" y="1154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98480" y="1770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16480" y="1805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7840" y="14079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40120" y="14241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0880" y="180504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2520" y="149868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从左往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0960" y="27795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5560" y="2443320"/>
            <a:ext cx="609480" cy="1300320"/>
            <a:chOff x="1825560" y="2443320"/>
            <a:chExt cx="609480" cy="1300320"/>
          </a:xfrm>
        </p:grpSpPr>
        <p:sp>
          <p:nvSpPr>
            <p:cNvPr id="583" name=""/>
            <p:cNvSpPr/>
            <p:nvPr/>
          </p:nvSpPr>
          <p:spPr>
            <a:xfrm>
              <a:off x="1944360" y="2443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41480" y="304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25560" y="3075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102120" y="2408400"/>
            <a:ext cx="609480" cy="1338480"/>
            <a:chOff x="3102120" y="2408400"/>
            <a:chExt cx="609480" cy="1338480"/>
          </a:xfrm>
        </p:grpSpPr>
        <p:sp>
          <p:nvSpPr>
            <p:cNvPr id="587" name=""/>
            <p:cNvSpPr/>
            <p:nvPr/>
          </p:nvSpPr>
          <p:spPr>
            <a:xfrm>
              <a:off x="3240000" y="24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36760" y="304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02120" y="3078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398480" y="2427120"/>
            <a:ext cx="689760" cy="1319400"/>
            <a:chOff x="4398480" y="2427120"/>
            <a:chExt cx="689760" cy="1319400"/>
          </a:xfrm>
        </p:grpSpPr>
        <p:sp>
          <p:nvSpPr>
            <p:cNvPr id="591" name=""/>
            <p:cNvSpPr/>
            <p:nvPr/>
          </p:nvSpPr>
          <p:spPr>
            <a:xfrm>
              <a:off x="4535280" y="2427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98480" y="3043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16480" y="3078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517840" y="27003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40120" y="27162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87720" y="41860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825560" y="3814920"/>
            <a:ext cx="609480" cy="1338480"/>
            <a:chOff x="1825560" y="3814920"/>
            <a:chExt cx="609480" cy="1338480"/>
          </a:xfrm>
        </p:grpSpPr>
        <p:sp>
          <p:nvSpPr>
            <p:cNvPr id="598" name=""/>
            <p:cNvSpPr/>
            <p:nvPr/>
          </p:nvSpPr>
          <p:spPr>
            <a:xfrm>
              <a:off x="1963440" y="3814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0200" y="4449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25560" y="4484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22280" y="3833640"/>
            <a:ext cx="689760" cy="1319400"/>
            <a:chOff x="3122280" y="3833640"/>
            <a:chExt cx="689760" cy="1319400"/>
          </a:xfrm>
        </p:grpSpPr>
        <p:sp>
          <p:nvSpPr>
            <p:cNvPr id="602" name=""/>
            <p:cNvSpPr/>
            <p:nvPr/>
          </p:nvSpPr>
          <p:spPr>
            <a:xfrm>
              <a:off x="3258360" y="3833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22280" y="4449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39920" y="448452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563560" y="41227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72160" y="41893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6720" y="3855960"/>
            <a:ext cx="689760" cy="1319400"/>
            <a:chOff x="5706720" y="3855960"/>
            <a:chExt cx="689760" cy="1319400"/>
          </a:xfrm>
        </p:grpSpPr>
        <p:sp>
          <p:nvSpPr>
            <p:cNvPr id="608" name=""/>
            <p:cNvSpPr/>
            <p:nvPr/>
          </p:nvSpPr>
          <p:spPr>
            <a:xfrm>
              <a:off x="5842800" y="3855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6720" y="44719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4360" y="450684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5148000" y="4125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98480" y="3855960"/>
            <a:ext cx="715320" cy="1281240"/>
            <a:chOff x="4398480" y="3855960"/>
            <a:chExt cx="715320" cy="1281240"/>
          </a:xfrm>
        </p:grpSpPr>
        <p:sp>
          <p:nvSpPr>
            <p:cNvPr id="613" name=""/>
            <p:cNvSpPr/>
            <p:nvPr/>
          </p:nvSpPr>
          <p:spPr>
            <a:xfrm>
              <a:off x="4424040" y="38559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98480" y="4433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35560" y="4506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1749600" y="2430360"/>
            <a:ext cx="2133360" cy="129564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0880" y="305928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21600" y="2803680"/>
            <a:ext cx="10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21080" y="3859200"/>
            <a:ext cx="2133720" cy="12952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50200" y="4506840"/>
            <a:ext cx="6793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61200" y="4208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再次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87720" y="54784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807560" y="5151600"/>
            <a:ext cx="715320" cy="1281240"/>
            <a:chOff x="1807560" y="5151600"/>
            <a:chExt cx="715320" cy="1281240"/>
          </a:xfrm>
        </p:grpSpPr>
        <p:sp>
          <p:nvSpPr>
            <p:cNvPr id="624" name=""/>
            <p:cNvSpPr/>
            <p:nvPr/>
          </p:nvSpPr>
          <p:spPr>
            <a:xfrm>
              <a:off x="1833120" y="5151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07560" y="57294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44640" y="5802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08080" y="14907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61960" y="0"/>
            <a:ext cx="5634000" cy="1127160"/>
            <a:chOff x="1461960" y="0"/>
            <a:chExt cx="5634000" cy="1127160"/>
          </a:xfrm>
        </p:grpSpPr>
        <p:sp>
          <p:nvSpPr>
            <p:cNvPr id="629" name=""/>
            <p:cNvSpPr/>
            <p:nvPr/>
          </p:nvSpPr>
          <p:spPr>
            <a:xfrm>
              <a:off x="1461960" y="334800"/>
              <a:ext cx="56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Times New Roman"/>
                  <a:ea typeface="华文中宋"/>
                </a:rPr>
                <a:t>计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0" name=""/>
            <p:cNvGraphicFramePr/>
            <p:nvPr/>
          </p:nvGraphicFramePr>
          <p:xfrm>
            <a:off x="2535120" y="0"/>
            <a:ext cx="1919160" cy="112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35120" y="0"/>
                      <a:ext cx="1919160" cy="112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2957400" y="5445000"/>
            <a:ext cx="2502000" cy="8510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350040" y="219240"/>
            <a:ext cx="1077840" cy="1066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2176560" y="977760"/>
            <a:ext cx="609480" cy="1300320"/>
            <a:chOff x="2176560" y="977760"/>
            <a:chExt cx="609480" cy="1300320"/>
          </a:xfrm>
        </p:grpSpPr>
        <p:sp>
          <p:nvSpPr>
            <p:cNvPr id="635" name=""/>
            <p:cNvSpPr/>
            <p:nvPr/>
          </p:nvSpPr>
          <p:spPr>
            <a:xfrm>
              <a:off x="2295360" y="97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292480" y="1574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6560" y="160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471840" y="961920"/>
            <a:ext cx="609480" cy="1338480"/>
            <a:chOff x="3471840" y="961920"/>
            <a:chExt cx="609480" cy="1338480"/>
          </a:xfrm>
        </p:grpSpPr>
        <p:sp>
          <p:nvSpPr>
            <p:cNvPr id="639" name=""/>
            <p:cNvSpPr/>
            <p:nvPr/>
          </p:nvSpPr>
          <p:spPr>
            <a:xfrm>
              <a:off x="3609720" y="961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06480" y="1596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71840" y="1631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49120" y="961920"/>
            <a:ext cx="689760" cy="1319400"/>
            <a:chOff x="4749120" y="961920"/>
            <a:chExt cx="689760" cy="1319400"/>
          </a:xfrm>
        </p:grpSpPr>
        <p:sp>
          <p:nvSpPr>
            <p:cNvPr id="643" name=""/>
            <p:cNvSpPr/>
            <p:nvPr/>
          </p:nvSpPr>
          <p:spPr>
            <a:xfrm>
              <a:off x="4885920" y="961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49120" y="1577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67120" y="1612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68480" y="12351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190760" y="12510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41600" y="26067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87560" y="2546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9840" y="25621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38720" y="4013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768200" y="2276640"/>
            <a:ext cx="689760" cy="1319400"/>
            <a:chOff x="4768200" y="2276640"/>
            <a:chExt cx="689760" cy="1319400"/>
          </a:xfrm>
        </p:grpSpPr>
        <p:sp>
          <p:nvSpPr>
            <p:cNvPr id="653" name=""/>
            <p:cNvSpPr/>
            <p:nvPr/>
          </p:nvSpPr>
          <p:spPr>
            <a:xfrm>
              <a:off x="4905000" y="2276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68200" y="2892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86200" y="2927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638720" y="53244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101320" y="2276640"/>
            <a:ext cx="715320" cy="1281240"/>
            <a:chOff x="2101320" y="2276640"/>
            <a:chExt cx="715320" cy="1281240"/>
          </a:xfrm>
        </p:grpSpPr>
        <p:sp>
          <p:nvSpPr>
            <p:cNvPr id="658" name=""/>
            <p:cNvSpPr/>
            <p:nvPr/>
          </p:nvSpPr>
          <p:spPr>
            <a:xfrm>
              <a:off x="2126880" y="2276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01320" y="2854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38400" y="2927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34760" y="2276640"/>
            <a:ext cx="715320" cy="1281240"/>
            <a:chOff x="3434760" y="2276640"/>
            <a:chExt cx="715320" cy="1281240"/>
          </a:xfrm>
        </p:grpSpPr>
        <p:sp>
          <p:nvSpPr>
            <p:cNvPr id="662" name=""/>
            <p:cNvSpPr/>
            <p:nvPr/>
          </p:nvSpPr>
          <p:spPr>
            <a:xfrm>
              <a:off x="3460320" y="2276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34760" y="2854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71840" y="2927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5700600" y="291636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91320" y="263052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一次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428640" y="3648240"/>
            <a:ext cx="689760" cy="1319400"/>
            <a:chOff x="3428640" y="3648240"/>
            <a:chExt cx="689760" cy="1319400"/>
          </a:xfrm>
        </p:grpSpPr>
        <p:sp>
          <p:nvSpPr>
            <p:cNvPr id="668" name=""/>
            <p:cNvSpPr/>
            <p:nvPr/>
          </p:nvSpPr>
          <p:spPr>
            <a:xfrm>
              <a:off x="3564720" y="3648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28640" y="42642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46280" y="429912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869920" y="39178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120400" y="3648240"/>
            <a:ext cx="715320" cy="1281240"/>
            <a:chOff x="2120400" y="3648240"/>
            <a:chExt cx="715320" cy="1281240"/>
          </a:xfrm>
        </p:grpSpPr>
        <p:sp>
          <p:nvSpPr>
            <p:cNvPr id="673" name=""/>
            <p:cNvSpPr/>
            <p:nvPr/>
          </p:nvSpPr>
          <p:spPr>
            <a:xfrm>
              <a:off x="2145960" y="3648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20400" y="4226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57480" y="4299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158560" y="4978440"/>
            <a:ext cx="715320" cy="1281240"/>
            <a:chOff x="2158560" y="4978440"/>
            <a:chExt cx="715320" cy="1281240"/>
          </a:xfrm>
        </p:grpSpPr>
        <p:sp>
          <p:nvSpPr>
            <p:cNvPr id="677" name=""/>
            <p:cNvSpPr/>
            <p:nvPr/>
          </p:nvSpPr>
          <p:spPr>
            <a:xfrm>
              <a:off x="2184120" y="4978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58560" y="5556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95640" y="5629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60320" y="13161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5059440" y="3459240"/>
            <a:ext cx="2041560" cy="24271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6130800" y="311040"/>
            <a:ext cx="2327400" cy="169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58800" y="1306440"/>
            <a:ext cx="7585200" cy="406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5 </a:t>
            </a: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分数的加法和减法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760840" y="1093680"/>
            <a:ext cx="1930320" cy="1568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027080" y="2878200"/>
            <a:ext cx="54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第一种方法：分步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015920" y="364320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第二种方法：一次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4305240"/>
            <a:ext cx="819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三个分数都是异分母分数，一次通分比较简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049400" y="1982880"/>
            <a:ext cx="68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种方法有什么不同？哪一种简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133800" y="428760"/>
            <a:ext cx="2781360" cy="1150920"/>
            <a:chOff x="3133800" y="428760"/>
            <a:chExt cx="2781360" cy="1150920"/>
          </a:xfrm>
        </p:grpSpPr>
        <p:pic>
          <p:nvPicPr>
            <p:cNvPr id="688" name="" descr=""/>
            <p:cNvPicPr/>
            <p:nvPr/>
          </p:nvPicPr>
          <p:blipFill>
            <a:blip r:embed="rId2"/>
            <a:stretch/>
          </p:blipFill>
          <p:spPr>
            <a:xfrm>
              <a:off x="4764240" y="42876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 txBox="1"/>
            <p:nvPr/>
          </p:nvSpPr>
          <p:spPr>
            <a:xfrm>
              <a:off x="3133800" y="609840"/>
              <a:ext cx="1370160" cy="94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4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隶书"/>
                </a:rPr>
                <a:t>思考</a:t>
              </a:r>
              <a:endPara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7286760" y="2428920"/>
            <a:ext cx="1365120" cy="136512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2932200" y="5065560"/>
            <a:ext cx="1393560" cy="1393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1127160" y="2427120"/>
            <a:ext cx="50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幼圆"/>
              </a:rPr>
              <a:t>计算下列各题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141560" y="3514680"/>
          <a:ext cx="720396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1560" y="3514680"/>
                    <a:ext cx="720396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3833640" y="2530440"/>
            <a:ext cx="4038840" cy="66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7" name=""/>
          <p:cNvGraphicFramePr/>
          <p:nvPr/>
        </p:nvGraphicFramePr>
        <p:xfrm>
          <a:off x="809640" y="1096920"/>
          <a:ext cx="7877160" cy="47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1096920"/>
                    <a:ext cx="78771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1484280" y="4560840"/>
          <a:ext cx="1913040" cy="163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84280" y="4560840"/>
                    <a:ext cx="19130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1" name="" descr=""/>
          <p:cNvPicPr/>
          <p:nvPr/>
        </p:nvPicPr>
        <p:blipFill>
          <a:blip r:embed="rId6"/>
          <a:stretch/>
        </p:blipFill>
        <p:spPr>
          <a:xfrm>
            <a:off x="4419720" y="448452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573120" y="1011240"/>
          <a:ext cx="8324640" cy="47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3120" y="1011240"/>
                    <a:ext cx="83246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1231920" y="4083120"/>
            <a:ext cx="2289240" cy="22892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3914640" y="4389480"/>
            <a:ext cx="2286000" cy="148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85880" y="2101680"/>
            <a:ext cx="7694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分数加减混合运算的运算顺序和整数加减混合运算的运算顺序相同。没有括号的分数加减混合运算顺序是从左往右依次计算；有括号的分数加减混合运算的运算顺序是先算括号里面的，后算括号外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065320" y="341280"/>
            <a:ext cx="2555640" cy="2450880"/>
            <a:chOff x="2065320" y="341280"/>
            <a:chExt cx="2555640" cy="2450880"/>
          </a:xfrm>
        </p:grpSpPr>
        <p:pic>
          <p:nvPicPr>
            <p:cNvPr id="708" name="" descr=""/>
            <p:cNvPicPr/>
            <p:nvPr/>
          </p:nvPicPr>
          <p:blipFill>
            <a:blip r:embed="rId2"/>
            <a:stretch/>
          </p:blipFill>
          <p:spPr>
            <a:xfrm>
              <a:off x="2795400" y="1041120"/>
              <a:ext cx="1140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2065320" y="341280"/>
              <a:ext cx="2555640" cy="245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结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790560" y="4729320"/>
            <a:ext cx="754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整数加法的交换律、结合律对分数加法同样适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5748480" y="176040"/>
            <a:ext cx="1887480" cy="18399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"/>
          <a:stretch/>
        </p:blipFill>
        <p:spPr>
          <a:xfrm>
            <a:off x="3773520" y="5195880"/>
            <a:ext cx="1100160" cy="1374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305080" y="5384880"/>
            <a:ext cx="1752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14" name=""/>
          <p:cNvGrpSpPr/>
          <p:nvPr/>
        </p:nvGrpSpPr>
        <p:grpSpPr>
          <a:xfrm>
            <a:off x="1955880" y="304920"/>
            <a:ext cx="5410080" cy="990360"/>
            <a:chOff x="1955880" y="304920"/>
            <a:chExt cx="5410080" cy="990360"/>
          </a:xfrm>
        </p:grpSpPr>
        <p:pic>
          <p:nvPicPr>
            <p:cNvPr id="715" name="Picture 3" descr="j0419570"/>
            <p:cNvPicPr/>
            <p:nvPr/>
          </p:nvPicPr>
          <p:blipFill>
            <a:blip r:embed="rId3"/>
            <a:stretch/>
          </p:blipFill>
          <p:spPr>
            <a:xfrm>
              <a:off x="3175200" y="380880"/>
              <a:ext cx="32763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Rectangle 4"/>
            <p:cNvSpPr/>
            <p:nvPr/>
          </p:nvSpPr>
          <p:spPr>
            <a:xfrm>
              <a:off x="3327480" y="304920"/>
              <a:ext cx="4038480" cy="99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小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7" name="Picture 5" descr="01"/>
            <p:cNvPicPr/>
            <p:nvPr/>
          </p:nvPicPr>
          <p:blipFill>
            <a:blip r:embed="rId4"/>
            <a:stretch/>
          </p:blipFill>
          <p:spPr>
            <a:xfrm>
              <a:off x="1955880" y="456840"/>
              <a:ext cx="137160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"/>
          <p:cNvSpPr/>
          <p:nvPr/>
        </p:nvSpPr>
        <p:spPr>
          <a:xfrm>
            <a:off x="903240" y="2249280"/>
            <a:ext cx="75754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</a:t>
            </a: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、同分母分数加减法：</a:t>
            </a:r>
            <a:r>
              <a:rPr b="1" lang="zh-CN" sz="2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分母不变，分子相加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、异分母分数加减法：</a:t>
            </a:r>
            <a:r>
              <a:rPr b="1" lang="zh-CN" sz="2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先通分，再计算。计算结果能约分的要约成最简分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3</a:t>
            </a:r>
            <a:r>
              <a:rPr b="1" lang="zh-CN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、分数加减混合运算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</a:t>
            </a:r>
            <a:r>
              <a:rPr b="1" lang="zh-CN" sz="2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分数加减法的运算顺序和整数加减法的运算顺序相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  </a:t>
            </a:r>
            <a:r>
              <a:rPr b="1" lang="zh-CN" sz="2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加法交换律和加法结合律对分数加减法同相适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2230560" y="247680"/>
            <a:ext cx="5410080" cy="990720"/>
            <a:chOff x="2230560" y="247680"/>
            <a:chExt cx="5410080" cy="990720"/>
          </a:xfrm>
        </p:grpSpPr>
        <p:pic>
          <p:nvPicPr>
            <p:cNvPr id="720" name="Picture 3" descr="j0419570"/>
            <p:cNvPicPr/>
            <p:nvPr/>
          </p:nvPicPr>
          <p:blipFill>
            <a:blip r:embed="rId2"/>
            <a:stretch/>
          </p:blipFill>
          <p:spPr>
            <a:xfrm>
              <a:off x="3449880" y="324000"/>
              <a:ext cx="32763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Rectangle 4"/>
            <p:cNvSpPr/>
            <p:nvPr/>
          </p:nvSpPr>
          <p:spPr>
            <a:xfrm>
              <a:off x="3602160" y="247680"/>
              <a:ext cx="4038480" cy="990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Picture 5" descr="01"/>
            <p:cNvPicPr/>
            <p:nvPr/>
          </p:nvPicPr>
          <p:blipFill>
            <a:blip r:embed="rId3"/>
            <a:stretch/>
          </p:blipFill>
          <p:spPr>
            <a:xfrm>
              <a:off x="2230560" y="399960"/>
              <a:ext cx="1371600" cy="685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3" name=""/>
          <p:cNvGraphicFramePr/>
          <p:nvPr/>
        </p:nvGraphicFramePr>
        <p:xfrm>
          <a:off x="1738440" y="3135240"/>
          <a:ext cx="61884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135240"/>
                    <a:ext cx="6188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156120" y="3238560"/>
          <a:ext cx="1541160" cy="91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6120" y="3238560"/>
                    <a:ext cx="15411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1874880" y="1963800"/>
          <a:ext cx="376200" cy="101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74880" y="1963800"/>
                    <a:ext cx="376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2927520" y="2054160"/>
          <a:ext cx="1555560" cy="92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7520" y="2054160"/>
                    <a:ext cx="15555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5033880" y="2011320"/>
          <a:ext cx="1546200" cy="99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33880" y="2011320"/>
                    <a:ext cx="15462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2411280" y="21934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43560" y="22075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80" y="35013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24240" y="33904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54440" y="33904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（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÷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7080" y="137160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一、填空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866960" y="4189320"/>
          <a:ext cx="388800" cy="1022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66960" y="4189320"/>
                    <a:ext cx="3888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727520" y="4122720"/>
          <a:ext cx="393840" cy="1031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27520" y="4122720"/>
                    <a:ext cx="393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2965680" y="4409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370600" y="4409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8"/>
          <a:stretch/>
        </p:blipFill>
        <p:spPr>
          <a:xfrm>
            <a:off x="1074600" y="204156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19"/>
          <a:stretch/>
        </p:blipFill>
        <p:spPr>
          <a:xfrm>
            <a:off x="950760" y="32670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0"/>
          <a:stretch/>
        </p:blipFill>
        <p:spPr>
          <a:xfrm>
            <a:off x="1014480" y="4349880"/>
            <a:ext cx="723960" cy="76176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433680" y="204156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84960" y="256068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666960" y="3238560"/>
            <a:ext cx="7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1480" y="345456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70400" y="444960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1"/>
          <a:stretch/>
        </p:blipFill>
        <p:spPr>
          <a:xfrm>
            <a:off x="6897600" y="1579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590560" y="5441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有（    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2"/>
          <a:stretch/>
        </p:blipFill>
        <p:spPr>
          <a:xfrm>
            <a:off x="1004760" y="5297400"/>
            <a:ext cx="733680" cy="7621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541680" y="546876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738440" y="5321160"/>
          <a:ext cx="566640" cy="903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38440" y="5321160"/>
                    <a:ext cx="566640" cy="9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4935600" y="5268960"/>
          <a:ext cx="339840" cy="89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35600" y="5268960"/>
                    <a:ext cx="339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1" name="" descr=""/>
          <p:cNvPicPr/>
          <p:nvPr/>
        </p:nvPicPr>
        <p:blipFill>
          <a:blip r:embed="rId27"/>
          <a:stretch/>
        </p:blipFill>
        <p:spPr>
          <a:xfrm>
            <a:off x="6066000" y="4197240"/>
            <a:ext cx="1941480" cy="1941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3247920" y="243000"/>
            <a:ext cx="2003400" cy="56102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7192800" y="214200"/>
            <a:ext cx="1000440" cy="8287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225440" y="50796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华文中宋"/>
              </a:rPr>
              <a:t>二、计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1125360" y="1317600"/>
          <a:ext cx="34164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5360" y="1317600"/>
                    <a:ext cx="3416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247840" y="1317600"/>
          <a:ext cx="333360" cy="89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1317600"/>
                    <a:ext cx="333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/>
          <p:nvPr/>
        </p:nvSpPr>
        <p:spPr>
          <a:xfrm>
            <a:off x="3657600" y="2334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84080" y="1476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54360" y="1476000"/>
            <a:ext cx="3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016600" y="1346040"/>
          <a:ext cx="32364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16600" y="1346040"/>
                    <a:ext cx="3236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6029280" y="1262160"/>
          <a:ext cx="450720" cy="81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29280" y="1262160"/>
                    <a:ext cx="450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6610320" y="136800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125360" y="2481120"/>
          <a:ext cx="347760" cy="93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25360" y="2481120"/>
                    <a:ext cx="3477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360520" y="2451240"/>
          <a:ext cx="347760" cy="931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0520" y="2451240"/>
                    <a:ext cx="3477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1652040" y="2580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87480" y="258084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433480" y="134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5130720" y="2417760"/>
          <a:ext cx="347760" cy="932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30720" y="2417760"/>
                    <a:ext cx="3477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6151680" y="2417760"/>
          <a:ext cx="347400" cy="932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151680" y="2417760"/>
                    <a:ext cx="3474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3664080" y="2334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50840" y="25520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35520" y="256644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213000" y="1290600"/>
          <a:ext cx="600120" cy="961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13000" y="1290600"/>
                    <a:ext cx="600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7126200" y="1189080"/>
          <a:ext cx="552600" cy="988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26200" y="1189080"/>
                    <a:ext cx="5526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3341520" y="2338560"/>
          <a:ext cx="398520" cy="1074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341520" y="2338560"/>
                    <a:ext cx="3985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7126200" y="2297160"/>
          <a:ext cx="378000" cy="11174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126200" y="2297160"/>
                    <a:ext cx="3780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1112760" y="3505320"/>
          <a:ext cx="1746360" cy="1025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112760" y="3505320"/>
                    <a:ext cx="174636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2778120" y="371736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5157720" y="3495600"/>
          <a:ext cx="1594080" cy="10256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157720" y="3495600"/>
                    <a:ext cx="1594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6688080" y="370944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039680" y="4637160"/>
          <a:ext cx="2081520" cy="10602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1039680" y="4637160"/>
                    <a:ext cx="208152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5189400" y="4637160"/>
          <a:ext cx="1908360" cy="9716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189400" y="4637160"/>
                    <a:ext cx="1908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7019640" y="478260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106440" y="490500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135240" y="3591000"/>
          <a:ext cx="674640" cy="9111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3135240" y="3591000"/>
                    <a:ext cx="6746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7039080" y="3535200"/>
          <a:ext cx="736560" cy="993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7039080" y="3535200"/>
                    <a:ext cx="73656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"/>
          <p:cNvGraphicFramePr/>
          <p:nvPr/>
        </p:nvGraphicFramePr>
        <p:xfrm>
          <a:off x="3456000" y="4854600"/>
          <a:ext cx="609480" cy="8222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456000" y="4854600"/>
                    <a:ext cx="6094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7346880" y="4637160"/>
          <a:ext cx="703440" cy="9507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7346880" y="4637160"/>
                    <a:ext cx="7034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2008080" y="379440"/>
            <a:ext cx="5410080" cy="990720"/>
            <a:chOff x="2008080" y="379440"/>
            <a:chExt cx="5410080" cy="990720"/>
          </a:xfrm>
        </p:grpSpPr>
        <p:pic>
          <p:nvPicPr>
            <p:cNvPr id="820" name="Picture 3" descr="j0419570"/>
            <p:cNvPicPr/>
            <p:nvPr/>
          </p:nvPicPr>
          <p:blipFill>
            <a:blip r:embed="rId2"/>
            <a:stretch/>
          </p:blipFill>
          <p:spPr>
            <a:xfrm>
              <a:off x="3227400" y="455760"/>
              <a:ext cx="32763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4"/>
            <p:cNvSpPr/>
            <p:nvPr/>
          </p:nvSpPr>
          <p:spPr>
            <a:xfrm>
              <a:off x="3379680" y="379440"/>
              <a:ext cx="4038480" cy="990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习题答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5" descr="01"/>
            <p:cNvPicPr/>
            <p:nvPr/>
          </p:nvPicPr>
          <p:blipFill>
            <a:blip r:embed="rId3"/>
            <a:stretch/>
          </p:blipFill>
          <p:spPr>
            <a:xfrm>
              <a:off x="2008080" y="531720"/>
              <a:ext cx="13716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"/>
          <p:cNvSpPr txBox="1"/>
          <p:nvPr/>
        </p:nvSpPr>
        <p:spPr>
          <a:xfrm>
            <a:off x="1333440" y="1544760"/>
            <a:ext cx="280044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练习题二十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058760" y="2125800"/>
            <a:ext cx="6585120" cy="3262320"/>
            <a:chOff x="1058760" y="2125800"/>
            <a:chExt cx="6585120" cy="3262320"/>
          </a:xfrm>
        </p:grpSpPr>
        <p:sp>
          <p:nvSpPr>
            <p:cNvPr id="825" name=""/>
            <p:cNvSpPr/>
            <p:nvPr/>
          </p:nvSpPr>
          <p:spPr>
            <a:xfrm>
              <a:off x="1058760" y="3554640"/>
              <a:ext cx="63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.(1)           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6" name=""/>
            <p:cNvGraphicFramePr/>
            <p:nvPr/>
          </p:nvGraphicFramePr>
          <p:xfrm>
            <a:off x="1942920" y="3357720"/>
            <a:ext cx="65556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42920" y="3357720"/>
                      <a:ext cx="6555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8" name=""/>
            <p:cNvGraphicFramePr/>
            <p:nvPr/>
          </p:nvGraphicFramePr>
          <p:xfrm>
            <a:off x="3346200" y="3327480"/>
            <a:ext cx="547920" cy="98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6200" y="3327480"/>
                      <a:ext cx="54792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1101600" y="4631040"/>
              <a:ext cx="6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1" name="" descr=""/>
            <p:cNvPicPr/>
            <p:nvPr/>
          </p:nvPicPr>
          <p:blipFill>
            <a:blip r:embed="rId8"/>
            <a:stretch/>
          </p:blipFill>
          <p:spPr>
            <a:xfrm>
              <a:off x="1596960" y="4351320"/>
              <a:ext cx="6062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9"/>
            <a:stretch/>
          </p:blipFill>
          <p:spPr>
            <a:xfrm>
              <a:off x="2425680" y="4332600"/>
              <a:ext cx="5238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0"/>
            <a:stretch/>
          </p:blipFill>
          <p:spPr>
            <a:xfrm>
              <a:off x="3233520" y="4343400"/>
              <a:ext cx="62568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1"/>
            <a:stretch/>
          </p:blipFill>
          <p:spPr>
            <a:xfrm>
              <a:off x="4224240" y="4346640"/>
              <a:ext cx="4572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2"/>
            <a:stretch/>
          </p:blipFill>
          <p:spPr>
            <a:xfrm>
              <a:off x="4979880" y="4314960"/>
              <a:ext cx="6080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5673600" y="4631040"/>
              <a:ext cx="5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" descr=""/>
            <p:cNvPicPr/>
            <p:nvPr/>
          </p:nvPicPr>
          <p:blipFill>
            <a:blip r:embed="rId13"/>
            <a:stretch/>
          </p:blipFill>
          <p:spPr>
            <a:xfrm>
              <a:off x="1608120" y="2168640"/>
              <a:ext cx="259704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1112760" y="2394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14"/>
            <a:stretch/>
          </p:blipFill>
          <p:spPr>
            <a:xfrm>
              <a:off x="5376600" y="2125800"/>
              <a:ext cx="2267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4841640" y="234000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104840" y="5332320"/>
            <a:ext cx="5138640" cy="982800"/>
            <a:chOff x="1104840" y="5332320"/>
            <a:chExt cx="5138640" cy="982800"/>
          </a:xfrm>
        </p:grpSpPr>
        <p:sp>
          <p:nvSpPr>
            <p:cNvPr id="842" name=""/>
            <p:cNvSpPr/>
            <p:nvPr/>
          </p:nvSpPr>
          <p:spPr>
            <a:xfrm>
              <a:off x="1104840" y="550044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3" name="" descr=""/>
            <p:cNvPicPr/>
            <p:nvPr/>
          </p:nvPicPr>
          <p:blipFill>
            <a:blip r:embed="rId15"/>
            <a:stretch/>
          </p:blipFill>
          <p:spPr>
            <a:xfrm>
              <a:off x="1687320" y="5332320"/>
              <a:ext cx="53028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6"/>
            <a:stretch/>
          </p:blipFill>
          <p:spPr>
            <a:xfrm>
              <a:off x="2508120" y="5360760"/>
              <a:ext cx="495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3341520" y="5578560"/>
              <a:ext cx="29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.  &gt;     &lt;      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" descr=""/>
          <p:cNvPicPr/>
          <p:nvPr/>
        </p:nvPicPr>
        <p:blipFill>
          <a:blip r:embed="rId17"/>
          <a:stretch/>
        </p:blipFill>
        <p:spPr>
          <a:xfrm>
            <a:off x="6230880" y="3182760"/>
            <a:ext cx="1565280" cy="2565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1647720" y="662040"/>
            <a:ext cx="280044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练习题二十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8" name=""/>
          <p:cNvSpPr/>
          <p:nvPr/>
        </p:nvSpPr>
        <p:spPr>
          <a:xfrm>
            <a:off x="1314360" y="1380960"/>
            <a:ext cx="6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1905120" y="1279440"/>
            <a:ext cx="504720" cy="908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2619360" y="1292400"/>
            <a:ext cx="504720" cy="9093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4"/>
          <a:stretch/>
        </p:blipFill>
        <p:spPr>
          <a:xfrm>
            <a:off x="3362400" y="1281240"/>
            <a:ext cx="504720" cy="9079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5"/>
          <a:stretch/>
        </p:blipFill>
        <p:spPr>
          <a:xfrm>
            <a:off x="4129200" y="1285920"/>
            <a:ext cx="503280" cy="90648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6"/>
          <a:stretch/>
        </p:blipFill>
        <p:spPr>
          <a:xfrm>
            <a:off x="4879800" y="1279440"/>
            <a:ext cx="505080" cy="90828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7"/>
          <a:stretch/>
        </p:blipFill>
        <p:spPr>
          <a:xfrm>
            <a:off x="5613480" y="1284120"/>
            <a:ext cx="504720" cy="90828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8"/>
          <a:stretch/>
        </p:blipFill>
        <p:spPr>
          <a:xfrm>
            <a:off x="6350040" y="1279440"/>
            <a:ext cx="504720" cy="9097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9"/>
          <a:stretch/>
        </p:blipFill>
        <p:spPr>
          <a:xfrm>
            <a:off x="7054920" y="1279440"/>
            <a:ext cx="503280" cy="9082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1282680" y="2635200"/>
            <a:ext cx="63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(1)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0"/>
          <a:stretch/>
        </p:blipFill>
        <p:spPr>
          <a:xfrm>
            <a:off x="2265480" y="2414520"/>
            <a:ext cx="366480" cy="9889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11"/>
          <a:stretch/>
        </p:blipFill>
        <p:spPr>
          <a:xfrm>
            <a:off x="2754360" y="2424240"/>
            <a:ext cx="549360" cy="9871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12"/>
          <a:stretch/>
        </p:blipFill>
        <p:spPr>
          <a:xfrm>
            <a:off x="3551400" y="2401920"/>
            <a:ext cx="549000" cy="9889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3"/>
          <a:stretch/>
        </p:blipFill>
        <p:spPr>
          <a:xfrm>
            <a:off x="4997520" y="2400480"/>
            <a:ext cx="366480" cy="9889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4"/>
          <a:stretch/>
        </p:blipFill>
        <p:spPr>
          <a:xfrm>
            <a:off x="5630760" y="2400480"/>
            <a:ext cx="549360" cy="9871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5"/>
          <a:stretch/>
        </p:blipFill>
        <p:spPr>
          <a:xfrm>
            <a:off x="6494400" y="2374920"/>
            <a:ext cx="547920" cy="9874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1311120" y="3600360"/>
            <a:ext cx="61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   +   -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+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    +  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671480" y="4214880"/>
          <a:ext cx="3816360" cy="2165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71480" y="4214880"/>
                    <a:ext cx="381636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lus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93000" y="312840"/>
            <a:ext cx="1915920" cy="20397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778040" y="685800"/>
            <a:ext cx="5410080" cy="990720"/>
            <a:chOff x="1778040" y="685800"/>
            <a:chExt cx="5410080" cy="990720"/>
          </a:xfrm>
        </p:grpSpPr>
        <p:pic>
          <p:nvPicPr>
            <p:cNvPr id="114" name="Picture 3" descr="j0419570"/>
            <p:cNvPicPr/>
            <p:nvPr/>
          </p:nvPicPr>
          <p:blipFill>
            <a:blip r:embed="rId3"/>
            <a:stretch/>
          </p:blipFill>
          <p:spPr>
            <a:xfrm>
              <a:off x="2997360" y="762120"/>
              <a:ext cx="32763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4"/>
            <p:cNvSpPr/>
            <p:nvPr/>
          </p:nvSpPr>
          <p:spPr>
            <a:xfrm>
              <a:off x="3149640" y="685800"/>
              <a:ext cx="4038480" cy="990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教学目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5" descr="01"/>
            <p:cNvPicPr/>
            <p:nvPr/>
          </p:nvPicPr>
          <p:blipFill>
            <a:blip r:embed="rId4"/>
            <a:stretch/>
          </p:blipFill>
          <p:spPr>
            <a:xfrm>
              <a:off x="1778040" y="838080"/>
              <a:ext cx="13716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857160" y="2618280"/>
            <a:ext cx="77644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理解分数加减法的算理，掌握分数加减法的计算方法，并能正确地计算出结果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理解整数加法的运算定律对分数加法仍然适用，并会运用这些运算定律进行一些分数加法的简便运算，进一步提高简算能力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体会分数加减运算在生活、生产中的广泛应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930320" y="5308560"/>
            <a:ext cx="60469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 txBox="1"/>
          <p:nvPr/>
        </p:nvSpPr>
        <p:spPr>
          <a:xfrm>
            <a:off x="1801800" y="880920"/>
            <a:ext cx="28004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练习题二十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69" name=""/>
          <p:cNvSpPr/>
          <p:nvPr/>
        </p:nvSpPr>
        <p:spPr>
          <a:xfrm>
            <a:off x="1727280" y="157968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2370240" y="1420920"/>
            <a:ext cx="473040" cy="84924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4"/>
          <a:stretch/>
        </p:blipFill>
        <p:spPr>
          <a:xfrm>
            <a:off x="3121200" y="1479600"/>
            <a:ext cx="485640" cy="87480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5"/>
          <a:stretch/>
        </p:blipFill>
        <p:spPr>
          <a:xfrm>
            <a:off x="3821040" y="1390680"/>
            <a:ext cx="355680" cy="9637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6"/>
          <a:stretch/>
        </p:blipFill>
        <p:spPr>
          <a:xfrm>
            <a:off x="4348080" y="1419120"/>
            <a:ext cx="486000" cy="87480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7"/>
          <a:stretch/>
        </p:blipFill>
        <p:spPr>
          <a:xfrm>
            <a:off x="5045040" y="1378080"/>
            <a:ext cx="530280" cy="954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8"/>
          <a:stretch/>
        </p:blipFill>
        <p:spPr>
          <a:xfrm>
            <a:off x="5746680" y="1376280"/>
            <a:ext cx="528840" cy="9558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9"/>
          <a:stretch/>
        </p:blipFill>
        <p:spPr>
          <a:xfrm>
            <a:off x="2473200" y="2359080"/>
            <a:ext cx="346320" cy="9367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1727280" y="256212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253836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326200" y="25671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6694560" y="2384280"/>
            <a:ext cx="307800" cy="83196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6051600" y="25671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722600" y="3424320"/>
            <a:ext cx="54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1"/>
          <a:stretch/>
        </p:blipFill>
        <p:spPr>
          <a:xfrm>
            <a:off x="2868480" y="3201840"/>
            <a:ext cx="506520" cy="90972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12"/>
          <a:stretch/>
        </p:blipFill>
        <p:spPr>
          <a:xfrm>
            <a:off x="4222800" y="3159000"/>
            <a:ext cx="507960" cy="9129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1728720" y="444024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3"/>
          <a:stretch/>
        </p:blipFill>
        <p:spPr>
          <a:xfrm>
            <a:off x="5229360" y="4162320"/>
            <a:ext cx="331560" cy="89712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14"/>
          <a:stretch/>
        </p:blipFill>
        <p:spPr>
          <a:xfrm>
            <a:off x="3390840" y="4221000"/>
            <a:ext cx="331920" cy="8956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15"/>
          <a:stretch/>
        </p:blipFill>
        <p:spPr>
          <a:xfrm>
            <a:off x="4307040" y="4219560"/>
            <a:ext cx="498240" cy="8971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16"/>
          <a:stretch/>
        </p:blipFill>
        <p:spPr>
          <a:xfrm>
            <a:off x="6637320" y="4146480"/>
            <a:ext cx="498600" cy="8985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17"/>
          <a:stretch/>
        </p:blipFill>
        <p:spPr>
          <a:xfrm>
            <a:off x="6000840" y="4118040"/>
            <a:ext cx="331560" cy="89676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2470320" y="44528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0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3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5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1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3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2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5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8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1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4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9880" y="4127400"/>
            <a:ext cx="5333760" cy="99072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9680" y="41194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0400" y="41194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92400" y="41338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49840" y="41338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1600" y="41338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73720" y="4119480"/>
            <a:ext cx="0" cy="99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9880" y="4129200"/>
            <a:ext cx="2286000" cy="990360"/>
            <a:chOff x="839880" y="4129200"/>
            <a:chExt cx="2286000" cy="990360"/>
          </a:xfrm>
        </p:grpSpPr>
        <p:sp>
          <p:nvSpPr>
            <p:cNvPr id="127" name=""/>
            <p:cNvSpPr/>
            <p:nvPr/>
          </p:nvSpPr>
          <p:spPr>
            <a:xfrm>
              <a:off x="839880" y="4129200"/>
              <a:ext cx="2286000" cy="9903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2000" y="4129200"/>
              <a:ext cx="0" cy="99036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3760" y="4129200"/>
              <a:ext cx="0" cy="99036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125880" y="4119480"/>
            <a:ext cx="1523880" cy="990720"/>
            <a:chOff x="3125880" y="4119480"/>
            <a:chExt cx="1523880" cy="990720"/>
          </a:xfrm>
        </p:grpSpPr>
        <p:sp>
          <p:nvSpPr>
            <p:cNvPr id="131" name=""/>
            <p:cNvSpPr/>
            <p:nvPr/>
          </p:nvSpPr>
          <p:spPr>
            <a:xfrm>
              <a:off x="3125880" y="4119480"/>
              <a:ext cx="1523880" cy="990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8000" y="4119480"/>
              <a:ext cx="0" cy="990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60840" y="4124160"/>
            <a:ext cx="464760" cy="1101600"/>
            <a:chOff x="3660840" y="4124160"/>
            <a:chExt cx="464760" cy="1101600"/>
          </a:xfrm>
        </p:grpSpPr>
        <p:sp>
          <p:nvSpPr>
            <p:cNvPr id="134" name=""/>
            <p:cNvSpPr/>
            <p:nvPr/>
          </p:nvSpPr>
          <p:spPr>
            <a:xfrm>
              <a:off x="3660840" y="4124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60840" y="4583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68400" y="465480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54280" y="4051440"/>
            <a:ext cx="533160" cy="1131840"/>
            <a:chOff x="1754280" y="4051440"/>
            <a:chExt cx="533160" cy="1131840"/>
          </a:xfrm>
        </p:grpSpPr>
        <p:sp>
          <p:nvSpPr>
            <p:cNvPr id="138" name=""/>
            <p:cNvSpPr/>
            <p:nvPr/>
          </p:nvSpPr>
          <p:spPr>
            <a:xfrm>
              <a:off x="1831680" y="4051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4540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4280" y="4617360"/>
              <a:ext cx="533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5400000">
            <a:off x="2630160" y="3479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48000" y="5499000"/>
            <a:ext cx="63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8080" y="35114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数字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84480" y="356868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试题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7640" y="1055520"/>
            <a:ext cx="7308720" cy="1549440"/>
            <a:chOff x="917640" y="1055520"/>
            <a:chExt cx="7308720" cy="1549440"/>
          </a:xfrm>
        </p:grpSpPr>
        <p:sp>
          <p:nvSpPr>
            <p:cNvPr id="146" name=""/>
            <p:cNvSpPr/>
            <p:nvPr/>
          </p:nvSpPr>
          <p:spPr>
            <a:xfrm>
              <a:off x="917640" y="1055520"/>
              <a:ext cx="7308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王老师拿来一张硬纸，做数字卡片用了这张纸的    ，做试题卡片用了这张纸的     ，一共用了这张纸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2422440" y="1630080"/>
            <a:ext cx="360360" cy="97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22440" y="1630080"/>
                      <a:ext cx="360360" cy="97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7148520" y="1630080"/>
            <a:ext cx="360360" cy="97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48520" y="1630080"/>
                      <a:ext cx="360360" cy="97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1" name=""/>
          <p:cNvGraphicFramePr/>
          <p:nvPr/>
        </p:nvGraphicFramePr>
        <p:xfrm>
          <a:off x="6338880" y="4086360"/>
          <a:ext cx="2805120" cy="100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38880" y="4086360"/>
                    <a:ext cx="28051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2193840" y="304920"/>
            <a:ext cx="4894200" cy="672480"/>
            <a:chOff x="2193840" y="304920"/>
            <a:chExt cx="4894200" cy="672480"/>
          </a:xfrm>
        </p:grpSpPr>
        <p:sp>
          <p:nvSpPr>
            <p:cNvPr id="154" name=""/>
            <p:cNvSpPr/>
            <p:nvPr/>
          </p:nvSpPr>
          <p:spPr>
            <a:xfrm>
              <a:off x="2236680" y="888840"/>
              <a:ext cx="4802040" cy="8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3840" y="304920"/>
              <a:ext cx="48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cc"/>
                  </a:solidFill>
                  <a:latin typeface="Times New Roman"/>
                  <a:ea typeface="华文行楷"/>
                </a:rPr>
                <a:t>同分母分数加、减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683400" y="267804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8600" y="398520"/>
            <a:ext cx="8915400" cy="2980800"/>
            <a:chOff x="228600" y="398520"/>
            <a:chExt cx="8915400" cy="2980800"/>
          </a:xfrm>
        </p:grpSpPr>
        <p:sp>
          <p:nvSpPr>
            <p:cNvPr id="158" name=""/>
            <p:cNvSpPr/>
            <p:nvPr/>
          </p:nvSpPr>
          <p:spPr>
            <a:xfrm>
              <a:off x="228600" y="708120"/>
              <a:ext cx="8915400" cy="26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明吃                 ，中午吃了它的     ，晚上吃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它的      。两次一共吃去                 的几分之几？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162840" y="665280"/>
              <a:ext cx="380880" cy="722880"/>
              <a:chOff x="6162840" y="665280"/>
              <a:chExt cx="380880" cy="722880"/>
            </a:xfrm>
          </p:grpSpPr>
          <p:sp>
            <p:nvSpPr>
              <p:cNvPr id="160" name=""/>
              <p:cNvSpPr/>
              <p:nvPr/>
            </p:nvSpPr>
            <p:spPr>
              <a:xfrm>
                <a:off x="6162840" y="665280"/>
                <a:ext cx="380880" cy="7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62840" y="970200"/>
                <a:ext cx="380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096920" y="2035080"/>
              <a:ext cx="838080" cy="784800"/>
              <a:chOff x="1096920" y="2035080"/>
              <a:chExt cx="838080" cy="784800"/>
            </a:xfrm>
          </p:grpSpPr>
          <p:sp>
            <p:nvSpPr>
              <p:cNvPr id="163" name=""/>
              <p:cNvSpPr/>
              <p:nvPr/>
            </p:nvSpPr>
            <p:spPr>
              <a:xfrm>
                <a:off x="1096920" y="2035080"/>
                <a:ext cx="838080" cy="78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96920" y="2340000"/>
                <a:ext cx="304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79800" y="398520"/>
              <a:ext cx="12315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205160" y="1824120"/>
              <a:ext cx="1070280" cy="9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76440" y="4037040"/>
            <a:ext cx="609480" cy="76320"/>
            <a:chOff x="676440" y="4037040"/>
            <a:chExt cx="609480" cy="76320"/>
          </a:xfrm>
        </p:grpSpPr>
        <p:sp>
          <p:nvSpPr>
            <p:cNvPr id="168" name=""/>
            <p:cNvSpPr/>
            <p:nvPr/>
          </p:nvSpPr>
          <p:spPr>
            <a:xfrm>
              <a:off x="67644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7644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2859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85920" y="4037040"/>
            <a:ext cx="609480" cy="76320"/>
            <a:chOff x="1285920" y="4037040"/>
            <a:chExt cx="609480" cy="76320"/>
          </a:xfrm>
        </p:grpSpPr>
        <p:sp>
          <p:nvSpPr>
            <p:cNvPr id="172" name=""/>
            <p:cNvSpPr/>
            <p:nvPr/>
          </p:nvSpPr>
          <p:spPr>
            <a:xfrm>
              <a:off x="128592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2859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954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95400" y="4037040"/>
            <a:ext cx="609480" cy="76320"/>
            <a:chOff x="1895400" y="4037040"/>
            <a:chExt cx="609480" cy="76320"/>
          </a:xfrm>
        </p:grpSpPr>
        <p:sp>
          <p:nvSpPr>
            <p:cNvPr id="176" name=""/>
            <p:cNvSpPr/>
            <p:nvPr/>
          </p:nvSpPr>
          <p:spPr>
            <a:xfrm>
              <a:off x="189540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8954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50488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05240" y="4037040"/>
            <a:ext cx="609480" cy="76320"/>
            <a:chOff x="2505240" y="4037040"/>
            <a:chExt cx="609480" cy="76320"/>
          </a:xfrm>
        </p:grpSpPr>
        <p:sp>
          <p:nvSpPr>
            <p:cNvPr id="180" name=""/>
            <p:cNvSpPr/>
            <p:nvPr/>
          </p:nvSpPr>
          <p:spPr>
            <a:xfrm>
              <a:off x="250524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50524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147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14720" y="4037040"/>
            <a:ext cx="609480" cy="76320"/>
            <a:chOff x="3114720" y="4037040"/>
            <a:chExt cx="609480" cy="76320"/>
          </a:xfrm>
        </p:grpSpPr>
        <p:sp>
          <p:nvSpPr>
            <p:cNvPr id="184" name=""/>
            <p:cNvSpPr/>
            <p:nvPr/>
          </p:nvSpPr>
          <p:spPr>
            <a:xfrm>
              <a:off x="311472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1147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7242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24200" y="4037040"/>
            <a:ext cx="609480" cy="76320"/>
            <a:chOff x="3724200" y="4037040"/>
            <a:chExt cx="609480" cy="76320"/>
          </a:xfrm>
        </p:grpSpPr>
        <p:sp>
          <p:nvSpPr>
            <p:cNvPr id="188" name=""/>
            <p:cNvSpPr/>
            <p:nvPr/>
          </p:nvSpPr>
          <p:spPr>
            <a:xfrm>
              <a:off x="372420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242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3368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334040" y="4037040"/>
            <a:ext cx="609480" cy="76320"/>
            <a:chOff x="4334040" y="4037040"/>
            <a:chExt cx="609480" cy="76320"/>
          </a:xfrm>
        </p:grpSpPr>
        <p:sp>
          <p:nvSpPr>
            <p:cNvPr id="192" name=""/>
            <p:cNvSpPr/>
            <p:nvPr/>
          </p:nvSpPr>
          <p:spPr>
            <a:xfrm>
              <a:off x="433404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3404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9435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943520" y="4037040"/>
            <a:ext cx="609480" cy="76320"/>
            <a:chOff x="4943520" y="4037040"/>
            <a:chExt cx="609480" cy="76320"/>
          </a:xfrm>
        </p:grpSpPr>
        <p:sp>
          <p:nvSpPr>
            <p:cNvPr id="196" name=""/>
            <p:cNvSpPr/>
            <p:nvPr/>
          </p:nvSpPr>
          <p:spPr>
            <a:xfrm>
              <a:off x="494352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94352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5530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553000" y="4037040"/>
            <a:ext cx="609480" cy="76320"/>
            <a:chOff x="5553000" y="4037040"/>
            <a:chExt cx="609480" cy="76320"/>
          </a:xfrm>
        </p:grpSpPr>
        <p:sp>
          <p:nvSpPr>
            <p:cNvPr id="200" name=""/>
            <p:cNvSpPr/>
            <p:nvPr/>
          </p:nvSpPr>
          <p:spPr>
            <a:xfrm>
              <a:off x="5553000" y="411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55300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162480" y="4037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6440" y="4037040"/>
            <a:ext cx="1218600" cy="76320"/>
            <a:chOff x="676440" y="4037040"/>
            <a:chExt cx="1218600" cy="76320"/>
          </a:xfrm>
        </p:grpSpPr>
        <p:grpSp>
          <p:nvGrpSpPr>
            <p:cNvPr id="204" name=""/>
            <p:cNvGrpSpPr/>
            <p:nvPr/>
          </p:nvGrpSpPr>
          <p:grpSpPr>
            <a:xfrm>
              <a:off x="676440" y="4037040"/>
              <a:ext cx="609120" cy="76320"/>
              <a:chOff x="676440" y="4037040"/>
              <a:chExt cx="609120" cy="76320"/>
            </a:xfrm>
          </p:grpSpPr>
          <p:sp>
            <p:nvSpPr>
              <p:cNvPr id="205" name=""/>
              <p:cNvSpPr/>
              <p:nvPr/>
            </p:nvSpPr>
            <p:spPr>
              <a:xfrm>
                <a:off x="676440" y="4113360"/>
                <a:ext cx="609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6440" y="403704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285560" y="403704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285560" y="4037040"/>
              <a:ext cx="609480" cy="76320"/>
              <a:chOff x="1285560" y="4037040"/>
              <a:chExt cx="609480" cy="76320"/>
            </a:xfrm>
          </p:grpSpPr>
          <p:sp>
            <p:nvSpPr>
              <p:cNvPr id="209" name=""/>
              <p:cNvSpPr/>
              <p:nvPr/>
            </p:nvSpPr>
            <p:spPr>
              <a:xfrm>
                <a:off x="1285560" y="4113360"/>
                <a:ext cx="6094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285560" y="403704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1895040" y="4037040"/>
                <a:ext cx="0" cy="76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1895400" y="4037040"/>
            <a:ext cx="3047760" cy="76320"/>
            <a:chOff x="1895400" y="4037040"/>
            <a:chExt cx="3047760" cy="76320"/>
          </a:xfrm>
        </p:grpSpPr>
        <p:grpSp>
          <p:nvGrpSpPr>
            <p:cNvPr id="213" name=""/>
            <p:cNvGrpSpPr/>
            <p:nvPr/>
          </p:nvGrpSpPr>
          <p:grpSpPr>
            <a:xfrm>
              <a:off x="1895400" y="4037040"/>
              <a:ext cx="609480" cy="76320"/>
              <a:chOff x="1895400" y="4037040"/>
              <a:chExt cx="609480" cy="76320"/>
            </a:xfrm>
          </p:grpSpPr>
          <p:sp>
            <p:nvSpPr>
              <p:cNvPr id="214" name=""/>
              <p:cNvSpPr/>
              <p:nvPr/>
            </p:nvSpPr>
            <p:spPr>
              <a:xfrm>
                <a:off x="1895400" y="411336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89540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50488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504880" y="4037040"/>
              <a:ext cx="609480" cy="76320"/>
              <a:chOff x="2504880" y="4037040"/>
              <a:chExt cx="609480" cy="76320"/>
            </a:xfrm>
          </p:grpSpPr>
          <p:sp>
            <p:nvSpPr>
              <p:cNvPr id="218" name=""/>
              <p:cNvSpPr/>
              <p:nvPr/>
            </p:nvSpPr>
            <p:spPr>
              <a:xfrm>
                <a:off x="2504880" y="411336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50488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11436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114720" y="4037040"/>
              <a:ext cx="609480" cy="76320"/>
              <a:chOff x="3114720" y="4037040"/>
              <a:chExt cx="609480" cy="76320"/>
            </a:xfrm>
          </p:grpSpPr>
          <p:sp>
            <p:nvSpPr>
              <p:cNvPr id="222" name=""/>
              <p:cNvSpPr/>
              <p:nvPr/>
            </p:nvSpPr>
            <p:spPr>
              <a:xfrm>
                <a:off x="3114720" y="411336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11472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72420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724200" y="4037040"/>
              <a:ext cx="609480" cy="76320"/>
              <a:chOff x="3724200" y="4037040"/>
              <a:chExt cx="609480" cy="76320"/>
            </a:xfrm>
          </p:grpSpPr>
          <p:sp>
            <p:nvSpPr>
              <p:cNvPr id="226" name=""/>
              <p:cNvSpPr/>
              <p:nvPr/>
            </p:nvSpPr>
            <p:spPr>
              <a:xfrm>
                <a:off x="3724200" y="411336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372420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433368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333680" y="4037040"/>
              <a:ext cx="609480" cy="76320"/>
              <a:chOff x="4333680" y="4037040"/>
              <a:chExt cx="609480" cy="76320"/>
            </a:xfrm>
          </p:grpSpPr>
          <p:sp>
            <p:nvSpPr>
              <p:cNvPr id="230" name=""/>
              <p:cNvSpPr/>
              <p:nvPr/>
            </p:nvSpPr>
            <p:spPr>
              <a:xfrm>
                <a:off x="4333680" y="411336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33368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943160" y="4037040"/>
                <a:ext cx="0" cy="763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76440" y="4494240"/>
            <a:ext cx="121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76080" y="3808440"/>
            <a:ext cx="1218960" cy="152280"/>
            <a:chOff x="676080" y="3808440"/>
            <a:chExt cx="1218960" cy="152280"/>
          </a:xfrm>
        </p:grpSpPr>
        <p:sp>
          <p:nvSpPr>
            <p:cNvPr id="235" name=""/>
            <p:cNvSpPr/>
            <p:nvPr/>
          </p:nvSpPr>
          <p:spPr>
            <a:xfrm>
              <a:off x="752400" y="38847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61880" y="38847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209600" y="3808440"/>
              <a:ext cx="75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285200" y="380844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6080" y="38847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9080" y="38847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438200" y="2741760"/>
            <a:ext cx="106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33640" y="3046320"/>
            <a:ext cx="380880" cy="722880"/>
            <a:chOff x="1133640" y="3046320"/>
            <a:chExt cx="380880" cy="722880"/>
          </a:xfrm>
        </p:grpSpPr>
        <p:sp>
          <p:nvSpPr>
            <p:cNvPr id="243" name=""/>
            <p:cNvSpPr/>
            <p:nvPr/>
          </p:nvSpPr>
          <p:spPr>
            <a:xfrm>
              <a:off x="1133640" y="3046320"/>
              <a:ext cx="3808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33640" y="335124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95400" y="3808440"/>
            <a:ext cx="3048120" cy="152280"/>
            <a:chOff x="1895400" y="3808440"/>
            <a:chExt cx="3048120" cy="152280"/>
          </a:xfrm>
        </p:grpSpPr>
        <p:sp>
          <p:nvSpPr>
            <p:cNvPr id="246" name=""/>
            <p:cNvSpPr/>
            <p:nvPr/>
          </p:nvSpPr>
          <p:spPr>
            <a:xfrm>
              <a:off x="1971720" y="3884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5600" y="3884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895400" y="3884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343320" y="380844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19280" y="380844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67200" y="3884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76440" y="457056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76440" y="4265280"/>
            <a:ext cx="4267080" cy="228960"/>
            <a:chOff x="676440" y="4265280"/>
            <a:chExt cx="4267080" cy="228960"/>
          </a:xfrm>
        </p:grpSpPr>
        <p:sp>
          <p:nvSpPr>
            <p:cNvPr id="254" name=""/>
            <p:cNvSpPr/>
            <p:nvPr/>
          </p:nvSpPr>
          <p:spPr>
            <a:xfrm>
              <a:off x="752760" y="4417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86120" y="44179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676440" y="42652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3840" y="441792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09800" y="441792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867560" y="42652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81200" y="44942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67000" y="3046320"/>
            <a:ext cx="838080" cy="784800"/>
            <a:chOff x="3267000" y="3046320"/>
            <a:chExt cx="838080" cy="784800"/>
          </a:xfrm>
        </p:grpSpPr>
        <p:sp>
          <p:nvSpPr>
            <p:cNvPr id="262" name=""/>
            <p:cNvSpPr/>
            <p:nvPr/>
          </p:nvSpPr>
          <p:spPr>
            <a:xfrm>
              <a:off x="3267000" y="3046320"/>
              <a:ext cx="838080" cy="7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7000" y="33512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1033560" y="5087880"/>
          <a:ext cx="2738520" cy="98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33560" y="5087880"/>
                    <a:ext cx="27385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930480" y="4689360"/>
            <a:ext cx="2374920" cy="1549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6645240" y="2919240"/>
            <a:ext cx="1370160" cy="222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4794120" y="1436760"/>
          <a:ext cx="273852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94120" y="1436760"/>
                    <a:ext cx="273852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189080" y="1436760"/>
          <a:ext cx="2805120" cy="100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9080" y="1436760"/>
                    <a:ext cx="28051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708200" y="888840"/>
            <a:ext cx="1523880" cy="457200"/>
          </a:xfrm>
          <a:prstGeom prst="wedgeRectCallout">
            <a:avLst>
              <a:gd name="adj1" fmla="val 32189"/>
              <a:gd name="adj2" fmla="val 71527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子相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0600" y="2610000"/>
            <a:ext cx="1447920" cy="479160"/>
          </a:xfrm>
          <a:prstGeom prst="wedgeRectCallout">
            <a:avLst>
              <a:gd name="adj1" fmla="val 55481"/>
              <a:gd name="adj2" fmla="val -172185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母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03880" y="839880"/>
            <a:ext cx="1447920" cy="457200"/>
          </a:xfrm>
          <a:prstGeom prst="wedgeRectCallout">
            <a:avLst>
              <a:gd name="adj1" fmla="val 43750"/>
              <a:gd name="adj2" fmla="val 69097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子相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64320" y="2610000"/>
            <a:ext cx="1447560" cy="479160"/>
          </a:xfrm>
          <a:prstGeom prst="wedgeRectCallout">
            <a:avLst>
              <a:gd name="adj1" fmla="val 55703"/>
              <a:gd name="adj2" fmla="val -165231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母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2320" y="5043600"/>
            <a:ext cx="80773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隶书"/>
              </a:rPr>
              <a:t>同分母分数相加，分子相加，分母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92160" y="3525840"/>
            <a:ext cx="2362320" cy="1219320"/>
            <a:chOff x="992160" y="3525840"/>
            <a:chExt cx="2362320" cy="1219320"/>
          </a:xfrm>
        </p:grpSpPr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992160" y="352584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058840" y="383076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归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4659480" y="3459240"/>
          <a:ext cx="2106360" cy="11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9480" y="3459240"/>
                    <a:ext cx="21063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969480" y="824040"/>
            <a:ext cx="7435080" cy="2226960"/>
            <a:chOff x="969480" y="824040"/>
            <a:chExt cx="7435080" cy="2226960"/>
          </a:xfrm>
        </p:grpSpPr>
        <p:sp>
          <p:nvSpPr>
            <p:cNvPr id="283" name=""/>
            <p:cNvSpPr/>
            <p:nvPr/>
          </p:nvSpPr>
          <p:spPr>
            <a:xfrm>
              <a:off x="969480" y="824040"/>
              <a:ext cx="7435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王老师拿来一张硬纸，做数字卡片式题卡片一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用了这张纸的       ，做数字卡片用了这张纸的 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做式题卡片用了这张纸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701120" y="1452240"/>
              <a:ext cx="457200" cy="958320"/>
              <a:chOff x="7701120" y="1452240"/>
              <a:chExt cx="457200" cy="958320"/>
            </a:xfrm>
          </p:grpSpPr>
          <p:sp>
            <p:nvSpPr>
              <p:cNvPr id="285" name=""/>
              <p:cNvSpPr/>
              <p:nvPr/>
            </p:nvSpPr>
            <p:spPr>
              <a:xfrm>
                <a:off x="7772400" y="1452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01120" y="1918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88240" y="1890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824200" y="1461960"/>
              <a:ext cx="457200" cy="958320"/>
              <a:chOff x="2824200" y="1461960"/>
              <a:chExt cx="457200" cy="958320"/>
            </a:xfrm>
          </p:grpSpPr>
          <p:sp>
            <p:nvSpPr>
              <p:cNvPr id="289" name=""/>
              <p:cNvSpPr/>
              <p:nvPr/>
            </p:nvSpPr>
            <p:spPr>
              <a:xfrm>
                <a:off x="2895480" y="1461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24200" y="192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11320" y="189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 rot="16214400">
            <a:off x="2661840" y="3135240"/>
            <a:ext cx="311040" cy="3813120"/>
          </a:xfrm>
          <a:custGeom>
            <a:avLst/>
            <a:gdLst>
              <a:gd name="textAreaLeft" fmla="*/ 198720 w 311040"/>
              <a:gd name="textAreaRight" fmla="*/ 311400 w 311040"/>
              <a:gd name="textAreaTop" fmla="*/ 99360 h 3813120"/>
              <a:gd name="textAreaBottom" fmla="*/ 3713760 h 381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54200" y="5197320"/>
            <a:ext cx="457200" cy="958680"/>
            <a:chOff x="2554200" y="5197320"/>
            <a:chExt cx="457200" cy="958680"/>
          </a:xfrm>
        </p:grpSpPr>
        <p:sp>
          <p:nvSpPr>
            <p:cNvPr id="294" name=""/>
            <p:cNvSpPr/>
            <p:nvPr/>
          </p:nvSpPr>
          <p:spPr>
            <a:xfrm>
              <a:off x="2625480" y="5197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54200" y="566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41320" y="563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911160" y="3666960"/>
            <a:ext cx="5334120" cy="1219320"/>
            <a:chOff x="911160" y="3666960"/>
            <a:chExt cx="5334120" cy="1219320"/>
          </a:xfrm>
        </p:grpSpPr>
        <p:grpSp>
          <p:nvGrpSpPr>
            <p:cNvPr id="298" name=""/>
            <p:cNvGrpSpPr/>
            <p:nvPr/>
          </p:nvGrpSpPr>
          <p:grpSpPr>
            <a:xfrm>
              <a:off x="911160" y="3666960"/>
              <a:ext cx="5334120" cy="1219320"/>
              <a:chOff x="911160" y="3666960"/>
              <a:chExt cx="5334120" cy="121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911160" y="366696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911160" y="4886280"/>
                <a:ext cx="533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11160" y="366696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45280" y="366696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48316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104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9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9716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3504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3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1160" y="3666960"/>
            <a:ext cx="2286000" cy="1219320"/>
            <a:chOff x="911160" y="3666960"/>
            <a:chExt cx="2286000" cy="1219320"/>
          </a:xfrm>
        </p:grpSpPr>
        <p:sp>
          <p:nvSpPr>
            <p:cNvPr id="310" name=""/>
            <p:cNvSpPr/>
            <p:nvPr/>
          </p:nvSpPr>
          <p:spPr>
            <a:xfrm>
              <a:off x="1673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3504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716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11160" y="3666960"/>
              <a:ext cx="2286000" cy="1219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504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3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197160" y="3666960"/>
            <a:ext cx="1523880" cy="1219320"/>
            <a:chOff x="3197160" y="3666960"/>
            <a:chExt cx="1523880" cy="1219320"/>
          </a:xfrm>
        </p:grpSpPr>
        <p:sp>
          <p:nvSpPr>
            <p:cNvPr id="317" name=""/>
            <p:cNvSpPr/>
            <p:nvPr/>
          </p:nvSpPr>
          <p:spPr>
            <a:xfrm>
              <a:off x="3959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97160" y="3666960"/>
              <a:ext cx="1523880" cy="1219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9280" y="3666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825560" y="3747960"/>
            <a:ext cx="457200" cy="987120"/>
            <a:chOff x="1825560" y="3747960"/>
            <a:chExt cx="457200" cy="987120"/>
          </a:xfrm>
        </p:grpSpPr>
        <p:sp>
          <p:nvSpPr>
            <p:cNvPr id="322" name=""/>
            <p:cNvSpPr/>
            <p:nvPr/>
          </p:nvSpPr>
          <p:spPr>
            <a:xfrm>
              <a:off x="1887480" y="374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8920" y="4214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25560" y="4243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825720" y="3924360"/>
            <a:ext cx="28584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6365880" y="3733920"/>
          <a:ext cx="26686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5880" y="3733920"/>
                    <a:ext cx="26686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4308480" y="5113440"/>
            <a:ext cx="1498680" cy="126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343160" y="2895480"/>
          <a:ext cx="36036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2895480"/>
                    <a:ext cx="3603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609480" y="4190760"/>
            <a:ext cx="609480" cy="76320"/>
            <a:chOff x="609480" y="4190760"/>
            <a:chExt cx="609480" cy="76320"/>
          </a:xfrm>
        </p:grpSpPr>
        <p:sp>
          <p:nvSpPr>
            <p:cNvPr id="332" name=""/>
            <p:cNvSpPr/>
            <p:nvPr/>
          </p:nvSpPr>
          <p:spPr>
            <a:xfrm>
              <a:off x="60948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0948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21896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219320" y="4190760"/>
            <a:ext cx="609480" cy="76320"/>
            <a:chOff x="1219320" y="4190760"/>
            <a:chExt cx="609480" cy="76320"/>
          </a:xfrm>
        </p:grpSpPr>
        <p:sp>
          <p:nvSpPr>
            <p:cNvPr id="336" name=""/>
            <p:cNvSpPr/>
            <p:nvPr/>
          </p:nvSpPr>
          <p:spPr>
            <a:xfrm>
              <a:off x="121932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21932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82880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28800" y="4190760"/>
            <a:ext cx="609480" cy="76320"/>
            <a:chOff x="1828800" y="4190760"/>
            <a:chExt cx="609480" cy="76320"/>
          </a:xfrm>
        </p:grpSpPr>
        <p:sp>
          <p:nvSpPr>
            <p:cNvPr id="340" name=""/>
            <p:cNvSpPr/>
            <p:nvPr/>
          </p:nvSpPr>
          <p:spPr>
            <a:xfrm>
              <a:off x="182880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880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43828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438280" y="4190760"/>
            <a:ext cx="609480" cy="76320"/>
            <a:chOff x="2438280" y="4190760"/>
            <a:chExt cx="609480" cy="76320"/>
          </a:xfrm>
        </p:grpSpPr>
        <p:sp>
          <p:nvSpPr>
            <p:cNvPr id="344" name=""/>
            <p:cNvSpPr/>
            <p:nvPr/>
          </p:nvSpPr>
          <p:spPr>
            <a:xfrm>
              <a:off x="243828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43828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4776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048120" y="4190760"/>
            <a:ext cx="609480" cy="76320"/>
            <a:chOff x="3048120" y="4190760"/>
            <a:chExt cx="609480" cy="76320"/>
          </a:xfrm>
        </p:grpSpPr>
        <p:sp>
          <p:nvSpPr>
            <p:cNvPr id="348" name=""/>
            <p:cNvSpPr/>
            <p:nvPr/>
          </p:nvSpPr>
          <p:spPr>
            <a:xfrm>
              <a:off x="304812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04812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65760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57600" y="4190760"/>
            <a:ext cx="609480" cy="76320"/>
            <a:chOff x="3657600" y="4190760"/>
            <a:chExt cx="609480" cy="76320"/>
          </a:xfrm>
        </p:grpSpPr>
        <p:sp>
          <p:nvSpPr>
            <p:cNvPr id="352" name=""/>
            <p:cNvSpPr/>
            <p:nvPr/>
          </p:nvSpPr>
          <p:spPr>
            <a:xfrm>
              <a:off x="365760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65760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26708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267080" y="4190760"/>
            <a:ext cx="609480" cy="76320"/>
            <a:chOff x="4267080" y="4190760"/>
            <a:chExt cx="609480" cy="76320"/>
          </a:xfrm>
        </p:grpSpPr>
        <p:sp>
          <p:nvSpPr>
            <p:cNvPr id="356" name=""/>
            <p:cNvSpPr/>
            <p:nvPr/>
          </p:nvSpPr>
          <p:spPr>
            <a:xfrm>
              <a:off x="426708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6708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87656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876920" y="4190760"/>
            <a:ext cx="609480" cy="76320"/>
            <a:chOff x="4876920" y="4190760"/>
            <a:chExt cx="609480" cy="76320"/>
          </a:xfrm>
        </p:grpSpPr>
        <p:sp>
          <p:nvSpPr>
            <p:cNvPr id="360" name=""/>
            <p:cNvSpPr/>
            <p:nvPr/>
          </p:nvSpPr>
          <p:spPr>
            <a:xfrm>
              <a:off x="4876920" y="4267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87692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86400" y="41907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9480" y="4190760"/>
            <a:ext cx="1218960" cy="76320"/>
            <a:chOff x="609480" y="4190760"/>
            <a:chExt cx="1218960" cy="76320"/>
          </a:xfrm>
        </p:grpSpPr>
        <p:grpSp>
          <p:nvGrpSpPr>
            <p:cNvPr id="364" name=""/>
            <p:cNvGrpSpPr/>
            <p:nvPr/>
          </p:nvGrpSpPr>
          <p:grpSpPr>
            <a:xfrm>
              <a:off x="609480" y="4190760"/>
              <a:ext cx="609480" cy="76320"/>
              <a:chOff x="609480" y="4190760"/>
              <a:chExt cx="609480" cy="76320"/>
            </a:xfrm>
          </p:grpSpPr>
          <p:sp>
            <p:nvSpPr>
              <p:cNvPr id="365" name=""/>
              <p:cNvSpPr/>
              <p:nvPr/>
            </p:nvSpPr>
            <p:spPr>
              <a:xfrm>
                <a:off x="609480" y="4267080"/>
                <a:ext cx="6094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609480" y="4190760"/>
                <a:ext cx="0" cy="75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218960" y="4190760"/>
                <a:ext cx="0" cy="75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218960" y="4190760"/>
              <a:ext cx="609480" cy="76320"/>
              <a:chOff x="1218960" y="4190760"/>
              <a:chExt cx="609480" cy="76320"/>
            </a:xfrm>
          </p:grpSpPr>
          <p:sp>
            <p:nvSpPr>
              <p:cNvPr id="369" name=""/>
              <p:cNvSpPr/>
              <p:nvPr/>
            </p:nvSpPr>
            <p:spPr>
              <a:xfrm>
                <a:off x="1218960" y="4267080"/>
                <a:ext cx="6094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218960" y="4190760"/>
                <a:ext cx="0" cy="75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828440" y="4190760"/>
                <a:ext cx="0" cy="75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1828800" y="4190760"/>
            <a:ext cx="3047760" cy="76320"/>
            <a:chOff x="1828800" y="4190760"/>
            <a:chExt cx="3047760" cy="76320"/>
          </a:xfrm>
        </p:grpSpPr>
        <p:grpSp>
          <p:nvGrpSpPr>
            <p:cNvPr id="373" name=""/>
            <p:cNvGrpSpPr/>
            <p:nvPr/>
          </p:nvGrpSpPr>
          <p:grpSpPr>
            <a:xfrm>
              <a:off x="1828800" y="4190760"/>
              <a:ext cx="609480" cy="76320"/>
              <a:chOff x="1828800" y="4190760"/>
              <a:chExt cx="609480" cy="76320"/>
            </a:xfrm>
          </p:grpSpPr>
          <p:sp>
            <p:nvSpPr>
              <p:cNvPr id="374" name=""/>
              <p:cNvSpPr/>
              <p:nvPr/>
            </p:nvSpPr>
            <p:spPr>
              <a:xfrm>
                <a:off x="1828800" y="426708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82880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43828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438280" y="4190760"/>
              <a:ext cx="609480" cy="76320"/>
              <a:chOff x="2438280" y="4190760"/>
              <a:chExt cx="609480" cy="76320"/>
            </a:xfrm>
          </p:grpSpPr>
          <p:sp>
            <p:nvSpPr>
              <p:cNvPr id="378" name=""/>
              <p:cNvSpPr/>
              <p:nvPr/>
            </p:nvSpPr>
            <p:spPr>
              <a:xfrm>
                <a:off x="2438280" y="426708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43828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04776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048120" y="4190760"/>
              <a:ext cx="609480" cy="76320"/>
              <a:chOff x="3048120" y="4190760"/>
              <a:chExt cx="609480" cy="76320"/>
            </a:xfrm>
          </p:grpSpPr>
          <p:sp>
            <p:nvSpPr>
              <p:cNvPr id="382" name=""/>
              <p:cNvSpPr/>
              <p:nvPr/>
            </p:nvSpPr>
            <p:spPr>
              <a:xfrm>
                <a:off x="3048120" y="426708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04812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365760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657600" y="4190760"/>
              <a:ext cx="609480" cy="76320"/>
              <a:chOff x="3657600" y="4190760"/>
              <a:chExt cx="609480" cy="76320"/>
            </a:xfrm>
          </p:grpSpPr>
          <p:sp>
            <p:nvSpPr>
              <p:cNvPr id="386" name=""/>
              <p:cNvSpPr/>
              <p:nvPr/>
            </p:nvSpPr>
            <p:spPr>
              <a:xfrm>
                <a:off x="3657600" y="426708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65760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26708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267080" y="4190760"/>
              <a:ext cx="609480" cy="76320"/>
              <a:chOff x="4267080" y="4190760"/>
              <a:chExt cx="609480" cy="7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4267080" y="4267080"/>
                <a:ext cx="6094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426708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4876560" y="4190760"/>
                <a:ext cx="0" cy="759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09120" y="3962520"/>
            <a:ext cx="1828440" cy="228240"/>
            <a:chOff x="609120" y="3962520"/>
            <a:chExt cx="1828440" cy="228240"/>
          </a:xfrm>
        </p:grpSpPr>
        <p:sp>
          <p:nvSpPr>
            <p:cNvPr id="394" name=""/>
            <p:cNvSpPr/>
            <p:nvPr/>
          </p:nvSpPr>
          <p:spPr>
            <a:xfrm>
              <a:off x="723600" y="40770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7640" y="40770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409400" y="3962520"/>
              <a:ext cx="1137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1523160" y="396252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09120" y="407700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23440" y="407700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38280" y="3962520"/>
            <a:ext cx="2438280" cy="228240"/>
            <a:chOff x="2438280" y="3962520"/>
            <a:chExt cx="2438280" cy="228240"/>
          </a:xfrm>
        </p:grpSpPr>
        <p:sp>
          <p:nvSpPr>
            <p:cNvPr id="401" name=""/>
            <p:cNvSpPr/>
            <p:nvPr/>
          </p:nvSpPr>
          <p:spPr>
            <a:xfrm>
              <a:off x="2499120" y="4077000"/>
              <a:ext cx="10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18440" y="4077000"/>
              <a:ext cx="10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438280" y="4077000"/>
              <a:ext cx="60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596400" y="3962520"/>
              <a:ext cx="60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3656880" y="3962520"/>
              <a:ext cx="608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5720" y="4077000"/>
              <a:ext cx="60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09480" y="4419360"/>
            <a:ext cx="4267080" cy="228960"/>
            <a:chOff x="609480" y="4419360"/>
            <a:chExt cx="4267080" cy="228960"/>
          </a:xfrm>
        </p:grpSpPr>
        <p:sp>
          <p:nvSpPr>
            <p:cNvPr id="408" name=""/>
            <p:cNvSpPr/>
            <p:nvPr/>
          </p:nvSpPr>
          <p:spPr>
            <a:xfrm>
              <a:off x="685800" y="4572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19160" y="45720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09480" y="44193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6880" y="457200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742840" y="457200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800600" y="441936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4" name=""/>
          <p:cNvGraphicFramePr/>
          <p:nvPr/>
        </p:nvGraphicFramePr>
        <p:xfrm>
          <a:off x="2543040" y="4648320"/>
          <a:ext cx="343080" cy="92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43040" y="4648320"/>
                    <a:ext cx="343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516840" y="3243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90400" y="808200"/>
            <a:ext cx="8042400" cy="2043360"/>
            <a:chOff x="590400" y="808200"/>
            <a:chExt cx="8042400" cy="2043360"/>
          </a:xfrm>
        </p:grpSpPr>
        <p:sp>
          <p:nvSpPr>
            <p:cNvPr id="418" name=""/>
            <p:cNvSpPr/>
            <p:nvPr/>
          </p:nvSpPr>
          <p:spPr>
            <a:xfrm>
              <a:off x="590400" y="1033560"/>
              <a:ext cx="80424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一堆煤，两天一共用去这堆煤的      ，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天用去它的      。第二天用去这堆煤的几分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几？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9" name=""/>
            <p:cNvGraphicFramePr/>
            <p:nvPr/>
          </p:nvGraphicFramePr>
          <p:xfrm>
            <a:off x="6800760" y="808200"/>
            <a:ext cx="342720" cy="92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00760" y="808200"/>
                      <a:ext cx="342720" cy="92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"/>
            <p:cNvGraphicFramePr/>
            <p:nvPr/>
          </p:nvGraphicFramePr>
          <p:xfrm>
            <a:off x="2912760" y="1436760"/>
            <a:ext cx="360360" cy="97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12760" y="1436760"/>
                      <a:ext cx="360360" cy="9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"/>
          <p:cNvGraphicFramePr/>
          <p:nvPr/>
        </p:nvGraphicFramePr>
        <p:xfrm>
          <a:off x="4705200" y="4680000"/>
          <a:ext cx="3737160" cy="109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05200" y="4680000"/>
                    <a:ext cx="37371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5" name="" descr=""/>
          <p:cNvPicPr/>
          <p:nvPr/>
        </p:nvPicPr>
        <p:blipFill>
          <a:blip r:embed="rId12"/>
          <a:stretch/>
        </p:blipFill>
        <p:spPr>
          <a:xfrm>
            <a:off x="5719680" y="2440080"/>
            <a:ext cx="2219400" cy="1616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3"/>
          <a:stretch/>
        </p:blipFill>
        <p:spPr>
          <a:xfrm>
            <a:off x="1031760" y="5226120"/>
            <a:ext cx="1590840" cy="1217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1212840" y="1486080"/>
          <a:ext cx="2668680" cy="9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486080"/>
                    <a:ext cx="26686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068800" y="1486080"/>
          <a:ext cx="3273480" cy="96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68800" y="1486080"/>
                    <a:ext cx="32734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795320" y="685800"/>
            <a:ext cx="1524240" cy="457200"/>
          </a:xfrm>
          <a:prstGeom prst="wedgeRectCallout">
            <a:avLst>
              <a:gd name="adj1" fmla="val 26458"/>
              <a:gd name="adj2" fmla="val 115972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子相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78080" y="2406600"/>
            <a:ext cx="1447920" cy="479520"/>
          </a:xfrm>
          <a:prstGeom prst="wedgeRectCallout">
            <a:avLst>
              <a:gd name="adj1" fmla="val 49453"/>
              <a:gd name="adj2" fmla="val -129800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母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94400" y="865080"/>
            <a:ext cx="1447920" cy="457200"/>
          </a:xfrm>
          <a:prstGeom prst="wedgeRectCallout">
            <a:avLst>
              <a:gd name="adj1" fmla="val 37717"/>
              <a:gd name="adj2" fmla="val 113541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子相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68880" y="2646360"/>
            <a:ext cx="1447920" cy="479520"/>
          </a:xfrm>
          <a:prstGeom prst="wedgeRectCallout">
            <a:avLst>
              <a:gd name="adj1" fmla="val 49671"/>
              <a:gd name="adj2" fmla="val -122847"/>
            </a:avLst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母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0560" y="5070600"/>
            <a:ext cx="7758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隶书"/>
              </a:rPr>
              <a:t>同分母分数相减，分子相减，分母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295280" y="3481560"/>
            <a:ext cx="2362320" cy="1218960"/>
            <a:chOff x="1295280" y="3481560"/>
            <a:chExt cx="2362320" cy="1218960"/>
          </a:xfrm>
        </p:grpSpPr>
        <p:pic>
          <p:nvPicPr>
            <p:cNvPr id="437" name="" descr=""/>
            <p:cNvPicPr/>
            <p:nvPr/>
          </p:nvPicPr>
          <p:blipFill>
            <a:blip r:embed="rId6"/>
            <a:stretch/>
          </p:blipFill>
          <p:spPr>
            <a:xfrm>
              <a:off x="1295280" y="348156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361960" y="378612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归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4167360" y="3181320"/>
            <a:ext cx="2116080" cy="167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5:44:30Z</dcterms:created>
  <dc:creator>河北远东博克文化传播有限公司</dc:creator>
  <dc:description/>
  <dc:language>en-US</dc:language>
  <cp:lastModifiedBy>番茄花园</cp:lastModifiedBy>
  <dcterms:modified xsi:type="dcterms:W3CDTF">2015-01-24T09:13:24Z</dcterms:modified>
  <cp:revision>253</cp:revision>
  <dc:subject/>
  <dc:title>5 分数的加法和减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  <property fmtid="{D5CDD505-2E9C-101B-9397-08002B2CF9AE}" pid="3" name="Version">
    <vt:r8>1</vt:r8>
  </property>
</Properties>
</file>