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30.wmf" ContentType="image/x-wmf"/>
  <Override PartName="/ppt/media/image13.jpeg" ContentType="image/jpeg"/>
  <Override PartName="/ppt/media/image32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6.wmf" ContentType="image/x-wmf"/>
  <Override PartName="/ppt/media/image37.wmf" ContentType="image/x-wmf"/>
  <Override PartName="/ppt/media/image31.wmf" ContentType="image/x-wmf"/>
  <Override PartName="/ppt/media/image7.jpeg" ContentType="image/jpeg"/>
  <Override PartName="/ppt/media/image5.jpeg" ContentType="image/jpeg"/>
  <Override PartName="/ppt/media/image4.jpeg" ContentType="image/jpeg"/>
  <Override PartName="/ppt/media/image28.wmf" ContentType="image/x-wmf"/>
  <Override PartName="/ppt/media/image3.jpeg" ContentType="image/jpeg"/>
  <Override PartName="/ppt/media/image16.jpeg" ContentType="image/jpeg"/>
  <Override PartName="/ppt/media/image35.wmf" ContentType="image/x-wmf"/>
  <Override PartName="/ppt/media/image2.jpeg" ContentType="image/jpeg"/>
  <Override PartName="/ppt/media/image1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FB2-B5BD-452B-90EB-16EA0B9D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FE8-77DF-4EFC-A9EC-C3E424C8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E85-9068-4191-9996-A2EACEAA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8AB-755D-4321-A517-2C4A3B48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35E-68FD-4949-8CD0-126C6B57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C1A-E1C7-480B-87BF-A95B1052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B05-B8CD-48DD-B69C-45D1BC63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B2A-C6A1-4B1A-89C5-2439AE87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FE8-63FD-441F-89B7-69B4B0F5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906-EE56-4DDF-ACEE-02E2A87E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423-EACF-4860-B892-3E5DF26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69B-6C67-43AE-9EAF-ED7871D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A143-0D98-4F1C-9967-BE5848ADE4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7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image" Target="../media/image30.wmf"/><Relationship Id="rId19" Type="http://schemas.openxmlformats.org/officeDocument/2006/relationships/image" Target="../media/image31.wmf"/><Relationship Id="rId20" Type="http://schemas.openxmlformats.org/officeDocument/2006/relationships/image" Target="../media/image32.wmf"/><Relationship Id="rId21" Type="http://schemas.openxmlformats.org/officeDocument/2006/relationships/image" Target="../media/image33.wmf"/><Relationship Id="rId22" Type="http://schemas.openxmlformats.org/officeDocument/2006/relationships/image" Target="../media/image34.wmf"/><Relationship Id="rId23" Type="http://schemas.openxmlformats.org/officeDocument/2006/relationships/image" Target="../media/image35.wmf"/><Relationship Id="rId24" Type="http://schemas.openxmlformats.org/officeDocument/2006/relationships/image" Target="../media/image26.wmf"/><Relationship Id="rId25" Type="http://schemas.openxmlformats.org/officeDocument/2006/relationships/image" Target="../media/image36.wmf"/><Relationship Id="rId26" Type="http://schemas.openxmlformats.org/officeDocument/2006/relationships/image" Target="../media/image37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7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image" Target="../media/image30.wmf"/><Relationship Id="rId19" Type="http://schemas.openxmlformats.org/officeDocument/2006/relationships/image" Target="../media/image31.wmf"/><Relationship Id="rId20" Type="http://schemas.openxmlformats.org/officeDocument/2006/relationships/image" Target="../media/image32.wmf"/><Relationship Id="rId21" Type="http://schemas.openxmlformats.org/officeDocument/2006/relationships/image" Target="../media/image33.wmf"/><Relationship Id="rId22" Type="http://schemas.openxmlformats.org/officeDocument/2006/relationships/image" Target="../media/image34.wmf"/><Relationship Id="rId23" Type="http://schemas.openxmlformats.org/officeDocument/2006/relationships/image" Target="../media/image35.wmf"/><Relationship Id="rId24" Type="http://schemas.openxmlformats.org/officeDocument/2006/relationships/image" Target="../media/image26.wmf"/><Relationship Id="rId25" Type="http://schemas.openxmlformats.org/officeDocument/2006/relationships/image" Target="../media/image36.wmf"/><Relationship Id="rId26" Type="http://schemas.openxmlformats.org/officeDocument/2006/relationships/image" Target="../media/image37.wmf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3068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分数与除法的关系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8001000" cy="5333760"/>
            <a:chOff x="0" y="0"/>
            <a:chExt cx="8001000" cy="5333760"/>
          </a:xfrm>
        </p:grpSpPr>
        <p:sp>
          <p:nvSpPr>
            <p:cNvPr id="141" name=""/>
            <p:cNvSpPr/>
            <p:nvPr/>
          </p:nvSpPr>
          <p:spPr>
            <a:xfrm>
              <a:off x="990720" y="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把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块饼平均分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位同学，每个同学分得多少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2280" y="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0000"/>
                  </a:solidFill>
                  <a:latin typeface="Times New Roman"/>
                </a:rPr>
                <a:t>例</a:t>
              </a:r>
              <a:r>
                <a:rPr b="0" lang="en-US" sz="36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048120"/>
              <a:ext cx="809640" cy="943920"/>
              <a:chOff x="0" y="3048120"/>
              <a:chExt cx="809640" cy="9439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222360"/>
                <a:ext cx="809640" cy="769680"/>
              </a:xfrm>
              <a:prstGeom prst="rect">
                <a:avLst/>
              </a:prstGeom>
              <a:ln w="9360">
                <a:solidFill>
                  <a:srgbClr val="00cc00"/>
                </a:solidFill>
                <a:miter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125520"/>
                <a:ext cx="809640" cy="769680"/>
              </a:xfrm>
              <a:prstGeom prst="rect">
                <a:avLst/>
              </a:prstGeom>
              <a:ln w="9360">
                <a:solidFill>
                  <a:srgbClr val="00cc00"/>
                </a:solidFill>
                <a:miter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048120"/>
                <a:ext cx="809640" cy="769680"/>
              </a:xfrm>
              <a:prstGeom prst="rect">
                <a:avLst/>
              </a:prstGeom>
              <a:ln w="9360">
                <a:solidFill>
                  <a:srgbClr val="00cc00"/>
                </a:solidFill>
                <a:miter/>
              </a:ln>
            </p:spPr>
          </p:pic>
        </p:grpSp>
        <p:grpSp>
          <p:nvGrpSpPr>
            <p:cNvPr id="147" name=""/>
            <p:cNvGrpSpPr/>
            <p:nvPr/>
          </p:nvGrpSpPr>
          <p:grpSpPr>
            <a:xfrm>
              <a:off x="914400" y="1981080"/>
              <a:ext cx="1476360" cy="1011240"/>
              <a:chOff x="914400" y="1981080"/>
              <a:chExt cx="1476360" cy="101124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914400" y="2293920"/>
                <a:ext cx="619200" cy="69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1533600" y="1981080"/>
                <a:ext cx="857160" cy="783000"/>
                <a:chOff x="1533600" y="1981080"/>
                <a:chExt cx="857160" cy="7830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5"/>
                <a:srcRect l="47620" t="47631" r="-4760" b="-4746"/>
                <a:stretch/>
              </p:blipFill>
              <p:spPr>
                <a:xfrm>
                  <a:off x="1533600" y="2213640"/>
                  <a:ext cx="857160" cy="5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6"/>
                <a:srcRect l="47620" t="47631" r="-4760" b="-4746"/>
                <a:stretch/>
              </p:blipFill>
              <p:spPr>
                <a:xfrm>
                  <a:off x="1533600" y="2097360"/>
                  <a:ext cx="857160" cy="5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7"/>
                <a:srcRect l="47620" t="47631" r="-4760" b="-4746"/>
                <a:stretch/>
              </p:blipFill>
              <p:spPr>
                <a:xfrm>
                  <a:off x="1533600" y="1981080"/>
                  <a:ext cx="857160" cy="55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53" name=""/>
            <p:cNvGrpSpPr/>
            <p:nvPr/>
          </p:nvGrpSpPr>
          <p:grpSpPr>
            <a:xfrm>
              <a:off x="914400" y="2971800"/>
              <a:ext cx="1523520" cy="2361960"/>
              <a:chOff x="914400" y="2971800"/>
              <a:chExt cx="1523520" cy="23619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1009440" y="2971800"/>
                <a:ext cx="1142280" cy="733680"/>
                <a:chOff x="1009440" y="2971800"/>
                <a:chExt cx="1142280" cy="733680"/>
              </a:xfrm>
            </p:grpSpPr>
            <p:sp>
              <p:nvSpPr>
                <p:cNvPr id="155" name=""/>
                <p:cNvSpPr/>
                <p:nvPr/>
              </p:nvSpPr>
              <p:spPr>
                <a:xfrm flipV="1">
                  <a:off x="1009440" y="3298680"/>
                  <a:ext cx="523440" cy="23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6" name="" descr=""/>
                <p:cNvPicPr/>
                <p:nvPr/>
              </p:nvPicPr>
              <p:blipFill>
                <a:blip r:embed="rId8"/>
                <a:srcRect l="47620" t="47628" r="-4754" b="-4744"/>
                <a:stretch/>
              </p:blipFill>
              <p:spPr>
                <a:xfrm>
                  <a:off x="1532880" y="3182400"/>
                  <a:ext cx="618840" cy="52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9"/>
                <a:srcRect l="47620" t="47628" r="-4754" b="-4744"/>
                <a:stretch/>
              </p:blipFill>
              <p:spPr>
                <a:xfrm>
                  <a:off x="1532880" y="3088080"/>
                  <a:ext cx="618840" cy="52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10"/>
                <a:srcRect l="47620" t="47628" r="-4754" b="-4744"/>
                <a:stretch/>
              </p:blipFill>
              <p:spPr>
                <a:xfrm>
                  <a:off x="1532880" y="2971800"/>
                  <a:ext cx="618840" cy="52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9" name=""/>
              <p:cNvGrpSpPr/>
              <p:nvPr/>
            </p:nvGrpSpPr>
            <p:grpSpPr>
              <a:xfrm>
                <a:off x="961920" y="3611520"/>
                <a:ext cx="1476000" cy="824400"/>
                <a:chOff x="961920" y="3611520"/>
                <a:chExt cx="1476000" cy="824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961920" y="3822120"/>
                  <a:ext cx="571320" cy="23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1" name="" descr=""/>
                <p:cNvPicPr/>
                <p:nvPr/>
              </p:nvPicPr>
              <p:blipFill>
                <a:blip r:embed="rId11"/>
                <a:srcRect l="47620" t="47631" r="-4760" b="-4746"/>
                <a:stretch/>
              </p:blipFill>
              <p:spPr>
                <a:xfrm>
                  <a:off x="1533240" y="3843720"/>
                  <a:ext cx="904680" cy="592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12"/>
                <a:srcRect l="47620" t="47631" r="-4760" b="-4746"/>
                <a:stretch/>
              </p:blipFill>
              <p:spPr>
                <a:xfrm>
                  <a:off x="1533240" y="3727440"/>
                  <a:ext cx="904680" cy="591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3"/>
                <a:srcRect l="47620" t="47631" r="-4760" b="-4746"/>
                <a:stretch/>
              </p:blipFill>
              <p:spPr>
                <a:xfrm>
                  <a:off x="1533240" y="3611520"/>
                  <a:ext cx="904680" cy="591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4" name=""/>
              <p:cNvGrpSpPr/>
              <p:nvPr/>
            </p:nvGrpSpPr>
            <p:grpSpPr>
              <a:xfrm>
                <a:off x="914400" y="4113000"/>
                <a:ext cx="1523520" cy="1220760"/>
                <a:chOff x="914400" y="4113000"/>
                <a:chExt cx="1523520" cy="12207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14400" y="4113000"/>
                  <a:ext cx="666720" cy="75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6" name="" descr=""/>
                <p:cNvPicPr/>
                <p:nvPr/>
              </p:nvPicPr>
              <p:blipFill>
                <a:blip r:embed="rId14"/>
                <a:srcRect l="47620" t="47631" r="-4760" b="-4746"/>
                <a:stretch/>
              </p:blipFill>
              <p:spPr>
                <a:xfrm>
                  <a:off x="1533240" y="4636080"/>
                  <a:ext cx="904680" cy="697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rcRect l="47620" t="47631" r="-4760" b="-4746"/>
                <a:stretch/>
              </p:blipFill>
              <p:spPr>
                <a:xfrm>
                  <a:off x="1533240" y="4520160"/>
                  <a:ext cx="904680" cy="697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rcRect l="47620" t="47631" r="-4760" b="-4746"/>
                <a:stretch/>
              </p:blipFill>
              <p:spPr>
                <a:xfrm>
                  <a:off x="1533240" y="4403880"/>
                  <a:ext cx="904680" cy="697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69" name=""/>
            <p:cNvGrpSpPr/>
            <p:nvPr/>
          </p:nvGrpSpPr>
          <p:grpSpPr>
            <a:xfrm>
              <a:off x="1981080" y="1905120"/>
              <a:ext cx="1649520" cy="865080"/>
              <a:chOff x="1981080" y="1905120"/>
              <a:chExt cx="1649520" cy="865080"/>
            </a:xfrm>
          </p:grpSpPr>
          <p:sp>
            <p:nvSpPr>
              <p:cNvPr id="170" name=""/>
              <p:cNvSpPr/>
              <p:nvPr/>
            </p:nvSpPr>
            <p:spPr>
              <a:xfrm>
                <a:off x="1981080" y="2311560"/>
                <a:ext cx="6483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" descr=""/>
              <p:cNvPicPr/>
              <p:nvPr/>
            </p:nvPicPr>
            <p:blipFill>
              <a:blip r:embed="rId17"/>
              <a:srcRect l="0" t="-7125" r="50006" b="-2372"/>
              <a:stretch/>
            </p:blipFill>
            <p:spPr>
              <a:xfrm>
                <a:off x="2629440" y="1905120"/>
                <a:ext cx="484560" cy="86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8"/>
              <a:srcRect l="47623" t="47626" r="-4755" b="-4748"/>
              <a:stretch/>
            </p:blipFill>
            <p:spPr>
              <a:xfrm>
                <a:off x="3011040" y="2253240"/>
                <a:ext cx="619560" cy="487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1981080" y="2743200"/>
              <a:ext cx="1618920" cy="2545920"/>
              <a:chOff x="1981080" y="2743200"/>
              <a:chExt cx="1618920" cy="254592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2028240" y="3522240"/>
                <a:ext cx="1571400" cy="922320"/>
                <a:chOff x="2028240" y="3522240"/>
                <a:chExt cx="1571400" cy="922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028240" y="3929400"/>
                  <a:ext cx="571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6" name="" descr=""/>
                <p:cNvPicPr/>
                <p:nvPr/>
              </p:nvPicPr>
              <p:blipFill>
                <a:blip r:embed="rId19"/>
                <a:srcRect l="0" t="-7125" r="50006" b="-2372"/>
                <a:stretch/>
              </p:blipFill>
              <p:spPr>
                <a:xfrm>
                  <a:off x="2559960" y="3522240"/>
                  <a:ext cx="515880" cy="92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0"/>
                <a:srcRect l="47620" t="47628" r="-4754" b="-4744"/>
                <a:stretch/>
              </p:blipFill>
              <p:spPr>
                <a:xfrm>
                  <a:off x="2980800" y="3929400"/>
                  <a:ext cx="618840" cy="50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8" name=""/>
              <p:cNvGrpSpPr/>
              <p:nvPr/>
            </p:nvGrpSpPr>
            <p:grpSpPr>
              <a:xfrm>
                <a:off x="2028240" y="4394880"/>
                <a:ext cx="1523880" cy="894240"/>
                <a:chOff x="2028240" y="4394880"/>
                <a:chExt cx="1523880" cy="8942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028240" y="4860000"/>
                  <a:ext cx="571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0" name="" descr=""/>
                <p:cNvPicPr/>
                <p:nvPr/>
              </p:nvPicPr>
              <p:blipFill>
                <a:blip r:embed="rId21"/>
                <a:srcRect l="0" t="-7125" r="50006" b="-2372"/>
                <a:stretch/>
              </p:blipFill>
              <p:spPr>
                <a:xfrm>
                  <a:off x="2599560" y="4394880"/>
                  <a:ext cx="501120" cy="89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22"/>
                <a:srcRect l="47620" t="47628" r="-4754" b="-4744"/>
                <a:stretch/>
              </p:blipFill>
              <p:spPr>
                <a:xfrm>
                  <a:off x="3028320" y="4802040"/>
                  <a:ext cx="523800" cy="465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2" name=""/>
              <p:cNvGrpSpPr/>
              <p:nvPr/>
            </p:nvGrpSpPr>
            <p:grpSpPr>
              <a:xfrm>
                <a:off x="1981080" y="2743200"/>
                <a:ext cx="1618920" cy="975600"/>
                <a:chOff x="1981080" y="2743200"/>
                <a:chExt cx="1618920" cy="9756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981080" y="3252960"/>
                  <a:ext cx="618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4" name="" descr=""/>
                <p:cNvPicPr/>
                <p:nvPr/>
              </p:nvPicPr>
              <p:blipFill>
                <a:blip r:embed="rId23"/>
                <a:srcRect l="0" t="-7125" r="50006" b="-2372"/>
                <a:stretch/>
              </p:blipFill>
              <p:spPr>
                <a:xfrm>
                  <a:off x="2577240" y="2743200"/>
                  <a:ext cx="546840" cy="975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24"/>
                <a:srcRect l="47620" t="47628" r="-4754" b="-4744"/>
                <a:stretch/>
              </p:blipFill>
              <p:spPr>
                <a:xfrm>
                  <a:off x="3028680" y="3115080"/>
                  <a:ext cx="571320" cy="581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6" name=""/>
            <p:cNvSpPr/>
            <p:nvPr/>
          </p:nvSpPr>
          <p:spPr>
            <a:xfrm>
              <a:off x="1447920" y="121932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÷4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＝　（块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5"/>
            <a:stretch/>
          </p:blipFill>
          <p:spPr>
            <a:xfrm>
              <a:off x="2666880" y="1066680"/>
              <a:ext cx="762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28600" y="98820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886200" y="1981080"/>
              <a:ext cx="4114800" cy="2441160"/>
              <a:chOff x="3886200" y="1981080"/>
              <a:chExt cx="4114800" cy="2441160"/>
            </a:xfrm>
          </p:grpSpPr>
          <p:sp>
            <p:nvSpPr>
              <p:cNvPr id="190" name=""/>
              <p:cNvSpPr/>
              <p:nvPr/>
            </p:nvSpPr>
            <p:spPr>
              <a:xfrm>
                <a:off x="4343400" y="2133720"/>
                <a:ext cx="3306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95800" y="2133720"/>
                <a:ext cx="360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86200" y="2133720"/>
                <a:ext cx="4114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意义是：把 （                        ）平均分成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份，表示这样的（      ）份的数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491080" y="1981080"/>
                <a:ext cx="784440" cy="847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4" name=""/>
          <p:cNvGrpSpPr/>
          <p:nvPr/>
        </p:nvGrpSpPr>
        <p:grpSpPr>
          <a:xfrm>
            <a:off x="4267080" y="2819520"/>
            <a:ext cx="2057400" cy="1038600"/>
            <a:chOff x="4267080" y="2819520"/>
            <a:chExt cx="2057400" cy="1038600"/>
          </a:xfrm>
        </p:grpSpPr>
        <p:grpSp>
          <p:nvGrpSpPr>
            <p:cNvPr id="195" name=""/>
            <p:cNvGrpSpPr/>
            <p:nvPr/>
          </p:nvGrpSpPr>
          <p:grpSpPr>
            <a:xfrm>
              <a:off x="4876560" y="2819520"/>
              <a:ext cx="1447920" cy="1038600"/>
              <a:chOff x="4876560" y="2819520"/>
              <a:chExt cx="1447920" cy="1038600"/>
            </a:xfrm>
          </p:grpSpPr>
          <p:sp>
            <p:nvSpPr>
              <p:cNvPr id="196" name=""/>
              <p:cNvSpPr/>
              <p:nvPr/>
            </p:nvSpPr>
            <p:spPr>
              <a:xfrm>
                <a:off x="4876560" y="327672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ff"/>
                    </a:solidFill>
                    <a:latin typeface="Times New Roman"/>
                  </a:rPr>
                  <a:t>单位“</a:t>
                </a:r>
                <a:r>
                  <a:rPr b="0" lang="en-US" sz="3200" spc="-1" strike="noStrike">
                    <a:solidFill>
                      <a:srgbClr val="0000ff"/>
                    </a:solidFill>
                    <a:latin typeface="Times New Roman"/>
                  </a:rPr>
                  <a:t>1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05160" y="28195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267080" y="2819520"/>
              <a:ext cx="175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</a:rPr>
                <a:t>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324480" y="3505320"/>
            <a:ext cx="1447920" cy="1190880"/>
            <a:chOff x="6324480" y="3505320"/>
            <a:chExt cx="1447920" cy="1190880"/>
          </a:xfrm>
        </p:grpSpPr>
        <p:sp>
          <p:nvSpPr>
            <p:cNvPr id="200" name=""/>
            <p:cNvSpPr/>
            <p:nvPr/>
          </p:nvSpPr>
          <p:spPr>
            <a:xfrm>
              <a:off x="6324480" y="362736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</a:rPr>
                <a:t>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35053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34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7315200" y="57913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21920" y="558720"/>
            <a:ext cx="34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数与除法的联系与区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1413000"/>
          <a:ext cx="8424720" cy="5059080"/>
        </p:xfrm>
        <a:graphic>
          <a:graphicData uri="http://schemas.openxmlformats.org/drawingml/2006/table">
            <a:tbl>
              <a:tblPr/>
              <a:tblGrid>
                <a:gridCol w="1800360"/>
                <a:gridCol w="1152360"/>
                <a:gridCol w="1152720"/>
                <a:gridCol w="1263600"/>
                <a:gridCol w="3055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联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区别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分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分子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分数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分母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分数是一个数可以看作两个数相除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除法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被除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除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除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除法是一种运算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874872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检测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填一填：分子相当于除法中的（　　），分母相当于除法中的（    ），分数线相当于除法中的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用分数表示下面各式的商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÷4=                   7÷12=  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6÷49=                25÷24= 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 12÷25=                36÷57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÷37=              33÷7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1052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列式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的铁丝平均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份，每份长多少米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小王骑自行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行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，平均每分行多少千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76360" y="2459880"/>
            <a:ext cx="5257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这节课，我们学习了分数与除法的关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你能说一说你有哪些感受或收获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同学们结合具体情境，探索并理解分数与除法的关系，会用分数表示两个整数相除的商，会用分数表示有关单位换算的结果；能列式解决求一个数是另一个数的几分之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同学们在探索分数与除法关系的过程中，进一步发展数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培养观察、比较、分析、推理等思维能力，体验学习数学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9720" y="3962520"/>
            <a:ext cx="15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83664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能找出下面每句话中的单位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吗？试一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青课外书的数量是小亮课外书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/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五年级数学组的老师是全校老师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/1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说说下面分数的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我国人口约占世界人口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人的血液约占体重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/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14130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列式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棵树苗平均分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小组栽，每组栽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长的钢管平均分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，每段长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479736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6483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把一个数平均分成几份，求每一份是多少，用除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3548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763560"/>
            <a:ext cx="8209080" cy="2089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2781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怎样列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2997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÷4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2924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263700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42900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9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19280" y="4172040"/>
            <a:ext cx="1757160" cy="2065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340000" y="4149720"/>
            <a:ext cx="2663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662472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556000" y="1917720"/>
            <a:ext cx="172872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46280" y="1917720"/>
            <a:ext cx="184752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284720" y="1917720"/>
            <a:ext cx="177804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042920" y="3573360"/>
            <a:ext cx="4824360" cy="86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1619280" y="4602240"/>
            <a:ext cx="2303280" cy="170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003640" y="4869000"/>
            <a:ext cx="28814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61160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2938320" cy="2363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359080" y="2708280"/>
            <a:ext cx="3637080" cy="23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859280" y="2995560"/>
            <a:ext cx="2941560" cy="163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950160" y="2852640"/>
            <a:ext cx="1509480" cy="208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140360" y="4968720"/>
            <a:ext cx="3456000" cy="11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2714760"/>
            <a:ext cx="8136000" cy="858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12747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÷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6720" y="1203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9158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1708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2034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12747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÷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3440" y="1203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57800" y="9144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7800" y="1708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12016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1706400"/>
            <a:ext cx="2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914400"/>
            <a:ext cx="2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170640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04000" y="91440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3762360" cy="266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11640" y="3576600"/>
            <a:ext cx="4130640" cy="26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块饼平均分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位同学，每个同学分得多少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3048120"/>
            <a:ext cx="809640" cy="943920"/>
            <a:chOff x="0" y="3048120"/>
            <a:chExt cx="809640" cy="94392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0" y="3222360"/>
              <a:ext cx="809640" cy="769680"/>
            </a:xfrm>
            <a:prstGeom prst="rect">
              <a:avLst/>
            </a:prstGeom>
            <a:ln w="9360">
              <a:solidFill>
                <a:srgbClr val="00cc00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0" y="3125520"/>
              <a:ext cx="809640" cy="769680"/>
            </a:xfrm>
            <a:prstGeom prst="rect">
              <a:avLst/>
            </a:prstGeom>
            <a:ln w="9360">
              <a:solidFill>
                <a:srgbClr val="00cc00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0" y="3048120"/>
              <a:ext cx="809640" cy="769680"/>
            </a:xfrm>
            <a:prstGeom prst="rect">
              <a:avLst/>
            </a:prstGeom>
            <a:ln w="9360">
              <a:solidFill>
                <a:srgbClr val="00cc00"/>
              </a:solidFill>
              <a:miter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914400" y="1981080"/>
            <a:ext cx="1476360" cy="1011240"/>
            <a:chOff x="914400" y="1981080"/>
            <a:chExt cx="1476360" cy="1011240"/>
          </a:xfrm>
        </p:grpSpPr>
        <p:sp>
          <p:nvSpPr>
            <p:cNvPr id="95" name=""/>
            <p:cNvSpPr/>
            <p:nvPr/>
          </p:nvSpPr>
          <p:spPr>
            <a:xfrm flipV="1">
              <a:off x="914400" y="2293920"/>
              <a:ext cx="619200" cy="69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33600" y="1981080"/>
              <a:ext cx="857160" cy="783000"/>
              <a:chOff x="1533600" y="1981080"/>
              <a:chExt cx="857160" cy="783000"/>
            </a:xfrm>
          </p:grpSpPr>
          <p:pic>
            <p:nvPicPr>
              <p:cNvPr id="97" name="" descr=""/>
              <p:cNvPicPr/>
              <p:nvPr/>
            </p:nvPicPr>
            <p:blipFill>
              <a:blip r:embed="rId5"/>
              <a:srcRect l="47620" t="47631" r="-4760" b="-4746"/>
              <a:stretch/>
            </p:blipFill>
            <p:spPr>
              <a:xfrm>
                <a:off x="1533600" y="2213640"/>
                <a:ext cx="857160" cy="55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6"/>
              <a:srcRect l="47620" t="47631" r="-4760" b="-4746"/>
              <a:stretch/>
            </p:blipFill>
            <p:spPr>
              <a:xfrm>
                <a:off x="1533600" y="2097360"/>
                <a:ext cx="857160" cy="55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7"/>
              <a:srcRect l="47620" t="47631" r="-4760" b="-4746"/>
              <a:stretch/>
            </p:blipFill>
            <p:spPr>
              <a:xfrm>
                <a:off x="1533600" y="1981080"/>
                <a:ext cx="857160" cy="55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" name=""/>
          <p:cNvGrpSpPr/>
          <p:nvPr/>
        </p:nvGrpSpPr>
        <p:grpSpPr>
          <a:xfrm>
            <a:off x="914400" y="2971800"/>
            <a:ext cx="1523520" cy="2361960"/>
            <a:chOff x="914400" y="2971800"/>
            <a:chExt cx="1523520" cy="2361960"/>
          </a:xfrm>
        </p:grpSpPr>
        <p:grpSp>
          <p:nvGrpSpPr>
            <p:cNvPr id="101" name=""/>
            <p:cNvGrpSpPr/>
            <p:nvPr/>
          </p:nvGrpSpPr>
          <p:grpSpPr>
            <a:xfrm>
              <a:off x="1009440" y="2971800"/>
              <a:ext cx="1142280" cy="733680"/>
              <a:chOff x="1009440" y="2971800"/>
              <a:chExt cx="1142280" cy="733680"/>
            </a:xfrm>
          </p:grpSpPr>
          <p:sp>
            <p:nvSpPr>
              <p:cNvPr id="102" name=""/>
              <p:cNvSpPr/>
              <p:nvPr/>
            </p:nvSpPr>
            <p:spPr>
              <a:xfrm flipV="1">
                <a:off x="1009440" y="3298680"/>
                <a:ext cx="523440" cy="23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" descr=""/>
              <p:cNvPicPr/>
              <p:nvPr/>
            </p:nvPicPr>
            <p:blipFill>
              <a:blip r:embed="rId8"/>
              <a:srcRect l="47620" t="47628" r="-4754" b="-4744"/>
              <a:stretch/>
            </p:blipFill>
            <p:spPr>
              <a:xfrm>
                <a:off x="1532880" y="3182400"/>
                <a:ext cx="618840" cy="52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rcRect l="47620" t="47628" r="-4754" b="-4744"/>
              <a:stretch/>
            </p:blipFill>
            <p:spPr>
              <a:xfrm>
                <a:off x="1532880" y="3088080"/>
                <a:ext cx="618840" cy="52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rcRect l="47620" t="47628" r="-4754" b="-4744"/>
              <a:stretch/>
            </p:blipFill>
            <p:spPr>
              <a:xfrm>
                <a:off x="1532880" y="2971800"/>
                <a:ext cx="618840" cy="52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961920" y="3611520"/>
              <a:ext cx="1476000" cy="824400"/>
              <a:chOff x="961920" y="3611520"/>
              <a:chExt cx="1476000" cy="824400"/>
            </a:xfrm>
          </p:grpSpPr>
          <p:sp>
            <p:nvSpPr>
              <p:cNvPr id="107" name=""/>
              <p:cNvSpPr/>
              <p:nvPr/>
            </p:nvSpPr>
            <p:spPr>
              <a:xfrm>
                <a:off x="961920" y="3822120"/>
                <a:ext cx="571320" cy="23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" descr=""/>
              <p:cNvPicPr/>
              <p:nvPr/>
            </p:nvPicPr>
            <p:blipFill>
              <a:blip r:embed="rId11"/>
              <a:srcRect l="47620" t="47631" r="-4760" b="-4746"/>
              <a:stretch/>
            </p:blipFill>
            <p:spPr>
              <a:xfrm>
                <a:off x="1533240" y="3843720"/>
                <a:ext cx="9046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2"/>
              <a:srcRect l="47620" t="47631" r="-4760" b="-4746"/>
              <a:stretch/>
            </p:blipFill>
            <p:spPr>
              <a:xfrm>
                <a:off x="1533240" y="3727440"/>
                <a:ext cx="904680" cy="59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3"/>
              <a:srcRect l="47620" t="47631" r="-4760" b="-4746"/>
              <a:stretch/>
            </p:blipFill>
            <p:spPr>
              <a:xfrm>
                <a:off x="1533240" y="3611520"/>
                <a:ext cx="904680" cy="59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914400" y="4113000"/>
              <a:ext cx="1523520" cy="1220760"/>
              <a:chOff x="914400" y="4113000"/>
              <a:chExt cx="1523520" cy="1220760"/>
            </a:xfrm>
          </p:grpSpPr>
          <p:sp>
            <p:nvSpPr>
              <p:cNvPr id="112" name=""/>
              <p:cNvSpPr/>
              <p:nvPr/>
            </p:nvSpPr>
            <p:spPr>
              <a:xfrm>
                <a:off x="914400" y="4113000"/>
                <a:ext cx="666720" cy="7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14"/>
              <a:srcRect l="47620" t="47631" r="-4760" b="-4746"/>
              <a:stretch/>
            </p:blipFill>
            <p:spPr>
              <a:xfrm>
                <a:off x="1533240" y="4636080"/>
                <a:ext cx="904680" cy="69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5"/>
              <a:srcRect l="47620" t="47631" r="-4760" b="-4746"/>
              <a:stretch/>
            </p:blipFill>
            <p:spPr>
              <a:xfrm>
                <a:off x="1533240" y="4520160"/>
                <a:ext cx="904680" cy="69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6"/>
              <a:srcRect l="47620" t="47631" r="-4760" b="-4746"/>
              <a:stretch/>
            </p:blipFill>
            <p:spPr>
              <a:xfrm>
                <a:off x="1533240" y="4403880"/>
                <a:ext cx="904680" cy="697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6" name=""/>
          <p:cNvGrpSpPr/>
          <p:nvPr/>
        </p:nvGrpSpPr>
        <p:grpSpPr>
          <a:xfrm>
            <a:off x="1981080" y="1905120"/>
            <a:ext cx="1649520" cy="865080"/>
            <a:chOff x="1981080" y="1905120"/>
            <a:chExt cx="1649520" cy="865080"/>
          </a:xfrm>
        </p:grpSpPr>
        <p:sp>
          <p:nvSpPr>
            <p:cNvPr id="117" name=""/>
            <p:cNvSpPr/>
            <p:nvPr/>
          </p:nvSpPr>
          <p:spPr>
            <a:xfrm>
              <a:off x="1981080" y="2311560"/>
              <a:ext cx="6483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7"/>
            <a:srcRect l="0" t="-7125" r="50006" b="-2372"/>
            <a:stretch/>
          </p:blipFill>
          <p:spPr>
            <a:xfrm>
              <a:off x="2629440" y="1905120"/>
              <a:ext cx="4845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8"/>
            <a:srcRect l="47623" t="47626" r="-4755" b="-4748"/>
            <a:stretch/>
          </p:blipFill>
          <p:spPr>
            <a:xfrm>
              <a:off x="3011040" y="2253240"/>
              <a:ext cx="619560" cy="4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1981080" y="2743200"/>
            <a:ext cx="1618920" cy="2545920"/>
            <a:chOff x="1981080" y="2743200"/>
            <a:chExt cx="1618920" cy="2545920"/>
          </a:xfrm>
        </p:grpSpPr>
        <p:grpSp>
          <p:nvGrpSpPr>
            <p:cNvPr id="121" name=""/>
            <p:cNvGrpSpPr/>
            <p:nvPr/>
          </p:nvGrpSpPr>
          <p:grpSpPr>
            <a:xfrm>
              <a:off x="2028240" y="3522240"/>
              <a:ext cx="1571400" cy="922320"/>
              <a:chOff x="2028240" y="3522240"/>
              <a:chExt cx="1571400" cy="922320"/>
            </a:xfrm>
          </p:grpSpPr>
          <p:sp>
            <p:nvSpPr>
              <p:cNvPr id="122" name=""/>
              <p:cNvSpPr/>
              <p:nvPr/>
            </p:nvSpPr>
            <p:spPr>
              <a:xfrm>
                <a:off x="2028240" y="3929400"/>
                <a:ext cx="571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19"/>
              <a:srcRect l="0" t="-7125" r="50006" b="-2372"/>
              <a:stretch/>
            </p:blipFill>
            <p:spPr>
              <a:xfrm>
                <a:off x="2559960" y="3522240"/>
                <a:ext cx="51588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0"/>
              <a:srcRect l="47620" t="47628" r="-4754" b="-4744"/>
              <a:stretch/>
            </p:blipFill>
            <p:spPr>
              <a:xfrm>
                <a:off x="2980800" y="3929400"/>
                <a:ext cx="618840" cy="50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2028240" y="4394880"/>
              <a:ext cx="1523880" cy="894240"/>
              <a:chOff x="2028240" y="4394880"/>
              <a:chExt cx="1523880" cy="894240"/>
            </a:xfrm>
          </p:grpSpPr>
          <p:sp>
            <p:nvSpPr>
              <p:cNvPr id="126" name=""/>
              <p:cNvSpPr/>
              <p:nvPr/>
            </p:nvSpPr>
            <p:spPr>
              <a:xfrm>
                <a:off x="2028240" y="4860000"/>
                <a:ext cx="571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21"/>
              <a:srcRect l="0" t="-7125" r="50006" b="-2372"/>
              <a:stretch/>
            </p:blipFill>
            <p:spPr>
              <a:xfrm>
                <a:off x="2599560" y="4394880"/>
                <a:ext cx="501120" cy="89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22"/>
              <a:srcRect l="47620" t="47628" r="-4754" b="-4744"/>
              <a:stretch/>
            </p:blipFill>
            <p:spPr>
              <a:xfrm>
                <a:off x="3028320" y="4802040"/>
                <a:ext cx="523800" cy="4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" name=""/>
            <p:cNvGrpSpPr/>
            <p:nvPr/>
          </p:nvGrpSpPr>
          <p:grpSpPr>
            <a:xfrm>
              <a:off x="1981080" y="2743200"/>
              <a:ext cx="1618920" cy="975600"/>
              <a:chOff x="1981080" y="2743200"/>
              <a:chExt cx="1618920" cy="975600"/>
            </a:xfrm>
          </p:grpSpPr>
          <p:sp>
            <p:nvSpPr>
              <p:cNvPr id="130" name=""/>
              <p:cNvSpPr/>
              <p:nvPr/>
            </p:nvSpPr>
            <p:spPr>
              <a:xfrm>
                <a:off x="1981080" y="3252960"/>
                <a:ext cx="61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23"/>
              <a:srcRect l="0" t="-7125" r="50006" b="-2372"/>
              <a:stretch/>
            </p:blipFill>
            <p:spPr>
              <a:xfrm>
                <a:off x="2577240" y="2743200"/>
                <a:ext cx="546840" cy="97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4"/>
              <a:srcRect l="47620" t="47628" r="-4754" b="-4744"/>
              <a:stretch/>
            </p:blipFill>
            <p:spPr>
              <a:xfrm>
                <a:off x="3028680" y="3115080"/>
                <a:ext cx="571320" cy="58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" name=""/>
          <p:cNvSpPr/>
          <p:nvPr/>
        </p:nvSpPr>
        <p:spPr>
          <a:xfrm>
            <a:off x="1447920" y="12193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÷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　（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5"/>
          <a:stretch/>
        </p:blipFill>
        <p:spPr>
          <a:xfrm>
            <a:off x="2666880" y="1066680"/>
            <a:ext cx="762120" cy="9144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962520" y="2130480"/>
            <a:ext cx="4114800" cy="2367360"/>
            <a:chOff x="3962520" y="2130480"/>
            <a:chExt cx="4114800" cy="2367360"/>
          </a:xfrm>
        </p:grpSpPr>
        <p:sp>
          <p:nvSpPr>
            <p:cNvPr id="136" name=""/>
            <p:cNvSpPr/>
            <p:nvPr/>
          </p:nvSpPr>
          <p:spPr>
            <a:xfrm>
              <a:off x="4419720" y="2282760"/>
              <a:ext cx="3306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72120" y="2282760"/>
              <a:ext cx="360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2282760"/>
              <a:ext cx="4114800" cy="22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意义是：把 （                        ）平均分成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份，表示这样的（      ）份的数。                         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5567400" y="2130480"/>
              <a:ext cx="784440" cy="84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微软用户</cp:lastModifiedBy>
  <dcterms:modified xsi:type="dcterms:W3CDTF">2014-09-12T19:30:42Z</dcterms:modified>
  <cp:revision>1</cp:revision>
  <dc:subject>  </dc:subject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