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4E3-67BD-429D-97F8-9FB5B196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C5D-CA2A-429E-98B2-CAB8CCCA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D86-4100-49DF-9E0C-3C7EA708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BE2-DEE6-4D5E-BCEE-DC26BF51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396-F7F5-4F6D-8B17-3D8B9EC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C69-6D91-4BF2-A1EB-CFDF48C3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58B-94E2-4018-8BAD-9FECEF8D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472-3358-45A5-AC17-6A22953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46DC-8343-430B-8034-EACC01D6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61D-854F-4EA8-964F-E69FF5BE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76E-3060-4440-9D77-C2DFA3F4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F6F-4A93-4626-924B-620C36BE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3C1-4035-4E5E-93E3-4A3A87B000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" Target="slide9.xm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2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" Target="slide9.xml"/><Relationship Id="rId1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4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21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分数与除法的关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053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157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" descr=""/>
          <p:cNvPicPr/>
          <p:nvPr/>
        </p:nvPicPr>
        <p:blipFill>
          <a:blip r:embed="rId2"/>
          <a:srcRect l="0" t="0" r="50124" b="52694"/>
          <a:stretch/>
        </p:blipFill>
        <p:spPr>
          <a:xfrm>
            <a:off x="-14400" y="2133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2135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rcRect l="0" t="0" r="50124" b="52694"/>
          <a:stretch/>
        </p:blipFill>
        <p:spPr>
          <a:xfrm>
            <a:off x="4086360" y="2135160"/>
            <a:ext cx="1008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rot="16200000">
            <a:off x="2880720" y="2240280"/>
            <a:ext cx="431640" cy="4249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50124" b="52694"/>
          <a:stretch/>
        </p:blipFill>
        <p:spPr>
          <a:xfrm>
            <a:off x="-14400" y="2133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2135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rcRect l="0" t="0" r="50124" b="52694"/>
          <a:stretch/>
        </p:blipFill>
        <p:spPr>
          <a:xfrm>
            <a:off x="4086360" y="213516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174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0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3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16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16200000">
            <a:off x="2880720" y="2240280"/>
            <a:ext cx="431640" cy="4249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rcRect l="0" t="0" r="50124" b="52694"/>
          <a:stretch/>
        </p:blipFill>
        <p:spPr>
          <a:xfrm>
            <a:off x="-14400" y="4365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4367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rcRect l="0" t="0" r="50124" b="52694"/>
          <a:stretch/>
        </p:blipFill>
        <p:spPr>
          <a:xfrm>
            <a:off x="4086360" y="436716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186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2880720" y="2240280"/>
            <a:ext cx="431640" cy="4249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0" t="0" r="50124" b="52694"/>
          <a:stretch/>
        </p:blipFill>
        <p:spPr>
          <a:xfrm rot="19835400">
            <a:off x="-252000" y="472428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4367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rcRect l="0" t="0" r="50124" b="52694"/>
          <a:stretch/>
        </p:blipFill>
        <p:spPr>
          <a:xfrm rot="3500400">
            <a:off x="4390560" y="432900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198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rot="16200000">
            <a:off x="2880720" y="2240280"/>
            <a:ext cx="431640" cy="4249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rcRect l="0" t="0" r="-540" b="-445"/>
          <a:stretch/>
        </p:blipFill>
        <p:spPr>
          <a:xfrm>
            <a:off x="250920" y="530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4367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rcRect l="0" t="0" r="-540" b="-445"/>
          <a:stretch/>
        </p:blipFill>
        <p:spPr>
          <a:xfrm>
            <a:off x="4572000" y="4278240"/>
            <a:ext cx="934920" cy="100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210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16200000">
            <a:off x="2880720" y="2240280"/>
            <a:ext cx="431640" cy="4249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rcRect l="0" t="0" r="-540" b="-445"/>
          <a:stretch/>
        </p:blipFill>
        <p:spPr>
          <a:xfrm>
            <a:off x="250920" y="530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4367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6"/>
          <a:srcRect l="0" t="0" r="-540" b="-445"/>
          <a:stretch/>
        </p:blipFill>
        <p:spPr>
          <a:xfrm>
            <a:off x="4572000" y="4278240"/>
            <a:ext cx="934920" cy="100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222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08092E-006 L 0.20886 0.00023 E">
                                      <p:cBhvr>
                                        <p:cTn id="122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81503E-006 L -0.16128 0.00231 E">
                                      <p:cBhvr>
                                        <p:cTn id="12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-36360" y="2131920"/>
            <a:ext cx="2020680" cy="1976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rot="16200000">
            <a:off x="2880720" y="2240280"/>
            <a:ext cx="431640" cy="4249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0520 h 4249800"/>
              <a:gd name="textAreaBottom" fmla="*/ 4139280 h 424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rcRect l="0" t="0" r="-540" b="-445"/>
          <a:stretch/>
        </p:blipFill>
        <p:spPr>
          <a:xfrm>
            <a:off x="2138400" y="530064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046240" y="2133720"/>
            <a:ext cx="2021040" cy="1976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rcRect l="0" t="0" r="50124" b="52694"/>
          <a:stretch/>
        </p:blipFill>
        <p:spPr>
          <a:xfrm>
            <a:off x="2068560" y="43671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4064040" y="2133720"/>
            <a:ext cx="2020680" cy="1976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rcRect l="0" t="0" r="-540" b="-445"/>
          <a:stretch/>
        </p:blipFill>
        <p:spPr>
          <a:xfrm>
            <a:off x="3059280" y="4307040"/>
            <a:ext cx="93492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4319640" y="4437000"/>
            <a:ext cx="4824360" cy="1486440"/>
            <a:chOff x="4319640" y="4437000"/>
            <a:chExt cx="4824360" cy="1486440"/>
          </a:xfrm>
        </p:grpSpPr>
        <p:sp>
          <p:nvSpPr>
            <p:cNvPr id="233" name=""/>
            <p:cNvSpPr/>
            <p:nvPr/>
          </p:nvSpPr>
          <p:spPr>
            <a:xfrm>
              <a:off x="4319640" y="4797360"/>
              <a:ext cx="482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  块就是  块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160960" y="4437000"/>
              <a:ext cx="814320" cy="1486440"/>
              <a:chOff x="5160960" y="4437000"/>
              <a:chExt cx="814320" cy="1486440"/>
            </a:xfrm>
          </p:grpSpPr>
          <p:sp>
            <p:nvSpPr>
              <p:cNvPr id="235" name=""/>
              <p:cNvSpPr/>
              <p:nvPr/>
            </p:nvSpPr>
            <p:spPr>
              <a:xfrm>
                <a:off x="5183280" y="52038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60960" y="515916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83280" y="443700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488360" y="4437000"/>
              <a:ext cx="814320" cy="1486440"/>
              <a:chOff x="7488360" y="4437000"/>
              <a:chExt cx="814320" cy="1486440"/>
            </a:xfrm>
          </p:grpSpPr>
          <p:sp>
            <p:nvSpPr>
              <p:cNvPr id="239" name=""/>
              <p:cNvSpPr/>
              <p:nvPr/>
            </p:nvSpPr>
            <p:spPr>
              <a:xfrm>
                <a:off x="7510680" y="52038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88360" y="515916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10680" y="443700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>
            <a:hlinkClick r:id="rId7" action="ppaction://hlinksldjump"/>
          </p:cNvPr>
          <p:cNvSpPr/>
          <p:nvPr/>
        </p:nvSpPr>
        <p:spPr>
          <a:xfrm>
            <a:off x="802800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每人每次分得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04000" y="0"/>
            <a:ext cx="792000" cy="1486440"/>
            <a:chOff x="6804000" y="0"/>
            <a:chExt cx="792000" cy="1486440"/>
          </a:xfrm>
        </p:grpSpPr>
        <p:sp>
          <p:nvSpPr>
            <p:cNvPr id="245" name=""/>
            <p:cNvSpPr/>
            <p:nvPr/>
          </p:nvSpPr>
          <p:spPr>
            <a:xfrm>
              <a:off x="682560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0400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82560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95280" y="1052640"/>
            <a:ext cx="1584360" cy="1584360"/>
            <a:chOff x="395280" y="1052640"/>
            <a:chExt cx="1584360" cy="1584360"/>
          </a:xfrm>
        </p:grpSpPr>
        <p:sp>
          <p:nvSpPr>
            <p:cNvPr id="249" name=""/>
            <p:cNvSpPr/>
            <p:nvPr/>
          </p:nvSpPr>
          <p:spPr>
            <a:xfrm>
              <a:off x="395280" y="1052640"/>
              <a:ext cx="1584360" cy="158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5280" y="1844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7640" y="105264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539640" y="1268280"/>
            <a:ext cx="1584360" cy="1584360"/>
            <a:chOff x="539640" y="1268280"/>
            <a:chExt cx="1584360" cy="1584360"/>
          </a:xfrm>
        </p:grpSpPr>
        <p:sp>
          <p:nvSpPr>
            <p:cNvPr id="253" name=""/>
            <p:cNvSpPr/>
            <p:nvPr/>
          </p:nvSpPr>
          <p:spPr>
            <a:xfrm>
              <a:off x="539640" y="1268280"/>
              <a:ext cx="1584360" cy="15843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9640" y="20602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2000" y="1268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4880" y="1555920"/>
            <a:ext cx="1584360" cy="1584000"/>
            <a:chOff x="704880" y="1555920"/>
            <a:chExt cx="1584360" cy="1584000"/>
          </a:xfrm>
        </p:grpSpPr>
        <p:sp>
          <p:nvSpPr>
            <p:cNvPr id="257" name=""/>
            <p:cNvSpPr/>
            <p:nvPr/>
          </p:nvSpPr>
          <p:spPr>
            <a:xfrm>
              <a:off x="704880" y="1555920"/>
              <a:ext cx="1584360" cy="158400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4880" y="23475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97240" y="15559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79280" y="981000"/>
            <a:ext cx="2376360" cy="2305080"/>
            <a:chOff x="179280" y="981000"/>
            <a:chExt cx="2376360" cy="230508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79280" y="981000"/>
              <a:ext cx="192888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395280" y="1125360"/>
              <a:ext cx="192888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627120" y="1341360"/>
              <a:ext cx="1928520" cy="194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"/>
          <p:cNvSpPr/>
          <p:nvPr/>
        </p:nvSpPr>
        <p:spPr>
          <a:xfrm>
            <a:off x="1042920" y="333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块一起分，每人分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块的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7286760" y="73080"/>
            <a:ext cx="814320" cy="1486440"/>
            <a:chOff x="7286760" y="73080"/>
            <a:chExt cx="814320" cy="1486440"/>
          </a:xfrm>
        </p:grpSpPr>
        <p:sp>
          <p:nvSpPr>
            <p:cNvPr id="266" name=""/>
            <p:cNvSpPr/>
            <p:nvPr/>
          </p:nvSpPr>
          <p:spPr>
            <a:xfrm>
              <a:off x="7309080" y="8398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286760" y="79524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09080" y="730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277920" y="981000"/>
            <a:ext cx="1861560" cy="2016000"/>
            <a:chOff x="277920" y="981000"/>
            <a:chExt cx="1861560" cy="201600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rcRect l="0" t="48167" r="50644" b="0"/>
            <a:stretch/>
          </p:blipFill>
          <p:spPr>
            <a:xfrm>
              <a:off x="277920" y="1989000"/>
              <a:ext cx="9522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2"/>
            <a:srcRect l="50644" t="0" r="0" b="48167"/>
            <a:stretch/>
          </p:blipFill>
          <p:spPr>
            <a:xfrm>
              <a:off x="1187280" y="981000"/>
              <a:ext cx="9522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/>
            <p:cNvPicPr/>
            <p:nvPr/>
          </p:nvPicPr>
          <p:blipFill>
            <a:blip r:embed="rId3"/>
            <a:srcRect l="50644" t="48167" r="0" b="0"/>
            <a:stretch/>
          </p:blipFill>
          <p:spPr>
            <a:xfrm>
              <a:off x="1184040" y="1989000"/>
              <a:ext cx="9522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"/>
          <p:cNvGrpSpPr/>
          <p:nvPr/>
        </p:nvGrpSpPr>
        <p:grpSpPr>
          <a:xfrm>
            <a:off x="566640" y="1125360"/>
            <a:ext cx="1862280" cy="2016000"/>
            <a:chOff x="566640" y="1125360"/>
            <a:chExt cx="1862280" cy="2016000"/>
          </a:xfrm>
        </p:grpSpPr>
        <p:pic>
          <p:nvPicPr>
            <p:cNvPr id="274" name="" descr=""/>
            <p:cNvPicPr/>
            <p:nvPr/>
          </p:nvPicPr>
          <p:blipFill>
            <a:blip r:embed="rId4"/>
            <a:srcRect l="0" t="48167" r="50644" b="0"/>
            <a:stretch/>
          </p:blipFill>
          <p:spPr>
            <a:xfrm>
              <a:off x="566640" y="2133360"/>
              <a:ext cx="9525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5"/>
            <a:srcRect l="50644" t="0" r="0" b="48167"/>
            <a:stretch/>
          </p:blipFill>
          <p:spPr>
            <a:xfrm>
              <a:off x="1476360" y="1125360"/>
              <a:ext cx="9525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6"/>
            <a:srcRect l="50644" t="48167" r="0" b="0"/>
            <a:stretch/>
          </p:blipFill>
          <p:spPr>
            <a:xfrm>
              <a:off x="1473120" y="2133360"/>
              <a:ext cx="95256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"/>
          <p:cNvGrpSpPr/>
          <p:nvPr/>
        </p:nvGrpSpPr>
        <p:grpSpPr>
          <a:xfrm>
            <a:off x="853920" y="1341360"/>
            <a:ext cx="1862280" cy="2016000"/>
            <a:chOff x="853920" y="1341360"/>
            <a:chExt cx="1862280" cy="2016000"/>
          </a:xfrm>
        </p:grpSpPr>
        <p:pic>
          <p:nvPicPr>
            <p:cNvPr id="278" name="" descr=""/>
            <p:cNvPicPr/>
            <p:nvPr/>
          </p:nvPicPr>
          <p:blipFill>
            <a:blip r:embed="rId7"/>
            <a:srcRect l="0" t="48167" r="50644" b="0"/>
            <a:stretch/>
          </p:blipFill>
          <p:spPr>
            <a:xfrm>
              <a:off x="853920" y="2349360"/>
              <a:ext cx="9525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8"/>
            <a:srcRect l="50644" t="0" r="0" b="48167"/>
            <a:stretch/>
          </p:blipFill>
          <p:spPr>
            <a:xfrm>
              <a:off x="1763640" y="1341360"/>
              <a:ext cx="95256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" descr=""/>
            <p:cNvPicPr/>
            <p:nvPr/>
          </p:nvPicPr>
          <p:blipFill>
            <a:blip r:embed="rId9"/>
            <a:srcRect l="50644" t="48167" r="0" b="0"/>
            <a:stretch/>
          </p:blipFill>
          <p:spPr>
            <a:xfrm>
              <a:off x="1760400" y="2349360"/>
              <a:ext cx="952560" cy="100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1" name="" descr=""/>
          <p:cNvPicPr/>
          <p:nvPr/>
        </p:nvPicPr>
        <p:blipFill>
          <a:blip r:embed="rId10"/>
          <a:stretch/>
        </p:blipFill>
        <p:spPr>
          <a:xfrm>
            <a:off x="3851280" y="3357720"/>
            <a:ext cx="1814400" cy="187164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042920" y="33336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块一起分，每人分得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块的  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308720" y="73080"/>
            <a:ext cx="814320" cy="1486440"/>
            <a:chOff x="7308720" y="73080"/>
            <a:chExt cx="814320" cy="1486440"/>
          </a:xfrm>
        </p:grpSpPr>
        <p:sp>
          <p:nvSpPr>
            <p:cNvPr id="284" name=""/>
            <p:cNvSpPr/>
            <p:nvPr/>
          </p:nvSpPr>
          <p:spPr>
            <a:xfrm>
              <a:off x="7331040" y="8398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08720" y="79524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31040" y="730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411280" y="5370480"/>
            <a:ext cx="5148360" cy="1489680"/>
            <a:chOff x="2411280" y="5370480"/>
            <a:chExt cx="5148360" cy="1489680"/>
          </a:xfrm>
        </p:grpSpPr>
        <p:sp>
          <p:nvSpPr>
            <p:cNvPr id="288" name=""/>
            <p:cNvSpPr/>
            <p:nvPr/>
          </p:nvSpPr>
          <p:spPr>
            <a:xfrm>
              <a:off x="2411280" y="5683320"/>
              <a:ext cx="51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块的   是   块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046400" y="5370480"/>
              <a:ext cx="814320" cy="1486440"/>
              <a:chOff x="4046400" y="5370480"/>
              <a:chExt cx="814320" cy="1486440"/>
            </a:xfrm>
          </p:grpSpPr>
          <p:sp>
            <p:nvSpPr>
              <p:cNvPr id="290" name=""/>
              <p:cNvSpPr/>
              <p:nvPr/>
            </p:nvSpPr>
            <p:spPr>
              <a:xfrm>
                <a:off x="4068720" y="6137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046400" y="609264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68720" y="53704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5364000" y="5373720"/>
              <a:ext cx="814320" cy="1486440"/>
              <a:chOff x="5364000" y="5373720"/>
              <a:chExt cx="814320" cy="1486440"/>
            </a:xfrm>
          </p:grpSpPr>
          <p:sp>
            <p:nvSpPr>
              <p:cNvPr id="294" name=""/>
              <p:cNvSpPr/>
              <p:nvPr/>
            </p:nvSpPr>
            <p:spPr>
              <a:xfrm>
                <a:off x="5386320" y="61405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64000" y="60958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386320" y="537372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7" name="" descr=""/>
          <p:cNvPicPr/>
          <p:nvPr/>
        </p:nvPicPr>
        <p:blipFill>
          <a:blip r:embed="rId11"/>
          <a:stretch/>
        </p:blipFill>
        <p:spPr>
          <a:xfrm>
            <a:off x="250920" y="1023840"/>
            <a:ext cx="1008000" cy="992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2"/>
          <a:stretch/>
        </p:blipFill>
        <p:spPr>
          <a:xfrm>
            <a:off x="539640" y="1168560"/>
            <a:ext cx="1008000" cy="9921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3"/>
          <a:stretch/>
        </p:blipFill>
        <p:spPr>
          <a:xfrm>
            <a:off x="826920" y="1384200"/>
            <a:ext cx="1008360" cy="9921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219640" y="2997360"/>
            <a:ext cx="0" cy="502920"/>
          </a:xfrm>
          <a:prstGeom prst="line">
            <a:avLst/>
          </a:prstGeom>
          <a:ln w="92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084720" y="3716280"/>
            <a:ext cx="2735280" cy="1486440"/>
            <a:chOff x="6084720" y="3716280"/>
            <a:chExt cx="2735280" cy="1486440"/>
          </a:xfrm>
        </p:grpSpPr>
        <p:sp>
          <p:nvSpPr>
            <p:cNvPr id="302" name=""/>
            <p:cNvSpPr/>
            <p:nvPr/>
          </p:nvSpPr>
          <p:spPr>
            <a:xfrm>
              <a:off x="6084720" y="4028760"/>
              <a:ext cx="2735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块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719840" y="3716280"/>
              <a:ext cx="814320" cy="1486440"/>
              <a:chOff x="7719840" y="3716280"/>
              <a:chExt cx="814320" cy="1486440"/>
            </a:xfrm>
          </p:grpSpPr>
          <p:sp>
            <p:nvSpPr>
              <p:cNvPr id="304" name=""/>
              <p:cNvSpPr/>
              <p:nvPr/>
            </p:nvSpPr>
            <p:spPr>
              <a:xfrm>
                <a:off x="7742160" y="44830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719840" y="443844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742160" y="37162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"/>
          <p:cNvSpPr/>
          <p:nvPr/>
        </p:nvSpPr>
        <p:spPr>
          <a:xfrm>
            <a:off x="7740720" y="1628640"/>
            <a:ext cx="71280" cy="2016360"/>
          </a:xfrm>
          <a:prstGeom prst="line">
            <a:avLst/>
          </a:prstGeom>
          <a:ln w="92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0"/>
            <a:ext cx="2590920" cy="1584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84720" y="3645000"/>
            <a:ext cx="2590920" cy="1584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4" action="ppaction://hlinksldjump"/>
          </p:cNvPr>
          <p:cNvSpPr/>
          <p:nvPr/>
        </p:nvSpPr>
        <p:spPr>
          <a:xfrm>
            <a:off x="802800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77457E-006 L 0.3467 0.06844 E">
                                      <p:cBhvr>
                                        <p:cTn id="14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13873E-006 L 0.35452 0.07885 E">
                                      <p:cBhvr>
                                        <p:cTn id="149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6763E-006 L 0.36232 0.07885 E">
                                      <p:cBhvr>
                                        <p:cTn id="151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0" r="50124" b="52694"/>
          <a:stretch/>
        </p:blipFill>
        <p:spPr>
          <a:xfrm>
            <a:off x="360360" y="1989000"/>
            <a:ext cx="1008000" cy="935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一共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6443640" y="0"/>
            <a:ext cx="792000" cy="1486440"/>
            <a:chOff x="6443640" y="0"/>
            <a:chExt cx="792000" cy="1486440"/>
          </a:xfrm>
        </p:grpSpPr>
        <p:sp>
          <p:nvSpPr>
            <p:cNvPr id="314" name=""/>
            <p:cNvSpPr/>
            <p:nvPr/>
          </p:nvSpPr>
          <p:spPr>
            <a:xfrm>
              <a:off x="646524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4364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6524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" descr=""/>
          <p:cNvPicPr/>
          <p:nvPr/>
        </p:nvPicPr>
        <p:blipFill>
          <a:blip r:embed="rId2"/>
          <a:srcRect l="0" t="0" r="-445" b="-540"/>
          <a:stretch/>
        </p:blipFill>
        <p:spPr>
          <a:xfrm>
            <a:off x="1332000" y="198900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rcRect l="0" t="0" r="-445" b="-540"/>
          <a:stretch/>
        </p:blipFill>
        <p:spPr>
          <a:xfrm>
            <a:off x="1332000" y="291132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rcRect l="0" t="0" r="-445" b="-540"/>
          <a:stretch/>
        </p:blipFill>
        <p:spPr>
          <a:xfrm>
            <a:off x="338040" y="29098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rcRect l="0" t="0" r="50124" b="52694"/>
          <a:stretch/>
        </p:blipFill>
        <p:spPr>
          <a:xfrm>
            <a:off x="2938320" y="3141720"/>
            <a:ext cx="1008360" cy="9349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rcRect l="0" t="0" r="-445" b="-540"/>
          <a:stretch/>
        </p:blipFill>
        <p:spPr>
          <a:xfrm>
            <a:off x="3909960" y="314172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7"/>
          <a:srcRect l="0" t="0" r="-445" b="-540"/>
          <a:stretch/>
        </p:blipFill>
        <p:spPr>
          <a:xfrm>
            <a:off x="3909960" y="406404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8"/>
          <a:srcRect l="0" t="0" r="-445" b="-540"/>
          <a:stretch/>
        </p:blipFill>
        <p:spPr>
          <a:xfrm>
            <a:off x="2916360" y="406224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9"/>
          <a:srcRect l="0" t="0" r="50124" b="52694"/>
          <a:stretch/>
        </p:blipFill>
        <p:spPr>
          <a:xfrm>
            <a:off x="490680" y="510048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10"/>
          <a:srcRect l="0" t="0" r="-445" b="-540"/>
          <a:stretch/>
        </p:blipFill>
        <p:spPr>
          <a:xfrm>
            <a:off x="1461960" y="5100480"/>
            <a:ext cx="1008360" cy="9352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11"/>
          <a:srcRect l="0" t="0" r="-445" b="-540"/>
          <a:stretch/>
        </p:blipFill>
        <p:spPr>
          <a:xfrm>
            <a:off x="1461960" y="6022800"/>
            <a:ext cx="1008360" cy="935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12"/>
          <a:srcRect l="0" t="0" r="-445" b="-540"/>
          <a:stretch/>
        </p:blipFill>
        <p:spPr>
          <a:xfrm>
            <a:off x="468360" y="6021360"/>
            <a:ext cx="1008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2.13873E-006 C -0.06649 -0.05873 -0.10729 -0.11746 -0.03038 -0.1452 C 0.04671 -0.17295 0.24167 -0.16971 0.43698 -0.16601 E">
                                      <p:cBhvr>
                                        <p:cTn id="188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9 2.13873E-006 C -0.02725 -0.04671 -0.05104 -0.09295 0.02952 -0.11191 C 0.11007 -0.13087 0.40504 -0.11468 0.48039 -0.11492 E">
                                      <p:cBhvr>
                                        <p:cTn id="190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12139E-006 C -0.00451 -0.04485 -0.00850000000000001 -0.08925 0.07119 -0.10404 C 0.15122 -0.11838 0.41198 -0.09133 0.48039 -0.08855 E">
                                      <p:cBhvr>
                                        <p:cTn id="193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1.90751E-006 C 0.01927 -0.04231 0.03872 -0.08416 0.04705 -0.10705 C 0.05504 -0.12971 -0.01597 -0.12763 0.04914 -0.13641 C 0.11459 -0.1452 0.27691 -0.15283 0.43941 -0.16023 E">
                                      <p:cBhvr>
                                        <p:cTn id="195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2.13873E-006 C -0.06649 -0.05873 -0.10729 -0.11746 -0.03038 -0.1452 C 0.04671 -0.17295 0.24167 -0.16971 0.43698 -0.16601 E">
                                      <p:cBhvr>
                                        <p:cTn id="198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9 2.13873E-006 C -0.02725 -0.04671 -0.05104 -0.09295 0.02952 -0.11191 C 0.11007 -0.13087 0.40504 -0.11468 0.48039 -0.11492 E">
                                      <p:cBhvr>
                                        <p:cTn id="200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12139E-006 C -0.00451 -0.04485 -0.00850000000000001 -0.08925 0.07119 -0.10404 C 0.15122 -0.11838 0.41198 -0.09133 0.48039 -0.08855 E">
                                      <p:cBhvr>
                                        <p:cTn id="203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1.90751E-006 C 0.01927 -0.04231 0.03872 -0.08416 0.04705 -0.10705 C 0.05504 -0.12971 -0.01597 -0.12763 0.04914 -0.13641 C 0.11459 -0.1452 0.27691 -0.15283 0.43941 -0.16023 E">
                                      <p:cBhvr>
                                        <p:cTn id="205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2.13873E-006 C -0.06649 -0.05873 -0.10729 -0.11746 -0.03038 -0.1452 C 0.04671 -0.17295 0.24167 -0.16971 0.43698 -0.16601 E">
                                      <p:cBhvr>
                                        <p:cTn id="208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29 2.13873E-006 C -0.02725 -0.04671 -0.05104 -0.09295 0.02952 -0.11191 C 0.11007 -0.13087 0.40504 -0.11468 0.48039 -0.11492 E">
                                      <p:cBhvr>
                                        <p:cTn id="210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12139E-006 C -0.00451 -0.04485 -0.00850000000000001 -0.08925 0.07119 -0.10404 C 0.15122 -0.11838 0.41198 -0.09133 0.48039 -0.08855 E">
                                      <p:cBhvr>
                                        <p:cTn id="213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1.90751E-006 C 0.01927 -0.04231 0.03872 -0.08416 0.04705 -0.10705 C 0.05504 -0.12971 -0.01597 -0.12763 0.04914 -0.13641 C 0.11459 -0.1452 0.27691 -0.15283 0.43941 -0.16023 E">
                                      <p:cBhvr>
                                        <p:cTn id="21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60720" y="506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484280"/>
            <a:ext cx="78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使大家结合具体情境，探索并理解分数与除法的关系，会用分数表示两个整数相除的商，会用分数表示有关单位换算的结果；能列式解决求一个数是另一个数的几分之几的简单实际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使大家在探索分数与除法关系的过程中，进一步发展数感，培养观察、比较、分析、推理等思维能力，体验数学学习的乐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rcRect l="0" t="0" r="50124" b="52694"/>
          <a:stretch/>
        </p:blipFill>
        <p:spPr>
          <a:xfrm rot="13356000">
            <a:off x="1332000" y="220644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1280" y="241200"/>
            <a:ext cx="831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块一块地分，一共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   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43640" y="0"/>
            <a:ext cx="792000" cy="1486440"/>
            <a:chOff x="6443640" y="0"/>
            <a:chExt cx="792000" cy="1486440"/>
          </a:xfrm>
        </p:grpSpPr>
        <p:sp>
          <p:nvSpPr>
            <p:cNvPr id="331" name=""/>
            <p:cNvSpPr/>
            <p:nvPr/>
          </p:nvSpPr>
          <p:spPr>
            <a:xfrm>
              <a:off x="6465240" y="766800"/>
              <a:ext cx="63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43640" y="72216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465240" y="0"/>
              <a:ext cx="77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2"/>
          <a:srcRect l="0" t="0" r="50124" b="52694"/>
          <a:stretch/>
        </p:blipFill>
        <p:spPr>
          <a:xfrm rot="13356000">
            <a:off x="2340000" y="2133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rcRect l="0" t="0" r="50124" b="52694"/>
          <a:stretch/>
        </p:blipFill>
        <p:spPr>
          <a:xfrm rot="13356000">
            <a:off x="3419640" y="213336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rcRect l="0" t="0" r="50124" b="52694"/>
          <a:stretch/>
        </p:blipFill>
        <p:spPr>
          <a:xfrm rot="13356000">
            <a:off x="4642920" y="2134440"/>
            <a:ext cx="1008360" cy="9349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rcRect l="0" t="0" r="50124" b="52694"/>
          <a:stretch/>
        </p:blipFill>
        <p:spPr>
          <a:xfrm rot="13356000">
            <a:off x="5651280" y="206208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rcRect l="0" t="0" r="50124" b="52694"/>
          <a:stretch/>
        </p:blipFill>
        <p:spPr>
          <a:xfrm rot="13356000">
            <a:off x="6730560" y="2062080"/>
            <a:ext cx="1008000" cy="935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7"/>
          <a:srcRect l="0" t="0" r="50124" b="52694"/>
          <a:stretch/>
        </p:blipFill>
        <p:spPr>
          <a:xfrm rot="13356000">
            <a:off x="1405080" y="36460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8"/>
          <a:srcRect l="0" t="0" r="50124" b="52694"/>
          <a:stretch/>
        </p:blipFill>
        <p:spPr>
          <a:xfrm rot="13356000">
            <a:off x="2413080" y="364464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9"/>
          <a:srcRect l="0" t="0" r="50124" b="52694"/>
          <a:stretch/>
        </p:blipFill>
        <p:spPr>
          <a:xfrm rot="13356000">
            <a:off x="3492000" y="3644280"/>
            <a:ext cx="1008360" cy="934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0"/>
          <a:srcRect l="0" t="0" r="50124" b="52694"/>
          <a:stretch/>
        </p:blipFill>
        <p:spPr>
          <a:xfrm rot="13356000">
            <a:off x="4716360" y="3646080"/>
            <a:ext cx="1008000" cy="9349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1"/>
          <a:srcRect l="0" t="0" r="50124" b="52694"/>
          <a:stretch/>
        </p:blipFill>
        <p:spPr>
          <a:xfrm rot="13356000">
            <a:off x="5723640" y="3573000"/>
            <a:ext cx="1008360" cy="9352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rcRect l="0" t="0" r="50124" b="52694"/>
          <a:stretch/>
        </p:blipFill>
        <p:spPr>
          <a:xfrm rot="13356000">
            <a:off x="6803640" y="3573360"/>
            <a:ext cx="1008000" cy="9352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4080" y="1787400"/>
            <a:ext cx="3816360" cy="11527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56000" y="1773360"/>
            <a:ext cx="3816360" cy="1152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3284640"/>
            <a:ext cx="3816360" cy="1152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543560" y="3270240"/>
            <a:ext cx="3816360" cy="115236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08000" y="4581360"/>
            <a:ext cx="9036000" cy="2421720"/>
            <a:chOff x="108000" y="4581360"/>
            <a:chExt cx="9036000" cy="2421720"/>
          </a:xfrm>
        </p:grpSpPr>
        <p:grpSp>
          <p:nvGrpSpPr>
            <p:cNvPr id="350" name=""/>
            <p:cNvGrpSpPr/>
            <p:nvPr/>
          </p:nvGrpSpPr>
          <p:grpSpPr>
            <a:xfrm>
              <a:off x="1908000" y="5516640"/>
              <a:ext cx="792000" cy="1486440"/>
              <a:chOff x="1908000" y="5516640"/>
              <a:chExt cx="792000" cy="1486440"/>
            </a:xfrm>
          </p:grpSpPr>
          <p:sp>
            <p:nvSpPr>
              <p:cNvPr id="351" name=""/>
              <p:cNvSpPr/>
              <p:nvPr/>
            </p:nvSpPr>
            <p:spPr>
              <a:xfrm>
                <a:off x="1929600" y="6283440"/>
                <a:ext cx="63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08000" y="6238800"/>
                <a:ext cx="770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929600" y="5516640"/>
                <a:ext cx="770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108000" y="4797360"/>
              <a:ext cx="90360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   块平均分成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份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每份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   块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也就是    块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258920" y="4581360"/>
              <a:ext cx="791640" cy="1486440"/>
              <a:chOff x="1258920" y="4581360"/>
              <a:chExt cx="791640" cy="1486440"/>
            </a:xfrm>
          </p:grpSpPr>
          <p:sp>
            <p:nvSpPr>
              <p:cNvPr id="356" name=""/>
              <p:cNvSpPr/>
              <p:nvPr/>
            </p:nvSpPr>
            <p:spPr>
              <a:xfrm>
                <a:off x="1280520" y="5348160"/>
                <a:ext cx="62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58920" y="5303520"/>
                <a:ext cx="77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80520" y="4581360"/>
                <a:ext cx="77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380360" y="4581360"/>
              <a:ext cx="791640" cy="1486440"/>
              <a:chOff x="7380360" y="4581360"/>
              <a:chExt cx="791640" cy="1486440"/>
            </a:xfrm>
          </p:grpSpPr>
          <p:sp>
            <p:nvSpPr>
              <p:cNvPr id="360" name=""/>
              <p:cNvSpPr/>
              <p:nvPr/>
            </p:nvSpPr>
            <p:spPr>
              <a:xfrm>
                <a:off x="7401960" y="5348160"/>
                <a:ext cx="62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380360" y="5303520"/>
                <a:ext cx="77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01960" y="4581360"/>
                <a:ext cx="7700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3" name="">
            <a:hlinkClick r:id="rId13" action="ppaction://hlinksldjump"/>
          </p:cNvPr>
          <p:cNvSpPr/>
          <p:nvPr/>
        </p:nvSpPr>
        <p:spPr>
          <a:xfrm>
            <a:off x="824400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635120" y="2060640"/>
            <a:ext cx="560520" cy="679320"/>
            <a:chOff x="1635120" y="2060640"/>
            <a:chExt cx="560520" cy="679320"/>
          </a:xfrm>
        </p:grpSpPr>
        <p:sp>
          <p:nvSpPr>
            <p:cNvPr id="365" name=""/>
            <p:cNvSpPr/>
            <p:nvPr/>
          </p:nvSpPr>
          <p:spPr>
            <a:xfrm>
              <a:off x="1650960" y="242100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35120" y="237168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35120" y="206064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2643120" y="2060640"/>
            <a:ext cx="560520" cy="679320"/>
            <a:chOff x="2643120" y="2060640"/>
            <a:chExt cx="560520" cy="679320"/>
          </a:xfrm>
        </p:grpSpPr>
        <p:sp>
          <p:nvSpPr>
            <p:cNvPr id="369" name=""/>
            <p:cNvSpPr/>
            <p:nvPr/>
          </p:nvSpPr>
          <p:spPr>
            <a:xfrm>
              <a:off x="2658960" y="242100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43120" y="237168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43120" y="206064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724200" y="2060640"/>
            <a:ext cx="560520" cy="679320"/>
            <a:chOff x="3724200" y="2060640"/>
            <a:chExt cx="560520" cy="679320"/>
          </a:xfrm>
        </p:grpSpPr>
        <p:sp>
          <p:nvSpPr>
            <p:cNvPr id="373" name=""/>
            <p:cNvSpPr/>
            <p:nvPr/>
          </p:nvSpPr>
          <p:spPr>
            <a:xfrm>
              <a:off x="3740040" y="242100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24200" y="237168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24200" y="206064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46760" y="1989000"/>
            <a:ext cx="560160" cy="679320"/>
            <a:chOff x="4946760" y="1989000"/>
            <a:chExt cx="560160" cy="679320"/>
          </a:xfrm>
        </p:grpSpPr>
        <p:sp>
          <p:nvSpPr>
            <p:cNvPr id="377" name=""/>
            <p:cNvSpPr/>
            <p:nvPr/>
          </p:nvSpPr>
          <p:spPr>
            <a:xfrm>
              <a:off x="4962240" y="2349360"/>
              <a:ext cx="3441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6760" y="23000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46760" y="19890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954760" y="1989000"/>
            <a:ext cx="560520" cy="679320"/>
            <a:chOff x="5954760" y="1989000"/>
            <a:chExt cx="560520" cy="679320"/>
          </a:xfrm>
        </p:grpSpPr>
        <p:sp>
          <p:nvSpPr>
            <p:cNvPr id="381" name=""/>
            <p:cNvSpPr/>
            <p:nvPr/>
          </p:nvSpPr>
          <p:spPr>
            <a:xfrm>
              <a:off x="5970600" y="234936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54760" y="230004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54760" y="198900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035840" y="1989000"/>
            <a:ext cx="560520" cy="679320"/>
            <a:chOff x="7035840" y="1989000"/>
            <a:chExt cx="560520" cy="679320"/>
          </a:xfrm>
        </p:grpSpPr>
        <p:sp>
          <p:nvSpPr>
            <p:cNvPr id="385" name=""/>
            <p:cNvSpPr/>
            <p:nvPr/>
          </p:nvSpPr>
          <p:spPr>
            <a:xfrm>
              <a:off x="7051680" y="234936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35840" y="230004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35840" y="198900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706400" y="3571920"/>
            <a:ext cx="560520" cy="679320"/>
            <a:chOff x="1706400" y="3571920"/>
            <a:chExt cx="560520" cy="679320"/>
          </a:xfrm>
        </p:grpSpPr>
        <p:sp>
          <p:nvSpPr>
            <p:cNvPr id="389" name=""/>
            <p:cNvSpPr/>
            <p:nvPr/>
          </p:nvSpPr>
          <p:spPr>
            <a:xfrm>
              <a:off x="1722240" y="393228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06400" y="388296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06400" y="357192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714760" y="3571920"/>
            <a:ext cx="560160" cy="679320"/>
            <a:chOff x="2714760" y="3571920"/>
            <a:chExt cx="560160" cy="679320"/>
          </a:xfrm>
        </p:grpSpPr>
        <p:sp>
          <p:nvSpPr>
            <p:cNvPr id="393" name=""/>
            <p:cNvSpPr/>
            <p:nvPr/>
          </p:nvSpPr>
          <p:spPr>
            <a:xfrm>
              <a:off x="2730240" y="3932280"/>
              <a:ext cx="3441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14760" y="3882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14760" y="35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795840" y="3571920"/>
            <a:ext cx="560160" cy="679320"/>
            <a:chOff x="3795840" y="3571920"/>
            <a:chExt cx="560160" cy="679320"/>
          </a:xfrm>
        </p:grpSpPr>
        <p:sp>
          <p:nvSpPr>
            <p:cNvPr id="397" name=""/>
            <p:cNvSpPr/>
            <p:nvPr/>
          </p:nvSpPr>
          <p:spPr>
            <a:xfrm>
              <a:off x="3811320" y="3932280"/>
              <a:ext cx="3441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95840" y="38829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95840" y="35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18040" y="3500280"/>
            <a:ext cx="560520" cy="679320"/>
            <a:chOff x="5018040" y="3500280"/>
            <a:chExt cx="560520" cy="679320"/>
          </a:xfrm>
        </p:grpSpPr>
        <p:sp>
          <p:nvSpPr>
            <p:cNvPr id="401" name=""/>
            <p:cNvSpPr/>
            <p:nvPr/>
          </p:nvSpPr>
          <p:spPr>
            <a:xfrm>
              <a:off x="5033880" y="386064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8040" y="381132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018040" y="350028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6026040" y="3500280"/>
            <a:ext cx="560520" cy="679320"/>
            <a:chOff x="6026040" y="3500280"/>
            <a:chExt cx="560520" cy="679320"/>
          </a:xfrm>
        </p:grpSpPr>
        <p:sp>
          <p:nvSpPr>
            <p:cNvPr id="405" name=""/>
            <p:cNvSpPr/>
            <p:nvPr/>
          </p:nvSpPr>
          <p:spPr>
            <a:xfrm>
              <a:off x="6041880" y="386064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26040" y="381132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6040" y="350028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7107120" y="3500280"/>
            <a:ext cx="560520" cy="679320"/>
            <a:chOff x="7107120" y="3500280"/>
            <a:chExt cx="560520" cy="679320"/>
          </a:xfrm>
        </p:grpSpPr>
        <p:sp>
          <p:nvSpPr>
            <p:cNvPr id="409" name=""/>
            <p:cNvSpPr/>
            <p:nvPr/>
          </p:nvSpPr>
          <p:spPr>
            <a:xfrm>
              <a:off x="7122960" y="3860640"/>
              <a:ext cx="3445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107120" y="381132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07120" y="3500280"/>
              <a:ext cx="56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Verdana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050920" y="31701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3÷4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922560" y="2881440"/>
            <a:ext cx="2447640" cy="1454760"/>
            <a:chOff x="3922560" y="2881440"/>
            <a:chExt cx="2447640" cy="1454760"/>
          </a:xfrm>
        </p:grpSpPr>
        <p:sp>
          <p:nvSpPr>
            <p:cNvPr id="414" name=""/>
            <p:cNvSpPr/>
            <p:nvPr/>
          </p:nvSpPr>
          <p:spPr>
            <a:xfrm flipV="1">
              <a:off x="4354200" y="364032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22560" y="35719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922560" y="28814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621320" y="2881440"/>
            <a:ext cx="814320" cy="1486440"/>
            <a:chOff x="4621320" y="2881440"/>
            <a:chExt cx="814320" cy="1486440"/>
          </a:xfrm>
        </p:grpSpPr>
        <p:sp>
          <p:nvSpPr>
            <p:cNvPr id="418" name=""/>
            <p:cNvSpPr/>
            <p:nvPr/>
          </p:nvSpPr>
          <p:spPr>
            <a:xfrm>
              <a:off x="4643640" y="36482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621320" y="360360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43640" y="288144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5580000" y="32418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9640" y="333360"/>
            <a:ext cx="792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块饼平均分给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个小朋友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每人分得   块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3059280" y="936720"/>
            <a:ext cx="791640" cy="1486440"/>
            <a:chOff x="3059280" y="936720"/>
            <a:chExt cx="791640" cy="1486440"/>
          </a:xfrm>
        </p:grpSpPr>
        <p:sp>
          <p:nvSpPr>
            <p:cNvPr id="424" name=""/>
            <p:cNvSpPr/>
            <p:nvPr/>
          </p:nvSpPr>
          <p:spPr>
            <a:xfrm>
              <a:off x="3080880" y="1703520"/>
              <a:ext cx="62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9280" y="1658880"/>
              <a:ext cx="7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80880" y="936720"/>
              <a:ext cx="770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187280" y="2276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你是怎样想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小组里交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4360" y="56674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观察上面的两个等式，你发现分数与除法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195640" y="2779560"/>
            <a:ext cx="4680000" cy="1494360"/>
            <a:chOff x="2195640" y="2779560"/>
            <a:chExt cx="4680000" cy="1494360"/>
          </a:xfrm>
        </p:grpSpPr>
        <p:sp>
          <p:nvSpPr>
            <p:cNvPr id="430" name=""/>
            <p:cNvSpPr/>
            <p:nvPr/>
          </p:nvSpPr>
          <p:spPr>
            <a:xfrm>
              <a:off x="2195640" y="3009600"/>
              <a:ext cx="35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3÷5</a:t>
              </a:r>
              <a:r>
                <a:rPr b="1" lang="zh-CN" sz="6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4354560" y="2779560"/>
              <a:ext cx="2447640" cy="1454400"/>
              <a:chOff x="4354560" y="2779560"/>
              <a:chExt cx="2447640" cy="145440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4786200" y="3537720"/>
                <a:ext cx="1224000" cy="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54560" y="346968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54560" y="277956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6012000" y="313992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5065560" y="2787480"/>
              <a:ext cx="814320" cy="1486440"/>
              <a:chOff x="5065560" y="2787480"/>
              <a:chExt cx="814320" cy="1486440"/>
            </a:xfrm>
          </p:grpSpPr>
          <p:sp>
            <p:nvSpPr>
              <p:cNvPr id="437" name=""/>
              <p:cNvSpPr/>
              <p:nvPr/>
            </p:nvSpPr>
            <p:spPr>
              <a:xfrm>
                <a:off x="5087880" y="355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065560" y="350964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087880" y="27874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"/>
          <p:cNvGrpSpPr/>
          <p:nvPr/>
        </p:nvGrpSpPr>
        <p:grpSpPr>
          <a:xfrm>
            <a:off x="2124000" y="4148280"/>
            <a:ext cx="4608720" cy="1486440"/>
            <a:chOff x="2124000" y="4148280"/>
            <a:chExt cx="4608720" cy="1486440"/>
          </a:xfrm>
        </p:grpSpPr>
        <p:sp>
          <p:nvSpPr>
            <p:cNvPr id="441" name=""/>
            <p:cNvSpPr/>
            <p:nvPr/>
          </p:nvSpPr>
          <p:spPr>
            <a:xfrm>
              <a:off x="2124000" y="443700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÷4</a:t>
              </a: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4211640" y="4148280"/>
              <a:ext cx="2447640" cy="1454760"/>
              <a:chOff x="4211640" y="4148280"/>
              <a:chExt cx="2447640" cy="145476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4643280" y="4907160"/>
                <a:ext cx="1224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11640" y="483876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11640" y="414828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4910040" y="4148280"/>
              <a:ext cx="814320" cy="1486440"/>
              <a:chOff x="4910040" y="4148280"/>
              <a:chExt cx="814320" cy="1486440"/>
            </a:xfrm>
          </p:grpSpPr>
          <p:sp>
            <p:nvSpPr>
              <p:cNvPr id="447" name=""/>
              <p:cNvSpPr/>
              <p:nvPr/>
            </p:nvSpPr>
            <p:spPr>
              <a:xfrm>
                <a:off x="4932360" y="49150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10040" y="487044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ff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32360" y="41482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ff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5869080" y="4508640"/>
              <a:ext cx="863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块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39640" y="333360"/>
            <a:ext cx="7921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块饼平均分给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个小朋友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每人分得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块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2197080" y="-27000"/>
            <a:ext cx="4680000" cy="1494360"/>
            <a:chOff x="2197080" y="-27000"/>
            <a:chExt cx="4680000" cy="1494360"/>
          </a:xfrm>
        </p:grpSpPr>
        <p:sp>
          <p:nvSpPr>
            <p:cNvPr id="453" name=""/>
            <p:cNvSpPr/>
            <p:nvPr/>
          </p:nvSpPr>
          <p:spPr>
            <a:xfrm>
              <a:off x="2197080" y="203040"/>
              <a:ext cx="35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3÷5</a:t>
              </a:r>
              <a:r>
                <a:rPr b="1" lang="zh-CN" sz="60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4356000" y="-27000"/>
              <a:ext cx="2447640" cy="1454400"/>
              <a:chOff x="4356000" y="-27000"/>
              <a:chExt cx="2447640" cy="145440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4787640" y="731160"/>
                <a:ext cx="1224000" cy="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56000" y="66312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356000" y="-2700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6013440" y="333360"/>
              <a:ext cx="86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5067000" y="-19080"/>
              <a:ext cx="814320" cy="1486440"/>
              <a:chOff x="5067000" y="-19080"/>
              <a:chExt cx="814320" cy="1486440"/>
            </a:xfrm>
          </p:grpSpPr>
          <p:sp>
            <p:nvSpPr>
              <p:cNvPr id="460" name=""/>
              <p:cNvSpPr/>
              <p:nvPr/>
            </p:nvSpPr>
            <p:spPr>
              <a:xfrm>
                <a:off x="5089320" y="74772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67000" y="7030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89320" y="-190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124000" y="1657440"/>
            <a:ext cx="4608720" cy="1486440"/>
            <a:chOff x="2124000" y="1657440"/>
            <a:chExt cx="4608720" cy="1486440"/>
          </a:xfrm>
        </p:grpSpPr>
        <p:sp>
          <p:nvSpPr>
            <p:cNvPr id="464" name=""/>
            <p:cNvSpPr/>
            <p:nvPr/>
          </p:nvSpPr>
          <p:spPr>
            <a:xfrm>
              <a:off x="2124000" y="1946160"/>
              <a:ext cx="2808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÷4</a:t>
              </a:r>
              <a:r>
                <a:rPr b="1" lang="zh-CN" sz="6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＝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211640" y="1657440"/>
              <a:ext cx="2447640" cy="1454760"/>
              <a:chOff x="4211640" y="1657440"/>
              <a:chExt cx="2447640" cy="1454760"/>
            </a:xfrm>
          </p:grpSpPr>
          <p:sp>
            <p:nvSpPr>
              <p:cNvPr id="466" name=""/>
              <p:cNvSpPr/>
              <p:nvPr/>
            </p:nvSpPr>
            <p:spPr>
              <a:xfrm flipV="1">
                <a:off x="4643280" y="2416320"/>
                <a:ext cx="1224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11640" y="234792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11640" y="165744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910040" y="1657440"/>
              <a:ext cx="814320" cy="1486440"/>
              <a:chOff x="4910040" y="1657440"/>
              <a:chExt cx="814320" cy="1486440"/>
            </a:xfrm>
          </p:grpSpPr>
          <p:sp>
            <p:nvSpPr>
              <p:cNvPr id="470" name=""/>
              <p:cNvSpPr/>
              <p:nvPr/>
            </p:nvSpPr>
            <p:spPr>
              <a:xfrm>
                <a:off x="4932360" y="242424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910040" y="237960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ff"/>
                    </a:solidFill>
                    <a:latin typeface="Verdana"/>
                    <a:ea typeface="宋体"/>
                  </a:rPr>
                  <a:t>4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32360" y="165744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ff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869080" y="2017800"/>
              <a:ext cx="863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块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755640" y="386064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被除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除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160960" y="3632040"/>
            <a:ext cx="3526920" cy="1454760"/>
            <a:chOff x="5160960" y="3632040"/>
            <a:chExt cx="3526920" cy="1454760"/>
          </a:xfrm>
        </p:grpSpPr>
        <p:sp>
          <p:nvSpPr>
            <p:cNvPr id="476" name=""/>
            <p:cNvSpPr/>
            <p:nvPr/>
          </p:nvSpPr>
          <p:spPr>
            <a:xfrm flipV="1">
              <a:off x="5782680" y="4390920"/>
              <a:ext cx="176364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160960" y="4322520"/>
              <a:ext cx="352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 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60960" y="3632040"/>
              <a:ext cx="3526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 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55640" y="38606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被除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9236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除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12162 C 0.0408 -0.13873 0.08264 -0.15584 0.13802 -0.16069 C 0.19358 -0.16555 0.26962 -0.16277 0.33125 -0.15144 C 0.39289 -0.14011 0.47414 -0.10821 0.50782 -0.09202 C 0.54167 -0.07607 0.5375 -0.06589 0.53351 -0.05526 E">
                                      <p:cBhvr>
                                        <p:cTn id="272" dur="5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60116E-006 C 0.01025 0.03584 0.02084 0.0719 0.03872 0.09896 C 0.0566 0.12578 0.08177 0.14936 0.10747 0.16115 C 0.13316 0.17295 0.1665 0.18728 0.19289 0.16948 C 0.21945 0.1519 0.24271 0.10381 0.26632 0.05618 E">
                                      <p:cBhvr>
                                        <p:cTn id="276" dur="3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466560" y="2565360"/>
            <a:ext cx="849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如果用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表示被除数，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表示除数，可以写成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82920" y="412920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a÷b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427640" y="3860640"/>
            <a:ext cx="2447640" cy="1454760"/>
            <a:chOff x="4427640" y="3860640"/>
            <a:chExt cx="2447640" cy="1454760"/>
          </a:xfrm>
        </p:grpSpPr>
        <p:sp>
          <p:nvSpPr>
            <p:cNvPr id="484" name=""/>
            <p:cNvSpPr/>
            <p:nvPr/>
          </p:nvSpPr>
          <p:spPr>
            <a:xfrm flipV="1">
              <a:off x="4859280" y="461952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27640" y="4551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27640" y="38606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138640" y="3868560"/>
            <a:ext cx="814320" cy="1486440"/>
            <a:chOff x="5138640" y="3868560"/>
            <a:chExt cx="814320" cy="1486440"/>
          </a:xfrm>
        </p:grpSpPr>
        <p:sp>
          <p:nvSpPr>
            <p:cNvPr id="488" name=""/>
            <p:cNvSpPr/>
            <p:nvPr/>
          </p:nvSpPr>
          <p:spPr>
            <a:xfrm>
              <a:off x="5160960" y="463536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138640" y="45907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b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60960" y="386856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771640" y="5805360"/>
            <a:ext cx="36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可以是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吗</a:t>
            </a: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9640" y="62064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被除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宋体"/>
              </a:rPr>
              <a:t>除数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5076720" y="392040"/>
            <a:ext cx="3527280" cy="1454760"/>
            <a:chOff x="5076720" y="392040"/>
            <a:chExt cx="3527280" cy="1454760"/>
          </a:xfrm>
        </p:grpSpPr>
        <p:sp>
          <p:nvSpPr>
            <p:cNvPr id="494" name=""/>
            <p:cNvSpPr/>
            <p:nvPr/>
          </p:nvSpPr>
          <p:spPr>
            <a:xfrm flipV="1">
              <a:off x="5698440" y="1150920"/>
              <a:ext cx="176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76720" y="1082520"/>
              <a:ext cx="352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 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76720" y="392040"/>
              <a:ext cx="3527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 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653080" y="260280"/>
            <a:ext cx="2316240" cy="1700640"/>
            <a:chOff x="5653080" y="260280"/>
            <a:chExt cx="2316240" cy="1700640"/>
          </a:xfrm>
        </p:grpSpPr>
        <p:sp>
          <p:nvSpPr>
            <p:cNvPr id="498" name=""/>
            <p:cNvSpPr/>
            <p:nvPr/>
          </p:nvSpPr>
          <p:spPr>
            <a:xfrm>
              <a:off x="5796000" y="1196640"/>
              <a:ext cx="2173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53080" y="260280"/>
              <a:ext cx="2173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Verdana"/>
                  <a:ea typeface="宋体"/>
                </a:rPr>
                <a:t>被除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300720" y="4076640"/>
            <a:ext cx="20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(b≠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763640" y="69228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米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471840" y="333360"/>
            <a:ext cx="2447640" cy="1454760"/>
            <a:chOff x="3471840" y="333360"/>
            <a:chExt cx="2447640" cy="1454760"/>
          </a:xfrm>
        </p:grpSpPr>
        <p:sp>
          <p:nvSpPr>
            <p:cNvPr id="503" name=""/>
            <p:cNvSpPr/>
            <p:nvPr/>
          </p:nvSpPr>
          <p:spPr>
            <a:xfrm flipV="1">
              <a:off x="3903480" y="109224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71840" y="10238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71840" y="3333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5241960" y="692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92360" y="550404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03640" y="5216400"/>
            <a:ext cx="2447640" cy="1454760"/>
            <a:chOff x="3203640" y="5216400"/>
            <a:chExt cx="2447640" cy="1454760"/>
          </a:xfrm>
        </p:grpSpPr>
        <p:sp>
          <p:nvSpPr>
            <p:cNvPr id="509" name=""/>
            <p:cNvSpPr/>
            <p:nvPr/>
          </p:nvSpPr>
          <p:spPr>
            <a:xfrm flipV="1">
              <a:off x="3635280" y="597528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203640" y="59068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3640" y="52164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5170320" y="55040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试一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900000" y="364500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0000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547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95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43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19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995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43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291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3892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15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rot="16200000">
            <a:off x="3528000" y="-710280"/>
            <a:ext cx="936720" cy="6193080"/>
          </a:xfrm>
          <a:custGeom>
            <a:avLst/>
            <a:gdLst>
              <a:gd name="textAreaLeft" fmla="*/ 0 w 936720"/>
              <a:gd name="textAreaRight" fmla="*/ 338040 w 936720"/>
              <a:gd name="textAreaTop" fmla="*/ 161280 h 6193080"/>
              <a:gd name="textAreaBottom" fmla="*/ 6031800 h 619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317"/>
                </a:lnTo>
                <a:cubicBezTo>
                  <a:pt x="10800" y="7217"/>
                  <a:pt x="16200" y="8117"/>
                  <a:pt x="21600" y="8117"/>
                </a:cubicBezTo>
                <a:cubicBezTo>
                  <a:pt x="16200" y="8117"/>
                  <a:pt x="10800" y="9017"/>
                  <a:pt x="10800" y="9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2124000" y="3933720"/>
            <a:ext cx="1973160" cy="1023840"/>
            <a:chOff x="2124000" y="3933720"/>
            <a:chExt cx="1973160" cy="1023840"/>
          </a:xfrm>
        </p:grpSpPr>
        <p:grpSp>
          <p:nvGrpSpPr>
            <p:cNvPr id="528" name=""/>
            <p:cNvGrpSpPr/>
            <p:nvPr/>
          </p:nvGrpSpPr>
          <p:grpSpPr>
            <a:xfrm>
              <a:off x="2124000" y="3933720"/>
              <a:ext cx="1973160" cy="1023840"/>
              <a:chOff x="2124000" y="3933720"/>
              <a:chExt cx="1973160" cy="1023840"/>
            </a:xfrm>
          </p:grpSpPr>
          <p:sp>
            <p:nvSpPr>
              <p:cNvPr id="529" name=""/>
              <p:cNvSpPr/>
              <p:nvPr/>
            </p:nvSpPr>
            <p:spPr>
              <a:xfrm flipV="1">
                <a:off x="2441520" y="4437000"/>
                <a:ext cx="503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52440" y="4437000"/>
                <a:ext cx="19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24000" y="3933720"/>
                <a:ext cx="19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2989080" y="407484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 rot="5400000">
            <a:off x="2952720" y="1665000"/>
            <a:ext cx="287280" cy="4392720"/>
          </a:xfrm>
          <a:custGeom>
            <a:avLst/>
            <a:gdLst>
              <a:gd name="textAreaLeft" fmla="*/ 0 w 287280"/>
              <a:gd name="textAreaRight" fmla="*/ 103680 w 28728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16360" y="155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16200000">
            <a:off x="2952720" y="1089000"/>
            <a:ext cx="287280" cy="4392720"/>
          </a:xfrm>
          <a:custGeom>
            <a:avLst/>
            <a:gdLst>
              <a:gd name="textAreaLeft" fmla="*/ 0 w 287280"/>
              <a:gd name="textAreaRight" fmla="*/ 103680 w 28728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6938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3952800" y="404640"/>
            <a:ext cx="1367640" cy="1340640"/>
            <a:chOff x="3952800" y="404640"/>
            <a:chExt cx="1367640" cy="1340640"/>
          </a:xfrm>
        </p:grpSpPr>
        <p:sp>
          <p:nvSpPr>
            <p:cNvPr id="538" name=""/>
            <p:cNvSpPr/>
            <p:nvPr/>
          </p:nvSpPr>
          <p:spPr>
            <a:xfrm>
              <a:off x="3952800" y="98100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22640" y="40464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708360" y="5300640"/>
            <a:ext cx="1367640" cy="1340280"/>
            <a:chOff x="3708360" y="5300640"/>
            <a:chExt cx="1367640" cy="1340280"/>
          </a:xfrm>
        </p:grpSpPr>
        <p:sp>
          <p:nvSpPr>
            <p:cNvPr id="541" name=""/>
            <p:cNvSpPr/>
            <p:nvPr/>
          </p:nvSpPr>
          <p:spPr>
            <a:xfrm>
              <a:off x="3708360" y="587664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6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78200" y="530064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2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684360" y="112536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7÷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484360" y="765000"/>
            <a:ext cx="2447640" cy="1454760"/>
            <a:chOff x="2484360" y="765000"/>
            <a:chExt cx="2447640" cy="1454760"/>
          </a:xfrm>
        </p:grpSpPr>
        <p:sp>
          <p:nvSpPr>
            <p:cNvPr id="545" name=""/>
            <p:cNvSpPr/>
            <p:nvPr/>
          </p:nvSpPr>
          <p:spPr>
            <a:xfrm flipV="1">
              <a:off x="2916000" y="152388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84360" y="14554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484360" y="7650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5005440" y="1052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÷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6516720" y="692280"/>
            <a:ext cx="2447640" cy="1454760"/>
            <a:chOff x="6516720" y="692280"/>
            <a:chExt cx="2447640" cy="1454760"/>
          </a:xfrm>
        </p:grpSpPr>
        <p:sp>
          <p:nvSpPr>
            <p:cNvPr id="550" name=""/>
            <p:cNvSpPr/>
            <p:nvPr/>
          </p:nvSpPr>
          <p:spPr>
            <a:xfrm flipV="1">
              <a:off x="6948360" y="145116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516720" y="13827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16720" y="6922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01680" y="2492280"/>
            <a:ext cx="5134320" cy="1486440"/>
            <a:chOff x="2101680" y="2492280"/>
            <a:chExt cx="5134320" cy="1486440"/>
          </a:xfrm>
        </p:grpSpPr>
        <p:grpSp>
          <p:nvGrpSpPr>
            <p:cNvPr id="554" name=""/>
            <p:cNvGrpSpPr/>
            <p:nvPr/>
          </p:nvGrpSpPr>
          <p:grpSpPr>
            <a:xfrm>
              <a:off x="2101680" y="2492280"/>
              <a:ext cx="814320" cy="1486440"/>
              <a:chOff x="2101680" y="2492280"/>
              <a:chExt cx="814320" cy="1486440"/>
            </a:xfrm>
          </p:grpSpPr>
          <p:sp>
            <p:nvSpPr>
              <p:cNvPr id="555" name=""/>
              <p:cNvSpPr/>
              <p:nvPr/>
            </p:nvSpPr>
            <p:spPr>
              <a:xfrm>
                <a:off x="2124000" y="32590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101680" y="321444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5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124000" y="249228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9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2771640" y="2844720"/>
              <a:ext cx="4464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（　）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÷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　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2052720" y="4465800"/>
            <a:ext cx="5327640" cy="1486440"/>
            <a:chOff x="2052720" y="4465800"/>
            <a:chExt cx="5327640" cy="1486440"/>
          </a:xfrm>
        </p:grpSpPr>
        <p:grpSp>
          <p:nvGrpSpPr>
            <p:cNvPr id="560" name=""/>
            <p:cNvGrpSpPr/>
            <p:nvPr/>
          </p:nvGrpSpPr>
          <p:grpSpPr>
            <a:xfrm>
              <a:off x="2052720" y="4465800"/>
              <a:ext cx="814320" cy="1486440"/>
              <a:chOff x="2052720" y="4465800"/>
              <a:chExt cx="814320" cy="1486440"/>
            </a:xfrm>
          </p:grpSpPr>
          <p:sp>
            <p:nvSpPr>
              <p:cNvPr id="561" name=""/>
              <p:cNvSpPr/>
              <p:nvPr/>
            </p:nvSpPr>
            <p:spPr>
              <a:xfrm>
                <a:off x="2075040" y="523260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52720" y="518796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8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75040" y="4465800"/>
                <a:ext cx="792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2722680" y="4818240"/>
              <a:ext cx="4657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（　）</a:t>
              </a: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÷</a:t>
              </a:r>
              <a:r>
                <a:rPr b="1" lang="zh-CN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　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987640" y="836640"/>
            <a:ext cx="1367640" cy="1340280"/>
            <a:chOff x="2987640" y="836640"/>
            <a:chExt cx="1367640" cy="1340280"/>
          </a:xfrm>
        </p:grpSpPr>
        <p:sp>
          <p:nvSpPr>
            <p:cNvPr id="566" name=""/>
            <p:cNvSpPr/>
            <p:nvPr/>
          </p:nvSpPr>
          <p:spPr>
            <a:xfrm>
              <a:off x="2987640" y="141264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057480" y="83664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948360" y="765000"/>
            <a:ext cx="1368000" cy="1340640"/>
            <a:chOff x="6948360" y="765000"/>
            <a:chExt cx="1368000" cy="1340640"/>
          </a:xfrm>
        </p:grpSpPr>
        <p:sp>
          <p:nvSpPr>
            <p:cNvPr id="569" name=""/>
            <p:cNvSpPr/>
            <p:nvPr/>
          </p:nvSpPr>
          <p:spPr>
            <a:xfrm>
              <a:off x="6948360" y="1341360"/>
              <a:ext cx="1298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8200" y="765000"/>
              <a:ext cx="1298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3778200" y="2852640"/>
            <a:ext cx="12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宋体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012000" y="2852640"/>
            <a:ext cx="12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宋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80000" y="4797360"/>
            <a:ext cx="12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13440" y="4797360"/>
            <a:ext cx="12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宋体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2195640" y="2060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克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419640" y="1760400"/>
            <a:ext cx="2447640" cy="1454760"/>
            <a:chOff x="3419640" y="1760400"/>
            <a:chExt cx="2447640" cy="1454760"/>
          </a:xfrm>
        </p:grpSpPr>
        <p:sp>
          <p:nvSpPr>
            <p:cNvPr id="577" name=""/>
            <p:cNvSpPr/>
            <p:nvPr/>
          </p:nvSpPr>
          <p:spPr>
            <a:xfrm flipV="1">
              <a:off x="3851280" y="251928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19640" y="24508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419640" y="17604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5219640" y="2060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千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340000" y="4005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秒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3924360" y="3705120"/>
            <a:ext cx="2447640" cy="1454760"/>
            <a:chOff x="3924360" y="3705120"/>
            <a:chExt cx="2447640" cy="1454760"/>
          </a:xfrm>
        </p:grpSpPr>
        <p:sp>
          <p:nvSpPr>
            <p:cNvPr id="583" name=""/>
            <p:cNvSpPr/>
            <p:nvPr/>
          </p:nvSpPr>
          <p:spPr>
            <a:xfrm flipV="1">
              <a:off x="4356000" y="446400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24360" y="43956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24360" y="3705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5724360" y="403560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3780000" y="1844640"/>
            <a:ext cx="1512000" cy="1157400"/>
            <a:chOff x="3780000" y="1844640"/>
            <a:chExt cx="1512000" cy="1157400"/>
          </a:xfrm>
        </p:grpSpPr>
        <p:sp>
          <p:nvSpPr>
            <p:cNvPr id="588" name=""/>
            <p:cNvSpPr/>
            <p:nvPr/>
          </p:nvSpPr>
          <p:spPr>
            <a:xfrm>
              <a:off x="3780000" y="2420640"/>
              <a:ext cx="1434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00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857400" y="1844640"/>
              <a:ext cx="143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284720" y="3789360"/>
            <a:ext cx="1367640" cy="1340280"/>
            <a:chOff x="4284720" y="3789360"/>
            <a:chExt cx="1367640" cy="1340280"/>
          </a:xfrm>
        </p:grpSpPr>
        <p:sp>
          <p:nvSpPr>
            <p:cNvPr id="591" name=""/>
            <p:cNvSpPr/>
            <p:nvPr/>
          </p:nvSpPr>
          <p:spPr>
            <a:xfrm>
              <a:off x="4284720" y="4365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6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54560" y="3789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4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611280" y="506520"/>
            <a:ext cx="58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用分数表示各题的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55640" y="20494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÷8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124000" y="1689120"/>
            <a:ext cx="2447640" cy="1454760"/>
            <a:chOff x="2124000" y="1689120"/>
            <a:chExt cx="2447640" cy="1454760"/>
          </a:xfrm>
        </p:grpSpPr>
        <p:sp>
          <p:nvSpPr>
            <p:cNvPr id="596" name=""/>
            <p:cNvSpPr/>
            <p:nvPr/>
          </p:nvSpPr>
          <p:spPr>
            <a:xfrm flipV="1">
              <a:off x="2555640" y="244800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24000" y="23796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24000" y="1689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4859280" y="20606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9÷4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6300720" y="1700280"/>
            <a:ext cx="2447640" cy="1454760"/>
            <a:chOff x="6300720" y="1700280"/>
            <a:chExt cx="2447640" cy="1454760"/>
          </a:xfrm>
        </p:grpSpPr>
        <p:sp>
          <p:nvSpPr>
            <p:cNvPr id="601" name=""/>
            <p:cNvSpPr/>
            <p:nvPr/>
          </p:nvSpPr>
          <p:spPr>
            <a:xfrm flipV="1">
              <a:off x="6732360" y="245916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00720" y="23907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00720" y="17002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39640" y="38196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÷17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2195640" y="3478320"/>
            <a:ext cx="2447640" cy="1454760"/>
            <a:chOff x="2195640" y="3478320"/>
            <a:chExt cx="2447640" cy="1454760"/>
          </a:xfrm>
        </p:grpSpPr>
        <p:sp>
          <p:nvSpPr>
            <p:cNvPr id="606" name=""/>
            <p:cNvSpPr/>
            <p:nvPr/>
          </p:nvSpPr>
          <p:spPr>
            <a:xfrm flipV="1">
              <a:off x="2627280" y="423720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95640" y="41688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95640" y="34783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500720" y="384984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3÷15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6516720" y="3500280"/>
            <a:ext cx="2447640" cy="1454760"/>
            <a:chOff x="6516720" y="3500280"/>
            <a:chExt cx="2447640" cy="1454760"/>
          </a:xfrm>
        </p:grpSpPr>
        <p:sp>
          <p:nvSpPr>
            <p:cNvPr id="611" name=""/>
            <p:cNvSpPr/>
            <p:nvPr/>
          </p:nvSpPr>
          <p:spPr>
            <a:xfrm flipV="1">
              <a:off x="6948360" y="425916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16720" y="41907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16720" y="35002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627280" y="544500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1÷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4284720" y="5084640"/>
            <a:ext cx="2447640" cy="1454760"/>
            <a:chOff x="4284720" y="5084640"/>
            <a:chExt cx="2447640" cy="1454760"/>
          </a:xfrm>
        </p:grpSpPr>
        <p:sp>
          <p:nvSpPr>
            <p:cNvPr id="616" name=""/>
            <p:cNvSpPr/>
            <p:nvPr/>
          </p:nvSpPr>
          <p:spPr>
            <a:xfrm flipV="1">
              <a:off x="4716360" y="584352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284720" y="5775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4720" y="50846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484360" y="1773360"/>
            <a:ext cx="1367640" cy="1340280"/>
            <a:chOff x="2484360" y="1773360"/>
            <a:chExt cx="1367640" cy="1340280"/>
          </a:xfrm>
        </p:grpSpPr>
        <p:sp>
          <p:nvSpPr>
            <p:cNvPr id="620" name=""/>
            <p:cNvSpPr/>
            <p:nvPr/>
          </p:nvSpPr>
          <p:spPr>
            <a:xfrm>
              <a:off x="2484360" y="2349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54200" y="1773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6659640" y="1773360"/>
            <a:ext cx="1367640" cy="1340280"/>
            <a:chOff x="6659640" y="1773360"/>
            <a:chExt cx="1367640" cy="1340280"/>
          </a:xfrm>
        </p:grpSpPr>
        <p:sp>
          <p:nvSpPr>
            <p:cNvPr id="623" name=""/>
            <p:cNvSpPr/>
            <p:nvPr/>
          </p:nvSpPr>
          <p:spPr>
            <a:xfrm>
              <a:off x="6659640" y="2349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729480" y="1773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556000" y="3573360"/>
            <a:ext cx="1367640" cy="1340640"/>
            <a:chOff x="2556000" y="3573360"/>
            <a:chExt cx="1367640" cy="1340640"/>
          </a:xfrm>
        </p:grpSpPr>
        <p:sp>
          <p:nvSpPr>
            <p:cNvPr id="626" name=""/>
            <p:cNvSpPr/>
            <p:nvPr/>
          </p:nvSpPr>
          <p:spPr>
            <a:xfrm>
              <a:off x="2556000" y="414972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25840" y="3573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6877080" y="3573360"/>
            <a:ext cx="1367640" cy="1340640"/>
            <a:chOff x="6877080" y="3573360"/>
            <a:chExt cx="1367640" cy="1340640"/>
          </a:xfrm>
        </p:grpSpPr>
        <p:sp>
          <p:nvSpPr>
            <p:cNvPr id="629" name=""/>
            <p:cNvSpPr/>
            <p:nvPr/>
          </p:nvSpPr>
          <p:spPr>
            <a:xfrm>
              <a:off x="6877080" y="414972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46920" y="3573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2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4643280" y="5157720"/>
            <a:ext cx="1368000" cy="1340640"/>
            <a:chOff x="4643280" y="5157720"/>
            <a:chExt cx="1368000" cy="1340640"/>
          </a:xfrm>
        </p:grpSpPr>
        <p:sp>
          <p:nvSpPr>
            <p:cNvPr id="632" name=""/>
            <p:cNvSpPr/>
            <p:nvPr/>
          </p:nvSpPr>
          <p:spPr>
            <a:xfrm>
              <a:off x="4643280" y="5734080"/>
              <a:ext cx="1298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13120" y="5157720"/>
              <a:ext cx="1298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84360" y="333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在（　）里填上分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763640" y="170028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＝（　　）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979640" y="2924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秒＝（　　）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79640" y="422100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＝（　　）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50920" y="540396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时＝（　　）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27640" y="1341360"/>
            <a:ext cx="1078920" cy="1242720"/>
            <a:chOff x="4427640" y="1341360"/>
            <a:chExt cx="1078920" cy="1242720"/>
          </a:xfrm>
        </p:grpSpPr>
        <p:sp>
          <p:nvSpPr>
            <p:cNvPr id="640" name=""/>
            <p:cNvSpPr/>
            <p:nvPr/>
          </p:nvSpPr>
          <p:spPr>
            <a:xfrm>
              <a:off x="4457160" y="2108160"/>
              <a:ext cx="85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427640" y="2063520"/>
              <a:ext cx="104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57160" y="1341360"/>
              <a:ext cx="1049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356000" y="2565360"/>
            <a:ext cx="1223640" cy="1425600"/>
            <a:chOff x="4356000" y="2565360"/>
            <a:chExt cx="1223640" cy="1425600"/>
          </a:xfrm>
        </p:grpSpPr>
        <p:sp>
          <p:nvSpPr>
            <p:cNvPr id="644" name=""/>
            <p:cNvSpPr/>
            <p:nvPr/>
          </p:nvSpPr>
          <p:spPr>
            <a:xfrm>
              <a:off x="4389480" y="3332160"/>
              <a:ext cx="9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56000" y="3287520"/>
              <a:ext cx="119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89480" y="2565360"/>
              <a:ext cx="119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356000" y="3860640"/>
            <a:ext cx="1368000" cy="1425600"/>
            <a:chOff x="4356000" y="3860640"/>
            <a:chExt cx="1368000" cy="1425600"/>
          </a:xfrm>
        </p:grpSpPr>
        <p:sp>
          <p:nvSpPr>
            <p:cNvPr id="648" name=""/>
            <p:cNvSpPr/>
            <p:nvPr/>
          </p:nvSpPr>
          <p:spPr>
            <a:xfrm>
              <a:off x="4393440" y="4627440"/>
              <a:ext cx="10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56000" y="4582800"/>
              <a:ext cx="13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6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393440" y="3860640"/>
              <a:ext cx="1330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1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211640" y="5157720"/>
            <a:ext cx="1079280" cy="1364760"/>
            <a:chOff x="4211640" y="5157720"/>
            <a:chExt cx="1079280" cy="1364760"/>
          </a:xfrm>
        </p:grpSpPr>
        <p:sp>
          <p:nvSpPr>
            <p:cNvPr id="652" name=""/>
            <p:cNvSpPr/>
            <p:nvPr/>
          </p:nvSpPr>
          <p:spPr>
            <a:xfrm>
              <a:off x="4241160" y="5924520"/>
              <a:ext cx="85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1640" y="5879880"/>
              <a:ext cx="104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41160" y="5157720"/>
              <a:ext cx="104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90792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分米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米的是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也就是        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589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分米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067280" y="549360"/>
            <a:ext cx="1973160" cy="1397520"/>
            <a:chOff x="4067280" y="549360"/>
            <a:chExt cx="1973160" cy="1397520"/>
          </a:xfrm>
        </p:grpSpPr>
        <p:sp>
          <p:nvSpPr>
            <p:cNvPr id="49" name=""/>
            <p:cNvSpPr/>
            <p:nvPr/>
          </p:nvSpPr>
          <p:spPr>
            <a:xfrm flipV="1">
              <a:off x="4410000" y="1253520"/>
              <a:ext cx="97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95720" y="11826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67280" y="54936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7062840" y="549360"/>
            <a:ext cx="1973160" cy="1397520"/>
            <a:chOff x="7062840" y="549360"/>
            <a:chExt cx="1973160" cy="1397520"/>
          </a:xfrm>
        </p:grpSpPr>
        <p:sp>
          <p:nvSpPr>
            <p:cNvPr id="53" name=""/>
            <p:cNvSpPr/>
            <p:nvPr/>
          </p:nvSpPr>
          <p:spPr>
            <a:xfrm flipV="1">
              <a:off x="7405560" y="1253520"/>
              <a:ext cx="97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091280" y="11826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62840" y="54936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00000" y="364500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95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19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91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3892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52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3429000"/>
            <a:ext cx="0" cy="2160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3528000" y="-710280"/>
            <a:ext cx="936720" cy="6193080"/>
          </a:xfrm>
          <a:custGeom>
            <a:avLst/>
            <a:gdLst>
              <a:gd name="textAreaLeft" fmla="*/ 0 w 936720"/>
              <a:gd name="textAreaRight" fmla="*/ 338040 w 936720"/>
              <a:gd name="textAreaTop" fmla="*/ 161280 h 6193080"/>
              <a:gd name="textAreaBottom" fmla="*/ 6031800 h 619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317"/>
                </a:lnTo>
                <a:cubicBezTo>
                  <a:pt x="10800" y="7217"/>
                  <a:pt x="16200" y="8117"/>
                  <a:pt x="21600" y="8117"/>
                </a:cubicBezTo>
                <a:cubicBezTo>
                  <a:pt x="16200" y="8117"/>
                  <a:pt x="10800" y="9017"/>
                  <a:pt x="10800" y="9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11280" y="3860640"/>
            <a:ext cx="1973160" cy="1023840"/>
            <a:chOff x="611280" y="3860640"/>
            <a:chExt cx="1973160" cy="1023840"/>
          </a:xfrm>
        </p:grpSpPr>
        <p:grpSp>
          <p:nvGrpSpPr>
            <p:cNvPr id="70" name=""/>
            <p:cNvGrpSpPr/>
            <p:nvPr/>
          </p:nvGrpSpPr>
          <p:grpSpPr>
            <a:xfrm>
              <a:off x="611280" y="3860640"/>
              <a:ext cx="1973160" cy="1023840"/>
              <a:chOff x="611280" y="3860640"/>
              <a:chExt cx="1973160" cy="102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928800" y="4363920"/>
                <a:ext cx="503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9720" y="4363920"/>
                <a:ext cx="19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11280" y="3860640"/>
                <a:ext cx="194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476360" y="40017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5400000">
            <a:off x="1152000" y="3465360"/>
            <a:ext cx="142560" cy="647640"/>
          </a:xfrm>
          <a:custGeom>
            <a:avLst/>
            <a:gdLst>
              <a:gd name="textAreaLeft" fmla="*/ 0 w 142560"/>
              <a:gd name="textAreaRight" fmla="*/ 51480 w 1425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557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116720" y="2924640"/>
            <a:ext cx="214200" cy="647640"/>
          </a:xfrm>
          <a:custGeom>
            <a:avLst/>
            <a:gdLst>
              <a:gd name="textAreaLeft" fmla="*/ 0 w 214200"/>
              <a:gd name="textAreaRight" fmla="*/ 77400 w 2142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7655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572000" y="549360"/>
            <a:ext cx="792000" cy="1290240"/>
            <a:chOff x="4572000" y="549360"/>
            <a:chExt cx="792000" cy="1290240"/>
          </a:xfrm>
        </p:grpSpPr>
        <p:sp>
          <p:nvSpPr>
            <p:cNvPr id="80" name=""/>
            <p:cNvSpPr/>
            <p:nvPr/>
          </p:nvSpPr>
          <p:spPr>
            <a:xfrm>
              <a:off x="4716360" y="549360"/>
              <a:ext cx="57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1197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0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24720" y="620640"/>
            <a:ext cx="792360" cy="1290600"/>
            <a:chOff x="7524720" y="620640"/>
            <a:chExt cx="792360" cy="1290600"/>
          </a:xfrm>
        </p:grpSpPr>
        <p:sp>
          <p:nvSpPr>
            <p:cNvPr id="83" name=""/>
            <p:cNvSpPr/>
            <p:nvPr/>
          </p:nvSpPr>
          <p:spPr>
            <a:xfrm>
              <a:off x="7669440" y="620640"/>
              <a:ext cx="5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24720" y="1268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0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00000" y="517680"/>
            <a:ext cx="7417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米长的彩带平均分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份，每份长　　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524400" y="1278000"/>
            <a:ext cx="2158920" cy="1289160"/>
            <a:chOff x="3524400" y="1278000"/>
            <a:chExt cx="2158920" cy="1289160"/>
          </a:xfrm>
        </p:grpSpPr>
        <p:sp>
          <p:nvSpPr>
            <p:cNvPr id="657" name=""/>
            <p:cNvSpPr/>
            <p:nvPr/>
          </p:nvSpPr>
          <p:spPr>
            <a:xfrm>
              <a:off x="3524400" y="186372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　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17960" y="195588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68720" y="1278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8720" cy="95256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 rot="16200000">
            <a:off x="4407120" y="1382400"/>
            <a:ext cx="431640" cy="6048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157680 h 6048360"/>
              <a:gd name="textAreaBottom" fmla="*/ 589068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95640" y="4508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１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51280" y="1916280"/>
            <a:ext cx="12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73080" y="44280"/>
            <a:ext cx="66945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根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米长的彩带平均分成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份，每份有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个　　米，是      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5292720" y="836640"/>
            <a:ext cx="2158920" cy="1289160"/>
            <a:chOff x="5292720" y="836640"/>
            <a:chExt cx="2158920" cy="1289160"/>
          </a:xfrm>
        </p:grpSpPr>
        <p:sp>
          <p:nvSpPr>
            <p:cNvPr id="666" name=""/>
            <p:cNvSpPr/>
            <p:nvPr/>
          </p:nvSpPr>
          <p:spPr>
            <a:xfrm>
              <a:off x="5292720" y="1422360"/>
              <a:ext cx="215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　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86280" y="151452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37040" y="83664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2556000" y="1916280"/>
            <a:ext cx="2447640" cy="1454400"/>
            <a:chOff x="2556000" y="1916280"/>
            <a:chExt cx="2447640" cy="1454400"/>
          </a:xfrm>
        </p:grpSpPr>
        <p:sp>
          <p:nvSpPr>
            <p:cNvPr id="670" name=""/>
            <p:cNvSpPr/>
            <p:nvPr/>
          </p:nvSpPr>
          <p:spPr>
            <a:xfrm flipV="1">
              <a:off x="2987640" y="2674440"/>
              <a:ext cx="1224000" cy="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6000" y="26064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6000" y="19162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403280" y="4540320"/>
            <a:ext cx="6408720" cy="9525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 rot="16200000">
            <a:off x="4406760" y="2709720"/>
            <a:ext cx="432000" cy="6048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57680 h 6048360"/>
              <a:gd name="textAreaBottom" fmla="*/ 5890680 h 604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95640" y="58356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１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2"/>
          <a:stretch/>
        </p:blipFill>
        <p:spPr>
          <a:xfrm>
            <a:off x="1403280" y="3700440"/>
            <a:ext cx="6408720" cy="9525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1258920" y="3211560"/>
            <a:ext cx="2592360" cy="26654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49840" y="1413000"/>
            <a:ext cx="12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宋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916360" y="1989000"/>
            <a:ext cx="1367640" cy="1340640"/>
            <a:chOff x="2916360" y="1989000"/>
            <a:chExt cx="1367640" cy="1340640"/>
          </a:xfrm>
        </p:grpSpPr>
        <p:sp>
          <p:nvSpPr>
            <p:cNvPr id="680" name=""/>
            <p:cNvSpPr/>
            <p:nvPr/>
          </p:nvSpPr>
          <p:spPr>
            <a:xfrm>
              <a:off x="2916360" y="2565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86200" y="198900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611280" y="1184400"/>
            <a:ext cx="76327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把一袋重２千克的糖果平均分给５个小朋友，每人分得这袋糖果的　 　，是　　　千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124000" y="2840040"/>
            <a:ext cx="2447640" cy="1454760"/>
            <a:chOff x="2124000" y="2840040"/>
            <a:chExt cx="2447640" cy="1454760"/>
          </a:xfrm>
        </p:grpSpPr>
        <p:sp>
          <p:nvSpPr>
            <p:cNvPr id="684" name=""/>
            <p:cNvSpPr/>
            <p:nvPr/>
          </p:nvSpPr>
          <p:spPr>
            <a:xfrm flipV="1">
              <a:off x="2555640" y="359892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24000" y="35305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24000" y="28400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572000" y="2913120"/>
            <a:ext cx="2447640" cy="1454760"/>
            <a:chOff x="4572000" y="2913120"/>
            <a:chExt cx="2447640" cy="1454760"/>
          </a:xfrm>
        </p:grpSpPr>
        <p:sp>
          <p:nvSpPr>
            <p:cNvPr id="688" name=""/>
            <p:cNvSpPr/>
            <p:nvPr/>
          </p:nvSpPr>
          <p:spPr>
            <a:xfrm flipV="1">
              <a:off x="5003640" y="367200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72000" y="36036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572000" y="2913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484360" y="2924280"/>
            <a:ext cx="1367640" cy="1340280"/>
            <a:chOff x="2484360" y="2924280"/>
            <a:chExt cx="1367640" cy="1340280"/>
          </a:xfrm>
        </p:grpSpPr>
        <p:sp>
          <p:nvSpPr>
            <p:cNvPr id="692" name=""/>
            <p:cNvSpPr/>
            <p:nvPr/>
          </p:nvSpPr>
          <p:spPr>
            <a:xfrm>
              <a:off x="2484360" y="350028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54200" y="292428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932360" y="2997360"/>
            <a:ext cx="1367640" cy="1340280"/>
            <a:chOff x="4932360" y="2997360"/>
            <a:chExt cx="1367640" cy="1340280"/>
          </a:xfrm>
        </p:grpSpPr>
        <p:sp>
          <p:nvSpPr>
            <p:cNvPr id="695" name=""/>
            <p:cNvSpPr/>
            <p:nvPr/>
          </p:nvSpPr>
          <p:spPr>
            <a:xfrm>
              <a:off x="4932360" y="3573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002200" y="299736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371520"/>
            <a:ext cx="8161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先填空，再根据分数和除法的关系列出算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39640" y="2421000"/>
            <a:ext cx="80647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小芳每天睡眠９小时，她一天睡眠时间占全天的  　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5508720" y="3213000"/>
            <a:ext cx="2447640" cy="1454760"/>
            <a:chOff x="5508720" y="3213000"/>
            <a:chExt cx="2447640" cy="1454760"/>
          </a:xfrm>
        </p:grpSpPr>
        <p:sp>
          <p:nvSpPr>
            <p:cNvPr id="700" name=""/>
            <p:cNvSpPr/>
            <p:nvPr/>
          </p:nvSpPr>
          <p:spPr>
            <a:xfrm flipV="1">
              <a:off x="5940360" y="397188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508720" y="39034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508720" y="32130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187280" y="511488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列式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5157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9÷2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932360" y="4784760"/>
            <a:ext cx="2447640" cy="1454760"/>
            <a:chOff x="4932360" y="4784760"/>
            <a:chExt cx="2447640" cy="1454760"/>
          </a:xfrm>
        </p:grpSpPr>
        <p:sp>
          <p:nvSpPr>
            <p:cNvPr id="706" name=""/>
            <p:cNvSpPr/>
            <p:nvPr/>
          </p:nvSpPr>
          <p:spPr>
            <a:xfrm flipV="1">
              <a:off x="5364000" y="554364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32360" y="54752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32360" y="47847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5796000" y="3284640"/>
            <a:ext cx="1367640" cy="1218960"/>
            <a:chOff x="5796000" y="3284640"/>
            <a:chExt cx="1367640" cy="1218960"/>
          </a:xfrm>
        </p:grpSpPr>
        <p:sp>
          <p:nvSpPr>
            <p:cNvPr id="710" name=""/>
            <p:cNvSpPr/>
            <p:nvPr/>
          </p:nvSpPr>
          <p:spPr>
            <a:xfrm>
              <a:off x="5796000" y="386100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65840" y="328464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219640" y="4875120"/>
            <a:ext cx="1367640" cy="1218960"/>
            <a:chOff x="5219640" y="4875120"/>
            <a:chExt cx="1367640" cy="1218960"/>
          </a:xfrm>
        </p:grpSpPr>
        <p:sp>
          <p:nvSpPr>
            <p:cNvPr id="713" name=""/>
            <p:cNvSpPr/>
            <p:nvPr/>
          </p:nvSpPr>
          <p:spPr>
            <a:xfrm>
              <a:off x="5219640" y="545148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2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89480" y="4875120"/>
              <a:ext cx="129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468360" y="752400"/>
            <a:ext cx="7561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冬冬看一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页的故事书，已经看了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页。看了全书的    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755640" y="2408400"/>
            <a:ext cx="2447640" cy="1454400"/>
            <a:chOff x="755640" y="2408400"/>
            <a:chExt cx="2447640" cy="1454400"/>
          </a:xfrm>
        </p:grpSpPr>
        <p:sp>
          <p:nvSpPr>
            <p:cNvPr id="717" name=""/>
            <p:cNvSpPr/>
            <p:nvPr/>
          </p:nvSpPr>
          <p:spPr>
            <a:xfrm flipV="1">
              <a:off x="1187280" y="3166560"/>
              <a:ext cx="1224000" cy="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5640" y="30985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5640" y="24084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"/>
          <p:cNvSpPr/>
          <p:nvPr/>
        </p:nvSpPr>
        <p:spPr>
          <a:xfrm>
            <a:off x="1476360" y="462276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列式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059280" y="466560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48÷85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221440" y="4292640"/>
            <a:ext cx="2447640" cy="1454760"/>
            <a:chOff x="5221440" y="4292640"/>
            <a:chExt cx="2447640" cy="1454760"/>
          </a:xfrm>
        </p:grpSpPr>
        <p:sp>
          <p:nvSpPr>
            <p:cNvPr id="723" name=""/>
            <p:cNvSpPr/>
            <p:nvPr/>
          </p:nvSpPr>
          <p:spPr>
            <a:xfrm flipV="1">
              <a:off x="5653080" y="505152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21440" y="49831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21440" y="429264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1042920" y="2565360"/>
            <a:ext cx="1367640" cy="1218960"/>
            <a:chOff x="1042920" y="2565360"/>
            <a:chExt cx="1367640" cy="1218960"/>
          </a:xfrm>
        </p:grpSpPr>
        <p:sp>
          <p:nvSpPr>
            <p:cNvPr id="727" name=""/>
            <p:cNvSpPr/>
            <p:nvPr/>
          </p:nvSpPr>
          <p:spPr>
            <a:xfrm>
              <a:off x="1042920" y="314172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112760" y="256536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580000" y="4443480"/>
            <a:ext cx="1367640" cy="1218960"/>
            <a:chOff x="5580000" y="4443480"/>
            <a:chExt cx="1367640" cy="1218960"/>
          </a:xfrm>
        </p:grpSpPr>
        <p:sp>
          <p:nvSpPr>
            <p:cNvPr id="730" name=""/>
            <p:cNvSpPr/>
            <p:nvPr/>
          </p:nvSpPr>
          <p:spPr>
            <a:xfrm>
              <a:off x="5580000" y="501984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8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49840" y="444348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539640" y="534960"/>
            <a:ext cx="756144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个长方形，长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，宽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厘米。长是宽的　　　，宽是长的　　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219640" y="1339920"/>
            <a:ext cx="2447640" cy="1454760"/>
            <a:chOff x="5219640" y="1339920"/>
            <a:chExt cx="2447640" cy="1454760"/>
          </a:xfrm>
        </p:grpSpPr>
        <p:sp>
          <p:nvSpPr>
            <p:cNvPr id="734" name=""/>
            <p:cNvSpPr/>
            <p:nvPr/>
          </p:nvSpPr>
          <p:spPr>
            <a:xfrm flipV="1">
              <a:off x="5651280" y="209880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19640" y="20304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19640" y="133992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2700360" y="2263680"/>
            <a:ext cx="2447640" cy="1454760"/>
            <a:chOff x="2700360" y="2263680"/>
            <a:chExt cx="2447640" cy="1454760"/>
          </a:xfrm>
        </p:grpSpPr>
        <p:sp>
          <p:nvSpPr>
            <p:cNvPr id="738" name=""/>
            <p:cNvSpPr/>
            <p:nvPr/>
          </p:nvSpPr>
          <p:spPr>
            <a:xfrm flipV="1">
              <a:off x="3132000" y="302256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700360" y="29541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700360" y="22636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1476360" y="447984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列式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346560" y="408924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10÷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5508720" y="3716280"/>
            <a:ext cx="2447640" cy="1454760"/>
            <a:chOff x="5508720" y="3716280"/>
            <a:chExt cx="2447640" cy="1454760"/>
          </a:xfrm>
        </p:grpSpPr>
        <p:sp>
          <p:nvSpPr>
            <p:cNvPr id="744" name=""/>
            <p:cNvSpPr/>
            <p:nvPr/>
          </p:nvSpPr>
          <p:spPr>
            <a:xfrm flipV="1">
              <a:off x="5940360" y="447516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08720" y="440676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508720" y="37162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3348000" y="558972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宋体"/>
              </a:rPr>
              <a:t>3÷10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5510160" y="5216400"/>
            <a:ext cx="2447640" cy="1454760"/>
            <a:chOff x="5510160" y="5216400"/>
            <a:chExt cx="2447640" cy="1454760"/>
          </a:xfrm>
        </p:grpSpPr>
        <p:sp>
          <p:nvSpPr>
            <p:cNvPr id="749" name=""/>
            <p:cNvSpPr/>
            <p:nvPr/>
          </p:nvSpPr>
          <p:spPr>
            <a:xfrm flipV="1">
              <a:off x="5941800" y="5975280"/>
              <a:ext cx="1224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510160" y="590688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10160" y="5216400"/>
              <a:ext cx="24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"/>
          <p:cNvGrpSpPr/>
          <p:nvPr/>
        </p:nvGrpSpPr>
        <p:grpSpPr>
          <a:xfrm>
            <a:off x="5651640" y="1484280"/>
            <a:ext cx="1367640" cy="1218960"/>
            <a:chOff x="5651640" y="1484280"/>
            <a:chExt cx="1367640" cy="1218960"/>
          </a:xfrm>
        </p:grpSpPr>
        <p:sp>
          <p:nvSpPr>
            <p:cNvPr id="753" name=""/>
            <p:cNvSpPr/>
            <p:nvPr/>
          </p:nvSpPr>
          <p:spPr>
            <a:xfrm>
              <a:off x="5651640" y="206064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21480" y="148428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3059280" y="2421000"/>
            <a:ext cx="1367640" cy="1218960"/>
            <a:chOff x="3059280" y="2421000"/>
            <a:chExt cx="1367640" cy="1218960"/>
          </a:xfrm>
        </p:grpSpPr>
        <p:sp>
          <p:nvSpPr>
            <p:cNvPr id="756" name=""/>
            <p:cNvSpPr/>
            <p:nvPr/>
          </p:nvSpPr>
          <p:spPr>
            <a:xfrm>
              <a:off x="3059280" y="299736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29120" y="242100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 </a:t>
              </a: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940360" y="3860640"/>
            <a:ext cx="1367640" cy="1218960"/>
            <a:chOff x="5940360" y="3860640"/>
            <a:chExt cx="1367640" cy="1218960"/>
          </a:xfrm>
        </p:grpSpPr>
        <p:sp>
          <p:nvSpPr>
            <p:cNvPr id="759" name=""/>
            <p:cNvSpPr/>
            <p:nvPr/>
          </p:nvSpPr>
          <p:spPr>
            <a:xfrm>
              <a:off x="5940360" y="4437000"/>
              <a:ext cx="129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010200" y="3860640"/>
              <a:ext cx="129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5867280" y="5380200"/>
            <a:ext cx="1368000" cy="1218960"/>
            <a:chOff x="5867280" y="5380200"/>
            <a:chExt cx="1368000" cy="1218960"/>
          </a:xfrm>
        </p:grpSpPr>
        <p:sp>
          <p:nvSpPr>
            <p:cNvPr id="762" name=""/>
            <p:cNvSpPr/>
            <p:nvPr/>
          </p:nvSpPr>
          <p:spPr>
            <a:xfrm>
              <a:off x="5867280" y="5956560"/>
              <a:ext cx="129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</a:t>
              </a:r>
              <a:r>
                <a:rPr b="1" lang="en-US" sz="36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37120" y="5380200"/>
              <a:ext cx="129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   </a:t>
              </a:r>
              <a:r>
                <a:rPr b="1" lang="en-US" sz="32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12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块饼的四分之三就是          块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5724360" y="765000"/>
            <a:ext cx="1973160" cy="1397520"/>
            <a:chOff x="5724360" y="765000"/>
            <a:chExt cx="1973160" cy="1397520"/>
          </a:xfrm>
        </p:grpSpPr>
        <p:sp>
          <p:nvSpPr>
            <p:cNvPr id="87" name=""/>
            <p:cNvSpPr/>
            <p:nvPr/>
          </p:nvSpPr>
          <p:spPr>
            <a:xfrm flipV="1">
              <a:off x="6067080" y="1469160"/>
              <a:ext cx="97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52800" y="139824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24360" y="765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95280" y="189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口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1814400" cy="187164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6227640" y="836640"/>
            <a:ext cx="792360" cy="1290600"/>
            <a:chOff x="6227640" y="836640"/>
            <a:chExt cx="792360" cy="1290600"/>
          </a:xfrm>
        </p:grpSpPr>
        <p:sp>
          <p:nvSpPr>
            <p:cNvPr id="93" name=""/>
            <p:cNvSpPr/>
            <p:nvPr/>
          </p:nvSpPr>
          <p:spPr>
            <a:xfrm>
              <a:off x="6372360" y="836640"/>
              <a:ext cx="5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7640" y="148464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4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268360" y="429264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袋糖果就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袋糖果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702480" y="4005360"/>
            <a:ext cx="1973160" cy="1397520"/>
            <a:chOff x="6702480" y="4005360"/>
            <a:chExt cx="1973160" cy="1397520"/>
          </a:xfrm>
        </p:grpSpPr>
        <p:sp>
          <p:nvSpPr>
            <p:cNvPr id="97" name=""/>
            <p:cNvSpPr/>
            <p:nvPr/>
          </p:nvSpPr>
          <p:spPr>
            <a:xfrm flipV="1">
              <a:off x="7045200" y="4709520"/>
              <a:ext cx="97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0920" y="46386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2480" y="400536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（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205760" y="4076640"/>
            <a:ext cx="792000" cy="1290600"/>
            <a:chOff x="7205760" y="4076640"/>
            <a:chExt cx="792000" cy="1290600"/>
          </a:xfrm>
        </p:grpSpPr>
        <p:sp>
          <p:nvSpPr>
            <p:cNvPr id="101" name=""/>
            <p:cNvSpPr/>
            <p:nvPr/>
          </p:nvSpPr>
          <p:spPr>
            <a:xfrm>
              <a:off x="7350120" y="4076640"/>
              <a:ext cx="574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05760" y="47246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黑体"/>
                </a:rPr>
                <a:t>5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476360" y="3933720"/>
            <a:ext cx="814320" cy="1486440"/>
            <a:chOff x="1476360" y="3933720"/>
            <a:chExt cx="814320" cy="1486440"/>
          </a:xfrm>
        </p:grpSpPr>
        <p:sp>
          <p:nvSpPr>
            <p:cNvPr id="104" name=""/>
            <p:cNvSpPr/>
            <p:nvPr/>
          </p:nvSpPr>
          <p:spPr>
            <a:xfrm>
              <a:off x="1498680" y="47005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76360" y="465588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98680" y="3933720"/>
              <a:ext cx="792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Verdana"/>
                  <a:ea typeface="宋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0" t="0" r="36638" b="55"/>
          <a:stretch/>
        </p:blipFill>
        <p:spPr>
          <a:xfrm>
            <a:off x="0" y="0"/>
            <a:ext cx="6588000" cy="3637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35944" t="62984" r="60772" b="31256"/>
          <a:stretch/>
        </p:blipFill>
        <p:spPr>
          <a:xfrm>
            <a:off x="4067280" y="2349360"/>
            <a:ext cx="360360" cy="21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39640" y="486900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8÷4=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rcRect l="35944" t="62984" r="60772" b="31256"/>
          <a:stretch/>
        </p:blipFill>
        <p:spPr>
          <a:xfrm>
            <a:off x="3995640" y="256536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35944" t="62984" r="60772" b="31256"/>
          <a:stretch/>
        </p:blipFill>
        <p:spPr>
          <a:xfrm>
            <a:off x="3130560" y="220500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35944" t="62984" r="60772" b="31256"/>
          <a:stretch/>
        </p:blipFill>
        <p:spPr>
          <a:xfrm>
            <a:off x="3044880" y="246384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rcRect l="35944" t="62984" r="60772" b="31256"/>
          <a:stretch/>
        </p:blipFill>
        <p:spPr>
          <a:xfrm>
            <a:off x="3492360" y="2060640"/>
            <a:ext cx="360360" cy="216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3600360" y="3657600"/>
            <a:ext cx="5543640" cy="3200400"/>
            <a:chOff x="3600360" y="3657600"/>
            <a:chExt cx="5543640" cy="3200400"/>
          </a:xfrm>
        </p:grpSpPr>
        <p:pic>
          <p:nvPicPr>
            <p:cNvPr id="115" name="" descr=""/>
            <p:cNvPicPr/>
            <p:nvPr/>
          </p:nvPicPr>
          <p:blipFill>
            <a:blip r:embed="rId7"/>
            <a:srcRect l="63369" t="0" r="32" b="55"/>
            <a:stretch/>
          </p:blipFill>
          <p:spPr>
            <a:xfrm>
              <a:off x="3600360" y="3657600"/>
              <a:ext cx="55436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700520" y="4321080"/>
              <a:ext cx="36036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  <a:ea typeface="隶书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236000" y="549360"/>
            <a:ext cx="143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你能提出什么问题</a:t>
            </a:r>
            <a:r>
              <a:rPr b="0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260280"/>
            <a:ext cx="1079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36638" b="55"/>
          <a:stretch/>
        </p:blipFill>
        <p:spPr>
          <a:xfrm>
            <a:off x="304920" y="762120"/>
            <a:ext cx="6019560" cy="3322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35944" t="62984" r="60772" b="31256"/>
          <a:stretch/>
        </p:blipFill>
        <p:spPr>
          <a:xfrm>
            <a:off x="4067280" y="2349360"/>
            <a:ext cx="360360" cy="216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63369" t="0" r="32" b="55"/>
          <a:stretch/>
        </p:blipFill>
        <p:spPr>
          <a:xfrm>
            <a:off x="3600360" y="3657600"/>
            <a:ext cx="554364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rcRect l="70037" t="34617" r="27552" b="55006"/>
          <a:stretch/>
        </p:blipFill>
        <p:spPr>
          <a:xfrm>
            <a:off x="4716360" y="44085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486900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4÷4=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990720"/>
            <a:ext cx="107928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36638" b="55"/>
          <a:stretch/>
        </p:blipFill>
        <p:spPr>
          <a:xfrm>
            <a:off x="228600" y="685800"/>
            <a:ext cx="5943600" cy="3281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rcRect l="63369" t="0" r="32" b="55"/>
          <a:stretch/>
        </p:blipFill>
        <p:spPr>
          <a:xfrm>
            <a:off x="3600360" y="3657600"/>
            <a:ext cx="5543640" cy="320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95280" y="3789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如何列式呢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4869000"/>
            <a:ext cx="31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宋体"/>
              </a:rPr>
              <a:t>3÷4=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63369" t="14192" r="6446" b="20244"/>
          <a:stretch/>
        </p:blipFill>
        <p:spPr>
          <a:xfrm>
            <a:off x="4038480" y="547560"/>
            <a:ext cx="5105520" cy="209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981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3÷4=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2050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每人分得不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块，结果可以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37735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那我们可以用怎样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数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÷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商呢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492360" y="4497480"/>
            <a:ext cx="4319280" cy="1454760"/>
            <a:chOff x="3492360" y="4497480"/>
            <a:chExt cx="4319280" cy="1454760"/>
          </a:xfrm>
        </p:grpSpPr>
        <p:sp>
          <p:nvSpPr>
            <p:cNvPr id="134" name=""/>
            <p:cNvSpPr/>
            <p:nvPr/>
          </p:nvSpPr>
          <p:spPr>
            <a:xfrm>
              <a:off x="3492360" y="4786560"/>
              <a:ext cx="28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÷4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＝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5364000" y="4497480"/>
              <a:ext cx="2447640" cy="1454760"/>
              <a:chOff x="5364000" y="4497480"/>
              <a:chExt cx="2447640" cy="1454760"/>
            </a:xfrm>
          </p:grpSpPr>
          <p:sp>
            <p:nvSpPr>
              <p:cNvPr id="136" name=""/>
              <p:cNvSpPr/>
              <p:nvPr/>
            </p:nvSpPr>
            <p:spPr>
              <a:xfrm flipV="1">
                <a:off x="5795640" y="5256360"/>
                <a:ext cx="1224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364000" y="518796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364000" y="449748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63369" t="14192" r="6446" b="20244"/>
          <a:stretch/>
        </p:blipFill>
        <p:spPr>
          <a:xfrm>
            <a:off x="5029200" y="533520"/>
            <a:ext cx="3962520" cy="20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50920" y="981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  <a:ea typeface="宋体"/>
              </a:rPr>
              <a:t>3÷4=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22050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每人分得不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块，结果可以用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7352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那我们可以用怎样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分数来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0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÷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商呢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492360" y="4497480"/>
            <a:ext cx="4319280" cy="1454760"/>
            <a:chOff x="3492360" y="4497480"/>
            <a:chExt cx="4319280" cy="1454760"/>
          </a:xfrm>
        </p:grpSpPr>
        <p:sp>
          <p:nvSpPr>
            <p:cNvPr id="144" name=""/>
            <p:cNvSpPr/>
            <p:nvPr/>
          </p:nvSpPr>
          <p:spPr>
            <a:xfrm>
              <a:off x="3492360" y="4786560"/>
              <a:ext cx="280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3÷4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＝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364000" y="4497480"/>
              <a:ext cx="2447640" cy="1454760"/>
              <a:chOff x="5364000" y="4497480"/>
              <a:chExt cx="2447640" cy="145476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5795640" y="5256360"/>
                <a:ext cx="12240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64000" y="518796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64000" y="4497480"/>
                <a:ext cx="244764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（    ）</a:t>
                </a:r>
                <a:endParaRPr b="0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39640" y="602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同桌两人合作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利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个圆形纸片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动手分分看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028000" y="422100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8028000" y="472428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17857" y="10800"/>
                </a:moveTo>
                <a:lnTo>
                  <a:pt x="7352" y="17806"/>
                </a:lnTo>
                <a:lnTo>
                  <a:pt x="7352" y="3794"/>
                </a:lnTo>
                <a:close/>
              </a:path>
              <a:path fill="darken" w="28716" h="21600">
                <a:moveTo>
                  <a:pt x="19702" y="3794"/>
                </a:moveTo>
                <a:lnTo>
                  <a:pt x="19702" y="17806"/>
                </a:lnTo>
                <a:lnTo>
                  <a:pt x="21365" y="17806"/>
                </a:lnTo>
                <a:lnTo>
                  <a:pt x="21365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8028000" y="602136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17905" y="10800"/>
                </a:moveTo>
                <a:lnTo>
                  <a:pt x="7400" y="17806"/>
                </a:lnTo>
                <a:lnTo>
                  <a:pt x="7400" y="3794"/>
                </a:lnTo>
                <a:close/>
              </a:path>
              <a:path fill="darken" w="28812" h="21600">
                <a:moveTo>
                  <a:pt x="19750" y="3794"/>
                </a:moveTo>
                <a:lnTo>
                  <a:pt x="19750" y="17806"/>
                </a:lnTo>
                <a:lnTo>
                  <a:pt x="21412" y="17806"/>
                </a:lnTo>
                <a:lnTo>
                  <a:pt x="2141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8028000" y="5300640"/>
            <a:ext cx="576360" cy="43344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716" h="21600">
                <a:moveTo>
                  <a:pt x="0" y="0"/>
                </a:moveTo>
                <a:lnTo>
                  <a:pt x="28716" y="0"/>
                </a:lnTo>
                <a:lnTo>
                  <a:pt x="28716" y="21600"/>
                </a:lnTo>
                <a:lnTo>
                  <a:pt x="0" y="21600"/>
                </a:lnTo>
                <a:close/>
              </a:path>
              <a:path fill="lightenLess" w="28716" h="21600">
                <a:moveTo>
                  <a:pt x="0" y="0"/>
                </a:moveTo>
                <a:lnTo>
                  <a:pt x="28716" y="0"/>
                </a:lnTo>
                <a:lnTo>
                  <a:pt x="27316" y="1400"/>
                </a:lnTo>
                <a:lnTo>
                  <a:pt x="1400" y="1400"/>
                </a:lnTo>
                <a:close/>
              </a:path>
              <a:path fill="darken" w="28716" h="21600">
                <a:moveTo>
                  <a:pt x="28716" y="0"/>
                </a:moveTo>
                <a:lnTo>
                  <a:pt x="28716" y="21600"/>
                </a:lnTo>
                <a:lnTo>
                  <a:pt x="27316" y="20200"/>
                </a:lnTo>
                <a:lnTo>
                  <a:pt x="27316" y="1400"/>
                </a:lnTo>
                <a:close/>
              </a:path>
              <a:path fill="darkenLess" w="28716" h="21600">
                <a:moveTo>
                  <a:pt x="28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16" y="20200"/>
                </a:lnTo>
                <a:close/>
              </a:path>
              <a:path fill="lighten" w="28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16" h="21600">
                <a:moveTo>
                  <a:pt x="7352" y="3794"/>
                </a:moveTo>
                <a:lnTo>
                  <a:pt x="21365" y="10800"/>
                </a:lnTo>
                <a:lnTo>
                  <a:pt x="73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3:58:39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