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7.png" ContentType="image/png"/>
  <Override PartName="/ppt/media/image8.gif" ContentType="image/gif"/>
  <Override PartName="/ppt/media/02%E9%97%AA%E8%89%B2.WAV" ContentType="audio/x-wav"/>
  <Override PartName="/ppt/media/image14.png" ContentType="image/png"/>
  <Override PartName="/ppt/media/01%E6%8C%89%E9%92%AE.WAV" ContentType="audio/x-wav"/>
  <Override PartName="/ppt/media/image6.gif" ContentType="image/gif"/>
  <Override PartName="/ppt/media/image13.png" ContentType="image/png"/>
  <Override PartName="/ppt/media/01%E5%97%96.WAV" ContentType="audio/x-wav"/>
  <Override PartName="/ppt/media/06%E9%97%AA%E8%89%B2.WAV" ContentType="audio/x-wav"/>
  <Override PartName="/ppt/media/chimes.wav" ContentType="audio/x-wav"/>
  <Override PartName="/ppt/media/image11.png" ContentType="image/png"/>
  <Override PartName="/ppt/media/2%E5%98%9F.WAV" ContentType="audio/x-wav"/>
  <Override PartName="/ppt/media/image12.gif" ContentType="image/gif"/>
  <Override PartName="/ppt/media/1%E6%B0%B4%E6%BB%B4.WAV" ContentType="audio/x-wav"/>
  <Override PartName="/ppt/media/image10.png" ContentType="image/png"/>
  <Override PartName="/ppt/media/image2.gif" ContentType="image/gif"/>
  <Override PartName="/ppt/media/image5.png" ContentType="image/png"/>
  <Override PartName="/ppt/media/image1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729-A8E3-4517-84F4-298A75AC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FCB-A02C-4339-9D65-5FA19C74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30A-CCC7-4A8E-8A1B-F7B6C651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862-4E53-4B8E-88C5-64653312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794-123D-4B29-B337-C223BEA9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B18-A597-4467-A72A-745D62F1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0D2-13A1-411E-8714-D77C5C00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E74-5E82-4868-BF35-0C7013C0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786-06AE-4A81-9019-9F320EAC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AC4-1B0A-496B-92E6-C1E0C1DC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BD7-1F7F-4BC4-ABA0-639AC4E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220-7072-48ED-A636-8619BAE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ACC9-8921-47C7-883E-04FF047732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1&#27700;&#28404;.WAV"/><Relationship Id="rId3" Type="http://schemas.openxmlformats.org/officeDocument/2006/relationships/audio" Target="../media/1&#27700;&#28404;.WAV"/><Relationship Id="rId4" Type="http://schemas.openxmlformats.org/officeDocument/2006/relationships/audio" Target="../media/01&#25353;&#38062;.WAV"/><Relationship Id="rId5" Type="http://schemas.openxmlformats.org/officeDocument/2006/relationships/audio" Target="../media/02&#38378;&#33394;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01&#21974;.WAV"/><Relationship Id="rId2" Type="http://schemas.openxmlformats.org/officeDocument/2006/relationships/audio" Target="../media/01&#21974;.WAV"/><Relationship Id="rId3" Type="http://schemas.openxmlformats.org/officeDocument/2006/relationships/audio" Target="../media/01&#21974;.WAV"/><Relationship Id="rId4" Type="http://schemas.openxmlformats.org/officeDocument/2006/relationships/audio" Target="../media/01&#21974;.WAV"/><Relationship Id="rId5" Type="http://schemas.openxmlformats.org/officeDocument/2006/relationships/audio" Target="../media/01&#21974;.WAV"/><Relationship Id="rId6" Type="http://schemas.openxmlformats.org/officeDocument/2006/relationships/audio" Target="../media/01&#21974;.WAV"/><Relationship Id="rId7" Type="http://schemas.openxmlformats.org/officeDocument/2006/relationships/audio" Target="../media/01&#21974;.WAV"/><Relationship Id="rId8" Type="http://schemas.openxmlformats.org/officeDocument/2006/relationships/audio" Target="../media/01&#21974;.WAV"/><Relationship Id="rId9" Type="http://schemas.openxmlformats.org/officeDocument/2006/relationships/audio" Target="../media/01&#21974;.WAV"/><Relationship Id="rId10" Type="http://schemas.openxmlformats.org/officeDocument/2006/relationships/audio" Target="../media/01&#21974;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image" Target="../media/image2.gif"/><Relationship Id="rId8" Type="http://schemas.openxmlformats.org/officeDocument/2006/relationships/audio" Target="../media/2&#22047;.WAV"/><Relationship Id="rId9" Type="http://schemas.openxmlformats.org/officeDocument/2006/relationships/audio" Target="../media/2&#22047;.WAV"/><Relationship Id="rId10" Type="http://schemas.openxmlformats.org/officeDocument/2006/relationships/audio" Target="../media/2&#22047;.WAV"/><Relationship Id="rId11" Type="http://schemas.openxmlformats.org/officeDocument/2006/relationships/audio" Target="../media/2&#22047;.WAV"/><Relationship Id="rId12" Type="http://schemas.openxmlformats.org/officeDocument/2006/relationships/audio" Target="../media/2&#22047;.WAV"/><Relationship Id="rId13" Type="http://schemas.openxmlformats.org/officeDocument/2006/relationships/audio" Target="../media/2&#22047;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01&#25353;&#38062;.WAV"/><Relationship Id="rId3" Type="http://schemas.openxmlformats.org/officeDocument/2006/relationships/audio" Target="../media/01&#25353;&#38062;.WAV"/><Relationship Id="rId4" Type="http://schemas.openxmlformats.org/officeDocument/2006/relationships/audio" Target="../media/01&#25353;&#38062;.WAV"/><Relationship Id="rId5" Type="http://schemas.openxmlformats.org/officeDocument/2006/relationships/audio" Target="../media/01&#25353;&#38062;.WAV"/><Relationship Id="rId6" Type="http://schemas.openxmlformats.org/officeDocument/2006/relationships/audio" Target="../media/01&#25353;&#38062;.WAV"/><Relationship Id="rId7" Type="http://schemas.openxmlformats.org/officeDocument/2006/relationships/audio" Target="../media/01&#25353;&#38062;.WAV"/><Relationship Id="rId8" Type="http://schemas.openxmlformats.org/officeDocument/2006/relationships/audio" Target="../media/01&#25353;&#38062;.WAV"/><Relationship Id="rId9" Type="http://schemas.openxmlformats.org/officeDocument/2006/relationships/audio" Target="../media/01&#25353;&#38062;.WAV"/><Relationship Id="rId10" Type="http://schemas.openxmlformats.org/officeDocument/2006/relationships/audio" Target="../media/01&#25353;&#38062;.WAV"/><Relationship Id="rId11" Type="http://schemas.openxmlformats.org/officeDocument/2006/relationships/audio" Target="../media/01&#25353;&#38062;.WAV"/><Relationship Id="rId12" Type="http://schemas.openxmlformats.org/officeDocument/2006/relationships/audio" Target="../media/01&#25353;&#38062;.WAV"/><Relationship Id="rId13" Type="http://schemas.openxmlformats.org/officeDocument/2006/relationships/audio" Target="../media/01&#25353;&#38062;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02&#38378;&#33394;.WAV"/><Relationship Id="rId2" Type="http://schemas.openxmlformats.org/officeDocument/2006/relationships/audio" Target="../media/06&#38378;&#33394;.WAV"/><Relationship Id="rId3" Type="http://schemas.openxmlformats.org/officeDocument/2006/relationships/audio" Target="../media/02&#38378;&#33394;.WAV"/><Relationship Id="rId4" Type="http://schemas.openxmlformats.org/officeDocument/2006/relationships/audio" Target="../media/06&#38378;&#33394;.WAV"/><Relationship Id="rId5" Type="http://schemas.openxmlformats.org/officeDocument/2006/relationships/audio" Target="../media/02&#38378;&#33394;.WAV"/><Relationship Id="rId6" Type="http://schemas.openxmlformats.org/officeDocument/2006/relationships/audio" Target="../media/06&#38378;&#33394;.WAV"/><Relationship Id="rId7" Type="http://schemas.openxmlformats.org/officeDocument/2006/relationships/audio" Target="../media/02&#38378;&#33394;.WAV"/><Relationship Id="rId8" Type="http://schemas.openxmlformats.org/officeDocument/2006/relationships/audio" Target="../media/06&#38378;&#33394;.WAV"/><Relationship Id="rId9" Type="http://schemas.openxmlformats.org/officeDocument/2006/relationships/audio" Target="../media/06&#38378;&#33394;.WAV"/><Relationship Id="rId10" Type="http://schemas.openxmlformats.org/officeDocument/2006/relationships/audio" Target="../media/06&#38378;&#33394;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02&#38378;&#33394;.WAV"/><Relationship Id="rId3" Type="http://schemas.openxmlformats.org/officeDocument/2006/relationships/audio" Target="../media/02&#38378;&#33394;.WAV"/><Relationship Id="rId4" Type="http://schemas.openxmlformats.org/officeDocument/2006/relationships/audio" Target="../media/02&#38378;&#33394;.WAV"/><Relationship Id="rId5" Type="http://schemas.openxmlformats.org/officeDocument/2006/relationships/audio" Target="../media/02&#38378;&#33394;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分数与小数的互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826920" y="404640"/>
            <a:ext cx="6750360" cy="1068840"/>
            <a:chOff x="826920" y="404640"/>
            <a:chExt cx="6750360" cy="1068840"/>
          </a:xfrm>
        </p:grpSpPr>
        <p:sp>
          <p:nvSpPr>
            <p:cNvPr id="269" name=""/>
            <p:cNvSpPr/>
            <p:nvPr/>
          </p:nvSpPr>
          <p:spPr>
            <a:xfrm>
              <a:off x="826920" y="549360"/>
              <a:ext cx="1151280" cy="71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88640" y="593640"/>
              <a:ext cx="468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     、      、          化成小数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485800" y="404640"/>
              <a:ext cx="744480" cy="1068840"/>
              <a:chOff x="2485800" y="404640"/>
              <a:chExt cx="744480" cy="1068840"/>
            </a:xfrm>
          </p:grpSpPr>
          <p:sp>
            <p:nvSpPr>
              <p:cNvPr id="272" name=""/>
              <p:cNvSpPr/>
              <p:nvPr/>
            </p:nvSpPr>
            <p:spPr>
              <a:xfrm>
                <a:off x="2485800" y="40464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90560" y="896760"/>
                <a:ext cx="534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279600" y="404640"/>
              <a:ext cx="1026720" cy="1068840"/>
              <a:chOff x="3279600" y="404640"/>
              <a:chExt cx="1026720" cy="1068840"/>
            </a:xfrm>
          </p:grpSpPr>
          <p:sp>
            <p:nvSpPr>
              <p:cNvPr id="275" name=""/>
              <p:cNvSpPr/>
              <p:nvPr/>
            </p:nvSpPr>
            <p:spPr>
              <a:xfrm>
                <a:off x="3279600" y="404640"/>
                <a:ext cx="1026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6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0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1440" y="896760"/>
                <a:ext cx="7279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502520" y="404640"/>
              <a:ext cx="1635840" cy="1068840"/>
              <a:chOff x="4502520" y="404640"/>
              <a:chExt cx="1635840" cy="10688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4829760" y="404640"/>
                <a:ext cx="1308600" cy="1068840"/>
                <a:chOff x="4829760" y="404640"/>
                <a:chExt cx="1308600" cy="1068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829760" y="404640"/>
                  <a:ext cx="1308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0000ff"/>
                      </a:solidFill>
                      <a:latin typeface="Arial"/>
                      <a:ea typeface="宋体"/>
                    </a:rPr>
                    <a:t>  </a:t>
                  </a: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  <a:ea typeface="宋体"/>
                    </a:rPr>
                    <a:t>4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  <a:ea typeface="宋体"/>
                    </a:rPr>
                    <a:t>100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027040" y="896760"/>
                  <a:ext cx="10033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4502520" y="5490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3060720" y="20667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12640" y="39402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32960" y="1989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81800" y="1995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68720" y="1995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158080" y="1844640"/>
            <a:ext cx="1933200" cy="1068840"/>
            <a:chOff x="5158080" y="1844640"/>
            <a:chExt cx="1933200" cy="1068840"/>
          </a:xfrm>
        </p:grpSpPr>
        <p:grpSp>
          <p:nvGrpSpPr>
            <p:cNvPr id="288" name=""/>
            <p:cNvGrpSpPr/>
            <p:nvPr/>
          </p:nvGrpSpPr>
          <p:grpSpPr>
            <a:xfrm>
              <a:off x="5158080" y="1844640"/>
              <a:ext cx="1635840" cy="1068840"/>
              <a:chOff x="5158080" y="1844640"/>
              <a:chExt cx="1635840" cy="106884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5485320" y="1844640"/>
                <a:ext cx="1308600" cy="1068840"/>
                <a:chOff x="5485320" y="1844640"/>
                <a:chExt cx="1308600" cy="10688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485320" y="1844640"/>
                  <a:ext cx="1308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0000ff"/>
                      </a:solidFill>
                      <a:latin typeface="Arial"/>
                      <a:ea typeface="宋体"/>
                    </a:rPr>
                    <a:t>  </a:t>
                  </a: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  <a:ea typeface="宋体"/>
                    </a:rPr>
                    <a:t>4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  <a:ea typeface="宋体"/>
                    </a:rPr>
                    <a:t>100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682600" y="2336760"/>
                  <a:ext cx="10033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5158080" y="19890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6643800" y="19890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892160" y="1916280"/>
            <a:ext cx="1112760" cy="1068840"/>
            <a:chOff x="1892160" y="1916280"/>
            <a:chExt cx="1112760" cy="1068840"/>
          </a:xfrm>
        </p:grpSpPr>
        <p:grpSp>
          <p:nvGrpSpPr>
            <p:cNvPr id="295" name=""/>
            <p:cNvGrpSpPr/>
            <p:nvPr/>
          </p:nvGrpSpPr>
          <p:grpSpPr>
            <a:xfrm>
              <a:off x="1892160" y="1916280"/>
              <a:ext cx="744480" cy="1068840"/>
              <a:chOff x="1892160" y="1916280"/>
              <a:chExt cx="744480" cy="1068840"/>
            </a:xfrm>
          </p:grpSpPr>
          <p:sp>
            <p:nvSpPr>
              <p:cNvPr id="296" name=""/>
              <p:cNvSpPr/>
              <p:nvPr/>
            </p:nvSpPr>
            <p:spPr>
              <a:xfrm>
                <a:off x="1892160" y="191628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96920" y="2408400"/>
                <a:ext cx="534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557440" y="20606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893600" y="3789360"/>
            <a:ext cx="1327320" cy="1068840"/>
            <a:chOff x="1893600" y="3789360"/>
            <a:chExt cx="1327320" cy="1068840"/>
          </a:xfrm>
        </p:grpSpPr>
        <p:grpSp>
          <p:nvGrpSpPr>
            <p:cNvPr id="300" name=""/>
            <p:cNvGrpSpPr/>
            <p:nvPr/>
          </p:nvGrpSpPr>
          <p:grpSpPr>
            <a:xfrm>
              <a:off x="1893600" y="3789360"/>
              <a:ext cx="1026720" cy="1068840"/>
              <a:chOff x="1893600" y="3789360"/>
              <a:chExt cx="1026720" cy="1068840"/>
            </a:xfrm>
          </p:grpSpPr>
          <p:sp>
            <p:nvSpPr>
              <p:cNvPr id="301" name=""/>
              <p:cNvSpPr/>
              <p:nvPr/>
            </p:nvSpPr>
            <p:spPr>
              <a:xfrm>
                <a:off x="1893600" y="3789360"/>
                <a:ext cx="1026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6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0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35440" y="4281480"/>
                <a:ext cx="728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2773440" y="3933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10922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1%E6%B0%B4%E6%BB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1%E6%B0%B4%E6%BB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80080" y="836640"/>
            <a:ext cx="712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母是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分数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，可以直接去掉分母，看分母中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面有几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就在分子中从最后一位起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数出几位，点上小数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21272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824120" y="1052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把下面的分数化成小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02880" y="2433600"/>
            <a:ext cx="1026720" cy="1068840"/>
            <a:chOff x="902880" y="2433600"/>
            <a:chExt cx="1026720" cy="1068840"/>
          </a:xfrm>
        </p:grpSpPr>
        <p:sp>
          <p:nvSpPr>
            <p:cNvPr id="309" name=""/>
            <p:cNvSpPr/>
            <p:nvPr/>
          </p:nvSpPr>
          <p:spPr>
            <a:xfrm>
              <a:off x="902880" y="2433600"/>
              <a:ext cx="102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44000" y="2925720"/>
              <a:ext cx="725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366640" y="2419200"/>
            <a:ext cx="744480" cy="1068840"/>
            <a:chOff x="2366640" y="2419200"/>
            <a:chExt cx="744480" cy="1068840"/>
          </a:xfrm>
        </p:grpSpPr>
        <p:sp>
          <p:nvSpPr>
            <p:cNvPr id="312" name=""/>
            <p:cNvSpPr/>
            <p:nvPr/>
          </p:nvSpPr>
          <p:spPr>
            <a:xfrm>
              <a:off x="2366640" y="24192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71400" y="2911320"/>
              <a:ext cx="534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664440" y="2433600"/>
            <a:ext cx="1297440" cy="1068840"/>
            <a:chOff x="3664440" y="2433600"/>
            <a:chExt cx="1297440" cy="1068840"/>
          </a:xfrm>
        </p:grpSpPr>
        <p:grpSp>
          <p:nvGrpSpPr>
            <p:cNvPr id="315" name=""/>
            <p:cNvGrpSpPr/>
            <p:nvPr/>
          </p:nvGrpSpPr>
          <p:grpSpPr>
            <a:xfrm>
              <a:off x="3934080" y="2433600"/>
              <a:ext cx="1027800" cy="1068840"/>
              <a:chOff x="3934080" y="2433600"/>
              <a:chExt cx="1027800" cy="1068840"/>
            </a:xfrm>
          </p:grpSpPr>
          <p:sp>
            <p:nvSpPr>
              <p:cNvPr id="316" name=""/>
              <p:cNvSpPr/>
              <p:nvPr/>
            </p:nvSpPr>
            <p:spPr>
              <a:xfrm>
                <a:off x="3934080" y="2433600"/>
                <a:ext cx="10278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 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0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98600" y="2925720"/>
                <a:ext cx="831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664440" y="25779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64800" y="2419200"/>
            <a:ext cx="1636200" cy="1068840"/>
            <a:chOff x="5464800" y="2419200"/>
            <a:chExt cx="1636200" cy="1068840"/>
          </a:xfrm>
        </p:grpSpPr>
        <p:grpSp>
          <p:nvGrpSpPr>
            <p:cNvPr id="320" name=""/>
            <p:cNvGrpSpPr/>
            <p:nvPr/>
          </p:nvGrpSpPr>
          <p:grpSpPr>
            <a:xfrm>
              <a:off x="5792400" y="2419200"/>
              <a:ext cx="1308600" cy="1068840"/>
              <a:chOff x="5792400" y="2419200"/>
              <a:chExt cx="1308600" cy="1068840"/>
            </a:xfrm>
          </p:grpSpPr>
          <p:sp>
            <p:nvSpPr>
              <p:cNvPr id="321" name=""/>
              <p:cNvSpPr/>
              <p:nvPr/>
            </p:nvSpPr>
            <p:spPr>
              <a:xfrm>
                <a:off x="5792400" y="2419200"/>
                <a:ext cx="1308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 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00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89320" y="2911320"/>
                <a:ext cx="1003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464800" y="256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659640" y="5084640"/>
            <a:ext cx="1619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826920" y="404640"/>
            <a:ext cx="6559200" cy="1579320"/>
            <a:chOff x="826920" y="404640"/>
            <a:chExt cx="6559200" cy="1579320"/>
          </a:xfrm>
        </p:grpSpPr>
        <p:sp>
          <p:nvSpPr>
            <p:cNvPr id="326" name=""/>
            <p:cNvSpPr/>
            <p:nvPr/>
          </p:nvSpPr>
          <p:spPr>
            <a:xfrm>
              <a:off x="826920" y="549360"/>
              <a:ext cx="1151280" cy="71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三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11840" y="593640"/>
              <a:ext cx="427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   、   、   、  、   化成小数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2486520" y="404640"/>
              <a:ext cx="462600" cy="1068840"/>
              <a:chOff x="2486520" y="404640"/>
              <a:chExt cx="462600" cy="1068840"/>
            </a:xfrm>
          </p:grpSpPr>
          <p:sp>
            <p:nvSpPr>
              <p:cNvPr id="329" name=""/>
              <p:cNvSpPr/>
              <p:nvPr/>
            </p:nvSpPr>
            <p:spPr>
              <a:xfrm>
                <a:off x="2486520" y="404640"/>
                <a:ext cx="462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56000" y="896760"/>
                <a:ext cx="360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105000" y="404640"/>
              <a:ext cx="744480" cy="1068840"/>
              <a:chOff x="3105000" y="404640"/>
              <a:chExt cx="744480" cy="1068840"/>
            </a:xfrm>
          </p:grpSpPr>
          <p:sp>
            <p:nvSpPr>
              <p:cNvPr id="332" name=""/>
              <p:cNvSpPr/>
              <p:nvPr/>
            </p:nvSpPr>
            <p:spPr>
              <a:xfrm>
                <a:off x="3105000" y="40464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06520" y="896760"/>
                <a:ext cx="5187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927240" y="404640"/>
              <a:ext cx="744480" cy="1068840"/>
              <a:chOff x="3927240" y="404640"/>
              <a:chExt cx="744480" cy="1068840"/>
            </a:xfrm>
          </p:grpSpPr>
          <p:sp>
            <p:nvSpPr>
              <p:cNvPr id="335" name=""/>
              <p:cNvSpPr/>
              <p:nvPr/>
            </p:nvSpPr>
            <p:spPr>
              <a:xfrm>
                <a:off x="3927240" y="40464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4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27320" y="896760"/>
                <a:ext cx="519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905720" y="404640"/>
              <a:ext cx="462600" cy="1068840"/>
              <a:chOff x="4905720" y="404640"/>
              <a:chExt cx="462600" cy="1068840"/>
            </a:xfrm>
          </p:grpSpPr>
          <p:sp>
            <p:nvSpPr>
              <p:cNvPr id="338" name=""/>
              <p:cNvSpPr/>
              <p:nvPr/>
            </p:nvSpPr>
            <p:spPr>
              <a:xfrm>
                <a:off x="4905720" y="404640"/>
                <a:ext cx="462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79880" y="896760"/>
                <a:ext cx="3834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511600" y="417600"/>
              <a:ext cx="744480" cy="1068840"/>
              <a:chOff x="5511600" y="417600"/>
              <a:chExt cx="744480" cy="1068840"/>
            </a:xfrm>
          </p:grpSpPr>
          <p:sp>
            <p:nvSpPr>
              <p:cNvPr id="341" name=""/>
              <p:cNvSpPr/>
              <p:nvPr/>
            </p:nvSpPr>
            <p:spPr>
              <a:xfrm>
                <a:off x="5511600" y="417600"/>
                <a:ext cx="7444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11680" y="909720"/>
                <a:ext cx="519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891520" y="1341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除不尽的保留三位小数。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722960" y="2781360"/>
            <a:ext cx="638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母不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000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化小数，要用分母去除分子；除不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，可以根据需要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四舍五入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保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几位小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022480" y="404640"/>
            <a:ext cx="440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把下面的分数化成小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73440" y="1209600"/>
            <a:ext cx="462600" cy="1068840"/>
            <a:chOff x="973440" y="1209600"/>
            <a:chExt cx="462600" cy="1068840"/>
          </a:xfrm>
        </p:grpSpPr>
        <p:sp>
          <p:nvSpPr>
            <p:cNvPr id="347" name=""/>
            <p:cNvSpPr/>
            <p:nvPr/>
          </p:nvSpPr>
          <p:spPr>
            <a:xfrm>
              <a:off x="973440" y="120960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3280" y="170172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973440" y="2421000"/>
            <a:ext cx="462600" cy="1068840"/>
            <a:chOff x="973440" y="2421000"/>
            <a:chExt cx="462600" cy="1068840"/>
          </a:xfrm>
        </p:grpSpPr>
        <p:sp>
          <p:nvSpPr>
            <p:cNvPr id="350" name=""/>
            <p:cNvSpPr/>
            <p:nvPr/>
          </p:nvSpPr>
          <p:spPr>
            <a:xfrm>
              <a:off x="973440" y="242100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42920" y="2913120"/>
              <a:ext cx="360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554440" y="1197000"/>
            <a:ext cx="744480" cy="1068840"/>
            <a:chOff x="5554440" y="1197000"/>
            <a:chExt cx="744480" cy="1068840"/>
          </a:xfrm>
        </p:grpSpPr>
        <p:sp>
          <p:nvSpPr>
            <p:cNvPr id="353" name=""/>
            <p:cNvSpPr/>
            <p:nvPr/>
          </p:nvSpPr>
          <p:spPr>
            <a:xfrm>
              <a:off x="5554440" y="11970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72160" y="1689120"/>
              <a:ext cx="59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890640" y="5013360"/>
            <a:ext cx="462600" cy="1068840"/>
            <a:chOff x="890640" y="5013360"/>
            <a:chExt cx="462600" cy="1068840"/>
          </a:xfrm>
        </p:grpSpPr>
        <p:sp>
          <p:nvSpPr>
            <p:cNvPr id="356" name=""/>
            <p:cNvSpPr/>
            <p:nvPr/>
          </p:nvSpPr>
          <p:spPr>
            <a:xfrm>
              <a:off x="890640" y="501336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60480" y="550548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68800" y="5025960"/>
            <a:ext cx="462600" cy="1068840"/>
            <a:chOff x="3268800" y="5025960"/>
            <a:chExt cx="462600" cy="1068840"/>
          </a:xfrm>
        </p:grpSpPr>
        <p:sp>
          <p:nvSpPr>
            <p:cNvPr id="359" name=""/>
            <p:cNvSpPr/>
            <p:nvPr/>
          </p:nvSpPr>
          <p:spPr>
            <a:xfrm>
              <a:off x="3268800" y="502596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38640" y="551808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272040" y="3730680"/>
            <a:ext cx="462600" cy="1068840"/>
            <a:chOff x="3272040" y="3730680"/>
            <a:chExt cx="462600" cy="1068840"/>
          </a:xfrm>
        </p:grpSpPr>
        <p:sp>
          <p:nvSpPr>
            <p:cNvPr id="362" name=""/>
            <p:cNvSpPr/>
            <p:nvPr/>
          </p:nvSpPr>
          <p:spPr>
            <a:xfrm>
              <a:off x="3272040" y="373068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41880" y="422280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272040" y="2421000"/>
            <a:ext cx="462600" cy="1068840"/>
            <a:chOff x="3272040" y="2421000"/>
            <a:chExt cx="462600" cy="1068840"/>
          </a:xfrm>
        </p:grpSpPr>
        <p:sp>
          <p:nvSpPr>
            <p:cNvPr id="365" name=""/>
            <p:cNvSpPr/>
            <p:nvPr/>
          </p:nvSpPr>
          <p:spPr>
            <a:xfrm>
              <a:off x="3272040" y="242100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41880" y="291312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211560" y="1270080"/>
            <a:ext cx="462600" cy="1068840"/>
            <a:chOff x="3211560" y="1270080"/>
            <a:chExt cx="462600" cy="1068840"/>
          </a:xfrm>
        </p:grpSpPr>
        <p:sp>
          <p:nvSpPr>
            <p:cNvPr id="368" name=""/>
            <p:cNvSpPr/>
            <p:nvPr/>
          </p:nvSpPr>
          <p:spPr>
            <a:xfrm>
              <a:off x="3211560" y="127008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81400" y="176220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973440" y="3730680"/>
            <a:ext cx="462600" cy="1068840"/>
            <a:chOff x="973440" y="3730680"/>
            <a:chExt cx="462600" cy="1068840"/>
          </a:xfrm>
        </p:grpSpPr>
        <p:sp>
          <p:nvSpPr>
            <p:cNvPr id="371" name=""/>
            <p:cNvSpPr/>
            <p:nvPr/>
          </p:nvSpPr>
          <p:spPr>
            <a:xfrm>
              <a:off x="973440" y="373068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43280" y="422280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610240" y="2565360"/>
            <a:ext cx="744480" cy="1068840"/>
            <a:chOff x="5610240" y="2565360"/>
            <a:chExt cx="744480" cy="1068840"/>
          </a:xfrm>
        </p:grpSpPr>
        <p:sp>
          <p:nvSpPr>
            <p:cNvPr id="374" name=""/>
            <p:cNvSpPr/>
            <p:nvPr/>
          </p:nvSpPr>
          <p:spPr>
            <a:xfrm>
              <a:off x="5610240" y="256536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27960" y="3057480"/>
              <a:ext cx="59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33440" y="14130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33080" y="2565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33080" y="3860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565440" y="14130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32040" y="25653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2040" y="3867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22680" y="516888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0280" y="515772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1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24040" y="1341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57520" y="2709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0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1160" y="349200"/>
            <a:ext cx="36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把下面的小数化成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14922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5      0.8      1.07       0.65       7 .25      0.9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-36360" y="3305160"/>
            <a:ext cx="9383400" cy="1971000"/>
            <a:chOff x="-36360" y="3305160"/>
            <a:chExt cx="9383400" cy="1971000"/>
          </a:xfrm>
        </p:grpSpPr>
        <p:sp>
          <p:nvSpPr>
            <p:cNvPr id="389" name=""/>
            <p:cNvSpPr/>
            <p:nvPr/>
          </p:nvSpPr>
          <p:spPr>
            <a:xfrm>
              <a:off x="-36360" y="3305160"/>
              <a:ext cx="9383400" cy="19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3.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把下面的分数化成小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       1        3        1        2        3        4        1        1        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       4        4        5        5        5        5        8       20      2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60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068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6508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5580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7020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6092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532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6568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8008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94480" y="4648320"/>
              <a:ext cx="45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04920" y="639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下面每个小数和相等的分数用线连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2192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6        0.12         0.45           3.25         0.82          3.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0880" y="4097160"/>
            <a:ext cx="8534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1            3               1                 3                9            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           5              40               25              20           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4707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4707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4478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47070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4707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4707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707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26120" y="447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2649600"/>
            <a:ext cx="1219320" cy="1600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2649600"/>
            <a:ext cx="2819520" cy="17524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2573280"/>
            <a:ext cx="3124080" cy="18288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2573280"/>
            <a:ext cx="3048120" cy="17524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914400" y="2649600"/>
            <a:ext cx="5562720" cy="18288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809880" y="2725560"/>
            <a:ext cx="4267440" cy="17528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98800" y="536400"/>
            <a:ext cx="32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比较下面每组数的大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89856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76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3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192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164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1573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192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27640" y="16905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00720" y="1690560"/>
            <a:ext cx="13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识与技能：通过观察、思考总结出分数能否化成有限小数的规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程与方法：能正确熟练地判别一个分数能否化成有限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感、态度与价值观：培养大家合作学习的习惯和自主学习、探索新知的能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534680" y="1004760"/>
            <a:ext cx="5744160" cy="2397600"/>
            <a:chOff x="1534680" y="1004760"/>
            <a:chExt cx="5744160" cy="2397600"/>
          </a:xfrm>
        </p:grpSpPr>
        <p:sp>
          <p:nvSpPr>
            <p:cNvPr id="46" name=""/>
            <p:cNvSpPr/>
            <p:nvPr/>
          </p:nvSpPr>
          <p:spPr>
            <a:xfrm>
              <a:off x="1534680" y="1004760"/>
              <a:ext cx="5744160" cy="23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两位同学进行登山比赛，从山下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山顶，甲用了     时，乙用了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，哪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同学登得快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133800" y="1844640"/>
              <a:ext cx="462600" cy="947160"/>
              <a:chOff x="3133800" y="1844640"/>
              <a:chExt cx="462600" cy="947160"/>
            </a:xfrm>
          </p:grpSpPr>
          <p:sp>
            <p:nvSpPr>
              <p:cNvPr id="48" name=""/>
              <p:cNvSpPr/>
              <p:nvPr/>
            </p:nvSpPr>
            <p:spPr>
              <a:xfrm>
                <a:off x="3133800" y="1844640"/>
                <a:ext cx="46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03280" y="2276280"/>
                <a:ext cx="360360" cy="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973080" y="3933720"/>
            <a:ext cx="2928240" cy="947160"/>
            <a:chOff x="973080" y="3933720"/>
            <a:chExt cx="2928240" cy="947160"/>
          </a:xfrm>
        </p:grpSpPr>
        <p:grpSp>
          <p:nvGrpSpPr>
            <p:cNvPr id="51" name=""/>
            <p:cNvGrpSpPr/>
            <p:nvPr/>
          </p:nvGrpSpPr>
          <p:grpSpPr>
            <a:xfrm>
              <a:off x="973080" y="3933720"/>
              <a:ext cx="743400" cy="947160"/>
              <a:chOff x="973080" y="3933720"/>
              <a:chExt cx="743400" cy="947160"/>
            </a:xfrm>
          </p:grpSpPr>
          <p:sp>
            <p:nvSpPr>
              <p:cNvPr id="52" name=""/>
              <p:cNvSpPr/>
              <p:nvPr/>
            </p:nvSpPr>
            <p:spPr>
              <a:xfrm>
                <a:off x="973080" y="3933720"/>
                <a:ext cx="46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94400" y="4365360"/>
                <a:ext cx="622080" cy="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1966320" y="4148280"/>
              <a:ext cx="87084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85200" y="4076640"/>
              <a:ext cx="8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65960" y="1366920"/>
            <a:ext cx="7905600" cy="3320280"/>
            <a:chOff x="165960" y="1366920"/>
            <a:chExt cx="7905600" cy="3320280"/>
          </a:xfrm>
        </p:grpSpPr>
        <p:grpSp>
          <p:nvGrpSpPr>
            <p:cNvPr id="58" name=""/>
            <p:cNvGrpSpPr/>
            <p:nvPr/>
          </p:nvGrpSpPr>
          <p:grpSpPr>
            <a:xfrm>
              <a:off x="395280" y="1844640"/>
              <a:ext cx="2190600" cy="1409760"/>
              <a:chOff x="395280" y="1844640"/>
              <a:chExt cx="2190600" cy="1409760"/>
            </a:xfrm>
          </p:grpSpPr>
          <p:graphicFrame>
            <p:nvGraphicFramePr>
              <p:cNvPr id="59" name=""/>
              <p:cNvGraphicFramePr/>
              <p:nvPr/>
            </p:nvGraphicFramePr>
            <p:xfrm>
              <a:off x="395280" y="1844640"/>
              <a:ext cx="2190600" cy="1409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5280" y="1844640"/>
                        <a:ext cx="2190600" cy="140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1" name=""/>
              <p:cNvGrpSpPr/>
              <p:nvPr/>
            </p:nvGrpSpPr>
            <p:grpSpPr>
              <a:xfrm>
                <a:off x="425160" y="1855800"/>
                <a:ext cx="2160360" cy="1368360"/>
                <a:chOff x="425160" y="1855800"/>
                <a:chExt cx="2160360" cy="13683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5160" y="1855800"/>
                  <a:ext cx="2160360" cy="136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4224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5824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7388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8988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0588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72188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93752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15352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69520" y="1855800"/>
                  <a:ext cx="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" name=""/>
            <p:cNvGrpSpPr/>
            <p:nvPr/>
          </p:nvGrpSpPr>
          <p:grpSpPr>
            <a:xfrm>
              <a:off x="3203640" y="1413000"/>
              <a:ext cx="1914480" cy="1895400"/>
              <a:chOff x="3203640" y="1413000"/>
              <a:chExt cx="1914480" cy="1895400"/>
            </a:xfrm>
          </p:grpSpPr>
          <p:graphicFrame>
            <p:nvGraphicFramePr>
              <p:cNvPr id="73" name=""/>
              <p:cNvGraphicFramePr/>
              <p:nvPr/>
            </p:nvGraphicFramePr>
            <p:xfrm>
              <a:off x="3203640" y="1413000"/>
              <a:ext cx="1914480" cy="1895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03640" y="1413000"/>
                        <a:ext cx="1914480" cy="189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5" name=""/>
              <p:cNvGrpSpPr/>
              <p:nvPr/>
            </p:nvGrpSpPr>
            <p:grpSpPr>
              <a:xfrm>
                <a:off x="3218040" y="1414440"/>
                <a:ext cx="1871640" cy="1871640"/>
                <a:chOff x="3218040" y="1414440"/>
                <a:chExt cx="1871640" cy="1871640"/>
              </a:xfrm>
            </p:grpSpPr>
            <p:grpSp>
              <p:nvGrpSpPr>
                <p:cNvPr id="76" name=""/>
                <p:cNvGrpSpPr/>
                <p:nvPr/>
              </p:nvGrpSpPr>
              <p:grpSpPr>
                <a:xfrm>
                  <a:off x="3218040" y="1414440"/>
                  <a:ext cx="1871640" cy="1871640"/>
                  <a:chOff x="3218040" y="1414440"/>
                  <a:chExt cx="1871640" cy="187164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3218040" y="1414440"/>
                    <a:ext cx="1871640" cy="1871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218040" y="160128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3218040" y="178812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3218040" y="197532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3218040" y="216252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218040" y="234936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218040" y="253656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3218040" y="272376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3218040" y="291060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3218040" y="309744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340488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59172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7892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6612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15296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34016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52736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71420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901040" y="1414440"/>
                  <a:ext cx="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" name=""/>
            <p:cNvGrpSpPr/>
            <p:nvPr/>
          </p:nvGrpSpPr>
          <p:grpSpPr>
            <a:xfrm>
              <a:off x="5856120" y="1366920"/>
              <a:ext cx="2028960" cy="2133360"/>
              <a:chOff x="5856120" y="1366920"/>
              <a:chExt cx="2028960" cy="2133360"/>
            </a:xfrm>
          </p:grpSpPr>
          <p:graphicFrame>
            <p:nvGraphicFramePr>
              <p:cNvPr id="97" name=""/>
              <p:cNvGraphicFramePr/>
              <p:nvPr/>
            </p:nvGraphicFramePr>
            <p:xfrm>
              <a:off x="5856120" y="1366920"/>
              <a:ext cx="2028960" cy="2133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56120" y="1366920"/>
                        <a:ext cx="2028960" cy="21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9" name=""/>
              <p:cNvGrpSpPr/>
              <p:nvPr/>
            </p:nvGrpSpPr>
            <p:grpSpPr>
              <a:xfrm>
                <a:off x="5868720" y="1484280"/>
                <a:ext cx="1944720" cy="1944360"/>
                <a:chOff x="5868720" y="1484280"/>
                <a:chExt cx="1944720" cy="19443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868720" y="1484280"/>
                  <a:ext cx="1944720" cy="194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6516360" y="1557000"/>
                  <a:ext cx="649080" cy="179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589440" y="1557000"/>
                  <a:ext cx="503280" cy="179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6084360" y="1915560"/>
                  <a:ext cx="1584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868720" y="2491920"/>
                  <a:ext cx="194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086520" y="1915560"/>
                  <a:ext cx="1511280" cy="115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" name=""/>
            <p:cNvGrpSpPr/>
            <p:nvPr/>
          </p:nvGrpSpPr>
          <p:grpSpPr>
            <a:xfrm>
              <a:off x="165960" y="3684600"/>
              <a:ext cx="2433240" cy="970920"/>
              <a:chOff x="165960" y="3684600"/>
              <a:chExt cx="2433240" cy="970920"/>
            </a:xfrm>
          </p:grpSpPr>
          <p:sp>
            <p:nvSpPr>
              <p:cNvPr id="107" name=""/>
              <p:cNvSpPr/>
              <p:nvPr/>
            </p:nvSpPr>
            <p:spPr>
              <a:xfrm>
                <a:off x="165960" y="3684600"/>
                <a:ext cx="243324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(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(        )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(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47640" y="4130640"/>
                <a:ext cx="79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903040" y="3716280"/>
              <a:ext cx="2433240" cy="970920"/>
              <a:chOff x="2903040" y="3716280"/>
              <a:chExt cx="2433240" cy="97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2903040" y="3716280"/>
                <a:ext cx="243324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(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(         )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(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84720" y="4162320"/>
                <a:ext cx="79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638320" y="3716280"/>
              <a:ext cx="2433240" cy="970920"/>
              <a:chOff x="5638320" y="3716280"/>
              <a:chExt cx="2433240" cy="970920"/>
            </a:xfrm>
          </p:grpSpPr>
          <p:sp>
            <p:nvSpPr>
              <p:cNvPr id="113" name=""/>
              <p:cNvSpPr/>
              <p:nvPr/>
            </p:nvSpPr>
            <p:spPr>
              <a:xfrm>
                <a:off x="5638320" y="3716280"/>
                <a:ext cx="243324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(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(        )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(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020000" y="4162320"/>
                <a:ext cx="79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298440" y="38671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50160" y="3451320"/>
            <a:ext cx="74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39099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5800" y="38606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0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2880" y="3500280"/>
            <a:ext cx="102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50880" y="3486240"/>
            <a:ext cx="74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0760" y="685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小数和分数表示下面每个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7812000" y="54450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2%E5%9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47840" y="1913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9000" y="1187280"/>
            <a:ext cx="536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0.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里面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个（       ）分之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它表示（        ）分之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6320" y="2413080"/>
            <a:ext cx="55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0.0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里面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个（       ）分之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它表示（        ）分之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1680" y="3720960"/>
            <a:ext cx="603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0.01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里面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个（       ）分之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它表示（        ）分之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2640" y="5160960"/>
            <a:ext cx="55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.2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表示（        ）又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分之（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8880" y="1114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36160" y="1619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57240" y="1619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77600" y="2340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36160" y="2844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57240" y="2844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9600" y="363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36160" y="4211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08280" y="41673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96520" y="507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60480" y="507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8440" y="560700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二十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028000" y="99864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1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476280"/>
            <a:ext cx="115092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50640" y="260280"/>
            <a:ext cx="589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0.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0.0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.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0.42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化成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20720" y="1851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0.9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62200" y="184464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想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0.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十分之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627280" y="1628640"/>
            <a:ext cx="1079280" cy="1020240"/>
            <a:chOff x="2627280" y="1628640"/>
            <a:chExt cx="1079280" cy="1020240"/>
          </a:xfrm>
        </p:grpSpPr>
        <p:sp>
          <p:nvSpPr>
            <p:cNvPr id="146" name=""/>
            <p:cNvSpPr/>
            <p:nvPr/>
          </p:nvSpPr>
          <p:spPr>
            <a:xfrm>
              <a:off x="2627280" y="1628640"/>
              <a:ext cx="107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30240" y="2120760"/>
              <a:ext cx="51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620360" y="2852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0.0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33840" y="290988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想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0.0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百分之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843280" y="2637000"/>
            <a:ext cx="1439280" cy="1020240"/>
            <a:chOff x="2843280" y="2637000"/>
            <a:chExt cx="1439280" cy="1020240"/>
          </a:xfrm>
        </p:grpSpPr>
        <p:sp>
          <p:nvSpPr>
            <p:cNvPr id="151" name=""/>
            <p:cNvSpPr/>
            <p:nvPr/>
          </p:nvSpPr>
          <p:spPr>
            <a:xfrm>
              <a:off x="2843280" y="2637000"/>
              <a:ext cx="143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80800" y="3129120"/>
              <a:ext cx="69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648800" y="37958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1.21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73560" y="3716280"/>
            <a:ext cx="18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想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.2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一又百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之二十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059280" y="3633840"/>
            <a:ext cx="1439280" cy="1020240"/>
            <a:chOff x="3059280" y="3633840"/>
            <a:chExt cx="1439280" cy="1020240"/>
          </a:xfrm>
        </p:grpSpPr>
        <p:sp>
          <p:nvSpPr>
            <p:cNvPr id="156" name=""/>
            <p:cNvSpPr/>
            <p:nvPr/>
          </p:nvSpPr>
          <p:spPr>
            <a:xfrm>
              <a:off x="3059280" y="3633840"/>
              <a:ext cx="143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6800" y="4125960"/>
              <a:ext cx="69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772000" y="3738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81920" y="49323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0.42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06720" y="4869000"/>
            <a:ext cx="252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想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0.42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千分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百二十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87640" y="4724280"/>
            <a:ext cx="1799640" cy="1020240"/>
            <a:chOff x="2987640" y="4724280"/>
            <a:chExt cx="1799640" cy="1020240"/>
          </a:xfrm>
        </p:grpSpPr>
        <p:sp>
          <p:nvSpPr>
            <p:cNvPr id="162" name=""/>
            <p:cNvSpPr/>
            <p:nvPr/>
          </p:nvSpPr>
          <p:spPr>
            <a:xfrm>
              <a:off x="2987640" y="4724280"/>
              <a:ext cx="17996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59360" y="521640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322520" y="4653000"/>
            <a:ext cx="744480" cy="1068840"/>
            <a:chOff x="4322520" y="4653000"/>
            <a:chExt cx="744480" cy="1068840"/>
          </a:xfrm>
        </p:grpSpPr>
        <p:sp>
          <p:nvSpPr>
            <p:cNvPr id="165" name=""/>
            <p:cNvSpPr/>
            <p:nvPr/>
          </p:nvSpPr>
          <p:spPr>
            <a:xfrm>
              <a:off x="4322520" y="46530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27280" y="5145120"/>
              <a:ext cx="534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962520" y="48751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6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86320" y="333360"/>
            <a:ext cx="460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请你观察例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中的题目，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小数化分数有什么简便的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5800" y="20667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0.9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492360" y="1844640"/>
            <a:ext cx="1079280" cy="1020240"/>
            <a:chOff x="3492360" y="1844640"/>
            <a:chExt cx="1079280" cy="1020240"/>
          </a:xfrm>
        </p:grpSpPr>
        <p:sp>
          <p:nvSpPr>
            <p:cNvPr id="171" name=""/>
            <p:cNvSpPr/>
            <p:nvPr/>
          </p:nvSpPr>
          <p:spPr>
            <a:xfrm>
              <a:off x="3492360" y="1844640"/>
              <a:ext cx="107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5320" y="2336760"/>
              <a:ext cx="51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485440" y="3068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0.0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708360" y="2852640"/>
            <a:ext cx="1439640" cy="1020240"/>
            <a:chOff x="3708360" y="2852640"/>
            <a:chExt cx="1439640" cy="1020240"/>
          </a:xfrm>
        </p:grpSpPr>
        <p:sp>
          <p:nvSpPr>
            <p:cNvPr id="175" name=""/>
            <p:cNvSpPr/>
            <p:nvPr/>
          </p:nvSpPr>
          <p:spPr>
            <a:xfrm>
              <a:off x="3708360" y="2852640"/>
              <a:ext cx="14396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45880" y="3344760"/>
              <a:ext cx="69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485440" y="4005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1.21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24360" y="3849840"/>
            <a:ext cx="1439280" cy="1020240"/>
            <a:chOff x="3924360" y="3849840"/>
            <a:chExt cx="1439280" cy="1020240"/>
          </a:xfrm>
        </p:grpSpPr>
        <p:sp>
          <p:nvSpPr>
            <p:cNvPr id="179" name=""/>
            <p:cNvSpPr/>
            <p:nvPr/>
          </p:nvSpPr>
          <p:spPr>
            <a:xfrm>
              <a:off x="3924360" y="3849840"/>
              <a:ext cx="14392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1880" y="4341960"/>
              <a:ext cx="69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637440" y="3954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47360" y="51483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0.42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852720" y="4940280"/>
            <a:ext cx="1799640" cy="1020240"/>
            <a:chOff x="3852720" y="4940280"/>
            <a:chExt cx="1799640" cy="1020240"/>
          </a:xfrm>
        </p:grpSpPr>
        <p:sp>
          <p:nvSpPr>
            <p:cNvPr id="184" name=""/>
            <p:cNvSpPr/>
            <p:nvPr/>
          </p:nvSpPr>
          <p:spPr>
            <a:xfrm>
              <a:off x="3852720" y="4940280"/>
              <a:ext cx="17996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24440" y="543240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187960" y="4869000"/>
            <a:ext cx="744480" cy="1068840"/>
            <a:chOff x="5187960" y="4869000"/>
            <a:chExt cx="744480" cy="1068840"/>
          </a:xfrm>
        </p:grpSpPr>
        <p:sp>
          <p:nvSpPr>
            <p:cNvPr id="187" name=""/>
            <p:cNvSpPr/>
            <p:nvPr/>
          </p:nvSpPr>
          <p:spPr>
            <a:xfrm>
              <a:off x="5187960" y="48690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92720" y="5361120"/>
              <a:ext cx="534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827600" y="50911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4320" y="13874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示：用什么数作分母？用什么数作分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6360" y="2637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2852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3645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7280" y="3789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57340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587700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4720" y="20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36720" y="177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3440" y="306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7080" y="2787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96360" y="48751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4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7080" y="51642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4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8360" y="37958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72800" y="40053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6360" y="4581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2920" y="479736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1477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2%E9%97%AA%E8%89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86320" y="333360"/>
            <a:ext cx="460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请你观察例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中的题目，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小数化分数有什么简便的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2640" y="2151000"/>
            <a:ext cx="54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化分数，原来有几位小数，就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后面写几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分母，把原来的小数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掉小数点作分子；化成分数后，能约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要约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00720" y="5661000"/>
            <a:ext cx="2571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686680" y="2286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下面的小数化成分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533520"/>
            <a:ext cx="88390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7          6.13           0.08         0.65       1.0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514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0.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2286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2743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743200"/>
            <a:ext cx="4572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31240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97180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51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6.13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2819520"/>
            <a:ext cx="5335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2743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24280" y="297180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5909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0.0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2895480"/>
            <a:ext cx="609480" cy="18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2895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50560" y="2594520"/>
            <a:ext cx="459360" cy="14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3048120"/>
            <a:ext cx="5335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2895480"/>
            <a:ext cx="609480" cy="18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9716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738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327672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229600" y="312372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4648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0.6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4876920"/>
            <a:ext cx="5331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343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6840" y="4575600"/>
            <a:ext cx="459360" cy="14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5029200"/>
            <a:ext cx="5335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4648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4038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4876920"/>
            <a:ext cx="4572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7080" y="4876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7080" y="4343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54100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895480" y="525780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4648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.075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4876920"/>
            <a:ext cx="7621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4876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1640" y="4651920"/>
            <a:ext cx="459360" cy="14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31760" y="5124240"/>
            <a:ext cx="671760" cy="114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4038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257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4876920"/>
            <a:ext cx="609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1360" y="4876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8040" y="43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533412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391520" y="518112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835280" y="6016680"/>
            <a:ext cx="7999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4:06:1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