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8.wmf" ContentType="image/x-wmf"/>
  <Override PartName="/ppt/media/hammer.wav" ContentType="audio/x-wav"/>
  <Override PartName="/ppt/media/image6.wmf" ContentType="image/x-wmf"/>
  <Override PartName="/ppt/media/image5.wmf" ContentType="image/x-wmf"/>
  <Override PartName="/ppt/media/image10.png" ContentType="image/png"/>
  <Override PartName="/ppt/media/image4.wmf" ContentType="image/x-wmf"/>
  <Override PartName="/ppt/media/image3.wmf" ContentType="image/x-wmf"/>
  <Override PartName="/ppt/media/image2.wmf" ContentType="image/x-wmf"/>
  <Override PartName="/ppt/media/image13.wmf" ContentType="image/x-wmf"/>
  <Override PartName="/ppt/media/explode.wav" ContentType="audio/x-wav"/>
  <Override PartName="/ppt/media/image12.wmf" ContentType="image/x-wmf"/>
  <Override PartName="/ppt/media/chimes.wav" ContentType="audio/x-wav"/>
  <Override PartName="/ppt/media/suction.wav" ContentType="audio/x-wav"/>
  <Override PartName="/ppt/media/image7.wmf" ContentType="image/x-wmf"/>
  <Override PartName="/ppt/media/image11.wmf" ContentType="image/x-wmf"/>
  <Override PartName="/ppt/media/image14.png" ContentType="image/png"/>
  <Override PartName="/ppt/media/image9.wmf" ContentType="image/x-wmf"/>
  <Override PartName="/ppt/media/image1.png" ContentType="image/png"/>
  <Override PartName="/ppt/media/type.wav" ContentType="audio/x-wav"/>
  <Override PartName="/ppt/media/image15.png" ContentType="image/png"/>
  <Override PartName="/ppt/media/drumroll.wav" ContentType="audio/x-wav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comments/comment8.xml" ContentType="application/vnd.openxmlformats-officedocument.presentationml.comments+xml"/>
  <Override PartName="/ppt/comments/comment9.xml" ContentType="application/vnd.openxmlformats-officedocument.presentationml.comments+xml"/>
  <Override PartName="/ppt/comments/comment10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User" initials="U" lastIdx="3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<Relationship Id="rId30" Type="http://schemas.openxmlformats.org/officeDocument/2006/relationships/commentAuthors" Target="commentAuthors.xml"/>
</Relationships>
</file>

<file path=ppt/comments/comment10.xml><?xml version="1.0" encoding="utf-8"?>
<p:cmLst xmlns:p="http://schemas.openxmlformats.org/presentationml/2006/main">
  <p:cm authorId="0" dt="2006-11-14T13:52:51.812000000" idx="3">
    <p:pos x="3107" y="-199"/>
    <p:text/>
  </p:cm>
</p:cmLst>
</file>

<file path=ppt/comments/comment8.xml><?xml version="1.0" encoding="utf-8"?>
<p:cmLst xmlns:p="http://schemas.openxmlformats.org/presentationml/2006/main">
  <p:cm authorId="0" dt="2006-11-14T13:52:51.812000000" idx="1">
    <p:pos x="3107" y="-199"/>
    <p:text/>
  </p:cm>
</p:cmLst>
</file>

<file path=ppt/comments/comment9.xml><?xml version="1.0" encoding="utf-8"?>
<p:cmLst xmlns:p="http://schemas.openxmlformats.org/presentationml/2006/main">
  <p:cm authorId="0" dt="2006-11-14T13:52:51.812000000" idx="2">
    <p:pos x="3107" y="-199"/>
    <p:text/>
  </p:cm>
</p:cmLst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2C185-EAA3-4397-9E48-71378385E9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1E097-B4A6-4230-BA72-ED38F0A821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E06B-9F8B-4366-B191-BC427A0F9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4262D-82E6-49DB-B74B-EE1D286B5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920E-34EB-4241-93BD-2B30A397B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B121D-6333-4E36-B52B-B7EF1B79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240CE-E1D2-4FFB-AE16-BCE105154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5D8C-0DFF-46EC-A256-9220AE1BE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81845-157E-469A-9FB7-E12BCECB2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76BC3-5663-4937-A842-DA7EC054A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B5DAA-0011-4479-87DC-1EC1AA84F8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52BE6-A530-4770-8489-D050DFAD6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5FB14-392E-47D0-92BE-305880EAB370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6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audio" Target="../media/hammer.wav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wmf"/><Relationship Id="rId3" Type="http://schemas.openxmlformats.org/officeDocument/2006/relationships/audio" Target="../media/explode.wav"/><Relationship Id="rId4" Type="http://schemas.openxmlformats.org/officeDocument/2006/relationships/audio" Target="../media/explode.wav"/><Relationship Id="rId5" Type="http://schemas.openxmlformats.org/officeDocument/2006/relationships/audio" Target="../media/explode.wav"/><Relationship Id="rId6" Type="http://schemas.openxmlformats.org/officeDocument/2006/relationships/audio" Target="../media/explode.wav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2.wmf"/><Relationship Id="rId5" Type="http://schemas.openxmlformats.org/officeDocument/2006/relationships/audio" Target="../media/chimes.wav"/><Relationship Id="rId6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drumroll.wav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3.wmf"/><Relationship Id="rId5" Type="http://schemas.openxmlformats.org/officeDocument/2006/relationships/audio" Target="../media/suction.wav"/><Relationship Id="rId6" Type="http://schemas.openxmlformats.org/officeDocument/2006/relationships/slideLayout" Target="../slideLayouts/slideLayout1.xml"/><Relationship Id="rId7" Type="http://schemas.openxmlformats.org/officeDocument/2006/relationships/comments" Target="../comments/comment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<Relationship Id="rId5" Type="http://schemas.openxmlformats.org/officeDocument/2006/relationships/comments" Target="../comments/comment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925720"/>
            <a:ext cx="7772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Arial"/>
                <a:ea typeface="宋体"/>
              </a:rPr>
              <a:t>公倍数和最小公倍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233960" y="1295280"/>
            <a:ext cx="188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五年级数学下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47640" y="620280"/>
            <a:ext cx="7366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公倍数有哪些？其中最小的公倍数是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1" name=""/>
          <p:cNvGraphicFramePr/>
          <p:nvPr/>
        </p:nvGraphicFramePr>
        <p:xfrm>
          <a:off x="7236000" y="1341360"/>
          <a:ext cx="1458720" cy="1408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236000" y="1341360"/>
                    <a:ext cx="1458720" cy="1408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3" name=""/>
          <p:cNvGraphicFramePr/>
          <p:nvPr/>
        </p:nvGraphicFramePr>
        <p:xfrm>
          <a:off x="0" y="189000"/>
          <a:ext cx="1187280" cy="885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0" y="189000"/>
                    <a:ext cx="118728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lus/>
    <p:sndAc>
      <p:stSnd>
        <p:snd r:embed="rId5" name="chimes.wav"/>
      </p:stSnd>
    </p:sndAc>
  </p:transition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18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 txBox="1"/>
          <p:nvPr/>
        </p:nvSpPr>
        <p:spPr>
          <a:xfrm>
            <a:off x="324000" y="333360"/>
            <a:ext cx="2743200" cy="102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观察与思考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16" name=""/>
          <p:cNvSpPr/>
          <p:nvPr/>
        </p:nvSpPr>
        <p:spPr>
          <a:xfrm>
            <a:off x="736560" y="1398600"/>
            <a:ext cx="18108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6800" y="1557360"/>
            <a:ext cx="72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有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2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6800" y="2997360"/>
            <a:ext cx="7282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有：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1304640" y="4149720"/>
            <a:ext cx="1144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公有的倍数有（                   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共（                 ）个。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213200" y="5300640"/>
            <a:ext cx="621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这些公有的倍数中，最小的是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有没有最大的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3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4444200" y="450864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公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08000" y="1995480"/>
            <a:ext cx="3733920" cy="2081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128600" y="13572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454040" y="3316320"/>
            <a:ext cx="9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815080" y="134136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9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4583160" y="2027160"/>
            <a:ext cx="3733920" cy="2081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651680" y="22827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101960" y="2282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248560" y="2308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64200" y="28116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940400" y="2859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18320" y="28335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2607480" y="2859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045080" y="3357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135840" y="34322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650200" y="225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6074280" y="2254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723720" y="22543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334480" y="285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795000" y="285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5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6087240" y="285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219640" y="3645000"/>
            <a:ext cx="144360" cy="792000"/>
          </a:xfrm>
          <a:prstGeom prst="downArrow">
            <a:avLst>
              <a:gd name="adj1" fmla="val 50000"/>
              <a:gd name="adj2" fmla="val 13715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932360" y="31622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3440" y="3332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596960" y="5380200"/>
            <a:ext cx="54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的最小公倍数是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027840" y="54421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382760" y="189000"/>
            <a:ext cx="73659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  <a:ea typeface="宋体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的公倍数有哪些？其中最小的公倍数是几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0" y="189000"/>
          <a:ext cx="1187280" cy="885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89000"/>
                    <a:ext cx="1187280" cy="885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2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5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26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7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2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520"/>
                            </p:stCondLst>
                            <p:childTnLst>
                              <p:par>
                                <p:cTn id="430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2.59259E-006 L -0.11528 0.00185 E">
                                      <p:cBhvr>
                                        <p:cTn id="431" dur="2000" fill="hold"/>
                                        <p:tgtEl>
                                          <p:spTgt spid="13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2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9259E-006 L 0.05868 0.00185 E">
                                      <p:cBhvr>
                                        <p:cTn id="433" dur="2000" fill="hold"/>
                                        <p:tgtEl>
                                          <p:spTgt spid="13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34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6 -1.11111E-006 L 0.07361 -0.00185 E">
                                      <p:cBhvr>
                                        <p:cTn id="435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43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4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1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4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4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5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46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4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8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5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51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2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4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45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520"/>
                            </p:stCondLst>
                            <p:childTnLst>
                              <p:par>
                                <p:cTn id="457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5E-006 2.59259E-006 L 0.14462 -0.00162 E">
                                      <p:cBhvr>
                                        <p:cTn id="458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59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07865 0.00347 E">
                                      <p:cBhvr>
                                        <p:cTn id="46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1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66667E-006 1.11111E-006 L -0.21771 -0.00185 E">
                                      <p:cBhvr>
                                        <p:cTn id="462" dur="2000" fill="hold"/>
                                        <p:tgtEl>
                                          <p:spTgt spid="14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3" nodeType="with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1077 0.0088 L 0.17413 -0.07708 E">
                                      <p:cBhvr>
                                        <p:cTn id="46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46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46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4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4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72" dur="2000" fill="hold"/>
                                        <p:tgtEl>
                                          <p:spTgt spid="1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74" dur="2000" fill="hold"/>
                                        <p:tgtEl>
                                          <p:spTgt spid="12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76" dur="2000" fill="hold"/>
                                        <p:tgtEl>
                                          <p:spTgt spid="1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78" dur="2000" fill="hold"/>
                                        <p:tgtEl>
                                          <p:spTgt spid="1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7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80" dur="2000" fill="hold"/>
                                        <p:tgtEl>
                                          <p:spTgt spid="12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1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482" dur="2000" fill="hold"/>
                                        <p:tgtEl>
                                          <p:spTgt spid="12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84" dur="2000" fill="hold"/>
                                        <p:tgtEl>
                                          <p:spTgt spid="1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5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486" dur="2000" fill="hold"/>
                                        <p:tgtEl>
                                          <p:spTgt spid="1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88" dur="2000" fill="hold"/>
                                        <p:tgtEl>
                                          <p:spTgt spid="1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8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L 0.16285 -0.00278 E">
                                      <p:cBhvr>
                                        <p:cTn id="490" dur="2000" fill="hold"/>
                                        <p:tgtEl>
                                          <p:spTgt spid="1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492" dur="2000" fill="hold"/>
                                        <p:tgtEl>
                                          <p:spTgt spid="14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3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494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5" nodeType="withEffect" fill="hold" presetClass="exit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Right)" transition="out">
                                      <p:cBhvr additive="repl">
                                        <p:cTn id="496" dur="2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8" nodeType="with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2344 -0.01829 L 0.38385 -0.07547 E">
                                      <p:cBhvr>
                                        <p:cTn id="499" dur="2000" fill="hold"/>
                                        <p:tgtEl>
                                          <p:spTgt spid="1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0" fill="hold">
                            <p:stCondLst>
                              <p:cond delay="2000"/>
                            </p:stCondLst>
                            <p:childTnLst>
                              <p:par>
                                <p:cTn id="501" nodeType="after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0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8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3" dur="2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1103400" y="2308320"/>
            <a:ext cx="3744720" cy="1568520"/>
          </a:xfrm>
          <a:prstGeom prst="ellipse">
            <a:avLst/>
          </a:prstGeom>
          <a:noFill/>
          <a:ln w="381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76560" y="2324160"/>
            <a:ext cx="3992400" cy="1554120"/>
          </a:xfrm>
          <a:prstGeom prst="ellipse">
            <a:avLst/>
          </a:prstGeom>
          <a:noFill/>
          <a:ln w="381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292400" y="1887480"/>
            <a:ext cx="2192040" cy="669960"/>
          </a:xfrm>
          <a:prstGeom prst="rect">
            <a:avLst/>
          </a:prstGeom>
          <a:solidFill>
            <a:srgbClr val="ff505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511520" y="1960560"/>
            <a:ext cx="2351160" cy="652320"/>
          </a:xfrm>
          <a:prstGeom prst="rect">
            <a:avLst/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3873600" y="3803760"/>
            <a:ext cx="233280" cy="363600"/>
          </a:xfrm>
          <a:prstGeom prst="downArrow">
            <a:avLst>
              <a:gd name="adj1" fmla="val 50000"/>
              <a:gd name="adj2" fmla="val 38966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614680" y="4241880"/>
            <a:ext cx="3468600" cy="522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楷体_GB2312"/>
              </a:rPr>
              <a:t>的公倍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050920" y="248904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680080" y="3117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824440" y="2614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307120" y="268596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933720" y="2708280"/>
            <a:ext cx="689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3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598920" y="319896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5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398680" y="334152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647720" y="326880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4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195640" y="2924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332000" y="29242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05160" y="2614680"/>
            <a:ext cx="631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1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562040" y="25495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652120" y="692280"/>
            <a:ext cx="3544560" cy="64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可以用下图表示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公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  <p:sndAc>
      <p:stSnd>
        <p:snd r:embed="rId1" name="hammer.wav"/>
      </p:stSnd>
    </p:sndAc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3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49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5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6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0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7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8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242720" y="1251000"/>
            <a:ext cx="67284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4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公有的倍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叫做它们的公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其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它们的最小公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971640" y="836640"/>
            <a:ext cx="8610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倍数上画“      ”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的倍数上画“      ”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994200" y="909720"/>
            <a:ext cx="504720" cy="358560"/>
          </a:xfrm>
          <a:prstGeom prst="triangle">
            <a:avLst>
              <a:gd name="adj" fmla="val 50000"/>
            </a:avLst>
          </a:prstGeom>
          <a:noFill/>
          <a:ln w="507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7812000" y="909720"/>
            <a:ext cx="433440" cy="431640"/>
          </a:xfrm>
          <a:prstGeom prst="ellipse">
            <a:avLst/>
          </a:prstGeom>
          <a:noFill/>
          <a:ln w="507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1258920" y="1844640"/>
          <a:ext cx="6934320" cy="2336760"/>
        </p:xfrm>
        <a:graphic>
          <a:graphicData uri="http://schemas.openxmlformats.org/drawingml/2006/table">
            <a:tbl>
              <a:tblPr/>
              <a:tblGrid>
                <a:gridCol w="693720"/>
                <a:gridCol w="692280"/>
                <a:gridCol w="695160"/>
                <a:gridCol w="692280"/>
                <a:gridCol w="693720"/>
                <a:gridCol w="693720"/>
                <a:gridCol w="691920"/>
                <a:gridCol w="695520"/>
                <a:gridCol w="692280"/>
                <a:gridCol w="693720"/>
              </a:tblGrid>
              <a:tr h="77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8084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779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1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2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3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6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7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8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9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9360">
                      <a:solidFill>
                        <a:srgbClr val="000000"/>
                      </a:solidFill>
                    </a:lnL>
                    <a:lnR w="936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4" name=""/>
          <p:cNvSpPr/>
          <p:nvPr/>
        </p:nvSpPr>
        <p:spPr>
          <a:xfrm>
            <a:off x="3276720" y="544500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89320" y="4941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8"/>
                </a:solidFill>
                <a:latin typeface="Times New Roman"/>
                <a:ea typeface="宋体"/>
              </a:rPr>
              <a:t>10</a:t>
            </a:r>
            <a:r>
              <a:rPr b="1" lang="zh-CN" sz="2800" spc="-1" strike="noStrike">
                <a:solidFill>
                  <a:srgbClr val="0000d8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d8"/>
                </a:solidFill>
                <a:latin typeface="Times New Roman"/>
                <a:ea typeface="宋体"/>
              </a:rPr>
              <a:t>20</a:t>
            </a:r>
            <a:r>
              <a:rPr b="1" lang="zh-CN" sz="2800" spc="-1" strike="noStrike">
                <a:solidFill>
                  <a:srgbClr val="0000d8"/>
                </a:solidFill>
                <a:latin typeface="Times New Roman"/>
                <a:ea typeface="宋体"/>
              </a:rPr>
              <a:t>、</a:t>
            </a:r>
            <a:r>
              <a:rPr b="1" lang="en-US" sz="2800" spc="-1" strike="noStrike">
                <a:solidFill>
                  <a:srgbClr val="0000d8"/>
                </a:solidFill>
                <a:latin typeface="Times New Roman"/>
                <a:ea typeface="宋体"/>
              </a:rPr>
              <a:t>3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000160" y="1940040"/>
            <a:ext cx="6096240" cy="2057400"/>
            <a:chOff x="2000160" y="1940040"/>
            <a:chExt cx="6096240" cy="2057400"/>
          </a:xfrm>
        </p:grpSpPr>
        <p:sp>
          <p:nvSpPr>
            <p:cNvPr id="177" name=""/>
            <p:cNvSpPr/>
            <p:nvPr/>
          </p:nvSpPr>
          <p:spPr>
            <a:xfrm>
              <a:off x="3371760" y="2702160"/>
              <a:ext cx="609840" cy="533520"/>
            </a:xfrm>
            <a:prstGeom prst="triangle">
              <a:avLst>
                <a:gd name="adj" fmla="val 50000"/>
              </a:avLst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71760" y="3464280"/>
              <a:ext cx="609840" cy="533160"/>
            </a:xfrm>
            <a:prstGeom prst="triangle">
              <a:avLst>
                <a:gd name="adj" fmla="val 50000"/>
              </a:avLst>
            </a:prstGeom>
            <a:noFill/>
            <a:ln w="507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79" name=""/>
            <p:cNvGrpSpPr/>
            <p:nvPr/>
          </p:nvGrpSpPr>
          <p:grpSpPr>
            <a:xfrm>
              <a:off x="2000160" y="1940040"/>
              <a:ext cx="6096240" cy="2057400"/>
              <a:chOff x="2000160" y="1940040"/>
              <a:chExt cx="6096240" cy="2057400"/>
            </a:xfrm>
          </p:grpSpPr>
          <p:sp>
            <p:nvSpPr>
              <p:cNvPr id="180" name=""/>
              <p:cNvSpPr/>
              <p:nvPr/>
            </p:nvSpPr>
            <p:spPr>
              <a:xfrm>
                <a:off x="2000160" y="1940040"/>
                <a:ext cx="609840" cy="533520"/>
              </a:xfrm>
              <a:prstGeom prst="triangle">
                <a:avLst>
                  <a:gd name="adj" fmla="val 50000"/>
                </a:avLst>
              </a:prstGeom>
              <a:noFill/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>
                <a:off x="3371760" y="1940040"/>
                <a:ext cx="609840" cy="533520"/>
              </a:xfrm>
              <a:prstGeom prst="triangle">
                <a:avLst>
                  <a:gd name="adj" fmla="val 50000"/>
                </a:avLst>
              </a:prstGeom>
              <a:noFill/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"/>
              <p:cNvSpPr/>
              <p:nvPr/>
            </p:nvSpPr>
            <p:spPr>
              <a:xfrm>
                <a:off x="4743360" y="1940040"/>
                <a:ext cx="609840" cy="533520"/>
              </a:xfrm>
              <a:prstGeom prst="triangle">
                <a:avLst>
                  <a:gd name="adj" fmla="val 50000"/>
                </a:avLst>
              </a:prstGeom>
              <a:noFill/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"/>
              <p:cNvSpPr/>
              <p:nvPr/>
            </p:nvSpPr>
            <p:spPr>
              <a:xfrm>
                <a:off x="6114960" y="1940040"/>
                <a:ext cx="609840" cy="533520"/>
              </a:xfrm>
              <a:prstGeom prst="triangle">
                <a:avLst>
                  <a:gd name="adj" fmla="val 50000"/>
                </a:avLst>
              </a:prstGeom>
              <a:noFill/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>
                <a:off x="7486560" y="1940040"/>
                <a:ext cx="609840" cy="533520"/>
              </a:xfrm>
              <a:prstGeom prst="triangle">
                <a:avLst>
                  <a:gd name="adj" fmla="val 50000"/>
                </a:avLst>
              </a:prstGeom>
              <a:noFill/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5" name=""/>
              <p:cNvSpPr/>
              <p:nvPr/>
            </p:nvSpPr>
            <p:spPr>
              <a:xfrm>
                <a:off x="2000160" y="2702160"/>
                <a:ext cx="609840" cy="533520"/>
              </a:xfrm>
              <a:prstGeom prst="triangle">
                <a:avLst>
                  <a:gd name="adj" fmla="val 50000"/>
                </a:avLst>
              </a:prstGeom>
              <a:noFill/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6" name=""/>
              <p:cNvSpPr/>
              <p:nvPr/>
            </p:nvSpPr>
            <p:spPr>
              <a:xfrm>
                <a:off x="4743360" y="2702160"/>
                <a:ext cx="609840" cy="533520"/>
              </a:xfrm>
              <a:prstGeom prst="triangle">
                <a:avLst>
                  <a:gd name="adj" fmla="val 50000"/>
                </a:avLst>
              </a:prstGeom>
              <a:noFill/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7" name=""/>
              <p:cNvSpPr/>
              <p:nvPr/>
            </p:nvSpPr>
            <p:spPr>
              <a:xfrm>
                <a:off x="6114960" y="2702160"/>
                <a:ext cx="609840" cy="533520"/>
              </a:xfrm>
              <a:prstGeom prst="triangle">
                <a:avLst>
                  <a:gd name="adj" fmla="val 50000"/>
                </a:avLst>
              </a:prstGeom>
              <a:noFill/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8" name=""/>
              <p:cNvSpPr/>
              <p:nvPr/>
            </p:nvSpPr>
            <p:spPr>
              <a:xfrm>
                <a:off x="7486560" y="2702160"/>
                <a:ext cx="609840" cy="533520"/>
              </a:xfrm>
              <a:prstGeom prst="triangle">
                <a:avLst>
                  <a:gd name="adj" fmla="val 50000"/>
                </a:avLst>
              </a:prstGeom>
              <a:noFill/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"/>
              <p:cNvSpPr/>
              <p:nvPr/>
            </p:nvSpPr>
            <p:spPr>
              <a:xfrm>
                <a:off x="2000160" y="3464280"/>
                <a:ext cx="609840" cy="533160"/>
              </a:xfrm>
              <a:prstGeom prst="triangle">
                <a:avLst>
                  <a:gd name="adj" fmla="val 50000"/>
                </a:avLst>
              </a:prstGeom>
              <a:noFill/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0" name=""/>
              <p:cNvSpPr/>
              <p:nvPr/>
            </p:nvSpPr>
            <p:spPr>
              <a:xfrm>
                <a:off x="4743360" y="3464280"/>
                <a:ext cx="609840" cy="533160"/>
              </a:xfrm>
              <a:prstGeom prst="triangle">
                <a:avLst>
                  <a:gd name="adj" fmla="val 50000"/>
                </a:avLst>
              </a:prstGeom>
              <a:noFill/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1" name=""/>
              <p:cNvSpPr/>
              <p:nvPr/>
            </p:nvSpPr>
            <p:spPr>
              <a:xfrm>
                <a:off x="6114960" y="3464280"/>
                <a:ext cx="609840" cy="533160"/>
              </a:xfrm>
              <a:prstGeom prst="triangle">
                <a:avLst>
                  <a:gd name="adj" fmla="val 50000"/>
                </a:avLst>
              </a:prstGeom>
              <a:noFill/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"/>
              <p:cNvSpPr/>
              <p:nvPr/>
            </p:nvSpPr>
            <p:spPr>
              <a:xfrm>
                <a:off x="7486560" y="3464280"/>
                <a:ext cx="609840" cy="533160"/>
              </a:xfrm>
              <a:prstGeom prst="triangle">
                <a:avLst>
                  <a:gd name="adj" fmla="val 50000"/>
                </a:avLst>
              </a:prstGeom>
              <a:noFill/>
              <a:ln w="507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93" name=""/>
          <p:cNvGrpSpPr/>
          <p:nvPr/>
        </p:nvGrpSpPr>
        <p:grpSpPr>
          <a:xfrm>
            <a:off x="4057560" y="1940040"/>
            <a:ext cx="4114800" cy="2133000"/>
            <a:chOff x="4057560" y="1940040"/>
            <a:chExt cx="4114800" cy="2133000"/>
          </a:xfrm>
        </p:grpSpPr>
        <p:sp>
          <p:nvSpPr>
            <p:cNvPr id="194" name=""/>
            <p:cNvSpPr/>
            <p:nvPr/>
          </p:nvSpPr>
          <p:spPr>
            <a:xfrm>
              <a:off x="4057560" y="1940040"/>
              <a:ext cx="609840" cy="609480"/>
            </a:xfrm>
            <a:prstGeom prst="ellipse">
              <a:avLst/>
            </a:prstGeom>
            <a:noFill/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562880" y="1940040"/>
              <a:ext cx="609480" cy="609480"/>
            </a:xfrm>
            <a:prstGeom prst="ellipse">
              <a:avLst/>
            </a:prstGeom>
            <a:noFill/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057560" y="2701800"/>
              <a:ext cx="609840" cy="609120"/>
            </a:xfrm>
            <a:prstGeom prst="ellipse">
              <a:avLst/>
            </a:prstGeom>
            <a:noFill/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562880" y="2701800"/>
              <a:ext cx="609480" cy="609120"/>
            </a:xfrm>
            <a:prstGeom prst="ellipse">
              <a:avLst/>
            </a:prstGeom>
            <a:noFill/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057560" y="3463920"/>
              <a:ext cx="609840" cy="609120"/>
            </a:xfrm>
            <a:prstGeom prst="ellipse">
              <a:avLst/>
            </a:prstGeom>
            <a:noFill/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562880" y="3463920"/>
              <a:ext cx="609480" cy="609120"/>
            </a:xfrm>
            <a:prstGeom prst="ellipse">
              <a:avLst/>
            </a:prstGeom>
            <a:noFill/>
            <a:ln w="5076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1097280" y="5013360"/>
            <a:ext cx="403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宋体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宋体"/>
              </a:rPr>
              <a:t>的公倍数有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                              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6298920" y="5011560"/>
            <a:ext cx="138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Arial"/>
                <a:ea typeface="宋体"/>
              </a:rPr>
              <a:t>最小公倍数是           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380360" y="5373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486560" y="49258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d8"/>
                </a:solidFill>
                <a:latin typeface="Times New Roman"/>
                <a:ea typeface="宋体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4" name=""/>
          <p:cNvGraphicFramePr/>
          <p:nvPr/>
        </p:nvGraphicFramePr>
        <p:xfrm>
          <a:off x="0" y="0"/>
          <a:ext cx="2556000" cy="782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2556000" cy="782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7" dur="indefinite" restart="never" nodeType="tmRoot">
          <p:childTnLst>
            <p:seq>
              <p:cTn id="588" dur="indefinite" nodeType="mainSeq">
                <p:childTnLst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3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8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1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6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0" fill="hold">
                      <p:stCondLst>
                        <p:cond delay="indefinite"/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5796000" y="4997520"/>
            <a:ext cx="244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公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6200" y="2781360"/>
            <a:ext cx="2305080" cy="1655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24000" y="218916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2844720" y="2205000"/>
            <a:ext cx="165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556000" y="2924280"/>
            <a:ext cx="2160360" cy="15843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71640" y="649440"/>
            <a:ext cx="78483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把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50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以内的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和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的倍数、公倍数分别填在下面的圈里， 再找出它们的最小公倍数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075320" y="3043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525960" y="304308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72200" y="30430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7440" y="3476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1674000" y="3476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051560" y="3476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684720" y="3908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1332720" y="3908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913480" y="31878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37560" y="3187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3987000" y="3187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826360" y="3692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97800" y="3692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3350160" y="3692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6948360" y="4221000"/>
            <a:ext cx="0" cy="792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941720" y="2924280"/>
            <a:ext cx="2305080" cy="165564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291280" y="2262240"/>
            <a:ext cx="19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958080" y="2333520"/>
            <a:ext cx="157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6515280" y="2997360"/>
            <a:ext cx="2160360" cy="15840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5760" y="3116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5396400" y="3116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5293440" y="3548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941080" y="3979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5941080" y="3548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5293440" y="3979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525080" y="33321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7949160" y="3332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661800" y="3332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437960" y="3908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661800" y="376380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7962120" y="3908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39640" y="58626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的最小公倍数是            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924360" y="6308640"/>
            <a:ext cx="863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069440" y="59245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  <a:ea typeface="宋体"/>
              </a:rPr>
              <a:t>2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74520" y="115920"/>
          <a:ext cx="3345120" cy="584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4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4520" y="115920"/>
                    <a:ext cx="3345120" cy="584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5" dur="indefinite" restart="never" nodeType="tmRoot">
          <p:childTnLst>
            <p:seq>
              <p:cTn id="626" dur="indefinite" nodeType="mainSeq">
                <p:childTnLst>
                  <p:par>
                    <p:cTn id="627" fill="hold">
                      <p:stCondLst>
                        <p:cond delay="indefinite"/>
                      </p:stCondLst>
                      <p:childTnLst>
                        <p:par>
                          <p:cTn id="628" fill="hold">
                            <p:stCondLst>
                              <p:cond delay="0"/>
                            </p:stCondLst>
                            <p:childTnLst>
                              <p:par>
                                <p:cTn id="62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4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37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49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3" fill="hold">
                      <p:stCondLst>
                        <p:cond delay="indefinite"/>
                      </p:stCondLst>
                      <p:childTnLst>
                        <p:par>
                          <p:cTn id="654" fill="hold">
                            <p:stCondLst>
                              <p:cond delay="0"/>
                            </p:stCondLst>
                            <p:childTnLst>
                              <p:par>
                                <p:cTn id="65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57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0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6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69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77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0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6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88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9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1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0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0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3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  <p:animClr clrSpc="rgb">
                                <p:cBhvr>
                                  <p:cTn id="70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4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0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8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0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21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941400" y="189000"/>
            <a:ext cx="708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在表中分别写出两个数的积，再填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81080" y="3811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1) 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公倍数有                           ，最小公倍数是         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130880" y="4221000"/>
            <a:ext cx="57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881440" y="378936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0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4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29440" y="3789360"/>
            <a:ext cx="6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"/>
          <p:cNvGraphicFramePr/>
          <p:nvPr/>
        </p:nvGraphicFramePr>
        <p:xfrm>
          <a:off x="228600" y="1035000"/>
          <a:ext cx="8559720" cy="2514600"/>
        </p:xfrm>
        <a:graphic>
          <a:graphicData uri="http://schemas.openxmlformats.org/drawingml/2006/table">
            <a:tbl>
              <a:tblPr/>
              <a:tblGrid>
                <a:gridCol w="568440"/>
                <a:gridCol w="534960"/>
                <a:gridCol w="609480"/>
                <a:gridCol w="569880"/>
                <a:gridCol w="569880"/>
                <a:gridCol w="573120"/>
                <a:gridCol w="569880"/>
                <a:gridCol w="568440"/>
                <a:gridCol w="574560"/>
                <a:gridCol w="569880"/>
                <a:gridCol w="692280"/>
                <a:gridCol w="609480"/>
                <a:gridCol w="685800"/>
                <a:gridCol w="863640"/>
              </a:tblGrid>
              <a:tr h="59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ff"/>
                          </a:solidFill>
                          <a:latin typeface="Arial"/>
                          <a:ea typeface="宋体"/>
                        </a:rPr>
                        <a:t>×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415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ff0000"/>
                          </a:solidFill>
                          <a:latin typeface="Times New Roman"/>
                          <a:ea typeface="宋体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4" name=""/>
          <p:cNvSpPr/>
          <p:nvPr/>
        </p:nvSpPr>
        <p:spPr>
          <a:xfrm>
            <a:off x="7924680" y="103500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924680" y="164448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…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981080" y="1720800"/>
            <a:ext cx="594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2   16    20    24   28    32   36    40     44    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1981080" y="2940120"/>
            <a:ext cx="7086600" cy="535680"/>
            <a:chOff x="1981080" y="2940120"/>
            <a:chExt cx="7086600" cy="535680"/>
          </a:xfrm>
        </p:grpSpPr>
        <p:sp>
          <p:nvSpPr>
            <p:cNvPr id="258" name=""/>
            <p:cNvSpPr/>
            <p:nvPr/>
          </p:nvSpPr>
          <p:spPr>
            <a:xfrm>
              <a:off x="7924680" y="294012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…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981080" y="301608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8   24    30    36   42    48   54    60     66    7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" name=""/>
          <p:cNvGrpSpPr/>
          <p:nvPr/>
        </p:nvGrpSpPr>
        <p:grpSpPr>
          <a:xfrm>
            <a:off x="1981080" y="2330280"/>
            <a:ext cx="7086600" cy="536040"/>
            <a:chOff x="1981080" y="2330280"/>
            <a:chExt cx="7086600" cy="536040"/>
          </a:xfrm>
        </p:grpSpPr>
        <p:sp>
          <p:nvSpPr>
            <p:cNvPr id="261" name=""/>
            <p:cNvSpPr/>
            <p:nvPr/>
          </p:nvSpPr>
          <p:spPr>
            <a:xfrm>
              <a:off x="1981080" y="2406600"/>
              <a:ext cx="5943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15   20    25    30   35    40   45    50     55    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7924680" y="23302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…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"/>
          <p:cNvSpPr/>
          <p:nvPr/>
        </p:nvSpPr>
        <p:spPr>
          <a:xfrm>
            <a:off x="3960720" y="3789360"/>
            <a:ext cx="114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…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81080" y="4603680"/>
            <a:ext cx="914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2) 4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公倍数有          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,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最小公倍数是         。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宋体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7435800" y="5013360"/>
            <a:ext cx="63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7451640" y="457992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81080" y="539604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(3) 5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和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6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的公倍数有                           ，最小公倍数是         。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7147080" y="5805360"/>
            <a:ext cx="630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7162920" y="5372280"/>
            <a:ext cx="6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0</a:t>
            </a:r>
            <a:r>
              <a:rPr b="1" lang="en-US" sz="2400" spc="-1" strike="noStrike">
                <a:solidFill>
                  <a:srgbClr val="0000d8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0" name=""/>
          <p:cNvGrpSpPr/>
          <p:nvPr/>
        </p:nvGrpSpPr>
        <p:grpSpPr>
          <a:xfrm>
            <a:off x="2895480" y="5343480"/>
            <a:ext cx="2362320" cy="473760"/>
            <a:chOff x="2895480" y="5343480"/>
            <a:chExt cx="2362320" cy="473760"/>
          </a:xfrm>
        </p:grpSpPr>
        <p:sp>
          <p:nvSpPr>
            <p:cNvPr id="271" name=""/>
            <p:cNvSpPr/>
            <p:nvPr/>
          </p:nvSpPr>
          <p:spPr>
            <a:xfrm>
              <a:off x="2895480" y="5357520"/>
              <a:ext cx="2362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30</a:t>
              </a:r>
              <a:r>
                <a:rPr b="1" lang="zh-CN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、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6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114800" y="5343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…</a:t>
              </a:r>
              <a:r>
                <a:rPr b="0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 </a:t>
              </a: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  <a:ea typeface="宋体"/>
                </a:rPr>
                <a:t>…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  <a:ea typeface="宋体"/>
                </a:rPr>
                <a:t>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3" name=""/>
          <p:cNvSpPr/>
          <p:nvPr/>
        </p:nvSpPr>
        <p:spPr>
          <a:xfrm>
            <a:off x="2881440" y="4221000"/>
            <a:ext cx="1942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881440" y="5013360"/>
            <a:ext cx="23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809800" y="5805360"/>
            <a:ext cx="20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36720" y="4579920"/>
            <a:ext cx="229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12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24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、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3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92720" y="4579920"/>
            <a:ext cx="110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…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…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2" dur="indefinite" restart="never" nodeType="tmRoot">
          <p:childTnLst>
            <p:seq>
              <p:cTn id="723" dur="indefinite" nodeType="mainSeq">
                <p:childTnLst>
                  <p:par>
                    <p:cTn id="724" fill="hold">
                      <p:stCondLst>
                        <p:cond delay="indefinite"/>
                      </p:stCondLst>
                      <p:childTnLst>
                        <p:par>
                          <p:cTn id="725" fill="hold">
                            <p:stCondLst>
                              <p:cond delay="0"/>
                            </p:stCondLst>
                            <p:childTnLst>
                              <p:par>
                                <p:cTn id="726" nodeType="clickEffect" fill="hold" presetClass="entr" presetID="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8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9" dur="3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fill="hold">
                      <p:stCondLst>
                        <p:cond delay="indefinite"/>
                      </p:stCondLst>
                      <p:childTnLst>
                        <p:par>
                          <p:cTn id="737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fill="hold">
                      <p:stCondLst>
                        <p:cond delay="indefinite"/>
                      </p:stCondLst>
                      <p:childTnLst>
                        <p:par>
                          <p:cTn id="747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6" fill="hold">
                      <p:stCondLst>
                        <p:cond delay="indefinite"/>
                      </p:stCondLst>
                      <p:childTnLst>
                        <p:par>
                          <p:cTn id="757" fill="hold">
                            <p:stCondLst>
                              <p:cond delay="0"/>
                            </p:stCondLst>
                            <p:childTnLst>
                              <p:par>
                                <p:cTn id="7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0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1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2" fill="hold">
                      <p:stCondLst>
                        <p:cond delay="indefinite"/>
                      </p:stCondLst>
                      <p:childTnLst>
                        <p:par>
                          <p:cTn id="773" fill="hold">
                            <p:stCondLst>
                              <p:cond delay="0"/>
                            </p:stCondLst>
                            <p:childTnLst>
                              <p:par>
                                <p:cTn id="77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6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8" name=""/>
          <p:cNvGrpSpPr/>
          <p:nvPr/>
        </p:nvGrpSpPr>
        <p:grpSpPr>
          <a:xfrm>
            <a:off x="0" y="4132440"/>
            <a:ext cx="3005280" cy="1511280"/>
            <a:chOff x="0" y="4132440"/>
            <a:chExt cx="3005280" cy="1511280"/>
          </a:xfrm>
        </p:grpSpPr>
        <p:sp>
          <p:nvSpPr>
            <p:cNvPr id="279" name=""/>
            <p:cNvSpPr/>
            <p:nvPr/>
          </p:nvSpPr>
          <p:spPr>
            <a:xfrm>
              <a:off x="0" y="4132440"/>
              <a:ext cx="3005280" cy="1511280"/>
            </a:xfrm>
            <a:custGeom>
              <a:avLst/>
              <a:gdLst/>
              <a:ahLst/>
              <a:rect l="l" t="t" r="r" b="b"/>
              <a:pathLst>
                <a:path w="1893" h="987">
                  <a:moveTo>
                    <a:pt x="446" y="987"/>
                  </a:moveTo>
                  <a:cubicBezTo>
                    <a:pt x="304" y="974"/>
                    <a:pt x="271" y="978"/>
                    <a:pt x="158" y="903"/>
                  </a:cubicBezTo>
                  <a:cubicBezTo>
                    <a:pt x="136" y="888"/>
                    <a:pt x="108" y="882"/>
                    <a:pt x="86" y="867"/>
                  </a:cubicBezTo>
                  <a:cubicBezTo>
                    <a:pt x="70" y="843"/>
                    <a:pt x="54" y="819"/>
                    <a:pt x="38" y="795"/>
                  </a:cubicBezTo>
                  <a:cubicBezTo>
                    <a:pt x="0" y="738"/>
                    <a:pt x="43" y="659"/>
                    <a:pt x="50" y="591"/>
                  </a:cubicBezTo>
                  <a:cubicBezTo>
                    <a:pt x="58" y="509"/>
                    <a:pt x="89" y="414"/>
                    <a:pt x="170" y="387"/>
                  </a:cubicBezTo>
                  <a:cubicBezTo>
                    <a:pt x="206" y="351"/>
                    <a:pt x="230" y="331"/>
                    <a:pt x="278" y="315"/>
                  </a:cubicBezTo>
                  <a:cubicBezTo>
                    <a:pt x="300" y="293"/>
                    <a:pt x="328" y="277"/>
                    <a:pt x="350" y="255"/>
                  </a:cubicBezTo>
                  <a:cubicBezTo>
                    <a:pt x="360" y="245"/>
                    <a:pt x="362" y="227"/>
                    <a:pt x="374" y="219"/>
                  </a:cubicBezTo>
                  <a:cubicBezTo>
                    <a:pt x="475" y="156"/>
                    <a:pt x="719" y="174"/>
                    <a:pt x="782" y="171"/>
                  </a:cubicBezTo>
                  <a:cubicBezTo>
                    <a:pt x="836" y="157"/>
                    <a:pt x="870" y="134"/>
                    <a:pt x="926" y="123"/>
                  </a:cubicBezTo>
                  <a:cubicBezTo>
                    <a:pt x="1110" y="0"/>
                    <a:pt x="1303" y="89"/>
                    <a:pt x="1478" y="147"/>
                  </a:cubicBezTo>
                  <a:cubicBezTo>
                    <a:pt x="1522" y="180"/>
                    <a:pt x="1564" y="193"/>
                    <a:pt x="1610" y="219"/>
                  </a:cubicBezTo>
                  <a:cubicBezTo>
                    <a:pt x="1689" y="263"/>
                    <a:pt x="1751" y="322"/>
                    <a:pt x="1838" y="351"/>
                  </a:cubicBezTo>
                  <a:cubicBezTo>
                    <a:pt x="1893" y="433"/>
                    <a:pt x="1878" y="473"/>
                    <a:pt x="1886" y="591"/>
                  </a:cubicBezTo>
                  <a:cubicBezTo>
                    <a:pt x="1874" y="650"/>
                    <a:pt x="1880" y="713"/>
                    <a:pt x="1862" y="771"/>
                  </a:cubicBezTo>
                  <a:cubicBezTo>
                    <a:pt x="1836" y="854"/>
                    <a:pt x="1751" y="950"/>
                    <a:pt x="1658" y="951"/>
                  </a:cubicBezTo>
                  <a:cubicBezTo>
                    <a:pt x="1254" y="955"/>
                    <a:pt x="850" y="959"/>
                    <a:pt x="446" y="963"/>
                  </a:cubicBezTo>
                  <a:cubicBezTo>
                    <a:pt x="382" y="979"/>
                    <a:pt x="382" y="971"/>
                    <a:pt x="446" y="98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96600"/>
                </a:gs>
              </a:gsLst>
              <a:lin ang="5400000"/>
            </a:gra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87480" y="4759560"/>
              <a:ext cx="18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979640" y="5084640"/>
            <a:ext cx="3005280" cy="1511280"/>
            <a:chOff x="1979640" y="5084640"/>
            <a:chExt cx="3005280" cy="1511280"/>
          </a:xfrm>
        </p:grpSpPr>
        <p:sp>
          <p:nvSpPr>
            <p:cNvPr id="282" name=""/>
            <p:cNvSpPr/>
            <p:nvPr/>
          </p:nvSpPr>
          <p:spPr>
            <a:xfrm>
              <a:off x="1979640" y="5084640"/>
              <a:ext cx="3005280" cy="1511280"/>
            </a:xfrm>
            <a:custGeom>
              <a:avLst/>
              <a:gdLst/>
              <a:ahLst/>
              <a:rect l="l" t="t" r="r" b="b"/>
              <a:pathLst>
                <a:path w="1893" h="987">
                  <a:moveTo>
                    <a:pt x="446" y="987"/>
                  </a:moveTo>
                  <a:cubicBezTo>
                    <a:pt x="304" y="974"/>
                    <a:pt x="271" y="978"/>
                    <a:pt x="158" y="903"/>
                  </a:cubicBezTo>
                  <a:cubicBezTo>
                    <a:pt x="136" y="888"/>
                    <a:pt x="108" y="882"/>
                    <a:pt x="86" y="867"/>
                  </a:cubicBezTo>
                  <a:cubicBezTo>
                    <a:pt x="70" y="843"/>
                    <a:pt x="54" y="819"/>
                    <a:pt x="38" y="795"/>
                  </a:cubicBezTo>
                  <a:cubicBezTo>
                    <a:pt x="0" y="738"/>
                    <a:pt x="43" y="659"/>
                    <a:pt x="50" y="591"/>
                  </a:cubicBezTo>
                  <a:cubicBezTo>
                    <a:pt x="58" y="509"/>
                    <a:pt x="89" y="414"/>
                    <a:pt x="170" y="387"/>
                  </a:cubicBezTo>
                  <a:cubicBezTo>
                    <a:pt x="206" y="351"/>
                    <a:pt x="230" y="331"/>
                    <a:pt x="278" y="315"/>
                  </a:cubicBezTo>
                  <a:cubicBezTo>
                    <a:pt x="300" y="293"/>
                    <a:pt x="328" y="277"/>
                    <a:pt x="350" y="255"/>
                  </a:cubicBezTo>
                  <a:cubicBezTo>
                    <a:pt x="360" y="245"/>
                    <a:pt x="362" y="227"/>
                    <a:pt x="374" y="219"/>
                  </a:cubicBezTo>
                  <a:cubicBezTo>
                    <a:pt x="475" y="156"/>
                    <a:pt x="719" y="174"/>
                    <a:pt x="782" y="171"/>
                  </a:cubicBezTo>
                  <a:cubicBezTo>
                    <a:pt x="836" y="157"/>
                    <a:pt x="870" y="134"/>
                    <a:pt x="926" y="123"/>
                  </a:cubicBezTo>
                  <a:cubicBezTo>
                    <a:pt x="1110" y="0"/>
                    <a:pt x="1303" y="89"/>
                    <a:pt x="1478" y="147"/>
                  </a:cubicBezTo>
                  <a:cubicBezTo>
                    <a:pt x="1522" y="180"/>
                    <a:pt x="1564" y="193"/>
                    <a:pt x="1610" y="219"/>
                  </a:cubicBezTo>
                  <a:cubicBezTo>
                    <a:pt x="1689" y="263"/>
                    <a:pt x="1751" y="322"/>
                    <a:pt x="1838" y="351"/>
                  </a:cubicBezTo>
                  <a:cubicBezTo>
                    <a:pt x="1893" y="433"/>
                    <a:pt x="1878" y="473"/>
                    <a:pt x="1886" y="591"/>
                  </a:cubicBezTo>
                  <a:cubicBezTo>
                    <a:pt x="1874" y="650"/>
                    <a:pt x="1880" y="713"/>
                    <a:pt x="1862" y="771"/>
                  </a:cubicBezTo>
                  <a:cubicBezTo>
                    <a:pt x="1836" y="854"/>
                    <a:pt x="1751" y="950"/>
                    <a:pt x="1658" y="951"/>
                  </a:cubicBezTo>
                  <a:cubicBezTo>
                    <a:pt x="1254" y="955"/>
                    <a:pt x="850" y="959"/>
                    <a:pt x="446" y="963"/>
                  </a:cubicBezTo>
                  <a:cubicBezTo>
                    <a:pt x="382" y="979"/>
                    <a:pt x="382" y="971"/>
                    <a:pt x="446" y="98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96600"/>
                </a:gs>
              </a:gsLst>
              <a:lin ang="5400000"/>
            </a:gra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067120" y="5711760"/>
              <a:ext cx="18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4475160" y="4132440"/>
            <a:ext cx="3005280" cy="1511280"/>
            <a:chOff x="4475160" y="4132440"/>
            <a:chExt cx="3005280" cy="1511280"/>
          </a:xfrm>
        </p:grpSpPr>
        <p:sp>
          <p:nvSpPr>
            <p:cNvPr id="285" name=""/>
            <p:cNvSpPr/>
            <p:nvPr/>
          </p:nvSpPr>
          <p:spPr>
            <a:xfrm>
              <a:off x="4475160" y="4132440"/>
              <a:ext cx="3005280" cy="1511280"/>
            </a:xfrm>
            <a:custGeom>
              <a:avLst/>
              <a:gdLst/>
              <a:ahLst/>
              <a:rect l="l" t="t" r="r" b="b"/>
              <a:pathLst>
                <a:path w="1893" h="987">
                  <a:moveTo>
                    <a:pt x="446" y="987"/>
                  </a:moveTo>
                  <a:cubicBezTo>
                    <a:pt x="304" y="974"/>
                    <a:pt x="271" y="978"/>
                    <a:pt x="158" y="903"/>
                  </a:cubicBezTo>
                  <a:cubicBezTo>
                    <a:pt x="136" y="888"/>
                    <a:pt x="108" y="882"/>
                    <a:pt x="86" y="867"/>
                  </a:cubicBezTo>
                  <a:cubicBezTo>
                    <a:pt x="70" y="843"/>
                    <a:pt x="54" y="819"/>
                    <a:pt x="38" y="795"/>
                  </a:cubicBezTo>
                  <a:cubicBezTo>
                    <a:pt x="0" y="738"/>
                    <a:pt x="43" y="659"/>
                    <a:pt x="50" y="591"/>
                  </a:cubicBezTo>
                  <a:cubicBezTo>
                    <a:pt x="58" y="509"/>
                    <a:pt x="89" y="414"/>
                    <a:pt x="170" y="387"/>
                  </a:cubicBezTo>
                  <a:cubicBezTo>
                    <a:pt x="206" y="351"/>
                    <a:pt x="230" y="331"/>
                    <a:pt x="278" y="315"/>
                  </a:cubicBezTo>
                  <a:cubicBezTo>
                    <a:pt x="300" y="293"/>
                    <a:pt x="328" y="277"/>
                    <a:pt x="350" y="255"/>
                  </a:cubicBezTo>
                  <a:cubicBezTo>
                    <a:pt x="360" y="245"/>
                    <a:pt x="362" y="227"/>
                    <a:pt x="374" y="219"/>
                  </a:cubicBezTo>
                  <a:cubicBezTo>
                    <a:pt x="475" y="156"/>
                    <a:pt x="719" y="174"/>
                    <a:pt x="782" y="171"/>
                  </a:cubicBezTo>
                  <a:cubicBezTo>
                    <a:pt x="836" y="157"/>
                    <a:pt x="870" y="134"/>
                    <a:pt x="926" y="123"/>
                  </a:cubicBezTo>
                  <a:cubicBezTo>
                    <a:pt x="1110" y="0"/>
                    <a:pt x="1303" y="89"/>
                    <a:pt x="1478" y="147"/>
                  </a:cubicBezTo>
                  <a:cubicBezTo>
                    <a:pt x="1522" y="180"/>
                    <a:pt x="1564" y="193"/>
                    <a:pt x="1610" y="219"/>
                  </a:cubicBezTo>
                  <a:cubicBezTo>
                    <a:pt x="1689" y="263"/>
                    <a:pt x="1751" y="322"/>
                    <a:pt x="1838" y="351"/>
                  </a:cubicBezTo>
                  <a:cubicBezTo>
                    <a:pt x="1893" y="433"/>
                    <a:pt x="1878" y="473"/>
                    <a:pt x="1886" y="591"/>
                  </a:cubicBezTo>
                  <a:cubicBezTo>
                    <a:pt x="1874" y="650"/>
                    <a:pt x="1880" y="713"/>
                    <a:pt x="1862" y="771"/>
                  </a:cubicBezTo>
                  <a:cubicBezTo>
                    <a:pt x="1836" y="854"/>
                    <a:pt x="1751" y="950"/>
                    <a:pt x="1658" y="951"/>
                  </a:cubicBezTo>
                  <a:cubicBezTo>
                    <a:pt x="1254" y="955"/>
                    <a:pt x="850" y="959"/>
                    <a:pt x="446" y="963"/>
                  </a:cubicBezTo>
                  <a:cubicBezTo>
                    <a:pt x="382" y="979"/>
                    <a:pt x="382" y="971"/>
                    <a:pt x="446" y="98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96600"/>
                </a:gs>
              </a:gsLst>
              <a:lin ang="5400000"/>
            </a:gra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562640" y="4759560"/>
              <a:ext cx="18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"/>
          <p:cNvGrpSpPr/>
          <p:nvPr/>
        </p:nvGrpSpPr>
        <p:grpSpPr>
          <a:xfrm>
            <a:off x="6138720" y="5121360"/>
            <a:ext cx="3005280" cy="1511280"/>
            <a:chOff x="6138720" y="5121360"/>
            <a:chExt cx="3005280" cy="1511280"/>
          </a:xfrm>
        </p:grpSpPr>
        <p:sp>
          <p:nvSpPr>
            <p:cNvPr id="288" name=""/>
            <p:cNvSpPr/>
            <p:nvPr/>
          </p:nvSpPr>
          <p:spPr>
            <a:xfrm>
              <a:off x="6138720" y="5121360"/>
              <a:ext cx="3005280" cy="1511280"/>
            </a:xfrm>
            <a:custGeom>
              <a:avLst/>
              <a:gdLst/>
              <a:ahLst/>
              <a:rect l="l" t="t" r="r" b="b"/>
              <a:pathLst>
                <a:path w="1893" h="987">
                  <a:moveTo>
                    <a:pt x="446" y="987"/>
                  </a:moveTo>
                  <a:cubicBezTo>
                    <a:pt x="304" y="974"/>
                    <a:pt x="271" y="978"/>
                    <a:pt x="158" y="903"/>
                  </a:cubicBezTo>
                  <a:cubicBezTo>
                    <a:pt x="136" y="888"/>
                    <a:pt x="108" y="882"/>
                    <a:pt x="86" y="867"/>
                  </a:cubicBezTo>
                  <a:cubicBezTo>
                    <a:pt x="70" y="843"/>
                    <a:pt x="54" y="819"/>
                    <a:pt x="38" y="795"/>
                  </a:cubicBezTo>
                  <a:cubicBezTo>
                    <a:pt x="0" y="738"/>
                    <a:pt x="43" y="659"/>
                    <a:pt x="50" y="591"/>
                  </a:cubicBezTo>
                  <a:cubicBezTo>
                    <a:pt x="58" y="509"/>
                    <a:pt x="89" y="414"/>
                    <a:pt x="170" y="387"/>
                  </a:cubicBezTo>
                  <a:cubicBezTo>
                    <a:pt x="206" y="351"/>
                    <a:pt x="230" y="331"/>
                    <a:pt x="278" y="315"/>
                  </a:cubicBezTo>
                  <a:cubicBezTo>
                    <a:pt x="300" y="293"/>
                    <a:pt x="328" y="277"/>
                    <a:pt x="350" y="255"/>
                  </a:cubicBezTo>
                  <a:cubicBezTo>
                    <a:pt x="360" y="245"/>
                    <a:pt x="362" y="227"/>
                    <a:pt x="374" y="219"/>
                  </a:cubicBezTo>
                  <a:cubicBezTo>
                    <a:pt x="475" y="156"/>
                    <a:pt x="719" y="174"/>
                    <a:pt x="782" y="171"/>
                  </a:cubicBezTo>
                  <a:cubicBezTo>
                    <a:pt x="836" y="157"/>
                    <a:pt x="870" y="134"/>
                    <a:pt x="926" y="123"/>
                  </a:cubicBezTo>
                  <a:cubicBezTo>
                    <a:pt x="1110" y="0"/>
                    <a:pt x="1303" y="89"/>
                    <a:pt x="1478" y="147"/>
                  </a:cubicBezTo>
                  <a:cubicBezTo>
                    <a:pt x="1522" y="180"/>
                    <a:pt x="1564" y="193"/>
                    <a:pt x="1610" y="219"/>
                  </a:cubicBezTo>
                  <a:cubicBezTo>
                    <a:pt x="1689" y="263"/>
                    <a:pt x="1751" y="322"/>
                    <a:pt x="1838" y="351"/>
                  </a:cubicBezTo>
                  <a:cubicBezTo>
                    <a:pt x="1893" y="433"/>
                    <a:pt x="1878" y="473"/>
                    <a:pt x="1886" y="591"/>
                  </a:cubicBezTo>
                  <a:cubicBezTo>
                    <a:pt x="1874" y="650"/>
                    <a:pt x="1880" y="713"/>
                    <a:pt x="1862" y="771"/>
                  </a:cubicBezTo>
                  <a:cubicBezTo>
                    <a:pt x="1836" y="854"/>
                    <a:pt x="1751" y="950"/>
                    <a:pt x="1658" y="951"/>
                  </a:cubicBezTo>
                  <a:cubicBezTo>
                    <a:pt x="1254" y="955"/>
                    <a:pt x="850" y="959"/>
                    <a:pt x="446" y="963"/>
                  </a:cubicBezTo>
                  <a:cubicBezTo>
                    <a:pt x="382" y="979"/>
                    <a:pt x="382" y="971"/>
                    <a:pt x="446" y="987"/>
                  </a:cubicBezTo>
                  <a:close/>
                </a:path>
              </a:pathLst>
            </a:custGeom>
            <a:gradFill rotWithShape="0">
              <a:gsLst>
                <a:gs pos="0">
                  <a:srgbClr val="cc9900"/>
                </a:gs>
                <a:gs pos="100000">
                  <a:srgbClr val="996600"/>
                </a:gs>
              </a:gsLst>
              <a:lin ang="5400000"/>
            </a:gra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226200" y="5748480"/>
              <a:ext cx="1810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0" name=""/>
          <p:cNvSpPr/>
          <p:nvPr/>
        </p:nvSpPr>
        <p:spPr>
          <a:xfrm>
            <a:off x="904680" y="4678200"/>
            <a:ext cx="11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892240" y="5707080"/>
            <a:ext cx="11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7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364000" y="4676760"/>
            <a:ext cx="143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7116840" y="5605560"/>
            <a:ext cx="1182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826920" y="476280"/>
            <a:ext cx="3826080" cy="74772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469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求最小公倍数</a:t>
            </a:r>
            <a:endParaRPr b="1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graphicFrame>
        <p:nvGraphicFramePr>
          <p:cNvPr id="295" name=""/>
          <p:cNvGraphicFramePr/>
          <p:nvPr/>
        </p:nvGraphicFramePr>
        <p:xfrm>
          <a:off x="379440" y="1989000"/>
          <a:ext cx="1625400" cy="2016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9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79440" y="1989000"/>
                    <a:ext cx="1625400" cy="201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blinds dir="vert"/>
    <p:sndAc>
      <p:stSnd>
        <p:snd r:embed="rId3" name="chimes.wav"/>
      </p:stSnd>
    </p:sndAc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3708360" y="2492280"/>
            <a:ext cx="576360" cy="503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1280" y="3573360"/>
            <a:ext cx="504720" cy="503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6804000" y="1413000"/>
            <a:ext cx="576360" cy="503280"/>
          </a:xfrm>
          <a:prstGeom prst="rect">
            <a:avLst/>
          </a:prstGeom>
          <a:solidFill>
            <a:srgbClr val="ff00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0" name=""/>
          <p:cNvGraphicFramePr/>
          <p:nvPr/>
        </p:nvGraphicFramePr>
        <p:xfrm>
          <a:off x="1149480" y="2492280"/>
          <a:ext cx="7238880" cy="533160"/>
        </p:xfrm>
        <a:graphic>
          <a:graphicData uri="http://schemas.openxmlformats.org/drawingml/2006/table">
            <a:tbl>
              <a:tblPr/>
              <a:tblGrid>
                <a:gridCol w="515880"/>
                <a:gridCol w="519120"/>
                <a:gridCol w="515880"/>
                <a:gridCol w="517680"/>
                <a:gridCol w="515880"/>
                <a:gridCol w="519120"/>
                <a:gridCol w="515880"/>
                <a:gridCol w="571680"/>
                <a:gridCol w="463320"/>
                <a:gridCol w="515880"/>
                <a:gridCol w="517680"/>
                <a:gridCol w="515880"/>
                <a:gridCol w="519120"/>
                <a:gridCol w="515880"/>
              </a:tblGrid>
              <a:tr h="533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1" name=""/>
          <p:cNvGraphicFramePr/>
          <p:nvPr/>
        </p:nvGraphicFramePr>
        <p:xfrm>
          <a:off x="7854840" y="1946160"/>
          <a:ext cx="533520" cy="533160"/>
        </p:xfrm>
        <a:graphic>
          <a:graphicData uri="http://schemas.openxmlformats.org/drawingml/2006/table">
            <a:tbl>
              <a:tblPr/>
              <a:tblGrid>
                <a:gridCol w="533520"/>
              </a:tblGrid>
              <a:tr h="53316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2" name=""/>
          <p:cNvGraphicFramePr/>
          <p:nvPr/>
        </p:nvGraphicFramePr>
        <p:xfrm>
          <a:off x="1149480" y="3013200"/>
          <a:ext cx="533160" cy="532800"/>
        </p:xfrm>
        <a:graphic>
          <a:graphicData uri="http://schemas.openxmlformats.org/drawingml/2006/table">
            <a:tbl>
              <a:tblPr/>
              <a:tblGrid>
                <a:gridCol w="533160"/>
              </a:tblGrid>
              <a:tr h="532800">
                <a:tc>
                  <a:txBody>
                    <a:bodyPr lIns="0" rIns="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3" name=""/>
          <p:cNvGraphicFramePr/>
          <p:nvPr/>
        </p:nvGraphicFramePr>
        <p:xfrm>
          <a:off x="1155600" y="3573360"/>
          <a:ext cx="3200400" cy="503280"/>
        </p:xfrm>
        <a:graphic>
          <a:graphicData uri="http://schemas.openxmlformats.org/drawingml/2006/table">
            <a:tbl>
              <a:tblPr/>
              <a:tblGrid>
                <a:gridCol w="533160"/>
                <a:gridCol w="533520"/>
                <a:gridCol w="533520"/>
                <a:gridCol w="533160"/>
                <a:gridCol w="533520"/>
                <a:gridCol w="533520"/>
              </a:tblGrid>
              <a:tr h="50328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304" name=""/>
          <p:cNvGraphicFramePr/>
          <p:nvPr/>
        </p:nvGraphicFramePr>
        <p:xfrm>
          <a:off x="1149480" y="1413000"/>
          <a:ext cx="7238880" cy="533160"/>
        </p:xfrm>
        <a:graphic>
          <a:graphicData uri="http://schemas.openxmlformats.org/drawingml/2006/table">
            <a:tbl>
              <a:tblPr/>
              <a:tblGrid>
                <a:gridCol w="515880"/>
                <a:gridCol w="519120"/>
                <a:gridCol w="515880"/>
                <a:gridCol w="517680"/>
                <a:gridCol w="515880"/>
                <a:gridCol w="519120"/>
                <a:gridCol w="515880"/>
                <a:gridCol w="515880"/>
                <a:gridCol w="519120"/>
                <a:gridCol w="515880"/>
                <a:gridCol w="517680"/>
                <a:gridCol w="515880"/>
                <a:gridCol w="519120"/>
                <a:gridCol w="515880"/>
              </a:tblGrid>
              <a:tr h="533160"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 anchorCtr="1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1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05" name=""/>
          <p:cNvSpPr/>
          <p:nvPr/>
        </p:nvSpPr>
        <p:spPr>
          <a:xfrm>
            <a:off x="1187280" y="404640"/>
            <a:ext cx="65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、红棋每次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格，黄棋每次走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  <a:ea typeface="宋体"/>
              </a:rPr>
              <a:t>格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6" name="" descr=""/>
          <p:cNvPicPr/>
          <p:nvPr/>
        </p:nvPicPr>
        <p:blipFill>
          <a:blip r:embed="rId1"/>
          <a:stretch/>
        </p:blipFill>
        <p:spPr>
          <a:xfrm>
            <a:off x="108000" y="1101600"/>
            <a:ext cx="990720" cy="12477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7" name=""/>
          <p:cNvGraphicFramePr/>
          <p:nvPr/>
        </p:nvGraphicFramePr>
        <p:xfrm>
          <a:off x="5738760" y="3940200"/>
          <a:ext cx="3405240" cy="29178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308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5738760" y="3940200"/>
                    <a:ext cx="3405240" cy="291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9" name=""/>
          <p:cNvSpPr/>
          <p:nvPr/>
        </p:nvSpPr>
        <p:spPr>
          <a:xfrm>
            <a:off x="468360" y="4726080"/>
            <a:ext cx="5545080" cy="1655640"/>
          </a:xfrm>
          <a:prstGeom prst="wedgeEllipseCallout">
            <a:avLst>
              <a:gd name="adj1" fmla="val 56097"/>
              <a:gd name="adj2" fmla="val -48273"/>
            </a:avLst>
          </a:prstGeom>
          <a:solidFill>
            <a:srgbClr val="ff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971640" y="4941720"/>
            <a:ext cx="49687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你能在两种棋都走到的方格里涂上颜色吗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2" dur="indefinite" restart="never" nodeType="tmRoot">
          <p:childTnLst>
            <p:seq>
              <p:cTn id="783" dur="indefinite" nodeType="mainSeq">
                <p:childTnLst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79280" y="620640"/>
            <a:ext cx="8533080" cy="395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1.12÷4=3,1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(     )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和（   ）的倍数，（     ）和（    ）是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的因数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 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2.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一个数的倍数是（     ）的，最小 的倍数是它（     ）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"/>
          <p:cNvSpPr/>
          <p:nvPr/>
        </p:nvSpPr>
        <p:spPr>
          <a:xfrm>
            <a:off x="250920" y="62064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用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厘米、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厘米的长方形纸片分别铺右边的两个正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2133720"/>
            <a:ext cx="2592360" cy="250956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292720" y="2060640"/>
            <a:ext cx="3168720" cy="31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179280" y="2133720"/>
            <a:ext cx="1297080" cy="865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5" name=""/>
          <p:cNvGrpSpPr/>
          <p:nvPr/>
        </p:nvGrpSpPr>
        <p:grpSpPr>
          <a:xfrm>
            <a:off x="4643280" y="2133720"/>
            <a:ext cx="360360" cy="647640"/>
            <a:chOff x="4643280" y="2133720"/>
            <a:chExt cx="360360" cy="647640"/>
          </a:xfrm>
        </p:grpSpPr>
        <p:sp>
          <p:nvSpPr>
            <p:cNvPr id="316" name=""/>
            <p:cNvSpPr/>
            <p:nvPr/>
          </p:nvSpPr>
          <p:spPr>
            <a:xfrm>
              <a:off x="4788000" y="2133720"/>
              <a:ext cx="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4643280" y="2133720"/>
              <a:ext cx="360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"/>
          <p:cNvGrpSpPr/>
          <p:nvPr/>
        </p:nvGrpSpPr>
        <p:grpSpPr>
          <a:xfrm>
            <a:off x="4643280" y="4005000"/>
            <a:ext cx="360360" cy="647640"/>
            <a:chOff x="4643280" y="4005000"/>
            <a:chExt cx="360360" cy="647640"/>
          </a:xfrm>
        </p:grpSpPr>
        <p:sp>
          <p:nvSpPr>
            <p:cNvPr id="319" name=""/>
            <p:cNvSpPr/>
            <p:nvPr/>
          </p:nvSpPr>
          <p:spPr>
            <a:xfrm flipV="1">
              <a:off x="4788000" y="4005000"/>
              <a:ext cx="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4643280" y="4652640"/>
              <a:ext cx="360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1" name=""/>
          <p:cNvGrpSpPr/>
          <p:nvPr/>
        </p:nvGrpSpPr>
        <p:grpSpPr>
          <a:xfrm>
            <a:off x="8459640" y="2060640"/>
            <a:ext cx="360360" cy="647640"/>
            <a:chOff x="8459640" y="2060640"/>
            <a:chExt cx="360360" cy="647640"/>
          </a:xfrm>
        </p:grpSpPr>
        <p:sp>
          <p:nvSpPr>
            <p:cNvPr id="322" name=""/>
            <p:cNvSpPr/>
            <p:nvPr/>
          </p:nvSpPr>
          <p:spPr>
            <a:xfrm>
              <a:off x="8604360" y="2060640"/>
              <a:ext cx="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8459640" y="2060640"/>
              <a:ext cx="360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8459640" y="4581720"/>
            <a:ext cx="360360" cy="647640"/>
            <a:chOff x="8459640" y="4581720"/>
            <a:chExt cx="360360" cy="647640"/>
          </a:xfrm>
        </p:grpSpPr>
        <p:sp>
          <p:nvSpPr>
            <p:cNvPr id="325" name=""/>
            <p:cNvSpPr/>
            <p:nvPr/>
          </p:nvSpPr>
          <p:spPr>
            <a:xfrm flipV="1">
              <a:off x="8604360" y="4581720"/>
              <a:ext cx="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8459640" y="5229360"/>
              <a:ext cx="360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7" name=""/>
          <p:cNvSpPr/>
          <p:nvPr/>
        </p:nvSpPr>
        <p:spPr>
          <a:xfrm rot="16200000">
            <a:off x="1218240" y="227412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52440" y="299736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6200000">
            <a:off x="4327200" y="3023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 rot="16200000">
            <a:off x="7856280" y="3312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2124000" y="4652640"/>
            <a:ext cx="647640" cy="360360"/>
            <a:chOff x="2124000" y="4652640"/>
            <a:chExt cx="647640" cy="360360"/>
          </a:xfrm>
        </p:grpSpPr>
        <p:sp>
          <p:nvSpPr>
            <p:cNvPr id="332" name=""/>
            <p:cNvSpPr/>
            <p:nvPr/>
          </p:nvSpPr>
          <p:spPr>
            <a:xfrm>
              <a:off x="2124000" y="4868280"/>
              <a:ext cx="647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V="1">
              <a:off x="2124000" y="4652640"/>
              <a:ext cx="0" cy="36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4068360" y="4653000"/>
            <a:ext cx="647640" cy="360360"/>
            <a:chOff x="4068360" y="4653000"/>
            <a:chExt cx="647640" cy="360360"/>
          </a:xfrm>
        </p:grpSpPr>
        <p:sp>
          <p:nvSpPr>
            <p:cNvPr id="335" name=""/>
            <p:cNvSpPr/>
            <p:nvPr/>
          </p:nvSpPr>
          <p:spPr>
            <a:xfrm flipH="1">
              <a:off x="4068360" y="4797720"/>
              <a:ext cx="647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716000" y="4653000"/>
              <a:ext cx="0" cy="36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7" name=""/>
          <p:cNvSpPr/>
          <p:nvPr/>
        </p:nvSpPr>
        <p:spPr>
          <a:xfrm>
            <a:off x="3016080" y="465300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5292720" y="5229000"/>
            <a:ext cx="647640" cy="360360"/>
            <a:chOff x="5292720" y="5229000"/>
            <a:chExt cx="647640" cy="360360"/>
          </a:xfrm>
        </p:grpSpPr>
        <p:sp>
          <p:nvSpPr>
            <p:cNvPr id="339" name=""/>
            <p:cNvSpPr/>
            <p:nvPr/>
          </p:nvSpPr>
          <p:spPr>
            <a:xfrm>
              <a:off x="5292720" y="5444640"/>
              <a:ext cx="647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292720" y="5229000"/>
              <a:ext cx="0" cy="36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7811640" y="5229360"/>
            <a:ext cx="647640" cy="360360"/>
            <a:chOff x="7811640" y="5229360"/>
            <a:chExt cx="647640" cy="360360"/>
          </a:xfrm>
        </p:grpSpPr>
        <p:sp>
          <p:nvSpPr>
            <p:cNvPr id="342" name=""/>
            <p:cNvSpPr/>
            <p:nvPr/>
          </p:nvSpPr>
          <p:spPr>
            <a:xfrm flipH="1">
              <a:off x="7811640" y="5374080"/>
              <a:ext cx="647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8459280" y="5229360"/>
              <a:ext cx="0" cy="36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4" name=""/>
          <p:cNvSpPr/>
          <p:nvPr/>
        </p:nvSpPr>
        <p:spPr>
          <a:xfrm>
            <a:off x="6534000" y="522936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5" name=""/>
          <p:cNvGrpSpPr/>
          <p:nvPr/>
        </p:nvGrpSpPr>
        <p:grpSpPr>
          <a:xfrm>
            <a:off x="0" y="4976640"/>
            <a:ext cx="5291280" cy="1881000"/>
            <a:chOff x="0" y="4976640"/>
            <a:chExt cx="5291280" cy="1881000"/>
          </a:xfrm>
        </p:grpSpPr>
        <p:graphicFrame>
          <p:nvGraphicFramePr>
            <p:cNvPr id="346" name=""/>
            <p:cNvGraphicFramePr/>
            <p:nvPr/>
          </p:nvGraphicFramePr>
          <p:xfrm>
            <a:off x="0" y="4976640"/>
            <a:ext cx="2195640" cy="1881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4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0" y="4976640"/>
                      <a:ext cx="2195640" cy="1881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348" name=""/>
            <p:cNvSpPr/>
            <p:nvPr/>
          </p:nvSpPr>
          <p:spPr>
            <a:xfrm>
              <a:off x="1619280" y="5524200"/>
              <a:ext cx="3672000" cy="1152360"/>
            </a:xfrm>
            <a:prstGeom prst="cloudCallout">
              <a:avLst>
                <a:gd name="adj1" fmla="val -53500"/>
                <a:gd name="adj2" fmla="val -38430"/>
              </a:avLst>
            </a:prstGeom>
            <a:solidFill>
              <a:srgbClr val="ffffcc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9" name=""/>
          <p:cNvSpPr/>
          <p:nvPr/>
        </p:nvSpPr>
        <p:spPr>
          <a:xfrm>
            <a:off x="1763640" y="5734080"/>
            <a:ext cx="60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可以正好铺满哪个正方形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68320" y="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铺一铺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6" dur="indefinite" restart="never" nodeType="tmRoot">
          <p:childTnLst>
            <p:seq>
              <p:cTn id="797" dur="indefinite" nodeType="mainSeq">
                <p:childTnLst>
                  <p:par>
                    <p:cTn id="798" fill="hold">
                      <p:stCondLst>
                        <p:cond delay="indefinite"/>
                      </p:stCondLst>
                      <p:childTnLst>
                        <p:par>
                          <p:cTn id="799" fill="hold">
                            <p:stCondLst>
                              <p:cond delay="0"/>
                            </p:stCondLst>
                            <p:childTnLst>
                              <p:par>
                                <p:cTn id="8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2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3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4" dur="80"/>
                                        <p:tgtEl>
                                          <p:spTgt spid="3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79280" y="2133720"/>
            <a:ext cx="129708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900000" y="62064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用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厘米、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厘米的长方形纸片分别铺右边的两个正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124000" y="2133720"/>
            <a:ext cx="2592360" cy="250956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5292720" y="2060640"/>
            <a:ext cx="3168720" cy="31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179280" y="2133720"/>
            <a:ext cx="129708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"/>
          <p:cNvGrpSpPr/>
          <p:nvPr/>
        </p:nvGrpSpPr>
        <p:grpSpPr>
          <a:xfrm>
            <a:off x="4643280" y="2133720"/>
            <a:ext cx="360360" cy="647640"/>
            <a:chOff x="4643280" y="2133720"/>
            <a:chExt cx="360360" cy="647640"/>
          </a:xfrm>
        </p:grpSpPr>
        <p:sp>
          <p:nvSpPr>
            <p:cNvPr id="358" name=""/>
            <p:cNvSpPr/>
            <p:nvPr/>
          </p:nvSpPr>
          <p:spPr>
            <a:xfrm>
              <a:off x="4788000" y="2133720"/>
              <a:ext cx="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643280" y="2133720"/>
              <a:ext cx="360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4643280" y="4005000"/>
            <a:ext cx="360360" cy="647640"/>
            <a:chOff x="4643280" y="4005000"/>
            <a:chExt cx="360360" cy="647640"/>
          </a:xfrm>
        </p:grpSpPr>
        <p:sp>
          <p:nvSpPr>
            <p:cNvPr id="361" name=""/>
            <p:cNvSpPr/>
            <p:nvPr/>
          </p:nvSpPr>
          <p:spPr>
            <a:xfrm flipV="1">
              <a:off x="4788000" y="4005000"/>
              <a:ext cx="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643280" y="4652640"/>
              <a:ext cx="360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3" name=""/>
          <p:cNvGrpSpPr/>
          <p:nvPr/>
        </p:nvGrpSpPr>
        <p:grpSpPr>
          <a:xfrm>
            <a:off x="8459640" y="2060640"/>
            <a:ext cx="360360" cy="647640"/>
            <a:chOff x="8459640" y="2060640"/>
            <a:chExt cx="360360" cy="647640"/>
          </a:xfrm>
        </p:grpSpPr>
        <p:sp>
          <p:nvSpPr>
            <p:cNvPr id="364" name=""/>
            <p:cNvSpPr/>
            <p:nvPr/>
          </p:nvSpPr>
          <p:spPr>
            <a:xfrm>
              <a:off x="8604360" y="2060640"/>
              <a:ext cx="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8459640" y="2060640"/>
              <a:ext cx="360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8459640" y="4581720"/>
            <a:ext cx="360360" cy="647640"/>
            <a:chOff x="8459640" y="4581720"/>
            <a:chExt cx="360360" cy="647640"/>
          </a:xfrm>
        </p:grpSpPr>
        <p:sp>
          <p:nvSpPr>
            <p:cNvPr id="367" name=""/>
            <p:cNvSpPr/>
            <p:nvPr/>
          </p:nvSpPr>
          <p:spPr>
            <a:xfrm flipV="1">
              <a:off x="8604360" y="4581720"/>
              <a:ext cx="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8459640" y="5229360"/>
              <a:ext cx="360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9" name=""/>
          <p:cNvSpPr/>
          <p:nvPr/>
        </p:nvSpPr>
        <p:spPr>
          <a:xfrm rot="16200000">
            <a:off x="1218240" y="227412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352440" y="299736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 rot="16200000">
            <a:off x="4327200" y="3023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 rot="16200000">
            <a:off x="7856280" y="3312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"/>
          <p:cNvGrpSpPr/>
          <p:nvPr/>
        </p:nvGrpSpPr>
        <p:grpSpPr>
          <a:xfrm>
            <a:off x="2124000" y="4652640"/>
            <a:ext cx="647640" cy="360360"/>
            <a:chOff x="2124000" y="4652640"/>
            <a:chExt cx="647640" cy="360360"/>
          </a:xfrm>
        </p:grpSpPr>
        <p:sp>
          <p:nvSpPr>
            <p:cNvPr id="374" name=""/>
            <p:cNvSpPr/>
            <p:nvPr/>
          </p:nvSpPr>
          <p:spPr>
            <a:xfrm>
              <a:off x="2124000" y="4868280"/>
              <a:ext cx="647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2124000" y="4652640"/>
              <a:ext cx="0" cy="36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068360" y="4653000"/>
            <a:ext cx="647640" cy="360360"/>
            <a:chOff x="4068360" y="4653000"/>
            <a:chExt cx="647640" cy="360360"/>
          </a:xfrm>
        </p:grpSpPr>
        <p:sp>
          <p:nvSpPr>
            <p:cNvPr id="377" name=""/>
            <p:cNvSpPr/>
            <p:nvPr/>
          </p:nvSpPr>
          <p:spPr>
            <a:xfrm flipH="1">
              <a:off x="4068360" y="4797720"/>
              <a:ext cx="647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716000" y="4653000"/>
              <a:ext cx="0" cy="36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9" name=""/>
          <p:cNvSpPr/>
          <p:nvPr/>
        </p:nvSpPr>
        <p:spPr>
          <a:xfrm>
            <a:off x="3016080" y="465300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"/>
          <p:cNvGrpSpPr/>
          <p:nvPr/>
        </p:nvGrpSpPr>
        <p:grpSpPr>
          <a:xfrm>
            <a:off x="5292720" y="5229000"/>
            <a:ext cx="647640" cy="360360"/>
            <a:chOff x="5292720" y="5229000"/>
            <a:chExt cx="647640" cy="360360"/>
          </a:xfrm>
        </p:grpSpPr>
        <p:sp>
          <p:nvSpPr>
            <p:cNvPr id="381" name=""/>
            <p:cNvSpPr/>
            <p:nvPr/>
          </p:nvSpPr>
          <p:spPr>
            <a:xfrm>
              <a:off x="5292720" y="5444640"/>
              <a:ext cx="647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 flipV="1">
              <a:off x="5292720" y="5229000"/>
              <a:ext cx="0" cy="36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3" name=""/>
          <p:cNvGrpSpPr/>
          <p:nvPr/>
        </p:nvGrpSpPr>
        <p:grpSpPr>
          <a:xfrm>
            <a:off x="7811640" y="5229360"/>
            <a:ext cx="647640" cy="360360"/>
            <a:chOff x="7811640" y="5229360"/>
            <a:chExt cx="647640" cy="360360"/>
          </a:xfrm>
        </p:grpSpPr>
        <p:sp>
          <p:nvSpPr>
            <p:cNvPr id="384" name=""/>
            <p:cNvSpPr/>
            <p:nvPr/>
          </p:nvSpPr>
          <p:spPr>
            <a:xfrm flipH="1">
              <a:off x="7811640" y="5374080"/>
              <a:ext cx="647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459280" y="5229360"/>
              <a:ext cx="0" cy="36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6" name=""/>
          <p:cNvSpPr/>
          <p:nvPr/>
        </p:nvSpPr>
        <p:spPr>
          <a:xfrm>
            <a:off x="6534000" y="522936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79280" y="2133720"/>
            <a:ext cx="129708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9280" y="2133720"/>
            <a:ext cx="129708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179280" y="2133720"/>
            <a:ext cx="129708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179280" y="2133720"/>
            <a:ext cx="129708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179280" y="2133720"/>
            <a:ext cx="1297080" cy="865080"/>
          </a:xfrm>
          <a:prstGeom prst="rect">
            <a:avLst/>
          </a:prstGeom>
          <a:solidFill>
            <a:srgbClr val="ff99cc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-181080" y="4976640"/>
            <a:ext cx="6480360" cy="1881360"/>
            <a:chOff x="-181080" y="4976640"/>
            <a:chExt cx="6480360" cy="1881360"/>
          </a:xfrm>
        </p:grpSpPr>
        <p:sp>
          <p:nvSpPr>
            <p:cNvPr id="393" name=""/>
            <p:cNvSpPr/>
            <p:nvPr/>
          </p:nvSpPr>
          <p:spPr>
            <a:xfrm>
              <a:off x="1619280" y="5157720"/>
              <a:ext cx="4680000" cy="1152720"/>
            </a:xfrm>
            <a:prstGeom prst="cloudCallout">
              <a:avLst>
                <a:gd name="adj1" fmla="val -52814"/>
                <a:gd name="adj2" fmla="val -24518"/>
              </a:avLst>
            </a:prstGeom>
            <a:solidFill>
              <a:srgbClr val="ffffcc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不能正好铺满边长</a:t>
              </a: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8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厘米的正方形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394" name=""/>
            <p:cNvGraphicFramePr/>
            <p:nvPr/>
          </p:nvGraphicFramePr>
          <p:xfrm>
            <a:off x="-181080" y="4976640"/>
            <a:ext cx="2195640" cy="188136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395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-181080" y="4976640"/>
                      <a:ext cx="2195640" cy="188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explode.wav"/>
                                        </p:tgtEl>
                                      </p:cMediaNode>
                                    </p:audio>
                                    <p:animMotion origin="layout" path="M -1.38889E-006 -0.01063 L 0.5592 -0.01063 E">
                                      <p:cBhvr>
                                        <p:cTn id="810" dur="1000" fill="hold"/>
                                        <p:tgtEl>
                                          <p:spTgt spid="3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explode.wav"/>
                                        </p:tgtEl>
                                      </p:cMediaNode>
                                    </p:audio>
                                    <p:animMotion origin="layout" path="M -1.38889E-006 -0.01063 L 0.68524 -0.01063 E">
                                      <p:cBhvr>
                                        <p:cTn id="814" dur="1000" fill="hold"/>
                                        <p:tgtEl>
                                          <p:spTgt spid="3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explode.wav"/>
                                        </p:tgtEl>
                                      </p:cMediaNode>
                                    </p:audio>
                                    <p:animMotion origin="layout" path="M -1.38889E-006 -1.6185E-006 L 0.5592 0.11538 E">
                                      <p:cBhvr>
                                        <p:cTn id="818" dur="1000" fill="hold"/>
                                        <p:tgtEl>
                                          <p:spTgt spid="3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explode.wav"/>
                                        </p:tgtEl>
                                      </p:cMediaNode>
                                    </p:audio>
                                    <p:animMotion origin="layout" path="M -1.38889E-006 -1.6185E-006 L 0.68524 0.11538 E">
                                      <p:cBhvr>
                                        <p:cTn id="822" dur="1000" fill="hold"/>
                                        <p:tgtEl>
                                          <p:spTgt spid="3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6185E-006 L 0.5592 0.24116 E">
                                      <p:cBhvr>
                                        <p:cTn id="826" dur="1000" fill="hold"/>
                                        <p:tgtEl>
                                          <p:spTgt spid="3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6185E-006 L 0.68524 0.24116 E">
                                      <p:cBhvr>
                                        <p:cTn id="830" dur="1000" fill="hold"/>
                                        <p:tgtEl>
                                          <p:spTgt spid="3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5" dur="20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66ccff"/>
              </a:gs>
              <a:gs pos="50000">
                <a:srgbClr val="ffffff"/>
              </a:gs>
              <a:gs pos="100000">
                <a:srgbClr val="66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2124000" y="2133720"/>
            <a:ext cx="2592360" cy="250956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292720" y="2060640"/>
            <a:ext cx="3168720" cy="3168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79280" y="2133720"/>
            <a:ext cx="129708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0" name=""/>
          <p:cNvGrpSpPr/>
          <p:nvPr/>
        </p:nvGrpSpPr>
        <p:grpSpPr>
          <a:xfrm>
            <a:off x="4643280" y="2133720"/>
            <a:ext cx="360360" cy="647640"/>
            <a:chOff x="4643280" y="2133720"/>
            <a:chExt cx="360360" cy="647640"/>
          </a:xfrm>
        </p:grpSpPr>
        <p:sp>
          <p:nvSpPr>
            <p:cNvPr id="401" name=""/>
            <p:cNvSpPr/>
            <p:nvPr/>
          </p:nvSpPr>
          <p:spPr>
            <a:xfrm>
              <a:off x="4788000" y="2133720"/>
              <a:ext cx="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4643280" y="2133720"/>
              <a:ext cx="360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4643280" y="4005000"/>
            <a:ext cx="360360" cy="647640"/>
            <a:chOff x="4643280" y="4005000"/>
            <a:chExt cx="360360" cy="647640"/>
          </a:xfrm>
        </p:grpSpPr>
        <p:sp>
          <p:nvSpPr>
            <p:cNvPr id="404" name=""/>
            <p:cNvSpPr/>
            <p:nvPr/>
          </p:nvSpPr>
          <p:spPr>
            <a:xfrm flipV="1">
              <a:off x="4788000" y="4005000"/>
              <a:ext cx="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4643280" y="4652640"/>
              <a:ext cx="360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8459640" y="2060640"/>
            <a:ext cx="360360" cy="647640"/>
            <a:chOff x="8459640" y="2060640"/>
            <a:chExt cx="360360" cy="647640"/>
          </a:xfrm>
        </p:grpSpPr>
        <p:sp>
          <p:nvSpPr>
            <p:cNvPr id="407" name=""/>
            <p:cNvSpPr/>
            <p:nvPr/>
          </p:nvSpPr>
          <p:spPr>
            <a:xfrm>
              <a:off x="8604360" y="2060640"/>
              <a:ext cx="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8459640" y="2060640"/>
              <a:ext cx="360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8459640" y="4581720"/>
            <a:ext cx="360360" cy="647640"/>
            <a:chOff x="8459640" y="4581720"/>
            <a:chExt cx="360360" cy="647640"/>
          </a:xfrm>
        </p:grpSpPr>
        <p:sp>
          <p:nvSpPr>
            <p:cNvPr id="410" name=""/>
            <p:cNvSpPr/>
            <p:nvPr/>
          </p:nvSpPr>
          <p:spPr>
            <a:xfrm flipV="1">
              <a:off x="8604360" y="4581720"/>
              <a:ext cx="0" cy="64764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8459640" y="5229360"/>
              <a:ext cx="360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2" name=""/>
          <p:cNvSpPr/>
          <p:nvPr/>
        </p:nvSpPr>
        <p:spPr>
          <a:xfrm rot="16200000">
            <a:off x="1218240" y="227412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352440" y="299736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6200000">
            <a:off x="4327200" y="3023640"/>
            <a:ext cx="115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6200000">
            <a:off x="7856280" y="3312720"/>
            <a:ext cx="158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2124000" y="4652640"/>
            <a:ext cx="647640" cy="360360"/>
            <a:chOff x="2124000" y="4652640"/>
            <a:chExt cx="647640" cy="360360"/>
          </a:xfrm>
        </p:grpSpPr>
        <p:sp>
          <p:nvSpPr>
            <p:cNvPr id="417" name=""/>
            <p:cNvSpPr/>
            <p:nvPr/>
          </p:nvSpPr>
          <p:spPr>
            <a:xfrm>
              <a:off x="2124000" y="4868280"/>
              <a:ext cx="647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 flipV="1">
              <a:off x="2124000" y="4652640"/>
              <a:ext cx="0" cy="36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9" name=""/>
          <p:cNvGrpSpPr/>
          <p:nvPr/>
        </p:nvGrpSpPr>
        <p:grpSpPr>
          <a:xfrm>
            <a:off x="4068360" y="4653000"/>
            <a:ext cx="647640" cy="360360"/>
            <a:chOff x="4068360" y="4653000"/>
            <a:chExt cx="647640" cy="360360"/>
          </a:xfrm>
        </p:grpSpPr>
        <p:sp>
          <p:nvSpPr>
            <p:cNvPr id="420" name=""/>
            <p:cNvSpPr/>
            <p:nvPr/>
          </p:nvSpPr>
          <p:spPr>
            <a:xfrm flipH="1">
              <a:off x="4068360" y="4797720"/>
              <a:ext cx="647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4716000" y="4653000"/>
              <a:ext cx="0" cy="36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2" name=""/>
          <p:cNvSpPr/>
          <p:nvPr/>
        </p:nvSpPr>
        <p:spPr>
          <a:xfrm>
            <a:off x="3016080" y="465300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3" name=""/>
          <p:cNvGrpSpPr/>
          <p:nvPr/>
        </p:nvGrpSpPr>
        <p:grpSpPr>
          <a:xfrm>
            <a:off x="5292720" y="5229000"/>
            <a:ext cx="647640" cy="360360"/>
            <a:chOff x="5292720" y="5229000"/>
            <a:chExt cx="647640" cy="360360"/>
          </a:xfrm>
        </p:grpSpPr>
        <p:sp>
          <p:nvSpPr>
            <p:cNvPr id="424" name=""/>
            <p:cNvSpPr/>
            <p:nvPr/>
          </p:nvSpPr>
          <p:spPr>
            <a:xfrm>
              <a:off x="5292720" y="5444640"/>
              <a:ext cx="647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V="1">
              <a:off x="5292720" y="5229000"/>
              <a:ext cx="0" cy="36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26" name=""/>
          <p:cNvGrpSpPr/>
          <p:nvPr/>
        </p:nvGrpSpPr>
        <p:grpSpPr>
          <a:xfrm>
            <a:off x="7811640" y="5229360"/>
            <a:ext cx="647640" cy="360360"/>
            <a:chOff x="7811640" y="5229360"/>
            <a:chExt cx="647640" cy="360360"/>
          </a:xfrm>
        </p:grpSpPr>
        <p:sp>
          <p:nvSpPr>
            <p:cNvPr id="427" name=""/>
            <p:cNvSpPr/>
            <p:nvPr/>
          </p:nvSpPr>
          <p:spPr>
            <a:xfrm flipH="1">
              <a:off x="7811640" y="5374080"/>
              <a:ext cx="64764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8459280" y="5229360"/>
              <a:ext cx="0" cy="36036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29" name=""/>
          <p:cNvSpPr/>
          <p:nvPr/>
        </p:nvSpPr>
        <p:spPr>
          <a:xfrm>
            <a:off x="6534000" y="522936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179280" y="2133720"/>
            <a:ext cx="129708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179280" y="2133720"/>
            <a:ext cx="129708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179280" y="2133720"/>
            <a:ext cx="129708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179280" y="2133720"/>
            <a:ext cx="129708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179280" y="2133720"/>
            <a:ext cx="129708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179280" y="2133720"/>
            <a:ext cx="1297080" cy="865080"/>
          </a:xfrm>
          <a:prstGeom prst="rect">
            <a:avLst/>
          </a:prstGeom>
          <a:solidFill>
            <a:srgbClr val="ff99cc"/>
          </a:solidFill>
          <a:ln w="936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729520" y="1268280"/>
            <a:ext cx="146232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÷3=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167800" y="2859120"/>
            <a:ext cx="1462320" cy="64260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÷2=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4788000" y="2205000"/>
            <a:ext cx="288720" cy="2376360"/>
          </a:xfrm>
          <a:custGeom>
            <a:avLst/>
            <a:gdLst>
              <a:gd name="textAreaLeft" fmla="*/ 0 w 288720"/>
              <a:gd name="textAreaRight" fmla="*/ 104040 w 288720"/>
              <a:gd name="textAreaTop" fmla="*/ 61920 h 2376360"/>
              <a:gd name="textAreaBottom" fmla="*/ 2314440 h 2376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 rot="16200000">
            <a:off x="3275640" y="692640"/>
            <a:ext cx="360360" cy="2520720"/>
          </a:xfrm>
          <a:custGeom>
            <a:avLst/>
            <a:gdLst>
              <a:gd name="textAreaLeft" fmla="*/ 0 w 360360"/>
              <a:gd name="textAreaRight" fmla="*/ 129960 w 36036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179280" y="333360"/>
          <a:ext cx="827280" cy="617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333360"/>
                    <a:ext cx="827280" cy="617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900000" y="404640"/>
            <a:ext cx="824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用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厘米、宽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厘米的长方形纸片分别铺右边的两个正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3" name=""/>
          <p:cNvGrpSpPr/>
          <p:nvPr/>
        </p:nvGrpSpPr>
        <p:grpSpPr>
          <a:xfrm>
            <a:off x="-181080" y="4976640"/>
            <a:ext cx="6265440" cy="1881360"/>
            <a:chOff x="-181080" y="4976640"/>
            <a:chExt cx="6265440" cy="1881360"/>
          </a:xfrm>
        </p:grpSpPr>
        <p:sp>
          <p:nvSpPr>
            <p:cNvPr id="444" name=""/>
            <p:cNvSpPr/>
            <p:nvPr/>
          </p:nvSpPr>
          <p:spPr>
            <a:xfrm>
              <a:off x="1644120" y="5157720"/>
              <a:ext cx="4440240" cy="1152720"/>
            </a:xfrm>
            <a:prstGeom prst="cloudCallout">
              <a:avLst>
                <a:gd name="adj1" fmla="val -58662"/>
                <a:gd name="adj2" fmla="val -27134"/>
              </a:avLst>
            </a:prstGeom>
            <a:solidFill>
              <a:srgbClr val="ffffcc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正好铺满边长</a:t>
              </a:r>
              <a:r>
                <a:rPr b="0" lang="en-US" sz="32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6</a:t>
              </a:r>
              <a:r>
                <a:rPr b="0" lang="zh-CN" sz="3200" spc="-1" strike="noStrike">
                  <a:solidFill>
                    <a:srgbClr val="0000cc"/>
                  </a:solidFill>
                  <a:latin typeface="Arial"/>
                  <a:ea typeface="楷体_GB2312"/>
                </a:rPr>
                <a:t>厘米的正方形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445" name=""/>
            <p:cNvGraphicFramePr/>
            <p:nvPr/>
          </p:nvGraphicFramePr>
          <p:xfrm>
            <a:off x="-181080" y="4976640"/>
            <a:ext cx="2417760" cy="18813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44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-181080" y="4976640"/>
                      <a:ext cx="2417760" cy="188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6" dur="indefinite" restart="never" nodeType="tmRoot">
          <p:childTnLst>
            <p:seq>
              <p:cTn id="837" dur="indefinite" nodeType="mainSeq">
                <p:childTnLst>
                  <p:par>
                    <p:cTn id="838" fill="hold">
                      <p:stCondLst>
                        <p:cond delay="indefinite"/>
                      </p:stCondLst>
                      <p:childTnLst>
                        <p:par>
                          <p:cTn id="839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6185E-006 L 0.21268 -1.6185E-006 E">
                                      <p:cBhvr>
                                        <p:cTn id="841" dur="1000" fill="hold"/>
                                        <p:tgtEl>
                                          <p:spTgt spid="43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6185E-006 L 0.35434 -1.6185E-006 E">
                                      <p:cBhvr>
                                        <p:cTn id="845" dur="1000" fill="hold"/>
                                        <p:tgtEl>
                                          <p:spTgt spid="4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6" fill="hold">
                      <p:stCondLst>
                        <p:cond delay="indefinite"/>
                      </p:stCondLst>
                      <p:childTnLst>
                        <p:par>
                          <p:cTn id="847" fill="hold">
                            <p:stCondLst>
                              <p:cond delay="0"/>
                            </p:stCondLst>
                            <p:childTnLst>
                              <p:par>
                                <p:cTn id="84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6185E-006 L 0.21268 0.11538 E">
                                      <p:cBhvr>
                                        <p:cTn id="849" dur="1000" fill="hold"/>
                                        <p:tgtEl>
                                          <p:spTgt spid="43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6185E-006 L 0.35434 0.11538 E">
                                      <p:cBhvr>
                                        <p:cTn id="853" dur="1000" fill="hold"/>
                                        <p:tgtEl>
                                          <p:spTgt spid="43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6185E-006 L 0.21268 0.24116 E">
                                      <p:cBhvr>
                                        <p:cTn id="857" dur="1000" fill="hold"/>
                                        <p:tgtEl>
                                          <p:spTgt spid="43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fill="hold">
                      <p:stCondLst>
                        <p:cond delay="indefinite"/>
                      </p:stCondLst>
                      <p:childTnLst>
                        <p:par>
                          <p:cTn id="859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38889E-006 -1.6185E-006 L 0.35434 0.24116 E">
                                      <p:cBhvr>
                                        <p:cTn id="861" dur="1000" fill="hold"/>
                                        <p:tgtEl>
                                          <p:spTgt spid="43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6" dur="2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71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fill="hold">
                      <p:stCondLst>
                        <p:cond delay="indefinite"/>
                      </p:stCondLst>
                      <p:childTnLst>
                        <p:par>
                          <p:cTn id="879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882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7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8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"/>
          <p:cNvSpPr/>
          <p:nvPr/>
        </p:nvSpPr>
        <p:spPr>
          <a:xfrm>
            <a:off x="1258920" y="1773360"/>
            <a:ext cx="2305080" cy="764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6÷3=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530360" y="2492280"/>
            <a:ext cx="1746000" cy="764280"/>
          </a:xfrm>
          <a:prstGeom prst="rect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6÷2=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3635280" y="1773360"/>
            <a:ext cx="289080" cy="1439640"/>
          </a:xfrm>
          <a:custGeom>
            <a:avLst/>
            <a:gdLst>
              <a:gd name="textAreaLeft" fmla="*/ 0 w 289080"/>
              <a:gd name="textAreaRight" fmla="*/ 104400 w 289080"/>
              <a:gd name="textAreaTop" fmla="*/ 37440 h 1439640"/>
              <a:gd name="textAreaBottom" fmla="*/ 1402200 h 143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3924360" y="1628640"/>
            <a:ext cx="49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6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既是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的倍数，又是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的倍数，所以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6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是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2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和</a:t>
            </a:r>
            <a:r>
              <a:rPr b="0" lang="en-US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3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的</a:t>
            </a:r>
            <a:r>
              <a:rPr b="0" lang="zh-CN" sz="4000" spc="-1" strike="noStrike">
                <a:solidFill>
                  <a:srgbClr val="0000cc"/>
                </a:solidFill>
                <a:latin typeface="Arial"/>
                <a:ea typeface="楷体_GB2312"/>
              </a:rPr>
              <a:t>公倍数</a:t>
            </a: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7" dur="1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12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3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14" dur="80"/>
                                        <p:tgtEl>
                                          <p:spTgt spid="4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2771640" y="1341360"/>
            <a:ext cx="5400720" cy="5183280"/>
          </a:xfrm>
          <a:prstGeom prst="rect">
            <a:avLst/>
          </a:prstGeom>
          <a:noFill/>
          <a:ln w="2844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0" y="17002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 rot="16200000">
            <a:off x="1218240" y="191376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350640" y="263700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8172360" y="1700280"/>
            <a:ext cx="520560" cy="4752000"/>
            <a:chOff x="8172360" y="1700280"/>
            <a:chExt cx="520560" cy="4752000"/>
          </a:xfrm>
        </p:grpSpPr>
        <p:grpSp>
          <p:nvGrpSpPr>
            <p:cNvPr id="456" name=""/>
            <p:cNvGrpSpPr/>
            <p:nvPr/>
          </p:nvGrpSpPr>
          <p:grpSpPr>
            <a:xfrm>
              <a:off x="8172360" y="1700280"/>
              <a:ext cx="360360" cy="1221120"/>
              <a:chOff x="8172360" y="1700280"/>
              <a:chExt cx="360360" cy="1221120"/>
            </a:xfrm>
          </p:grpSpPr>
          <p:sp>
            <p:nvSpPr>
              <p:cNvPr id="457" name=""/>
              <p:cNvSpPr/>
              <p:nvPr/>
            </p:nvSpPr>
            <p:spPr>
              <a:xfrm>
                <a:off x="8317080" y="1700280"/>
                <a:ext cx="0" cy="1221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8172360" y="17002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59" name=""/>
            <p:cNvGrpSpPr/>
            <p:nvPr/>
          </p:nvGrpSpPr>
          <p:grpSpPr>
            <a:xfrm>
              <a:off x="8172360" y="5231160"/>
              <a:ext cx="360360" cy="1221120"/>
              <a:chOff x="8172360" y="5231160"/>
              <a:chExt cx="360360" cy="1221120"/>
            </a:xfrm>
          </p:grpSpPr>
          <p:sp>
            <p:nvSpPr>
              <p:cNvPr id="460" name=""/>
              <p:cNvSpPr/>
              <p:nvPr/>
            </p:nvSpPr>
            <p:spPr>
              <a:xfrm flipV="1">
                <a:off x="8317080" y="5231160"/>
                <a:ext cx="0" cy="122112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8172360" y="6452280"/>
                <a:ext cx="36036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2" name=""/>
            <p:cNvSpPr/>
            <p:nvPr/>
          </p:nvSpPr>
          <p:spPr>
            <a:xfrm rot="16200000">
              <a:off x="7345800" y="3610440"/>
              <a:ext cx="2173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厘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3" name=""/>
          <p:cNvGrpSpPr/>
          <p:nvPr/>
        </p:nvGrpSpPr>
        <p:grpSpPr>
          <a:xfrm>
            <a:off x="2771640" y="6438600"/>
            <a:ext cx="5399640" cy="520920"/>
            <a:chOff x="2771640" y="6438600"/>
            <a:chExt cx="5399640" cy="520920"/>
          </a:xfrm>
        </p:grpSpPr>
        <p:grpSp>
          <p:nvGrpSpPr>
            <p:cNvPr id="464" name=""/>
            <p:cNvGrpSpPr/>
            <p:nvPr/>
          </p:nvGrpSpPr>
          <p:grpSpPr>
            <a:xfrm>
              <a:off x="2771640" y="6438600"/>
              <a:ext cx="1348200" cy="360360"/>
              <a:chOff x="2771640" y="6438600"/>
              <a:chExt cx="1348200" cy="360360"/>
            </a:xfrm>
          </p:grpSpPr>
          <p:sp>
            <p:nvSpPr>
              <p:cNvPr id="465" name=""/>
              <p:cNvSpPr/>
              <p:nvPr/>
            </p:nvSpPr>
            <p:spPr>
              <a:xfrm>
                <a:off x="2771640" y="6654240"/>
                <a:ext cx="13482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 flipV="1">
                <a:off x="2771640" y="6438600"/>
                <a:ext cx="0" cy="360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467" name=""/>
            <p:cNvGrpSpPr/>
            <p:nvPr/>
          </p:nvGrpSpPr>
          <p:grpSpPr>
            <a:xfrm>
              <a:off x="6823080" y="6438960"/>
              <a:ext cx="1348200" cy="360360"/>
              <a:chOff x="6823080" y="6438960"/>
              <a:chExt cx="1348200" cy="360360"/>
            </a:xfrm>
          </p:grpSpPr>
          <p:sp>
            <p:nvSpPr>
              <p:cNvPr id="468" name=""/>
              <p:cNvSpPr/>
              <p:nvPr/>
            </p:nvSpPr>
            <p:spPr>
              <a:xfrm flipH="1">
                <a:off x="6823080" y="6583680"/>
                <a:ext cx="1348200" cy="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9" name=""/>
              <p:cNvSpPr/>
              <p:nvPr/>
            </p:nvSpPr>
            <p:spPr>
              <a:xfrm>
                <a:off x="8171280" y="6438960"/>
                <a:ext cx="0" cy="360360"/>
              </a:xfrm>
              <a:prstGeom prst="line">
                <a:avLst/>
              </a:prstGeom>
              <a:ln w="28440">
                <a:solidFill>
                  <a:srgbClr val="ff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0" name=""/>
            <p:cNvSpPr/>
            <p:nvPr/>
          </p:nvSpPr>
          <p:spPr>
            <a:xfrm>
              <a:off x="5015160" y="6438960"/>
              <a:ext cx="1089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12</a:t>
              </a:r>
              <a:r>
                <a:rPr b="0" lang="zh-CN" sz="28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厘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1" name=""/>
          <p:cNvSpPr/>
          <p:nvPr/>
        </p:nvSpPr>
        <p:spPr>
          <a:xfrm>
            <a:off x="0" y="17002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0" y="17002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0" y="17002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0" y="17002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0" y="17002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0" y="17002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0" y="54936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这样的长方形纸片能正好铺满边长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厘米的正方形吗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34920" y="17002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34920" y="17002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34920" y="17002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34920" y="17002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34920" y="17002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34920" y="17002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0" y="1700280"/>
            <a:ext cx="1368360" cy="865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0" y="429264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0" y="429264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0" y="429264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0" y="429264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0" y="429264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0" y="429264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0" y="429264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34920" y="429264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34920" y="429264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34920" y="429264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34920" y="429264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34920" y="429264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4920" y="429264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34920" y="4292640"/>
            <a:ext cx="1368360" cy="865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125280" y="514188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 rot="16200000">
            <a:off x="1218240" y="442368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 flipH="1">
            <a:off x="2410560" y="1341360"/>
            <a:ext cx="360360" cy="5040360"/>
          </a:xfrm>
          <a:custGeom>
            <a:avLst/>
            <a:gdLst>
              <a:gd name="textAreaLeft" fmla="*/ 0 w 360360"/>
              <a:gd name="textAreaRight" fmla="*/ 129960 w 360360"/>
              <a:gd name="textAreaTop" fmla="*/ 131400 h 5040360"/>
              <a:gd name="textAreaBottom" fmla="*/ 4908960 h 504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641520" y="3500280"/>
            <a:ext cx="1716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2÷2=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 flipV="1" rot="5400000">
            <a:off x="5327640" y="-1072440"/>
            <a:ext cx="360360" cy="5329080"/>
          </a:xfrm>
          <a:custGeom>
            <a:avLst/>
            <a:gdLst>
              <a:gd name="textAreaLeft" fmla="*/ 0 w 360360"/>
              <a:gd name="textAreaRight" fmla="*/ 129960 w 360360"/>
              <a:gd name="textAreaTop" fmla="*/ 138960 h 5329080"/>
              <a:gd name="textAreaBottom" fmla="*/ 5190120 h 5329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57240">
            <a:solidFill>
              <a:srgbClr val="66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4457880" y="1700280"/>
            <a:ext cx="171684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2÷3=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2250360" y="3933720"/>
            <a:ext cx="4986000" cy="2082600"/>
          </a:xfrm>
          <a:prstGeom prst="rect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也是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的公倍数</a:t>
            </a:r>
            <a:r>
              <a:rPr b="0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所以，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厘米，宽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厘米的长方形纸片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能正好铺满边长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厘米的正方形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1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2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3" dur="80"/>
                                        <p:tgtEl>
                                          <p:spTgt spid="4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21965E-006 L 0.29913 -0.05226 E">
                                      <p:cBhvr>
                                        <p:cTn id="927" dur="1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8" fill="hold">
                      <p:stCondLst>
                        <p:cond delay="indefinite"/>
                      </p:stCondLst>
                      <p:childTnLst>
                        <p:par>
                          <p:cTn id="929" fill="hold">
                            <p:stCondLst>
                              <p:cond delay="0"/>
                            </p:stCondLst>
                            <p:childTnLst>
                              <p:par>
                                <p:cTn id="930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21965E-006 L 0.44496 -0.05226 E">
                                      <p:cBhvr>
                                        <p:cTn id="931" dur="1000" fill="hold"/>
                                        <p:tgtEl>
                                          <p:spTgt spid="4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21965E-006 L 0.59843 -0.05226 E">
                                      <p:cBhvr>
                                        <p:cTn id="935" dur="1000" fill="hold"/>
                                        <p:tgtEl>
                                          <p:spTgt spid="4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6" fill="hold">
                      <p:stCondLst>
                        <p:cond delay="indefinite"/>
                      </p:stCondLst>
                      <p:childTnLst>
                        <p:par>
                          <p:cTn id="937" fill="hold">
                            <p:stCondLst>
                              <p:cond delay="0"/>
                            </p:stCondLst>
                            <p:childTnLst>
                              <p:par>
                                <p:cTn id="938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21965E-006 L 0.74427 -0.05226 E">
                                      <p:cBhvr>
                                        <p:cTn id="939" dur="1000" fill="hold"/>
                                        <p:tgtEl>
                                          <p:spTgt spid="4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0" fill="hold">
                            <p:stCondLst>
                              <p:cond delay="1000"/>
                            </p:stCondLst>
                            <p:childTnLst>
                              <p:par>
                                <p:cTn id="94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-0.01041 L 0.29913 0.07352 E">
                                      <p:cBhvr>
                                        <p:cTn id="942" dur="1000" fill="hold"/>
                                        <p:tgtEl>
                                          <p:spTgt spid="4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3" fill="hold">
                            <p:stCondLst>
                              <p:cond delay="2000"/>
                            </p:stCondLst>
                            <p:childTnLst>
                              <p:par>
                                <p:cTn id="94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1041 L 0.44496 0.07352 E">
                                      <p:cBhvr>
                                        <p:cTn id="945" dur="1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6" fill="hold">
                            <p:stCondLst>
                              <p:cond delay="3000"/>
                            </p:stCondLst>
                            <p:childTnLst>
                              <p:par>
                                <p:cTn id="94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21965E-006 L 0.59843 0.07352 E">
                                      <p:cBhvr>
                                        <p:cTn id="948" dur="1000" fill="hold"/>
                                        <p:tgtEl>
                                          <p:spTgt spid="4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fill="hold">
                            <p:stCondLst>
                              <p:cond delay="4000"/>
                            </p:stCondLst>
                            <p:childTnLst>
                              <p:par>
                                <p:cTn id="95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21965E-006 L 0.74427 0.07352 E">
                                      <p:cBhvr>
                                        <p:cTn id="951" dur="1000" fill="hold"/>
                                        <p:tgtEl>
                                          <p:spTgt spid="4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21965E-006 L 0.29913 0.1993 E">
                                      <p:cBhvr>
                                        <p:cTn id="955" dur="1000" fill="hold"/>
                                        <p:tgtEl>
                                          <p:spTgt spid="47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6" fill="hold">
                            <p:stCondLst>
                              <p:cond delay="1000"/>
                            </p:stCondLst>
                            <p:childTnLst>
                              <p:par>
                                <p:cTn id="95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21965E-006 L 0.44496 0.1993 E">
                                      <p:cBhvr>
                                        <p:cTn id="958" dur="1000" fill="hold"/>
                                        <p:tgtEl>
                                          <p:spTgt spid="4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9" fill="hold">
                            <p:stCondLst>
                              <p:cond delay="2000"/>
                            </p:stCondLst>
                            <p:childTnLst>
                              <p:par>
                                <p:cTn id="96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21965E-006 L 0.59843 0.1993 E">
                                      <p:cBhvr>
                                        <p:cTn id="961" dur="1000" fill="hold"/>
                                        <p:tgtEl>
                                          <p:spTgt spid="4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2" fill="hold">
                            <p:stCondLst>
                              <p:cond delay="3000"/>
                            </p:stCondLst>
                            <p:childTnLst>
                              <p:par>
                                <p:cTn id="96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21965E-006 L 0.74427 0.1993 E">
                                      <p:cBhvr>
                                        <p:cTn id="964" dur="1000" fill="hold"/>
                                        <p:tgtEl>
                                          <p:spTgt spid="48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fill="hold">
                            <p:stCondLst>
                              <p:cond delay="4000"/>
                            </p:stCondLst>
                            <p:childTnLst>
                              <p:par>
                                <p:cTn id="966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21965E-006 L 0.29913 -0.05226 E">
                                      <p:cBhvr>
                                        <p:cTn id="967" dur="1000" fill="hold"/>
                                        <p:tgtEl>
                                          <p:spTgt spid="4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8" fill="hold">
                            <p:stCondLst>
                              <p:cond delay="5000"/>
                            </p:stCondLst>
                            <p:childTnLst>
                              <p:par>
                                <p:cTn id="969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21965E-006 L 0.44496 -0.05226 E">
                                      <p:cBhvr>
                                        <p:cTn id="970" dur="1000" fill="hold"/>
                                        <p:tgtEl>
                                          <p:spTgt spid="4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1" fill="hold">
                            <p:stCondLst>
                              <p:cond delay="6000"/>
                            </p:stCondLst>
                            <p:childTnLst>
                              <p:par>
                                <p:cTn id="972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21965E-006 L 0.59843 -0.05226 E">
                                      <p:cBhvr>
                                        <p:cTn id="973" dur="1000" fill="hold"/>
                                        <p:tgtEl>
                                          <p:spTgt spid="48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4" fill="hold">
                            <p:stCondLst>
                              <p:cond delay="7000"/>
                            </p:stCondLst>
                            <p:childTnLst>
                              <p:par>
                                <p:cTn id="975" nodeType="after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21965E-006 L 0.74427 -0.05226 E">
                                      <p:cBhvr>
                                        <p:cTn id="976" dur="1000" fill="hold"/>
                                        <p:tgtEl>
                                          <p:spTgt spid="4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7" fill="hold">
                            <p:stCondLst>
                              <p:cond delay="8000"/>
                            </p:stCondLst>
                            <p:childTnLst>
                              <p:par>
                                <p:cTn id="978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799 -0.01041 L 0.29913 0.07352 E">
                                      <p:cBhvr>
                                        <p:cTn id="979" dur="1000" fill="hold"/>
                                        <p:tgtEl>
                                          <p:spTgt spid="48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0" fill="hold">
                            <p:stCondLst>
                              <p:cond delay="9000"/>
                            </p:stCondLst>
                            <p:childTnLst>
                              <p:par>
                                <p:cTn id="9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0781 -0.01041 L 0.44496 0.07352 E">
                                      <p:cBhvr>
                                        <p:cTn id="982" dur="1000" fill="hold"/>
                                        <p:tgtEl>
                                          <p:spTgt spid="4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3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21965E-006 L 0.59843 0.07352 E">
                                      <p:cBhvr>
                                        <p:cTn id="985" dur="1000" fill="hold"/>
                                        <p:tgtEl>
                                          <p:spTgt spid="4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6" fill="hold">
                            <p:stCondLst>
                              <p:cond delay="11000"/>
                            </p:stCondLst>
                            <p:childTnLst>
                              <p:par>
                                <p:cTn id="98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21965E-006 L 0.74427 0.07352 E">
                                      <p:cBhvr>
                                        <p:cTn id="988" dur="1000" fill="hold"/>
                                        <p:tgtEl>
                                          <p:spTgt spid="4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9" fill="hold">
                            <p:stCondLst>
                              <p:cond delay="12000"/>
                            </p:stCondLst>
                            <p:childTnLst>
                              <p:par>
                                <p:cTn id="99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21965E-006 L 0.29913 0.1993 E">
                                      <p:cBhvr>
                                        <p:cTn id="991" dur="1000" fill="hold"/>
                                        <p:tgtEl>
                                          <p:spTgt spid="49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9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21965E-006 L 0.44496 0.1993 E">
                                      <p:cBhvr>
                                        <p:cTn id="994" dur="1000" fill="hold"/>
                                        <p:tgtEl>
                                          <p:spTgt spid="4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5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61111E-006 4.21965E-006 L 0.59843 0.1993 E">
                                      <p:cBhvr>
                                        <p:cTn id="997" dur="1000" fill="hold"/>
                                        <p:tgtEl>
                                          <p:spTgt spid="49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8" fill="hold">
                            <p:stCondLst>
                              <p:cond delay="15000"/>
                            </p:stCondLst>
                            <p:childTnLst>
                              <p:par>
                                <p:cTn id="99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16667E-006 4.21965E-006 L 0.74427 0.1993 E">
                                      <p:cBhvr>
                                        <p:cTn id="1000" dur="1000" fill="hold"/>
                                        <p:tgtEl>
                                          <p:spTgt spid="4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1" fill="hold">
                      <p:stCondLst>
                        <p:cond delay="indefinite"/>
                      </p:stCondLst>
                      <p:childTnLst>
                        <p:par>
                          <p:cTn id="1002" fill="hold">
                            <p:stCondLst>
                              <p:cond delay="0"/>
                            </p:stCondLst>
                            <p:childTnLst>
                              <p:par>
                                <p:cTn id="100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05" dur="10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0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1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2" fill="hold">
                      <p:stCondLst>
                        <p:cond delay="indefinite"/>
                      </p:stCondLst>
                      <p:childTnLst>
                        <p:par>
                          <p:cTn id="1013" fill="hold">
                            <p:stCondLst>
                              <p:cond delay="0"/>
                            </p:stCondLst>
                            <p:childTnLst>
                              <p:par>
                                <p:cTn id="101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16" dur="10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3" fill="hold">
                      <p:stCondLst>
                        <p:cond delay="indefinite"/>
                      </p:stCondLst>
                      <p:childTnLst>
                        <p:par>
                          <p:cTn id="1024" fill="hold">
                            <p:stCondLst>
                              <p:cond delay="0"/>
                            </p:stCondLst>
                            <p:childTnLst>
                              <p:par>
                                <p:cTn id="10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7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0" dur="10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"/>
          <p:cNvSpPr/>
          <p:nvPr/>
        </p:nvSpPr>
        <p:spPr>
          <a:xfrm>
            <a:off x="3081240" y="31258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 rot="16200000">
            <a:off x="4299480" y="333936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431880" y="4062240"/>
            <a:ext cx="89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厘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3081240" y="31258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3081240" y="31258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3081240" y="31258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081240" y="31258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081240" y="3125880"/>
            <a:ext cx="1368360" cy="865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3081240" y="3125880"/>
            <a:ext cx="1368360" cy="865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1258920" y="404640"/>
            <a:ext cx="61214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这样的长方形纸片还能正好铺满边长是多少厘米的正方形</a:t>
            </a:r>
            <a:r>
              <a:rPr b="0" lang="en-US" sz="4400" spc="-1" strike="noStrike">
                <a:solidFill>
                  <a:srgbClr val="cc0000"/>
                </a:solidFill>
                <a:latin typeface="Arial"/>
                <a:ea typeface="楷体_GB2312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24000" y="4724280"/>
            <a:ext cx="3816360" cy="1441440"/>
          </a:xfrm>
          <a:prstGeom prst="cloudCallout">
            <a:avLst>
              <a:gd name="adj1" fmla="val 91097"/>
              <a:gd name="adj2" fmla="val -81166"/>
            </a:avLst>
          </a:prstGeom>
          <a:solidFill>
            <a:srgbClr val="ffffcc"/>
          </a:solidFill>
          <a:ln w="9360">
            <a:solidFill>
              <a:srgbClr val="3399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0000"/>
                </a:solidFill>
                <a:latin typeface="Arial"/>
                <a:ea typeface="楷体_GB2312"/>
              </a:rPr>
              <a:t>小组交流一下吧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17" name=""/>
          <p:cNvGraphicFramePr/>
          <p:nvPr/>
        </p:nvGraphicFramePr>
        <p:xfrm>
          <a:off x="5940360" y="2781360"/>
          <a:ext cx="209880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940360" y="2781360"/>
                    <a:ext cx="209880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indefinite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37" dur="8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38" dur="8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39" dur="80"/>
                                        <p:tgtEl>
                                          <p:spTgt spid="5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0" fill="hold">
                      <p:stCondLst>
                        <p:cond delay="indefinite"/>
                      </p:stCondLst>
                      <p:childTnLst>
                        <p:par>
                          <p:cTn id="1041" fill="hold">
                            <p:stCondLst>
                              <p:cond delay="0"/>
                            </p:stCondLst>
                            <p:childTnLst>
                              <p:par>
                                <p:cTn id="104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44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9" name="Picture 5" descr="未标题-1"/>
          <p:cNvPicPr/>
          <p:nvPr/>
        </p:nvPicPr>
        <p:blipFill>
          <a:blip r:embed="rId2"/>
          <a:stretch/>
        </p:blipFill>
        <p:spPr>
          <a:xfrm>
            <a:off x="2286000" y="2743200"/>
            <a:ext cx="5105520" cy="126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406080" y="1197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06080" y="191628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06080" y="256536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06080" y="342900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06080" y="414972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06080" y="4797360"/>
            <a:ext cx="2170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有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3132000" y="0"/>
            <a:ext cx="2210040" cy="87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宋体"/>
              </a:rPr>
              <a:t>复习题：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51" name=""/>
          <p:cNvSpPr/>
          <p:nvPr/>
        </p:nvSpPr>
        <p:spPr>
          <a:xfrm>
            <a:off x="2753640" y="5373720"/>
            <a:ext cx="637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思考：怎样求一个数的倍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383480" y="6021360"/>
            <a:ext cx="4295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你能找出哪几个数有公有的倍数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941560" y="1125360"/>
            <a:ext cx="41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761200" y="1916280"/>
            <a:ext cx="445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940840" y="2492280"/>
            <a:ext cx="4539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2760480" y="3284640"/>
            <a:ext cx="4842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0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13560" y="4076640"/>
            <a:ext cx="5049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2687400" y="4724280"/>
            <a:ext cx="547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0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40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50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" dur="80"/>
                                        <p:tgtEl>
                                          <p:spTgt spid="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9480" y="1341360"/>
            <a:ext cx="8161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有：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4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8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10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14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16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20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22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26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28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30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2280" y="2708280"/>
            <a:ext cx="7709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倍数有：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9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15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18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21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24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27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30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-1304640" y="3933720"/>
            <a:ext cx="114422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公有的倍数有（                      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共（                 ）个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324000" y="333360"/>
            <a:ext cx="2743200" cy="10288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246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观察与思考：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63" name=""/>
          <p:cNvSpPr/>
          <p:nvPr/>
        </p:nvSpPr>
        <p:spPr>
          <a:xfrm>
            <a:off x="1213200" y="5300640"/>
            <a:ext cx="6215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这些公有的倍数中，最小的是（      ）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有没有最大的？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314600" y="3933720"/>
            <a:ext cx="322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18……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61040" y="4508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无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877080" y="522936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12640" y="4437000"/>
            <a:ext cx="127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为什么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4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drumro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85" dur="2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320480" y="907920"/>
            <a:ext cx="64738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、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18……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公有的倍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叫做它们的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公倍数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其中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是最小的公倍数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叫做它们的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最小公倍数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两个数的公倍数有无数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没有最大的公倍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313360" y="1268280"/>
            <a:ext cx="45090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最小公倍数可以用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[    ]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表示</a:t>
            </a: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的最小公倍数是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，可以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表示为</a:t>
            </a:r>
            <a:r>
              <a:rPr b="1" lang="en-US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[3,2]=6</a:t>
            </a: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heel spokes="8"/>
    <p:sndAc>
      <p:stSnd>
        <p:snd r:embed="rId1" name="chimes.wav"/>
      </p:stSnd>
    </p:sndAc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444200" y="4508640"/>
            <a:ext cx="1860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和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公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1995480"/>
            <a:ext cx="3733920" cy="2081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28600" y="1357200"/>
            <a:ext cx="1981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2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454040" y="3316320"/>
            <a:ext cx="94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815080" y="1341360"/>
            <a:ext cx="1084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Times New Roman"/>
                <a:ea typeface="宋体"/>
              </a:rPr>
              <a:t>的倍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83160" y="2027160"/>
            <a:ext cx="3733920" cy="208116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51320" y="2282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101960" y="228276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248200" y="2308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3840" y="281160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940400" y="2859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18320" y="28335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607480" y="28591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189800" y="335772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135840" y="3432240"/>
            <a:ext cx="944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…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650200" y="225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074280" y="225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6723360" y="2254320"/>
            <a:ext cx="34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34480" y="285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795000" y="285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087240" y="285588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5219640" y="3645000"/>
            <a:ext cx="144360" cy="792000"/>
          </a:xfrm>
          <a:prstGeom prst="downArrow">
            <a:avLst>
              <a:gd name="adj1" fmla="val 50000"/>
              <a:gd name="adj2" fmla="val 137157"/>
            </a:avLst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932360" y="3162240"/>
            <a:ext cx="77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  <a:ea typeface="宋体"/>
              </a:rPr>
              <a:t>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13440" y="3332160"/>
            <a:ext cx="51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宋体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596960" y="5380200"/>
            <a:ext cx="5407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2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和</a:t>
            </a:r>
            <a:r>
              <a:rPr b="1" lang="en-US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3</a:t>
            </a:r>
            <a:r>
              <a:rPr b="1" lang="zh-CN" sz="3600" spc="-1" strike="noStrike">
                <a:solidFill>
                  <a:srgbClr val="6600cc"/>
                </a:solidFill>
                <a:latin typeface="Arial"/>
                <a:ea typeface="楷体_GB2312"/>
              </a:rPr>
              <a:t>的最小公倍数是（      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140520" y="544212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3300"/>
                </a:solidFill>
                <a:latin typeface="Arial"/>
                <a:ea typeface="楷体_GB2312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4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5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198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199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00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500"/>
                            </p:stCondLst>
                            <p:childTnLst>
                              <p:par>
                                <p:cTn id="202" nodeType="after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2.22222E-006 2.59259E-006 L -0.11528 0.00185 E">
                                      <p:cBhvr>
                                        <p:cTn id="203" dur="2000" fill="hold"/>
                                        <p:tgtEl>
                                          <p:spTgt spid="8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4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05556E-006 2.59259E-006 L 0.05868 0.00185 E">
                                      <p:cBhvr>
                                        <p:cTn id="205" dur="2000" fill="hold"/>
                                        <p:tgtEl>
                                          <p:spTgt spid="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06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77778E-006 -1.11111E-006 L 0.07361 -0.00185 E">
                                      <p:cBhvr>
                                        <p:cTn id="207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20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20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5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6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17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1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4" nodeType="with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225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6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0,0,-1)"/>
                                      </p:to>
                                    </p:set>
                                    <p:set>
                                      <p:cBhvr>
                                        <p:cTn id="227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20"/>
                            </p:stCondLst>
                            <p:childTnLst>
                              <p:par>
                                <p:cTn id="229" nodeType="after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2.5E-006 2.59259E-006 L 0.14462 -0.00162 E">
                                      <p:cBhvr>
                                        <p:cTn id="230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1" nodeType="with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7 3.33333E-006 L -0.07865 0.00347 E">
                                      <p:cBhvr>
                                        <p:cTn id="23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3" nodeType="withEffect" fill="hold" presetClass="path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1.66667E-006 1.11111E-006 L -0.21771 -0.00185 E">
                                      <p:cBhvr>
                                        <p:cTn id="234" dur="2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35" nodeType="with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-0.01077 0.0088 L 0.17413 -0.07708 E">
                                      <p:cBhvr>
                                        <p:cTn id="23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animClr clrSpc="rgb">
                                <p:cBhvr>
                                  <p:cTn id="23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23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23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  <p:animClr clrSpc="rgb">
                                <p:cBhvr>
                                  <p:cTn id="24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00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4" dur="2000" fill="hold"/>
                                        <p:tgtEl>
                                          <p:spTgt spid="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6" dur="2000" fill="hold"/>
                                        <p:tgtEl>
                                          <p:spTgt spid="7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7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48" dur="2000" fill="hold"/>
                                        <p:tgtEl>
                                          <p:spTgt spid="7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0" dur="2000" fill="hold"/>
                                        <p:tgtEl>
                                          <p:spTgt spid="7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2" dur="2000" fill="hold"/>
                                        <p:tgtEl>
                                          <p:spTgt spid="7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3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254" dur="2000" fill="hold"/>
                                        <p:tgtEl>
                                          <p:spTgt spid="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5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56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7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258" dur="2000" fill="hold"/>
                                        <p:tgtEl>
                                          <p:spTgt spid="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59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0" dur="2000" fill="hold"/>
                                        <p:tgtEl>
                                          <p:spTgt spid="8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1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1.66667E-006 -1.48148E-006 L 0.16285 -0.00278 E">
                                      <p:cBhvr>
                                        <p:cTn id="262" dur="2000" fill="hold"/>
                                        <p:tgtEl>
                                          <p:spTgt spid="8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3" nodeType="withEffect" fill="hold" presetClass="path" presetID="63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.25 0 E">
                                      <p:cBhvr>
                                        <p:cTn id="264" dur="2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5" nodeType="withEffect" fill="hold" presetClass="path" presetID="63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 0 L 0.25 0 E">
                                      <p:cBhvr>
                                        <p:cTn id="266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67" nodeType="withEffect" fill="hold" presetClass="exit" presetID="12" presetSubtype="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slide(fromRight)" transition="out">
                                      <p:cBhvr additive="repl">
                                        <p:cTn id="268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path" presetID="5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Motion origin="layout" path="M 0.22344 -0.01829 L 0.38385 -0.07547 E">
                                      <p:cBhvr>
                                        <p:cTn id="271" dur="2000" fill="hold"/>
                                        <p:tgtEl>
                                          <p:spTgt spid="8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000"/>
                            </p:stCondLst>
                            <p:childTnLst>
                              <p:par>
                                <p:cTn id="2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xit" presetID="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28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5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6" name=""/>
          <p:cNvGrpSpPr/>
          <p:nvPr/>
        </p:nvGrpSpPr>
        <p:grpSpPr>
          <a:xfrm>
            <a:off x="1378080" y="404640"/>
            <a:ext cx="7765920" cy="6324840"/>
            <a:chOff x="1378080" y="404640"/>
            <a:chExt cx="7765920" cy="6324840"/>
          </a:xfrm>
        </p:grpSpPr>
        <p:sp>
          <p:nvSpPr>
            <p:cNvPr id="97" name=""/>
            <p:cNvSpPr/>
            <p:nvPr/>
          </p:nvSpPr>
          <p:spPr>
            <a:xfrm>
              <a:off x="1378080" y="404640"/>
              <a:ext cx="6865920" cy="2352600"/>
            </a:xfrm>
            <a:prstGeom prst="cloudCallout">
              <a:avLst>
                <a:gd name="adj1" fmla="val 42277"/>
                <a:gd name="adj2" fmla="val 94736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29080" y="918720"/>
              <a:ext cx="26496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能不能找到两个数的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Arial"/>
                  <a:ea typeface="楷体_GB2312"/>
                </a:rPr>
                <a:t>最大公倍数？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5932440" y="3765240"/>
              <a:ext cx="3211560" cy="2964240"/>
              <a:chOff x="5932440" y="3765240"/>
              <a:chExt cx="3211560" cy="2964240"/>
            </a:xfrm>
          </p:grpSpPr>
          <p:sp>
            <p:nvSpPr>
              <p:cNvPr id="100" name=""/>
              <p:cNvSpPr txBox="1"/>
              <p:nvPr/>
            </p:nvSpPr>
            <p:spPr>
              <a:xfrm rot="638400">
                <a:off x="6070680" y="4844160"/>
                <a:ext cx="2160720" cy="1700280"/>
              </a:xfrm>
              <a:prstGeom prst="rect">
                <a:avLst/>
              </a:prstGeom>
            </p:spPr>
            <p:txBody>
              <a:bodyPr wrap="none" fromWordArt="1" lIns="90000" rIns="90000" tIns="46800" bIns="46800" anchor="ctr" anchorCtr="1">
                <a:prstTxWarp prst="textCircle">
                  <a:avLst>
                    <a:gd name="adj" fmla="val 1086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9600" spc="1" strike="noStrike">
                    <a:ln w="12600">
                      <a:solidFill>
                        <a:srgbClr val="000099"/>
                      </a:solidFill>
                      <a:miter/>
                    </a:ln>
                    <a:solidFill>
                      <a:srgbClr val="33ccff"/>
                    </a:solidFill>
                    <a:effectLst>
                      <a:outerShdw dist="125751" dir="18900000" blurRad="0" rotWithShape="0">
                        <a:srgbClr val="000099"/>
                      </a:outerShdw>
                    </a:effectLst>
                    <a:latin typeface="宋体"/>
                  </a:rPr>
                  <a:t>？</a:t>
                </a:r>
                <a:endParaRPr b="0" lang="en-US" sz="9600" spc="1" strike="noStrike">
                  <a:ln w="12600">
                    <a:solidFill>
                      <a:srgbClr val="000099"/>
                    </a:solidFill>
                    <a:miter/>
                  </a:ln>
                  <a:solidFill>
                    <a:srgbClr val="33ccff"/>
                  </a:solidFill>
                  <a:effectLst>
                    <a:outerShdw dist="125751" dir="18900000" blurRad="0" rotWithShape="0">
                      <a:srgbClr val="000099"/>
                    </a:outerShdw>
                  </a:effectLst>
                  <a:latin typeface="宋体"/>
                  <a:ea typeface="宋体"/>
                </a:endParaRPr>
              </a:p>
            </p:txBody>
          </p:sp>
          <p:graphicFrame>
            <p:nvGraphicFramePr>
              <p:cNvPr id="101" name=""/>
              <p:cNvGraphicFramePr/>
              <p:nvPr/>
            </p:nvGraphicFramePr>
            <p:xfrm>
              <a:off x="7365960" y="3765240"/>
              <a:ext cx="1778040" cy="22050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102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7365960" y="3765240"/>
                        <a:ext cx="1778040" cy="2205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</p:grpSp>
      </p:grpSp>
      <p:grpSp>
        <p:nvGrpSpPr>
          <p:cNvPr id="103" name=""/>
          <p:cNvGrpSpPr/>
          <p:nvPr/>
        </p:nvGrpSpPr>
        <p:grpSpPr>
          <a:xfrm>
            <a:off x="0" y="0"/>
            <a:ext cx="7560720" cy="5326920"/>
            <a:chOff x="0" y="0"/>
            <a:chExt cx="7560720" cy="5326920"/>
          </a:xfrm>
        </p:grpSpPr>
        <p:sp>
          <p:nvSpPr>
            <p:cNvPr id="104" name=""/>
            <p:cNvSpPr/>
            <p:nvPr/>
          </p:nvSpPr>
          <p:spPr>
            <a:xfrm>
              <a:off x="1365840" y="0"/>
              <a:ext cx="6194880" cy="3907080"/>
            </a:xfrm>
            <a:prstGeom prst="cloudCallout">
              <a:avLst>
                <a:gd name="adj1" fmla="val -59791"/>
                <a:gd name="adj2" fmla="val 65430"/>
              </a:avLst>
            </a:prstGeom>
            <a:solidFill>
              <a:srgbClr val="cc0000"/>
            </a:solidFill>
            <a:ln w="9360">
              <a:solidFill>
                <a:srgbClr val="3399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5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8</a:t>
              </a:r>
              <a:r>
                <a:rPr b="1" lang="zh-CN" sz="5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是</a:t>
              </a:r>
              <a:r>
                <a:rPr b="1" lang="en-US" sz="5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2</a:t>
              </a:r>
              <a:r>
                <a:rPr b="1" lang="zh-CN" sz="5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和</a:t>
              </a:r>
              <a:r>
                <a:rPr b="1" lang="en-US" sz="5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3</a:t>
              </a:r>
              <a:r>
                <a:rPr b="1" lang="zh-CN" sz="54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的公倍数吗？为什么？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aphicFrame>
          <p:nvGraphicFramePr>
            <p:cNvPr id="105" name=""/>
            <p:cNvGraphicFramePr/>
            <p:nvPr/>
          </p:nvGraphicFramePr>
          <p:xfrm>
            <a:off x="0" y="2721960"/>
            <a:ext cx="1683000" cy="260496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106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0" y="2721960"/>
                      <a:ext cx="1683000" cy="26049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</p:spTree>
  </p:cSld>
  <p:transition>
    <p:plus/>
    <p:sndAc>
      <p:stSnd>
        <p:snd r:embed="rId5" name="suction.wav"/>
      </p:stSnd>
    </p:sndAc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306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1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0" y="0"/>
            <a:ext cx="8964720" cy="5950080"/>
          </a:xfrm>
          <a:prstGeom prst="cloudCallout">
            <a:avLst>
              <a:gd name="adj1" fmla="val 35657"/>
              <a:gd name="adj2" fmla="val 20115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楷体_GB2312"/>
              </a:rPr>
              <a:t>       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不能找到两个数的最大公倍数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。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楷体_GB2312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cc0000"/>
                </a:solidFill>
                <a:latin typeface="Arial"/>
                <a:ea typeface="楷体_GB2312"/>
              </a:rPr>
              <a:t>由于一个数的倍数有无限多个，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楷体_GB2312"/>
              </a:rPr>
              <a:t>所以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两个数的公倍数也可以无限地找下去，有无限多个</a:t>
            </a:r>
            <a:r>
              <a:rPr b="1" lang="zh-CN" sz="3600" spc="-1" strike="noStrike">
                <a:solidFill>
                  <a:srgbClr val="663300"/>
                </a:solidFill>
                <a:latin typeface="Arial"/>
                <a:ea typeface="楷体_GB2312"/>
              </a:rPr>
              <a:t>。因为不能找到两个数的最大的倍数，所以也不能找到两个数的最大公倍数</a:t>
            </a:r>
            <a:r>
              <a:rPr b="1" lang="zh-CN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。</a:t>
            </a:r>
            <a:r>
              <a:rPr b="1" lang="en-US" sz="2800" spc="-1" strike="noStrike">
                <a:solidFill>
                  <a:srgbClr val="663300"/>
                </a:solidFill>
                <a:latin typeface="Arial"/>
                <a:ea typeface="楷体_GB2312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8" name=""/>
          <p:cNvGraphicFramePr/>
          <p:nvPr/>
        </p:nvGraphicFramePr>
        <p:xfrm>
          <a:off x="6711840" y="3789360"/>
          <a:ext cx="2432160" cy="2521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711840" y="3789360"/>
                    <a:ext cx="2432160" cy="2521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plus/>
    <p:sndAc>
      <p:stSnd>
        <p:snd r:embed="rId3" name="chimes.wav"/>
      </p:stSnd>
    </p:sndAc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1-25T07:50:04Z</dcterms:created>
  <dc:creator>Administrator</dc:creator>
  <dc:description/>
  <dc:language>en-US</dc:language>
  <cp:lastModifiedBy>微软用户</cp:lastModifiedBy>
  <dcterms:modified xsi:type="dcterms:W3CDTF">2016-03-05T12:37:41Z</dcterms:modified>
  <cp:revision>62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