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91EB-5DA9-4E49-BA4E-A2C317CB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683-58BD-48C3-95F1-07A8792A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7423-D83B-45C4-8F61-F1B14201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0859-3DBC-401E-8970-AC5AC90C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7038-92EA-4B0E-B4FA-23A89224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C61D-3A1B-4FBA-BE67-F30A4BEF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A8B-DAEC-41B2-AE85-E93A1E11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787-ACD4-47EB-A6B7-2EC14F0D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9765-46E6-42DE-9372-AB3C0D6F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1C2-D98F-48D4-967B-ACF8D72B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FC1-7E01-42A4-90E0-7821E079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7C8-C506-43E7-97FF-573DFDCE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8D71-7F12-446A-91AC-DB776A6455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9257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和与积的奇偶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3960" y="1295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697800" cy="26640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1979640" y="3575160"/>
            <a:ext cx="6262560" cy="2462040"/>
            <a:chOff x="1979640" y="3575160"/>
            <a:chExt cx="6262560" cy="2462040"/>
          </a:xfrm>
        </p:grpSpPr>
        <p:sp>
          <p:nvSpPr>
            <p:cNvPr id="71" name=""/>
            <p:cNvSpPr/>
            <p:nvPr/>
          </p:nvSpPr>
          <p:spPr>
            <a:xfrm>
              <a:off x="1979640" y="3575160"/>
              <a:ext cx="597528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27280" y="4064040"/>
              <a:ext cx="410544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79640" y="4654800"/>
              <a:ext cx="626256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00360" y="5230800"/>
              <a:ext cx="388764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39640" y="36687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f02"/>
                </a:solidFill>
                <a:latin typeface="楷体_GB2312"/>
                <a:ea typeface="楷体_GB2312"/>
              </a:rPr>
              <a:t>圆中的数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4720" y="450864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f02"/>
                </a:solidFill>
                <a:latin typeface="楷体_GB2312"/>
                <a:ea typeface="楷体_GB2312"/>
              </a:rPr>
              <a:t>它们都是偶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51320" y="3645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f02"/>
                </a:solidFill>
                <a:latin typeface="Times New Roman"/>
                <a:ea typeface="楷体_GB2312"/>
              </a:rPr>
              <a:t>正方形中的数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62560" y="4508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f02"/>
                </a:solidFill>
                <a:latin typeface="楷体_GB2312"/>
                <a:ea typeface="楷体_GB2312"/>
              </a:rPr>
              <a:t>它们都是奇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55640" y="987480"/>
            <a:ext cx="1771560" cy="536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76360" y="1557360"/>
            <a:ext cx="1368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摆 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59280" y="1268280"/>
            <a:ext cx="39607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船最初停在南岸，从南岸驶向北岸，再从北岸驶向南岸，不断往返。请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船摆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次后，船在南岸还是北岸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4248360" cy="2622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960640" y="213372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494028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987480"/>
            <a:ext cx="1771560" cy="5364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5844960" y="879480"/>
            <a:ext cx="2356920" cy="955800"/>
            <a:chOff x="5844960" y="879480"/>
            <a:chExt cx="2356920" cy="955800"/>
          </a:xfrm>
        </p:grpSpPr>
        <p:sp>
          <p:nvSpPr>
            <p:cNvPr id="87" name=""/>
            <p:cNvSpPr/>
            <p:nvPr/>
          </p:nvSpPr>
          <p:spPr>
            <a:xfrm rot="311400">
              <a:off x="5889600" y="981000"/>
              <a:ext cx="2282760" cy="752400"/>
            </a:xfrm>
            <a:prstGeom prst="cloudCallout">
              <a:avLst>
                <a:gd name="adj1" fmla="val -25439"/>
                <a:gd name="adj2" fmla="val 11268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44960" y="105228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来列表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" name=""/>
          <p:cNvGraphicFramePr/>
          <p:nvPr/>
        </p:nvGraphicFramePr>
        <p:xfrm>
          <a:off x="2389320" y="2205000"/>
          <a:ext cx="4343400" cy="2960640"/>
        </p:xfrm>
        <a:graphic>
          <a:graphicData uri="http://schemas.openxmlformats.org/drawingml/2006/table">
            <a:tbl>
              <a:tblPr/>
              <a:tblGrid>
                <a:gridCol w="1824120"/>
                <a:gridCol w="25192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摆渡次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船所在的位置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950760" y="3736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32000" y="2708280"/>
            <a:ext cx="33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32000" y="3213000"/>
            <a:ext cx="33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南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32000" y="3716280"/>
            <a:ext cx="33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2000" y="4168800"/>
            <a:ext cx="338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南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                 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55640" y="987480"/>
            <a:ext cx="1771560" cy="536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47640" y="5013360"/>
            <a:ext cx="7812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小船摆渡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次后，船在南岸还是北岸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844960" y="879480"/>
            <a:ext cx="2356920" cy="955800"/>
            <a:chOff x="5844960" y="879480"/>
            <a:chExt cx="2356920" cy="955800"/>
          </a:xfrm>
        </p:grpSpPr>
        <p:sp>
          <p:nvSpPr>
            <p:cNvPr id="98" name=""/>
            <p:cNvSpPr/>
            <p:nvPr/>
          </p:nvSpPr>
          <p:spPr>
            <a:xfrm rot="311400">
              <a:off x="5889600" y="981000"/>
              <a:ext cx="2282760" cy="752400"/>
            </a:xfrm>
            <a:prstGeom prst="cloudCallout">
              <a:avLst>
                <a:gd name="adj1" fmla="val -25439"/>
                <a:gd name="adj2" fmla="val 11268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44960" y="105228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来列表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0" name=""/>
          <p:cNvGraphicFramePr/>
          <p:nvPr/>
        </p:nvGraphicFramePr>
        <p:xfrm>
          <a:off x="2389320" y="2205000"/>
          <a:ext cx="4343400" cy="2960640"/>
        </p:xfrm>
        <a:graphic>
          <a:graphicData uri="http://schemas.openxmlformats.org/drawingml/2006/table">
            <a:tbl>
              <a:tblPr/>
              <a:tblGrid>
                <a:gridCol w="1824120"/>
                <a:gridCol w="25192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摆渡次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船所在的位置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950760" y="3736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32000" y="2708280"/>
            <a:ext cx="33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3213000"/>
            <a:ext cx="33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南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3716280"/>
            <a:ext cx="33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2000" y="4168800"/>
            <a:ext cx="338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南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                 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987480"/>
            <a:ext cx="1771560" cy="536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50760" y="3736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124000" y="1874880"/>
            <a:ext cx="5040360" cy="2346840"/>
            <a:chOff x="2124000" y="1874880"/>
            <a:chExt cx="5040360" cy="2346840"/>
          </a:xfrm>
        </p:grpSpPr>
        <p:sp>
          <p:nvSpPr>
            <p:cNvPr id="109" name=""/>
            <p:cNvSpPr/>
            <p:nvPr/>
          </p:nvSpPr>
          <p:spPr>
            <a:xfrm>
              <a:off x="2124000" y="2292120"/>
              <a:ext cx="395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24000" y="3731760"/>
              <a:ext cx="395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2555640" y="2292120"/>
              <a:ext cx="0" cy="1439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924360" y="2292120"/>
              <a:ext cx="0" cy="1439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3640" y="2292120"/>
              <a:ext cx="0" cy="1439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43280" y="2292120"/>
              <a:ext cx="0" cy="1439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5435640" y="2292120"/>
              <a:ext cx="0" cy="1439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40000" y="1874880"/>
              <a:ext cx="3620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              3              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43280" y="3731760"/>
              <a:ext cx="2232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              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0360" y="2018880"/>
              <a:ext cx="122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北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40360" y="3516120"/>
              <a:ext cx="122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南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409120" y="4437000"/>
            <a:ext cx="5343120" cy="1922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摆渡奇数次后，船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岸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摆渡偶数次后，船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船摆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次后，船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岸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30960" y="4325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30960" y="4975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5589720"/>
            <a:ext cx="63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74560" y="1413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有人说摆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次后，小船在北岸。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3213000"/>
            <a:ext cx="82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30351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摆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7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次后小船在北岸。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55640" y="836640"/>
            <a:ext cx="1728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小判官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"/>
          <p:cNvSpPr/>
          <p:nvPr/>
        </p:nvSpPr>
        <p:spPr>
          <a:xfrm>
            <a:off x="431640" y="472428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摆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00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次后小船在南岸。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458136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27640" y="29242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198900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宋体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26920" y="1413000"/>
            <a:ext cx="806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484280"/>
            <a:ext cx="813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　　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老师在教室里给同学上课，灯本来是亮着的，突然停电了，我按了一下电灯的开关，这个班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名学生，如果每人也都按了一下开关，猜猜看，来电的时候这盏灯是亮的还是不亮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42920" y="765000"/>
            <a:ext cx="13716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练一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26920" y="1413000"/>
            <a:ext cx="806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2205000"/>
            <a:ext cx="6516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宋体"/>
              </a:rPr>
              <a:t>一本数学书放在课桌上，翻动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宋体"/>
              </a:rPr>
              <a:t>次后，书的哪一面朝上？为什么？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71640" y="692280"/>
            <a:ext cx="137160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26920" y="1413000"/>
            <a:ext cx="806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55736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请同学们用三个同样的硬币，开始时写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元的面朝上，每次翻动两个硬币，至少翻几次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元的面又全部朝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71640" y="765000"/>
            <a:ext cx="158436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游戏（动起来）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3860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再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同样的硬币按刚才的方法做游戏，至少翻几次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元的面又全部朝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本课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索并掌握数的奇偶性，能应用数的奇偶性分析和解释生活中一些简单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识目标：在实践活动中认识奇数和偶数 ，了解奇偶性的规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力目标：探索并掌握数的奇偶性，并能应用数的奇偶性分析和解释生活中一些简单问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感目标：通过本次活动，让大家经历猜想、实验、验证的过程，增强学好数学的信心和应用数学的意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632720" cy="3066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042920" y="765000"/>
            <a:ext cx="144144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未标题-1"/>
          <p:cNvPicPr/>
          <p:nvPr/>
        </p:nvPicPr>
        <p:blipFill>
          <a:blip r:embed="rId2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1160" y="414360"/>
            <a:ext cx="342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祝你好运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1197000"/>
            <a:ext cx="6985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抽奖游戏——现金大奖，中奖概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游戏规则：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zhi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骰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hai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子，按掷到的数加两次，得到的和是几，下面所对应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奖金就归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现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谢谢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现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谢谢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现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谢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现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谢谢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现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谢谢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现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谢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1450800"/>
            <a:ext cx="79930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8720" y="1052640"/>
            <a:ext cx="748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计算，判断下列算式的结果是奇数还是偶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2205000"/>
            <a:ext cx="56181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0389 + 2004: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1387 + 131  :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68 + 1024    :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46786+25787: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6007 + 8997  :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8840" y="220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奇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8840" y="292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偶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8840" y="3716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偶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8840" y="4437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奇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8840" y="5300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偶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03440" y="942840"/>
            <a:ext cx="678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数学书打开后，左右两边的页码一定是两个相邻的自然数；而任意两个相邻的自然数的奇偶性必定是相反的，即要么是一个偶数和一个奇数，要么是一个奇数和一个偶数。所以左右两边的页码和一定是奇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92200" y="1201680"/>
            <a:ext cx="653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+3+5+7……+2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和是奇数还是偶数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95480" y="330372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因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~~3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自然数一共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，其中任意一个奇数的后面一定跟着一个偶数，所以奇数的个数与偶数的个数正好同样多。也就是说，这里奇数的个数正好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一半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。所以它们的和是奇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2349360"/>
            <a:ext cx="842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个数的乘积，什么情况下是奇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什么情况下是偶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692280"/>
            <a:ext cx="386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自主探究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58880" y="555480"/>
            <a:ext cx="294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回顾感悟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676520"/>
            <a:ext cx="70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解决复杂问题，要从简单入手，寻找规律解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284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寻找规律时，可以先举出具体例子，通过观察、比较，发现共同特点，从中找出规律，从而解决复杂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34880" y="1055520"/>
            <a:ext cx="443304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偶数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偶数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偶数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21200" y="2422440"/>
            <a:ext cx="444852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奇数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+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奇数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偶数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32720" y="3716280"/>
            <a:ext cx="4448520" cy="70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奇数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+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偶数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奇数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8029440" y="4508640"/>
            <a:ext cx="1176480" cy="2361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58760" y="4746600"/>
            <a:ext cx="689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和是奇数或偶数，与两个加数是奇数还是偶数有关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7:50:04Z</dcterms:created>
  <dc:creator>Administrator</dc:creator>
  <dc:description/>
  <dc:language>en-US</dc:language>
  <cp:lastModifiedBy>微软用户</cp:lastModifiedBy>
  <dcterms:modified xsi:type="dcterms:W3CDTF">2016-03-05T12:59:56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