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5145-C68D-442C-A49D-8D04241DC7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498-E736-42EE-B875-2DC0C420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5A1-70DA-4A33-80C8-ADC09F7D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433-214A-4188-9677-BB12D5C1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B94-1C96-4B08-A931-77BF170E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D84-2B3A-4355-BACF-AAFB7E22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3E5-EE2C-4ED0-BB70-966D497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62A-FBDD-48C0-B709-5B7A72F7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A50-9731-4E86-9831-05339466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7A5-1562-4589-A223-C8FA2685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F91-D243-4537-B0EA-37DF2EF5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8F6-D14A-4BC5-AC6A-85BB9F4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9A5-EF8E-4C6E-82B0-E84C6B9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F8D4-30D3-4FEF-B3F4-C06782855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200" y="461880"/>
            <a:ext cx="40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苏教版五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60360" y="2276640"/>
            <a:ext cx="662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000000">
                        <a:alpha val="9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决问题的策略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000000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63640" y="3716280"/>
            <a:ext cx="5400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×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你会列式吗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565360"/>
            <a:ext cx="57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36360" y="162864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小刚原来有？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62864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买铅笔盒用去一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170028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买笔记本又用去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61200" y="1700280"/>
            <a:ext cx="19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现在还剩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2492280"/>
            <a:ext cx="64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2492280"/>
            <a:ext cx="649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6560" y="33336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诗 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557360"/>
            <a:ext cx="73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李 白 喝 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                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【唐】张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李白街上走，提壶去买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遇店加一倍，见花喝一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三遇店和花，喝光壶中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借问此壶中，原有多少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03640" y="2997360"/>
            <a:ext cx="190980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谢谢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步学会运用转化的策略分析问题，灵活确定解决问题的思路，并能根据问题的特点确定具体的转化方法，从而有效地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一步积累运用转化策略解决问题的经验，增强解决问题的策略意识，主动克服在解决问题中遇到的困难，获得成功的体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4560" y="1268280"/>
            <a:ext cx="2736720" cy="259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920" y="5013360"/>
            <a:ext cx="504720" cy="5047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苏州车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35280" y="4292280"/>
            <a:ext cx="3457440" cy="865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2560" y="3860640"/>
            <a:ext cx="504720" cy="5050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508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常熟汽车南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580000" y="2205000"/>
            <a:ext cx="0" cy="1511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48160" y="1628640"/>
            <a:ext cx="505080" cy="5050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1557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常熟市实验小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4218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1004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小明原来有一些邮票，今年又收集了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24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张。送给小军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30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张后，还剩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52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张。小明原来有多少张邮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3003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620640"/>
            <a:ext cx="1368360" cy="647640"/>
          </a:xfrm>
          <a:prstGeom prst="wedgeEllipseCallout">
            <a:avLst>
              <a:gd name="adj1" fmla="val 41069"/>
              <a:gd name="adj2" fmla="val 27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620640"/>
            <a:ext cx="1368360" cy="647640"/>
          </a:xfrm>
          <a:prstGeom prst="wedgeEllipseCallout">
            <a:avLst>
              <a:gd name="adj1" fmla="val 41069"/>
              <a:gd name="adj2" fmla="val 27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9228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明原来有一些邮票，今年又收集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２４张．送给小军３０张后，还剩５２张．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原来有多少张邮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360" y="2343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来有？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256536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84440" y="23479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收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2565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7280" y="23479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给小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565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76320" y="2347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3284640"/>
            <a:ext cx="7127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）              （      ）              （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2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40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4076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35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4                    —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1197000"/>
            <a:ext cx="15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原有</a:t>
            </a:r>
            <a:r>
              <a:rPr b="1" lang="zh-CN" sz="4400" spc="-1" strike="noStrike">
                <a:solidFill>
                  <a:srgbClr val="ff66ff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40766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191628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112536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又收集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18446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105264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送给小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56360" y="4005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18446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981000"/>
            <a:ext cx="15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剩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2852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倒过来推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   5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=58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78936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检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:        58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0 =52(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29520" y="4626000"/>
            <a:ext cx="31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明原来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卡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920" y="3398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选择正确列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1706400"/>
            <a:ext cx="7705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冬和芳芳原来共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画片，冬冬给了芳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画片后，两人的画片同样多。冬冬原来有多少张画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8400" y="3645000"/>
            <a:ext cx="374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①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0÷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②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0÷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③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0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44800" y="3645000"/>
            <a:ext cx="30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①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0÷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8920" y="285264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①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②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6×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③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6600" y="43178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3398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选择正确列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2238480"/>
            <a:ext cx="649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6360" y="1628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小刚原来有？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03640" y="16621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买铅笔盒用去一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170028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买笔记本又用去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61200" y="1700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现在还剩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227664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0920" y="227664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808200"/>
            <a:ext cx="806436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8-01T01:23:4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