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725-A9E8-44E9-9582-45DD47C5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12A-3D10-4A73-89EE-C98ABB18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2A6-B873-48BC-A577-BFA65AE0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B018-6833-4F36-A0D4-F5F13FC5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D54-35AB-4836-8D97-24111628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A310-24C1-40FD-887E-2F69851E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CB5-08D3-4950-B59B-EA41D5C0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62E-FFDA-44A9-939C-79055ACD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7A2-77A0-4C31-87CF-F97DD0F4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685-42B6-468B-B74B-54E5D19B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CC8-09B5-445C-A3AB-1463762D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24C-E72D-4180-B12F-BF730473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F068-2D1F-42FF-9BAE-52B1376A7C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列方程解决实际问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39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2843280" y="944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解：设小雁塔高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27200" y="703440"/>
            <a:ext cx="1066680" cy="457200"/>
            <a:chOff x="727200" y="703440"/>
            <a:chExt cx="1066680" cy="457200"/>
          </a:xfrm>
        </p:grpSpPr>
        <p:sp>
          <p:nvSpPr>
            <p:cNvPr id="95" name=""/>
            <p:cNvSpPr/>
            <p:nvPr/>
          </p:nvSpPr>
          <p:spPr>
            <a:xfrm>
              <a:off x="727200" y="703440"/>
              <a:ext cx="106668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879480" y="779400"/>
              <a:ext cx="83844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黑体"/>
                </a:rPr>
                <a:t>开始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2843280" y="800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解：设小雁塔高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8000" y="5121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小雁塔的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79480" y="1355760"/>
            <a:ext cx="838080" cy="4800600"/>
          </a:xfrm>
          <a:prstGeom prst="downArrow">
            <a:avLst>
              <a:gd name="adj1" fmla="val 24167"/>
              <a:gd name="adj2" fmla="val 888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27200" y="365040"/>
            <a:ext cx="1066680" cy="457200"/>
            <a:chOff x="727200" y="365040"/>
            <a:chExt cx="1066680" cy="457200"/>
          </a:xfrm>
        </p:grpSpPr>
        <p:sp>
          <p:nvSpPr>
            <p:cNvPr id="101" name=""/>
            <p:cNvSpPr/>
            <p:nvPr/>
          </p:nvSpPr>
          <p:spPr>
            <a:xfrm>
              <a:off x="727200" y="365040"/>
              <a:ext cx="106668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879480" y="441000"/>
              <a:ext cx="83844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黑体"/>
                </a:rPr>
                <a:t>开始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22280" y="4479840"/>
            <a:ext cx="1828800" cy="764280"/>
            <a:chOff x="422280" y="4479840"/>
            <a:chExt cx="1828800" cy="764280"/>
          </a:xfrm>
        </p:grpSpPr>
        <p:sp>
          <p:nvSpPr>
            <p:cNvPr id="104" name=""/>
            <p:cNvSpPr/>
            <p:nvPr/>
          </p:nvSpPr>
          <p:spPr>
            <a:xfrm>
              <a:off x="422280" y="4632480"/>
              <a:ext cx="18288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3960" y="4479840"/>
              <a:ext cx="1706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检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22280" y="6004080"/>
            <a:ext cx="1752480" cy="703440"/>
            <a:chOff x="422280" y="6004080"/>
            <a:chExt cx="1752480" cy="703440"/>
          </a:xfrm>
        </p:grpSpPr>
        <p:sp>
          <p:nvSpPr>
            <p:cNvPr id="107" name=""/>
            <p:cNvSpPr/>
            <p:nvPr/>
          </p:nvSpPr>
          <p:spPr>
            <a:xfrm>
              <a:off x="422280" y="6080400"/>
              <a:ext cx="1752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6840" y="600408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结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98600" y="873000"/>
            <a:ext cx="1828800" cy="642600"/>
            <a:chOff x="498600" y="873000"/>
            <a:chExt cx="1828800" cy="642600"/>
          </a:xfrm>
        </p:grpSpPr>
        <p:sp>
          <p:nvSpPr>
            <p:cNvPr id="110" name=""/>
            <p:cNvSpPr/>
            <p:nvPr/>
          </p:nvSpPr>
          <p:spPr>
            <a:xfrm>
              <a:off x="498600" y="965160"/>
              <a:ext cx="16002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8600" y="87300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写方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70000" y="1812960"/>
            <a:ext cx="2286000" cy="764280"/>
            <a:chOff x="270000" y="1812960"/>
            <a:chExt cx="2286000" cy="764280"/>
          </a:xfrm>
        </p:grpSpPr>
        <p:grpSp>
          <p:nvGrpSpPr>
            <p:cNvPr id="113" name=""/>
            <p:cNvGrpSpPr/>
            <p:nvPr/>
          </p:nvGrpSpPr>
          <p:grpSpPr>
            <a:xfrm>
              <a:off x="270000" y="1812960"/>
              <a:ext cx="2286000" cy="764280"/>
              <a:chOff x="270000" y="1812960"/>
              <a:chExt cx="2286000" cy="764280"/>
            </a:xfrm>
          </p:grpSpPr>
          <p:sp>
            <p:nvSpPr>
              <p:cNvPr id="114" name=""/>
              <p:cNvSpPr/>
              <p:nvPr/>
            </p:nvSpPr>
            <p:spPr>
              <a:xfrm>
                <a:off x="334800" y="1888920"/>
                <a:ext cx="1828800" cy="609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0000" y="1812960"/>
                <a:ext cx="2286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求出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1403280" y="1881360"/>
                  <a:ext cx="79236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591000" y="1536840"/>
                <a:ext cx="21589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763720" y="2030400"/>
                <a:ext cx="39261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438800" y="2771640"/>
                <a:ext cx="13842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99000" y="3379680"/>
                <a:ext cx="15843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99000" y="3956040"/>
                <a:ext cx="1081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059280" y="4640400"/>
                <a:ext cx="26492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" name=""/>
          <p:cNvGrpSpPr/>
          <p:nvPr/>
        </p:nvGrpSpPr>
        <p:grpSpPr>
          <a:xfrm>
            <a:off x="270000" y="3108240"/>
            <a:ext cx="2209680" cy="785880"/>
            <a:chOff x="270000" y="3108240"/>
            <a:chExt cx="2209680" cy="785880"/>
          </a:xfrm>
        </p:grpSpPr>
        <p:grpSp>
          <p:nvGrpSpPr>
            <p:cNvPr id="124" name=""/>
            <p:cNvGrpSpPr/>
            <p:nvPr/>
          </p:nvGrpSpPr>
          <p:grpSpPr>
            <a:xfrm>
              <a:off x="270000" y="3108240"/>
              <a:ext cx="2209680" cy="764280"/>
              <a:chOff x="270000" y="3108240"/>
              <a:chExt cx="2209680" cy="764280"/>
            </a:xfrm>
          </p:grpSpPr>
          <p:sp>
            <p:nvSpPr>
              <p:cNvPr id="125" name=""/>
              <p:cNvSpPr/>
              <p:nvPr/>
            </p:nvSpPr>
            <p:spPr>
              <a:xfrm>
                <a:off x="270000" y="3184560"/>
                <a:ext cx="2209680" cy="685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5960" y="3108240"/>
                <a:ext cx="2057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求出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619280" y="3176640"/>
                  <a:ext cx="65232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42920" y="33336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杭州湾大桥在建后将成为世界上最长的跨海大桥，全长大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2860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14130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香港青马大桥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还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191628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港青马大桥全长大约多少千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916280"/>
            <a:ext cx="6248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31417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解：设香港青马大桥全长大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71640" y="357336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χ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8 = 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4005360"/>
            <a:ext cx="57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χ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8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– 0.8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= 36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– 0.8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43657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χ = 35.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47242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χ = 2.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51577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答：香港青马大桥全长大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32000" y="2492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青马大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＋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0.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＝杭州湾大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5791320"/>
            <a:ext cx="6408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还可以怎样来解这个方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16000" y="47304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解：设香港青马大桥全长大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84280" y="57294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答：香港青马大桥全长大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79280" y="1047600"/>
            <a:ext cx="6913800" cy="2033640"/>
            <a:chOff x="179280" y="1047600"/>
            <a:chExt cx="6913800" cy="2033640"/>
          </a:xfrm>
        </p:grpSpPr>
        <p:sp>
          <p:nvSpPr>
            <p:cNvPr id="144" name=""/>
            <p:cNvSpPr/>
            <p:nvPr/>
          </p:nvSpPr>
          <p:spPr>
            <a:xfrm>
              <a:off x="1979640" y="1047600"/>
              <a:ext cx="38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χ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8 = 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0000" y="1623960"/>
              <a:ext cx="579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χ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8 </a:t>
              </a: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– 0.8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= 36 </a:t>
              </a: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– 0.8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19640" y="2560680"/>
              <a:ext cx="367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χ = 2.2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9640" y="2055960"/>
              <a:ext cx="31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χ = 35.2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80" y="104760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79280" y="3352680"/>
            <a:ext cx="7058160" cy="2104920"/>
            <a:chOff x="179280" y="3352680"/>
            <a:chExt cx="7058160" cy="2104920"/>
          </a:xfrm>
        </p:grpSpPr>
        <p:sp>
          <p:nvSpPr>
            <p:cNvPr id="150" name=""/>
            <p:cNvSpPr/>
            <p:nvPr/>
          </p:nvSpPr>
          <p:spPr>
            <a:xfrm>
              <a:off x="2124000" y="3352680"/>
              <a:ext cx="41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χ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8 = 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4000" y="3929040"/>
              <a:ext cx="324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χ = 36 </a:t>
              </a: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– 0.8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4000" y="443232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χ = 35.2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64000" y="4937040"/>
              <a:ext cx="367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χ = 2.2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9280" y="335268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5280" y="3208320"/>
            <a:ext cx="828216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55640" y="895320"/>
            <a:ext cx="230364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解方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619280" y="1585800"/>
                <a:ext cx="41767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63640" y="2908440"/>
                <a:ext cx="415764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692360" y="4413240"/>
                <a:ext cx="44226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9640" y="592200"/>
            <a:ext cx="50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在括号里填上含有字母的式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8720" y="1673280"/>
            <a:ext cx="698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⑴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张村果园有桃树</a:t>
            </a:r>
            <a:r>
              <a:rPr b="1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棵，梨树比桃树的</a:t>
            </a:r>
            <a:r>
              <a:rPr b="1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倍还多</a:t>
            </a:r>
            <a:r>
              <a:rPr b="1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棵。梨树有（         ）棵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3595680"/>
            <a:ext cx="712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⑵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王叔叔在鱼池里放养鲫鱼</a:t>
            </a:r>
            <a:r>
              <a:rPr b="1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尾，放养的鳊鱼比鲫鱼的</a:t>
            </a:r>
            <a:r>
              <a:rPr b="1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倍少</a:t>
            </a:r>
            <a:r>
              <a:rPr b="1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80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尾。放养鳊鱼（        ）尾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780000" y="2103480"/>
                <a:ext cx="1155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867280" y="3975120"/>
                <a:ext cx="1192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2007000" y="2840040"/>
            <a:ext cx="362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mic Sans MS"/>
                <a:ea typeface="宋体"/>
              </a:rPr>
              <a:t>数量关系式：桃树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  <a:ea typeface="宋体"/>
              </a:rPr>
              <a:t>×3</a:t>
            </a:r>
            <a:r>
              <a:rPr b="1" lang="zh-CN" sz="2600" spc="-1" strike="noStrike">
                <a:solidFill>
                  <a:srgbClr val="ff3300"/>
                </a:solidFill>
                <a:latin typeface="Comic Sans MS"/>
                <a:ea typeface="宋体"/>
              </a:rPr>
              <a:t>＋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  <a:ea typeface="宋体"/>
              </a:rPr>
              <a:t>15=</a:t>
            </a:r>
            <a:r>
              <a:rPr b="1" lang="zh-CN" sz="2600" spc="-1" strike="noStrike">
                <a:solidFill>
                  <a:srgbClr val="ff3300"/>
                </a:solidFill>
                <a:latin typeface="Comic Sans MS"/>
                <a:ea typeface="宋体"/>
              </a:rPr>
              <a:t>梨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51360" y="4768920"/>
            <a:ext cx="362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mic Sans MS"/>
                <a:ea typeface="宋体"/>
              </a:rPr>
              <a:t>数量关系式：鲫鱼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  <a:ea typeface="宋体"/>
              </a:rPr>
              <a:t>×4</a:t>
            </a:r>
            <a:r>
              <a:rPr b="1" lang="zh-CN" sz="2600" spc="-1" strike="noStrike">
                <a:solidFill>
                  <a:srgbClr val="ff3300"/>
                </a:solidFill>
                <a:latin typeface="Comic Sans MS"/>
                <a:ea typeface="宋体"/>
              </a:rPr>
              <a:t>－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  <a:ea typeface="宋体"/>
              </a:rPr>
              <a:t>80=</a:t>
            </a:r>
            <a:r>
              <a:rPr b="1" lang="zh-CN" sz="2600" spc="-1" strike="noStrike">
                <a:solidFill>
                  <a:srgbClr val="ff3300"/>
                </a:solidFill>
                <a:latin typeface="Comic Sans MS"/>
                <a:ea typeface="宋体"/>
              </a:rPr>
              <a:t>鳊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120000" cy="1890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35733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猫的最快时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348000" y="3886200"/>
            <a:ext cx="1942920" cy="144360"/>
            <a:chOff x="3348000" y="3886200"/>
            <a:chExt cx="1942920" cy="144360"/>
          </a:xfrm>
        </p:grpSpPr>
        <p:sp>
          <p:nvSpPr>
            <p:cNvPr id="170" name=""/>
            <p:cNvSpPr/>
            <p:nvPr/>
          </p:nvSpPr>
          <p:spPr>
            <a:xfrm>
              <a:off x="3348000" y="4030560"/>
              <a:ext cx="19429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48000" y="3886200"/>
              <a:ext cx="0" cy="1443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90920" y="3886200"/>
              <a:ext cx="0" cy="1443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348000" y="3627360"/>
            <a:ext cx="1944720" cy="336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067280" y="314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？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252360" y="450864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猎豹的最快时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348000" y="4940280"/>
            <a:ext cx="1942920" cy="144360"/>
            <a:chOff x="3348000" y="4940280"/>
            <a:chExt cx="1942920" cy="144360"/>
          </a:xfrm>
        </p:grpSpPr>
        <p:sp>
          <p:nvSpPr>
            <p:cNvPr id="177" name=""/>
            <p:cNvSpPr/>
            <p:nvPr/>
          </p:nvSpPr>
          <p:spPr>
            <a:xfrm>
              <a:off x="3348000" y="5084640"/>
              <a:ext cx="19429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4940280"/>
              <a:ext cx="0" cy="1443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90920" y="4940280"/>
              <a:ext cx="0" cy="1443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292720" y="4940280"/>
            <a:ext cx="1942920" cy="144360"/>
            <a:chOff x="5292720" y="4940280"/>
            <a:chExt cx="1942920" cy="144360"/>
          </a:xfrm>
        </p:grpSpPr>
        <p:sp>
          <p:nvSpPr>
            <p:cNvPr id="181" name=""/>
            <p:cNvSpPr/>
            <p:nvPr/>
          </p:nvSpPr>
          <p:spPr>
            <a:xfrm>
              <a:off x="5292720" y="5084640"/>
              <a:ext cx="19429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92720" y="4940280"/>
              <a:ext cx="0" cy="1443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35640" y="4940280"/>
              <a:ext cx="0" cy="1443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237440" y="4940280"/>
            <a:ext cx="719280" cy="144360"/>
            <a:chOff x="7237440" y="4940280"/>
            <a:chExt cx="719280" cy="144360"/>
          </a:xfrm>
        </p:grpSpPr>
        <p:sp>
          <p:nvSpPr>
            <p:cNvPr id="185" name=""/>
            <p:cNvSpPr/>
            <p:nvPr/>
          </p:nvSpPr>
          <p:spPr>
            <a:xfrm>
              <a:off x="7237440" y="5084640"/>
              <a:ext cx="71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37440" y="494028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56720" y="494028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348000" y="4532400"/>
            <a:ext cx="4608720" cy="336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236000" y="5157720"/>
            <a:ext cx="720720" cy="166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003640" y="4149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48360" y="522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395280" y="260280"/>
            <a:ext cx="2805120" cy="103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1295280" y="304920"/>
          <a:ext cx="4395240" cy="958680"/>
        </p:xfrm>
        <a:graphic>
          <a:graphicData uri="http://schemas.openxmlformats.org/drawingml/2006/table">
            <a:tbl>
              <a:tblPr/>
              <a:tblGrid>
                <a:gridCol w="4395240"/>
              </a:tblGrid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219320" y="4572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看线段图说说题意并方程解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5661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猫的最快时速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×2+20=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猎豹的最快时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5280" y="609480"/>
            <a:ext cx="2590920" cy="952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00" y="18334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北京故宫占地大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公顷，比天安门广场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倍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公顷。天安门广场大约占地多少公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37782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天安门广场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×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－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＝北京故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39640" y="8002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先写数量关系式，再列方程解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520560"/>
            <a:ext cx="4032360" cy="2791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284720" y="596880"/>
            <a:ext cx="48592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界上最小的鸟是蜂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大的鸟是鸵鸟。一个鸵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.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，比一只蜂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长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还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。这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蜂鸟体长多少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3640" y="4292640"/>
            <a:ext cx="41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.  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 = 17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51664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.  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χ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= 17.8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3640" y="4869000"/>
            <a:ext cx="43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.  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 = 17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3573360"/>
            <a:ext cx="78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这只蜂鸟体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列方程为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24720" y="3573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92720" y="2781360"/>
            <a:ext cx="1871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042920" y="20257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2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比一个数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倍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5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求这个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26920" y="801720"/>
            <a:ext cx="28846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列方程解答：</a:t>
            </a:r>
            <a:endParaRPr b="0" i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200" y="730080"/>
            <a:ext cx="50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方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84480" y="91908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X – 10 =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5200" y="31510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2X  = 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560" y="14954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49560" y="15667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X – 10</a:t>
            </a:r>
            <a:r>
              <a:rPr b="1" lang="en-US" sz="3600" spc="-1" strike="noStrike">
                <a:solidFill>
                  <a:srgbClr val="ff3300"/>
                </a:solidFill>
                <a:latin typeface="Arial Black"/>
                <a:ea typeface="黑体"/>
              </a:rPr>
              <a:t>+10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 =30 </a:t>
            </a:r>
            <a:r>
              <a:rPr b="1" lang="en-US" sz="3600" spc="-1" strike="noStrike">
                <a:solidFill>
                  <a:srgbClr val="ff3300"/>
                </a:solidFill>
                <a:latin typeface="Arial Black"/>
                <a:ea typeface="黑体"/>
              </a:rPr>
              <a:t>+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37200" y="221472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X =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84480" y="3798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2X</a:t>
            </a:r>
            <a:r>
              <a:rPr b="1" lang="en-US" sz="3600" spc="-1" strike="noStrike">
                <a:solidFill>
                  <a:srgbClr val="ff3300"/>
                </a:solidFill>
                <a:latin typeface="Arial Black"/>
                <a:ea typeface="宋体"/>
              </a:rPr>
              <a:t>÷2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  =  40</a:t>
            </a:r>
            <a:r>
              <a:rPr b="1" lang="en-US" sz="3600" spc="-1" strike="noStrike">
                <a:solidFill>
                  <a:srgbClr val="ff3300"/>
                </a:solidFill>
                <a:latin typeface="Arial Black"/>
                <a:ea typeface="宋体"/>
              </a:rPr>
              <a:t>÷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28840" y="37274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840" y="43750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X  = 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41560" y="5454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  <a:ea typeface="黑体"/>
              </a:rPr>
              <a:t>2X </a:t>
            </a:r>
            <a:r>
              <a:rPr b="1" lang="en-US" sz="3600" spc="-1" strike="noStrike">
                <a:solidFill>
                  <a:srgbClr val="0000ff"/>
                </a:solidFill>
                <a:latin typeface="Arial Black"/>
                <a:ea typeface="宋体"/>
              </a:rPr>
              <a:t>– 10</a:t>
            </a:r>
            <a:r>
              <a:rPr b="0" lang="en-US" sz="3600" spc="-1" strike="noStrike">
                <a:solidFill>
                  <a:srgbClr val="0000ff"/>
                </a:solidFill>
                <a:latin typeface="Arial Black"/>
                <a:ea typeface="宋体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 Black"/>
                <a:ea typeface="黑体"/>
              </a:rPr>
              <a:t>= 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13200" y="1495440"/>
            <a:ext cx="2879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17920" y="3727440"/>
            <a:ext cx="2879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55640" y="47628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的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1557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角形的面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0.3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平方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19640" y="2781360"/>
            <a:ext cx="3097080" cy="1828800"/>
          </a:xfrm>
          <a:prstGeom prst="rtTriangle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40360" y="47545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24000" y="351936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52280" y="693720"/>
            <a:ext cx="2340000" cy="860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09480" y="17604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1)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张村果园有梨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棵，比桃树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倍还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棵。桃树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少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43692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张村果园有桃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棵，桔子树比桃树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倍还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棵。            桃树有多少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79640" y="22017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  <a:ea typeface="黑体"/>
              </a:rPr>
              <a:t>2X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宋体"/>
              </a:rPr>
              <a:t>– 10+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宋体"/>
              </a:rPr>
              <a:t> 10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=  40+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1640" y="29941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  <a:ea typeface="黑体"/>
              </a:rPr>
              <a:t>2X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 = 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87640" y="12654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  <a:ea typeface="黑体"/>
              </a:rPr>
              <a:t>2X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宋体"/>
              </a:rPr>
              <a:t>– 10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= 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8414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39304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Arial Black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  =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1193760"/>
            <a:ext cx="1008000" cy="72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8000" y="2130480"/>
            <a:ext cx="1008360" cy="72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2922480"/>
            <a:ext cx="1008000" cy="72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590920" cy="952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43280" y="227808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205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χ +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3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28544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32000" y="2997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χ+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3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  <a:ea typeface="宋体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=30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  <a:ea typeface="宋体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36464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χ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=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4221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χ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1600" y="98748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方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41600" y="20667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4X + 20 = 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25600" y="408312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5X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宋体"/>
              </a:rPr>
              <a:t>– 8.3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=  10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97000" y="682560"/>
            <a:ext cx="4842000" cy="5032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740720" y="981000"/>
            <a:ext cx="863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大雁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1763640" y="333360"/>
            <a:ext cx="5619960" cy="5832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96360" y="1916280"/>
            <a:ext cx="86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雁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16000" y="905040"/>
            <a:ext cx="3257640" cy="3385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195640" y="43610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大  雁  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>
            <a:lum contrast="-24000"/>
          </a:blip>
          <a:stretch/>
        </p:blipFill>
        <p:spPr>
          <a:xfrm>
            <a:off x="5292720" y="1841400"/>
            <a:ext cx="2359080" cy="244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796000" y="43610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小  雁  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49370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雁塔高度比小雁塔高度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1487520"/>
            <a:ext cx="3257280" cy="3386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03280" y="49435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大雁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lum contrast="-24000"/>
          </a:blip>
          <a:stretch/>
        </p:blipFill>
        <p:spPr>
          <a:xfrm>
            <a:off x="3780000" y="2424240"/>
            <a:ext cx="2358720" cy="2447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427640" y="4871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小雁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83988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安大雁塔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比小雁塔高度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5280" y="695160"/>
            <a:ext cx="826920" cy="67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372360" y="2855880"/>
            <a:ext cx="1657080" cy="1441440"/>
          </a:xfrm>
          <a:prstGeom prst="wedgeEllipseCallout">
            <a:avLst>
              <a:gd name="adj1" fmla="val 45879"/>
              <a:gd name="adj2" fmla="val 56717"/>
            </a:avLst>
          </a:prstGeom>
          <a:solidFill>
            <a:srgbClr val="ffcc66">
              <a:alpha val="89000"/>
            </a:srgbClr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956720" y="3863880"/>
            <a:ext cx="842760" cy="100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516720" y="31431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雁塔高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1343160"/>
            <a:ext cx="4105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5516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小雁塔的高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×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－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＝大雁塔的高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4T13:59:01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