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4797-B991-4B4C-B04E-CAC2682DD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BC82-DB33-4F3A-94E9-13183E4C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4C35-39BC-4BC9-8AFE-1B80DB458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32FB-D534-47B4-B95D-7A122EBEC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2DBF-3C36-488A-99CF-E7C15AC5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3C28-4FF9-4328-B026-36C37B92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846F-BA89-4847-B2DB-A2264D66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9056-7540-402B-BA6C-F589FAB7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F578-C6F7-42A6-82C6-905B6044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FB34-CC08-4AA5-B31C-04BB104F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A210-290A-4DD0-A95A-A6569D48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BCCD-45D3-4212-A587-CAB71BB2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D71D-64F3-4E8B-84E2-BC39B810E4B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92572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列方程解决实际问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33960" y="1295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五年级数学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8388360" cy="85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未标题-1"/>
          <p:cNvPicPr/>
          <p:nvPr/>
        </p:nvPicPr>
        <p:blipFill>
          <a:blip r:embed="rId2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76720" y="2819520"/>
            <a:ext cx="1744560" cy="601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895480" y="762120"/>
            <a:ext cx="2376720" cy="5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981000"/>
            <a:ext cx="5689440" cy="3498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11280" y="227664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36000" y="228276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092560" cy="509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476360" y="2708280"/>
            <a:ext cx="5481720" cy="654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55640" y="4365720"/>
            <a:ext cx="752652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58920" y="692280"/>
            <a:ext cx="705816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44192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28600" y="1143000"/>
            <a:ext cx="856944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2803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802800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5T07:50:04Z</dcterms:created>
  <dc:creator>Administrator</dc:creator>
  <dc:description/>
  <dc:language>en-US</dc:language>
  <cp:lastModifiedBy>微软用户</cp:lastModifiedBy>
  <dcterms:modified xsi:type="dcterms:W3CDTF">2016-03-04T12:30:59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