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DB63-4281-4783-B463-A43218A9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97A-127E-435E-9B74-8085E98C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D8D-A3D6-482F-A9C7-031A73BDF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97E-E5DB-4A50-BA41-CC0CBDB5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1BF0-BEC4-49CD-9EE2-C7262154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9F4C-8466-45D0-9AD8-46AE4B19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7C8E-E7A2-4CC4-814B-4501D243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B42D-3CF2-49A1-9E1E-463FF0AB5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2DF5-DBB7-4104-AE87-48B0A87C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45A0-0B44-4798-8616-B0426A2A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A04AD-8F61-4602-8003-6E18F65E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7A39-0C72-45A8-AB8E-7E25C4E0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82FC-73B1-43E8-965E-75B33764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1517-9EAD-46DB-A191-A2DD1F60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C22B-EADB-4A29-A4CC-8E6968C5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4568-1BF1-4E8E-AE33-A9B40098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0390-5FE3-4DCC-ADC6-95895FF6E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3C63-FE46-457B-A6E9-0959616F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A891-8393-4566-B877-CEDF1995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1D64-9365-4F12-9C0F-3BE11408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5BD2-AA16-4482-8498-2C781AEA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F355-8D92-4587-9FBA-1308A8EA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FE6A-5737-4297-910F-07496BE1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8C18-51D7-47F8-BE78-1F6A978B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BAA2-92AD-4BA7-8766-E3DAAC47E3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未知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未知"/>
            <p:cNvSpPr/>
            <p:nvPr/>
          </p:nvSpPr>
          <p:spPr>
            <a:xfrm>
              <a:off x="280800" y="281160"/>
              <a:ext cx="3571920" cy="16146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752400" y="546120"/>
              <a:ext cx="2361960" cy="14590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未知"/>
              <p:cNvSpPr/>
              <p:nvPr/>
            </p:nvSpPr>
            <p:spPr>
              <a:xfrm>
                <a:off x="3182760" y="1482840"/>
                <a:ext cx="336600" cy="33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514080" y="250920"/>
                <a:ext cx="2676600" cy="9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64908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134280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5800" y="4318200"/>
            <a:ext cx="980280" cy="1159920"/>
            <a:chOff x="7795800" y="4318200"/>
            <a:chExt cx="980280" cy="1159920"/>
          </a:xfrm>
        </p:grpSpPr>
        <p:sp>
          <p:nvSpPr>
            <p:cNvPr id="99" name="未知"/>
            <p:cNvSpPr/>
            <p:nvPr/>
          </p:nvSpPr>
          <p:spPr>
            <a:xfrm rot="7320000">
              <a:off x="7791480" y="4658760"/>
              <a:ext cx="998640" cy="4662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 rot="7320000">
              <a:off x="7768800" y="4637160"/>
              <a:ext cx="995400" cy="46152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 rot="7320000">
              <a:off x="7934760" y="4621320"/>
              <a:ext cx="660600" cy="421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5800" y="4318200"/>
              <a:ext cx="980280" cy="1159920"/>
              <a:chOff x="7795800" y="4318200"/>
              <a:chExt cx="980280" cy="1159920"/>
            </a:xfrm>
          </p:grpSpPr>
          <p:sp>
            <p:nvSpPr>
              <p:cNvPr id="103" name="未知"/>
              <p:cNvSpPr/>
              <p:nvPr/>
            </p:nvSpPr>
            <p:spPr>
              <a:xfrm rot="7320000">
                <a:off x="7916400" y="506232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 rot="7320000">
                <a:off x="7756560" y="4650840"/>
                <a:ext cx="1058760" cy="49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 rot="7320000">
                <a:off x="8035920" y="4757760"/>
                <a:ext cx="749160" cy="27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 rot="7320000">
                <a:off x="8513640" y="455976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 rot="7320000">
                <a:off x="8152200" y="4759920"/>
                <a:ext cx="306360" cy="16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未知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未知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EC3A-F8AE-4D2E-928C-D304D785FCC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heritage.news.tom.com/Archive/2000/9/20-95404.htm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thermalpower.blogchina.com/thermalpower/4243265.html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列方程解决实际问题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525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西安大雁塔高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64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米，比小雁塔高度的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倍少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米。小雁塔高多少米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练一练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杭州湾大桥在建 成后将成为世界上最长的跨海大桥，全长大约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千米，比香港青马大桥的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倍还多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0.8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千米。香港青马大桥全长大约多少千米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只列方程，不解答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红花有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240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朵，比黄花的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倍还多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朵，黄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花有多少朵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长方形长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厘米，比宽的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倍少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厘米，长方    形宽多少厘米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南京地铁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号线地下部分大约长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4.3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千米，比地上部分的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倍少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0.7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千米，地上部分大约长多少千米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）火车每小时行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95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千米，比汽车每小时行的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倍多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千米，汽车每小时行多少千米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猎豹是世界上跑得最快的动物，时速能达到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1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千米，比猫最快时速的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倍还多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千米，猫的最快时速是多少千米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4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 北京故宫占地大约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7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公顷，比天安门广场地倍少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公顷。天安门广场大约占地多少公顷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5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、世界上最小的鸟是蜂鸟，最大的鸟是鸵鸟。一个鸵鸟蛋长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7.8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厘米，比一只蜂鸟体长的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倍还多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厘米。这只蜂鸟体长多少厘米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思考题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五年级有甲乙两个班，甲班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56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人，乙班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人，从甲班调几人去乙班，可以使乙班人数比甲班的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倍少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人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解方程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+20=56        5</a:t>
            </a:r>
            <a:r>
              <a:rPr b="0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-8.3=10.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在括号里填上含有字母的式子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张村果园有桃树</a:t>
            </a: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棵，梨树比桃树的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倍还多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棵，梨树有（          ）棵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）王叔叔在鱼池里放养鲫鱼</a:t>
            </a:r>
            <a:r>
              <a:rPr b="0" lang="zh-CN" sz="3200" spc="-1" strike="noStrike">
                <a:solidFill>
                  <a:srgbClr val="000000"/>
                </a:solidFill>
                <a:latin typeface="MingLiU"/>
                <a:ea typeface="MingLiU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尾，放养的鳊鱼比鲫鱼的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倍少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尾。放养鳊鱼（                  ）尾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415120" y="292428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x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+1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908000" y="443700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x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-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92360" y="3212640"/>
            <a:ext cx="5472000" cy="5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小雁塔                                     大雁塔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Picture 4" descr="dfs1_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404640"/>
            <a:ext cx="2087640" cy="28814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2457000" y="4437000"/>
            <a:ext cx="48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西安大雁塔高</a:t>
            </a: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64</a:t>
            </a: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米，比小雁塔高度的</a:t>
            </a: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倍少</a:t>
            </a: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22</a:t>
            </a: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米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小雁塔高多少米？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6" descr="C:\Users\dell\AppData\Roaming\Tencent\Users\712326765\QQ\WinTemp\RichOle\0YT{5TY$07GLV8BYUIO5_47.png"/>
          <p:cNvPicPr/>
          <p:nvPr/>
        </p:nvPicPr>
        <p:blipFill>
          <a:blip r:embed="rId3"/>
          <a:stretch/>
        </p:blipFill>
        <p:spPr>
          <a:xfrm>
            <a:off x="4929120" y="214200"/>
            <a:ext cx="2648160" cy="3191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2457000" y="4437000"/>
            <a:ext cx="48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西安大雁塔高</a:t>
            </a: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64</a:t>
            </a: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米，比小雁塔高度的</a:t>
            </a: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倍少</a:t>
            </a: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22</a:t>
            </a: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米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小雁塔高多少米？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Line 3"/>
          <p:cNvSpPr/>
          <p:nvPr/>
        </p:nvSpPr>
        <p:spPr>
          <a:xfrm>
            <a:off x="2625840" y="4869000"/>
            <a:ext cx="51861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4" descr="未命名"/>
          <p:cNvPicPr/>
          <p:nvPr/>
        </p:nvPicPr>
        <p:blipFill>
          <a:blip r:embed="rId1"/>
          <a:stretch/>
        </p:blipFill>
        <p:spPr>
          <a:xfrm>
            <a:off x="2700360" y="692280"/>
            <a:ext cx="4019400" cy="2698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%C7%C5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7120" y="214200"/>
            <a:ext cx="3571920" cy="25592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539640" y="2492280"/>
            <a:ext cx="7696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练一练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杭州湾大桥在建成后将成为世界上最长的跨海大桥，全长大约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，比香港青马大桥的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倍还多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。香港青马大桥全长大约多少千米？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5208480" y="213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隶书"/>
              </a:rPr>
              <a:t>香港青马大桥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6" descr="C:\Users\dell\AppData\Roaming\Tencent\Users\712326765\QQ\WinTemp\RichOle\~(PNH77`]Z442TZ`7%AAA{O.png"/>
          <p:cNvPicPr/>
          <p:nvPr/>
        </p:nvPicPr>
        <p:blipFill>
          <a:blip r:embed="rId3"/>
          <a:stretch/>
        </p:blipFill>
        <p:spPr>
          <a:xfrm>
            <a:off x="4572000" y="500040"/>
            <a:ext cx="3133800" cy="1638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5280" y="-98280"/>
            <a:ext cx="8456760" cy="159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香港青马大桥长度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x16+0.8=</a:t>
            </a:r>
            <a:r>
              <a:rPr b="0" lang="zh-CN" sz="3600" spc="-1" strike="noStrike">
                <a:solidFill>
                  <a:srgbClr val="ff0000"/>
                </a:solidFill>
                <a:latin typeface="Comic Sans MS"/>
              </a:rPr>
              <a:t>杭州湾大桥长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解：设香港青马大桥全长约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千米。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+0.8=3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=36-0.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=35.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=2.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答：香港青马大桥全长约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2.2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4920" y="3068280"/>
            <a:ext cx="845964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香港青马大桥的长度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x16=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杭州湾大桥长度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-0.8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解：设香港青马大桥全长约</a:t>
            </a:r>
            <a:r>
              <a:rPr b="0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=36- 0.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573000"/>
            <a:ext cx="85327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杭州湾大桥长度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香港青马大桥长度</a:t>
            </a:r>
            <a:r>
              <a:rPr b="0" lang="zh-CN" sz="3200" spc="-1" strike="noStrike">
                <a:solidFill>
                  <a:srgbClr val="ff0000"/>
                </a:solidFill>
                <a:latin typeface="Comic Sans MS"/>
              </a:rPr>
              <a:t>x16=0.8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解：设香港青马大桥全长约</a:t>
            </a:r>
            <a:r>
              <a:rPr b="0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千米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36-16</a:t>
            </a:r>
            <a:r>
              <a:rPr b="0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X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=0.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6:04:46Z</dcterms:created>
  <dc:creator/>
  <dc:description/>
  <cp:keywords/>
  <dc:language>en-US</dc:language>
  <cp:lastModifiedBy>dell</cp:lastModifiedBy>
  <cp:lastPrinted>1899-12-30T00:00:00Z</cp:lastPrinted>
  <dcterms:modified xsi:type="dcterms:W3CDTF">2016-03-21T07:07:36Z</dcterms:modified>
  <cp:revision>34</cp:revision>
  <dc:subject/>
  <dc:title>列方程解决实际问题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