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8.png" ContentType="image/png"/>
  <Override PartName="/ppt/media/image3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81F-F74A-4D92-AFB7-B3D47D72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047-BC97-4110-BA9A-9077F43F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AB6-9155-4C00-A30B-FF7FFD8D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77A-5FBD-4876-B526-13DCD294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938-6781-4EB6-A188-D2040E58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DAB-2804-428B-BF8E-F146BD5C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4A2-99AC-478E-B6BB-069D8F14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DAF-3F54-4301-8741-3B470AE7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868-EB64-4CE3-86D2-13BDE4AF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7DC-D4DA-4B3E-B926-FC720095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11B-03DE-494E-88CF-36B198FA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A76-23A1-4030-9AC8-C7EE6080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E17A-F066-4D51-B667-B52010B996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9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2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2.png"/><Relationship Id="rId1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扇形的认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053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2987640" y="2060640"/>
            <a:ext cx="1292400" cy="1297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5076720" y="2060640"/>
            <a:ext cx="1292400" cy="1297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4"/>
          <a:stretch/>
        </p:blipFill>
        <p:spPr>
          <a:xfrm>
            <a:off x="6877080" y="2060640"/>
            <a:ext cx="1295280" cy="12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5"/>
          <a:stretch/>
        </p:blipFill>
        <p:spPr>
          <a:xfrm>
            <a:off x="900000" y="47242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6"/>
          <a:stretch/>
        </p:blipFill>
        <p:spPr>
          <a:xfrm>
            <a:off x="3059280" y="4724280"/>
            <a:ext cx="1225440" cy="1295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7"/>
          <a:stretch/>
        </p:blipFill>
        <p:spPr>
          <a:xfrm>
            <a:off x="5219640" y="4724280"/>
            <a:ext cx="1152720" cy="129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8"/>
          <a:stretch/>
        </p:blipFill>
        <p:spPr>
          <a:xfrm>
            <a:off x="7020000" y="4724280"/>
            <a:ext cx="1152360" cy="1295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0"/>
          <p:cNvSpPr/>
          <p:nvPr/>
        </p:nvSpPr>
        <p:spPr>
          <a:xfrm>
            <a:off x="1378080" y="3110040"/>
            <a:ext cx="159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78080" y="3110040"/>
            <a:ext cx="159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1378080" y="3110040"/>
            <a:ext cx="159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1378080" y="3110040"/>
            <a:ext cx="159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1378080" y="3110040"/>
            <a:ext cx="159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1378080" y="3110040"/>
            <a:ext cx="159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1378080" y="3110040"/>
            <a:ext cx="159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1403280" y="3141720"/>
            <a:ext cx="159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755640" y="765000"/>
            <a:ext cx="60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判断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幼圆"/>
                <a:ea typeface="幼圆"/>
              </a:rPr>
              <a:t>下面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图形</a:t>
            </a:r>
            <a:r>
              <a:rPr b="1" lang="zh-TW" sz="2400" spc="-1" strike="noStrike">
                <a:solidFill>
                  <a:srgbClr val="000000"/>
                </a:solidFill>
                <a:latin typeface="幼圆"/>
                <a:ea typeface="幼圆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涂色</a:t>
            </a:r>
            <a:r>
              <a:rPr b="1" lang="zh-TW" sz="2400" spc="-1" strike="noStrike">
                <a:solidFill>
                  <a:srgbClr val="000000"/>
                </a:solidFill>
                <a:latin typeface="幼圆"/>
                <a:ea typeface="幼圆"/>
              </a:rPr>
              <a:t>的部分，哪些是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扇形</a:t>
            </a:r>
            <a:r>
              <a:rPr b="1" lang="zh-TW" sz="2400" spc="-1" strike="noStrike">
                <a:solidFill>
                  <a:srgbClr val="000000"/>
                </a:solidFill>
                <a:latin typeface="幼圆"/>
                <a:ea typeface="幼圆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1258920" y="3645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3348000" y="3645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508720" y="3716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738036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1332000" y="6237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3492360" y="61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580000" y="61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7380360" y="61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909080" y="9068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幼圆"/>
              </a:rPr>
              <a:t>下面扇形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圆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幼圆"/>
              </a:rPr>
              <a:t>心角各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少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幼圆"/>
              </a:rPr>
              <a:t>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2087640" cy="1368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1655640" cy="144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3"/>
          <a:srcRect l="4501" t="3265" r="9079" b="1632"/>
          <a:stretch/>
        </p:blipFill>
        <p:spPr>
          <a:xfrm>
            <a:off x="6732720" y="2421000"/>
            <a:ext cx="1403280" cy="1439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2360520" y="273384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1187280" y="4075200"/>
                <a:ext cx="3351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7164360" y="4221000"/>
                <a:ext cx="281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Text Box 9"/>
          <p:cNvSpPr/>
          <p:nvPr/>
        </p:nvSpPr>
        <p:spPr>
          <a:xfrm>
            <a:off x="1547640" y="4292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4211640" y="4075200"/>
                <a:ext cx="3636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Text Box 11"/>
          <p:cNvSpPr/>
          <p:nvPr/>
        </p:nvSpPr>
        <p:spPr>
          <a:xfrm>
            <a:off x="7451640" y="4437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4500720" y="4292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860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172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304920" y="3200400"/>
            <a:ext cx="3181320" cy="3181320"/>
          </a:xfrm>
          <a:prstGeom prst="rect">
            <a:avLst/>
          </a:prstGeom>
          <a:ln w="0">
            <a:noFill/>
          </a:ln>
        </p:spPr>
      </p:pic>
      <p:sp>
        <p:nvSpPr>
          <p:cNvPr id="157" name="Line 5"/>
          <p:cNvSpPr/>
          <p:nvPr/>
        </p:nvSpPr>
        <p:spPr>
          <a:xfrm>
            <a:off x="3581280" y="2590920"/>
            <a:ext cx="7632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4"/>
          <a:stretch/>
        </p:blipFill>
        <p:spPr>
          <a:xfrm>
            <a:off x="4114800" y="2895480"/>
            <a:ext cx="452448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736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860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3"/>
          <a:stretch/>
        </p:blipFill>
        <p:spPr>
          <a:xfrm>
            <a:off x="3352680" y="259092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5335920" y="3505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650120" y="4267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581280" y="4038480"/>
            <a:ext cx="4295880" cy="1933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7399440" cy="695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2333520" cy="1895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2048040" cy="19335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4959360" y="54100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无数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36576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1219320"/>
            <a:ext cx="8991720" cy="2751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631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6629400" cy="2913120"/>
          </a:xfrm>
          <a:prstGeom prst="rect">
            <a:avLst/>
          </a:prstGeom>
          <a:ln w="0">
            <a:noFill/>
          </a:ln>
        </p:spPr>
      </p:pic>
      <p:sp>
        <p:nvSpPr>
          <p:cNvPr id="174" name="Line 5"/>
          <p:cNvSpPr/>
          <p:nvPr/>
        </p:nvSpPr>
        <p:spPr>
          <a:xfrm>
            <a:off x="1371600" y="2362320"/>
            <a:ext cx="14479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V="1">
            <a:off x="1447920" y="2361960"/>
            <a:ext cx="1371600" cy="14475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205740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98324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28780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4800600" y="2057400"/>
            <a:ext cx="2057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1"/>
          <p:cNvSpPr/>
          <p:nvPr/>
        </p:nvSpPr>
        <p:spPr>
          <a:xfrm flipV="1">
            <a:off x="4800600" y="2057040"/>
            <a:ext cx="2057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571680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4"/>
          <p:cNvSpPr/>
          <p:nvPr/>
        </p:nvSpPr>
        <p:spPr>
          <a:xfrm>
            <a:off x="5791320" y="30481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602172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1" descr=""/>
          <p:cNvPicPr/>
          <p:nvPr/>
        </p:nvPicPr>
        <p:blipFill>
          <a:blip r:embed="rId3"/>
          <a:stretch/>
        </p:blipFill>
        <p:spPr>
          <a:xfrm rot="15900000">
            <a:off x="5948280" y="2738160"/>
            <a:ext cx="8859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029280" cy="1438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5419800" y="1447920"/>
            <a:ext cx="3724200" cy="3190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2097"/>
          <p:cNvPicPr/>
          <p:nvPr/>
        </p:nvPicPr>
        <p:blipFill>
          <a:blip r:embed="rId3"/>
          <a:stretch/>
        </p:blipFill>
        <p:spPr>
          <a:xfrm>
            <a:off x="0" y="4800600"/>
            <a:ext cx="1100160" cy="13050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914400" y="1219320"/>
            <a:ext cx="4495680" cy="2286000"/>
          </a:xfrm>
          <a:prstGeom prst="wedgeEllipseCallout">
            <a:avLst>
              <a:gd name="adj1" fmla="val -53601"/>
              <a:gd name="adj2" fmla="val 1042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966680" y="1447920"/>
            <a:ext cx="233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车轮做成圆形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是根据圆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几何性质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同圆的半径相等．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车轮在平地上滚动时，轮轴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终处于同一高度的平面上，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坐的人就不会有上下颠簸的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觉，很舒服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4"/>
          <a:stretch/>
        </p:blipFill>
        <p:spPr>
          <a:xfrm>
            <a:off x="2092320" y="4648320"/>
            <a:ext cx="1432080" cy="220968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9"/>
          <p:cNvSpPr/>
          <p:nvPr/>
        </p:nvSpPr>
        <p:spPr>
          <a:xfrm flipV="1" rot="10575600">
            <a:off x="5333760" y="5365440"/>
            <a:ext cx="3429000" cy="1295640"/>
          </a:xfrm>
          <a:prstGeom prst="wedgeRoundRectCallout">
            <a:avLst>
              <a:gd name="adj1" fmla="val 107986"/>
              <a:gd name="adj2" fmla="val -1235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792480" y="57913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车轮应装在圆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457200" y="685800"/>
            <a:ext cx="2447640" cy="2303280"/>
            <a:chOff x="457200" y="685800"/>
            <a:chExt cx="2447640" cy="2303280"/>
          </a:xfrm>
        </p:grpSpPr>
        <p:sp>
          <p:nvSpPr>
            <p:cNvPr id="194" name="Rectangle 3"/>
            <p:cNvSpPr/>
            <p:nvPr/>
          </p:nvSpPr>
          <p:spPr>
            <a:xfrm rot="16200000">
              <a:off x="529200" y="613440"/>
              <a:ext cx="2303280" cy="24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4"/>
            <p:cNvSpPr/>
            <p:nvPr/>
          </p:nvSpPr>
          <p:spPr>
            <a:xfrm rot="16200000">
              <a:off x="1565640" y="1715400"/>
              <a:ext cx="230400" cy="244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5"/>
          <p:cNvGrpSpPr/>
          <p:nvPr/>
        </p:nvGrpSpPr>
        <p:grpSpPr>
          <a:xfrm>
            <a:off x="5629680" y="295560"/>
            <a:ext cx="2969640" cy="2825640"/>
            <a:chOff x="5629680" y="295560"/>
            <a:chExt cx="2969640" cy="2825640"/>
          </a:xfrm>
        </p:grpSpPr>
        <p:sp>
          <p:nvSpPr>
            <p:cNvPr id="197" name="Oval 6"/>
            <p:cNvSpPr/>
            <p:nvPr/>
          </p:nvSpPr>
          <p:spPr>
            <a:xfrm rot="10777200">
              <a:off x="5639040" y="305280"/>
              <a:ext cx="2950920" cy="2806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 rot="10777200">
              <a:off x="7016040" y="1614600"/>
              <a:ext cx="196560" cy="1868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8"/>
            <p:cNvSpPr/>
            <p:nvPr/>
          </p:nvSpPr>
          <p:spPr>
            <a:xfrm flipH="1" flipV="1">
              <a:off x="7105320" y="305280"/>
              <a:ext cx="18720" cy="28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9"/>
          <p:cNvSpPr/>
          <p:nvPr/>
        </p:nvSpPr>
        <p:spPr>
          <a:xfrm>
            <a:off x="3429000" y="32767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小熊的车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533520" y="320040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长颈鹿的车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3495960" y="375120"/>
            <a:ext cx="1694880" cy="2817720"/>
            <a:chOff x="3495960" y="375120"/>
            <a:chExt cx="1694880" cy="2817720"/>
          </a:xfrm>
        </p:grpSpPr>
        <p:sp>
          <p:nvSpPr>
            <p:cNvPr id="203" name="Oval 12"/>
            <p:cNvSpPr/>
            <p:nvPr/>
          </p:nvSpPr>
          <p:spPr>
            <a:xfrm rot="10777200">
              <a:off x="3505320" y="380520"/>
              <a:ext cx="1676160" cy="2806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3"/>
            <p:cNvSpPr/>
            <p:nvPr/>
          </p:nvSpPr>
          <p:spPr>
            <a:xfrm rot="10777200">
              <a:off x="4287600" y="1690560"/>
              <a:ext cx="111600" cy="1868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4"/>
            <p:cNvSpPr/>
            <p:nvPr/>
          </p:nvSpPr>
          <p:spPr>
            <a:xfrm flipH="1" flipV="1">
              <a:off x="4334040" y="380880"/>
              <a:ext cx="18720" cy="28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15"/>
          <p:cNvSpPr/>
          <p:nvPr/>
        </p:nvSpPr>
        <p:spPr>
          <a:xfrm>
            <a:off x="6384960" y="3292560"/>
            <a:ext cx="18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小猴的车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7620120" y="2971800"/>
            <a:ext cx="1523880" cy="1523880"/>
            <a:chOff x="7620120" y="2971800"/>
            <a:chExt cx="1523880" cy="1523880"/>
          </a:xfrm>
        </p:grpSpPr>
        <p:sp>
          <p:nvSpPr>
            <p:cNvPr id="208" name="Rectangle 3"/>
            <p:cNvSpPr/>
            <p:nvPr/>
          </p:nvSpPr>
          <p:spPr>
            <a:xfrm>
              <a:off x="7620120" y="2971800"/>
              <a:ext cx="152388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"/>
            <p:cNvSpPr/>
            <p:nvPr/>
          </p:nvSpPr>
          <p:spPr>
            <a:xfrm>
              <a:off x="8305560" y="36572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5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7092000" y="2672640"/>
            <a:ext cx="1818000" cy="1817640"/>
            <a:chOff x="7092000" y="2672640"/>
            <a:chExt cx="1818000" cy="1817640"/>
          </a:xfrm>
        </p:grpSpPr>
        <p:sp>
          <p:nvSpPr>
            <p:cNvPr id="212" name="Rectangle 7"/>
            <p:cNvSpPr/>
            <p:nvPr/>
          </p:nvSpPr>
          <p:spPr>
            <a:xfrm rot="20850000">
              <a:off x="7238520" y="2819160"/>
              <a:ext cx="152424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8"/>
            <p:cNvSpPr/>
            <p:nvPr/>
          </p:nvSpPr>
          <p:spPr>
            <a:xfrm rot="20850000">
              <a:off x="7924320" y="35049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9"/>
          <p:cNvGrpSpPr/>
          <p:nvPr/>
        </p:nvGrpSpPr>
        <p:grpSpPr>
          <a:xfrm>
            <a:off x="6472080" y="2509560"/>
            <a:ext cx="1991160" cy="1991160"/>
            <a:chOff x="6472080" y="2509560"/>
            <a:chExt cx="1991160" cy="1991160"/>
          </a:xfrm>
        </p:grpSpPr>
        <p:sp>
          <p:nvSpPr>
            <p:cNvPr id="215" name="Rectangle 10"/>
            <p:cNvSpPr/>
            <p:nvPr/>
          </p:nvSpPr>
          <p:spPr>
            <a:xfrm rot="20248800">
              <a:off x="6705720" y="2742840"/>
              <a:ext cx="152388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1"/>
            <p:cNvSpPr/>
            <p:nvPr/>
          </p:nvSpPr>
          <p:spPr>
            <a:xfrm rot="20248800">
              <a:off x="7390800" y="342828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5780880" y="2351880"/>
            <a:ext cx="2154240" cy="2154240"/>
            <a:chOff x="5780880" y="2351880"/>
            <a:chExt cx="2154240" cy="2154240"/>
          </a:xfrm>
        </p:grpSpPr>
        <p:sp>
          <p:nvSpPr>
            <p:cNvPr id="218" name="Rectangle 13"/>
            <p:cNvSpPr/>
            <p:nvPr/>
          </p:nvSpPr>
          <p:spPr>
            <a:xfrm rot="19026600">
              <a:off x="6095520" y="2666880"/>
              <a:ext cx="1524240" cy="1524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4"/>
            <p:cNvSpPr/>
            <p:nvPr/>
          </p:nvSpPr>
          <p:spPr>
            <a:xfrm rot="19026600">
              <a:off x="6781320" y="33526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5"/>
          <p:cNvGrpSpPr/>
          <p:nvPr/>
        </p:nvGrpSpPr>
        <p:grpSpPr>
          <a:xfrm>
            <a:off x="5049360" y="2382480"/>
            <a:ext cx="2093040" cy="2093400"/>
            <a:chOff x="5049360" y="2382480"/>
            <a:chExt cx="2093040" cy="2093400"/>
          </a:xfrm>
        </p:grpSpPr>
        <p:sp>
          <p:nvSpPr>
            <p:cNvPr id="221" name="Rectangle 16"/>
            <p:cNvSpPr/>
            <p:nvPr/>
          </p:nvSpPr>
          <p:spPr>
            <a:xfrm rot="18072000">
              <a:off x="5333760" y="2667240"/>
              <a:ext cx="152424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7"/>
            <p:cNvSpPr/>
            <p:nvPr/>
          </p:nvSpPr>
          <p:spPr>
            <a:xfrm rot="18072000">
              <a:off x="6019200" y="3352680"/>
              <a:ext cx="15264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8"/>
          <p:cNvGrpSpPr/>
          <p:nvPr/>
        </p:nvGrpSpPr>
        <p:grpSpPr>
          <a:xfrm>
            <a:off x="4499280" y="2670120"/>
            <a:ext cx="1822320" cy="1822320"/>
            <a:chOff x="4499280" y="2670120"/>
            <a:chExt cx="1822320" cy="1822320"/>
          </a:xfrm>
        </p:grpSpPr>
        <p:sp>
          <p:nvSpPr>
            <p:cNvPr id="224" name="Rectangle 19"/>
            <p:cNvSpPr/>
            <p:nvPr/>
          </p:nvSpPr>
          <p:spPr>
            <a:xfrm rot="16963800">
              <a:off x="4648320" y="2819160"/>
              <a:ext cx="152388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0"/>
            <p:cNvSpPr/>
            <p:nvPr/>
          </p:nvSpPr>
          <p:spPr>
            <a:xfrm rot="16963800">
              <a:off x="5333400" y="35049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1"/>
          <p:cNvGrpSpPr/>
          <p:nvPr/>
        </p:nvGrpSpPr>
        <p:grpSpPr>
          <a:xfrm>
            <a:off x="4114800" y="2971800"/>
            <a:ext cx="1523880" cy="1523880"/>
            <a:chOff x="4114800" y="2971800"/>
            <a:chExt cx="1523880" cy="1523880"/>
          </a:xfrm>
        </p:grpSpPr>
        <p:sp>
          <p:nvSpPr>
            <p:cNvPr id="227" name="Rectangle 22"/>
            <p:cNvSpPr/>
            <p:nvPr/>
          </p:nvSpPr>
          <p:spPr>
            <a:xfrm>
              <a:off x="4114800" y="2971800"/>
              <a:ext cx="152388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23"/>
            <p:cNvSpPr/>
            <p:nvPr/>
          </p:nvSpPr>
          <p:spPr>
            <a:xfrm>
              <a:off x="4800240" y="36572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4"/>
          <p:cNvGrpSpPr/>
          <p:nvPr/>
        </p:nvGrpSpPr>
        <p:grpSpPr>
          <a:xfrm>
            <a:off x="3570120" y="2655720"/>
            <a:ext cx="1851840" cy="1851840"/>
            <a:chOff x="3570120" y="2655720"/>
            <a:chExt cx="1851840" cy="1851840"/>
          </a:xfrm>
        </p:grpSpPr>
        <p:sp>
          <p:nvSpPr>
            <p:cNvPr id="230" name="Rectangle 25"/>
            <p:cNvSpPr/>
            <p:nvPr/>
          </p:nvSpPr>
          <p:spPr>
            <a:xfrm rot="20745600">
              <a:off x="3733920" y="2819520"/>
              <a:ext cx="152388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6"/>
            <p:cNvSpPr/>
            <p:nvPr/>
          </p:nvSpPr>
          <p:spPr>
            <a:xfrm rot="20745600">
              <a:off x="4419000" y="35049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27"/>
          <p:cNvGrpSpPr/>
          <p:nvPr/>
        </p:nvGrpSpPr>
        <p:grpSpPr>
          <a:xfrm>
            <a:off x="2955240" y="2497680"/>
            <a:ext cx="2014200" cy="2014200"/>
            <a:chOff x="2955240" y="2497680"/>
            <a:chExt cx="2014200" cy="2014200"/>
          </a:xfrm>
        </p:grpSpPr>
        <p:sp>
          <p:nvSpPr>
            <p:cNvPr id="233" name="Rectangle 28"/>
            <p:cNvSpPr/>
            <p:nvPr/>
          </p:nvSpPr>
          <p:spPr>
            <a:xfrm rot="20150400">
              <a:off x="3200040" y="2742840"/>
              <a:ext cx="152388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9"/>
            <p:cNvSpPr/>
            <p:nvPr/>
          </p:nvSpPr>
          <p:spPr>
            <a:xfrm rot="20150400">
              <a:off x="3885840" y="342828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0"/>
          <p:cNvGrpSpPr/>
          <p:nvPr/>
        </p:nvGrpSpPr>
        <p:grpSpPr>
          <a:xfrm>
            <a:off x="2275920" y="2351880"/>
            <a:ext cx="2153880" cy="2153880"/>
            <a:chOff x="2275920" y="2351880"/>
            <a:chExt cx="2153880" cy="2153880"/>
          </a:xfrm>
        </p:grpSpPr>
        <p:sp>
          <p:nvSpPr>
            <p:cNvPr id="236" name="Rectangle 31"/>
            <p:cNvSpPr/>
            <p:nvPr/>
          </p:nvSpPr>
          <p:spPr>
            <a:xfrm rot="19026600">
              <a:off x="2590560" y="2666520"/>
              <a:ext cx="1523880" cy="1524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32"/>
            <p:cNvSpPr/>
            <p:nvPr/>
          </p:nvSpPr>
          <p:spPr>
            <a:xfrm rot="19026600">
              <a:off x="3276000" y="335268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33"/>
          <p:cNvGrpSpPr/>
          <p:nvPr/>
        </p:nvGrpSpPr>
        <p:grpSpPr>
          <a:xfrm>
            <a:off x="1544040" y="2382480"/>
            <a:ext cx="2093040" cy="2093400"/>
            <a:chOff x="1544040" y="2382480"/>
            <a:chExt cx="2093040" cy="2093400"/>
          </a:xfrm>
        </p:grpSpPr>
        <p:sp>
          <p:nvSpPr>
            <p:cNvPr id="239" name="Rectangle 34"/>
            <p:cNvSpPr/>
            <p:nvPr/>
          </p:nvSpPr>
          <p:spPr>
            <a:xfrm rot="18072000">
              <a:off x="1828440" y="2667240"/>
              <a:ext cx="152424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35"/>
            <p:cNvSpPr/>
            <p:nvPr/>
          </p:nvSpPr>
          <p:spPr>
            <a:xfrm rot="18072000">
              <a:off x="2513880" y="3352680"/>
              <a:ext cx="15264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993960" y="2670120"/>
            <a:ext cx="1822320" cy="1822320"/>
            <a:chOff x="993960" y="2670120"/>
            <a:chExt cx="1822320" cy="1822320"/>
          </a:xfrm>
        </p:grpSpPr>
        <p:sp>
          <p:nvSpPr>
            <p:cNvPr id="242" name="Rectangle 37"/>
            <p:cNvSpPr/>
            <p:nvPr/>
          </p:nvSpPr>
          <p:spPr>
            <a:xfrm rot="16963800">
              <a:off x="1143000" y="2819160"/>
              <a:ext cx="152388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8"/>
            <p:cNvSpPr/>
            <p:nvPr/>
          </p:nvSpPr>
          <p:spPr>
            <a:xfrm rot="16963800">
              <a:off x="1828080" y="35049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9"/>
          <p:cNvGrpSpPr/>
          <p:nvPr/>
        </p:nvGrpSpPr>
        <p:grpSpPr>
          <a:xfrm>
            <a:off x="527760" y="2965680"/>
            <a:ext cx="1535400" cy="1535760"/>
            <a:chOff x="527760" y="2965680"/>
            <a:chExt cx="1535400" cy="1535760"/>
          </a:xfrm>
        </p:grpSpPr>
        <p:sp>
          <p:nvSpPr>
            <p:cNvPr id="245" name="Rectangle 40"/>
            <p:cNvSpPr/>
            <p:nvPr/>
          </p:nvSpPr>
          <p:spPr>
            <a:xfrm rot="16226400">
              <a:off x="533520" y="2971440"/>
              <a:ext cx="152388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41"/>
            <p:cNvSpPr/>
            <p:nvPr/>
          </p:nvSpPr>
          <p:spPr>
            <a:xfrm rot="16226400">
              <a:off x="1218600" y="36572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2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2"/>
          <p:cNvSpPr/>
          <p:nvPr/>
        </p:nvSpPr>
        <p:spPr>
          <a:xfrm>
            <a:off x="2666880" y="1676520"/>
            <a:ext cx="3810240" cy="3809880"/>
          </a:xfrm>
          <a:prstGeom prst="ellipse">
            <a:avLst/>
          </a:prstGeom>
          <a:noFill/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57200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962520" y="3276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2666880" y="3581280"/>
            <a:ext cx="190512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4572000" y="35812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572000" y="1676520"/>
            <a:ext cx="0" cy="38098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1911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533412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581280" y="3124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89280" y="63180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159920" y="450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复习圆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2"/>
          <p:cNvGraphicFramePr/>
          <p:nvPr/>
        </p:nvGraphicFramePr>
        <p:xfrm>
          <a:off x="5867280" y="549360"/>
          <a:ext cx="266220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549360"/>
                    <a:ext cx="266220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Line 3"/>
          <p:cNvSpPr/>
          <p:nvPr/>
        </p:nvSpPr>
        <p:spPr>
          <a:xfrm flipH="1" flipV="1">
            <a:off x="1547640" y="2492280"/>
            <a:ext cx="144000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 flipH="1">
            <a:off x="1715760" y="3599640"/>
            <a:ext cx="1285200" cy="114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"/>
          <p:cNvSpPr/>
          <p:nvPr/>
        </p:nvSpPr>
        <p:spPr>
          <a:xfrm flipH="1" flipV="1">
            <a:off x="3059280" y="1557360"/>
            <a:ext cx="72720" cy="179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3276720" y="350028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 flipV="1">
            <a:off x="3268080" y="2211120"/>
            <a:ext cx="1299960" cy="117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8"/>
          <p:cNvSpPr/>
          <p:nvPr/>
        </p:nvSpPr>
        <p:spPr>
          <a:xfrm>
            <a:off x="2987640" y="3357720"/>
            <a:ext cx="304920" cy="30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3132000" y="3645000"/>
            <a:ext cx="7164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3276720" y="3645000"/>
            <a:ext cx="129528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 flipH="1">
            <a:off x="1258920" y="3500280"/>
            <a:ext cx="172872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2"/>
          <p:cNvSpPr/>
          <p:nvPr/>
        </p:nvSpPr>
        <p:spPr>
          <a:xfrm>
            <a:off x="1258920" y="1557360"/>
            <a:ext cx="388944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3"/>
          <p:cNvSpPr/>
          <p:nvPr/>
        </p:nvSpPr>
        <p:spPr>
          <a:xfrm rot="5328000">
            <a:off x="1004040" y="1235520"/>
            <a:ext cx="4399200" cy="4464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991720" cy="560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6402600" y="1523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012080" y="2057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40260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6783480" y="3276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6402600" y="3733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6707520" y="4648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6859800" y="5181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6860160" y="56386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610840" cy="46292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1530360" y="30481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无数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4648320" y="144792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3733920" y="2514600"/>
            <a:ext cx="1676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235760" y="314316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0"/>
          <p:cNvSpPr/>
          <p:nvPr/>
        </p:nvSpPr>
        <p:spPr>
          <a:xfrm flipH="1">
            <a:off x="7619760" y="1447920"/>
            <a:ext cx="152280" cy="228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7359840" y="297180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"/>
          <p:cNvSpPr/>
          <p:nvPr/>
        </p:nvSpPr>
        <p:spPr>
          <a:xfrm>
            <a:off x="4648320" y="358128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3"/>
          <p:cNvSpPr/>
          <p:nvPr/>
        </p:nvSpPr>
        <p:spPr>
          <a:xfrm>
            <a:off x="838080" y="4419720"/>
            <a:ext cx="1676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1340280" y="533412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3733920" y="4114800"/>
            <a:ext cx="1828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 flipV="1">
            <a:off x="3505320" y="4267080"/>
            <a:ext cx="1752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4464360" y="533412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>
            <a:off x="6858000" y="4495680"/>
            <a:ext cx="1676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7772400" y="358128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6858000" y="3581280"/>
            <a:ext cx="1828800" cy="18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1"/>
          <p:cNvSpPr/>
          <p:nvPr/>
        </p:nvSpPr>
        <p:spPr>
          <a:xfrm flipV="1">
            <a:off x="6858000" y="3657600"/>
            <a:ext cx="175248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7664760" y="541008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8686800" cy="430560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4343400" y="1905120"/>
            <a:ext cx="1413000" cy="678600"/>
            <a:chOff x="4343400" y="1905120"/>
            <a:chExt cx="1413000" cy="678600"/>
          </a:xfrm>
        </p:grpSpPr>
        <p:graphicFrame>
          <p:nvGraphicFramePr>
            <p:cNvPr id="290" name="Object 4"/>
            <p:cNvGraphicFramePr/>
            <p:nvPr/>
          </p:nvGraphicFramePr>
          <p:xfrm>
            <a:off x="4343400" y="1905120"/>
            <a:ext cx="841680" cy="653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1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343400" y="1905120"/>
                      <a:ext cx="841680" cy="65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Text Box 5"/>
            <p:cNvSpPr/>
            <p:nvPr/>
          </p:nvSpPr>
          <p:spPr>
            <a:xfrm>
              <a:off x="5209920" y="2124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隶书"/>
                </a:rPr>
                <a:t>不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6"/>
          <p:cNvGrpSpPr/>
          <p:nvPr/>
        </p:nvGrpSpPr>
        <p:grpSpPr>
          <a:xfrm>
            <a:off x="914400" y="1995480"/>
            <a:ext cx="1313280" cy="671400"/>
            <a:chOff x="914400" y="1995480"/>
            <a:chExt cx="1313280" cy="671400"/>
          </a:xfrm>
        </p:grpSpPr>
        <p:graphicFrame>
          <p:nvGraphicFramePr>
            <p:cNvPr id="294" name="Object 7"/>
            <p:cNvGraphicFramePr/>
            <p:nvPr/>
          </p:nvGraphicFramePr>
          <p:xfrm>
            <a:off x="914400" y="1995480"/>
            <a:ext cx="805680" cy="503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5" name="Object 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914400" y="1995480"/>
                      <a:ext cx="805680" cy="50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6" name="Rectangle 8"/>
            <p:cNvSpPr/>
            <p:nvPr/>
          </p:nvSpPr>
          <p:spPr>
            <a:xfrm>
              <a:off x="1803240" y="20854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9"/>
          <p:cNvGrpSpPr/>
          <p:nvPr/>
        </p:nvGrpSpPr>
        <p:grpSpPr>
          <a:xfrm>
            <a:off x="7391520" y="2362320"/>
            <a:ext cx="1412280" cy="678600"/>
            <a:chOff x="7391520" y="2362320"/>
            <a:chExt cx="1412280" cy="678600"/>
          </a:xfrm>
        </p:grpSpPr>
        <p:graphicFrame>
          <p:nvGraphicFramePr>
            <p:cNvPr id="298" name="Object 10"/>
            <p:cNvGraphicFramePr/>
            <p:nvPr/>
          </p:nvGraphicFramePr>
          <p:xfrm>
            <a:off x="7391520" y="2362320"/>
            <a:ext cx="841320" cy="653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99" name="Object 1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391520" y="2362320"/>
                      <a:ext cx="841320" cy="65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0" name="Text Box 11"/>
            <p:cNvSpPr/>
            <p:nvPr/>
          </p:nvSpPr>
          <p:spPr>
            <a:xfrm>
              <a:off x="8257320" y="2581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隶书"/>
                </a:rPr>
                <a:t>不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2"/>
          <p:cNvGrpSpPr/>
          <p:nvPr/>
        </p:nvGrpSpPr>
        <p:grpSpPr>
          <a:xfrm>
            <a:off x="1447920" y="3581280"/>
            <a:ext cx="1412280" cy="678960"/>
            <a:chOff x="1447920" y="3581280"/>
            <a:chExt cx="1412280" cy="678960"/>
          </a:xfrm>
        </p:grpSpPr>
        <p:graphicFrame>
          <p:nvGraphicFramePr>
            <p:cNvPr id="302" name="Object 13"/>
            <p:cNvGraphicFramePr/>
            <p:nvPr/>
          </p:nvGraphicFramePr>
          <p:xfrm>
            <a:off x="1447920" y="3581280"/>
            <a:ext cx="841320" cy="654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03" name="Object 13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47920" y="3581280"/>
                      <a:ext cx="841320" cy="6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4" name="Text Box 14"/>
            <p:cNvSpPr/>
            <p:nvPr/>
          </p:nvSpPr>
          <p:spPr>
            <a:xfrm>
              <a:off x="2313720" y="3800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隶书"/>
                </a:rPr>
                <a:t>不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5"/>
          <p:cNvGrpSpPr/>
          <p:nvPr/>
        </p:nvGrpSpPr>
        <p:grpSpPr>
          <a:xfrm>
            <a:off x="4343400" y="3886200"/>
            <a:ext cx="1313280" cy="671400"/>
            <a:chOff x="4343400" y="3886200"/>
            <a:chExt cx="1313280" cy="671400"/>
          </a:xfrm>
        </p:grpSpPr>
        <p:graphicFrame>
          <p:nvGraphicFramePr>
            <p:cNvPr id="306" name="Object 16"/>
            <p:cNvGraphicFramePr/>
            <p:nvPr/>
          </p:nvGraphicFramePr>
          <p:xfrm>
            <a:off x="4343400" y="3886200"/>
            <a:ext cx="805680" cy="5036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07" name="Object 1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343400" y="3886200"/>
                      <a:ext cx="805680" cy="50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Rectangle 17"/>
            <p:cNvSpPr/>
            <p:nvPr/>
          </p:nvSpPr>
          <p:spPr>
            <a:xfrm>
              <a:off x="5232240" y="39762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8"/>
          <p:cNvGrpSpPr/>
          <p:nvPr/>
        </p:nvGrpSpPr>
        <p:grpSpPr>
          <a:xfrm>
            <a:off x="6934320" y="4724280"/>
            <a:ext cx="1313280" cy="671400"/>
            <a:chOff x="6934320" y="4724280"/>
            <a:chExt cx="1313280" cy="671400"/>
          </a:xfrm>
        </p:grpSpPr>
        <p:graphicFrame>
          <p:nvGraphicFramePr>
            <p:cNvPr id="310" name="Object 19"/>
            <p:cNvGraphicFramePr/>
            <p:nvPr/>
          </p:nvGraphicFramePr>
          <p:xfrm>
            <a:off x="6934320" y="4724280"/>
            <a:ext cx="805680" cy="503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11" name="Object 19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934320" y="4724280"/>
                      <a:ext cx="805680" cy="50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2" name="Rectangle 20"/>
            <p:cNvSpPr/>
            <p:nvPr/>
          </p:nvSpPr>
          <p:spPr>
            <a:xfrm>
              <a:off x="7823160" y="4814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2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9625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1911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4570560" y="1523880"/>
            <a:ext cx="1440" cy="1905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585320" y="3402720"/>
            <a:ext cx="1346400" cy="134784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4572000" y="3429000"/>
            <a:ext cx="144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57200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181480" y="3733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5720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762120" y="1066680"/>
            <a:ext cx="380988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666880" y="2971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057400" y="2666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2666880" y="1066680"/>
            <a:ext cx="0" cy="38102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2860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2682360" y="1066680"/>
            <a:ext cx="1800" cy="1905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 flipH="1">
            <a:off x="2666520" y="2971800"/>
            <a:ext cx="180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6668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6668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895480" y="2819520"/>
            <a:ext cx="2286000" cy="30456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486400" y="2666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=r+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3"/>
          <p:cNvSpPr/>
          <p:nvPr/>
        </p:nvSpPr>
        <p:spPr>
          <a:xfrm>
            <a:off x="6019920" y="32004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5486400" y="3809880"/>
            <a:ext cx="129528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=2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5486400" y="5257800"/>
            <a:ext cx="1295280" cy="80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r= </a:t>
            </a:r>
            <a:r>
              <a:rPr b="1" i="1" lang="en-US" sz="4400" spc="-1" strike="noStrike" u="sng" baseline="50000">
                <a:solidFill>
                  <a:srgbClr val="000000"/>
                </a:solidFill>
                <a:uFillTx/>
                <a:latin typeface="Times New Roman"/>
                <a:ea typeface="宋体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6037560" y="5410080"/>
            <a:ext cx="424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7"/>
          <p:cNvSpPr/>
          <p:nvPr/>
        </p:nvSpPr>
        <p:spPr>
          <a:xfrm>
            <a:off x="6019920" y="46483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468360" y="765000"/>
            <a:ext cx="7128000" cy="42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琥珀"/>
              </a:rPr>
              <a:t>小结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圆的特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是一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平面曲线图形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有圆心（中心一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有半径（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直径（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同圆（或等圆）内，半径有无数条，长度都相等；直径有无数条，长度都相等，且直径等于半径的二倍（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=2r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"/>
          <p:cNvSpPr/>
          <p:nvPr/>
        </p:nvSpPr>
        <p:spPr>
          <a:xfrm>
            <a:off x="5651640" y="333360"/>
            <a:ext cx="3047760" cy="3048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732720" y="134136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Times New Roman"/>
                <a:ea typeface="宋体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H="1" flipV="1">
            <a:off x="5651640" y="1912680"/>
            <a:ext cx="3047760" cy="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877080" y="198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  <a:ea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020000" y="198900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圆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7164360" y="112500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020000" y="1125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半径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940360" y="148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直径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8991720" cy="2414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87480" y="0"/>
            <a:ext cx="9056520" cy="2828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2438280" y="5241960"/>
            <a:ext cx="52578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900000" y="69228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面图形中阴影部分所表示的角是圆心角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1332000" cy="143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2771640" y="1916280"/>
            <a:ext cx="1355760" cy="143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4930920" y="19875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7020000" y="19875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826920" y="4437000"/>
            <a:ext cx="1224000" cy="1366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6"/>
          <a:stretch/>
        </p:blipFill>
        <p:spPr>
          <a:xfrm>
            <a:off x="2843280" y="4437000"/>
            <a:ext cx="1295280" cy="1366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7"/>
          <a:stretch/>
        </p:blipFill>
        <p:spPr>
          <a:xfrm>
            <a:off x="5003640" y="4437000"/>
            <a:ext cx="1295640" cy="136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8"/>
          <a:stretch/>
        </p:blipFill>
        <p:spPr>
          <a:xfrm>
            <a:off x="7091280" y="4437000"/>
            <a:ext cx="1152720" cy="1366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1116000" y="37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292720" y="609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7451640" y="378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3203640" y="378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7451640" y="609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536400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3203640" y="602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1187280" y="602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87480" y="0"/>
            <a:ext cx="9056520" cy="282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5105520" y="4572000"/>
            <a:ext cx="3276360" cy="211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0" y="3200400"/>
            <a:ext cx="9144000" cy="438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4"/>
          <a:stretch/>
        </p:blipFill>
        <p:spPr>
          <a:xfrm>
            <a:off x="0" y="4191120"/>
            <a:ext cx="914400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150516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2392920" y="725040"/>
            <a:ext cx="487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想想看，下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两个图形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中，灰色的部分是扇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吗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124000" y="5084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顶点是圆心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幼圆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两条直边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幼圆"/>
              </a:rPr>
              <a:t>是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径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幼圆"/>
              </a:rPr>
              <a:t>，所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它们是扇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6T05:05:41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