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B651-09D7-4BBB-819C-DE95C8C7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AD95-91D7-4C93-ACB3-687295EA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06A9-3A1B-483F-9310-38DA675C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0060-06CC-4C25-AC68-54FC8E16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65C2-6119-4034-B4C9-F427FE92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EEA-57CB-4410-A789-2E5A9D3D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0942-1820-4EB4-9ECC-AA5A54B6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3AC8-5B95-48EC-97D7-2FA0724C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9792-9B58-4ACF-9F74-A3465735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A661-6750-4977-9FAD-CE0B8197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6AA-42F0-42FA-96C7-76A7EA5D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DD8E-73F8-4A2A-A082-6C803389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FBF7-13EC-4A42-9E22-CA6CEA8A60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图形王国和统计世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节课我们复习了什么内容？还有什么疑问吗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通过复习，使学生进一步了解并掌握圆的特征，会正确计算圆的周长与面积，并能解决一些与圆有关的简单实际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使学生进一步体会复式折线统计图的特点、作用，能根据收集整理的数据完成复式折线统计图，能对图中的数据进行简单的分析，提出一些简单的问题并加以解决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使学生进一步理解并掌握在具体情境中用数对表示位置的方法；能在方格图上用数对表示点的位置，并根据给出的数对找对相应的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提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学期我们学习了圆的哪些知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圆的周长和面积的计算在实际生活中有哪些应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完成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独立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汇报结果，说说自己是怎样算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完成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求钢丝长多少米，实际是求车轮滚动多少圈的行驶举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首先要求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怎样列式解答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注意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独立完成解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完成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想知道哪些铁皮剩下的废料多？关键看什么？在小组中讨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指出：应该算出每个正方形中圆的面积或面积和哪个大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组合作完成计算，并说说你是怎么想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知道圆的面积或面积和为什么都是相等的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方形中还可以怎样剪，能使剪下的面积和不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复习数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生活中，我们是怎样用数对表示位置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完成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表示什么？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表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独立完成，展示作业，集体评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复习折线统计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学期，我们学习的统计图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完成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想一想，自己运动后的心率大概是怎样变化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组收集数据，说请要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独立完成统计表及统计图的填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展示学生作业，说说从图中可以获得哪些信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 </dc:creator>
  <dc:description> </dc:description>
  <cp:keywords/>
  <dc:language>en-US</dc:language>
  <cp:lastModifiedBy>微软用户</cp:lastModifiedBy>
  <dcterms:modified xsi:type="dcterms:W3CDTF">2014-09-14T03:36:31Z</dcterms:modified>
  <cp:revision>1</cp:revision>
  <dc:subject>  </dc:subject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