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074-47FC-4E42-A224-1580A58E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81B-BB7C-4D9F-9EFD-210DB30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6C3-AA4D-4CB4-9045-4AE2D40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CA4-CB16-4C4C-8D60-15F063CC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213-F21B-4350-87CD-72A35DA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8F7-7D5D-44D3-AAAC-87A09768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5E0-AAB0-46BF-9B56-478D4408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DED-9CEF-4214-8481-8D1F3E5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9DE-8DCA-4ECF-8123-F5CBD7C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3C8-85E1-4F31-BDF0-EE44CBE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B93-A538-49C0-BF87-4988B7D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E17-E7F2-4395-A25B-E35058A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279-C13F-4EEF-934E-F9D52D15E6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异分母分数加、减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1652760" y="1054080"/>
            <a:ext cx="2846160" cy="1428840"/>
            <a:chOff x="1652760" y="1054080"/>
            <a:chExt cx="2846160" cy="1428840"/>
          </a:xfrm>
        </p:grpSpPr>
        <p:grpSp>
          <p:nvGrpSpPr>
            <p:cNvPr id="295" name=""/>
            <p:cNvGrpSpPr/>
            <p:nvPr/>
          </p:nvGrpSpPr>
          <p:grpSpPr>
            <a:xfrm>
              <a:off x="3165480" y="1054080"/>
              <a:ext cx="1333440" cy="1428840"/>
              <a:chOff x="3165480" y="1054080"/>
              <a:chExt cx="1333440" cy="1428840"/>
            </a:xfrm>
          </p:grpSpPr>
          <p:sp>
            <p:nvSpPr>
              <p:cNvPr id="296" name=""/>
              <p:cNvSpPr/>
              <p:nvPr/>
            </p:nvSpPr>
            <p:spPr>
              <a:xfrm>
                <a:off x="316548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6548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3604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652760" y="1054080"/>
              <a:ext cx="1333440" cy="1428840"/>
              <a:chOff x="1652760" y="1054080"/>
              <a:chExt cx="1333440" cy="1428840"/>
            </a:xfrm>
          </p:grpSpPr>
          <p:sp>
            <p:nvSpPr>
              <p:cNvPr id="300" name=""/>
              <p:cNvSpPr/>
              <p:nvPr/>
            </p:nvSpPr>
            <p:spPr>
              <a:xfrm>
                <a:off x="165276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65276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2332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63232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57200" y="993600"/>
            <a:ext cx="3394080" cy="1428840"/>
            <a:chOff x="4057200" y="993600"/>
            <a:chExt cx="3394080" cy="1428840"/>
          </a:xfrm>
        </p:grpSpPr>
        <p:sp>
          <p:nvSpPr>
            <p:cNvPr id="305" name=""/>
            <p:cNvSpPr/>
            <p:nvPr/>
          </p:nvSpPr>
          <p:spPr>
            <a:xfrm>
              <a:off x="405720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605120" y="993600"/>
              <a:ext cx="2846160" cy="1428840"/>
              <a:chOff x="4605120" y="993600"/>
              <a:chExt cx="2846160" cy="14288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6117840" y="993600"/>
                <a:ext cx="1333440" cy="1428840"/>
                <a:chOff x="6117840" y="993600"/>
                <a:chExt cx="1333440" cy="14288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1178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178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884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605120" y="993600"/>
                <a:ext cx="1333440" cy="1428840"/>
                <a:chOff x="4605120" y="993600"/>
                <a:chExt cx="1333440" cy="14288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60512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60512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67568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558468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4057200" y="2362320"/>
            <a:ext cx="1810080" cy="1428840"/>
            <a:chOff x="4057200" y="2362320"/>
            <a:chExt cx="1810080" cy="1428840"/>
          </a:xfrm>
        </p:grpSpPr>
        <p:sp>
          <p:nvSpPr>
            <p:cNvPr id="317" name=""/>
            <p:cNvSpPr/>
            <p:nvPr/>
          </p:nvSpPr>
          <p:spPr>
            <a:xfrm>
              <a:off x="4057200" y="2649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533840" y="2362320"/>
              <a:ext cx="1333440" cy="1428840"/>
              <a:chOff x="4533840" y="2362320"/>
              <a:chExt cx="1333440" cy="1428840"/>
            </a:xfrm>
          </p:grpSpPr>
          <p:sp>
            <p:nvSpPr>
              <p:cNvPr id="319" name=""/>
              <p:cNvSpPr/>
              <p:nvPr/>
            </p:nvSpPr>
            <p:spPr>
              <a:xfrm>
                <a:off x="4533840" y="23623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33840" y="3011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04400" y="30099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1940040" y="3981600"/>
            <a:ext cx="4981320" cy="1955880"/>
            <a:chOff x="1940040" y="3981600"/>
            <a:chExt cx="4981320" cy="1955880"/>
          </a:xfrm>
        </p:grpSpPr>
        <p:sp>
          <p:nvSpPr>
            <p:cNvPr id="323" name=""/>
            <p:cNvSpPr/>
            <p:nvPr/>
          </p:nvSpPr>
          <p:spPr>
            <a:xfrm>
              <a:off x="1940040" y="3981600"/>
              <a:ext cx="498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：这两个洋的面积一共约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占地球表面的  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643280" y="4508640"/>
              <a:ext cx="1333800" cy="1428840"/>
              <a:chOff x="4643280" y="4508640"/>
              <a:chExt cx="1333800" cy="1428840"/>
            </a:xfrm>
          </p:grpSpPr>
          <p:sp>
            <p:nvSpPr>
              <p:cNvPr id="325" name=""/>
              <p:cNvSpPr/>
              <p:nvPr/>
            </p:nvSpPr>
            <p:spPr>
              <a:xfrm>
                <a:off x="4643280" y="4508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43280" y="5157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1384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81760" y="476280"/>
            <a:ext cx="2840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练习十四第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41960" y="1571760"/>
            <a:ext cx="7287480" cy="2651040"/>
            <a:chOff x="741960" y="1571760"/>
            <a:chExt cx="7287480" cy="2651040"/>
          </a:xfrm>
        </p:grpSpPr>
        <p:graphicFrame>
          <p:nvGraphicFramePr>
            <p:cNvPr id="330" name=""/>
            <p:cNvGraphicFramePr/>
            <p:nvPr/>
          </p:nvGraphicFramePr>
          <p:xfrm>
            <a:off x="111600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 rot="5400000">
              <a:off x="2302200" y="2038680"/>
              <a:ext cx="288720" cy="208764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5652360" y="1138320"/>
              <a:ext cx="287280" cy="3889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6528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1656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509840" y="1871640"/>
              <a:ext cx="1333440" cy="1428480"/>
              <a:chOff x="1509840" y="1871640"/>
              <a:chExt cx="1333440" cy="1428480"/>
            </a:xfrm>
          </p:grpSpPr>
          <p:sp>
            <p:nvSpPr>
              <p:cNvPr id="337" name=""/>
              <p:cNvSpPr/>
              <p:nvPr/>
            </p:nvSpPr>
            <p:spPr>
              <a:xfrm>
                <a:off x="150984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0984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040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92720" y="1871640"/>
              <a:ext cx="1333440" cy="1428480"/>
              <a:chOff x="5292720" y="1871640"/>
              <a:chExt cx="1333440" cy="1428480"/>
            </a:xfrm>
          </p:grpSpPr>
          <p:sp>
            <p:nvSpPr>
              <p:cNvPr id="341" name=""/>
              <p:cNvSpPr/>
              <p:nvPr/>
            </p:nvSpPr>
            <p:spPr>
              <a:xfrm>
                <a:off x="52927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927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632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80736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19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512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73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406680" y="4557600"/>
            <a:ext cx="18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⑴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体育馆到少年宫一共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多少千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042920" y="1054080"/>
            <a:ext cx="2846160" cy="1428840"/>
            <a:chOff x="1042920" y="1054080"/>
            <a:chExt cx="2846160" cy="1428840"/>
          </a:xfrm>
        </p:grpSpPr>
        <p:grpSp>
          <p:nvGrpSpPr>
            <p:cNvPr id="350" name=""/>
            <p:cNvGrpSpPr/>
            <p:nvPr/>
          </p:nvGrpSpPr>
          <p:grpSpPr>
            <a:xfrm>
              <a:off x="2555640" y="1054080"/>
              <a:ext cx="1333440" cy="1428840"/>
              <a:chOff x="2555640" y="1054080"/>
              <a:chExt cx="1333440" cy="1428840"/>
            </a:xfrm>
          </p:grpSpPr>
          <p:sp>
            <p:nvSpPr>
              <p:cNvPr id="351" name=""/>
              <p:cNvSpPr/>
              <p:nvPr/>
            </p:nvSpPr>
            <p:spPr>
              <a:xfrm>
                <a:off x="255564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5564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2620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042920" y="1054080"/>
              <a:ext cx="1333440" cy="1428840"/>
              <a:chOff x="1042920" y="1054080"/>
              <a:chExt cx="1333440" cy="1428840"/>
            </a:xfrm>
          </p:grpSpPr>
          <p:sp>
            <p:nvSpPr>
              <p:cNvPr id="355" name=""/>
              <p:cNvSpPr/>
              <p:nvPr/>
            </p:nvSpPr>
            <p:spPr>
              <a:xfrm>
                <a:off x="104292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4292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1348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02248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447720" y="993600"/>
            <a:ext cx="3394080" cy="1428840"/>
            <a:chOff x="3447720" y="993600"/>
            <a:chExt cx="3394080" cy="1428840"/>
          </a:xfrm>
        </p:grpSpPr>
        <p:sp>
          <p:nvSpPr>
            <p:cNvPr id="360" name=""/>
            <p:cNvSpPr/>
            <p:nvPr/>
          </p:nvSpPr>
          <p:spPr>
            <a:xfrm>
              <a:off x="344772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995640" y="993600"/>
              <a:ext cx="2846160" cy="1428840"/>
              <a:chOff x="3995640" y="993600"/>
              <a:chExt cx="2846160" cy="142884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5508360" y="993600"/>
                <a:ext cx="1333440" cy="1428840"/>
                <a:chOff x="5508360" y="993600"/>
                <a:chExt cx="1333440" cy="1428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50836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50836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57892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995640" y="993600"/>
                <a:ext cx="1333440" cy="1428840"/>
                <a:chOff x="3995640" y="993600"/>
                <a:chExt cx="1333440" cy="14288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9956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9956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662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497520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3446280" y="2362320"/>
            <a:ext cx="3305520" cy="1428840"/>
            <a:chOff x="3446280" y="2362320"/>
            <a:chExt cx="3305520" cy="1428840"/>
          </a:xfrm>
        </p:grpSpPr>
        <p:grpSp>
          <p:nvGrpSpPr>
            <p:cNvPr id="372" name=""/>
            <p:cNvGrpSpPr/>
            <p:nvPr/>
          </p:nvGrpSpPr>
          <p:grpSpPr>
            <a:xfrm>
              <a:off x="3446280" y="2362320"/>
              <a:ext cx="1810080" cy="1428840"/>
              <a:chOff x="3446280" y="2362320"/>
              <a:chExt cx="1810080" cy="1428840"/>
            </a:xfrm>
          </p:grpSpPr>
          <p:sp>
            <p:nvSpPr>
              <p:cNvPr id="373" name=""/>
              <p:cNvSpPr/>
              <p:nvPr/>
            </p:nvSpPr>
            <p:spPr>
              <a:xfrm>
                <a:off x="344628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3922920" y="2362320"/>
                <a:ext cx="1333440" cy="1428840"/>
                <a:chOff x="3922920" y="2362320"/>
                <a:chExt cx="1333440" cy="1428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92292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92292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99348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8" name=""/>
            <p:cNvSpPr/>
            <p:nvPr/>
          </p:nvSpPr>
          <p:spPr>
            <a:xfrm>
              <a:off x="4859280" y="2651040"/>
              <a:ext cx="1892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712960" y="400536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: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体育馆到少年宫一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      千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43280" y="4437000"/>
            <a:ext cx="1333440" cy="1428840"/>
            <a:chOff x="1943280" y="4437000"/>
            <a:chExt cx="1333440" cy="1428840"/>
          </a:xfrm>
        </p:grpSpPr>
        <p:sp>
          <p:nvSpPr>
            <p:cNvPr id="381" name=""/>
            <p:cNvSpPr/>
            <p:nvPr/>
          </p:nvSpPr>
          <p:spPr>
            <a:xfrm>
              <a:off x="1943280" y="443700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43280" y="5086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13840" y="508500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741960" y="1571760"/>
            <a:ext cx="7287480" cy="2651040"/>
            <a:chOff x="741960" y="1571760"/>
            <a:chExt cx="7287480" cy="2651040"/>
          </a:xfrm>
        </p:grpSpPr>
        <p:graphicFrame>
          <p:nvGraphicFramePr>
            <p:cNvPr id="385" name=""/>
            <p:cNvGraphicFramePr/>
            <p:nvPr/>
          </p:nvGraphicFramePr>
          <p:xfrm>
            <a:off x="111600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"/>
            <p:cNvSpPr/>
            <p:nvPr/>
          </p:nvSpPr>
          <p:spPr>
            <a:xfrm rot="5400000">
              <a:off x="2302200" y="2038680"/>
              <a:ext cx="288720" cy="208764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5652360" y="1138320"/>
              <a:ext cx="287280" cy="3889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6528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1656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509840" y="1871640"/>
              <a:ext cx="1333440" cy="1428480"/>
              <a:chOff x="1509840" y="1871640"/>
              <a:chExt cx="1333440" cy="1428480"/>
            </a:xfrm>
          </p:grpSpPr>
          <p:sp>
            <p:nvSpPr>
              <p:cNvPr id="392" name=""/>
              <p:cNvSpPr/>
              <p:nvPr/>
            </p:nvSpPr>
            <p:spPr>
              <a:xfrm>
                <a:off x="150984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0984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8040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292720" y="1871640"/>
              <a:ext cx="1333440" cy="1428480"/>
              <a:chOff x="5292720" y="1871640"/>
              <a:chExt cx="1333440" cy="1428480"/>
            </a:xfrm>
          </p:grpSpPr>
          <p:sp>
            <p:nvSpPr>
              <p:cNvPr id="396" name=""/>
              <p:cNvSpPr/>
              <p:nvPr/>
            </p:nvSpPr>
            <p:spPr>
              <a:xfrm>
                <a:off x="52927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927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3632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380736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19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7512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73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481760" y="476280"/>
            <a:ext cx="2840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练习十四第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79440" y="4486320"/>
            <a:ext cx="477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⑵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学校到体育馆比从学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到少年宫近多少千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042920" y="1054080"/>
            <a:ext cx="2846160" cy="1428840"/>
            <a:chOff x="1042920" y="1054080"/>
            <a:chExt cx="2846160" cy="1428840"/>
          </a:xfrm>
        </p:grpSpPr>
        <p:grpSp>
          <p:nvGrpSpPr>
            <p:cNvPr id="406" name=""/>
            <p:cNvGrpSpPr/>
            <p:nvPr/>
          </p:nvGrpSpPr>
          <p:grpSpPr>
            <a:xfrm>
              <a:off x="2555640" y="1054080"/>
              <a:ext cx="1333440" cy="1428840"/>
              <a:chOff x="2555640" y="1054080"/>
              <a:chExt cx="1333440" cy="1428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55564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5564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2620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1042920" y="1054080"/>
              <a:ext cx="1333440" cy="1428840"/>
              <a:chOff x="1042920" y="1054080"/>
              <a:chExt cx="1333440" cy="1428840"/>
            </a:xfrm>
          </p:grpSpPr>
          <p:sp>
            <p:nvSpPr>
              <p:cNvPr id="411" name=""/>
              <p:cNvSpPr/>
              <p:nvPr/>
            </p:nvSpPr>
            <p:spPr>
              <a:xfrm>
                <a:off x="104292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4292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1348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02248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447720" y="993600"/>
            <a:ext cx="3394080" cy="1428840"/>
            <a:chOff x="3447720" y="993600"/>
            <a:chExt cx="3394080" cy="1428840"/>
          </a:xfrm>
        </p:grpSpPr>
        <p:sp>
          <p:nvSpPr>
            <p:cNvPr id="416" name=""/>
            <p:cNvSpPr/>
            <p:nvPr/>
          </p:nvSpPr>
          <p:spPr>
            <a:xfrm>
              <a:off x="344772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95640" y="993600"/>
              <a:ext cx="2846160" cy="1428840"/>
              <a:chOff x="3995640" y="993600"/>
              <a:chExt cx="2846160" cy="142884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5508360" y="993600"/>
                <a:ext cx="1333440" cy="1428840"/>
                <a:chOff x="5508360" y="993600"/>
                <a:chExt cx="1333440" cy="1428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50836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50836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57892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995640" y="993600"/>
                <a:ext cx="1333440" cy="1428840"/>
                <a:chOff x="3995640" y="993600"/>
                <a:chExt cx="1333440" cy="1428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9956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9956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0662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97520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3446280" y="2362320"/>
            <a:ext cx="3305520" cy="1428840"/>
            <a:chOff x="3446280" y="2362320"/>
            <a:chExt cx="3305520" cy="1428840"/>
          </a:xfrm>
        </p:grpSpPr>
        <p:grpSp>
          <p:nvGrpSpPr>
            <p:cNvPr id="428" name=""/>
            <p:cNvGrpSpPr/>
            <p:nvPr/>
          </p:nvGrpSpPr>
          <p:grpSpPr>
            <a:xfrm>
              <a:off x="3446280" y="2362320"/>
              <a:ext cx="1810080" cy="1428840"/>
              <a:chOff x="3446280" y="2362320"/>
              <a:chExt cx="1810080" cy="1428840"/>
            </a:xfrm>
          </p:grpSpPr>
          <p:sp>
            <p:nvSpPr>
              <p:cNvPr id="429" name=""/>
              <p:cNvSpPr/>
              <p:nvPr/>
            </p:nvSpPr>
            <p:spPr>
              <a:xfrm>
                <a:off x="344628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922920" y="2362320"/>
                <a:ext cx="1333440" cy="1428840"/>
                <a:chOff x="3922920" y="2362320"/>
                <a:chExt cx="1333440" cy="14288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92292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2292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99348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4" name=""/>
            <p:cNvSpPr/>
            <p:nvPr/>
          </p:nvSpPr>
          <p:spPr>
            <a:xfrm>
              <a:off x="4859280" y="2651040"/>
              <a:ext cx="1892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097000" y="4076640"/>
            <a:ext cx="49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: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学校到体育馆比从学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到少年宫近      千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102200" y="4594320"/>
            <a:ext cx="1333440" cy="1428840"/>
            <a:chOff x="4102200" y="4594320"/>
            <a:chExt cx="1333440" cy="1428840"/>
          </a:xfrm>
        </p:grpSpPr>
        <p:sp>
          <p:nvSpPr>
            <p:cNvPr id="437" name=""/>
            <p:cNvSpPr/>
            <p:nvPr/>
          </p:nvSpPr>
          <p:spPr>
            <a:xfrm>
              <a:off x="4102200" y="459432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2200" y="524340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72760" y="524196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960480" y="1571760"/>
            <a:ext cx="7289640" cy="2651040"/>
            <a:chOff x="960480" y="1571760"/>
            <a:chExt cx="7289640" cy="2651040"/>
          </a:xfrm>
        </p:grpSpPr>
        <p:graphicFrame>
          <p:nvGraphicFramePr>
            <p:cNvPr id="441" name=""/>
            <p:cNvGraphicFramePr/>
            <p:nvPr/>
          </p:nvGraphicFramePr>
          <p:xfrm>
            <a:off x="133668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668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" name=""/>
            <p:cNvSpPr/>
            <p:nvPr/>
          </p:nvSpPr>
          <p:spPr>
            <a:xfrm rot="5400000">
              <a:off x="2522880" y="2038680"/>
              <a:ext cx="288720" cy="208764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5873040" y="1138320"/>
              <a:ext cx="287280" cy="38894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452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3580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1730520" y="1871640"/>
              <a:ext cx="1333440" cy="1428480"/>
              <a:chOff x="1730520" y="1871640"/>
              <a:chExt cx="1333440" cy="1428480"/>
            </a:xfrm>
          </p:grpSpPr>
          <p:sp>
            <p:nvSpPr>
              <p:cNvPr id="448" name=""/>
              <p:cNvSpPr/>
              <p:nvPr/>
            </p:nvSpPr>
            <p:spPr>
              <a:xfrm>
                <a:off x="17305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305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010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513400" y="1871640"/>
              <a:ext cx="1333440" cy="1428480"/>
              <a:chOff x="5513400" y="1871640"/>
              <a:chExt cx="1333440" cy="1428480"/>
            </a:xfrm>
          </p:grpSpPr>
          <p:sp>
            <p:nvSpPr>
              <p:cNvPr id="452" name=""/>
              <p:cNvSpPr/>
              <p:nvPr/>
            </p:nvSpPr>
            <p:spPr>
              <a:xfrm>
                <a:off x="551340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1340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8396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402588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6048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9400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0552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476720" y="563400"/>
            <a:ext cx="2840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练习十四第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43080" y="443700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⑶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小军从家经学校到体育馆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千米，他家离学校有多远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726920" y="922320"/>
            <a:ext cx="2448000" cy="1428840"/>
            <a:chOff x="1726920" y="922320"/>
            <a:chExt cx="2448000" cy="1428840"/>
          </a:xfrm>
        </p:grpSpPr>
        <p:grpSp>
          <p:nvGrpSpPr>
            <p:cNvPr id="462" name=""/>
            <p:cNvGrpSpPr/>
            <p:nvPr/>
          </p:nvGrpSpPr>
          <p:grpSpPr>
            <a:xfrm>
              <a:off x="2841480" y="922320"/>
              <a:ext cx="1333440" cy="1428840"/>
              <a:chOff x="2841480" y="922320"/>
              <a:chExt cx="1333440" cy="142884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1480" y="9223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1480" y="1571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12040" y="15699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2308320" y="11379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26920" y="1223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9920" y="934920"/>
            <a:ext cx="3394080" cy="1428840"/>
            <a:chOff x="3769920" y="934920"/>
            <a:chExt cx="3394080" cy="1428840"/>
          </a:xfrm>
        </p:grpSpPr>
        <p:sp>
          <p:nvSpPr>
            <p:cNvPr id="469" name=""/>
            <p:cNvSpPr/>
            <p:nvPr/>
          </p:nvSpPr>
          <p:spPr>
            <a:xfrm>
              <a:off x="3769920" y="1236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4317840" y="934920"/>
              <a:ext cx="2846160" cy="1428840"/>
              <a:chOff x="4317840" y="934920"/>
              <a:chExt cx="2846160" cy="142884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5830560" y="934920"/>
                <a:ext cx="1333440" cy="1428840"/>
                <a:chOff x="5830560" y="934920"/>
                <a:chExt cx="1333440" cy="14288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830560" y="9349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830560" y="15840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01120" y="1582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317840" y="934920"/>
                <a:ext cx="1333440" cy="1428840"/>
                <a:chOff x="4317840" y="934920"/>
                <a:chExt cx="1333440" cy="14288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317840" y="9349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317840" y="15840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388400" y="1582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5297400" y="11509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3776400" y="2362320"/>
            <a:ext cx="3028320" cy="1428840"/>
            <a:chOff x="3776400" y="2362320"/>
            <a:chExt cx="3028320" cy="1428840"/>
          </a:xfrm>
        </p:grpSpPr>
        <p:grpSp>
          <p:nvGrpSpPr>
            <p:cNvPr id="481" name=""/>
            <p:cNvGrpSpPr/>
            <p:nvPr/>
          </p:nvGrpSpPr>
          <p:grpSpPr>
            <a:xfrm>
              <a:off x="3776400" y="2362320"/>
              <a:ext cx="1810080" cy="1428840"/>
              <a:chOff x="3776400" y="2362320"/>
              <a:chExt cx="1810080" cy="1428840"/>
            </a:xfrm>
          </p:grpSpPr>
          <p:sp>
            <p:nvSpPr>
              <p:cNvPr id="482" name=""/>
              <p:cNvSpPr/>
              <p:nvPr/>
            </p:nvSpPr>
            <p:spPr>
              <a:xfrm>
                <a:off x="377640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4253040" y="2362320"/>
                <a:ext cx="1333440" cy="1428840"/>
                <a:chOff x="4253040" y="2362320"/>
                <a:chExt cx="1333440" cy="14288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25304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25304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32360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7" name=""/>
            <p:cNvSpPr/>
            <p:nvPr/>
          </p:nvSpPr>
          <p:spPr>
            <a:xfrm>
              <a:off x="5276520" y="2577960"/>
              <a:ext cx="1528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16160" y="3933720"/>
            <a:ext cx="8162280" cy="1428840"/>
            <a:chOff x="416160" y="3933720"/>
            <a:chExt cx="8162280" cy="1428840"/>
          </a:xfrm>
        </p:grpSpPr>
        <p:sp>
          <p:nvSpPr>
            <p:cNvPr id="489" name=""/>
            <p:cNvSpPr/>
            <p:nvPr/>
          </p:nvSpPr>
          <p:spPr>
            <a:xfrm>
              <a:off x="416160" y="4236840"/>
              <a:ext cx="8162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他家离学校有         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5024880" y="3933720"/>
              <a:ext cx="2718000" cy="1428840"/>
              <a:chOff x="5024880" y="3933720"/>
              <a:chExt cx="2718000" cy="14288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5024880" y="3933720"/>
                <a:ext cx="1355400" cy="1428840"/>
                <a:chOff x="5024880" y="3933720"/>
                <a:chExt cx="1355400" cy="1428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24880" y="3933720"/>
                  <a:ext cx="11386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024880" y="4582800"/>
                  <a:ext cx="13554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096880" y="4581360"/>
                  <a:ext cx="7963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5941800" y="4149360"/>
                <a:ext cx="1801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千米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2120" y="2898720"/>
            <a:ext cx="7527960" cy="1661400"/>
            <a:chOff x="762120" y="2898720"/>
            <a:chExt cx="7527960" cy="1661400"/>
          </a:xfrm>
        </p:grpSpPr>
        <p:sp>
          <p:nvSpPr>
            <p:cNvPr id="44" name=""/>
            <p:cNvSpPr/>
            <p:nvPr/>
          </p:nvSpPr>
          <p:spPr>
            <a:xfrm>
              <a:off x="1050840" y="289872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计算下面各题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018120" y="3687480"/>
              <a:ext cx="2271960" cy="797760"/>
              <a:chOff x="6018120" y="3687480"/>
              <a:chExt cx="2271960" cy="79776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6018120" y="3712680"/>
                <a:ext cx="685800" cy="772560"/>
                <a:chOff x="6018120" y="3712680"/>
                <a:chExt cx="685800" cy="77256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6200640" y="409860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6018120" y="37126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099120" y="40255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6993000" y="3687480"/>
                <a:ext cx="685800" cy="772560"/>
                <a:chOff x="6993000" y="3687480"/>
                <a:chExt cx="685800" cy="77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175520" y="407340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6993000" y="3687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074000" y="4000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6559560" y="37382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569360" y="37382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641760" y="3759120"/>
              <a:ext cx="1871640" cy="797760"/>
              <a:chOff x="3641760" y="3759120"/>
              <a:chExt cx="1871640" cy="79776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641760" y="3759120"/>
                <a:ext cx="1224000" cy="797760"/>
                <a:chOff x="3641760" y="3759120"/>
                <a:chExt cx="1224000" cy="79776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3641760" y="3784320"/>
                  <a:ext cx="360360" cy="772560"/>
                  <a:chOff x="3641760" y="3784320"/>
                  <a:chExt cx="360360" cy="7725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641760" y="4168800"/>
                    <a:ext cx="35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641760" y="4097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641760" y="37843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4505400" y="3759120"/>
                  <a:ext cx="360360" cy="772560"/>
                  <a:chOff x="4505400" y="3759120"/>
                  <a:chExt cx="360360" cy="77256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505400" y="4143240"/>
                    <a:ext cx="35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505400" y="4071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4505400" y="37591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" name=""/>
                <p:cNvSpPr/>
                <p:nvPr/>
              </p:nvSpPr>
              <p:spPr>
                <a:xfrm>
                  <a:off x="4073400" y="395280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4863960" y="3809880"/>
                <a:ext cx="6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62120" y="3762000"/>
              <a:ext cx="2017800" cy="798120"/>
              <a:chOff x="762120" y="3762000"/>
              <a:chExt cx="2017800" cy="798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62120" y="3762000"/>
                <a:ext cx="649440" cy="772560"/>
                <a:chOff x="762120" y="3762000"/>
                <a:chExt cx="649440" cy="7725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33760" y="414648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2120" y="4074840"/>
                  <a:ext cx="64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33760" y="3762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770480" y="3786120"/>
                <a:ext cx="576000" cy="774000"/>
                <a:chOff x="1770480" y="3786120"/>
                <a:chExt cx="576000" cy="7740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843200" y="4172040"/>
                  <a:ext cx="35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843200" y="37861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770480" y="410040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1194120" y="38588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5200" y="3930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2708280" y="3762360"/>
            <a:ext cx="485640" cy="964440"/>
            <a:chOff x="2708280" y="3762360"/>
            <a:chExt cx="485640" cy="964440"/>
          </a:xfrm>
        </p:grpSpPr>
        <p:sp>
          <p:nvSpPr>
            <p:cNvPr id="80" name=""/>
            <p:cNvSpPr/>
            <p:nvPr/>
          </p:nvSpPr>
          <p:spPr>
            <a:xfrm>
              <a:off x="2708280" y="3906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08280" y="4267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84600" y="37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371920" y="3691080"/>
            <a:ext cx="485640" cy="964440"/>
            <a:chOff x="5371920" y="3691080"/>
            <a:chExt cx="485640" cy="964440"/>
          </a:xfrm>
        </p:grpSpPr>
        <p:sp>
          <p:nvSpPr>
            <p:cNvPr id="84" name=""/>
            <p:cNvSpPr/>
            <p:nvPr/>
          </p:nvSpPr>
          <p:spPr>
            <a:xfrm>
              <a:off x="5371920" y="383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48240" y="41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48240" y="36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962840" y="37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7920" y="595440"/>
            <a:ext cx="5275440" cy="1554480"/>
            <a:chOff x="907920" y="595440"/>
            <a:chExt cx="5275440" cy="1554480"/>
          </a:xfrm>
        </p:grpSpPr>
        <p:sp>
          <p:nvSpPr>
            <p:cNvPr id="89" name=""/>
            <p:cNvSpPr/>
            <p:nvPr/>
          </p:nvSpPr>
          <p:spPr>
            <a:xfrm>
              <a:off x="1122480" y="595440"/>
              <a:ext cx="5040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下列每组分数通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907920" y="1330200"/>
              <a:ext cx="5275440" cy="819720"/>
              <a:chOff x="907920" y="1330200"/>
              <a:chExt cx="5275440" cy="819720"/>
            </a:xfrm>
          </p:grpSpPr>
          <p:sp>
            <p:nvSpPr>
              <p:cNvPr id="91" name=""/>
              <p:cNvSpPr/>
              <p:nvPr/>
            </p:nvSpPr>
            <p:spPr>
              <a:xfrm>
                <a:off x="1307520" y="15202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1731960" y="1330200"/>
                    <a:ext cx="20340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3210120" y="149976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2982960" y="1330200"/>
                    <a:ext cx="1904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5" name=""/>
              <p:cNvSpPr/>
              <p:nvPr/>
            </p:nvSpPr>
            <p:spPr>
              <a:xfrm>
                <a:off x="3206160" y="148212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3578400" y="1364760"/>
                    <a:ext cx="299880" cy="68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5980320" y="1330200"/>
                    <a:ext cx="2030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8" name=""/>
              <p:cNvSpPr/>
              <p:nvPr/>
            </p:nvSpPr>
            <p:spPr>
              <a:xfrm>
                <a:off x="5462640" y="1474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07920" y="14742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984600" y="1330200"/>
                <a:ext cx="333000" cy="819720"/>
                <a:chOff x="984600" y="1330200"/>
                <a:chExt cx="333000" cy="81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984600" y="169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84600" y="133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5099040" y="1257120"/>
              <a:ext cx="485640" cy="819720"/>
              <a:chOff x="5099040" y="1257120"/>
              <a:chExt cx="485640" cy="819720"/>
            </a:xfrm>
          </p:grpSpPr>
          <p:sp>
            <p:nvSpPr>
              <p:cNvPr id="104" name=""/>
              <p:cNvSpPr/>
              <p:nvPr/>
            </p:nvSpPr>
            <p:spPr>
              <a:xfrm>
                <a:off x="5099040" y="1401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99040" y="1617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75000" y="125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6332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桥小学有一块长方形的试验田，其中           种黄瓜，  种番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948360" y="40464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95640" y="1052640"/>
                <a:ext cx="215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79280" y="22906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种黄瓜和番茄的面积一共占这块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773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7861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种黄瓜的面积比种番茄的面积多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2149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种番茄的面积比种黄瓜的面积少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836640"/>
          </a:xfrm>
          <a:prstGeom prst="wedgeEllipseCallout">
            <a:avLst>
              <a:gd name="adj1" fmla="val -27953"/>
              <a:gd name="adj2" fmla="val 6916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87920" y="2637000"/>
            <a:ext cx="3268440" cy="1297800"/>
            <a:chOff x="2887920" y="2637000"/>
            <a:chExt cx="3268440" cy="1297800"/>
          </a:xfrm>
        </p:grpSpPr>
        <p:grpSp>
          <p:nvGrpSpPr>
            <p:cNvPr id="116" name=""/>
            <p:cNvGrpSpPr/>
            <p:nvPr/>
          </p:nvGrpSpPr>
          <p:grpSpPr>
            <a:xfrm>
              <a:off x="2887920" y="2637000"/>
              <a:ext cx="688320" cy="1297800"/>
              <a:chOff x="2887920" y="2637000"/>
              <a:chExt cx="688320" cy="1297800"/>
            </a:xfrm>
          </p:grpSpPr>
          <p:sp>
            <p:nvSpPr>
              <p:cNvPr id="117" name=""/>
              <p:cNvSpPr/>
              <p:nvPr/>
            </p:nvSpPr>
            <p:spPr>
              <a:xfrm>
                <a:off x="2887920" y="28731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51360" y="329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51360" y="2637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706920" y="299700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429440" y="2637000"/>
              <a:ext cx="688320" cy="1297800"/>
              <a:chOff x="4429440" y="2637000"/>
              <a:chExt cx="688320" cy="1297800"/>
            </a:xfrm>
          </p:grpSpPr>
          <p:sp>
            <p:nvSpPr>
              <p:cNvPr id="122" name=""/>
              <p:cNvSpPr/>
              <p:nvPr/>
            </p:nvSpPr>
            <p:spPr>
              <a:xfrm>
                <a:off x="4429440" y="28731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92880" y="329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92880" y="26370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364360" y="29970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816280" y="4076640"/>
            <a:ext cx="3268440" cy="1298160"/>
            <a:chOff x="2816280" y="4076640"/>
            <a:chExt cx="3268440" cy="1298160"/>
          </a:xfrm>
        </p:grpSpPr>
        <p:grpSp>
          <p:nvGrpSpPr>
            <p:cNvPr id="127" name=""/>
            <p:cNvGrpSpPr/>
            <p:nvPr/>
          </p:nvGrpSpPr>
          <p:grpSpPr>
            <a:xfrm>
              <a:off x="2816280" y="4076640"/>
              <a:ext cx="688320" cy="1298160"/>
              <a:chOff x="2816280" y="4076640"/>
              <a:chExt cx="688320" cy="1298160"/>
            </a:xfrm>
          </p:grpSpPr>
          <p:sp>
            <p:nvSpPr>
              <p:cNvPr id="128" name=""/>
              <p:cNvSpPr/>
              <p:nvPr/>
            </p:nvSpPr>
            <p:spPr>
              <a:xfrm>
                <a:off x="2816280" y="43131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9720" y="473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79720" y="4076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635280" y="44370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357800" y="4076640"/>
              <a:ext cx="688320" cy="1298160"/>
              <a:chOff x="4357800" y="4076640"/>
              <a:chExt cx="688320" cy="1298160"/>
            </a:xfrm>
          </p:grpSpPr>
          <p:sp>
            <p:nvSpPr>
              <p:cNvPr id="133" name=""/>
              <p:cNvSpPr/>
              <p:nvPr/>
            </p:nvSpPr>
            <p:spPr>
              <a:xfrm>
                <a:off x="4357800" y="43131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21240" y="47322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21240" y="4076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292720" y="44370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938680" y="5560920"/>
            <a:ext cx="3268440" cy="1298160"/>
            <a:chOff x="2938680" y="5560920"/>
            <a:chExt cx="3268440" cy="1298160"/>
          </a:xfrm>
        </p:grpSpPr>
        <p:grpSp>
          <p:nvGrpSpPr>
            <p:cNvPr id="138" name=""/>
            <p:cNvGrpSpPr/>
            <p:nvPr/>
          </p:nvGrpSpPr>
          <p:grpSpPr>
            <a:xfrm>
              <a:off x="2938680" y="5560920"/>
              <a:ext cx="688320" cy="1298160"/>
              <a:chOff x="2938680" y="5560920"/>
              <a:chExt cx="688320" cy="1298160"/>
            </a:xfrm>
          </p:grpSpPr>
          <p:sp>
            <p:nvSpPr>
              <p:cNvPr id="139" name=""/>
              <p:cNvSpPr/>
              <p:nvPr/>
            </p:nvSpPr>
            <p:spPr>
              <a:xfrm>
                <a:off x="2938680" y="579744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02120" y="6216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02120" y="5560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757680" y="592128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480200" y="5560920"/>
              <a:ext cx="688320" cy="1298160"/>
              <a:chOff x="4480200" y="5560920"/>
              <a:chExt cx="688320" cy="1298160"/>
            </a:xfrm>
          </p:grpSpPr>
          <p:sp>
            <p:nvSpPr>
              <p:cNvPr id="144" name=""/>
              <p:cNvSpPr/>
              <p:nvPr/>
            </p:nvSpPr>
            <p:spPr>
              <a:xfrm>
                <a:off x="4480200" y="579744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43640" y="6216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43640" y="5560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15120" y="59212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39920" y="1125360"/>
            <a:ext cx="3952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转化成同分母分数计算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98560" y="2349360"/>
            <a:ext cx="2846160" cy="1428840"/>
            <a:chOff x="1798560" y="2349360"/>
            <a:chExt cx="2846160" cy="1428840"/>
          </a:xfrm>
        </p:grpSpPr>
        <p:grpSp>
          <p:nvGrpSpPr>
            <p:cNvPr id="150" name=""/>
            <p:cNvGrpSpPr/>
            <p:nvPr/>
          </p:nvGrpSpPr>
          <p:grpSpPr>
            <a:xfrm>
              <a:off x="3311280" y="2349360"/>
              <a:ext cx="1333440" cy="1428840"/>
              <a:chOff x="3311280" y="2349360"/>
              <a:chExt cx="1333440" cy="14288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1128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1128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8184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798560" y="2349360"/>
              <a:ext cx="1333440" cy="1428840"/>
              <a:chOff x="1798560" y="2349360"/>
              <a:chExt cx="1333440" cy="1428840"/>
            </a:xfrm>
          </p:grpSpPr>
          <p:sp>
            <p:nvSpPr>
              <p:cNvPr id="155" name=""/>
              <p:cNvSpPr/>
              <p:nvPr/>
            </p:nvSpPr>
            <p:spPr>
              <a:xfrm>
                <a:off x="179856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9856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6912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778120" y="2565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68440" y="26510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716360" y="2349360"/>
            <a:ext cx="2846160" cy="1428840"/>
            <a:chOff x="4716360" y="2349360"/>
            <a:chExt cx="2846160" cy="1428840"/>
          </a:xfrm>
        </p:grpSpPr>
        <p:grpSp>
          <p:nvGrpSpPr>
            <p:cNvPr id="161" name=""/>
            <p:cNvGrpSpPr/>
            <p:nvPr/>
          </p:nvGrpSpPr>
          <p:grpSpPr>
            <a:xfrm>
              <a:off x="6229080" y="2349360"/>
              <a:ext cx="1333440" cy="1428840"/>
              <a:chOff x="6229080" y="2349360"/>
              <a:chExt cx="1333440" cy="1428840"/>
            </a:xfrm>
          </p:grpSpPr>
          <p:sp>
            <p:nvSpPr>
              <p:cNvPr id="162" name=""/>
              <p:cNvSpPr/>
              <p:nvPr/>
            </p:nvSpPr>
            <p:spPr>
              <a:xfrm>
                <a:off x="622908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2908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9964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16360" y="2349360"/>
              <a:ext cx="1333440" cy="1428840"/>
              <a:chOff x="4716360" y="2349360"/>
              <a:chExt cx="1333440" cy="1428840"/>
            </a:xfrm>
          </p:grpSpPr>
          <p:sp>
            <p:nvSpPr>
              <p:cNvPr id="166" name=""/>
              <p:cNvSpPr/>
              <p:nvPr/>
            </p:nvSpPr>
            <p:spPr>
              <a:xfrm>
                <a:off x="471636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1636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692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695920" y="2565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167000" y="3789360"/>
            <a:ext cx="1810080" cy="1428840"/>
            <a:chOff x="4167000" y="3789360"/>
            <a:chExt cx="1810080" cy="1428840"/>
          </a:xfrm>
        </p:grpSpPr>
        <p:sp>
          <p:nvSpPr>
            <p:cNvPr id="171" name=""/>
            <p:cNvSpPr/>
            <p:nvPr/>
          </p:nvSpPr>
          <p:spPr>
            <a:xfrm>
              <a:off x="4167000" y="4076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643640" y="3789360"/>
              <a:ext cx="1333440" cy="1428840"/>
              <a:chOff x="4643640" y="3789360"/>
              <a:chExt cx="1333440" cy="1428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643640" y="378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3640" y="443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14200" y="4437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3025800" cy="879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24880" y="1719360"/>
            <a:ext cx="46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计算下面各题，得到的结果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约分的要约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87280" y="3429000"/>
            <a:ext cx="2846160" cy="1428840"/>
            <a:chOff x="1187280" y="3429000"/>
            <a:chExt cx="2846160" cy="1428840"/>
          </a:xfrm>
        </p:grpSpPr>
        <p:grpSp>
          <p:nvGrpSpPr>
            <p:cNvPr id="179" name=""/>
            <p:cNvGrpSpPr/>
            <p:nvPr/>
          </p:nvGrpSpPr>
          <p:grpSpPr>
            <a:xfrm>
              <a:off x="2700000" y="3429000"/>
              <a:ext cx="1333440" cy="1428840"/>
              <a:chOff x="2700000" y="3429000"/>
              <a:chExt cx="1333440" cy="1428840"/>
            </a:xfrm>
          </p:grpSpPr>
          <p:sp>
            <p:nvSpPr>
              <p:cNvPr id="180" name=""/>
              <p:cNvSpPr/>
              <p:nvPr/>
            </p:nvSpPr>
            <p:spPr>
              <a:xfrm>
                <a:off x="270000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0000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70560" y="4076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187280" y="3429000"/>
              <a:ext cx="1333440" cy="1428840"/>
              <a:chOff x="1187280" y="3429000"/>
              <a:chExt cx="1333440" cy="1428840"/>
            </a:xfrm>
          </p:grpSpPr>
          <p:sp>
            <p:nvSpPr>
              <p:cNvPr id="184" name=""/>
              <p:cNvSpPr/>
              <p:nvPr/>
            </p:nvSpPr>
            <p:spPr>
              <a:xfrm>
                <a:off x="118728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8728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57840" y="4076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166840" y="3644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60800" y="3429000"/>
            <a:ext cx="2448000" cy="1428840"/>
            <a:chOff x="4960800" y="3429000"/>
            <a:chExt cx="2448000" cy="1428840"/>
          </a:xfrm>
        </p:grpSpPr>
        <p:grpSp>
          <p:nvGrpSpPr>
            <p:cNvPr id="189" name=""/>
            <p:cNvGrpSpPr/>
            <p:nvPr/>
          </p:nvGrpSpPr>
          <p:grpSpPr>
            <a:xfrm>
              <a:off x="6075360" y="3429000"/>
              <a:ext cx="1333440" cy="1428840"/>
              <a:chOff x="6075360" y="3429000"/>
              <a:chExt cx="1333440" cy="1428840"/>
            </a:xfrm>
          </p:grpSpPr>
          <p:sp>
            <p:nvSpPr>
              <p:cNvPr id="190" name=""/>
              <p:cNvSpPr/>
              <p:nvPr/>
            </p:nvSpPr>
            <p:spPr>
              <a:xfrm>
                <a:off x="607536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7536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45920" y="4076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5542200" y="3644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0800" y="3730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1262160"/>
            <a:ext cx="76215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计算异分母分数加法时，可以先通分，把异分母分数转化为同分母分数，再根据同分母分数的计算法则进行计算。计算结果能约分的一般要约成最简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3167280" cy="905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69920" y="1876320"/>
            <a:ext cx="45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计算下面各题，并验算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93840" y="4437000"/>
            <a:ext cx="2846160" cy="1428840"/>
            <a:chOff x="1293840" y="4437000"/>
            <a:chExt cx="2846160" cy="1428840"/>
          </a:xfrm>
        </p:grpSpPr>
        <p:grpSp>
          <p:nvGrpSpPr>
            <p:cNvPr id="199" name=""/>
            <p:cNvGrpSpPr/>
            <p:nvPr/>
          </p:nvGrpSpPr>
          <p:grpSpPr>
            <a:xfrm>
              <a:off x="2806560" y="4437000"/>
              <a:ext cx="1333440" cy="1428840"/>
              <a:chOff x="2806560" y="4437000"/>
              <a:chExt cx="1333440" cy="1428840"/>
            </a:xfrm>
          </p:grpSpPr>
          <p:sp>
            <p:nvSpPr>
              <p:cNvPr id="200" name=""/>
              <p:cNvSpPr/>
              <p:nvPr/>
            </p:nvSpPr>
            <p:spPr>
              <a:xfrm>
                <a:off x="2806560" y="4437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06560" y="508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77120" y="5085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293840" y="4437000"/>
              <a:ext cx="1333440" cy="1428840"/>
              <a:chOff x="1293840" y="4437000"/>
              <a:chExt cx="1333440" cy="1428840"/>
            </a:xfrm>
          </p:grpSpPr>
          <p:sp>
            <p:nvSpPr>
              <p:cNvPr id="204" name=""/>
              <p:cNvSpPr/>
              <p:nvPr/>
            </p:nvSpPr>
            <p:spPr>
              <a:xfrm>
                <a:off x="1293840" y="4437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3840" y="508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64400" y="5085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273400" y="4653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105160" y="4449600"/>
            <a:ext cx="2448000" cy="1428840"/>
            <a:chOff x="5105160" y="4449600"/>
            <a:chExt cx="2448000" cy="1428840"/>
          </a:xfrm>
        </p:grpSpPr>
        <p:grpSp>
          <p:nvGrpSpPr>
            <p:cNvPr id="209" name=""/>
            <p:cNvGrpSpPr/>
            <p:nvPr/>
          </p:nvGrpSpPr>
          <p:grpSpPr>
            <a:xfrm>
              <a:off x="6219720" y="4449600"/>
              <a:ext cx="1333440" cy="1428840"/>
              <a:chOff x="6219720" y="4449600"/>
              <a:chExt cx="1333440" cy="1428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219720" y="44496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19720" y="50986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90280" y="50976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686560" y="46656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5160" y="4751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258920" y="2781360"/>
            <a:ext cx="2846160" cy="1428840"/>
            <a:chOff x="1258920" y="2781360"/>
            <a:chExt cx="2846160" cy="1428840"/>
          </a:xfrm>
        </p:grpSpPr>
        <p:grpSp>
          <p:nvGrpSpPr>
            <p:cNvPr id="216" name=""/>
            <p:cNvGrpSpPr/>
            <p:nvPr/>
          </p:nvGrpSpPr>
          <p:grpSpPr>
            <a:xfrm>
              <a:off x="2771640" y="2781360"/>
              <a:ext cx="1333440" cy="1428840"/>
              <a:chOff x="2771640" y="2781360"/>
              <a:chExt cx="1333440" cy="1428840"/>
            </a:xfrm>
          </p:grpSpPr>
          <p:sp>
            <p:nvSpPr>
              <p:cNvPr id="217" name=""/>
              <p:cNvSpPr/>
              <p:nvPr/>
            </p:nvSpPr>
            <p:spPr>
              <a:xfrm>
                <a:off x="277164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164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4220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258920" y="2781360"/>
              <a:ext cx="1333440" cy="1428840"/>
              <a:chOff x="1258920" y="2781360"/>
              <a:chExt cx="1333440" cy="1428840"/>
            </a:xfrm>
          </p:grpSpPr>
          <p:sp>
            <p:nvSpPr>
              <p:cNvPr id="221" name=""/>
              <p:cNvSpPr/>
              <p:nvPr/>
            </p:nvSpPr>
            <p:spPr>
              <a:xfrm>
                <a:off x="125892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5892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2948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2238480" y="2997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678200" y="2781360"/>
            <a:ext cx="2846160" cy="1428840"/>
            <a:chOff x="4678200" y="2781360"/>
            <a:chExt cx="2846160" cy="1428840"/>
          </a:xfrm>
        </p:grpSpPr>
        <p:grpSp>
          <p:nvGrpSpPr>
            <p:cNvPr id="226" name=""/>
            <p:cNvGrpSpPr/>
            <p:nvPr/>
          </p:nvGrpSpPr>
          <p:grpSpPr>
            <a:xfrm>
              <a:off x="6190920" y="2781360"/>
              <a:ext cx="1333440" cy="1428840"/>
              <a:chOff x="6190920" y="2781360"/>
              <a:chExt cx="1333440" cy="1428840"/>
            </a:xfrm>
          </p:grpSpPr>
          <p:sp>
            <p:nvSpPr>
              <p:cNvPr id="227" name=""/>
              <p:cNvSpPr/>
              <p:nvPr/>
            </p:nvSpPr>
            <p:spPr>
              <a:xfrm>
                <a:off x="619092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9092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6148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678200" y="2781360"/>
              <a:ext cx="1333440" cy="1428840"/>
              <a:chOff x="4678200" y="2781360"/>
              <a:chExt cx="1333440" cy="1428840"/>
            </a:xfrm>
          </p:grpSpPr>
          <p:sp>
            <p:nvSpPr>
              <p:cNvPr id="231" name=""/>
              <p:cNvSpPr/>
              <p:nvPr/>
            </p:nvSpPr>
            <p:spPr>
              <a:xfrm>
                <a:off x="467820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7820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4876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657760" y="2997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5295960" y="4148280"/>
          <a:ext cx="150804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4148280"/>
                    <a:ext cx="15080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00280" y="4149720"/>
          <a:ext cx="150336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0280" y="4149720"/>
                    <a:ext cx="15033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481760" y="476280"/>
            <a:ext cx="2840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练习十四第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3480" y="1052640"/>
            <a:ext cx="80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 Black"/>
                <a:ea typeface="黑体"/>
              </a:rPr>
              <a:t>先在算式下面的图形中涂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 Black"/>
                <a:ea typeface="黑体"/>
              </a:rPr>
              <a:t>涂，再写出得数。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4560" y="2289240"/>
            <a:ext cx="4141800" cy="1717920"/>
            <a:chOff x="574560" y="2289240"/>
            <a:chExt cx="4141800" cy="1717920"/>
          </a:xfrm>
        </p:grpSpPr>
        <p:grpSp>
          <p:nvGrpSpPr>
            <p:cNvPr id="242" name=""/>
            <p:cNvGrpSpPr/>
            <p:nvPr/>
          </p:nvGrpSpPr>
          <p:grpSpPr>
            <a:xfrm>
              <a:off x="574560" y="2578320"/>
              <a:ext cx="2846160" cy="1428840"/>
              <a:chOff x="574560" y="2578320"/>
              <a:chExt cx="2846160" cy="1428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2087280" y="2578320"/>
                <a:ext cx="1333440" cy="1428840"/>
                <a:chOff x="2087280" y="2578320"/>
                <a:chExt cx="1333440" cy="1428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087280" y="2578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087280" y="3227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57840" y="3225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74560" y="2578320"/>
                <a:ext cx="1333440" cy="1428840"/>
                <a:chOff x="574560" y="2578320"/>
                <a:chExt cx="1333440" cy="14288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74560" y="2578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4560" y="3227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5120" y="3225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554120" y="27939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904480" y="2289240"/>
              <a:ext cx="1811880" cy="1702080"/>
              <a:chOff x="2904480" y="2289240"/>
              <a:chExt cx="1811880" cy="1702080"/>
            </a:xfrm>
          </p:grpSpPr>
          <p:sp>
            <p:nvSpPr>
              <p:cNvPr id="253" name=""/>
              <p:cNvSpPr/>
              <p:nvPr/>
            </p:nvSpPr>
            <p:spPr>
              <a:xfrm>
                <a:off x="2904480" y="28512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82920" y="32115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54200" y="3211560"/>
                <a:ext cx="78264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82920" y="22892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4605480" y="2276640"/>
            <a:ext cx="4142880" cy="1702080"/>
            <a:chOff x="4605480" y="2276640"/>
            <a:chExt cx="4142880" cy="1702080"/>
          </a:xfrm>
        </p:grpSpPr>
        <p:grpSp>
          <p:nvGrpSpPr>
            <p:cNvPr id="258" name=""/>
            <p:cNvGrpSpPr/>
            <p:nvPr/>
          </p:nvGrpSpPr>
          <p:grpSpPr>
            <a:xfrm>
              <a:off x="4605480" y="2549520"/>
              <a:ext cx="2846160" cy="1428480"/>
              <a:chOff x="4605480" y="2549520"/>
              <a:chExt cx="2846160" cy="14284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118200" y="2549520"/>
                <a:ext cx="1333440" cy="1428480"/>
                <a:chOff x="6118200" y="2549520"/>
                <a:chExt cx="1333440" cy="1428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118200" y="25495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118200" y="31982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88760" y="31971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605480" y="2549520"/>
                <a:ext cx="1333440" cy="1428480"/>
                <a:chOff x="4605480" y="2549520"/>
                <a:chExt cx="1333440" cy="1428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605480" y="25495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605480" y="31982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76040" y="31971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585040" y="27651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937200" y="2276640"/>
              <a:ext cx="1811160" cy="1702080"/>
              <a:chOff x="6937200" y="2276640"/>
              <a:chExt cx="1811160" cy="1702080"/>
            </a:xfrm>
          </p:grpSpPr>
          <p:sp>
            <p:nvSpPr>
              <p:cNvPr id="269" name=""/>
              <p:cNvSpPr/>
              <p:nvPr/>
            </p:nvSpPr>
            <p:spPr>
              <a:xfrm>
                <a:off x="6937200" y="2838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5280" y="319896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86560" y="3198960"/>
                <a:ext cx="78228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5280" y="227664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73" name=""/>
          <p:cNvGraphicFramePr/>
          <p:nvPr/>
        </p:nvGraphicFramePr>
        <p:xfrm>
          <a:off x="1692360" y="4149720"/>
          <a:ext cx="151272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149720"/>
                    <a:ext cx="1512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295960" y="4148280"/>
          <a:ext cx="150804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4148280"/>
                    <a:ext cx="15080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3592440" y="2363760"/>
            <a:ext cx="519480" cy="1700640"/>
            <a:chOff x="3592440" y="2363760"/>
            <a:chExt cx="519480" cy="1700640"/>
          </a:xfrm>
        </p:grpSpPr>
        <p:sp>
          <p:nvSpPr>
            <p:cNvPr id="278" name=""/>
            <p:cNvSpPr/>
            <p:nvPr/>
          </p:nvSpPr>
          <p:spPr>
            <a:xfrm>
              <a:off x="3603600" y="236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92440" y="3284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624440" y="2349360"/>
            <a:ext cx="519120" cy="1700640"/>
            <a:chOff x="7624440" y="2349360"/>
            <a:chExt cx="519120" cy="1700640"/>
          </a:xfrm>
        </p:grpSpPr>
        <p:sp>
          <p:nvSpPr>
            <p:cNvPr id="281" name=""/>
            <p:cNvSpPr/>
            <p:nvPr/>
          </p:nvSpPr>
          <p:spPr>
            <a:xfrm>
              <a:off x="7635240" y="234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4440" y="32702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81760" y="476280"/>
            <a:ext cx="2840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练习十四第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05120" y="1484280"/>
            <a:ext cx="5324400" cy="4208760"/>
            <a:chOff x="1905120" y="1484280"/>
            <a:chExt cx="5324400" cy="4208760"/>
          </a:xfrm>
        </p:grpSpPr>
        <p:sp>
          <p:nvSpPr>
            <p:cNvPr id="285" name=""/>
            <p:cNvSpPr/>
            <p:nvPr/>
          </p:nvSpPr>
          <p:spPr>
            <a:xfrm>
              <a:off x="1905120" y="1484280"/>
              <a:ext cx="53244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地球表面大部分被海洋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盖，太平洋大约占地球表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面的      ，大西洋大约占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地球表面的      ，这两个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洋的面积一共约占地球表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面的几分之几？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700360" y="2539800"/>
              <a:ext cx="1333800" cy="1428840"/>
              <a:chOff x="2700360" y="2539800"/>
              <a:chExt cx="1333800" cy="1428840"/>
            </a:xfrm>
          </p:grpSpPr>
          <p:sp>
            <p:nvSpPr>
              <p:cNvPr id="287" name=""/>
              <p:cNvSpPr/>
              <p:nvPr/>
            </p:nvSpPr>
            <p:spPr>
              <a:xfrm>
                <a:off x="2700360" y="253980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00360" y="318888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70920" y="31874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357800" y="3259080"/>
              <a:ext cx="1333440" cy="1428840"/>
              <a:chOff x="4357800" y="3259080"/>
              <a:chExt cx="1333440" cy="1428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357800" y="3259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57800" y="3908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28360" y="3906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6T01:23:5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