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03E-E45D-4E94-9805-96007A72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123-20AD-4215-8187-F0D9448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AEB-5EF6-4697-810F-64DFCEB3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954-71D3-4841-A9C7-EA69819C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8EB-6C60-4224-8517-C24020CC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2F8-D7DD-4A07-895A-206D63A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144-8C07-40E9-9804-020DF83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EA0-5769-4C86-BEDF-54F5988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4FA-F500-4972-B3B0-0358B46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430-CB9E-43CC-9E1A-FF9E2AD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AB1-CEE5-4368-84B3-BC8FC30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E22-65DF-4C1E-9CC2-4C25B8C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10CC-2C58-4F69-A0EE-78651CB325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因数和倍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7280" y="1700280"/>
            <a:ext cx="716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你能找出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的所有因数吗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924280"/>
            <a:ext cx="710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（   ） 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× 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（   ）＝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662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因数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0034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97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2997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068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997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997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306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06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068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9880" y="4803840"/>
            <a:ext cx="5196240" cy="642600"/>
            <a:chOff x="3719880" y="4803840"/>
            <a:chExt cx="5196240" cy="642600"/>
          </a:xfrm>
        </p:grpSpPr>
        <p:sp>
          <p:nvSpPr>
            <p:cNvPr id="121" name=""/>
            <p:cNvSpPr/>
            <p:nvPr/>
          </p:nvSpPr>
          <p:spPr>
            <a:xfrm>
              <a:off x="371988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2920" y="48038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961240" y="47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1360" y="4803840"/>
            <a:ext cx="1607400" cy="642600"/>
            <a:chOff x="5391360" y="4803840"/>
            <a:chExt cx="1607400" cy="642600"/>
          </a:xfrm>
        </p:grpSpPr>
        <p:sp>
          <p:nvSpPr>
            <p:cNvPr id="125" name=""/>
            <p:cNvSpPr/>
            <p:nvPr/>
          </p:nvSpPr>
          <p:spPr>
            <a:xfrm>
              <a:off x="539136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372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29400" y="4803840"/>
            <a:ext cx="2739600" cy="642600"/>
            <a:chOff x="4829400" y="4803840"/>
            <a:chExt cx="2739600" cy="642600"/>
          </a:xfrm>
        </p:grpSpPr>
        <p:sp>
          <p:nvSpPr>
            <p:cNvPr id="128" name=""/>
            <p:cNvSpPr/>
            <p:nvPr/>
          </p:nvSpPr>
          <p:spPr>
            <a:xfrm>
              <a:off x="482940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1396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310280" y="4797360"/>
            <a:ext cx="3906360" cy="649080"/>
            <a:chOff x="4310280" y="4797360"/>
            <a:chExt cx="3906360" cy="649080"/>
          </a:xfrm>
        </p:grpSpPr>
        <p:sp>
          <p:nvSpPr>
            <p:cNvPr id="131" name=""/>
            <p:cNvSpPr/>
            <p:nvPr/>
          </p:nvSpPr>
          <p:spPr>
            <a:xfrm>
              <a:off x="4310280" y="4803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61600" y="479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68360" y="2708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6 ÷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＝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16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你能找出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的所有因数吗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68360" y="3141720"/>
            <a:ext cx="5832360" cy="1876680"/>
            <a:chOff x="2268360" y="3141720"/>
            <a:chExt cx="5832360" cy="1876680"/>
          </a:xfrm>
        </p:grpSpPr>
        <p:sp>
          <p:nvSpPr>
            <p:cNvPr id="136" name=""/>
            <p:cNvSpPr/>
            <p:nvPr/>
          </p:nvSpPr>
          <p:spPr>
            <a:xfrm>
              <a:off x="2268360" y="3141720"/>
              <a:ext cx="575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 ÷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＝ 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8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357336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 ÷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＝ 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2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68360" y="400536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 ÷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＝ （ 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8360" y="443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 ÷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＝ （  </a:t>
              </a:r>
              <a:r>
                <a:rPr b="1" lang="zh-CN" sz="32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508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因数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23200" y="5157720"/>
            <a:ext cx="4169880" cy="642600"/>
            <a:chOff x="2923200" y="5157720"/>
            <a:chExt cx="4169880" cy="642600"/>
          </a:xfrm>
        </p:grpSpPr>
        <p:sp>
          <p:nvSpPr>
            <p:cNvPr id="142" name=""/>
            <p:cNvSpPr/>
            <p:nvPr/>
          </p:nvSpPr>
          <p:spPr>
            <a:xfrm>
              <a:off x="2923200" y="5157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8760" y="515772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64000" y="51642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,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3920" y="2705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8920" y="270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1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270504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2080" y="1203480"/>
            <a:ext cx="7927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4600" y="5157720"/>
            <a:ext cx="59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的因数的个数是有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27360" y="3068640"/>
            <a:ext cx="6553080" cy="2089080"/>
            <a:chOff x="1827360" y="3068640"/>
            <a:chExt cx="6553080" cy="20890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828800" y="3659040"/>
              <a:ext cx="491040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rcRect l="-18909" t="-18876" r="-17652" b="-17631"/>
            <a:stretch/>
          </p:blipFill>
          <p:spPr>
            <a:xfrm>
              <a:off x="6661440" y="3068640"/>
              <a:ext cx="171900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827360" y="3573360"/>
              <a:ext cx="518472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数的最小因数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最大的因数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45000" y="37180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5908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的因数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的因数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28640"/>
            <a:ext cx="50389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15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16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148360" y="4549680"/>
            <a:ext cx="2743200" cy="1832040"/>
            <a:chOff x="5148360" y="4549680"/>
            <a:chExt cx="2743200" cy="1832040"/>
          </a:xfrm>
        </p:grpSpPr>
        <p:sp>
          <p:nvSpPr>
            <p:cNvPr id="160" name=""/>
            <p:cNvSpPr/>
            <p:nvPr/>
          </p:nvSpPr>
          <p:spPr>
            <a:xfrm>
              <a:off x="5148360" y="5130720"/>
              <a:ext cx="2743200" cy="1251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9960" y="45496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76360" y="1297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找出多少个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789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54770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549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像右面这样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6720" y="1231920"/>
            <a:ext cx="1025640" cy="569880"/>
            <a:chOff x="666720" y="1231920"/>
            <a:chExt cx="1025640" cy="5698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66720" y="1231920"/>
              <a:ext cx="8175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20880" y="1262160"/>
              <a:ext cx="77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5640" y="1989000"/>
            <a:ext cx="5073480" cy="2089080"/>
            <a:chOff x="2195640" y="1989000"/>
            <a:chExt cx="5073480" cy="208908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195640" y="2249280"/>
              <a:ext cx="3697200" cy="11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227320" y="2239920"/>
              <a:ext cx="33829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= 2      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=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= 6      ·····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6043680" y="1989000"/>
              <a:ext cx="1225440" cy="208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14860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箭头表示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0560" y="2606760"/>
            <a:ext cx="7834320" cy="135000"/>
            <a:chOff x="520560" y="2606760"/>
            <a:chExt cx="7834320" cy="135000"/>
          </a:xfrm>
        </p:grpSpPr>
        <p:sp>
          <p:nvSpPr>
            <p:cNvPr id="175" name=""/>
            <p:cNvSpPr/>
            <p:nvPr/>
          </p:nvSpPr>
          <p:spPr>
            <a:xfrm>
              <a:off x="6127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56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04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348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96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43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591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320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68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812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307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51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99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528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76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024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768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515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263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007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0560" y="2741760"/>
              <a:ext cx="783432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68360" y="2716200"/>
            <a:ext cx="7870680" cy="459720"/>
            <a:chOff x="468360" y="2716200"/>
            <a:chExt cx="7870680" cy="459720"/>
          </a:xfrm>
        </p:grpSpPr>
        <p:sp>
          <p:nvSpPr>
            <p:cNvPr id="198" name=""/>
            <p:cNvSpPr/>
            <p:nvPr/>
          </p:nvSpPr>
          <p:spPr>
            <a:xfrm>
              <a:off x="46836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44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96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112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512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2272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9388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6396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548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70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083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8308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5784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26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70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176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565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09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0568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8044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34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588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3304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6020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8232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804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35200" y="2311560"/>
            <a:ext cx="1117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" y="8440"/>
                </a:moveTo>
                <a:arcTo wR="10800" hR="10800" stAng="-10042693" swAng="10042693"/>
                <a:lnTo>
                  <a:pt x="10800" y="10800"/>
                </a:lnTo>
                <a:close/>
              </a:path>
              <a:path fill="none" w="21600" h="21600">
                <a:moveTo>
                  <a:pt x="261" y="8440"/>
                </a:moveTo>
                <a:arcTo wR="10800" hR="10800" stAng="-10042693" swAng="10042693"/>
              </a:path>
            </a:pathLst>
          </a:custGeom>
          <a:noFill/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8360" y="154152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有哪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3335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5,  10,  15,  20,  25,  30,  35,  40,   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57520" y="3021120"/>
            <a:ext cx="5190480" cy="1560240"/>
            <a:chOff x="1757520" y="3021120"/>
            <a:chExt cx="5190480" cy="156024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1763640" y="3309840"/>
              <a:ext cx="3760200" cy="11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757520" y="3284280"/>
              <a:ext cx="36064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数的最小倍数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几？有最大倍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5840280" y="3021120"/>
              <a:ext cx="110772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826920" y="47973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的倍数的个数是无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33240" y="1440000"/>
            <a:ext cx="8115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几个因数的关系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1 + 2 + 3 = 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像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样的数，叫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完全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叫完美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完全数，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不是，因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+2+4=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完全数非常稀少，到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人们在无穷无尽的自然数里，一共找到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完全数，其中较小的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 12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893880"/>
            <a:ext cx="15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595520" y="1798560"/>
            <a:ext cx="5713200" cy="1125360"/>
            <a:chOff x="1595520" y="1798560"/>
            <a:chExt cx="5713200" cy="1125360"/>
          </a:xfrm>
        </p:grpSpPr>
        <p:sp>
          <p:nvSpPr>
            <p:cNvPr id="235" name=""/>
            <p:cNvSpPr/>
            <p:nvPr/>
          </p:nvSpPr>
          <p:spPr>
            <a:xfrm>
              <a:off x="165708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5708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5520" y="1798560"/>
              <a:ext cx="5713200" cy="1125360"/>
            </a:xfrm>
            <a:prstGeom prst="rect">
              <a:avLst/>
            </a:prstGeom>
            <a:solidFill>
              <a:srgbClr val="f3faff"/>
            </a:solidFill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096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0440" y="18446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172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444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7160" y="18446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844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1160" y="184464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63880" y="18446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66440" y="234936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628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8756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9848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976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104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1960" y="234936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24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4520" y="234936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82640" y="1846080"/>
              <a:ext cx="58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11280" y="1025640"/>
            <a:ext cx="792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方框中的数填入相应的热气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68360" y="3111480"/>
            <a:ext cx="2374920" cy="3054240"/>
            <a:chOff x="468360" y="3111480"/>
            <a:chExt cx="2374920" cy="305424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68360" y="3556080"/>
              <a:ext cx="2374920" cy="26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816120" y="3111480"/>
              <a:ext cx="1861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6</a:t>
              </a:r>
              <a:r>
                <a:rPr b="1" lang="zh-CN" sz="2700" spc="-1" strike="noStrike" baseline="30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因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27640" y="3111480"/>
            <a:ext cx="2374920" cy="3054240"/>
            <a:chOff x="6227640" y="3111480"/>
            <a:chExt cx="2374920" cy="305424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6227640" y="3556080"/>
              <a:ext cx="2374920" cy="26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529320" y="3111480"/>
              <a:ext cx="18619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0</a:t>
              </a:r>
              <a:r>
                <a:rPr b="1" lang="zh-CN" sz="27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因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65564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5564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93720" y="1798560"/>
            <a:ext cx="5713560" cy="1125720"/>
          </a:xfrm>
          <a:prstGeom prst="rect">
            <a:avLst/>
          </a:prstGeom>
          <a:solidFill>
            <a:srgbClr val="f3fa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52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8936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028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336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608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700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008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6280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6536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7484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8612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9740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0832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960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088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216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1200" y="18464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81200" y="18320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79520" y="184464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7964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092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27520" y="184464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0040" y="2349360"/>
            <a:ext cx="5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1268280"/>
            <a:ext cx="286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482920" y="2112840"/>
            <a:ext cx="576360" cy="1828800"/>
            <a:chOff x="2482920" y="2112840"/>
            <a:chExt cx="576360" cy="1828800"/>
          </a:xfrm>
        </p:grpSpPr>
        <p:sp>
          <p:nvSpPr>
            <p:cNvPr id="292" name=""/>
            <p:cNvSpPr/>
            <p:nvPr/>
          </p:nvSpPr>
          <p:spPr>
            <a:xfrm>
              <a:off x="2484360" y="2112840"/>
              <a:ext cx="571680" cy="1828800"/>
            </a:xfrm>
            <a:prstGeom prst="rect">
              <a:avLst/>
            </a:prstGeom>
            <a:solidFill>
              <a:srgbClr val="ffebff"/>
            </a:solidFill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82920" y="2141280"/>
              <a:ext cx="576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258920" y="4157640"/>
            <a:ext cx="655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24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8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2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0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18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6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7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2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4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227640" y="2112840"/>
            <a:ext cx="576360" cy="1828800"/>
            <a:chOff x="6227640" y="2112840"/>
            <a:chExt cx="576360" cy="1828800"/>
          </a:xfrm>
        </p:grpSpPr>
        <p:sp>
          <p:nvSpPr>
            <p:cNvPr id="296" name=""/>
            <p:cNvSpPr/>
            <p:nvPr/>
          </p:nvSpPr>
          <p:spPr>
            <a:xfrm>
              <a:off x="6227640" y="2112840"/>
              <a:ext cx="571680" cy="1828800"/>
            </a:xfrm>
            <a:prstGeom prst="rect">
              <a:avLst/>
            </a:prstGeom>
            <a:solidFill>
              <a:srgbClr val="ffebff"/>
            </a:solidFill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7640" y="2141280"/>
              <a:ext cx="576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2000" y="2143080"/>
            <a:ext cx="2887560" cy="1873800"/>
            <a:chOff x="3132000" y="2143080"/>
            <a:chExt cx="2887560" cy="1873800"/>
          </a:xfrm>
        </p:grpSpPr>
        <p:sp>
          <p:nvSpPr>
            <p:cNvPr id="299" name=""/>
            <p:cNvSpPr/>
            <p:nvPr/>
          </p:nvSpPr>
          <p:spPr>
            <a:xfrm>
              <a:off x="3132000" y="214308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51280" y="214308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72000" y="214308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33840" y="214308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32000" y="2827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51280" y="2827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000" y="2827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3840" y="2827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32000" y="3511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1280" y="3511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0" y="3511440"/>
              <a:ext cx="585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16400" y="3511440"/>
              <a:ext cx="803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1"/>
          <a:srcRect l="0" t="0" r="56087" b="0"/>
          <a:stretch/>
        </p:blipFill>
        <p:spPr>
          <a:xfrm>
            <a:off x="695160" y="2517840"/>
            <a:ext cx="1644840" cy="148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rcRect l="55493" t="0" r="0" b="0"/>
          <a:stretch/>
        </p:blipFill>
        <p:spPr>
          <a:xfrm>
            <a:off x="6804000" y="2430360"/>
            <a:ext cx="1666800" cy="148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1197000"/>
            <a:ext cx="453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各数的因数或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11280" y="1989000"/>
          <a:ext cx="7921440" cy="3621240"/>
        </p:xfrm>
        <a:graphic>
          <a:graphicData uri="http://schemas.openxmlformats.org/drawingml/2006/table">
            <a:tbl>
              <a:tblPr/>
              <a:tblGrid>
                <a:gridCol w="798840"/>
                <a:gridCol w="2916000"/>
                <a:gridCol w="216000"/>
                <a:gridCol w="795960"/>
                <a:gridCol w="3194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倍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写出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386000" y="2492280"/>
            <a:ext cx="23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, 2,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0" y="249228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, 8, 12, 16,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86000" y="3019320"/>
            <a:ext cx="23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,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2997360"/>
            <a:ext cx="30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, 14, 21, 28,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86000" y="354816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, 2, 4, 7, 14,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64000" y="3500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, 20, 30, 40,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86000" y="4076640"/>
            <a:ext cx="29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, 2, 4, 8, 16,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64000" y="40766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, 24, 36, 48,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86000" y="4505400"/>
            <a:ext cx="3093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, 2, 3, 4, 6, 8, 1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6, 24,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0" y="48308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5, 30, 45, 60,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071960" y="3304800"/>
            <a:ext cx="65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43160" y="34351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43200" y="2863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00720" y="2233080"/>
            <a:ext cx="86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1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214960" y="3090240"/>
            <a:ext cx="107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24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2484360" y="2638440"/>
            <a:ext cx="4071960" cy="19288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920" y="4643280"/>
            <a:ext cx="3530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它们是什么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429240" y="4214880"/>
            <a:ext cx="1357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01600" y="2325600"/>
            <a:ext cx="3175200" cy="1430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116000" y="2278080"/>
            <a:ext cx="3755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 =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倍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134136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说得对，在方框中画 “    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005440" y="1487520"/>
            <a:ext cx="422280" cy="390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492360" y="4724280"/>
            <a:ext cx="43200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126040" y="2343240"/>
            <a:ext cx="2852640" cy="1446120"/>
            <a:chOff x="5126040" y="2343240"/>
            <a:chExt cx="2852640" cy="1446120"/>
          </a:xfrm>
        </p:grpSpPr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5126040" y="2384640"/>
              <a:ext cx="259236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203800" y="2343240"/>
              <a:ext cx="2774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只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940360" y="4317840"/>
            <a:ext cx="43200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rcRect l="64547" t="-15084" r="0" b="0"/>
          <a:stretch/>
        </p:blipFill>
        <p:spPr>
          <a:xfrm>
            <a:off x="3490920" y="4653000"/>
            <a:ext cx="415800" cy="520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rcRect l="64547" t="-15084" r="0" b="0"/>
          <a:stretch/>
        </p:blipFill>
        <p:spPr>
          <a:xfrm>
            <a:off x="5918040" y="4221000"/>
            <a:ext cx="416160" cy="520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rcRect l="0" t="0" r="55118" b="0"/>
          <a:stretch/>
        </p:blipFill>
        <p:spPr>
          <a:xfrm>
            <a:off x="1476360" y="3500280"/>
            <a:ext cx="1936800" cy="223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rcRect l="55041" t="0" r="0" b="0"/>
          <a:stretch/>
        </p:blipFill>
        <p:spPr>
          <a:xfrm>
            <a:off x="6303960" y="3500280"/>
            <a:ext cx="1940040" cy="22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rcRect l="0" t="0" r="43965" b="0"/>
          <a:stretch/>
        </p:blipFill>
        <p:spPr>
          <a:xfrm>
            <a:off x="920880" y="2982960"/>
            <a:ext cx="2490480" cy="2754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-2777" t="-17464" r="-8341" b="-5431"/>
          <a:stretch/>
        </p:blipFill>
        <p:spPr>
          <a:xfrm>
            <a:off x="1305000" y="2133720"/>
            <a:ext cx="3044880" cy="1255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4360" y="134136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说得对，在方框中画 “    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005440" y="1487520"/>
            <a:ext cx="422280" cy="3906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74920" y="2276640"/>
            <a:ext cx="33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40160" y="5084640"/>
            <a:ext cx="4316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364000" y="2251080"/>
            <a:ext cx="3095640" cy="1465200"/>
            <a:chOff x="5364000" y="2251080"/>
            <a:chExt cx="3095640" cy="146520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5364000" y="2251080"/>
              <a:ext cx="28083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364000" y="2251080"/>
              <a:ext cx="3095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因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722920" y="5084640"/>
            <a:ext cx="4316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516480" y="5025960"/>
            <a:ext cx="422280" cy="390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5796000" y="5013360"/>
            <a:ext cx="422280" cy="390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rcRect l="58396" t="0" r="0" b="0"/>
          <a:stretch/>
        </p:blipFill>
        <p:spPr>
          <a:xfrm>
            <a:off x="6394320" y="3429000"/>
            <a:ext cx="1849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0" r="52490" b="0"/>
          <a:stretch/>
        </p:blipFill>
        <p:spPr>
          <a:xfrm>
            <a:off x="971640" y="2565360"/>
            <a:ext cx="1336680" cy="1657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96800" y="1052640"/>
            <a:ext cx="309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猜数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7320" y="1773360"/>
            <a:ext cx="8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rcRect l="0" t="0" r="53281" b="0"/>
          <a:stretch/>
        </p:blipFill>
        <p:spPr>
          <a:xfrm>
            <a:off x="4932360" y="2546280"/>
            <a:ext cx="1496880" cy="1746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55537" t="0" r="0" b="0"/>
          <a:stretch/>
        </p:blipFill>
        <p:spPr>
          <a:xfrm>
            <a:off x="3519360" y="4516560"/>
            <a:ext cx="1252800" cy="1658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rcRect l="53132" t="0" r="0" b="0"/>
          <a:stretch/>
        </p:blipFill>
        <p:spPr>
          <a:xfrm>
            <a:off x="6956280" y="4365720"/>
            <a:ext cx="1503360" cy="174924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979640" y="2421000"/>
            <a:ext cx="3441600" cy="1044360"/>
            <a:chOff x="1979640" y="2421000"/>
            <a:chExt cx="3441600" cy="1044360"/>
          </a:xfrm>
        </p:grpSpPr>
        <p:pic>
          <p:nvPicPr>
            <p:cNvPr id="358" name="" descr=""/>
            <p:cNvPicPr/>
            <p:nvPr/>
          </p:nvPicPr>
          <p:blipFill>
            <a:blip r:embed="rId5"/>
            <a:stretch/>
          </p:blipFill>
          <p:spPr>
            <a:xfrm>
              <a:off x="1979640" y="2441160"/>
              <a:ext cx="277344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325600" y="2421000"/>
              <a:ext cx="30956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它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2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因数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又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6"/>
          <a:srcRect l="-6504" t="-16081" r="-5845" b="-30173"/>
          <a:stretch/>
        </p:blipFill>
        <p:spPr>
          <a:xfrm>
            <a:off x="1042920" y="4292640"/>
            <a:ext cx="2959200" cy="1400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244520" y="4410000"/>
            <a:ext cx="266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能是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140520" y="2651040"/>
            <a:ext cx="2576520" cy="1263600"/>
            <a:chOff x="6140520" y="2651040"/>
            <a:chExt cx="2576520" cy="1263600"/>
          </a:xfrm>
        </p:grpSpPr>
        <p:pic>
          <p:nvPicPr>
            <p:cNvPr id="363" name="" descr=""/>
            <p:cNvPicPr/>
            <p:nvPr/>
          </p:nvPicPr>
          <p:blipFill>
            <a:blip r:embed="rId7"/>
            <a:srcRect l="-5627" t="-19560" r="-10213" b="-26873"/>
            <a:stretch/>
          </p:blipFill>
          <p:spPr>
            <a:xfrm flipH="1" rot="10800000">
              <a:off x="6140520" y="2651040"/>
              <a:ext cx="244800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556320" y="2816280"/>
              <a:ext cx="21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它还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859280" y="4365720"/>
            <a:ext cx="2544840" cy="1415880"/>
            <a:chOff x="4859280" y="4365720"/>
            <a:chExt cx="2544840" cy="1415880"/>
          </a:xfrm>
        </p:grpSpPr>
        <p:pic>
          <p:nvPicPr>
            <p:cNvPr id="366" name="" descr=""/>
            <p:cNvPicPr/>
            <p:nvPr/>
          </p:nvPicPr>
          <p:blipFill>
            <a:blip r:embed="rId8"/>
            <a:srcRect l="-8014" t="-13942" r="-8505" b="-27409"/>
            <a:stretch/>
          </p:blipFill>
          <p:spPr>
            <a:xfrm>
              <a:off x="4859280" y="4365720"/>
              <a:ext cx="22874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029200" y="4503960"/>
              <a:ext cx="23749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知道了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</a:t>
              </a:r>
              <a:r>
                <a:rPr b="1" lang="zh-CN" sz="26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____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07920" y="2276640"/>
            <a:ext cx="3927600" cy="39686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36960" y="2276640"/>
            <a:ext cx="3676680" cy="39686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95760" y="4956120"/>
            <a:ext cx="128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95280" y="1844640"/>
            <a:ext cx="8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46520" y="1844640"/>
            <a:ext cx="8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7640" y="4221000"/>
            <a:ext cx="72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2000" y="2131920"/>
            <a:ext cx="50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0" r="55277" b="0"/>
          <a:stretch/>
        </p:blipFill>
        <p:spPr>
          <a:xfrm>
            <a:off x="1185840" y="2421000"/>
            <a:ext cx="1298520" cy="1712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rcRect l="55830" t="0" r="0" b="0"/>
          <a:stretch/>
        </p:blipFill>
        <p:spPr>
          <a:xfrm>
            <a:off x="7221600" y="2651040"/>
            <a:ext cx="1282680" cy="1712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123920" y="1916280"/>
            <a:ext cx="3519360" cy="288108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24400" y="1916280"/>
            <a:ext cx="3208320" cy="288108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325600" y="2498760"/>
            <a:ext cx="2390760" cy="1577880"/>
            <a:chOff x="2325600" y="2498760"/>
            <a:chExt cx="2390760" cy="157788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2325600" y="2603520"/>
              <a:ext cx="226224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628720" y="2498760"/>
              <a:ext cx="2087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最大因数和最小倍数都是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5421240" y="3054240"/>
            <a:ext cx="1933560" cy="92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421240" y="2938320"/>
            <a:ext cx="211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最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数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381636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些是什么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643120" y="3214800"/>
                <a:ext cx="428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357800" y="3357720"/>
                <a:ext cx="9284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29000" y="3429000"/>
                <a:ext cx="6922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643720" y="3214800"/>
                <a:ext cx="501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椭圆 8"/>
          <p:cNvSpPr/>
          <p:nvPr/>
        </p:nvSpPr>
        <p:spPr>
          <a:xfrm>
            <a:off x="1857240" y="2786040"/>
            <a:ext cx="5000760" cy="2500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51577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7"/>
          <p:cNvSpPr/>
          <p:nvPr/>
        </p:nvSpPr>
        <p:spPr>
          <a:xfrm>
            <a:off x="2782800" y="1000080"/>
            <a:ext cx="35784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500200" y="342900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3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214800" y="428616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0.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572000" y="3071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8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786200" y="39290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26920" y="1916280"/>
            <a:ext cx="4659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些是什么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1857240" y="2928960"/>
            <a:ext cx="4429440" cy="221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45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5267" r="0" b="19299"/>
          <a:stretch/>
        </p:blipFill>
        <p:spPr>
          <a:xfrm>
            <a:off x="1474920" y="1265400"/>
            <a:ext cx="6121440" cy="216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95640" y="3414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3240" y="4076640"/>
            <a:ext cx="782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也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5023"/>
          <a:stretch/>
        </p:blipFill>
        <p:spPr>
          <a:xfrm>
            <a:off x="1403280" y="1197000"/>
            <a:ext cx="640872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8360" y="3846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44942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32000" y="4941720"/>
            <a:ext cx="6473880" cy="1727280"/>
            <a:chOff x="1332000" y="4941720"/>
            <a:chExt cx="6473880" cy="172728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8796" t="0" r="0" b="0"/>
            <a:stretch/>
          </p:blipFill>
          <p:spPr>
            <a:xfrm>
              <a:off x="3276720" y="5373360"/>
              <a:ext cx="309564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rcRect l="-2336" t="0" r="38682" b="0"/>
            <a:stretch/>
          </p:blipFill>
          <p:spPr>
            <a:xfrm>
              <a:off x="1332000" y="5373360"/>
              <a:ext cx="216072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403280" y="5387760"/>
              <a:ext cx="4943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还能找出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其他因数吗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4"/>
            <a:srcRect l="-20141" t="-8351" r="-14169" b="-9188"/>
            <a:stretch/>
          </p:blipFill>
          <p:spPr>
            <a:xfrm flipH="1">
              <a:off x="6332760" y="4941720"/>
              <a:ext cx="147312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×3                      0×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 ÷ 3                      0 ÷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437000"/>
            <a:ext cx="811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注意：为了方便，在研究因数和倍数的时候，我们所说的数一般指的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不包括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516480" y="3284640"/>
            <a:ext cx="1992240" cy="1501200"/>
            <a:chOff x="3516480" y="3284640"/>
            <a:chExt cx="1992240" cy="1501200"/>
          </a:xfrm>
        </p:grpSpPr>
        <p:sp>
          <p:nvSpPr>
            <p:cNvPr id="82" name=""/>
            <p:cNvSpPr/>
            <p:nvPr/>
          </p:nvSpPr>
          <p:spPr>
            <a:xfrm>
              <a:off x="3516480" y="3284640"/>
              <a:ext cx="1936800" cy="1472760"/>
            </a:xfrm>
            <a:prstGeom prst="rect">
              <a:avLst/>
            </a:prstGeom>
            <a:solidFill>
              <a:srgbClr val="ffc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4000" y="3284640"/>
              <a:ext cx="194472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= 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= 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420920" y="12477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哪几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280" y="1197000"/>
            <a:ext cx="1024920" cy="569880"/>
            <a:chOff x="611280" y="1197000"/>
            <a:chExt cx="1024920" cy="5698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11280" y="1197000"/>
              <a:ext cx="81720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65080" y="1227240"/>
              <a:ext cx="77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16040" y="1808280"/>
            <a:ext cx="3178080" cy="3372840"/>
            <a:chOff x="716040" y="1808280"/>
            <a:chExt cx="3178080" cy="3372840"/>
          </a:xfrm>
        </p:grpSpPr>
        <p:pic>
          <p:nvPicPr>
            <p:cNvPr id="90" name="" descr=""/>
            <p:cNvPicPr/>
            <p:nvPr/>
          </p:nvPicPr>
          <p:blipFill>
            <a:blip r:embed="rId2"/>
            <a:srcRect l="-9836" t="-9020" r="-9603" b="-6376"/>
            <a:stretch/>
          </p:blipFill>
          <p:spPr>
            <a:xfrm flipH="1">
              <a:off x="716040" y="1808280"/>
              <a:ext cx="3178080" cy="166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87440" y="1915920"/>
              <a:ext cx="1927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可以由哪两个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相乘得到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rcRect l="0" t="0" r="48933" b="0"/>
            <a:stretch/>
          </p:blipFill>
          <p:spPr>
            <a:xfrm>
              <a:off x="750960" y="3184200"/>
              <a:ext cx="2165400" cy="19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5456160" y="2224080"/>
            <a:ext cx="3076560" cy="2697120"/>
            <a:chOff x="5456160" y="2224080"/>
            <a:chExt cx="3076560" cy="269712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5456160" y="2224080"/>
              <a:ext cx="2892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481720" y="2278080"/>
              <a:ext cx="3051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是怎样想的呢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5"/>
            <a:srcRect l="56699" t="0" r="0" b="0"/>
            <a:stretch/>
          </p:blipFill>
          <p:spPr>
            <a:xfrm>
              <a:off x="6264360" y="2924280"/>
              <a:ext cx="1836720" cy="19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3016080" y="5229360"/>
            <a:ext cx="5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008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7864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9304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6776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1773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像下面这样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25671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3292560"/>
            <a:ext cx="2879640" cy="1649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3632040"/>
            <a:ext cx="178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0:58:01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