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10.jpeg" ContentType="image/jpeg"/>
  <Override PartName="/ppt/media/image13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3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8.png" ContentType="image/png"/>
  <Override PartName="/ppt/media/image38.png" ContentType="image/png"/>
  <Override PartName="/ppt/media/image29.png" ContentType="image/png"/>
  <Override PartName="/ppt/media/chimes.wav" ContentType="audio/x-wav"/>
  <Override PartName="/ppt/media/image16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BAE-70DD-4DE0-A2F8-69AE486C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59F-8D98-47F5-879A-6BDC21A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AFF-D39C-444B-A64E-19B0CE14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5C9-489F-405D-96F5-599F2CB1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C3F-B7E1-49FC-B3F6-27E9DC23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B1A-48C7-4557-9EE7-FF44097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C809-8D18-462B-B1D6-167CA8CB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3639-254C-4519-B5A5-E0A2358E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A3C-E28A-4C1B-B189-1676FF55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B34-ABE7-4646-A70B-3AE1F056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94F-A0A4-4E66-B25F-7401B91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5E6-4B25-4DB4-84D7-BB4B332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83F0-9EA4-4908-9A1E-83DD3FC5DA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圆的面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904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908520" y="258840"/>
            <a:ext cx="3238560" cy="31525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955960" y="3941640"/>
            <a:ext cx="5095800" cy="1557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 rot="5400000">
            <a:off x="3981960" y="271800"/>
            <a:ext cx="3134160" cy="31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2" y="12"/>
                </a:moveTo>
                <a:arcTo wR="10800" hR="10800" stAng="-5565104" swAng="11131327"/>
                <a:lnTo>
                  <a:pt x="10800" y="10800"/>
                </a:lnTo>
                <a:close/>
              </a:path>
              <a:path fill="none" w="21600" h="21600">
                <a:moveTo>
                  <a:pt x="10282" y="12"/>
                </a:moveTo>
                <a:arcTo wR="10800" hR="10800" stAng="-5565104" swAng="11131327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 rot="5400000">
            <a:off x="4196520" y="65232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 rot="5400000">
            <a:off x="4177440" y="68112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 rot="5400000">
            <a:off x="4177440" y="87156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 rot="5400000">
            <a:off x="4177440" y="106200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 rot="5400000">
            <a:off x="4177440" y="125244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 rot="5400000">
            <a:off x="4177440" y="144288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 rot="5400000">
            <a:off x="4177440" y="165240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 rot="5400000">
            <a:off x="4177440" y="186228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5400000">
            <a:off x="4177440" y="205272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 rot="5400000">
            <a:off x="4177440" y="226224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 rot="5400000">
            <a:off x="4177440" y="2548080"/>
            <a:ext cx="2688480" cy="31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 rot="5400000">
            <a:off x="4477320" y="2670120"/>
            <a:ext cx="2095200" cy="346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 rot="5400000">
            <a:off x="4751280" y="2649600"/>
            <a:ext cx="1555560" cy="404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 rot="5400000">
            <a:off x="4923360" y="2633760"/>
            <a:ext cx="1075680" cy="455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 rot="5400000">
            <a:off x="5160600" y="2736000"/>
            <a:ext cx="622080" cy="48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 rot="5400000">
            <a:off x="5308560" y="2889360"/>
            <a:ext cx="282240" cy="483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026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0265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18080" y="1825560"/>
            <a:ext cx="1541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19600" y="2254680"/>
            <a:ext cx="1541520" cy="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35600" y="2846880"/>
            <a:ext cx="1541520" cy="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051600" y="3609000"/>
            <a:ext cx="1541520" cy="5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23240" y="4101120"/>
            <a:ext cx="1444320" cy="530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4520" y="4735800"/>
            <a:ext cx="1278360" cy="69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45320" y="4221720"/>
            <a:ext cx="1031760" cy="117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162560" y="4209840"/>
            <a:ext cx="65448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24680" y="4028760"/>
            <a:ext cx="1110960" cy="1513080"/>
            <a:chOff x="7924680" y="4028760"/>
            <a:chExt cx="1110960" cy="1513080"/>
          </a:xfrm>
        </p:grpSpPr>
        <p:sp>
          <p:nvSpPr>
            <p:cNvPr id="260" name=""/>
            <p:cNvSpPr/>
            <p:nvPr/>
          </p:nvSpPr>
          <p:spPr>
            <a:xfrm>
              <a:off x="8017200" y="402912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40520" y="554184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23560" y="495036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8323560" y="4028760"/>
              <a:ext cx="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24680" y="4473000"/>
              <a:ext cx="11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半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851600" y="3986280"/>
            <a:ext cx="1800" cy="148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955960" y="5516640"/>
            <a:ext cx="4937040" cy="1440"/>
            <a:chOff x="2955960" y="5516640"/>
            <a:chExt cx="4937040" cy="1440"/>
          </a:xfrm>
        </p:grpSpPr>
        <p:sp>
          <p:nvSpPr>
            <p:cNvPr id="267" name=""/>
            <p:cNvSpPr/>
            <p:nvPr/>
          </p:nvSpPr>
          <p:spPr>
            <a:xfrm flipV="1">
              <a:off x="2963880" y="5516640"/>
              <a:ext cx="49244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55960" y="5516640"/>
              <a:ext cx="4937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55960" y="5587920"/>
            <a:ext cx="4895640" cy="720720"/>
            <a:chOff x="2955960" y="5587920"/>
            <a:chExt cx="4895640" cy="720720"/>
          </a:xfrm>
        </p:grpSpPr>
        <p:sp>
          <p:nvSpPr>
            <p:cNvPr id="270" name=""/>
            <p:cNvSpPr/>
            <p:nvPr/>
          </p:nvSpPr>
          <p:spPr>
            <a:xfrm>
              <a:off x="7851600" y="558792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55960" y="558936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27600" y="594828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955960" y="5948280"/>
              <a:ext cx="115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57280" y="56577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周长的一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3906720" y="210960"/>
            <a:ext cx="3456000" cy="1575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2060640"/>
            <a:ext cx="295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请仔细观察拼成的平行四边形的底和高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看它们分别与 圆的哪部分有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468360" y="446040"/>
            <a:ext cx="2238480" cy="154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6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3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500"/>
                            </p:stCondLst>
                            <p:childTnLst>
                              <p:par>
                                <p:cTn id="4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500"/>
                            </p:stCondLst>
                            <p:childTnLst>
                              <p:par>
                                <p:cTn id="4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08520" y="258840"/>
            <a:ext cx="3238560" cy="3152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955960" y="3941640"/>
            <a:ext cx="5095800" cy="1557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flipV="1" rot="5400000">
            <a:off x="3981960" y="271800"/>
            <a:ext cx="3134160" cy="31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2" y="12"/>
                </a:moveTo>
                <a:arcTo wR="10800" hR="10800" stAng="-5565104" swAng="11131327"/>
                <a:lnTo>
                  <a:pt x="10800" y="10800"/>
                </a:lnTo>
                <a:close/>
              </a:path>
              <a:path fill="none" w="21600" h="21600">
                <a:moveTo>
                  <a:pt x="10282" y="12"/>
                </a:moveTo>
                <a:arcTo wR="10800" hR="10800" stAng="-5565104" swAng="11131327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18080" y="1825560"/>
            <a:ext cx="1541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924680" y="4028760"/>
            <a:ext cx="1110960" cy="1513080"/>
            <a:chOff x="7924680" y="4028760"/>
            <a:chExt cx="1110960" cy="1513080"/>
          </a:xfrm>
        </p:grpSpPr>
        <p:sp>
          <p:nvSpPr>
            <p:cNvPr id="283" name=""/>
            <p:cNvSpPr/>
            <p:nvPr/>
          </p:nvSpPr>
          <p:spPr>
            <a:xfrm>
              <a:off x="8017200" y="402912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0520" y="554184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23560" y="495036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8323560" y="4028760"/>
              <a:ext cx="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4680" y="4473000"/>
              <a:ext cx="11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半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851600" y="3986280"/>
            <a:ext cx="1800" cy="148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955960" y="5516640"/>
            <a:ext cx="4937040" cy="1440"/>
            <a:chOff x="2955960" y="5516640"/>
            <a:chExt cx="4937040" cy="1440"/>
          </a:xfrm>
        </p:grpSpPr>
        <p:sp>
          <p:nvSpPr>
            <p:cNvPr id="290" name=""/>
            <p:cNvSpPr/>
            <p:nvPr/>
          </p:nvSpPr>
          <p:spPr>
            <a:xfrm flipV="1">
              <a:off x="2963880" y="5516640"/>
              <a:ext cx="49244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55960" y="5516640"/>
              <a:ext cx="4937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955960" y="5587920"/>
            <a:ext cx="4895640" cy="720720"/>
            <a:chOff x="2955960" y="5587920"/>
            <a:chExt cx="4895640" cy="720720"/>
          </a:xfrm>
        </p:grpSpPr>
        <p:sp>
          <p:nvSpPr>
            <p:cNvPr id="293" name=""/>
            <p:cNvSpPr/>
            <p:nvPr/>
          </p:nvSpPr>
          <p:spPr>
            <a:xfrm>
              <a:off x="7851600" y="558792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55960" y="558936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7600" y="594828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955960" y="5948280"/>
              <a:ext cx="115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57280" y="56577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周长的一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906720" y="21096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68360" y="446040"/>
            <a:ext cx="2238480" cy="1542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2306520"/>
            <a:ext cx="26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这个拼成的平行四边形的面积该怎样计算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476600" y="258840"/>
            <a:ext cx="3238560" cy="3152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203640" y="3941640"/>
            <a:ext cx="5095800" cy="1557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V="1" rot="5400000">
            <a:off x="4534200" y="271800"/>
            <a:ext cx="3134160" cy="313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82" y="12"/>
                </a:moveTo>
                <a:arcTo wR="10800" hR="10800" stAng="-5565104" swAng="11131327"/>
                <a:lnTo>
                  <a:pt x="10800" y="10800"/>
                </a:lnTo>
                <a:close/>
              </a:path>
              <a:path fill="none" w="21600" h="21600">
                <a:moveTo>
                  <a:pt x="10282" y="12"/>
                </a:moveTo>
                <a:arcTo wR="10800" hR="10800" stAng="-5565104" swAng="11131327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70680" y="1825560"/>
            <a:ext cx="15415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172360" y="4028760"/>
            <a:ext cx="1110960" cy="1513080"/>
            <a:chOff x="8172360" y="4028760"/>
            <a:chExt cx="1110960" cy="1513080"/>
          </a:xfrm>
        </p:grpSpPr>
        <p:sp>
          <p:nvSpPr>
            <p:cNvPr id="306" name=""/>
            <p:cNvSpPr/>
            <p:nvPr/>
          </p:nvSpPr>
          <p:spPr>
            <a:xfrm>
              <a:off x="8264880" y="402912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88200" y="5541840"/>
              <a:ext cx="689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71240" y="495036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8571240" y="4028760"/>
              <a:ext cx="0" cy="45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72360" y="4473000"/>
              <a:ext cx="11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半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8101080" y="3986280"/>
            <a:ext cx="1440" cy="1482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03640" y="5516640"/>
            <a:ext cx="4937040" cy="1440"/>
            <a:chOff x="3203640" y="5516640"/>
            <a:chExt cx="4937040" cy="1440"/>
          </a:xfrm>
        </p:grpSpPr>
        <p:sp>
          <p:nvSpPr>
            <p:cNvPr id="313" name=""/>
            <p:cNvSpPr/>
            <p:nvPr/>
          </p:nvSpPr>
          <p:spPr>
            <a:xfrm flipV="1">
              <a:off x="3211560" y="5516640"/>
              <a:ext cx="49244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3640" y="5516640"/>
              <a:ext cx="493704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203640" y="5587920"/>
            <a:ext cx="4895640" cy="720720"/>
            <a:chOff x="3203640" y="5587920"/>
            <a:chExt cx="4895640" cy="720720"/>
          </a:xfrm>
        </p:grpSpPr>
        <p:sp>
          <p:nvSpPr>
            <p:cNvPr id="316" name=""/>
            <p:cNvSpPr/>
            <p:nvPr/>
          </p:nvSpPr>
          <p:spPr>
            <a:xfrm>
              <a:off x="8099280" y="558792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03640" y="5589360"/>
              <a:ext cx="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75280" y="594828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203640" y="5948280"/>
              <a:ext cx="115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04960" y="565776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圆周长的一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4459320" y="210960"/>
            <a:ext cx="3456000" cy="1575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50920" y="115920"/>
            <a:ext cx="2238120" cy="1542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9280" y="1341360"/>
            <a:ext cx="295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3.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你能根据平行四边形的面积计算公式推导出圆的面积计算公式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419200" y="2585880"/>
                <a:ext cx="114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419200" y="492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210360" y="49244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行四边形的面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190600" y="3787920"/>
            <a:ext cx="6413760" cy="1994760"/>
            <a:chOff x="2190600" y="3787920"/>
            <a:chExt cx="6413760" cy="1994760"/>
          </a:xfrm>
        </p:grpSpPr>
        <p:sp>
          <p:nvSpPr>
            <p:cNvPr id="329" name=""/>
            <p:cNvSpPr txBox="1"/>
            <p:nvPr/>
          </p:nvSpPr>
          <p:spPr>
            <a:xfrm>
              <a:off x="2190600" y="4147560"/>
              <a:ext cx="6413760" cy="163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=    ×2πr×r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2838600" y="3787920"/>
                  <a:ext cx="863640" cy="17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92360" y="5372280"/>
                <a:ext cx="31892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096280" y="1700280"/>
            <a:ext cx="39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圆的面积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=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圆周长的一半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×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宋体"/>
              </a:rPr>
              <a:t>半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241360" y="2276640"/>
            <a:ext cx="2387520" cy="1857240"/>
            <a:chOff x="2241360" y="2276640"/>
            <a:chExt cx="2387520" cy="1857240"/>
          </a:xfrm>
        </p:grpSpPr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2917080" y="2276640"/>
                  <a:ext cx="719280" cy="18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"/>
            <p:cNvSpPr/>
            <p:nvPr/>
          </p:nvSpPr>
          <p:spPr>
            <a:xfrm>
              <a:off x="2241360" y="2636640"/>
              <a:ext cx="2387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   C×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78000" y="1239840"/>
            <a:ext cx="945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把一个圆形纸片分成若干等份，然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把它剪开，拼成一个近似的长方形。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个长方形的面积与圆的面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(                  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这个长方形的长相当于圆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(                  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宽相当于圆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(              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因为长方形的面积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(                  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所以圆的面积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(                      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2200" y="509256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长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×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74640" y="3549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周长的一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74960" y="43005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半   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851280" y="5734080"/>
                <a:ext cx="2592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6620760" y="278748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相    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8360" y="260280"/>
            <a:ext cx="2286000" cy="765360"/>
          </a:xfrm>
          <a:prstGeom prst="horizontalScrol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6960" y="293760"/>
            <a:ext cx="199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及时训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32000" y="279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一、填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12720" y="1197000"/>
            <a:ext cx="846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修建一个半径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30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米的圆形鱼池，它的占地面积约是多少平方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41896" t="13973" r="16267" b="71638"/>
          <a:stretch/>
        </p:blipFill>
        <p:spPr>
          <a:xfrm>
            <a:off x="3564000" y="3286080"/>
            <a:ext cx="44640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对学生提出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(1)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求鱼池的占地面积是求什么图形面积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(2)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求它的面积必须知道什么条件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(3)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如果把题中条件“一个半径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30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米”改成“一个直径是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米”又该怎样求占地面积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909800" y="1341360"/>
            <a:ext cx="2374920" cy="231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7640" y="249228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59280" y="1916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1413000"/>
            <a:ext cx="2448000" cy="2303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6530600">
            <a:off x="5279760" y="208224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０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710400" y="1425600"/>
            <a:ext cx="217440" cy="23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16360" y="42372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求下面各圆的面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5280" y="3860640"/>
                <a:ext cx="42480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平方米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067280" y="3846600"/>
                <a:ext cx="432108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÷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平方米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371520" y="392040"/>
            <a:ext cx="2400120" cy="7333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2207880"/>
            <a:ext cx="95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什么叫做圆的面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圆面积的计算公式是什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计算圆的面积需要什么条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0" y="838080"/>
            <a:ext cx="3994920" cy="863640"/>
            <a:chOff x="0" y="838080"/>
            <a:chExt cx="3994920" cy="863640"/>
          </a:xfrm>
        </p:grpSpPr>
        <p:sp>
          <p:nvSpPr>
            <p:cNvPr id="364" name=""/>
            <p:cNvSpPr/>
            <p:nvPr/>
          </p:nvSpPr>
          <p:spPr>
            <a:xfrm>
              <a:off x="0" y="838080"/>
              <a:ext cx="2532240" cy="863640"/>
            </a:xfrm>
            <a:custGeom>
              <a:avLst/>
              <a:gdLst>
                <a:gd name="textAreaLeft" fmla="*/ 101520 w 2532240"/>
                <a:gd name="textAreaRight" fmla="*/ 2430720 w 2532240"/>
                <a:gd name="textAreaTop" fmla="*/ 101520 h 863640"/>
                <a:gd name="textAreaBottom" fmla="*/ 762120 h 863640"/>
              </a:gdLst>
              <a:ahLst/>
              <a:rect l="textAreaLeft" t="textAreaTop" r="textAreaRight" b="textAreaBottom"/>
              <a:pathLst>
                <a:path w="63315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9715" y="21600"/>
                  </a:lnTo>
                  <a:arcTo wR="3600" hR="3600" stAng="10800000" swAng="5400000"/>
                  <a:lnTo>
                    <a:pt x="63315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3760" y="838080"/>
              <a:ext cx="388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回忆巩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351520" y="3605040"/>
            <a:ext cx="469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圆所占平面的大小叫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圆的面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4648320"/>
                <a:ext cx="39592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92160" y="838080"/>
            <a:ext cx="5112000" cy="511200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93960" y="836640"/>
            <a:ext cx="5111640" cy="5111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93960" y="836640"/>
            <a:ext cx="5111640" cy="5111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93960" y="836640"/>
            <a:ext cx="5111640" cy="51116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57600" y="2192400"/>
            <a:ext cx="315576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ffff00">
                      <a:alpha val="62000"/>
                    </a:srgbClr>
                  </a:outerShdw>
                </a:effectLst>
                <a:latin typeface="华文新魏"/>
              </a:rPr>
              <a:t>圆的面积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ffff00">
                    <a:alpha val="62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34862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圆所占平面的大小叫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圆的面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219320"/>
            <a:ext cx="3627360" cy="1209600"/>
            <a:chOff x="0" y="1219320"/>
            <a:chExt cx="3627360" cy="12096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1008000" cy="11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617840" y="1725480"/>
              <a:ext cx="200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华文新魏"/>
                </a:rPr>
                <a:t>什么叫面积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28600" y="2971800"/>
            <a:ext cx="378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物体的表面或围成平面图形的大小叫做它们的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面积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73988E-006 L 0.22621 -0.00185 E">
                                      <p:cBhvr>
                                        <p:cTn id="5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3988E-006 L 0.22639 0.00115 E">
                                      <p:cBhvr>
                                        <p:cTn id="53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09827E-006 L 0.23733 1.09827E-006 E">
                                      <p:cBhvr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185360" y="1617480"/>
            <a:ext cx="130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求下面各圆的半径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122560" y="2913120"/>
                <a:ext cx="5040360" cy="29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r>
                          <m:t xml:space="preserve">米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厘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0" name=""/>
          <p:cNvGrpSpPr/>
          <p:nvPr/>
        </p:nvGrpSpPr>
        <p:grpSpPr>
          <a:xfrm>
            <a:off x="142920" y="636480"/>
            <a:ext cx="3994920" cy="863640"/>
            <a:chOff x="142920" y="636480"/>
            <a:chExt cx="3994920" cy="863640"/>
          </a:xfrm>
        </p:grpSpPr>
        <p:sp>
          <p:nvSpPr>
            <p:cNvPr id="371" name=""/>
            <p:cNvSpPr/>
            <p:nvPr/>
          </p:nvSpPr>
          <p:spPr>
            <a:xfrm>
              <a:off x="142920" y="636480"/>
              <a:ext cx="2532240" cy="863640"/>
            </a:xfrm>
            <a:custGeom>
              <a:avLst/>
              <a:gdLst>
                <a:gd name="textAreaLeft" fmla="*/ 101520 w 2532240"/>
                <a:gd name="textAreaRight" fmla="*/ 2430720 w 2532240"/>
                <a:gd name="textAreaTop" fmla="*/ 101520 h 863640"/>
                <a:gd name="textAreaBottom" fmla="*/ 762120 h 863640"/>
              </a:gdLst>
              <a:ahLst/>
              <a:rect l="textAreaLeft" t="textAreaTop" r="textAreaRight" b="textAreaBottom"/>
              <a:pathLst>
                <a:path w="63315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9715" y="21600"/>
                  </a:lnTo>
                  <a:arcTo wR="3600" hR="3600" stAng="10800000" swAng="5400000"/>
                  <a:lnTo>
                    <a:pt x="63315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6680" y="636480"/>
              <a:ext cx="388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基本训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848120" y="2944800"/>
            <a:ext cx="3313080" cy="32400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67400" y="1647000"/>
            <a:ext cx="18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求下面各圆的面积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43040" y="3160800"/>
            <a:ext cx="3313080" cy="324000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535120" y="4149720"/>
            <a:ext cx="129564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27400" y="4770360"/>
            <a:ext cx="1679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11760" y="3952800"/>
            <a:ext cx="1738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848120" y="4646160"/>
            <a:ext cx="3337200" cy="7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1760" y="595440"/>
            <a:ext cx="3994920" cy="863640"/>
            <a:chOff x="131760" y="595440"/>
            <a:chExt cx="3994920" cy="863640"/>
          </a:xfrm>
        </p:grpSpPr>
        <p:sp>
          <p:nvSpPr>
            <p:cNvPr id="381" name=""/>
            <p:cNvSpPr/>
            <p:nvPr/>
          </p:nvSpPr>
          <p:spPr>
            <a:xfrm>
              <a:off x="131760" y="595440"/>
              <a:ext cx="2532240" cy="863640"/>
            </a:xfrm>
            <a:custGeom>
              <a:avLst/>
              <a:gdLst>
                <a:gd name="textAreaLeft" fmla="*/ 101520 w 2532240"/>
                <a:gd name="textAreaRight" fmla="*/ 2430720 w 2532240"/>
                <a:gd name="textAreaTop" fmla="*/ 101520 h 863640"/>
                <a:gd name="textAreaBottom" fmla="*/ 762120 h 863640"/>
              </a:gdLst>
              <a:ahLst/>
              <a:rect l="textAreaLeft" t="textAreaTop" r="textAreaRight" b="textAreaBottom"/>
              <a:pathLst>
                <a:path w="63315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9715" y="21600"/>
                  </a:lnTo>
                  <a:arcTo wR="3600" hR="3600" stAng="10800000" swAng="5400000"/>
                  <a:lnTo>
                    <a:pt x="63315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5520" y="595440"/>
              <a:ext cx="388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基本训练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57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底面周长为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42.6</a:t>
            </a: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米，这个塔至少占地多少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5616720" cy="4681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95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15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判断（对的打“√”，错的打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×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440" y="4051440"/>
            <a:ext cx="97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半径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厘米的圆，它的周长和面积相等（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00" y="3105000"/>
            <a:ext cx="93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长是所在圆直径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。（   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985000" y="2195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30800" y="30765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38862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2129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圆心的线段，叫做圆的直径。（  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137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两个圆的面积相等，则两个圆的半径一定相等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273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一个圆的半径缩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那么它的周长也缩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，面积则缩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48360" y="137160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42900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18288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0.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米的绳子，围成一个半圆形，这个半圆的半径是（  ），面积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33720" y="53352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宋体"/>
              </a:rPr>
              <a:t>谁最聪明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宋体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987640" y="260280"/>
            <a:ext cx="4897440" cy="4248360"/>
          </a:xfrm>
          <a:prstGeom prst="ellipse">
            <a:avLst/>
          </a:prstGeom>
          <a:solidFill>
            <a:srgbClr val="00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9280" y="260280"/>
            <a:ext cx="4825800" cy="424836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2492280"/>
            <a:ext cx="4897440" cy="0"/>
          </a:xfrm>
          <a:prstGeom prst="line">
            <a:avLst/>
          </a:prstGeom>
          <a:ln w="792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213000"/>
            <a:ext cx="334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10.28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71640" y="333360"/>
            <a:ext cx="13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2637000"/>
            <a:ext cx="14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88000" y="1557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627280" y="328464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92360" y="3284640"/>
            <a:ext cx="7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407664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=(3.14 + 2)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050920" y="49417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=5.14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19280" y="575928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宋体"/>
              </a:rPr>
              <a:t>r =2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5651640" y="3716280"/>
                <a:ext cx="3058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6443640" y="4797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=3.14 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43640" y="558972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=12. 56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64000" y="62164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2. 56 ÷2=6.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lastslide"/>
          </p:cNvPr>
          <p:cNvSpPr/>
          <p:nvPr/>
        </p:nvSpPr>
        <p:spPr>
          <a:xfrm>
            <a:off x="0" y="6093000"/>
            <a:ext cx="611280" cy="47592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7739" h="21600">
                <a:moveTo>
                  <a:pt x="0" y="0"/>
                </a:moveTo>
                <a:lnTo>
                  <a:pt x="27739" y="0"/>
                </a:lnTo>
                <a:lnTo>
                  <a:pt x="27739" y="21600"/>
                </a:lnTo>
                <a:lnTo>
                  <a:pt x="0" y="21600"/>
                </a:lnTo>
                <a:close/>
              </a:path>
              <a:path fill="lightenLess" w="27739" h="21600">
                <a:moveTo>
                  <a:pt x="0" y="0"/>
                </a:moveTo>
                <a:lnTo>
                  <a:pt x="27739" y="0"/>
                </a:lnTo>
                <a:lnTo>
                  <a:pt x="26339" y="1400"/>
                </a:lnTo>
                <a:lnTo>
                  <a:pt x="1400" y="1400"/>
                </a:lnTo>
                <a:close/>
              </a:path>
              <a:path fill="darken" w="27739" h="21600">
                <a:moveTo>
                  <a:pt x="27739" y="0"/>
                </a:moveTo>
                <a:lnTo>
                  <a:pt x="27739" y="21600"/>
                </a:lnTo>
                <a:lnTo>
                  <a:pt x="26339" y="20200"/>
                </a:lnTo>
                <a:lnTo>
                  <a:pt x="26339" y="1400"/>
                </a:lnTo>
                <a:close/>
              </a:path>
              <a:path fill="darkenLess" w="27739" h="21600">
                <a:moveTo>
                  <a:pt x="2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39" y="20200"/>
                </a:lnTo>
                <a:close/>
              </a:path>
              <a:path fill="lighten" w="2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39" h="21600">
                <a:moveTo>
                  <a:pt x="6863" y="3794"/>
                </a:moveTo>
                <a:lnTo>
                  <a:pt x="20876" y="10800"/>
                </a:lnTo>
                <a:lnTo>
                  <a:pt x="686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9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0351E-006 L -0.0059 0.42325 E">
                                      <p:cBhvr>
                                        <p:cTn id="604" dur="2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09249E-007 L -0.08489 0.24509 E">
                                      <p:cBhvr>
                                        <p:cTn id="613" dur="2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95280" y="1982880"/>
          <a:ext cx="8229600" cy="4541760"/>
        </p:xfrm>
        <a:graphic>
          <a:graphicData uri="http://schemas.openxmlformats.org/drawingml/2006/table">
            <a:tbl>
              <a:tblPr/>
              <a:tblGrid>
                <a:gridCol w="1224000"/>
                <a:gridCol w="2232000"/>
                <a:gridCol w="2376360"/>
                <a:gridCol w="2397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概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算公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名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95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周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9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面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419" name=""/>
          <p:cNvSpPr/>
          <p:nvPr/>
        </p:nvSpPr>
        <p:spPr>
          <a:xfrm>
            <a:off x="2726640" y="8366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圆的周长与圆的面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619280" y="27748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围成圆的曲线的长叫做圆的周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619280" y="47480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圆所占平面的大小叫做圆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995640" y="3062160"/>
                <a:ext cx="2160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π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95640" y="5076720"/>
                <a:ext cx="216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6732720" y="29178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长度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32720" y="484668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面积单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0" y="0"/>
            <a:ext cx="3096360" cy="863640"/>
            <a:chOff x="0" y="0"/>
            <a:chExt cx="3096360" cy="863640"/>
          </a:xfrm>
        </p:grpSpPr>
        <p:sp>
          <p:nvSpPr>
            <p:cNvPr id="427" name=""/>
            <p:cNvSpPr/>
            <p:nvPr/>
          </p:nvSpPr>
          <p:spPr>
            <a:xfrm>
              <a:off x="0" y="0"/>
              <a:ext cx="2645280" cy="863640"/>
            </a:xfrm>
            <a:custGeom>
              <a:avLst/>
              <a:gdLst>
                <a:gd name="textAreaLeft" fmla="*/ 101520 w 2645280"/>
                <a:gd name="textAreaRight" fmla="*/ 2543760 w 2645280"/>
                <a:gd name="textAreaTop" fmla="*/ 101520 h 863640"/>
                <a:gd name="textAreaBottom" fmla="*/ 762120 h 863640"/>
              </a:gdLst>
              <a:ahLst/>
              <a:rect l="textAreaLeft" t="textAreaTop" r="textAreaRight" b="textAreaBottom"/>
              <a:pathLst>
                <a:path w="6614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2541" y="21600"/>
                  </a:lnTo>
                  <a:arcTo wR="3600" hR="3600" stAng="10800000" swAng="5400000"/>
                  <a:lnTo>
                    <a:pt x="66141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8800" y="0"/>
              <a:ext cx="297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归纳总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5229360"/>
            <a:ext cx="1440000" cy="1217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13760" y="476280"/>
            <a:ext cx="15062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4000" y="4869000"/>
            <a:ext cx="223200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19640" y="2997360"/>
            <a:ext cx="1297080" cy="128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2232000" cy="1797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6940440" y="3827520"/>
            <a:ext cx="2095560" cy="3030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5076720" y="476280"/>
            <a:ext cx="1727280" cy="1682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324000" y="2708280"/>
            <a:ext cx="2232000" cy="1833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419640" y="620640"/>
            <a:ext cx="1008000" cy="5580360"/>
          </a:xfrm>
          <a:prstGeom prst="rect">
            <a:avLst/>
          </a:prstGeom>
          <a:noFill/>
          <a:ln w="0">
            <a:noFill/>
          </a:ln>
          <a:effectLst>
            <a:outerShdw dist="36147" dir="135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生活中的圆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54080" y="431640"/>
            <a:ext cx="787320" cy="7891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54080" y="431640"/>
            <a:ext cx="787320" cy="7891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6600" y="2755800"/>
            <a:ext cx="2133720" cy="1546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8680" y="2808360"/>
            <a:ext cx="2117520" cy="1485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097600"/>
            <a:ext cx="792000" cy="7156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097600"/>
            <a:ext cx="792000" cy="7156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84960" y="830160"/>
            <a:ext cx="949320" cy="917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84960" y="830160"/>
            <a:ext cx="949320" cy="9176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068640"/>
            <a:ext cx="100836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720" y="3068640"/>
            <a:ext cx="100800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62640" y="5329080"/>
            <a:ext cx="1012680" cy="982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1720" y="5324400"/>
            <a:ext cx="952560" cy="995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08720" y="549360"/>
            <a:ext cx="1079640" cy="10414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08720" y="549360"/>
            <a:ext cx="1079640" cy="104148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24560" y="4044960"/>
            <a:ext cx="1366920" cy="3603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10520" y="4037040"/>
            <a:ext cx="1366920" cy="3603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evt="end">
                                        <p:tn val="79"/>
                                      </p:cond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800"/>
                            </p:stCondLst>
                            <p:childTnLst>
                              <p:par>
                                <p:cTn id="83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6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400"/>
                            </p:stCondLst>
                            <p:childTnLst>
                              <p:par>
                                <p:cTn id="91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evt="end">
                                        <p:tn val="91"/>
                                      </p:cond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2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evt="end">
                                        <p:tn val="99"/>
                                      </p:cond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800"/>
                            </p:stCondLst>
                            <p:childTnLst>
                              <p:par>
                                <p:cTn id="103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3"/>
                                      </p:cond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600"/>
                            </p:stCondLst>
                            <p:childTnLst>
                              <p:par>
                                <p:cTn id="107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400"/>
                            </p:stCondLst>
                            <p:childTnLst>
                              <p:par>
                                <p:cTn id="111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2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evt="end">
                                        <p:tn val="119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800"/>
                            </p:stCondLst>
                            <p:childTnLst>
                              <p:par>
                                <p:cTn id="123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6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400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evt="end">
                                        <p:tn val="131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5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evt="end">
                                        <p:tn val="135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9" nodeType="afterEffect" fill="hold" presetClass="entr" presetID="1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8346" t="37490" r="13423" b="11729"/>
          <a:stretch/>
        </p:blipFill>
        <p:spPr>
          <a:xfrm>
            <a:off x="252360" y="26028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552840" y="2693880"/>
            <a:ext cx="1523880" cy="1022400"/>
            <a:chOff x="3552840" y="2693880"/>
            <a:chExt cx="1523880" cy="1022400"/>
          </a:xfrm>
        </p:grpSpPr>
        <p:sp>
          <p:nvSpPr>
            <p:cNvPr id="80" name=""/>
            <p:cNvSpPr/>
            <p:nvPr/>
          </p:nvSpPr>
          <p:spPr>
            <a:xfrm>
              <a:off x="3552840" y="2693880"/>
              <a:ext cx="1523880" cy="1022400"/>
            </a:xfrm>
            <a:prstGeom prst="triangle">
              <a:avLst>
                <a:gd name="adj" fmla="val 74796"/>
              </a:avLst>
            </a:prstGeom>
            <a:solidFill>
              <a:srgbClr val="66ff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92600" y="270828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705200" y="3571920"/>
              <a:ext cx="144360" cy="142560"/>
              <a:chOff x="4705200" y="3571920"/>
              <a:chExt cx="144360" cy="142560"/>
            </a:xfrm>
          </p:grpSpPr>
          <p:sp>
            <p:nvSpPr>
              <p:cNvPr id="83" name=""/>
              <p:cNvSpPr/>
              <p:nvPr/>
            </p:nvSpPr>
            <p:spPr>
              <a:xfrm>
                <a:off x="4705200" y="3571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49560" y="357192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 rot="20754600">
            <a:off x="3414600" y="2882520"/>
            <a:ext cx="1524240" cy="10224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9441800">
            <a:off x="3366720" y="3223800"/>
            <a:ext cx="1523880" cy="10224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183000">
            <a:off x="3495240" y="3462120"/>
            <a:ext cx="1362240" cy="11430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6876200">
            <a:off x="3685320" y="3759840"/>
            <a:ext cx="1363680" cy="11430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4847000">
            <a:off x="4162320" y="4014720"/>
            <a:ext cx="1363680" cy="114444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3326000">
            <a:off x="4509720" y="4076280"/>
            <a:ext cx="1525680" cy="10224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792800">
            <a:off x="5135400" y="3735360"/>
            <a:ext cx="1524240" cy="10224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792800">
            <a:off x="4991040" y="3400200"/>
            <a:ext cx="1525680" cy="102204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792800">
            <a:off x="4846680" y="3066840"/>
            <a:ext cx="1525680" cy="102204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218280" y="2797200"/>
            <a:ext cx="1463760" cy="938160"/>
            <a:chOff x="6218280" y="2797200"/>
            <a:chExt cx="1463760" cy="938160"/>
          </a:xfrm>
        </p:grpSpPr>
        <p:sp>
          <p:nvSpPr>
            <p:cNvPr id="95" name=""/>
            <p:cNvSpPr/>
            <p:nvPr/>
          </p:nvSpPr>
          <p:spPr>
            <a:xfrm rot="10800000">
              <a:off x="6218280" y="2797200"/>
              <a:ext cx="1463760" cy="9381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581880" y="2797200"/>
              <a:ext cx="708840" cy="938160"/>
              <a:chOff x="6581880" y="2797200"/>
              <a:chExt cx="708840" cy="938160"/>
            </a:xfrm>
          </p:grpSpPr>
          <p:sp>
            <p:nvSpPr>
              <p:cNvPr id="97" name=""/>
              <p:cNvSpPr/>
              <p:nvPr/>
            </p:nvSpPr>
            <p:spPr>
              <a:xfrm>
                <a:off x="6584040" y="2797200"/>
                <a:ext cx="0" cy="93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07440" y="3048120"/>
                <a:ext cx="683280" cy="51840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581880" y="3597120"/>
                <a:ext cx="97560" cy="125280"/>
                <a:chOff x="6581880" y="3597120"/>
                <a:chExt cx="97560" cy="1252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581880" y="3597120"/>
                  <a:ext cx="9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79440" y="3597120"/>
                  <a:ext cx="0" cy="12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7549920" y="3751200"/>
            <a:ext cx="1609920" cy="1187640"/>
            <a:chOff x="7549920" y="3751200"/>
            <a:chExt cx="1609920" cy="1187640"/>
          </a:xfrm>
        </p:grpSpPr>
        <p:sp>
          <p:nvSpPr>
            <p:cNvPr id="103" name=""/>
            <p:cNvSpPr/>
            <p:nvPr/>
          </p:nvSpPr>
          <p:spPr>
            <a:xfrm rot="630600">
              <a:off x="7622640" y="3876840"/>
              <a:ext cx="1463760" cy="9363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5920 h 936360"/>
                <a:gd name="textAreaBottom" fmla="*/ 73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978680" y="3946320"/>
              <a:ext cx="821520" cy="925560"/>
              <a:chOff x="7978680" y="3946320"/>
              <a:chExt cx="821520" cy="925560"/>
            </a:xfrm>
          </p:grpSpPr>
          <p:sp>
            <p:nvSpPr>
              <p:cNvPr id="105" name=""/>
              <p:cNvSpPr/>
              <p:nvPr/>
            </p:nvSpPr>
            <p:spPr>
              <a:xfrm flipV="1">
                <a:off x="8629560" y="3951000"/>
                <a:ext cx="170640" cy="92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1430600">
                <a:off x="8020080" y="4046400"/>
                <a:ext cx="681120" cy="5205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681400" y="3946320"/>
                <a:ext cx="95760" cy="140760"/>
                <a:chOff x="8681400" y="3946320"/>
                <a:chExt cx="95760" cy="140760"/>
              </a:xfrm>
            </p:grpSpPr>
            <p:sp>
              <p:nvSpPr>
                <p:cNvPr id="108" name=""/>
                <p:cNvSpPr/>
                <p:nvPr/>
              </p:nvSpPr>
              <p:spPr>
                <a:xfrm flipH="1" flipV="1">
                  <a:off x="8681400" y="4069440"/>
                  <a:ext cx="95760" cy="17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8681400" y="3946320"/>
                  <a:ext cx="22680" cy="123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7666200" y="3720600"/>
            <a:ext cx="1463400" cy="938880"/>
            <a:chOff x="7666200" y="3720600"/>
            <a:chExt cx="1463400" cy="938880"/>
          </a:xfrm>
        </p:grpSpPr>
        <p:sp>
          <p:nvSpPr>
            <p:cNvPr id="111" name=""/>
            <p:cNvSpPr/>
            <p:nvPr/>
          </p:nvSpPr>
          <p:spPr>
            <a:xfrm>
              <a:off x="7666200" y="3720960"/>
              <a:ext cx="1463400" cy="938520"/>
            </a:xfrm>
            <a:custGeom>
              <a:avLst/>
              <a:gdLst>
                <a:gd name="textAreaLeft" fmla="*/ 321840 w 1463400"/>
                <a:gd name="textAreaRight" fmla="*/ 1141560 w 1463400"/>
                <a:gd name="textAreaTop" fmla="*/ 206280 h 938520"/>
                <a:gd name="textAreaBottom" fmla="*/ 732240 h 9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8048160" y="3720600"/>
              <a:ext cx="717480" cy="938520"/>
              <a:chOff x="8048160" y="3720600"/>
              <a:chExt cx="717480" cy="9385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8763480" y="3720600"/>
                <a:ext cx="0" cy="93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0800000">
                <a:off x="8048160" y="3903840"/>
                <a:ext cx="683280" cy="520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8668080" y="3733560"/>
                <a:ext cx="97560" cy="125280"/>
                <a:chOff x="8668080" y="3733560"/>
                <a:chExt cx="97560" cy="125280"/>
              </a:xfrm>
            </p:grpSpPr>
            <p:sp>
              <p:nvSpPr>
                <p:cNvPr id="116" name=""/>
                <p:cNvSpPr/>
                <p:nvPr/>
              </p:nvSpPr>
              <p:spPr>
                <a:xfrm flipH="1">
                  <a:off x="8668080" y="3858840"/>
                  <a:ext cx="9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8668080" y="3733560"/>
                  <a:ext cx="0" cy="12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7558200" y="3416400"/>
            <a:ext cx="1463400" cy="938160"/>
            <a:chOff x="7558200" y="3416400"/>
            <a:chExt cx="1463400" cy="938160"/>
          </a:xfrm>
        </p:grpSpPr>
        <p:sp>
          <p:nvSpPr>
            <p:cNvPr id="119" name=""/>
            <p:cNvSpPr/>
            <p:nvPr/>
          </p:nvSpPr>
          <p:spPr>
            <a:xfrm>
              <a:off x="7558200" y="3416400"/>
              <a:ext cx="1463400" cy="938160"/>
            </a:xfrm>
            <a:custGeom>
              <a:avLst/>
              <a:gdLst>
                <a:gd name="textAreaLeft" fmla="*/ 321840 w 1463400"/>
                <a:gd name="textAreaRight" fmla="*/ 1141560 w 146340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7940160" y="3416400"/>
              <a:ext cx="717480" cy="938160"/>
              <a:chOff x="7940160" y="3416400"/>
              <a:chExt cx="717480" cy="93816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8655480" y="3416400"/>
                <a:ext cx="0" cy="93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0800000">
                <a:off x="7940160" y="3599640"/>
                <a:ext cx="683280" cy="520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8560080" y="3429360"/>
                <a:ext cx="97560" cy="125280"/>
                <a:chOff x="8560080" y="3429360"/>
                <a:chExt cx="97560" cy="1252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8560080" y="3554640"/>
                  <a:ext cx="9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V="1">
                  <a:off x="8560080" y="3429360"/>
                  <a:ext cx="0" cy="12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7434360" y="3103560"/>
            <a:ext cx="1463400" cy="938160"/>
            <a:chOff x="7434360" y="3103560"/>
            <a:chExt cx="1463400" cy="938160"/>
          </a:xfrm>
        </p:grpSpPr>
        <p:sp>
          <p:nvSpPr>
            <p:cNvPr id="127" name=""/>
            <p:cNvSpPr/>
            <p:nvPr/>
          </p:nvSpPr>
          <p:spPr>
            <a:xfrm>
              <a:off x="7434360" y="3103560"/>
              <a:ext cx="1463400" cy="938160"/>
            </a:xfrm>
            <a:custGeom>
              <a:avLst/>
              <a:gdLst>
                <a:gd name="textAreaLeft" fmla="*/ 321840 w 1463400"/>
                <a:gd name="textAreaRight" fmla="*/ 1141560 w 146340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7814160" y="3103560"/>
              <a:ext cx="719640" cy="938160"/>
              <a:chOff x="7814160" y="3103560"/>
              <a:chExt cx="719640" cy="938160"/>
            </a:xfrm>
          </p:grpSpPr>
          <p:sp>
            <p:nvSpPr>
              <p:cNvPr id="129" name=""/>
              <p:cNvSpPr/>
              <p:nvPr/>
            </p:nvSpPr>
            <p:spPr>
              <a:xfrm flipV="1">
                <a:off x="8531640" y="3103560"/>
                <a:ext cx="0" cy="938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0800000">
                <a:off x="7814160" y="3282480"/>
                <a:ext cx="688680" cy="5205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8436240" y="3116520"/>
                <a:ext cx="97560" cy="125280"/>
                <a:chOff x="8436240" y="3116520"/>
                <a:chExt cx="97560" cy="12528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8436240" y="3241800"/>
                  <a:ext cx="9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8436240" y="3116520"/>
                  <a:ext cx="0" cy="125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7308720" y="2800080"/>
            <a:ext cx="1463760" cy="936720"/>
            <a:chOff x="7308720" y="2800080"/>
            <a:chExt cx="1463760" cy="936720"/>
          </a:xfrm>
        </p:grpSpPr>
        <p:sp>
          <p:nvSpPr>
            <p:cNvPr id="135" name=""/>
            <p:cNvSpPr/>
            <p:nvPr/>
          </p:nvSpPr>
          <p:spPr>
            <a:xfrm>
              <a:off x="7308720" y="2800440"/>
              <a:ext cx="1463760" cy="9363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5920 h 936360"/>
                <a:gd name="textAreaBottom" fmla="*/ 7304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696800" y="2800080"/>
              <a:ext cx="712080" cy="936360"/>
              <a:chOff x="7696800" y="2800080"/>
              <a:chExt cx="712080" cy="936360"/>
            </a:xfrm>
          </p:grpSpPr>
          <p:sp>
            <p:nvSpPr>
              <p:cNvPr id="137" name=""/>
              <p:cNvSpPr/>
              <p:nvPr/>
            </p:nvSpPr>
            <p:spPr>
              <a:xfrm flipV="1">
                <a:off x="8406720" y="2800080"/>
                <a:ext cx="0" cy="936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0800000">
                <a:off x="7696800" y="3048120"/>
                <a:ext cx="688680" cy="5191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8311320" y="2813040"/>
                <a:ext cx="97560" cy="124920"/>
                <a:chOff x="8311320" y="2813040"/>
                <a:chExt cx="97560" cy="124920"/>
              </a:xfrm>
            </p:grpSpPr>
            <p:sp>
              <p:nvSpPr>
                <p:cNvPr id="140" name=""/>
                <p:cNvSpPr/>
                <p:nvPr/>
              </p:nvSpPr>
              <p:spPr>
                <a:xfrm flipH="1">
                  <a:off x="8311320" y="2937960"/>
                  <a:ext cx="9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8311320" y="2813040"/>
                  <a:ext cx="0" cy="12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6920" y="2496960"/>
            <a:ext cx="2200320" cy="1324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280" y="2612880"/>
            <a:ext cx="800280" cy="116208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5929560" y="2871720"/>
            <a:ext cx="1726200" cy="1481400"/>
            <a:chOff x="5929560" y="2871720"/>
            <a:chExt cx="1726200" cy="1481400"/>
          </a:xfrm>
        </p:grpSpPr>
        <p:sp>
          <p:nvSpPr>
            <p:cNvPr id="145" name=""/>
            <p:cNvSpPr/>
            <p:nvPr/>
          </p:nvSpPr>
          <p:spPr>
            <a:xfrm rot="9252600">
              <a:off x="6060600" y="3143160"/>
              <a:ext cx="1463760" cy="9381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6258960" y="3267720"/>
              <a:ext cx="970920" cy="926280"/>
              <a:chOff x="6258960" y="3267720"/>
              <a:chExt cx="970920" cy="926280"/>
            </a:xfrm>
          </p:grpSpPr>
          <p:sp>
            <p:nvSpPr>
              <p:cNvPr id="147" name=""/>
              <p:cNvSpPr/>
              <p:nvPr/>
            </p:nvSpPr>
            <p:spPr>
              <a:xfrm>
                <a:off x="6258960" y="3349080"/>
                <a:ext cx="408240" cy="84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20052600">
                <a:off x="6467760" y="3390480"/>
                <a:ext cx="683280" cy="518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6605280" y="4028040"/>
                <a:ext cx="142200" cy="112680"/>
                <a:chOff x="6605280" y="4028040"/>
                <a:chExt cx="142200" cy="112680"/>
              </a:xfrm>
            </p:grpSpPr>
            <p:sp>
              <p:nvSpPr>
                <p:cNvPr id="150" name=""/>
                <p:cNvSpPr/>
                <p:nvPr/>
              </p:nvSpPr>
              <p:spPr>
                <a:xfrm flipV="1">
                  <a:off x="6605280" y="4028040"/>
                  <a:ext cx="87840" cy="42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693120" y="4028040"/>
                  <a:ext cx="54360" cy="11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" name=""/>
          <p:cNvGrpSpPr/>
          <p:nvPr/>
        </p:nvGrpSpPr>
        <p:grpSpPr>
          <a:xfrm>
            <a:off x="5976360" y="3102840"/>
            <a:ext cx="1681920" cy="1712520"/>
            <a:chOff x="5976360" y="3102840"/>
            <a:chExt cx="1681920" cy="1712520"/>
          </a:xfrm>
        </p:grpSpPr>
        <p:sp>
          <p:nvSpPr>
            <p:cNvPr id="153" name=""/>
            <p:cNvSpPr/>
            <p:nvPr/>
          </p:nvSpPr>
          <p:spPr>
            <a:xfrm rot="7959600">
              <a:off x="6085080" y="3489840"/>
              <a:ext cx="1463760" cy="93852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6280 h 938520"/>
                <a:gd name="textAreaBottom" fmla="*/ 732240 h 9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224400" y="3555720"/>
              <a:ext cx="1045080" cy="991080"/>
              <a:chOff x="6224400" y="3555720"/>
              <a:chExt cx="1045080" cy="991080"/>
            </a:xfrm>
          </p:grpSpPr>
          <p:sp>
            <p:nvSpPr>
              <p:cNvPr id="155" name=""/>
              <p:cNvSpPr/>
              <p:nvPr/>
            </p:nvSpPr>
            <p:spPr>
              <a:xfrm>
                <a:off x="6224400" y="3910680"/>
                <a:ext cx="690120" cy="63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8759600">
                <a:off x="6565320" y="3696480"/>
                <a:ext cx="610920" cy="5202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6811200" y="4382640"/>
                <a:ext cx="158400" cy="84960"/>
                <a:chOff x="6811200" y="4382640"/>
                <a:chExt cx="158400" cy="84960"/>
              </a:xfrm>
            </p:grpSpPr>
            <p:sp>
              <p:nvSpPr>
                <p:cNvPr id="158" name=""/>
                <p:cNvSpPr/>
                <p:nvPr/>
              </p:nvSpPr>
              <p:spPr>
                <a:xfrm flipV="1">
                  <a:off x="6811200" y="4382640"/>
                  <a:ext cx="66240" cy="7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877440" y="4382640"/>
                  <a:ext cx="92160" cy="84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" name=""/>
          <p:cNvGrpSpPr/>
          <p:nvPr/>
        </p:nvGrpSpPr>
        <p:grpSpPr>
          <a:xfrm>
            <a:off x="6363360" y="3471480"/>
            <a:ext cx="1317240" cy="1670400"/>
            <a:chOff x="6363360" y="3471480"/>
            <a:chExt cx="1317240" cy="1670400"/>
          </a:xfrm>
        </p:grpSpPr>
        <p:sp>
          <p:nvSpPr>
            <p:cNvPr id="161" name=""/>
            <p:cNvSpPr/>
            <p:nvPr/>
          </p:nvSpPr>
          <p:spPr>
            <a:xfrm rot="6396600">
              <a:off x="6289920" y="3837600"/>
              <a:ext cx="1463400" cy="938160"/>
            </a:xfrm>
            <a:custGeom>
              <a:avLst/>
              <a:gdLst>
                <a:gd name="textAreaLeft" fmla="*/ 321840 w 1463400"/>
                <a:gd name="textAreaRight" fmla="*/ 1141560 w 146340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6468120" y="3916080"/>
              <a:ext cx="938160" cy="875160"/>
              <a:chOff x="6468120" y="3916080"/>
              <a:chExt cx="938160" cy="875160"/>
            </a:xfrm>
          </p:grpSpPr>
          <p:sp>
            <p:nvSpPr>
              <p:cNvPr id="163" name=""/>
              <p:cNvSpPr/>
              <p:nvPr/>
            </p:nvSpPr>
            <p:spPr>
              <a:xfrm>
                <a:off x="6468120" y="4523040"/>
                <a:ext cx="898920" cy="26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7196600">
                <a:off x="6765480" y="4023000"/>
                <a:ext cx="610200" cy="518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7234200" y="4660200"/>
                <a:ext cx="147600" cy="93600"/>
                <a:chOff x="7234200" y="4660200"/>
                <a:chExt cx="147600" cy="9360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7234200" y="4660200"/>
                  <a:ext cx="27720" cy="9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261920" y="4660200"/>
                  <a:ext cx="11988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8" name=""/>
          <p:cNvGrpSpPr/>
          <p:nvPr/>
        </p:nvGrpSpPr>
        <p:grpSpPr>
          <a:xfrm>
            <a:off x="6770160" y="3780000"/>
            <a:ext cx="938880" cy="1463400"/>
            <a:chOff x="6770160" y="3780000"/>
            <a:chExt cx="938880" cy="1463400"/>
          </a:xfrm>
        </p:grpSpPr>
        <p:sp>
          <p:nvSpPr>
            <p:cNvPr id="169" name=""/>
            <p:cNvSpPr/>
            <p:nvPr/>
          </p:nvSpPr>
          <p:spPr>
            <a:xfrm rot="5400000">
              <a:off x="6507720" y="4042440"/>
              <a:ext cx="1463400" cy="938520"/>
            </a:xfrm>
            <a:custGeom>
              <a:avLst/>
              <a:gdLst>
                <a:gd name="textAreaLeft" fmla="*/ 321840 w 1463400"/>
                <a:gd name="textAreaRight" fmla="*/ 1141560 w 1463400"/>
                <a:gd name="textAreaTop" fmla="*/ 206280 h 938520"/>
                <a:gd name="textAreaBottom" fmla="*/ 732240 h 93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6770520" y="4167360"/>
              <a:ext cx="938520" cy="712080"/>
              <a:chOff x="6770520" y="4167360"/>
              <a:chExt cx="938520" cy="712080"/>
            </a:xfrm>
          </p:grpSpPr>
          <p:sp>
            <p:nvSpPr>
              <p:cNvPr id="171" name=""/>
              <p:cNvSpPr/>
              <p:nvPr/>
            </p:nvSpPr>
            <p:spPr>
              <a:xfrm>
                <a:off x="6770520" y="4877280"/>
                <a:ext cx="93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200000">
                <a:off x="6975720" y="4213440"/>
                <a:ext cx="610920" cy="518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7570800" y="4781880"/>
                <a:ext cx="125280" cy="97560"/>
                <a:chOff x="7570800" y="4781880"/>
                <a:chExt cx="125280" cy="97560"/>
              </a:xfrm>
            </p:grpSpPr>
            <p:sp>
              <p:nvSpPr>
                <p:cNvPr id="174" name=""/>
                <p:cNvSpPr/>
                <p:nvPr/>
              </p:nvSpPr>
              <p:spPr>
                <a:xfrm flipV="1">
                  <a:off x="7570800" y="4781880"/>
                  <a:ext cx="0" cy="9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70800" y="4781880"/>
                  <a:ext cx="12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6" name=""/>
          <p:cNvGrpSpPr/>
          <p:nvPr/>
        </p:nvGrpSpPr>
        <p:grpSpPr>
          <a:xfrm>
            <a:off x="6963480" y="3772800"/>
            <a:ext cx="1600200" cy="1737720"/>
            <a:chOff x="6963480" y="3772800"/>
            <a:chExt cx="1600200" cy="1737720"/>
          </a:xfrm>
        </p:grpSpPr>
        <p:sp>
          <p:nvSpPr>
            <p:cNvPr id="177" name=""/>
            <p:cNvSpPr/>
            <p:nvPr/>
          </p:nvSpPr>
          <p:spPr>
            <a:xfrm rot="3340200">
              <a:off x="7031520" y="4172400"/>
              <a:ext cx="1463760" cy="9381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91520" y="4188960"/>
              <a:ext cx="966240" cy="1019880"/>
              <a:chOff x="7391520" y="4188960"/>
              <a:chExt cx="966240" cy="101988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7583040" y="4679640"/>
                <a:ext cx="774720" cy="529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4140200">
                <a:off x="7472160" y="4327920"/>
                <a:ext cx="611280" cy="518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8189640" y="4608000"/>
                <a:ext cx="103320" cy="151560"/>
                <a:chOff x="8189640" y="4608000"/>
                <a:chExt cx="103320" cy="151560"/>
              </a:xfrm>
            </p:grpSpPr>
            <p:sp>
              <p:nvSpPr>
                <p:cNvPr id="182" name=""/>
                <p:cNvSpPr/>
                <p:nvPr/>
              </p:nvSpPr>
              <p:spPr>
                <a:xfrm flipH="1" flipV="1">
                  <a:off x="8189640" y="4678920"/>
                  <a:ext cx="55080" cy="80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8189640" y="4608000"/>
                  <a:ext cx="103320" cy="70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7243200" y="3755880"/>
            <a:ext cx="1738080" cy="1563840"/>
            <a:chOff x="7243200" y="3755880"/>
            <a:chExt cx="1738080" cy="1563840"/>
          </a:xfrm>
        </p:grpSpPr>
        <p:sp>
          <p:nvSpPr>
            <p:cNvPr id="185" name=""/>
            <p:cNvSpPr/>
            <p:nvPr/>
          </p:nvSpPr>
          <p:spPr>
            <a:xfrm rot="1886400">
              <a:off x="7380000" y="4068720"/>
              <a:ext cx="1463760" cy="938160"/>
            </a:xfrm>
            <a:custGeom>
              <a:avLst/>
              <a:gdLst>
                <a:gd name="textAreaLeft" fmla="*/ 321840 w 1463760"/>
                <a:gd name="textAreaRight" fmla="*/ 1141920 w 1463760"/>
                <a:gd name="textAreaTop" fmla="*/ 206280 h 938160"/>
                <a:gd name="textAreaBottom" fmla="*/ 731880 h 9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707960" y="4104000"/>
              <a:ext cx="961200" cy="1024920"/>
              <a:chOff x="7707960" y="4104000"/>
              <a:chExt cx="961200" cy="102492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8179920" y="4328640"/>
                <a:ext cx="489240" cy="80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2686400">
                <a:off x="7792560" y="4244040"/>
                <a:ext cx="683280" cy="518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8515800" y="4289760"/>
                <a:ext cx="83160" cy="158040"/>
                <a:chOff x="8515800" y="4289760"/>
                <a:chExt cx="83160" cy="158040"/>
              </a:xfrm>
            </p:grpSpPr>
            <p:sp>
              <p:nvSpPr>
                <p:cNvPr id="190" name=""/>
                <p:cNvSpPr/>
                <p:nvPr/>
              </p:nvSpPr>
              <p:spPr>
                <a:xfrm flipH="1" flipV="1">
                  <a:off x="8515800" y="4396680"/>
                  <a:ext cx="83160" cy="51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V="1">
                  <a:off x="8515800" y="4289760"/>
                  <a:ext cx="65160" cy="10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 txBox="1"/>
          <p:nvPr/>
        </p:nvSpPr>
        <p:spPr>
          <a:xfrm>
            <a:off x="1547640" y="907920"/>
            <a:ext cx="568980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已学图形面积的推导方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rot="10792800">
            <a:off x="4694040" y="2697120"/>
            <a:ext cx="1525320" cy="1022400"/>
          </a:xfrm>
          <a:prstGeom prst="triangle">
            <a:avLst>
              <a:gd name="adj" fmla="val 74796"/>
            </a:avLst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26920" y="3573360"/>
            <a:ext cx="144360" cy="142920"/>
            <a:chOff x="826920" y="3573360"/>
            <a:chExt cx="144360" cy="142920"/>
          </a:xfrm>
        </p:grpSpPr>
        <p:sp>
          <p:nvSpPr>
            <p:cNvPr id="196" name=""/>
            <p:cNvSpPr/>
            <p:nvPr/>
          </p:nvSpPr>
          <p:spPr>
            <a:xfrm>
              <a:off x="826920" y="357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1280" y="3573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sh dir="u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31214E-006 L 0.23716 -2.31214E-006 E">
                                      <p:cBhvr>
                                        <p:cTn id="14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4360" y="692280"/>
            <a:ext cx="129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猜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9" name=""/>
          <p:cNvSpPr/>
          <p:nvPr/>
        </p:nvSpPr>
        <p:spPr>
          <a:xfrm>
            <a:off x="1924200" y="2349360"/>
            <a:ext cx="50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你认为圆可以转化成哪些图形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7520" y="3664080"/>
            <a:ext cx="496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你认为圆的面积与圆的什么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关系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24000" y="2095920"/>
            <a:ext cx="86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四人小组合作，先拼一拼，然后仔细观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1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把圆拼成了一个什么图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拼成图形的面积与圆的面积有什么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200320" cy="1257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87920" y="2343240"/>
            <a:ext cx="2332080" cy="2381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59280" y="223920"/>
            <a:ext cx="2592360" cy="2413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5280" y="2205000"/>
            <a:ext cx="2152800" cy="217332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5920" y="2185920"/>
            <a:ext cx="2152440" cy="217332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2192400"/>
            <a:ext cx="2152800" cy="2173320"/>
          </a:xfrm>
          <a:prstGeom prst="ellipse">
            <a:avLst/>
          </a:prstGeom>
          <a:solidFill>
            <a:srgbClr val="e62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572000" y="189000"/>
            <a:ext cx="3000240" cy="2592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643280" y="189000"/>
            <a:ext cx="288000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3456000" cy="244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4449600" y="260280"/>
            <a:ext cx="3362400" cy="2376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8"/>
          <a:stretch/>
        </p:blipFill>
        <p:spPr>
          <a:xfrm>
            <a:off x="4284720" y="403200"/>
            <a:ext cx="3600360" cy="2089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9"/>
          <a:stretch/>
        </p:blipFill>
        <p:spPr>
          <a:xfrm>
            <a:off x="4211640" y="501480"/>
            <a:ext cx="3600360" cy="1703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0"/>
          <a:stretch/>
        </p:blipFill>
        <p:spPr>
          <a:xfrm>
            <a:off x="4067280" y="765000"/>
            <a:ext cx="3671640" cy="1187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4716360" y="2349360"/>
            <a:ext cx="2341800" cy="2374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2"/>
          <a:stretch/>
        </p:blipFill>
        <p:spPr>
          <a:xfrm>
            <a:off x="4218120" y="2349360"/>
            <a:ext cx="3306600" cy="2405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3"/>
          <a:stretch/>
        </p:blipFill>
        <p:spPr>
          <a:xfrm>
            <a:off x="4140360" y="2349360"/>
            <a:ext cx="3414600" cy="234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4"/>
          <a:stretch/>
        </p:blipFill>
        <p:spPr>
          <a:xfrm>
            <a:off x="4140360" y="2349360"/>
            <a:ext cx="3375000" cy="2376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5"/>
          <a:stretch/>
        </p:blipFill>
        <p:spPr>
          <a:xfrm>
            <a:off x="4092480" y="2492280"/>
            <a:ext cx="3432240" cy="2033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6"/>
          <a:stretch/>
        </p:blipFill>
        <p:spPr>
          <a:xfrm>
            <a:off x="3995640" y="2494080"/>
            <a:ext cx="3529080" cy="1871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7"/>
          <a:stretch/>
        </p:blipFill>
        <p:spPr>
          <a:xfrm>
            <a:off x="4067280" y="2852640"/>
            <a:ext cx="3443040" cy="1293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8"/>
          <a:stretch/>
        </p:blipFill>
        <p:spPr>
          <a:xfrm>
            <a:off x="3995640" y="4941720"/>
            <a:ext cx="3529080" cy="13082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 rot="20089200">
            <a:off x="2539800" y="1919160"/>
            <a:ext cx="1225440" cy="217440"/>
          </a:xfrm>
          <a:custGeom>
            <a:avLst/>
            <a:gdLst>
              <a:gd name="textAreaLeft" fmla="*/ 191520 w 1225440"/>
              <a:gd name="textAreaRight" fmla="*/ 1016280 w 1225440"/>
              <a:gd name="textAreaTop" fmla="*/ 50760 h 217440"/>
              <a:gd name="textAreaBottom" fmla="*/ 1666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043"/>
                </a:moveTo>
                <a:lnTo>
                  <a:pt x="14675" y="5043"/>
                </a:lnTo>
                <a:lnTo>
                  <a:pt x="14675" y="0"/>
                </a:lnTo>
                <a:lnTo>
                  <a:pt x="21600" y="10800"/>
                </a:lnTo>
                <a:lnTo>
                  <a:pt x="14675" y="21600"/>
                </a:lnTo>
                <a:lnTo>
                  <a:pt x="14675" y="16557"/>
                </a:lnTo>
                <a:lnTo>
                  <a:pt x="3375" y="16557"/>
                </a:lnTo>
                <a:close/>
              </a:path>
              <a:path w="21600" h="21600">
                <a:moveTo>
                  <a:pt x="0" y="5043"/>
                </a:moveTo>
                <a:lnTo>
                  <a:pt x="675" y="5043"/>
                </a:lnTo>
                <a:lnTo>
                  <a:pt x="675" y="16557"/>
                </a:lnTo>
                <a:lnTo>
                  <a:pt x="0" y="16557"/>
                </a:lnTo>
                <a:close/>
              </a:path>
              <a:path w="21600" h="21600">
                <a:moveTo>
                  <a:pt x="1350" y="5043"/>
                </a:moveTo>
                <a:lnTo>
                  <a:pt x="2700" y="5043"/>
                </a:lnTo>
                <a:lnTo>
                  <a:pt x="2700" y="16557"/>
                </a:lnTo>
                <a:lnTo>
                  <a:pt x="1350" y="16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01600">
            <a:off x="2701800" y="3429000"/>
            <a:ext cx="1225800" cy="216000"/>
          </a:xfrm>
          <a:custGeom>
            <a:avLst/>
            <a:gdLst>
              <a:gd name="textAreaLeft" fmla="*/ 191520 w 1225800"/>
              <a:gd name="textAreaRight" fmla="*/ 1016280 w 1225800"/>
              <a:gd name="textAreaTop" fmla="*/ 50400 h 216000"/>
              <a:gd name="textAreaBottom" fmla="*/ 1656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043"/>
                </a:moveTo>
                <a:lnTo>
                  <a:pt x="14675" y="5043"/>
                </a:lnTo>
                <a:lnTo>
                  <a:pt x="14675" y="0"/>
                </a:lnTo>
                <a:lnTo>
                  <a:pt x="21600" y="10800"/>
                </a:lnTo>
                <a:lnTo>
                  <a:pt x="14675" y="21600"/>
                </a:lnTo>
                <a:lnTo>
                  <a:pt x="14675" y="16557"/>
                </a:lnTo>
                <a:lnTo>
                  <a:pt x="3375" y="16557"/>
                </a:lnTo>
                <a:close/>
              </a:path>
              <a:path w="21600" h="21600">
                <a:moveTo>
                  <a:pt x="0" y="5043"/>
                </a:moveTo>
                <a:lnTo>
                  <a:pt x="675" y="5043"/>
                </a:lnTo>
                <a:lnTo>
                  <a:pt x="675" y="16557"/>
                </a:lnTo>
                <a:lnTo>
                  <a:pt x="0" y="16557"/>
                </a:lnTo>
                <a:close/>
              </a:path>
              <a:path w="21600" h="21600">
                <a:moveTo>
                  <a:pt x="1350" y="5043"/>
                </a:moveTo>
                <a:lnTo>
                  <a:pt x="2700" y="5043"/>
                </a:lnTo>
                <a:lnTo>
                  <a:pt x="2700" y="16557"/>
                </a:lnTo>
                <a:lnTo>
                  <a:pt x="1350" y="16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794000">
            <a:off x="2428560" y="4657680"/>
            <a:ext cx="1225440" cy="216000"/>
          </a:xfrm>
          <a:custGeom>
            <a:avLst/>
            <a:gdLst>
              <a:gd name="textAreaLeft" fmla="*/ 191520 w 1225440"/>
              <a:gd name="textAreaRight" fmla="*/ 1016280 w 1225440"/>
              <a:gd name="textAreaTop" fmla="*/ 50400 h 216000"/>
              <a:gd name="textAreaBottom" fmla="*/ 1656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043"/>
                </a:moveTo>
                <a:lnTo>
                  <a:pt x="14675" y="5043"/>
                </a:lnTo>
                <a:lnTo>
                  <a:pt x="14675" y="0"/>
                </a:lnTo>
                <a:lnTo>
                  <a:pt x="21600" y="10800"/>
                </a:lnTo>
                <a:lnTo>
                  <a:pt x="14675" y="21600"/>
                </a:lnTo>
                <a:lnTo>
                  <a:pt x="14675" y="16557"/>
                </a:lnTo>
                <a:lnTo>
                  <a:pt x="3375" y="16557"/>
                </a:lnTo>
                <a:close/>
              </a:path>
              <a:path w="21600" h="21600">
                <a:moveTo>
                  <a:pt x="0" y="5043"/>
                </a:moveTo>
                <a:lnTo>
                  <a:pt x="675" y="5043"/>
                </a:lnTo>
                <a:lnTo>
                  <a:pt x="675" y="16557"/>
                </a:lnTo>
                <a:lnTo>
                  <a:pt x="0" y="16557"/>
                </a:lnTo>
                <a:close/>
              </a:path>
              <a:path w="21600" h="21600">
                <a:moveTo>
                  <a:pt x="1350" y="5043"/>
                </a:moveTo>
                <a:lnTo>
                  <a:pt x="2700" y="5043"/>
                </a:lnTo>
                <a:lnTo>
                  <a:pt x="2700" y="16557"/>
                </a:lnTo>
                <a:lnTo>
                  <a:pt x="1350" y="16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3828E-006 L 0.50885 -0.27046 E">
                                      <p:cBhvr>
                                        <p:cTn id="237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evt="end">
                                        <p:tn val="239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evt="end">
                                        <p:tn val="243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1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0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9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000"/>
                            </p:stCondLst>
                            <p:childTnLst>
                              <p:par>
                                <p:cTn id="2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evt="end">
                                        <p:tn val="267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1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63662E-006 L 0.48055 0.04392 E">
                                      <p:cBhvr>
                                        <p:cTn id="280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000"/>
                            </p:stCondLst>
                            <p:childTnLst>
                              <p:par>
                                <p:cTn id="3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1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2590560"/>
            <a:ext cx="9036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请仔细观察拼成的平行四边形的底和高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看它们分别与圆的哪部分有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这个拼成的平行四边形的面积该怎样计算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你能根据平行四边形的面积计算公式推导出圆的面积计算公式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446040"/>
            <a:ext cx="2238480" cy="1542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12000" y="1052640"/>
            <a:ext cx="2665440" cy="906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276720" y="620640"/>
            <a:ext cx="1697040" cy="1733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148360" y="1341360"/>
            <a:ext cx="792000" cy="360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6T04:13:5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