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6.png" ContentType="image/png"/>
  <Override PartName="/ppt/media/cashreg.wav" ContentType="audio/x-wav"/>
  <Override PartName="/ppt/media/image12.jpeg" ContentType="image/jpeg"/>
  <Override PartName="/ppt/media/image34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chimes.wav" ContentType="audio/x-wav"/>
  <Override PartName="/ppt/media/image29.png" ContentType="image/png"/>
  <Override PartName="/ppt/media/image32.png" ContentType="image/png"/>
  <Override PartName="/ppt/media/image1.jpeg" ContentType="image/jpeg"/>
  <Override PartName="/ppt/media/image37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E68-A5B7-45AF-B0ED-9A6F73EF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1F1-6B56-43C9-9DBB-B31C29E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FC4-9E40-48FF-A98C-49922D8D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C5A-A1D0-433F-96C6-48DFCEC4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8D67-0160-4E5D-9F58-AA36FF16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D181-DC91-4883-A7FA-35C58A19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3ED7-85C3-4A1D-9BE7-58D6A1D1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E15E-BB1D-4134-B2EF-A380F0C5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50E-494C-42AD-942A-932A32D8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B6B-0079-4EF9-891D-BEF556E2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28FE-365C-4481-AF4B-442DCF6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60E-56F1-43C3-AFE1-B78FAA66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4429-2DC6-4DD7-9E2B-76BB2CB9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3AAC-B0AE-410B-908C-C0344CB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FABD-1983-479E-9EFB-B2937B2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A6D3-64B1-4249-A9AA-313FCB6A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CDCB-AA07-4DA8-BB31-2CF433B9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49C-05F6-43FA-B169-2E176E13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910-159D-4049-A972-3E3AA2F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F02-2C02-4B80-841B-0E4C54D0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80F-361B-4A33-8FAD-942FAF55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9B0-337D-47CB-9897-870F2AE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E6D-4D27-4092-BAFC-A4AB52E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44A-EF45-46D0-9C99-A05DCFB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AA3-1A29-454E-ABA7-0AA0DD88A7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48C-C0F7-40FD-92C5-5649DE9A1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13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4.png"/><Relationship Id="rId8" Type="http://schemas.openxmlformats.org/officeDocument/2006/relationships/image" Target="../media/image3.jpeg"/><Relationship Id="rId9" Type="http://schemas.openxmlformats.org/officeDocument/2006/relationships/image" Target="../media/image1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   认  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468360" y="2638440"/>
            <a:ext cx="2592000" cy="2503080"/>
            <a:chOff x="468360" y="2638440"/>
            <a:chExt cx="2592000" cy="2503080"/>
          </a:xfrm>
        </p:grpSpPr>
        <p:sp>
          <p:nvSpPr>
            <p:cNvPr id="84" name="Oval 4"/>
            <p:cNvSpPr/>
            <p:nvPr/>
          </p:nvSpPr>
          <p:spPr>
            <a:xfrm>
              <a:off x="468360" y="2638440"/>
              <a:ext cx="2592000" cy="2503080"/>
            </a:xfrm>
            <a:prstGeom prst="ellipse">
              <a:avLst/>
            </a:prstGeom>
            <a:solidFill>
              <a:srgbClr val="ffff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WordArt 5"/>
            <p:cNvSpPr txBox="1"/>
            <p:nvPr/>
          </p:nvSpPr>
          <p:spPr>
            <a:xfrm>
              <a:off x="805320" y="3061080"/>
              <a:ext cx="1966680" cy="151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763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幼圆"/>
                </a:rPr>
                <a:t>圆</a:t>
              </a:r>
              <a:endParaRPr b="1" lang="en-US" sz="18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幼圆"/>
                <a:ea typeface="幼圆"/>
              </a:endParaRPr>
            </a:p>
          </p:txBody>
        </p:sp>
      </p:grp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五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539640" y="4359240"/>
            <a:ext cx="8101080" cy="1733760"/>
          </a:xfrm>
          <a:prstGeom prst="parallelogram">
            <a:avLst>
              <a:gd name="adj" fmla="val -106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4635720" y="2634840"/>
            <a:ext cx="1961640" cy="2742480"/>
            <a:chOff x="4635720" y="2634840"/>
            <a:chExt cx="1961640" cy="2742480"/>
          </a:xfrm>
        </p:grpSpPr>
        <p:sp>
          <p:nvSpPr>
            <p:cNvPr id="158" name="Rectangle 5"/>
            <p:cNvSpPr/>
            <p:nvPr/>
          </p:nvSpPr>
          <p:spPr>
            <a:xfrm rot="19546800">
              <a:off x="5427360" y="2445840"/>
              <a:ext cx="215640" cy="2881440"/>
            </a:xfrm>
            <a:prstGeom prst="rect">
              <a:avLst/>
            </a:prstGeom>
            <a:gradFill rotWithShape="0">
              <a:gsLst>
                <a:gs pos="0">
                  <a:srgbClr val="d60093"/>
                </a:gs>
                <a:gs pos="50000">
                  <a:srgbClr val="630044"/>
                </a:gs>
                <a:gs pos="100000">
                  <a:srgbClr val="d6009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 flipV="1" rot="19546200">
              <a:off x="6319080" y="505296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Picture 7" descr="TO087s"/>
          <p:cNvPicPr/>
          <p:nvPr/>
        </p:nvPicPr>
        <p:blipFill>
          <a:blip r:embed="rId1"/>
          <a:stretch/>
        </p:blipFill>
        <p:spPr>
          <a:xfrm rot="19504200">
            <a:off x="468000" y="1267920"/>
            <a:ext cx="1504800" cy="933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3302640" y="10638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画一画，剪一剪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reeform 9"/>
          <p:cNvSpPr/>
          <p:nvPr/>
        </p:nvSpPr>
        <p:spPr>
          <a:xfrm flipV="1" rot="15130200">
            <a:off x="4362840" y="5005080"/>
            <a:ext cx="432000" cy="58932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10" descr="未标题-3 拷贝"/>
          <p:cNvPicPr/>
          <p:nvPr/>
        </p:nvPicPr>
        <p:blipFill>
          <a:blip r:embed="rId2"/>
          <a:stretch/>
        </p:blipFill>
        <p:spPr>
          <a:xfrm>
            <a:off x="4067280" y="1844640"/>
            <a:ext cx="2663640" cy="4032360"/>
          </a:xfrm>
          <a:prstGeom prst="rect">
            <a:avLst/>
          </a:prstGeom>
          <a:ln w="0">
            <a:noFill/>
          </a:ln>
        </p:spPr>
      </p:pic>
      <p:sp>
        <p:nvSpPr>
          <p:cNvPr id="164" name="Freeform 11"/>
          <p:cNvSpPr/>
          <p:nvPr/>
        </p:nvSpPr>
        <p:spPr>
          <a:xfrm>
            <a:off x="4284720" y="5229360"/>
            <a:ext cx="2303280" cy="58896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2475000" y="2778840"/>
            <a:ext cx="1962000" cy="2743200"/>
            <a:chOff x="2475000" y="2778840"/>
            <a:chExt cx="1962000" cy="2743200"/>
          </a:xfrm>
        </p:grpSpPr>
        <p:sp>
          <p:nvSpPr>
            <p:cNvPr id="166" name="Rectangle 13"/>
            <p:cNvSpPr/>
            <p:nvPr/>
          </p:nvSpPr>
          <p:spPr>
            <a:xfrm rot="19546800">
              <a:off x="3266640" y="2590200"/>
              <a:ext cx="216000" cy="288144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50000">
                  <a:srgbClr val="761847"/>
                </a:gs>
                <a:gs pos="100000">
                  <a:srgbClr val="ff33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AutoShape 14"/>
            <p:cNvSpPr/>
            <p:nvPr/>
          </p:nvSpPr>
          <p:spPr>
            <a:xfrm flipV="1" rot="19546200">
              <a:off x="4158360" y="5196960"/>
              <a:ext cx="216000" cy="2887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041 C 0.0033 0.00625 0.0184 0.02292 0.04323 0.03172 C 0.06806 0.04051 0.11146 0.04398 0.13768 0.04213 C 0.16389 0.04028 0.18229 0.03334 0.2007 0.02107 C 0.2191 0.0088 0.24011 -0.02268 0.24792 -0.03148 E">
                                      <p:cBhvr>
                                        <p:cTn id="18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0.01041 C 0.00573 -0.00278 -0.00018 -0.01574 -0.0198 -0.02107 C -0.03941 -0.02639 -0.07882 -0.02107 -0.10643 -0.02107 C -0.13403 -0.02107 -0.16302 -0.02801 -0.18525 -0.02107 C -0.20747 -0.01412 -0.23108 0.01412 -0.24028 0.02106 E">
                                      <p:cBhvr>
                                        <p:cTn id="19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2" descr="TO076s"/>
          <p:cNvPicPr/>
          <p:nvPr/>
        </p:nvPicPr>
        <p:blipFill>
          <a:blip r:embed="rId1"/>
          <a:stretch/>
        </p:blipFill>
        <p:spPr>
          <a:xfrm rot="2325600">
            <a:off x="6516360" y="3652560"/>
            <a:ext cx="1620720" cy="294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TO008s"/>
          <p:cNvPicPr/>
          <p:nvPr/>
        </p:nvPicPr>
        <p:blipFill>
          <a:blip r:embed="rId2"/>
          <a:stretch/>
        </p:blipFill>
        <p:spPr>
          <a:xfrm>
            <a:off x="649440" y="1557360"/>
            <a:ext cx="2193840" cy="251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TO049s"/>
          <p:cNvPicPr/>
          <p:nvPr/>
        </p:nvPicPr>
        <p:blipFill>
          <a:blip r:embed="rId3"/>
          <a:stretch/>
        </p:blipFill>
        <p:spPr>
          <a:xfrm>
            <a:off x="2195640" y="3357720"/>
            <a:ext cx="1733400" cy="2944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OT060s"/>
          <p:cNvPicPr/>
          <p:nvPr/>
        </p:nvPicPr>
        <p:blipFill>
          <a:blip r:embed="rId4"/>
          <a:stretch/>
        </p:blipFill>
        <p:spPr>
          <a:xfrm>
            <a:off x="5796000" y="1268280"/>
            <a:ext cx="1278000" cy="2729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6"/>
          <p:cNvSpPr/>
          <p:nvPr/>
        </p:nvSpPr>
        <p:spPr>
          <a:xfrm>
            <a:off x="3851280" y="1413000"/>
            <a:ext cx="1152360" cy="4392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9966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用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规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063 -0.03982 C -0.43299 0.04838 -0.40608 0.11643 -0.38264 0.11875 C -0.36059 0.12106 -0.34063 0.05879 -0.33594 -0.02639 C -0.33056 -0.11111 -0.34289 -0.1838 -0.36511 -0.18681 C -0.38907 -0.18889 -0.39966 -0.11551 -0.38803 -0.02871 C -0.37431 0.05694 -0.34792 0.12222 -0.32657 0.1243 C -0.30365 0.12639 -0.28247 0.06319 -0.27778 -0.02061 C -0.27292 -0.10556 -0.28664 -0.17894 -0.30955 -0.18079 C -0.33125 -0.18334 -0.34132 -0.10973 -0.33004 -0.02431 C -0.31875 0.0625 -0.29202 0.12777 -0.26997 0.12963 C -0.24497 0.1324 -0.22362 0.06898 -0.21806 -0.01598 C -0.21459 -0.09977 -0.22865 -0.17338 -0.25296 -0.17523 C -0.27292 -0.17778 -0.28299 -0.10394 -0.27344 -0.01875 C -0.26233 0.06643 -0.23386 0.13356 -0.21129 0.13564 C -0.18924 0.13796 -0.16771 0.07314 -0.16302 -0.01042 C -0.15816 -0.09699 -0.17223 -0.16713 -0.19427 -0.16991 C -0.21598 -0.17199 -0.22639 -0.09977 -0.21563 -0.01436 C -0.20417 0.07106 -0.17726 0.13865 -0.15487 0.1412 C -0.13143 0.14375 -0.11129 0.0787 -0.10712 -0.00625 C -0.10209 -0.09121 -0.11632 -0.16227 -0.1382 -0.16436 C -0.16025 -0.16644 -0.17049 -0.09422 -0.15921 -0.0088 C -0.1474 0.07662 -0.11841 0.1449 -0.09862 0.14699 C -0.07691 0.14907 -0.05521 0.0831 -0.05052 -0.0007 C -0.04584 -0.08588 -0.0599 -0.15648 -0.0816 -0.1588 C -0.10209 -0.16065 -0.11198 -0.08959 -0.10243 -0.00324 C -0.09115 0.08217 -0.06285 0.15046 -0.0408 0.15231 C -0.02032 0.15463 0.00277 0.08842 0.00746 0.00347 C 0.01163 -0.08172 -0.00157 -0.1507 -0.02379 -0.15301 C -0.04584 -0.1551 -0.05573 -0.08403 -0.04427 0.00115 C -0.03247 0.08657 -0.00695 0.1574 0.01527 0.1581 C 0.03732 0.15926 0.05711 0.09352 0.0618 0.00833 C 0.06632 -0.07616 0.05156 -0.14537 0.0302 -0.14769 C 0.01007 -0.14954 0.00034 -0.08125 0.01354 0.00416 E"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552 1.48148E-006 C 0.37084 -0.02523 0.36493 -0.04931 0.35278 -0.04931 C 0.33924 -0.04931 0.33472 -0.02523 0.33004 1.48148E-006 C 0.32413 0.02801 0.31979 0.05602 0.30469 0.05602 C 0.29097 0.05602 0.28663 0.02801 0.28073 1.48148E-006 C 0.27778 -0.02523 0.27188 -0.04931 0.25816 -0.04931 C 0.24618 -0.04931 0.24028 -0.02523 0.23542 1.48148E-006 C 0.23108 0.02801 0.22518 0.05602 0.21146 0.05602 C 0.19792 0.05602 0.18768 1.48147999999999E-006 0.18768 0.00023 C 0.18316 -0.02523 0.17847 -0.04931 0.16493 -0.04931 C 0.15157 -0.04931 0.14688 -0.02523 0.14236 1.48148E-006 C 0.13646 0.02801 0.13212 0.05602 0.11702 0.05602 C 0.1033 0.05602 0.09896 0.02801 0.09427 1.48148E-006 C 0.08837 -0.02523 0.08403 -0.04931 0.07032 -0.04931 C 0.05851 -0.04931 0.05261 -0.02523 0.04775 1.48148E-006 C 0.04341 0.02801 0.03733 0.05602 0.02361 0.05602 C 0.01025 0.05602 0.00591 0.02801 -2.5E-006 1.48148E-006 E">
                                      <p:cBhvr>
                                        <p:cTn id="21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4" descr="7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/>
          <p:cNvSpPr/>
          <p:nvPr/>
        </p:nvSpPr>
        <p:spPr>
          <a:xfrm>
            <a:off x="324000" y="1628640"/>
            <a:ext cx="3673440" cy="2305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826920" y="4005360"/>
            <a:ext cx="7813800" cy="2087640"/>
          </a:xfrm>
          <a:prstGeom prst="parallelogram">
            <a:avLst>
              <a:gd name="adj" fmla="val -91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4065480" y="5013360"/>
            <a:ext cx="7994520" cy="1471320"/>
            <a:chOff x="4065480" y="5013360"/>
            <a:chExt cx="7994520" cy="1471320"/>
          </a:xfrm>
        </p:grpSpPr>
        <p:grpSp>
          <p:nvGrpSpPr>
            <p:cNvPr id="178" name="Group 6"/>
            <p:cNvGrpSpPr/>
            <p:nvPr/>
          </p:nvGrpSpPr>
          <p:grpSpPr>
            <a:xfrm>
              <a:off x="4065480" y="5013360"/>
              <a:ext cx="7994520" cy="1471320"/>
              <a:chOff x="4065480" y="5013360"/>
              <a:chExt cx="7994520" cy="1471320"/>
            </a:xfrm>
          </p:grpSpPr>
          <p:graphicFrame>
            <p:nvGraphicFramePr>
              <p:cNvPr id="179" name="Object 7"/>
              <p:cNvGraphicFramePr/>
              <p:nvPr/>
            </p:nvGraphicFramePr>
            <p:xfrm>
              <a:off x="4065480" y="5013360"/>
              <a:ext cx="7944120" cy="13341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0" name="Object 7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065480" y="5013360"/>
                        <a:ext cx="7944120" cy="13341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07932" dir="8100000" blurRad="0" rotWithShape="0">
                          <a:srgbClr val="808080">
                            <a:alpha val="50000"/>
                          </a:srgbClr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181" name="Rectangle 8"/>
              <p:cNvSpPr/>
              <p:nvPr/>
            </p:nvSpPr>
            <p:spPr>
              <a:xfrm>
                <a:off x="11782440" y="6344280"/>
                <a:ext cx="277560" cy="14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" name="Text Box 9"/>
            <p:cNvSpPr/>
            <p:nvPr/>
          </p:nvSpPr>
          <p:spPr>
            <a:xfrm>
              <a:off x="4065840" y="534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496980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587376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676728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767448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947988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1031184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121940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857556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Text Box 18"/>
          <p:cNvSpPr/>
          <p:nvPr/>
        </p:nvSpPr>
        <p:spPr>
          <a:xfrm>
            <a:off x="1757160" y="78588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方正姚体"/>
                <a:ea typeface="方正姚体"/>
              </a:rPr>
              <a:t>画一个半径为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方正姚体"/>
                <a:ea typeface="方正姚体"/>
              </a:rPr>
              <a:t>2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方正姚体"/>
                <a:ea typeface="方正姚体"/>
              </a:rPr>
              <a:t>厘米的圆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4134960" y="612720"/>
            <a:ext cx="4456800" cy="5193360"/>
            <a:chOff x="4134960" y="612720"/>
            <a:chExt cx="4456800" cy="5193360"/>
          </a:xfrm>
        </p:grpSpPr>
        <p:pic>
          <p:nvPicPr>
            <p:cNvPr id="193" name="Picture 20" descr="TO076 拷贝5"/>
            <p:cNvPicPr/>
            <p:nvPr/>
          </p:nvPicPr>
          <p:blipFill>
            <a:blip r:embed="rId4"/>
            <a:stretch/>
          </p:blipFill>
          <p:spPr>
            <a:xfrm rot="2132400">
              <a:off x="5167800" y="1206360"/>
              <a:ext cx="2368440" cy="43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1" descr="TO076 拷贝"/>
            <p:cNvPicPr/>
            <p:nvPr/>
          </p:nvPicPr>
          <p:blipFill>
            <a:blip r:embed="rId5"/>
            <a:stretch/>
          </p:blipFill>
          <p:spPr>
            <a:xfrm rot="2132400">
              <a:off x="5190480" y="899280"/>
              <a:ext cx="2368440" cy="431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 Box 22"/>
          <p:cNvSpPr/>
          <p:nvPr/>
        </p:nvSpPr>
        <p:spPr>
          <a:xfrm>
            <a:off x="1026360" y="186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一、定长（半径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1815480" y="2478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二、定点（圆心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101240" y="30542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三、一只脚旋转一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4727520" y="450864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4643280" y="4941720"/>
            <a:ext cx="21600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2970360" y="714240"/>
            <a:ext cx="3770280" cy="5149440"/>
            <a:chOff x="2970360" y="714240"/>
            <a:chExt cx="3770280" cy="5149440"/>
          </a:xfrm>
        </p:grpSpPr>
        <p:pic>
          <p:nvPicPr>
            <p:cNvPr id="201" name="Picture 28" descr="TO076 拷贝5"/>
            <p:cNvPicPr/>
            <p:nvPr/>
          </p:nvPicPr>
          <p:blipFill>
            <a:blip r:embed="rId6"/>
            <a:stretch/>
          </p:blipFill>
          <p:spPr>
            <a:xfrm flipH="1" rot="20403600">
              <a:off x="3634560" y="1276200"/>
              <a:ext cx="2368440" cy="43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9" descr="TO076 拷贝"/>
            <p:cNvPicPr/>
            <p:nvPr/>
          </p:nvPicPr>
          <p:blipFill>
            <a:blip r:embed="rId7"/>
            <a:stretch/>
          </p:blipFill>
          <p:spPr>
            <a:xfrm flipH="1" rot="20403600">
              <a:off x="3707640" y="988920"/>
              <a:ext cx="2368440" cy="43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Oval 30"/>
          <p:cNvSpPr/>
          <p:nvPr/>
        </p:nvSpPr>
        <p:spPr>
          <a:xfrm>
            <a:off x="2700360" y="4221000"/>
            <a:ext cx="4176720" cy="1584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1"/>
          <p:cNvGrpSpPr/>
          <p:nvPr/>
        </p:nvGrpSpPr>
        <p:grpSpPr>
          <a:xfrm>
            <a:off x="2488320" y="570600"/>
            <a:ext cx="4592160" cy="5132520"/>
            <a:chOff x="2488320" y="570600"/>
            <a:chExt cx="4592160" cy="5132520"/>
          </a:xfrm>
        </p:grpSpPr>
        <p:pic>
          <p:nvPicPr>
            <p:cNvPr id="205" name="Picture 32" descr="TO076 拷贝5"/>
            <p:cNvPicPr/>
            <p:nvPr/>
          </p:nvPicPr>
          <p:blipFill>
            <a:blip r:embed="rId8"/>
            <a:stretch/>
          </p:blipFill>
          <p:spPr>
            <a:xfrm flipH="1" rot="19240200">
              <a:off x="3613320" y="1127880"/>
              <a:ext cx="2368440" cy="43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3" descr="TO076 拷贝"/>
            <p:cNvPicPr/>
            <p:nvPr/>
          </p:nvPicPr>
          <p:blipFill>
            <a:blip r:embed="rId9"/>
            <a:stretch/>
          </p:blipFill>
          <p:spPr>
            <a:xfrm flipH="1" rot="19240200">
              <a:off x="3586680" y="832680"/>
              <a:ext cx="2368440" cy="4312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21 -0.03218 L 0.00034 0.00995 E">
                                      <p:cBhvr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047 L -3.61111E-006 -2.22222E-006 E">
                                      <p:cBhvr>
                                        <p:cTn id="282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Oval 3"/>
          <p:cNvSpPr/>
          <p:nvPr/>
        </p:nvSpPr>
        <p:spPr>
          <a:xfrm rot="5400000">
            <a:off x="2554920" y="162936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认一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4284720" y="3357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3780000" y="297180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2" name="Text Box 7"/>
          <p:cNvSpPr/>
          <p:nvPr/>
        </p:nvSpPr>
        <p:spPr>
          <a:xfrm rot="18316800">
            <a:off x="4744080" y="260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8"/>
          <p:cNvSpPr/>
          <p:nvPr/>
        </p:nvSpPr>
        <p:spPr>
          <a:xfrm rot="18291600">
            <a:off x="5186880" y="2145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4356000" y="198900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556000" y="3429000"/>
            <a:ext cx="3600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638880" y="34290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直 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451044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547640" y="895320"/>
            <a:ext cx="2286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学指导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744560" y="1886040"/>
            <a:ext cx="52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学课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任意画一个圆，再画一画、比一比、折一折，量一量，在小组里讨论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同一圆里可以画出多少条半径，它们的长度都相等吗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同一圆里，可以画出多少条直径？它们的长度相等吗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圆里的直径和半径有什么关系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圆是轴对称图形吗？它有多少条对称轴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3"/>
          <p:cNvSpPr/>
          <p:nvPr/>
        </p:nvSpPr>
        <p:spPr>
          <a:xfrm rot="7990200">
            <a:off x="2049480" y="2205360"/>
            <a:ext cx="3529080" cy="352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折一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2050920" y="2206800"/>
            <a:ext cx="3529080" cy="352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6" descr="112"/>
          <p:cNvPicPr/>
          <p:nvPr/>
        </p:nvPicPr>
        <p:blipFill>
          <a:blip r:embed="rId1"/>
          <a:stretch/>
        </p:blipFill>
        <p:spPr>
          <a:xfrm>
            <a:off x="1763640" y="2060640"/>
            <a:ext cx="4048200" cy="3895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5" name="PubChord"/>
          <p:cNvSpPr/>
          <p:nvPr/>
        </p:nvSpPr>
        <p:spPr>
          <a:xfrm rot="18885000">
            <a:off x="1992240" y="2190960"/>
            <a:ext cx="3673440" cy="369900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8"/>
          <p:cNvSpPr/>
          <p:nvPr/>
        </p:nvSpPr>
        <p:spPr>
          <a:xfrm rot="5400000">
            <a:off x="2051640" y="2205720"/>
            <a:ext cx="3529080" cy="352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2050920" y="393372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0" descr="112"/>
          <p:cNvPicPr/>
          <p:nvPr/>
        </p:nvPicPr>
        <p:blipFill>
          <a:blip r:embed="rId2"/>
          <a:stretch/>
        </p:blipFill>
        <p:spPr>
          <a:xfrm>
            <a:off x="1828800" y="1916280"/>
            <a:ext cx="3895560" cy="4047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9" name="PubChord"/>
          <p:cNvSpPr/>
          <p:nvPr/>
        </p:nvSpPr>
        <p:spPr>
          <a:xfrm rot="2685000">
            <a:off x="1906200" y="2106720"/>
            <a:ext cx="3673440" cy="369864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780000" y="2205000"/>
            <a:ext cx="0" cy="352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ubChord"/>
          <p:cNvSpPr/>
          <p:nvPr/>
        </p:nvSpPr>
        <p:spPr>
          <a:xfrm rot="5278800">
            <a:off x="1828800" y="1840320"/>
            <a:ext cx="4033800" cy="403236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4"/>
          <p:cNvSpPr/>
          <p:nvPr/>
        </p:nvSpPr>
        <p:spPr>
          <a:xfrm flipV="1">
            <a:off x="2572560" y="2682000"/>
            <a:ext cx="2410200" cy="25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15" descr="112"/>
          <p:cNvPicPr/>
          <p:nvPr/>
        </p:nvPicPr>
        <p:blipFill>
          <a:blip r:embed="rId3"/>
          <a:stretch/>
        </p:blipFill>
        <p:spPr>
          <a:xfrm rot="2554800">
            <a:off x="1834920" y="1916280"/>
            <a:ext cx="3895560" cy="405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4" name="AutoShape 16"/>
          <p:cNvSpPr/>
          <p:nvPr/>
        </p:nvSpPr>
        <p:spPr>
          <a:xfrm>
            <a:off x="6227640" y="2349360"/>
            <a:ext cx="2664000" cy="1871640"/>
          </a:xfrm>
          <a:prstGeom prst="cloudCallout">
            <a:avLst>
              <a:gd name="adj1" fmla="val 23657"/>
              <a:gd name="adj2" fmla="val 9911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折过若干次后，可以发现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7" descr=""/>
          <p:cNvPicPr/>
          <p:nvPr/>
        </p:nvPicPr>
        <p:blipFill>
          <a:blip r:embed="rId4"/>
          <a:stretch/>
        </p:blipFill>
        <p:spPr>
          <a:xfrm>
            <a:off x="7658280" y="4869000"/>
            <a:ext cx="1306440" cy="1800000"/>
          </a:xfrm>
          <a:prstGeom prst="rect">
            <a:avLst/>
          </a:prstGeom>
          <a:ln w="0">
            <a:noFill/>
          </a:ln>
        </p:spPr>
      </p:pic>
      <p:sp>
        <p:nvSpPr>
          <p:cNvPr id="236" name="Line 18"/>
          <p:cNvSpPr/>
          <p:nvPr/>
        </p:nvSpPr>
        <p:spPr>
          <a:xfrm flipH="1" flipV="1">
            <a:off x="3254040" y="2284920"/>
            <a:ext cx="1051920" cy="33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9"/>
          <p:cNvSpPr/>
          <p:nvPr/>
        </p:nvSpPr>
        <p:spPr>
          <a:xfrm flipH="1">
            <a:off x="3072960" y="2289240"/>
            <a:ext cx="1272240" cy="328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0"/>
          <p:cNvSpPr/>
          <p:nvPr/>
        </p:nvSpPr>
        <p:spPr>
          <a:xfrm flipH="1" flipV="1">
            <a:off x="2467440" y="2867400"/>
            <a:ext cx="2688480" cy="227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Oval 3"/>
          <p:cNvSpPr/>
          <p:nvPr/>
        </p:nvSpPr>
        <p:spPr>
          <a:xfrm rot="5400000">
            <a:off x="2554920" y="126900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2627280" y="1341360"/>
            <a:ext cx="3457440" cy="3456000"/>
            <a:chOff x="2627280" y="1341360"/>
            <a:chExt cx="3457440" cy="3456000"/>
          </a:xfrm>
        </p:grpSpPr>
        <p:grpSp>
          <p:nvGrpSpPr>
            <p:cNvPr id="242" name="Group 5"/>
            <p:cNvGrpSpPr/>
            <p:nvPr/>
          </p:nvGrpSpPr>
          <p:grpSpPr>
            <a:xfrm>
              <a:off x="2627280" y="1341360"/>
              <a:ext cx="2305080" cy="3456000"/>
              <a:chOff x="2627280" y="1341360"/>
              <a:chExt cx="2305080" cy="3456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2627280" y="1341360"/>
                <a:ext cx="2305080" cy="3456000"/>
                <a:chOff x="2627280" y="1341360"/>
                <a:chExt cx="2305080" cy="3456000"/>
              </a:xfrm>
            </p:grpSpPr>
            <p:grpSp>
              <p:nvGrpSpPr>
                <p:cNvPr id="244" name="Group 7"/>
                <p:cNvGrpSpPr/>
                <p:nvPr/>
              </p:nvGrpSpPr>
              <p:grpSpPr>
                <a:xfrm>
                  <a:off x="2627280" y="1341360"/>
                  <a:ext cx="2305080" cy="3456000"/>
                  <a:chOff x="2627280" y="1341360"/>
                  <a:chExt cx="2305080" cy="3456000"/>
                </a:xfrm>
              </p:grpSpPr>
              <p:sp>
                <p:nvSpPr>
                  <p:cNvPr id="245" name="Line 8"/>
                  <p:cNvSpPr/>
                  <p:nvPr/>
                </p:nvSpPr>
                <p:spPr>
                  <a:xfrm flipH="1" flipV="1">
                    <a:off x="2832480" y="2153160"/>
                    <a:ext cx="1528920" cy="94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46" name="Group 9"/>
                  <p:cNvGrpSpPr/>
                  <p:nvPr/>
                </p:nvGrpSpPr>
                <p:grpSpPr>
                  <a:xfrm>
                    <a:off x="2627280" y="1341360"/>
                    <a:ext cx="1728720" cy="2879640"/>
                    <a:chOff x="2627280" y="1341360"/>
                    <a:chExt cx="1728720" cy="2879640"/>
                  </a:xfrm>
                </p:grpSpPr>
                <p:grpSp>
                  <p:nvGrpSpPr>
                    <p:cNvPr id="247" name="Group 10"/>
                    <p:cNvGrpSpPr/>
                    <p:nvPr/>
                  </p:nvGrpSpPr>
                  <p:grpSpPr>
                    <a:xfrm>
                      <a:off x="2627280" y="1341360"/>
                      <a:ext cx="1728720" cy="1727280"/>
                      <a:chOff x="2627280" y="1341360"/>
                      <a:chExt cx="1728720" cy="1727280"/>
                    </a:xfrm>
                  </p:grpSpPr>
                  <p:sp>
                    <p:nvSpPr>
                      <p:cNvPr id="248" name="Line 11"/>
                      <p:cNvSpPr/>
                      <p:nvPr/>
                    </p:nvSpPr>
                    <p:spPr>
                      <a:xfrm flipH="1" flipV="1">
                        <a:off x="3779280" y="1341360"/>
                        <a:ext cx="576360" cy="17272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49" name="Line 12"/>
                      <p:cNvSpPr/>
                      <p:nvPr/>
                    </p:nvSpPr>
                    <p:spPr>
                      <a:xfrm flipH="1" flipV="1">
                        <a:off x="2627280" y="2565360"/>
                        <a:ext cx="1728720" cy="5032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250" name="Line 13"/>
                    <p:cNvSpPr/>
                    <p:nvPr/>
                  </p:nvSpPr>
                  <p:spPr>
                    <a:xfrm flipH="1">
                      <a:off x="2987280" y="3068640"/>
                      <a:ext cx="1368360" cy="11523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51" name="Line 14"/>
                  <p:cNvSpPr/>
                  <p:nvPr/>
                </p:nvSpPr>
                <p:spPr>
                  <a:xfrm>
                    <a:off x="4356000" y="3068640"/>
                    <a:ext cx="576360" cy="17287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52" name="Line 15"/>
                <p:cNvSpPr/>
                <p:nvPr/>
              </p:nvSpPr>
              <p:spPr>
                <a:xfrm flipV="1">
                  <a:off x="4356000" y="1341360"/>
                  <a:ext cx="576360" cy="172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3" name="Line 16"/>
              <p:cNvSpPr/>
              <p:nvPr/>
            </p:nvSpPr>
            <p:spPr>
              <a:xfrm flipH="1">
                <a:off x="3851280" y="3068640"/>
                <a:ext cx="504720" cy="172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4" name="Line 17"/>
            <p:cNvSpPr/>
            <p:nvPr/>
          </p:nvSpPr>
          <p:spPr>
            <a:xfrm>
              <a:off x="4356000" y="3068640"/>
              <a:ext cx="172872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Line 18"/>
          <p:cNvSpPr/>
          <p:nvPr/>
        </p:nvSpPr>
        <p:spPr>
          <a:xfrm flipV="1">
            <a:off x="4385520" y="1855440"/>
            <a:ext cx="1307520" cy="12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4356000" y="3068640"/>
            <a:ext cx="158436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356000" y="30686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21"/>
          <p:cNvSpPr/>
          <p:nvPr/>
        </p:nvSpPr>
        <p:spPr>
          <a:xfrm flipV="1">
            <a:off x="4356000" y="2420640"/>
            <a:ext cx="165600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22"/>
          <p:cNvSpPr/>
          <p:nvPr/>
        </p:nvSpPr>
        <p:spPr>
          <a:xfrm>
            <a:off x="4356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23"/>
          <p:cNvSpPr/>
          <p:nvPr/>
        </p:nvSpPr>
        <p:spPr>
          <a:xfrm>
            <a:off x="435600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24"/>
          <p:cNvSpPr/>
          <p:nvPr/>
        </p:nvSpPr>
        <p:spPr>
          <a:xfrm flipH="1">
            <a:off x="2556000" y="306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25"/>
          <p:cNvSpPr/>
          <p:nvPr/>
        </p:nvSpPr>
        <p:spPr>
          <a:xfrm flipH="1">
            <a:off x="270000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26"/>
          <p:cNvSpPr/>
          <p:nvPr/>
        </p:nvSpPr>
        <p:spPr>
          <a:xfrm flipH="1">
            <a:off x="3348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27"/>
          <p:cNvSpPr/>
          <p:nvPr/>
        </p:nvSpPr>
        <p:spPr>
          <a:xfrm flipH="1" flipV="1">
            <a:off x="3276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435600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30"/>
          <p:cNvSpPr/>
          <p:nvPr/>
        </p:nvSpPr>
        <p:spPr>
          <a:xfrm flipV="1">
            <a:off x="4356000" y="2420640"/>
            <a:ext cx="165600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31"/>
          <p:cNvSpPr/>
          <p:nvPr/>
        </p:nvSpPr>
        <p:spPr>
          <a:xfrm>
            <a:off x="435600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32"/>
          <p:cNvSpPr/>
          <p:nvPr/>
        </p:nvSpPr>
        <p:spPr>
          <a:xfrm flipH="1">
            <a:off x="2556000" y="306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33"/>
          <p:cNvSpPr/>
          <p:nvPr/>
        </p:nvSpPr>
        <p:spPr>
          <a:xfrm flipH="1">
            <a:off x="270000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4"/>
          <p:cNvSpPr/>
          <p:nvPr/>
        </p:nvSpPr>
        <p:spPr>
          <a:xfrm flipH="1">
            <a:off x="3348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35"/>
          <p:cNvSpPr/>
          <p:nvPr/>
        </p:nvSpPr>
        <p:spPr>
          <a:xfrm flipH="1" flipV="1">
            <a:off x="3276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36"/>
          <p:cNvSpPr/>
          <p:nvPr/>
        </p:nvSpPr>
        <p:spPr>
          <a:xfrm>
            <a:off x="435600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Oval 37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38"/>
          <p:cNvGrpSpPr/>
          <p:nvPr/>
        </p:nvGrpSpPr>
        <p:grpSpPr>
          <a:xfrm>
            <a:off x="755640" y="5300640"/>
            <a:ext cx="6787800" cy="1033560"/>
            <a:chOff x="755640" y="5300640"/>
            <a:chExt cx="6787800" cy="1033560"/>
          </a:xfrm>
        </p:grpSpPr>
        <p:pic>
          <p:nvPicPr>
            <p:cNvPr id="276" name="WordArt 39" descr=""/>
            <p:cNvPicPr/>
            <p:nvPr/>
          </p:nvPicPr>
          <p:blipFill>
            <a:blip r:embed="rId1"/>
            <a:stretch/>
          </p:blipFill>
          <p:spPr>
            <a:xfrm>
              <a:off x="755640" y="5300640"/>
              <a:ext cx="521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WordArt 40"/>
            <p:cNvSpPr txBox="1"/>
            <p:nvPr/>
          </p:nvSpPr>
          <p:spPr>
            <a:xfrm>
              <a:off x="1497240" y="5326560"/>
              <a:ext cx="604620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5000"/>
                      </a:srgbClr>
                    </a:outerShdw>
                  </a:effectLst>
                  <a:latin typeface="华文新魏"/>
                </a:rPr>
                <a:t>在同一个圆里有多少条半径？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278" name="WordArt 41"/>
            <p:cNvSpPr txBox="1"/>
            <p:nvPr/>
          </p:nvSpPr>
          <p:spPr>
            <a:xfrm>
              <a:off x="1424520" y="5884920"/>
              <a:ext cx="545436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5000"/>
                      </a:srgbClr>
                    </a:outerShdw>
                  </a:effectLst>
                  <a:latin typeface="华文新魏"/>
                </a:rPr>
                <a:t>所有的半径都相等吗？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279" name="WordArt 42"/>
          <p:cNvSpPr txBox="1"/>
          <p:nvPr/>
        </p:nvSpPr>
        <p:spPr>
          <a:xfrm>
            <a:off x="3780000" y="261144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0" name="Text Box 43"/>
          <p:cNvSpPr/>
          <p:nvPr/>
        </p:nvSpPr>
        <p:spPr>
          <a:xfrm rot="18316800">
            <a:off x="472968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44"/>
          <p:cNvSpPr/>
          <p:nvPr/>
        </p:nvSpPr>
        <p:spPr>
          <a:xfrm rot="18291600">
            <a:off x="5242680" y="1785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45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"/>
          <p:cNvSpPr/>
          <p:nvPr/>
        </p:nvSpPr>
        <p:spPr>
          <a:xfrm>
            <a:off x="2700360" y="1557360"/>
            <a:ext cx="380988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8"/>
          <p:cNvSpPr/>
          <p:nvPr/>
        </p:nvSpPr>
        <p:spPr>
          <a:xfrm flipH="1">
            <a:off x="4572000" y="152388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571280" y="1840680"/>
            <a:ext cx="1070280" cy="157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12"/>
          <p:cNvSpPr/>
          <p:nvPr/>
        </p:nvSpPr>
        <p:spPr>
          <a:xfrm flipH="1">
            <a:off x="3673080" y="346176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4572000" y="342900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4595040" y="2991960"/>
            <a:ext cx="1859040" cy="41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5"/>
          <p:cNvSpPr/>
          <p:nvPr/>
        </p:nvSpPr>
        <p:spPr>
          <a:xfrm flipV="1">
            <a:off x="4604040" y="2531160"/>
            <a:ext cx="1688400" cy="88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6"/>
          <p:cNvSpPr/>
          <p:nvPr/>
        </p:nvSpPr>
        <p:spPr>
          <a:xfrm flipV="1">
            <a:off x="4589280" y="2027160"/>
            <a:ext cx="1338480" cy="135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4571280" y="1840680"/>
            <a:ext cx="1070280" cy="1575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19"/>
          <p:cNvSpPr/>
          <p:nvPr/>
        </p:nvSpPr>
        <p:spPr>
          <a:xfrm flipV="1">
            <a:off x="4557600" y="1655640"/>
            <a:ext cx="640080" cy="17942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20"/>
          <p:cNvSpPr/>
          <p:nvPr/>
        </p:nvSpPr>
        <p:spPr>
          <a:xfrm flipH="1">
            <a:off x="4572000" y="152388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1"/>
          <p:cNvSpPr/>
          <p:nvPr/>
        </p:nvSpPr>
        <p:spPr>
          <a:xfrm flipV="1">
            <a:off x="4613760" y="1866240"/>
            <a:ext cx="1070640" cy="157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3886200" y="1676520"/>
            <a:ext cx="68580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3200400" y="2057400"/>
            <a:ext cx="137160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25"/>
          <p:cNvSpPr/>
          <p:nvPr/>
        </p:nvSpPr>
        <p:spPr>
          <a:xfrm flipH="1">
            <a:off x="4572000" y="152388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2743200" y="29718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28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29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30"/>
          <p:cNvSpPr/>
          <p:nvPr/>
        </p:nvSpPr>
        <p:spPr>
          <a:xfrm flipV="1">
            <a:off x="2819520" y="3428640"/>
            <a:ext cx="17524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31"/>
          <p:cNvSpPr/>
          <p:nvPr/>
        </p:nvSpPr>
        <p:spPr>
          <a:xfrm flipV="1">
            <a:off x="3124080" y="3429000"/>
            <a:ext cx="1447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32"/>
          <p:cNvSpPr/>
          <p:nvPr/>
        </p:nvSpPr>
        <p:spPr>
          <a:xfrm flipH="1">
            <a:off x="3673080" y="3461760"/>
            <a:ext cx="884880" cy="168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33"/>
          <p:cNvSpPr/>
          <p:nvPr/>
        </p:nvSpPr>
        <p:spPr>
          <a:xfrm flipH="1">
            <a:off x="3673080" y="346176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34"/>
          <p:cNvSpPr/>
          <p:nvPr/>
        </p:nvSpPr>
        <p:spPr>
          <a:xfrm flipV="1">
            <a:off x="4114800" y="3429000"/>
            <a:ext cx="4572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5"/>
          <p:cNvSpPr/>
          <p:nvPr/>
        </p:nvSpPr>
        <p:spPr>
          <a:xfrm flipV="1">
            <a:off x="4572000" y="342900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36"/>
          <p:cNvSpPr/>
          <p:nvPr/>
        </p:nvSpPr>
        <p:spPr>
          <a:xfrm flipV="1">
            <a:off x="4572000" y="342900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4572000" y="3429000"/>
            <a:ext cx="6094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38"/>
          <p:cNvSpPr/>
          <p:nvPr/>
        </p:nvSpPr>
        <p:spPr>
          <a:xfrm>
            <a:off x="4572000" y="34290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41"/>
          <p:cNvSpPr/>
          <p:nvPr/>
        </p:nvSpPr>
        <p:spPr>
          <a:xfrm>
            <a:off x="179280" y="476280"/>
            <a:ext cx="7417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圆内，半径有无数条，长度都相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372360" y="6172200"/>
            <a:ext cx="183492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6443640" y="6308640"/>
            <a:ext cx="1728720" cy="549360"/>
          </a:xfrm>
          <a:custGeom>
            <a:avLst/>
            <a:gdLst>
              <a:gd name="textAreaLeft" fmla="*/ 35280 w 1728720"/>
              <a:gd name="textAreaRight" fmla="*/ 1693440 w 1728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67940" h="21600">
                <a:moveTo>
                  <a:pt x="0" y="0"/>
                </a:moveTo>
                <a:lnTo>
                  <a:pt x="67940" y="0"/>
                </a:lnTo>
                <a:lnTo>
                  <a:pt x="67940" y="21600"/>
                </a:lnTo>
                <a:lnTo>
                  <a:pt x="0" y="21600"/>
                </a:lnTo>
                <a:close/>
              </a:path>
              <a:path fill="lightenLess" w="67940" h="21600">
                <a:moveTo>
                  <a:pt x="0" y="0"/>
                </a:moveTo>
                <a:lnTo>
                  <a:pt x="67940" y="0"/>
                </a:lnTo>
                <a:lnTo>
                  <a:pt x="66540" y="1400"/>
                </a:lnTo>
                <a:lnTo>
                  <a:pt x="1400" y="1400"/>
                </a:lnTo>
                <a:close/>
              </a:path>
              <a:path fill="darken" w="67940" h="21600">
                <a:moveTo>
                  <a:pt x="67940" y="0"/>
                </a:moveTo>
                <a:lnTo>
                  <a:pt x="67940" y="21600"/>
                </a:lnTo>
                <a:lnTo>
                  <a:pt x="66540" y="20200"/>
                </a:lnTo>
                <a:lnTo>
                  <a:pt x="66540" y="1400"/>
                </a:lnTo>
                <a:close/>
              </a:path>
              <a:path fill="darkenLess" w="67940" h="21600">
                <a:moveTo>
                  <a:pt x="67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540" y="20200"/>
                </a:lnTo>
                <a:close/>
              </a:path>
              <a:path fill="lighten" w="67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5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Oval 3"/>
          <p:cNvSpPr/>
          <p:nvPr/>
        </p:nvSpPr>
        <p:spPr>
          <a:xfrm rot="5400000">
            <a:off x="2554920" y="1270800"/>
            <a:ext cx="360036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2700360" y="2421000"/>
            <a:ext cx="331164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 flipH="1">
            <a:off x="4211640" y="1268280"/>
            <a:ext cx="21600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6"/>
          <p:cNvSpPr/>
          <p:nvPr/>
        </p:nvSpPr>
        <p:spPr>
          <a:xfrm flipH="1">
            <a:off x="2771640" y="2276640"/>
            <a:ext cx="3168720" cy="15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3348000" y="1557360"/>
            <a:ext cx="201600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3" name="Group 10"/>
          <p:cNvGrpSpPr/>
          <p:nvPr/>
        </p:nvGrpSpPr>
        <p:grpSpPr>
          <a:xfrm>
            <a:off x="755640" y="5300640"/>
            <a:ext cx="6787800" cy="1033560"/>
            <a:chOff x="755640" y="5300640"/>
            <a:chExt cx="6787800" cy="1033560"/>
          </a:xfrm>
        </p:grpSpPr>
        <p:pic>
          <p:nvPicPr>
            <p:cNvPr id="334" name="WordArt 11" descr=""/>
            <p:cNvPicPr/>
            <p:nvPr/>
          </p:nvPicPr>
          <p:blipFill>
            <a:blip r:embed="rId1"/>
            <a:stretch/>
          </p:blipFill>
          <p:spPr>
            <a:xfrm>
              <a:off x="755640" y="5300640"/>
              <a:ext cx="521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WordArt 12"/>
            <p:cNvSpPr txBox="1"/>
            <p:nvPr/>
          </p:nvSpPr>
          <p:spPr>
            <a:xfrm>
              <a:off x="1497240" y="5326560"/>
              <a:ext cx="604620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5000"/>
                      </a:srgbClr>
                    </a:outerShdw>
                  </a:effectLst>
                  <a:latin typeface="华文新魏"/>
                </a:rPr>
                <a:t>在同一个圆里有多少条直径？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336" name="WordArt 13"/>
            <p:cNvSpPr txBox="1"/>
            <p:nvPr/>
          </p:nvSpPr>
          <p:spPr>
            <a:xfrm>
              <a:off x="1424520" y="5884920"/>
              <a:ext cx="545436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5000"/>
                      </a:srgbClr>
                    </a:outerShdw>
                  </a:effectLst>
                  <a:latin typeface="华文新魏"/>
                </a:rPr>
                <a:t>所有的直径都相等吗？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337" name="WordArt 14"/>
          <p:cNvSpPr txBox="1"/>
          <p:nvPr/>
        </p:nvSpPr>
        <p:spPr>
          <a:xfrm>
            <a:off x="3780000" y="261144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38" name="Text Box 15"/>
          <p:cNvSpPr/>
          <p:nvPr/>
        </p:nvSpPr>
        <p:spPr>
          <a:xfrm rot="18316800">
            <a:off x="472968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6"/>
          <p:cNvSpPr/>
          <p:nvPr/>
        </p:nvSpPr>
        <p:spPr>
          <a:xfrm rot="18291600">
            <a:off x="5242680" y="1785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17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2556000" y="3068640"/>
            <a:ext cx="3600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3638880" y="30686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直 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451044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3124080" y="2209680"/>
            <a:ext cx="28958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8"/>
          <p:cNvSpPr/>
          <p:nvPr/>
        </p:nvSpPr>
        <p:spPr>
          <a:xfrm flipV="1">
            <a:off x="3124080" y="2133360"/>
            <a:ext cx="289584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10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14"/>
          <p:cNvSpPr/>
          <p:nvPr/>
        </p:nvSpPr>
        <p:spPr>
          <a:xfrm>
            <a:off x="2702520" y="3063240"/>
            <a:ext cx="3738960" cy="73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15"/>
          <p:cNvSpPr/>
          <p:nvPr/>
        </p:nvSpPr>
        <p:spPr>
          <a:xfrm>
            <a:off x="2823120" y="2674080"/>
            <a:ext cx="349776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16"/>
          <p:cNvSpPr/>
          <p:nvPr/>
        </p:nvSpPr>
        <p:spPr>
          <a:xfrm>
            <a:off x="3103920" y="2215440"/>
            <a:ext cx="2936160" cy="24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17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18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9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21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23"/>
          <p:cNvSpPr/>
          <p:nvPr/>
        </p:nvSpPr>
        <p:spPr>
          <a:xfrm>
            <a:off x="3103920" y="2215440"/>
            <a:ext cx="2936160" cy="242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25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26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Line 27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Line 29"/>
          <p:cNvSpPr/>
          <p:nvPr/>
        </p:nvSpPr>
        <p:spPr>
          <a:xfrm flipH="1">
            <a:off x="4114800" y="1600200"/>
            <a:ext cx="914400" cy="365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Line 30"/>
          <p:cNvSpPr/>
          <p:nvPr/>
        </p:nvSpPr>
        <p:spPr>
          <a:xfrm flipH="1">
            <a:off x="3570840" y="1802880"/>
            <a:ext cx="2002320" cy="325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31"/>
          <p:cNvSpPr/>
          <p:nvPr/>
        </p:nvSpPr>
        <p:spPr>
          <a:xfrm flipV="1">
            <a:off x="3124080" y="2133360"/>
            <a:ext cx="289584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250920" y="476280"/>
            <a:ext cx="741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圆内，直径有无数条，长度都相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Cloud"/>
          <p:cNvSpPr/>
          <p:nvPr/>
        </p:nvSpPr>
        <p:spPr>
          <a:xfrm>
            <a:off x="6372360" y="6172200"/>
            <a:ext cx="183492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34"/>
          <p:cNvSpPr/>
          <p:nvPr/>
        </p:nvSpPr>
        <p:spPr>
          <a:xfrm>
            <a:off x="6372360" y="6165720"/>
            <a:ext cx="1726920" cy="692280"/>
          </a:xfrm>
          <a:custGeom>
            <a:avLst/>
            <a:gdLst>
              <a:gd name="textAreaLeft" fmla="*/ 44640 w 1726920"/>
              <a:gd name="textAreaRight" fmla="*/ 1682280 w 17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3865" h="21600">
                <a:moveTo>
                  <a:pt x="0" y="0"/>
                </a:moveTo>
                <a:lnTo>
                  <a:pt x="53865" y="0"/>
                </a:lnTo>
                <a:lnTo>
                  <a:pt x="53865" y="21600"/>
                </a:lnTo>
                <a:lnTo>
                  <a:pt x="0" y="21600"/>
                </a:lnTo>
                <a:close/>
              </a:path>
              <a:path fill="lightenLess" w="53865" h="21600">
                <a:moveTo>
                  <a:pt x="0" y="0"/>
                </a:moveTo>
                <a:lnTo>
                  <a:pt x="53865" y="0"/>
                </a:lnTo>
                <a:lnTo>
                  <a:pt x="52465" y="1400"/>
                </a:lnTo>
                <a:lnTo>
                  <a:pt x="1400" y="1400"/>
                </a:lnTo>
                <a:close/>
              </a:path>
              <a:path fill="darken" w="53865" h="21600">
                <a:moveTo>
                  <a:pt x="53865" y="0"/>
                </a:moveTo>
                <a:lnTo>
                  <a:pt x="53865" y="21600"/>
                </a:lnTo>
                <a:lnTo>
                  <a:pt x="52465" y="20200"/>
                </a:lnTo>
                <a:lnTo>
                  <a:pt x="52465" y="1400"/>
                </a:lnTo>
                <a:close/>
              </a:path>
              <a:path fill="darkenLess" w="53865" h="21600">
                <a:moveTo>
                  <a:pt x="5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65" y="20200"/>
                </a:lnTo>
                <a:close/>
              </a:path>
              <a:path fill="lighten" w="5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549360"/>
            <a:ext cx="2232000" cy="1224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492360" y="549360"/>
            <a:ext cx="1295640" cy="1224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5796000" y="2565360"/>
            <a:ext cx="1655640" cy="115272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50920" y="2492280"/>
            <a:ext cx="2449440" cy="1224000"/>
          </a:xfrm>
          <a:prstGeom prst="parallelogram">
            <a:avLst>
              <a:gd name="adj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 rot="10800000">
            <a:off x="5651280" y="835920"/>
            <a:ext cx="1795320" cy="1079640"/>
          </a:xfrm>
          <a:prstGeom prst="pi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Oval 7"/>
          <p:cNvSpPr/>
          <p:nvPr/>
        </p:nvSpPr>
        <p:spPr>
          <a:xfrm>
            <a:off x="2987640" y="3213000"/>
            <a:ext cx="2089080" cy="201636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252360" y="476280"/>
            <a:ext cx="8317080" cy="623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1219320" y="1447920"/>
            <a:ext cx="3047760" cy="3047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362320" y="24224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743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7432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5181480" y="1523880"/>
            <a:ext cx="3048120" cy="3048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6324480" y="249876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67057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6705720" y="2285640"/>
            <a:ext cx="1295280" cy="762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2700360" y="1988640"/>
            <a:ext cx="1152360" cy="1049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 flipV="1">
            <a:off x="2771640" y="2276640"/>
            <a:ext cx="1297080" cy="7617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3"/>
          <p:cNvSpPr/>
          <p:nvPr/>
        </p:nvSpPr>
        <p:spPr>
          <a:xfrm flipV="1">
            <a:off x="396252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4"/>
          <p:cNvSpPr/>
          <p:nvPr/>
        </p:nvSpPr>
        <p:spPr>
          <a:xfrm flipV="1">
            <a:off x="43434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5"/>
          <p:cNvSpPr/>
          <p:nvPr/>
        </p:nvSpPr>
        <p:spPr>
          <a:xfrm flipV="1">
            <a:off x="49528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6"/>
          <p:cNvSpPr/>
          <p:nvPr/>
        </p:nvSpPr>
        <p:spPr>
          <a:xfrm flipV="1">
            <a:off x="54100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7"/>
          <p:cNvSpPr/>
          <p:nvPr/>
        </p:nvSpPr>
        <p:spPr>
          <a:xfrm flipV="1">
            <a:off x="58672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8"/>
          <p:cNvSpPr/>
          <p:nvPr/>
        </p:nvSpPr>
        <p:spPr>
          <a:xfrm flipV="1">
            <a:off x="63244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19"/>
          <p:cNvSpPr/>
          <p:nvPr/>
        </p:nvSpPr>
        <p:spPr>
          <a:xfrm flipV="1">
            <a:off x="6705720" y="228564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1332000" y="476280"/>
            <a:ext cx="5257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圆的半径相等，直径相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Cloud"/>
          <p:cNvSpPr/>
          <p:nvPr/>
        </p:nvSpPr>
        <p:spPr>
          <a:xfrm>
            <a:off x="6372360" y="6172200"/>
            <a:ext cx="183492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AutoShape 22"/>
          <p:cNvSpPr/>
          <p:nvPr/>
        </p:nvSpPr>
        <p:spPr>
          <a:xfrm>
            <a:off x="64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500"/>
                            </p:stCondLst>
                            <p:childTnLst>
                              <p:par>
                                <p:cTn id="7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2"/>
          <p:cNvSpPr/>
          <p:nvPr/>
        </p:nvSpPr>
        <p:spPr>
          <a:xfrm>
            <a:off x="324000" y="1197000"/>
            <a:ext cx="7272360" cy="3529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108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WordArt 3" descr=""/>
          <p:cNvPicPr/>
          <p:nvPr/>
        </p:nvPicPr>
        <p:blipFill>
          <a:blip r:embed="rId1"/>
          <a:stretch/>
        </p:blipFill>
        <p:spPr>
          <a:xfrm>
            <a:off x="1023840" y="1895400"/>
            <a:ext cx="6162840" cy="204336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4"/>
          <p:cNvSpPr/>
          <p:nvPr/>
        </p:nvSpPr>
        <p:spPr>
          <a:xfrm>
            <a:off x="611280" y="981000"/>
            <a:ext cx="6265800" cy="2232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Cloud"/>
          <p:cNvSpPr/>
          <p:nvPr/>
        </p:nvSpPr>
        <p:spPr>
          <a:xfrm>
            <a:off x="7308720" y="6165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35812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Cloud"/>
          <p:cNvSpPr/>
          <p:nvPr/>
        </p:nvSpPr>
        <p:spPr>
          <a:xfrm>
            <a:off x="7308720" y="6381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AutoShape 12">
            <a:hlinkClick r:id="" action="ppaction://hlinkshowjump?jump=nextslide"/>
          </p:cNvPr>
          <p:cNvSpPr/>
          <p:nvPr/>
        </p:nvSpPr>
        <p:spPr>
          <a:xfrm>
            <a:off x="738036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1100160" y="888840"/>
            <a:ext cx="210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3213720" y="2107440"/>
            <a:ext cx="1346400" cy="1347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8"/>
          <p:cNvSpPr/>
          <p:nvPr/>
        </p:nvSpPr>
        <p:spPr>
          <a:xfrm flipH="1">
            <a:off x="4570560" y="1523880"/>
            <a:ext cx="1440" cy="190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7339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5720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1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Cloud"/>
          <p:cNvSpPr/>
          <p:nvPr/>
        </p:nvSpPr>
        <p:spPr>
          <a:xfrm>
            <a:off x="7308720" y="6381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AutoShape 14">
            <a:hlinkClick r:id="" action="ppaction://hlinkshowjump?jump=nextslide"/>
          </p:cNvPr>
          <p:cNvSpPr/>
          <p:nvPr/>
        </p:nvSpPr>
        <p:spPr>
          <a:xfrm>
            <a:off x="7236000" y="6308640"/>
            <a:ext cx="1223640" cy="549360"/>
          </a:xfrm>
          <a:custGeom>
            <a:avLst/>
            <a:gdLst>
              <a:gd name="textAreaLeft" fmla="*/ 35280 w 1223640"/>
              <a:gd name="textAreaRight" fmla="*/ 1188360 w 122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8094" h="21600">
                <a:moveTo>
                  <a:pt x="0" y="0"/>
                </a:moveTo>
                <a:lnTo>
                  <a:pt x="48094" y="0"/>
                </a:lnTo>
                <a:lnTo>
                  <a:pt x="48094" y="21600"/>
                </a:lnTo>
                <a:lnTo>
                  <a:pt x="0" y="21600"/>
                </a:lnTo>
                <a:close/>
              </a:path>
              <a:path fill="lightenLess" w="48094" h="21600">
                <a:moveTo>
                  <a:pt x="0" y="0"/>
                </a:moveTo>
                <a:lnTo>
                  <a:pt x="48094" y="0"/>
                </a:lnTo>
                <a:lnTo>
                  <a:pt x="46694" y="1400"/>
                </a:lnTo>
                <a:lnTo>
                  <a:pt x="1400" y="1400"/>
                </a:lnTo>
                <a:close/>
              </a:path>
              <a:path fill="darken" w="48094" h="21600">
                <a:moveTo>
                  <a:pt x="48094" y="0"/>
                </a:moveTo>
                <a:lnTo>
                  <a:pt x="48094" y="21600"/>
                </a:lnTo>
                <a:lnTo>
                  <a:pt x="46694" y="20200"/>
                </a:lnTo>
                <a:lnTo>
                  <a:pt x="46694" y="1400"/>
                </a:lnTo>
                <a:close/>
              </a:path>
              <a:path fill="darkenLess" w="48094" h="21600">
                <a:moveTo>
                  <a:pt x="4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94" y="20200"/>
                </a:lnTo>
                <a:close/>
              </a:path>
              <a:path fill="lighten" w="4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75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75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7"/>
          <p:cNvSpPr/>
          <p:nvPr/>
        </p:nvSpPr>
        <p:spPr>
          <a:xfrm flipH="1">
            <a:off x="4570560" y="1523880"/>
            <a:ext cx="1440" cy="190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4585320" y="3402720"/>
            <a:ext cx="1346400" cy="13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9"/>
          <p:cNvSpPr/>
          <p:nvPr/>
        </p:nvSpPr>
        <p:spPr>
          <a:xfrm flipH="1">
            <a:off x="4572000" y="3429000"/>
            <a:ext cx="144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45720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5181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4572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Cloud"/>
          <p:cNvSpPr/>
          <p:nvPr/>
        </p:nvSpPr>
        <p:spPr>
          <a:xfrm>
            <a:off x="7308720" y="6381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AutoShape 14">
            <a:hlinkClick r:id="" action="ppaction://hlinkshowjump?jump=nextslide"/>
          </p:cNvPr>
          <p:cNvSpPr/>
          <p:nvPr/>
        </p:nvSpPr>
        <p:spPr>
          <a:xfrm>
            <a:off x="7308720" y="6381720"/>
            <a:ext cx="1079640" cy="476280"/>
          </a:xfrm>
          <a:custGeom>
            <a:avLst/>
            <a:gdLst>
              <a:gd name="textAreaLeft" fmla="*/ 30600 w 1079640"/>
              <a:gd name="textAreaRight" fmla="*/ 1049040 w 107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8943" h="21600">
                <a:moveTo>
                  <a:pt x="0" y="0"/>
                </a:moveTo>
                <a:lnTo>
                  <a:pt x="48943" y="0"/>
                </a:lnTo>
                <a:lnTo>
                  <a:pt x="48943" y="21600"/>
                </a:lnTo>
                <a:lnTo>
                  <a:pt x="0" y="21600"/>
                </a:lnTo>
                <a:close/>
              </a:path>
              <a:path fill="lightenLess" w="48943" h="21600">
                <a:moveTo>
                  <a:pt x="0" y="0"/>
                </a:moveTo>
                <a:lnTo>
                  <a:pt x="48943" y="0"/>
                </a:lnTo>
                <a:lnTo>
                  <a:pt x="47543" y="1400"/>
                </a:lnTo>
                <a:lnTo>
                  <a:pt x="1400" y="1400"/>
                </a:lnTo>
                <a:close/>
              </a:path>
              <a:path fill="darken" w="48943" h="21600">
                <a:moveTo>
                  <a:pt x="48943" y="0"/>
                </a:moveTo>
                <a:lnTo>
                  <a:pt x="48943" y="21600"/>
                </a:lnTo>
                <a:lnTo>
                  <a:pt x="47543" y="20200"/>
                </a:lnTo>
                <a:lnTo>
                  <a:pt x="47543" y="1400"/>
                </a:lnTo>
                <a:close/>
              </a:path>
              <a:path fill="darkenLess" w="48943" h="21600">
                <a:moveTo>
                  <a:pt x="4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43" y="20200"/>
                </a:lnTo>
                <a:close/>
              </a:path>
              <a:path fill="lighten" w="4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75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75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Oval 2"/>
          <p:cNvSpPr/>
          <p:nvPr/>
        </p:nvSpPr>
        <p:spPr>
          <a:xfrm>
            <a:off x="762120" y="1066680"/>
            <a:ext cx="380988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666880" y="2971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74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2666880" y="10666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7"/>
          <p:cNvSpPr/>
          <p:nvPr/>
        </p:nvSpPr>
        <p:spPr>
          <a:xfrm flipH="1">
            <a:off x="2665440" y="1066680"/>
            <a:ext cx="1440" cy="190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8"/>
          <p:cNvSpPr/>
          <p:nvPr/>
        </p:nvSpPr>
        <p:spPr>
          <a:xfrm flipH="1">
            <a:off x="2666520" y="2971800"/>
            <a:ext cx="180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6668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2666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2895480" y="2819520"/>
            <a:ext cx="2286000" cy="30456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548640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6019920" y="3200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5486400" y="3809880"/>
            <a:ext cx="12952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=2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5486400" y="5257800"/>
            <a:ext cx="1295280" cy="80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= </a:t>
            </a:r>
            <a:r>
              <a:rPr b="1" i="1" lang="en-US" sz="44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6037560" y="5486400"/>
            <a:ext cx="424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AutoShape 17"/>
          <p:cNvSpPr/>
          <p:nvPr/>
        </p:nvSpPr>
        <p:spPr>
          <a:xfrm>
            <a:off x="6019920" y="46483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Cloud"/>
          <p:cNvSpPr/>
          <p:nvPr/>
        </p:nvSpPr>
        <p:spPr>
          <a:xfrm>
            <a:off x="6372360" y="6172200"/>
            <a:ext cx="183492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19"/>
          <p:cNvSpPr/>
          <p:nvPr/>
        </p:nvSpPr>
        <p:spPr>
          <a:xfrm>
            <a:off x="6516720" y="6237360"/>
            <a:ext cx="1655640" cy="620640"/>
          </a:xfrm>
          <a:custGeom>
            <a:avLst/>
            <a:gdLst>
              <a:gd name="textAreaLeft" fmla="*/ 39960 w 1655640"/>
              <a:gd name="textAreaRight" fmla="*/ 1615680 w 16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4" descr="图片1"/>
          <p:cNvPicPr/>
          <p:nvPr/>
        </p:nvPicPr>
        <p:blipFill>
          <a:blip r:embed="rId1"/>
          <a:stretch/>
        </p:blipFill>
        <p:spPr>
          <a:xfrm>
            <a:off x="539640" y="765000"/>
            <a:ext cx="8064720" cy="547236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3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AutoShape 4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AutoShape 5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AutoShape 6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AutoShape 7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6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AutoShape 12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AutoShape 13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7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8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250" autoRev="1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1" dur="250" autoRev="1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2" dur="250" autoRev="1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4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5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6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8" dur="250" autoRev="1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9" dur="250" autoRev="1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0" dur="250" autoRev="1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2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4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250" autoRev="1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7" dur="250" autoRev="1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250" autoRev="1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25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1" dur="25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2" dur="25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4" dur="250" autoRev="1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5" dur="250" autoRev="1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6" dur="250" autoRev="1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250" autoRev="1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9" dur="250" autoRev="1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0" dur="250" autoRev="1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Oval 2"/>
          <p:cNvSpPr/>
          <p:nvPr/>
        </p:nvSpPr>
        <p:spPr>
          <a:xfrm>
            <a:off x="3124080" y="1981080"/>
            <a:ext cx="289584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Oval 3"/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3962520" y="2133720"/>
            <a:ext cx="152388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3200400" y="2971800"/>
            <a:ext cx="2743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3124080" y="3657600"/>
            <a:ext cx="1447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4572000" y="3123720"/>
            <a:ext cx="9144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9"/>
          <p:cNvSpPr/>
          <p:nvPr/>
        </p:nvSpPr>
        <p:spPr>
          <a:xfrm flipH="1">
            <a:off x="4800240" y="23623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2895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59436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3733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541008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2666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4381560" y="480060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4572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49528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02888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哪些是半径？哪些是直径？哪些不是，为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4572000" y="3429000"/>
            <a:ext cx="1371600" cy="4572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3200400" y="2971800"/>
            <a:ext cx="1371600" cy="4572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Line 22"/>
          <p:cNvSpPr/>
          <p:nvPr/>
        </p:nvSpPr>
        <p:spPr>
          <a:xfrm>
            <a:off x="3200400" y="2971800"/>
            <a:ext cx="274320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23"/>
          <p:cNvSpPr/>
          <p:nvPr/>
        </p:nvSpPr>
        <p:spPr>
          <a:xfrm>
            <a:off x="3962520" y="2133720"/>
            <a:ext cx="609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Cloud"/>
          <p:cNvSpPr/>
          <p:nvPr/>
        </p:nvSpPr>
        <p:spPr>
          <a:xfrm>
            <a:off x="7308720" y="6165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AutoShape 25">
            <a:hlinkClick r:id="" action="ppaction://hlinkshowjump?jump=nextslide"/>
          </p:cNvPr>
          <p:cNvSpPr/>
          <p:nvPr/>
        </p:nvSpPr>
        <p:spPr>
          <a:xfrm>
            <a:off x="7308720" y="5445000"/>
            <a:ext cx="1079640" cy="476280"/>
          </a:xfrm>
          <a:custGeom>
            <a:avLst/>
            <a:gdLst>
              <a:gd name="textAreaLeft" fmla="*/ 30600 w 1079640"/>
              <a:gd name="textAreaRight" fmla="*/ 1049040 w 107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8943" h="21600">
                <a:moveTo>
                  <a:pt x="0" y="0"/>
                </a:moveTo>
                <a:lnTo>
                  <a:pt x="48943" y="0"/>
                </a:lnTo>
                <a:lnTo>
                  <a:pt x="48943" y="21600"/>
                </a:lnTo>
                <a:lnTo>
                  <a:pt x="0" y="21600"/>
                </a:lnTo>
                <a:close/>
              </a:path>
              <a:path fill="lightenLess" w="48943" h="21600">
                <a:moveTo>
                  <a:pt x="0" y="0"/>
                </a:moveTo>
                <a:lnTo>
                  <a:pt x="48943" y="0"/>
                </a:lnTo>
                <a:lnTo>
                  <a:pt x="47543" y="1400"/>
                </a:lnTo>
                <a:lnTo>
                  <a:pt x="1400" y="1400"/>
                </a:lnTo>
                <a:close/>
              </a:path>
              <a:path fill="darken" w="48943" h="21600">
                <a:moveTo>
                  <a:pt x="48943" y="0"/>
                </a:moveTo>
                <a:lnTo>
                  <a:pt x="48943" y="21600"/>
                </a:lnTo>
                <a:lnTo>
                  <a:pt x="47543" y="20200"/>
                </a:lnTo>
                <a:lnTo>
                  <a:pt x="47543" y="1400"/>
                </a:lnTo>
                <a:close/>
              </a:path>
              <a:path fill="darkenLess" w="48943" h="21600">
                <a:moveTo>
                  <a:pt x="4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43" y="20200"/>
                </a:lnTo>
                <a:close/>
              </a:path>
              <a:path fill="lighten" w="4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1295280" y="549360"/>
            <a:ext cx="56390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判断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在同一个圆内只能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直径。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所有的圆的直径都相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等圆的半径都相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两端都在圆上的线段叫做直径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732720" y="37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505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804000" y="2205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04000" y="3141720"/>
            <a:ext cx="9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6443640" y="501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6804000" y="4941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6372360" y="3860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6372360" y="321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300720" y="220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AutoShape 11">
            <a:hlinkClick r:id="" action="ppaction://hlinkshowjump?jump=nextslide"/>
          </p:cNvPr>
          <p:cNvSpPr/>
          <p:nvPr/>
        </p:nvSpPr>
        <p:spPr>
          <a:xfrm>
            <a:off x="7236000" y="6093000"/>
            <a:ext cx="1152360" cy="475920"/>
          </a:xfrm>
          <a:custGeom>
            <a:avLst/>
            <a:gdLst>
              <a:gd name="textAreaLeft" fmla="*/ 30600 w 1152360"/>
              <a:gd name="textAreaRight" fmla="*/ 1121760 w 115236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2278" h="21600">
                <a:moveTo>
                  <a:pt x="0" y="0"/>
                </a:moveTo>
                <a:lnTo>
                  <a:pt x="52278" y="0"/>
                </a:lnTo>
                <a:lnTo>
                  <a:pt x="52278" y="21600"/>
                </a:lnTo>
                <a:lnTo>
                  <a:pt x="0" y="21600"/>
                </a:lnTo>
                <a:close/>
              </a:path>
              <a:path fill="lightenLess" w="52278" h="21600">
                <a:moveTo>
                  <a:pt x="0" y="0"/>
                </a:moveTo>
                <a:lnTo>
                  <a:pt x="52278" y="0"/>
                </a:lnTo>
                <a:lnTo>
                  <a:pt x="50878" y="1400"/>
                </a:lnTo>
                <a:lnTo>
                  <a:pt x="1400" y="1400"/>
                </a:lnTo>
                <a:close/>
              </a:path>
              <a:path fill="darken" w="52278" h="21600">
                <a:moveTo>
                  <a:pt x="52278" y="0"/>
                </a:moveTo>
                <a:lnTo>
                  <a:pt x="52278" y="21600"/>
                </a:lnTo>
                <a:lnTo>
                  <a:pt x="50878" y="20200"/>
                </a:lnTo>
                <a:lnTo>
                  <a:pt x="50878" y="1400"/>
                </a:lnTo>
                <a:close/>
              </a:path>
              <a:path fill="darkenLess" w="52278" h="21600">
                <a:moveTo>
                  <a:pt x="5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878" y="20200"/>
                </a:lnTo>
                <a:close/>
              </a:path>
              <a:path fill="lighten" w="5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Cloud"/>
          <p:cNvSpPr/>
          <p:nvPr/>
        </p:nvSpPr>
        <p:spPr>
          <a:xfrm>
            <a:off x="7308720" y="6165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1293840" y="1285920"/>
          <a:ext cx="6021360" cy="4576680"/>
        </p:xfrm>
        <a:graphic>
          <a:graphicData uri="http://schemas.openxmlformats.org/drawingml/2006/table">
            <a:tbl>
              <a:tblPr/>
              <a:tblGrid>
                <a:gridCol w="2298600"/>
                <a:gridCol w="1827360"/>
                <a:gridCol w="1895400"/>
              </a:tblGrid>
              <a:tr h="68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物品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直    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半    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手表表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厘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易拉罐罐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.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厘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一元硬币表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.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厘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24"/>
          <p:cNvSpPr/>
          <p:nvPr/>
        </p:nvSpPr>
        <p:spPr>
          <a:xfrm>
            <a:off x="1177200" y="765000"/>
            <a:ext cx="15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填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3625200" y="2492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3552840" y="37162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5165280" y="50133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2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755640" y="968400"/>
            <a:ext cx="1143000" cy="609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340000" y="750960"/>
            <a:ext cx="838080" cy="8380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581280" y="692280"/>
            <a:ext cx="990720" cy="8571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5"/>
          <p:cNvSpPr/>
          <p:nvPr/>
        </p:nvSpPr>
        <p:spPr>
          <a:xfrm rot="10800000">
            <a:off x="6443280" y="809280"/>
            <a:ext cx="1219320" cy="733320"/>
          </a:xfrm>
          <a:prstGeom prst="pi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005440" y="809640"/>
            <a:ext cx="1295280" cy="733320"/>
          </a:xfrm>
          <a:prstGeom prst="parallelogram">
            <a:avLst>
              <a:gd name="adj" fmla="val 44158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Oval 7"/>
          <p:cNvSpPr/>
          <p:nvPr/>
        </p:nvSpPr>
        <p:spPr>
          <a:xfrm>
            <a:off x="3492360" y="2852640"/>
            <a:ext cx="1368720" cy="1368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92360" y="1844640"/>
            <a:ext cx="590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些平面图形是由线段围成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258920" y="508464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圆是平面上的一种         图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11520" y="5084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曲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"/>
                            </p:stCondLst>
                            <p:childTnLst>
                              <p:par>
                                <p:cTn id="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taijiyinyangtu"/>
          <p:cNvPicPr/>
          <p:nvPr/>
        </p:nvPicPr>
        <p:blipFill>
          <a:blip r:embed="rId1"/>
          <a:stretch/>
        </p:blipFill>
        <p:spPr>
          <a:xfrm>
            <a:off x="1476360" y="765000"/>
            <a:ext cx="4608360" cy="4399200"/>
          </a:xfrm>
          <a:prstGeom prst="rect">
            <a:avLst/>
          </a:prstGeom>
          <a:ln w="0">
            <a:noFill/>
          </a:ln>
        </p:spPr>
      </p:pic>
      <p:sp>
        <p:nvSpPr>
          <p:cNvPr id="511" name="Oval 3"/>
          <p:cNvSpPr/>
          <p:nvPr/>
        </p:nvSpPr>
        <p:spPr>
          <a:xfrm>
            <a:off x="1692360" y="981000"/>
            <a:ext cx="4103640" cy="4103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Oval 4"/>
          <p:cNvSpPr/>
          <p:nvPr/>
        </p:nvSpPr>
        <p:spPr>
          <a:xfrm>
            <a:off x="2700360" y="981000"/>
            <a:ext cx="201600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2700360" y="3068640"/>
            <a:ext cx="2016000" cy="20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6"/>
          <p:cNvSpPr/>
          <p:nvPr/>
        </p:nvSpPr>
        <p:spPr>
          <a:xfrm>
            <a:off x="3708360" y="981000"/>
            <a:ext cx="0" cy="410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 Box 7"/>
          <p:cNvSpPr/>
          <p:nvPr/>
        </p:nvSpPr>
        <p:spPr>
          <a:xfrm flipV="1">
            <a:off x="0" y="5228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小圆半径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厘米，你能得到什么信息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Cloud"/>
          <p:cNvSpPr/>
          <p:nvPr/>
        </p:nvSpPr>
        <p:spPr>
          <a:xfrm>
            <a:off x="7308720" y="6165720"/>
            <a:ext cx="1008360" cy="476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3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258920" y="1700280"/>
            <a:ext cx="5761080" cy="28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Oval 3"/>
          <p:cNvSpPr/>
          <p:nvPr/>
        </p:nvSpPr>
        <p:spPr>
          <a:xfrm>
            <a:off x="1258920" y="1700280"/>
            <a:ext cx="2879640" cy="2881080"/>
          </a:xfrm>
          <a:prstGeom prst="ellipse">
            <a:avLst/>
          </a:prstGeom>
          <a:solidFill>
            <a:srgbClr val="ffbe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Oval 4"/>
          <p:cNvSpPr/>
          <p:nvPr/>
        </p:nvSpPr>
        <p:spPr>
          <a:xfrm>
            <a:off x="4140360" y="1700280"/>
            <a:ext cx="2879640" cy="2881080"/>
          </a:xfrm>
          <a:prstGeom prst="ellipse">
            <a:avLst/>
          </a:prstGeom>
          <a:solidFill>
            <a:srgbClr val="ffbe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5"/>
          <p:cNvSpPr/>
          <p:nvPr/>
        </p:nvSpPr>
        <p:spPr>
          <a:xfrm flipH="1">
            <a:off x="2050920" y="508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6"/>
          <p:cNvSpPr/>
          <p:nvPr/>
        </p:nvSpPr>
        <p:spPr>
          <a:xfrm>
            <a:off x="4716360" y="5157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1258920" y="4724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7020000" y="472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3635280" y="4869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0" y="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说出下图中每个圆的半径。（单位：厘米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444"/>
          <p:cNvPicPr/>
          <p:nvPr/>
        </p:nvPicPr>
        <p:blipFill>
          <a:blip r:embed="rId1"/>
          <a:stretch/>
        </p:blipFill>
        <p:spPr>
          <a:xfrm>
            <a:off x="179280" y="1628640"/>
            <a:ext cx="8528040" cy="51976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i"/>
          <p:cNvPicPr/>
          <p:nvPr/>
        </p:nvPicPr>
        <p:blipFill>
          <a:blip r:embed="rId2"/>
          <a:stretch/>
        </p:blipFill>
        <p:spPr>
          <a:xfrm>
            <a:off x="1208160" y="981000"/>
            <a:ext cx="3925800" cy="551016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4500720" y="981000"/>
            <a:ext cx="43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为什么车轮都要做成圆的？车轴装在哪里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749600" y="477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深入思考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639">
                                      <p:cBhvr>
                                        <p:cTn id="10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639">
                                      <p:cBhvr>
                                        <p:cTn id="10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900"/>
                            </p:stCondLst>
                            <p:childTnLst>
                              <p:par>
                                <p:cTn id="10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WordArt 3" descr=""/>
          <p:cNvPicPr/>
          <p:nvPr/>
        </p:nvPicPr>
        <p:blipFill>
          <a:blip r:embed="rId2"/>
          <a:stretch/>
        </p:blipFill>
        <p:spPr>
          <a:xfrm>
            <a:off x="3554280" y="2840040"/>
            <a:ext cx="50896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xiangrikui"/>
          <p:cNvPicPr/>
          <p:nvPr/>
        </p:nvPicPr>
        <p:blipFill>
          <a:blip r:embed="rId1"/>
          <a:stretch/>
        </p:blipFill>
        <p:spPr>
          <a:xfrm>
            <a:off x="0" y="189000"/>
            <a:ext cx="7808760" cy="570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yueliang"/>
          <p:cNvPicPr/>
          <p:nvPr/>
        </p:nvPicPr>
        <p:blipFill>
          <a:blip r:embed="rId2"/>
          <a:stretch/>
        </p:blipFill>
        <p:spPr>
          <a:xfrm>
            <a:off x="0" y="189000"/>
            <a:ext cx="7808760" cy="570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uaduo"/>
          <p:cNvPicPr/>
          <p:nvPr/>
        </p:nvPicPr>
        <p:blipFill>
          <a:blip r:embed="rId3"/>
          <a:stretch/>
        </p:blipFill>
        <p:spPr>
          <a:xfrm>
            <a:off x="0" y="189000"/>
            <a:ext cx="7808760" cy="570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guanghuan"/>
          <p:cNvPicPr/>
          <p:nvPr/>
        </p:nvPicPr>
        <p:blipFill>
          <a:blip r:embed="rId4"/>
          <a:stretch/>
        </p:blipFill>
        <p:spPr>
          <a:xfrm>
            <a:off x="0" y="189000"/>
            <a:ext cx="7808760" cy="570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guanghuan1"/>
          <p:cNvPicPr/>
          <p:nvPr/>
        </p:nvPicPr>
        <p:blipFill>
          <a:blip r:embed="rId5"/>
          <a:stretch/>
        </p:blipFill>
        <p:spPr>
          <a:xfrm>
            <a:off x="0" y="189000"/>
            <a:ext cx="8292960" cy="57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ipan"/>
          <p:cNvPicPr/>
          <p:nvPr/>
        </p:nvPicPr>
        <p:blipFill>
          <a:blip r:embed="rId1"/>
          <a:stretch/>
        </p:blipFill>
        <p:spPr>
          <a:xfrm>
            <a:off x="0" y="0"/>
            <a:ext cx="7885080" cy="623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qian1"/>
          <p:cNvPicPr/>
          <p:nvPr/>
        </p:nvPicPr>
        <p:blipFill>
          <a:blip r:embed="rId2"/>
          <a:stretch/>
        </p:blipFill>
        <p:spPr>
          <a:xfrm>
            <a:off x="755640" y="0"/>
            <a:ext cx="3168720" cy="623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qian"/>
          <p:cNvPicPr/>
          <p:nvPr/>
        </p:nvPicPr>
        <p:blipFill>
          <a:blip r:embed="rId3"/>
          <a:stretch/>
        </p:blipFill>
        <p:spPr>
          <a:xfrm>
            <a:off x="4572000" y="0"/>
            <a:ext cx="3168720" cy="61657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900000" y="0"/>
            <a:ext cx="6696000" cy="6288120"/>
            <a:chOff x="900000" y="0"/>
            <a:chExt cx="6696000" cy="6288120"/>
          </a:xfrm>
        </p:grpSpPr>
        <p:pic>
          <p:nvPicPr>
            <p:cNvPr id="111" name="Picture 6" descr="xique"/>
            <p:cNvPicPr/>
            <p:nvPr/>
          </p:nvPicPr>
          <p:blipFill>
            <a:blip r:embed="rId4"/>
            <a:stretch/>
          </p:blipFill>
          <p:spPr>
            <a:xfrm>
              <a:off x="900000" y="0"/>
              <a:ext cx="6696000" cy="62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Oval 7"/>
            <p:cNvSpPr/>
            <p:nvPr/>
          </p:nvSpPr>
          <p:spPr>
            <a:xfrm>
              <a:off x="900000" y="393840"/>
              <a:ext cx="6480000" cy="5844960"/>
            </a:xfrm>
            <a:prstGeom prst="ellipse">
              <a:avLst/>
            </a:prstGeom>
            <a:noFill/>
            <a:ln w="44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0" y="0"/>
            <a:ext cx="8784720" cy="6048360"/>
            <a:chOff x="0" y="0"/>
            <a:chExt cx="8784720" cy="6048360"/>
          </a:xfrm>
        </p:grpSpPr>
        <p:pic>
          <p:nvPicPr>
            <p:cNvPr id="114" name="Picture 9" descr="zhongguojie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4149720" cy="60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0" descr="zhongguojie1"/>
            <p:cNvPicPr/>
            <p:nvPr/>
          </p:nvPicPr>
          <p:blipFill>
            <a:blip r:embed="rId6"/>
            <a:stretch/>
          </p:blipFill>
          <p:spPr>
            <a:xfrm>
              <a:off x="4632840" y="0"/>
              <a:ext cx="4151880" cy="5979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6" presetSubtype="32">
                                  <p:stCondLst>
                                    <p:cond delay="2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2556000" y="1916280"/>
            <a:ext cx="2593800" cy="1856880"/>
            <a:chOff x="2556000" y="1916280"/>
            <a:chExt cx="2593800" cy="1856880"/>
          </a:xfrm>
        </p:grpSpPr>
        <p:pic>
          <p:nvPicPr>
            <p:cNvPr id="117" name="Picture 3" descr="guanghuan1"/>
            <p:cNvPicPr/>
            <p:nvPr/>
          </p:nvPicPr>
          <p:blipFill>
            <a:blip r:embed="rId1"/>
            <a:stretch/>
          </p:blipFill>
          <p:spPr>
            <a:xfrm>
              <a:off x="2556000" y="1916280"/>
              <a:ext cx="2593800" cy="185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Oval 4"/>
            <p:cNvSpPr/>
            <p:nvPr/>
          </p:nvSpPr>
          <p:spPr>
            <a:xfrm>
              <a:off x="3060720" y="1975320"/>
              <a:ext cx="1584360" cy="1713960"/>
            </a:xfrm>
            <a:prstGeom prst="ellipse">
              <a:avLst/>
            </a:prstGeom>
            <a:noFill/>
            <a:ln w="47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Group 5"/>
          <p:cNvGrpSpPr/>
          <p:nvPr/>
        </p:nvGrpSpPr>
        <p:grpSpPr>
          <a:xfrm>
            <a:off x="5292720" y="4365720"/>
            <a:ext cx="2592360" cy="1832040"/>
            <a:chOff x="5292720" y="4365720"/>
            <a:chExt cx="2592360" cy="1832040"/>
          </a:xfrm>
        </p:grpSpPr>
        <p:pic>
          <p:nvPicPr>
            <p:cNvPr id="120" name="Picture 6" descr="guanghuan"/>
            <p:cNvPicPr/>
            <p:nvPr/>
          </p:nvPicPr>
          <p:blipFill>
            <a:blip r:embed="rId2"/>
            <a:stretch/>
          </p:blipFill>
          <p:spPr>
            <a:xfrm>
              <a:off x="5292720" y="4365720"/>
              <a:ext cx="2592360" cy="18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Oval 7"/>
            <p:cNvSpPr/>
            <p:nvPr/>
          </p:nvSpPr>
          <p:spPr>
            <a:xfrm>
              <a:off x="5942160" y="4727520"/>
              <a:ext cx="1223640" cy="1152720"/>
            </a:xfrm>
            <a:prstGeom prst="ellipse">
              <a:avLst/>
            </a:prstGeom>
            <a:noFill/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5292720" y="0"/>
            <a:ext cx="2519280" cy="1795320"/>
            <a:chOff x="5292720" y="0"/>
            <a:chExt cx="2519280" cy="1795320"/>
          </a:xfrm>
        </p:grpSpPr>
        <p:pic>
          <p:nvPicPr>
            <p:cNvPr id="123" name="Picture 9" descr="huaduo"/>
            <p:cNvPicPr/>
            <p:nvPr/>
          </p:nvPicPr>
          <p:blipFill>
            <a:blip r:embed="rId3"/>
            <a:stretch/>
          </p:blipFill>
          <p:spPr>
            <a:xfrm>
              <a:off x="5292720" y="0"/>
              <a:ext cx="251928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0"/>
            <p:cNvSpPr/>
            <p:nvPr/>
          </p:nvSpPr>
          <p:spPr>
            <a:xfrm>
              <a:off x="6084720" y="431640"/>
              <a:ext cx="935280" cy="935280"/>
            </a:xfrm>
            <a:prstGeom prst="ellipse">
              <a:avLst/>
            </a:prstGeom>
            <a:noFill/>
            <a:ln w="47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5" name="Oval 11"/>
          <p:cNvSpPr/>
          <p:nvPr/>
        </p:nvSpPr>
        <p:spPr>
          <a:xfrm>
            <a:off x="6084720" y="2565360"/>
            <a:ext cx="10796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5651640" y="1989000"/>
            <a:ext cx="1944720" cy="2232000"/>
            <a:chOff x="5651640" y="1989000"/>
            <a:chExt cx="1944720" cy="2232000"/>
          </a:xfrm>
        </p:grpSpPr>
        <p:pic>
          <p:nvPicPr>
            <p:cNvPr id="127" name="Picture 13" descr="zhongguojie1"/>
            <p:cNvPicPr/>
            <p:nvPr/>
          </p:nvPicPr>
          <p:blipFill>
            <a:blip r:embed="rId4"/>
            <a:stretch/>
          </p:blipFill>
          <p:spPr>
            <a:xfrm>
              <a:off x="5651640" y="1989000"/>
              <a:ext cx="19447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Oval 14"/>
            <p:cNvSpPr/>
            <p:nvPr/>
          </p:nvSpPr>
          <p:spPr>
            <a:xfrm>
              <a:off x="6228000" y="2565360"/>
              <a:ext cx="936360" cy="863640"/>
            </a:xfrm>
            <a:prstGeom prst="ellipse">
              <a:avLst/>
            </a:prstGeom>
            <a:noFill/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2700360" y="3860640"/>
            <a:ext cx="2195640" cy="2376360"/>
            <a:chOff x="2700360" y="3860640"/>
            <a:chExt cx="2195640" cy="2376360"/>
          </a:xfrm>
        </p:grpSpPr>
        <p:pic>
          <p:nvPicPr>
            <p:cNvPr id="130" name="Picture 16" descr="cipan"/>
            <p:cNvPicPr/>
            <p:nvPr/>
          </p:nvPicPr>
          <p:blipFill>
            <a:blip r:embed="rId5"/>
            <a:stretch/>
          </p:blipFill>
          <p:spPr>
            <a:xfrm>
              <a:off x="2700360" y="3860640"/>
              <a:ext cx="21956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7"/>
            <p:cNvSpPr/>
            <p:nvPr/>
          </p:nvSpPr>
          <p:spPr>
            <a:xfrm>
              <a:off x="2771640" y="3933720"/>
              <a:ext cx="2087640" cy="2016000"/>
            </a:xfrm>
            <a:prstGeom prst="ellipse">
              <a:avLst/>
            </a:prstGeom>
            <a:noFill/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Rectangle 18"/>
          <p:cNvSpPr/>
          <p:nvPr/>
        </p:nvSpPr>
        <p:spPr>
          <a:xfrm>
            <a:off x="539640" y="4005360"/>
            <a:ext cx="316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755640" y="458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20"/>
          <p:cNvGrpSpPr/>
          <p:nvPr/>
        </p:nvGrpSpPr>
        <p:grpSpPr>
          <a:xfrm>
            <a:off x="0" y="1700280"/>
            <a:ext cx="2195640" cy="4176720"/>
            <a:chOff x="0" y="1700280"/>
            <a:chExt cx="2195640" cy="4176720"/>
          </a:xfrm>
        </p:grpSpPr>
        <p:grpSp>
          <p:nvGrpSpPr>
            <p:cNvPr id="135" name="Group 21"/>
            <p:cNvGrpSpPr/>
            <p:nvPr/>
          </p:nvGrpSpPr>
          <p:grpSpPr>
            <a:xfrm>
              <a:off x="0" y="1700280"/>
              <a:ext cx="2195640" cy="4176720"/>
              <a:chOff x="0" y="1700280"/>
              <a:chExt cx="2195640" cy="4176720"/>
            </a:xfrm>
          </p:grpSpPr>
          <p:pic>
            <p:nvPicPr>
              <p:cNvPr id="136" name="Picture 22" descr="qian1"/>
              <p:cNvPicPr/>
              <p:nvPr/>
            </p:nvPicPr>
            <p:blipFill>
              <a:blip r:embed="rId6"/>
              <a:stretch/>
            </p:blipFill>
            <p:spPr>
              <a:xfrm>
                <a:off x="0" y="1700280"/>
                <a:ext cx="2195640" cy="41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23"/>
              <p:cNvSpPr/>
              <p:nvPr/>
            </p:nvSpPr>
            <p:spPr>
              <a:xfrm>
                <a:off x="0" y="3861000"/>
                <a:ext cx="2195640" cy="20160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" name="Oval 24"/>
            <p:cNvSpPr/>
            <p:nvPr/>
          </p:nvSpPr>
          <p:spPr>
            <a:xfrm>
              <a:off x="179280" y="1773360"/>
              <a:ext cx="1944720" cy="1871640"/>
            </a:xfrm>
            <a:prstGeom prst="ellipse">
              <a:avLst/>
            </a:prstGeom>
            <a:noFill/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25"/>
          <p:cNvGrpSpPr/>
          <p:nvPr/>
        </p:nvGrpSpPr>
        <p:grpSpPr>
          <a:xfrm>
            <a:off x="2771640" y="0"/>
            <a:ext cx="1871640" cy="1844640"/>
            <a:chOff x="2771640" y="0"/>
            <a:chExt cx="1871640" cy="1844640"/>
          </a:xfrm>
        </p:grpSpPr>
        <p:pic>
          <p:nvPicPr>
            <p:cNvPr id="140" name="Picture 26" descr="xique"/>
            <p:cNvPicPr/>
            <p:nvPr/>
          </p:nvPicPr>
          <p:blipFill>
            <a:blip r:embed="rId7"/>
            <a:stretch/>
          </p:blipFill>
          <p:spPr>
            <a:xfrm>
              <a:off x="2771640" y="0"/>
              <a:ext cx="18716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val 27"/>
            <p:cNvSpPr/>
            <p:nvPr/>
          </p:nvSpPr>
          <p:spPr>
            <a:xfrm>
              <a:off x="2771640" y="0"/>
              <a:ext cx="1800360" cy="1773360"/>
            </a:xfrm>
            <a:prstGeom prst="ellipse">
              <a:avLst/>
            </a:prstGeom>
            <a:noFill/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0" y="4365720"/>
            <a:ext cx="2592360" cy="1755720"/>
            <a:chOff x="0" y="4365720"/>
            <a:chExt cx="2592360" cy="1755720"/>
          </a:xfrm>
        </p:grpSpPr>
        <p:pic>
          <p:nvPicPr>
            <p:cNvPr id="143" name="Picture 29" descr="xiangrikui"/>
            <p:cNvPicPr/>
            <p:nvPr/>
          </p:nvPicPr>
          <p:blipFill>
            <a:blip r:embed="rId8"/>
            <a:stretch/>
          </p:blipFill>
          <p:spPr>
            <a:xfrm>
              <a:off x="0" y="4365720"/>
              <a:ext cx="25923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Oval 30"/>
            <p:cNvSpPr/>
            <p:nvPr/>
          </p:nvSpPr>
          <p:spPr>
            <a:xfrm>
              <a:off x="1584360" y="4467240"/>
              <a:ext cx="1008000" cy="1008000"/>
            </a:xfrm>
            <a:prstGeom prst="ellipse">
              <a:avLst/>
            </a:prstGeom>
            <a:noFill/>
            <a:ln w="47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5" name="Picture 31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2197080" cy="14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990720" y="7621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43000" y="2133720"/>
            <a:ext cx="716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用圆规画指定大小的圆，在观察、操作、画圆等活动中感受并发现圆的有关特征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什么是圆的圆心、半径和直径并且知道半径和直径之间的关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应用圆的知识解释一些日常生活现象。感受平面图形的学习价值，提高学习的兴趣和学好数学的信心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2" descr=""/>
          <p:cNvPicPr/>
          <p:nvPr/>
        </p:nvPicPr>
        <p:blipFill>
          <a:blip r:embed="rId1"/>
          <a:stretch/>
        </p:blipFill>
        <p:spPr>
          <a:xfrm>
            <a:off x="244440" y="347760"/>
            <a:ext cx="3065400" cy="1073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225440" y="1641600"/>
            <a:ext cx="50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学课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5-9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办法画出一个圆，小组交流画圆的最好工具是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怎么用圆规画圆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圆心、半径、和直径？用字母怎么表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画一个直径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的圆。在自己画的圆里标出圆心，画一条半径和一条直径，并分别用字母表示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20922" t="53799" r="43931" b="875"/>
          <a:stretch/>
        </p:blipFill>
        <p:spPr>
          <a:xfrm>
            <a:off x="2700360" y="4005360"/>
            <a:ext cx="3024000" cy="2305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378160" y="89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宋体"/>
              </a:rPr>
              <a:t>你能想办法画一个圆吗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rcRect l="57749" t="9901" r="12951" b="49020"/>
          <a:stretch/>
        </p:blipFill>
        <p:spPr>
          <a:xfrm>
            <a:off x="5219640" y="2060640"/>
            <a:ext cx="2521080" cy="208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rcRect l="10870" t="9901" r="59005" b="49020"/>
          <a:stretch/>
        </p:blipFill>
        <p:spPr>
          <a:xfrm>
            <a:off x="755640" y="1844640"/>
            <a:ext cx="2592360" cy="2089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6:40:57Z</dcterms:created>
  <dc:creator/>
  <dc:description/>
  <cp:keywords/>
  <dc:language>en-US</dc:language>
  <cp:lastModifiedBy>dreamsummit</cp:lastModifiedBy>
  <dcterms:modified xsi:type="dcterms:W3CDTF">2015-05-07T01:37:53Z</dcterms:modified>
  <cp:revision>210</cp:revision>
  <dc:subject/>
  <dc:title>五年级数学下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