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1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suction.wav" ContentType="audio/x-wav"/>
  <Override PartName="/ppt/media/image25.jpeg" ContentType="image/jpeg"/>
  <Override PartName="/ppt/media/image2.png" ContentType="image/png"/>
  <Override PartName="/ppt/media/image11.png" ContentType="image/png"/>
  <Override PartName="/ppt/media/image48.png" ContentType="image/png"/>
  <Override PartName="/ppt/media/image26.gif" ContentType="image/gif"/>
  <Override PartName="/ppt/media/image15.jpeg" ContentType="image/jpeg"/>
  <Override PartName="/ppt/media/image53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47.png" ContentType="image/png"/>
  <Override PartName="/ppt/media/image10.png" ContentType="image/png"/>
  <Override PartName="/ppt/media/image12.png" ContentType="image/png"/>
  <Override PartName="/ppt/media/image49.png" ContentType="image/png"/>
  <Override PartName="/ppt/media/image24.png" ContentType="image/png"/>
  <Override PartName="/ppt/media/drumroll.wav" ContentType="audio/x-wav"/>
  <Override PartName="/ppt/media/image33.jpeg" ContentType="image/jpeg"/>
  <Override PartName="/ppt/media/image7.png" ContentType="image/png"/>
  <Override PartName="/ppt/media/image19.png" ContentType="image/png"/>
  <Override PartName="/ppt/media/image16.gif" ContentType="image/gif"/>
  <Override PartName="/ppt/media/image21.png" ContentType="image/png"/>
  <Override PartName="/ppt/media/image22.png" ContentType="image/png"/>
  <Override PartName="/ppt/media/image46.png" ContentType="image/png"/>
  <Override PartName="/ppt/media/image1.gif" ContentType="image/gif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7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28.png" ContentType="image/png"/>
  <Override PartName="/ppt/media/wind.wav" ContentType="audio/x-wav"/>
  <Override PartName="/ppt/media/image41.png" ContentType="image/png"/>
  <Override PartName="/ppt/media/image29.jpeg" ContentType="image/jpeg"/>
  <Override PartName="/ppt/media/applause.wav" ContentType="audio/x-wav"/>
  <Override PartName="/ppt/media/image30.png" ContentType="image/png"/>
  <Override PartName="/ppt/media/image31.png" ContentType="image/png"/>
  <Override PartName="/ppt/media/image35.png" ContentType="image/png"/>
  <Override PartName="/ppt/media/image32.gif" ContentType="image/gif"/>
  <Override PartName="/ppt/media/image18.png" ContentType="image/png"/>
  <Override PartName="/ppt/media/camera.wav" ContentType="audio/x-wav"/>
  <Override PartName="/ppt/media/image42.jpeg" ContentType="image/jpeg"/>
  <Override PartName="/ppt/media/image3.gif" ContentType="image/gif"/>
  <Override PartName="/ppt/media/image36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D7A-ADD2-4891-BA92-A3099791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406D-C186-4B77-BC4C-8C11BF3C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3608-05DB-4CDA-B515-A05FB7E7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68F-030D-4EC5-9E31-6209C8D1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6D0-F3FA-4485-981D-DA815657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4A2-54F7-463D-B11F-00E8A53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100-DA95-4EE8-BF17-CCF88AF5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8BA-DC83-43A9-833E-39208916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C70-4F02-4794-8C5D-FE65F7F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BE13-1248-4CA2-93E2-234B916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A47A-FF02-42E6-965C-F111950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092E-E5E1-4384-8674-0A54A25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84F-A891-45FD-8201-F16F9460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E125-CD59-4252-9369-E50F6A2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ABD-3BA9-4131-9E39-C8454F3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243-3ACA-400B-AEA8-472AFD8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D683-12FD-42FA-B178-332A48A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87E-DCC4-41BC-8B0C-71DD62E7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D082-79BA-410A-B9BD-D4DC9D12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8C9-CBB8-4518-AA32-B892D37E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65B0-22F6-4E86-BD53-AD25BFF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2CFB-2E64-4091-B356-D215EB9D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D928-9653-4668-974B-3B238D7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E5B0-04AC-4566-933D-33754924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4886-D587-47B8-9377-A595130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517-5975-43ED-992B-52000297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D151-C878-42BE-B047-156E6F44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B372-F130-46FA-ABF3-694CB020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CC25-37C3-4675-8383-9558A9E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31B0-3838-4C71-BF5C-8856820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8E0F-5D5D-44E3-AB46-7A24B199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5867-E12E-410E-9B0F-EE035CB3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D673-426E-4894-A254-87F2CC47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08BB-7F88-4272-B8DE-379C7004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4AC1-878A-45C7-9305-3E8F5D0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E5B8-454D-4862-A654-AF3E7A4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AF8-6F97-43A8-ADFF-B7B29455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134A-EFB4-48D5-B17C-EF77850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6D1B-D8B3-4C61-A317-8DEDD400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FFFE-4CBD-46C5-A4E0-8FE654F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0E38-635D-4B14-BA18-FFCA55E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C132-84C2-450B-A4AB-1FF62CE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A5E7-C7AA-43B6-BAE9-1D627E1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8259-F61E-4426-B897-043C7AD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84CB-3D66-4F23-BC91-A38DCB21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626D-C36A-4786-8CDA-976E1B25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0B3-2F94-4FE1-947D-38F867BE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768-2065-472C-A407-CF9A93D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A4E-0E8B-432E-9C6F-03F2D2D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9E3-EF9D-42D5-AB06-8BEA0FC5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478-2FF5-4B63-BCD4-A998D51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9ED-C58F-427D-A00F-75DA82FA396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885-BCF2-49EA-B81E-88FA7D18804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BFC4-765A-49F5-A6B4-BAEB10CFAFD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2E3A-74E3-4295-824A-4530BE061E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2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539640" y="981000"/>
            <a:ext cx="720720" cy="7207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8244000" y="4508640"/>
            <a:ext cx="647640" cy="647640"/>
          </a:xfrm>
          <a:custGeom>
            <a:avLst/>
            <a:gdLst>
              <a:gd name="textAreaLeft" fmla="*/ 266760 w 647640"/>
              <a:gd name="textAreaRight" fmla="*/ 380880 w 647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GIF286"/>
          <p:cNvPicPr/>
          <p:nvPr/>
        </p:nvPicPr>
        <p:blipFill>
          <a:blip r:embed="rId1"/>
          <a:stretch/>
        </p:blipFill>
        <p:spPr>
          <a:xfrm>
            <a:off x="2195640" y="2276640"/>
            <a:ext cx="4680000" cy="3509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9"/>
          <p:cNvSpPr/>
          <p:nvPr/>
        </p:nvSpPr>
        <p:spPr>
          <a:xfrm>
            <a:off x="900000" y="2637000"/>
            <a:ext cx="509760" cy="509400"/>
          </a:xfrm>
          <a:custGeom>
            <a:avLst/>
            <a:gdLst>
              <a:gd name="textAreaLeft" fmla="*/ 209880 w 509760"/>
              <a:gd name="textAreaRight" fmla="*/ 299880 w 509760"/>
              <a:gd name="textAreaTop" fmla="*/ 209880 h 509400"/>
              <a:gd name="textAreaBottom" fmla="*/ 299520 h 50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547640" y="3860640"/>
            <a:ext cx="720720" cy="7207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7812000" y="292428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3851280" y="836640"/>
            <a:ext cx="582480" cy="582480"/>
          </a:xfrm>
          <a:custGeom>
            <a:avLst/>
            <a:gdLst>
              <a:gd name="textAreaLeft" fmla="*/ 240120 w 582480"/>
              <a:gd name="textAreaRight" fmla="*/ 342360 w 582480"/>
              <a:gd name="textAreaTop" fmla="*/ 240120 h 582480"/>
              <a:gd name="textAreaBottom" fmla="*/ 342360 h 58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/>
          <p:cNvSpPr/>
          <p:nvPr/>
        </p:nvSpPr>
        <p:spPr>
          <a:xfrm>
            <a:off x="6588000" y="333360"/>
            <a:ext cx="738360" cy="738360"/>
          </a:xfrm>
          <a:custGeom>
            <a:avLst/>
            <a:gdLst>
              <a:gd name="textAreaLeft" fmla="*/ 304200 w 738360"/>
              <a:gd name="textAreaRight" fmla="*/ 434160 w 738360"/>
              <a:gd name="textAreaTop" fmla="*/ 304200 h 738360"/>
              <a:gd name="textAreaBottom" fmla="*/ 434160 h 73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324000" y="4797360"/>
            <a:ext cx="718920" cy="719280"/>
          </a:xfrm>
          <a:custGeom>
            <a:avLst/>
            <a:gdLst>
              <a:gd name="textAreaLeft" fmla="*/ 296280 w 718920"/>
              <a:gd name="textAreaRight" fmla="*/ 422640 w 71892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187280" y="1484280"/>
            <a:ext cx="69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圆 的 周 长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 flipV="1">
            <a:off x="7543800" y="4038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>
            <a:off x="380880" y="4191120"/>
            <a:ext cx="7162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281952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8ec"/>
                </a:solidFill>
                <a:latin typeface="Times New Roman"/>
              </a:rPr>
              <a:t>绳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43434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8ec"/>
                </a:solidFill>
                <a:latin typeface="Times New Roman"/>
              </a:rPr>
              <a:t>滚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579132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8ec"/>
                </a:solidFill>
                <a:latin typeface="Times New Roman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56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228600" y="4267080"/>
            <a:ext cx="9677160" cy="703800"/>
            <a:chOff x="228600" y="4267080"/>
            <a:chExt cx="9677160" cy="703800"/>
          </a:xfrm>
        </p:grpSpPr>
        <p:sp>
          <p:nvSpPr>
            <p:cNvPr id="254" name="Rectangle 7"/>
            <p:cNvSpPr/>
            <p:nvPr/>
          </p:nvSpPr>
          <p:spPr>
            <a:xfrm>
              <a:off x="228600" y="4267080"/>
              <a:ext cx="914400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38088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9"/>
            <p:cNvSpPr/>
            <p:nvPr/>
          </p:nvSpPr>
          <p:spPr>
            <a:xfrm>
              <a:off x="609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1066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1295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152388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1752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1981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209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2438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266688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9"/>
            <p:cNvSpPr/>
            <p:nvPr/>
          </p:nvSpPr>
          <p:spPr>
            <a:xfrm>
              <a:off x="2895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3124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352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3581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3"/>
            <p:cNvSpPr/>
            <p:nvPr/>
          </p:nvSpPr>
          <p:spPr>
            <a:xfrm>
              <a:off x="380988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4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5"/>
            <p:cNvSpPr/>
            <p:nvPr/>
          </p:nvSpPr>
          <p:spPr>
            <a:xfrm>
              <a:off x="4267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6"/>
            <p:cNvSpPr/>
            <p:nvPr/>
          </p:nvSpPr>
          <p:spPr>
            <a:xfrm>
              <a:off x="4495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7"/>
            <p:cNvSpPr/>
            <p:nvPr/>
          </p:nvSpPr>
          <p:spPr>
            <a:xfrm>
              <a:off x="4724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8"/>
            <p:cNvSpPr/>
            <p:nvPr/>
          </p:nvSpPr>
          <p:spPr>
            <a:xfrm>
              <a:off x="495288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9"/>
            <p:cNvSpPr/>
            <p:nvPr/>
          </p:nvSpPr>
          <p:spPr>
            <a:xfrm>
              <a:off x="5181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0"/>
            <p:cNvSpPr/>
            <p:nvPr/>
          </p:nvSpPr>
          <p:spPr>
            <a:xfrm>
              <a:off x="5410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>
              <a:off x="5638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2"/>
            <p:cNvSpPr/>
            <p:nvPr/>
          </p:nvSpPr>
          <p:spPr>
            <a:xfrm>
              <a:off x="5867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3"/>
            <p:cNvSpPr/>
            <p:nvPr/>
          </p:nvSpPr>
          <p:spPr>
            <a:xfrm>
              <a:off x="609588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6324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6553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6"/>
            <p:cNvSpPr/>
            <p:nvPr/>
          </p:nvSpPr>
          <p:spPr>
            <a:xfrm>
              <a:off x="6781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7"/>
            <p:cNvSpPr/>
            <p:nvPr/>
          </p:nvSpPr>
          <p:spPr>
            <a:xfrm>
              <a:off x="70102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8"/>
            <p:cNvSpPr/>
            <p:nvPr/>
          </p:nvSpPr>
          <p:spPr>
            <a:xfrm>
              <a:off x="723888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9"/>
            <p:cNvSpPr/>
            <p:nvPr/>
          </p:nvSpPr>
          <p:spPr>
            <a:xfrm>
              <a:off x="72388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0"/>
            <p:cNvSpPr/>
            <p:nvPr/>
          </p:nvSpPr>
          <p:spPr>
            <a:xfrm>
              <a:off x="7467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1"/>
            <p:cNvSpPr/>
            <p:nvPr/>
          </p:nvSpPr>
          <p:spPr>
            <a:xfrm>
              <a:off x="7696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2"/>
            <p:cNvSpPr/>
            <p:nvPr/>
          </p:nvSpPr>
          <p:spPr>
            <a:xfrm>
              <a:off x="7924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815328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83818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5"/>
            <p:cNvSpPr/>
            <p:nvPr/>
          </p:nvSpPr>
          <p:spPr>
            <a:xfrm>
              <a:off x="86104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6"/>
            <p:cNvSpPr/>
            <p:nvPr/>
          </p:nvSpPr>
          <p:spPr>
            <a:xfrm>
              <a:off x="88390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906768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8"/>
            <p:cNvSpPr/>
            <p:nvPr/>
          </p:nvSpPr>
          <p:spPr>
            <a:xfrm>
              <a:off x="9296280" y="4267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49"/>
            <p:cNvSpPr/>
            <p:nvPr/>
          </p:nvSpPr>
          <p:spPr>
            <a:xfrm>
              <a:off x="228600" y="4572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0"/>
            <p:cNvSpPr/>
            <p:nvPr/>
          </p:nvSpPr>
          <p:spPr>
            <a:xfrm>
              <a:off x="2514600" y="4572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480060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2"/>
            <p:cNvSpPr/>
            <p:nvPr/>
          </p:nvSpPr>
          <p:spPr>
            <a:xfrm>
              <a:off x="7086600" y="4572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3"/>
            <p:cNvSpPr/>
            <p:nvPr/>
          </p:nvSpPr>
          <p:spPr>
            <a:xfrm>
              <a:off x="9144000" y="45561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55"/>
          <p:cNvSpPr/>
          <p:nvPr/>
        </p:nvSpPr>
        <p:spPr>
          <a:xfrm flipV="1">
            <a:off x="7543800" y="4038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6"/>
          <p:cNvSpPr/>
          <p:nvPr/>
        </p:nvSpPr>
        <p:spPr>
          <a:xfrm>
            <a:off x="380880" y="4191120"/>
            <a:ext cx="7162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142920"/>
            <a:ext cx="874872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1187280" y="4191120"/>
            <a:ext cx="8064360" cy="1470960"/>
            <a:chOff x="1187280" y="4191120"/>
            <a:chExt cx="8064360" cy="1470960"/>
          </a:xfrm>
        </p:grpSpPr>
        <p:grpSp>
          <p:nvGrpSpPr>
            <p:cNvPr id="305" name="Group 5"/>
            <p:cNvGrpSpPr/>
            <p:nvPr/>
          </p:nvGrpSpPr>
          <p:grpSpPr>
            <a:xfrm>
              <a:off x="1187280" y="4191120"/>
              <a:ext cx="8064360" cy="1470960"/>
              <a:chOff x="1187280" y="4191120"/>
              <a:chExt cx="8064360" cy="1470960"/>
            </a:xfrm>
          </p:grpSpPr>
          <p:graphicFrame>
            <p:nvGraphicFramePr>
              <p:cNvPr id="306" name="Object 6"/>
              <p:cNvGraphicFramePr/>
              <p:nvPr/>
            </p:nvGraphicFramePr>
            <p:xfrm>
              <a:off x="1187280" y="4191120"/>
              <a:ext cx="801360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87280" y="4191120"/>
                        <a:ext cx="801360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07932" dir="8100000" blurRad="0" rotWithShape="0">
                          <a:srgbClr val="808080">
                            <a:alpha val="50000"/>
                          </a:srgbClr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308" name="Rectangle 7"/>
              <p:cNvSpPr/>
              <p:nvPr/>
            </p:nvSpPr>
            <p:spPr>
              <a:xfrm>
                <a:off x="8971920" y="5521320"/>
                <a:ext cx="279720" cy="1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8"/>
            <p:cNvSpPr/>
            <p:nvPr/>
          </p:nvSpPr>
          <p:spPr>
            <a:xfrm>
              <a:off x="1187640" y="451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210024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30114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1"/>
            <p:cNvSpPr/>
            <p:nvPr/>
          </p:nvSpPr>
          <p:spPr>
            <a:xfrm>
              <a:off x="391284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>
              <a:off x="482796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665064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4"/>
            <p:cNvSpPr/>
            <p:nvPr/>
          </p:nvSpPr>
          <p:spPr>
            <a:xfrm>
              <a:off x="748836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5"/>
            <p:cNvSpPr/>
            <p:nvPr/>
          </p:nvSpPr>
          <p:spPr>
            <a:xfrm>
              <a:off x="840348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6"/>
            <p:cNvSpPr/>
            <p:nvPr/>
          </p:nvSpPr>
          <p:spPr>
            <a:xfrm>
              <a:off x="57366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7"/>
          <p:cNvGrpSpPr/>
          <p:nvPr/>
        </p:nvGrpSpPr>
        <p:grpSpPr>
          <a:xfrm>
            <a:off x="396720" y="2349360"/>
            <a:ext cx="1871640" cy="1873080"/>
            <a:chOff x="396720" y="2349360"/>
            <a:chExt cx="1871640" cy="1873080"/>
          </a:xfrm>
        </p:grpSpPr>
        <p:grpSp>
          <p:nvGrpSpPr>
            <p:cNvPr id="319" name="Group 18"/>
            <p:cNvGrpSpPr/>
            <p:nvPr/>
          </p:nvGrpSpPr>
          <p:grpSpPr>
            <a:xfrm>
              <a:off x="396720" y="2352600"/>
              <a:ext cx="1871640" cy="1869840"/>
              <a:chOff x="396720" y="2352600"/>
              <a:chExt cx="1871640" cy="1869840"/>
            </a:xfrm>
          </p:grpSpPr>
          <p:sp>
            <p:nvSpPr>
              <p:cNvPr id="320" name="Oval 19"/>
              <p:cNvSpPr/>
              <p:nvPr/>
            </p:nvSpPr>
            <p:spPr>
              <a:xfrm>
                <a:off x="396720" y="2352600"/>
                <a:ext cx="1871640" cy="1869840"/>
              </a:xfrm>
              <a:prstGeom prst="ellipse">
                <a:avLst/>
              </a:prstGeom>
              <a:solidFill>
                <a:srgbClr val="ff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20"/>
              <p:cNvSpPr/>
              <p:nvPr/>
            </p:nvSpPr>
            <p:spPr>
              <a:xfrm rot="16200000">
                <a:off x="1073880" y="3123000"/>
                <a:ext cx="89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21"/>
            <p:cNvSpPr/>
            <p:nvPr/>
          </p:nvSpPr>
          <p:spPr>
            <a:xfrm>
              <a:off x="1332000" y="2349360"/>
              <a:ext cx="0" cy="18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22"/>
          <p:cNvSpPr/>
          <p:nvPr/>
        </p:nvSpPr>
        <p:spPr>
          <a:xfrm>
            <a:off x="1332000" y="422280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25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滚动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L 0.61424 -2.96296E-006 E">
                                      <p:cBhvr>
                                        <p:cTn id="84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2666880" y="1143000"/>
            <a:ext cx="3429000" cy="3429000"/>
            <a:chOff x="2666880" y="1143000"/>
            <a:chExt cx="3429000" cy="3429000"/>
          </a:xfrm>
        </p:grpSpPr>
        <p:sp>
          <p:nvSpPr>
            <p:cNvPr id="326" name="Oval 3"/>
            <p:cNvSpPr/>
            <p:nvPr/>
          </p:nvSpPr>
          <p:spPr>
            <a:xfrm>
              <a:off x="2666880" y="1143000"/>
              <a:ext cx="3429000" cy="3429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"/>
            <p:cNvSpPr/>
            <p:nvPr/>
          </p:nvSpPr>
          <p:spPr>
            <a:xfrm>
              <a:off x="2666880" y="2895480"/>
              <a:ext cx="3429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"/>
          <p:cNvGrpSpPr/>
          <p:nvPr/>
        </p:nvGrpSpPr>
        <p:grpSpPr>
          <a:xfrm>
            <a:off x="2666880" y="1676520"/>
            <a:ext cx="2438640" cy="2438280"/>
            <a:chOff x="2666880" y="1676520"/>
            <a:chExt cx="2438640" cy="2438280"/>
          </a:xfrm>
        </p:grpSpPr>
        <p:sp>
          <p:nvSpPr>
            <p:cNvPr id="329" name="Oval 6"/>
            <p:cNvSpPr/>
            <p:nvPr/>
          </p:nvSpPr>
          <p:spPr>
            <a:xfrm>
              <a:off x="2666880" y="1676520"/>
              <a:ext cx="2438640" cy="24382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>
              <a:off x="2666880" y="2895480"/>
              <a:ext cx="2438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8"/>
          <p:cNvGrpSpPr/>
          <p:nvPr/>
        </p:nvGrpSpPr>
        <p:grpSpPr>
          <a:xfrm>
            <a:off x="2666880" y="2057400"/>
            <a:ext cx="1600200" cy="1600200"/>
            <a:chOff x="2666880" y="2057400"/>
            <a:chExt cx="1600200" cy="1600200"/>
          </a:xfrm>
        </p:grpSpPr>
        <p:sp>
          <p:nvSpPr>
            <p:cNvPr id="332" name="Oval 9"/>
            <p:cNvSpPr/>
            <p:nvPr/>
          </p:nvSpPr>
          <p:spPr>
            <a:xfrm>
              <a:off x="2666880" y="2057400"/>
              <a:ext cx="1600200" cy="16002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2666880" y="2895480"/>
              <a:ext cx="160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2666880" y="2362320"/>
            <a:ext cx="1067040" cy="1066680"/>
            <a:chOff x="2666880" y="2362320"/>
            <a:chExt cx="1067040" cy="1066680"/>
          </a:xfrm>
        </p:grpSpPr>
        <p:sp>
          <p:nvSpPr>
            <p:cNvPr id="335" name="Oval 12"/>
            <p:cNvSpPr/>
            <p:nvPr/>
          </p:nvSpPr>
          <p:spPr>
            <a:xfrm>
              <a:off x="2666880" y="2362320"/>
              <a:ext cx="1067040" cy="10666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2666880" y="2895840"/>
              <a:ext cx="1067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4"/>
          <p:cNvGrpSpPr/>
          <p:nvPr/>
        </p:nvGrpSpPr>
        <p:grpSpPr>
          <a:xfrm>
            <a:off x="2666880" y="2514600"/>
            <a:ext cx="685800" cy="685800"/>
            <a:chOff x="2666880" y="2514600"/>
            <a:chExt cx="685800" cy="685800"/>
          </a:xfrm>
        </p:grpSpPr>
        <p:sp>
          <p:nvSpPr>
            <p:cNvPr id="338" name="Oval 15"/>
            <p:cNvSpPr/>
            <p:nvPr/>
          </p:nvSpPr>
          <p:spPr>
            <a:xfrm>
              <a:off x="2666880" y="2514600"/>
              <a:ext cx="685800" cy="6858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>
              <a:off x="2666880" y="289548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WordArt 17"/>
          <p:cNvSpPr txBox="1"/>
          <p:nvPr/>
        </p:nvSpPr>
        <p:spPr>
          <a:xfrm rot="5400000">
            <a:off x="-1405080" y="2565360"/>
            <a:ext cx="51134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圆的周长和什么有关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2"/>
          <p:cNvSpPr/>
          <p:nvPr/>
        </p:nvSpPr>
        <p:spPr>
          <a:xfrm>
            <a:off x="216000" y="142920"/>
            <a:ext cx="874872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f"/>
          <p:cNvPicPr/>
          <p:nvPr/>
        </p:nvPicPr>
        <p:blipFill>
          <a:blip r:embed="rId1"/>
          <a:stretch/>
        </p:blipFill>
        <p:spPr>
          <a:xfrm rot="20301000">
            <a:off x="2843280" y="836640"/>
            <a:ext cx="2485800" cy="4287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1834920" y="692280"/>
            <a:ext cx="587520" cy="581400"/>
          </a:xfrm>
          <a:prstGeom prst="rect">
            <a:avLst/>
          </a:prstGeom>
          <a:solidFill>
            <a:srgbClr val="ccec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自己动手量一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00000" y="1700280"/>
          <a:ext cx="7847280" cy="3881520"/>
        </p:xfrm>
        <a:graphic>
          <a:graphicData uri="http://schemas.openxmlformats.org/drawingml/2006/table">
            <a:tbl>
              <a:tblPr/>
              <a:tblGrid>
                <a:gridCol w="2173320"/>
                <a:gridCol w="2303640"/>
                <a:gridCol w="3370320"/>
              </a:tblGrid>
              <a:tr h="17730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周 长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毫米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直 径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毫米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的比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保留两位小数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74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704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704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704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Object 30"/>
              <p:cNvSpPr txBox="1"/>
              <p:nvPr/>
            </p:nvSpPr>
            <p:spPr>
              <a:xfrm>
                <a:off x="6300720" y="1700280"/>
                <a:ext cx="3110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 Box 31"/>
          <p:cNvSpPr/>
          <p:nvPr/>
        </p:nvSpPr>
        <p:spPr>
          <a:xfrm>
            <a:off x="2626560" y="5877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你发现圆的周长和直径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042920" y="170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何圆的周长总是它的直径的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倍多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864440" y="68724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我发现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0030"/>
          <p:cNvPicPr/>
          <p:nvPr/>
        </p:nvPicPr>
        <p:blipFill>
          <a:blip r:embed="rId1"/>
          <a:stretch/>
        </p:blipFill>
        <p:spPr>
          <a:xfrm>
            <a:off x="468360" y="189000"/>
            <a:ext cx="1008000" cy="13716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1116000" y="3195720"/>
            <a:ext cx="712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倍数是一个固定不变的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它叫圆周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字母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ài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过精密计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圆周率是一个无限不循环小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π=3.141592653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" descr="20051116191053522"/>
          <p:cNvPicPr/>
          <p:nvPr/>
        </p:nvPicPr>
        <p:blipFill>
          <a:blip r:embed="rId1"/>
          <a:stretch/>
        </p:blipFill>
        <p:spPr>
          <a:xfrm>
            <a:off x="-1000080" y="0"/>
            <a:ext cx="10842480" cy="7286760"/>
          </a:xfrm>
          <a:prstGeom prst="rect">
            <a:avLst/>
          </a:prstGeom>
          <a:ln w="0">
            <a:noFill/>
          </a:ln>
        </p:spPr>
      </p:pic>
      <p:sp>
        <p:nvSpPr>
          <p:cNvPr id="352" name="Oval 2"/>
          <p:cNvSpPr/>
          <p:nvPr/>
        </p:nvSpPr>
        <p:spPr>
          <a:xfrm>
            <a:off x="2700360" y="4437000"/>
            <a:ext cx="3816360" cy="18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755640" y="1125360"/>
            <a:ext cx="7632720" cy="302436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042920" y="141444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圆的周长除以直径的商是一个固定的数。我们把它叫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圆周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用字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1116000" y="3068640"/>
            <a:ext cx="6481440" cy="825120"/>
            <a:chOff x="1116000" y="3068640"/>
            <a:chExt cx="6481440" cy="825120"/>
          </a:xfrm>
        </p:grpSpPr>
        <p:sp>
          <p:nvSpPr>
            <p:cNvPr id="356" name="Rectangle 6"/>
            <p:cNvSpPr/>
            <p:nvPr/>
          </p:nvSpPr>
          <p:spPr>
            <a:xfrm>
              <a:off x="1116000" y="3068640"/>
              <a:ext cx="5751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π</a:t>
              </a: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＝</a:t>
              </a:r>
              <a:r>
                <a:rPr b="1" lang="en-US" sz="4800" spc="-1" strike="noStrike">
                  <a:solidFill>
                    <a:srgbClr val="ff33cc"/>
                  </a:solidFill>
                  <a:latin typeface="Lucida Console"/>
                  <a:ea typeface="楷体_GB2312"/>
                </a:rPr>
                <a:t>3.14159265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6974640" y="3481200"/>
              <a:ext cx="622800" cy="0"/>
            </a:xfrm>
            <a:prstGeom prst="line">
              <a:avLst/>
            </a:prstGeom>
            <a:ln w="63360">
              <a:solidFill>
                <a:srgbClr val="ff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8"/>
          <p:cNvSpPr/>
          <p:nvPr/>
        </p:nvSpPr>
        <p:spPr>
          <a:xfrm>
            <a:off x="3327480" y="477828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≈</a:t>
            </a: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3.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10190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"/>
          <p:cNvGrpSpPr/>
          <p:nvPr/>
        </p:nvGrpSpPr>
        <p:grpSpPr>
          <a:xfrm>
            <a:off x="928080" y="1395360"/>
            <a:ext cx="2996280" cy="1594440"/>
            <a:chOff x="928080" y="1395360"/>
            <a:chExt cx="2996280" cy="1594440"/>
          </a:xfrm>
        </p:grpSpPr>
        <p:sp>
          <p:nvSpPr>
            <p:cNvPr id="361" name="Rectangle 4"/>
            <p:cNvSpPr/>
            <p:nvPr/>
          </p:nvSpPr>
          <p:spPr>
            <a:xfrm>
              <a:off x="2700360" y="2276280"/>
              <a:ext cx="1224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周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5" descr="bird010s"/>
            <p:cNvPicPr/>
            <p:nvPr/>
          </p:nvPicPr>
          <p:blipFill>
            <a:blip r:embed="rId2"/>
            <a:stretch/>
          </p:blipFill>
          <p:spPr>
            <a:xfrm flipH="1" rot="1270800">
              <a:off x="1042560" y="1700280"/>
              <a:ext cx="1872000" cy="98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6"/>
          <p:cNvGrpSpPr/>
          <p:nvPr/>
        </p:nvGrpSpPr>
        <p:grpSpPr>
          <a:xfrm>
            <a:off x="4572000" y="571320"/>
            <a:ext cx="2887560" cy="2327040"/>
            <a:chOff x="4572000" y="571320"/>
            <a:chExt cx="2887560" cy="2327040"/>
          </a:xfrm>
        </p:grpSpPr>
        <p:sp>
          <p:nvSpPr>
            <p:cNvPr id="364" name="Rectangle 7"/>
            <p:cNvSpPr/>
            <p:nvPr/>
          </p:nvSpPr>
          <p:spPr>
            <a:xfrm>
              <a:off x="4572000" y="2251080"/>
              <a:ext cx="12240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直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8" descr="bird046s"/>
            <p:cNvPicPr/>
            <p:nvPr/>
          </p:nvPicPr>
          <p:blipFill>
            <a:blip r:embed="rId3"/>
            <a:stretch/>
          </p:blipFill>
          <p:spPr>
            <a:xfrm rot="19237800">
              <a:off x="5221080" y="1071360"/>
              <a:ext cx="2051280" cy="13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9"/>
          <p:cNvSpPr/>
          <p:nvPr/>
        </p:nvSpPr>
        <p:spPr>
          <a:xfrm>
            <a:off x="175104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圆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3952800" y="230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753160" y="2287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6468120" y="227664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π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3071880" y="2871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Georgia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4800960" y="282096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Monotype Corsiva"/>
                <a:ea typeface="楷体_GB2312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5"/>
          <p:cNvGrpSpPr/>
          <p:nvPr/>
        </p:nvGrpSpPr>
        <p:grpSpPr>
          <a:xfrm>
            <a:off x="2482920" y="3584520"/>
            <a:ext cx="5257440" cy="2796840"/>
            <a:chOff x="2482920" y="3584520"/>
            <a:chExt cx="5257440" cy="2796840"/>
          </a:xfrm>
        </p:grpSpPr>
        <p:sp>
          <p:nvSpPr>
            <p:cNvPr id="373" name="Oval 16"/>
            <p:cNvSpPr/>
            <p:nvPr/>
          </p:nvSpPr>
          <p:spPr>
            <a:xfrm>
              <a:off x="2482920" y="3584520"/>
              <a:ext cx="4278240" cy="271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7" descr="frog009s"/>
            <p:cNvPicPr/>
            <p:nvPr/>
          </p:nvPicPr>
          <p:blipFill>
            <a:blip r:embed="rId4"/>
            <a:stretch/>
          </p:blipFill>
          <p:spPr>
            <a:xfrm>
              <a:off x="6021000" y="4955760"/>
              <a:ext cx="1719360" cy="14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18"/>
          <p:cNvGrpSpPr/>
          <p:nvPr/>
        </p:nvGrpSpPr>
        <p:grpSpPr>
          <a:xfrm>
            <a:off x="3330720" y="3933720"/>
            <a:ext cx="2139120" cy="865080"/>
            <a:chOff x="3330720" y="3933720"/>
            <a:chExt cx="2139120" cy="865080"/>
          </a:xfrm>
        </p:grpSpPr>
        <p:sp>
          <p:nvSpPr>
            <p:cNvPr id="376" name="Text Box 19"/>
            <p:cNvSpPr/>
            <p:nvPr/>
          </p:nvSpPr>
          <p:spPr>
            <a:xfrm>
              <a:off x="3330720" y="4024440"/>
              <a:ext cx="94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Georgia"/>
                  <a:ea typeface="楷体_GB2312"/>
                </a:rPr>
                <a:t>C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0"/>
            <p:cNvSpPr/>
            <p:nvPr/>
          </p:nvSpPr>
          <p:spPr>
            <a:xfrm>
              <a:off x="4903560" y="397368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4340160" y="3933720"/>
              <a:ext cx="60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2772360" y="4508640"/>
            <a:ext cx="2697480" cy="1082160"/>
            <a:chOff x="2772360" y="4508640"/>
            <a:chExt cx="2697480" cy="1082160"/>
          </a:xfrm>
        </p:grpSpPr>
        <p:sp>
          <p:nvSpPr>
            <p:cNvPr id="380" name="Text Box 23"/>
            <p:cNvSpPr/>
            <p:nvPr/>
          </p:nvSpPr>
          <p:spPr>
            <a:xfrm>
              <a:off x="2772360" y="4508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4"/>
            <p:cNvSpPr/>
            <p:nvPr/>
          </p:nvSpPr>
          <p:spPr>
            <a:xfrm>
              <a:off x="3323880" y="4816440"/>
              <a:ext cx="117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Georgia"/>
                  <a:ea typeface="楷体_GB2312"/>
                </a:rPr>
                <a:t>C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5"/>
            <p:cNvSpPr/>
            <p:nvPr/>
          </p:nvSpPr>
          <p:spPr>
            <a:xfrm>
              <a:off x="5011920" y="4765680"/>
              <a:ext cx="45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4269240" y="4805280"/>
              <a:ext cx="92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2</a:t>
              </a:r>
              <a:r>
                <a:rPr b="1" lang="en-US" sz="44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Oval 27"/>
          <p:cNvSpPr/>
          <p:nvPr/>
        </p:nvSpPr>
        <p:spPr>
          <a:xfrm rot="20586600">
            <a:off x="4479480" y="3933720"/>
            <a:ext cx="432000" cy="165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3851280" y="5516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固定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11 0.00532 C -0.43611 0.05277 -0.38785 0.08935 -0.32969 0.08935 C -0.27049 0.08935 -0.22205 0.05277 -0.22205 0.00532 C -0.22205 -0.04236 -0.17431 -0.07871 -0.11424 -0.07871 C -0.05608 -0.07871 -0.00781 -0.04236 -0.00781 0.00532 E">
                                      <p:cBhvr>
                                        <p:cTn id="19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743 0.00902 L 0.3125 0.06226 C 0.28889 0.0743 0.25243 0.08101 0.21545 0.08101 C 0.17222 0.08101 0.13819 0.0743 0.11458 0.06226 L 3.61111E-006 0.00902 E">
                                      <p:cBhvr>
                                        <p:cTn id="204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802 -1.11111E-006 C 0.63039 -0.02523 0.62014 -0.0493 0.59948 -0.0493 C 0.57639 -0.0493 0.56858 -0.02523 0.56094 -1.11111E-006 C 0.5507 0.02801 0.54323 0.05602 0.51736 0.05602 C 0.49445 0.05602 0.48698 0.02801 0.47691 -1.11111E-006 C 0.47205 -0.02523 0.46181 -0.0493 0.43872 -0.0493 C 0.41806 -0.0493 0.40816 -0.02523 0.4 -1.11111E-006 C 0.39254 0.02801 0.38247 0.05602 0.35921 0.05602 C 0.33629 0.05602 0.31858 -1.11111E-006 0.31858 0.00023 C 0.31111 -0.02523 0.30278 -0.0493 0.28039 -0.0493 C 0.25764 -0.0493 0.24948 -0.02523 0.24184 -1.11111E-006 C 0.23177 0.02801 0.22414 0.05602 0.19844 0.05602 C 0.17552 0.05602 0.16789 0.02801 0.16025 -1.11111E-006 C 0.15 -0.02523 0.14254 -0.0493 0.11962 -0.0493 C 0.09931 -0.0493 0.08907 -0.02523 0.08108 -1.11111E-006 C 0.07344 0.02801 0.06337 0.05602 0.04046 0.05602 C 0.01719 0.05602 0.00955 0.02801 -3.61111E-006 -1.11111E-006 E">
                                      <p:cBhvr>
                                        <p:cTn id="25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''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575000" cy="21844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7"/>
          <p:cNvSpPr/>
          <p:nvPr/>
        </p:nvSpPr>
        <p:spPr>
          <a:xfrm>
            <a:off x="971640" y="1700280"/>
            <a:ext cx="60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50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年前，中国有一位伟大的数学家和天文学家祖冲之。他计算出圆周率应在</a:t>
            </a:r>
            <a:r>
              <a:rPr b="1" lang="en-US" sz="2800" spc="-1" strike="noStrike">
                <a:solidFill>
                  <a:srgbClr val="ffff00"/>
                </a:solidFill>
                <a:latin typeface="Mangal"/>
                <a:ea typeface="楷体_GB2312"/>
              </a:rPr>
              <a:t>3.1415926 </a:t>
            </a:r>
            <a:r>
              <a:rPr b="1" lang="zh-CN" sz="2800" spc="-1" strike="noStrike">
                <a:solidFill>
                  <a:srgbClr val="ffff00"/>
                </a:solidFill>
                <a:latin typeface="Monotype Corsiva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ffff00"/>
                </a:solidFill>
                <a:latin typeface="Mangal"/>
                <a:ea typeface="华文新魏"/>
              </a:rPr>
              <a:t>3.1415927</a:t>
            </a:r>
            <a:r>
              <a:rPr b="1" lang="en-US" sz="2800" spc="-1" strike="noStrike">
                <a:solidFill>
                  <a:srgbClr val="ffff00"/>
                </a:solidFill>
                <a:latin typeface="Mang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Monotype Corsiva"/>
                <a:ea typeface="楷体_GB2312"/>
              </a:rPr>
              <a:t>之间，成为世界上第一个把圆周率的值计算精确到</a:t>
            </a:r>
            <a:r>
              <a:rPr b="1" lang="en-US" sz="2800" spc="-1" strike="noStrike">
                <a:solidFill>
                  <a:srgbClr val="ffff00"/>
                </a:solidFill>
                <a:latin typeface="Sylfaen"/>
                <a:ea typeface="楷体_GB2312"/>
              </a:rPr>
              <a:t>7 </a:t>
            </a:r>
            <a:r>
              <a:rPr b="1" lang="zh-CN" sz="2800" spc="-1" strike="noStrike">
                <a:solidFill>
                  <a:srgbClr val="ffff00"/>
                </a:solidFill>
                <a:latin typeface="Monotype Corsiva"/>
                <a:ea typeface="楷体_GB2312"/>
              </a:rPr>
              <a:t>位小数的人。他的这项伟大成就比国外数学家得出这样精确数值的时间，至少要早一千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blcjc2003_497a970482780288.mp3" descr=""/>
          <p:cNvPicPr/>
          <p:nvPr/>
        </p:nvPicPr>
        <p:blipFill>
          <a:blip r:embed="rId3"/>
          <a:stretch/>
        </p:blipFill>
        <p:spPr>
          <a:xfrm>
            <a:off x="8991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500" autoRev="1" fill="hold"/>
                                        <p:tgtEl>
                                          <p:spTgt spid="3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10077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U2456P115T9D332356F370DT20090815155348_c"/>
          <p:cNvPicPr/>
          <p:nvPr/>
        </p:nvPicPr>
        <p:blipFill>
          <a:blip r:embed="rId1"/>
          <a:srcRect l="15348" t="0" r="19292" b="0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06e1202f24df081e1e3089f8"/>
          <p:cNvPicPr/>
          <p:nvPr/>
        </p:nvPicPr>
        <p:blipFill>
          <a:blip r:embed="rId2"/>
          <a:srcRect l="0" t="905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2648520" y="115920"/>
            <a:ext cx="3106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智慧城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6819480" y="746280"/>
            <a:ext cx="2144880" cy="1817640"/>
            <a:chOff x="6819480" y="746280"/>
            <a:chExt cx="2144880" cy="1817640"/>
          </a:xfrm>
        </p:grpSpPr>
        <p:sp>
          <p:nvSpPr>
            <p:cNvPr id="394" name="Text Box 5"/>
            <p:cNvSpPr/>
            <p:nvPr/>
          </p:nvSpPr>
          <p:spPr>
            <a:xfrm>
              <a:off x="6819480" y="1799640"/>
              <a:ext cx="152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99ff"/>
                  </a:solidFill>
                  <a:latin typeface="隶书"/>
                  <a:ea typeface="隶书"/>
                </a:rPr>
                <a:t>加油啊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6" descr="女孩"/>
            <p:cNvPicPr/>
            <p:nvPr/>
          </p:nvPicPr>
          <p:blipFill>
            <a:blip r:embed="rId3"/>
            <a:stretch/>
          </p:blipFill>
          <p:spPr>
            <a:xfrm>
              <a:off x="8125920" y="746280"/>
              <a:ext cx="838440" cy="167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  <p:sndAc>
      <p:stSnd>
        <p:snd r:embed="rId4" name="drumroll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="/>
          <p:cNvPicPr/>
          <p:nvPr/>
        </p:nvPicPr>
        <p:blipFill>
          <a:blip r:embed="rId1"/>
          <a:stretch/>
        </p:blipFill>
        <p:spPr>
          <a:xfrm>
            <a:off x="-428760" y="0"/>
            <a:ext cx="99615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786280" y="5853240"/>
            <a:ext cx="2775240" cy="642600"/>
          </a:xfrm>
          <a:prstGeom prst="rect">
            <a:avLst/>
          </a:prstGeom>
          <a:solidFill>
            <a:srgbClr val="f3f4d8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记 忆 宝 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258920" y="1846440"/>
            <a:ext cx="2808360" cy="13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291280" y="1555920"/>
            <a:ext cx="1728720" cy="164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1187280" y="170028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5219640" y="1413000"/>
            <a:ext cx="2160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258920" y="1846440"/>
            <a:ext cx="2808360" cy="136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5291280" y="1555920"/>
            <a:ext cx="1728720" cy="164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1258920" y="4797360"/>
            <a:ext cx="4103640" cy="1511280"/>
            <a:chOff x="1258920" y="4797360"/>
            <a:chExt cx="4103640" cy="1511280"/>
          </a:xfrm>
        </p:grpSpPr>
        <p:sp>
          <p:nvSpPr>
            <p:cNvPr id="216" name="AutoShape 11"/>
            <p:cNvSpPr/>
            <p:nvPr/>
          </p:nvSpPr>
          <p:spPr>
            <a:xfrm>
              <a:off x="1258920" y="4797360"/>
              <a:ext cx="4103640" cy="1511280"/>
            </a:xfrm>
            <a:prstGeom prst="cloudCallout">
              <a:avLst>
                <a:gd name="adj1" fmla="val 81138"/>
                <a:gd name="adj2" fmla="val -26157"/>
              </a:avLst>
            </a:prstGeom>
            <a:solidFill>
              <a:srgbClr val="ffff99">
                <a:alpha val="54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908360" y="501336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0000"/>
                  </a:solidFill>
                  <a:latin typeface="Arial"/>
                </a:rPr>
                <a:t>长方形、正方形周长各指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0532 L 0.30312 0.00532 L 0.30312 0.20486 L -0.004 0.20486 L -0.004 0.00532 Z">
                                      <p:cBhvr>
                                        <p:cTn id="2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0509 L 0.18298 0.00509 L 0.18298 0.24838 L -0.004 0.24838 L -0.004 0.00509 Z">
                                      <p:cBhvr>
                                        <p:cTn id="30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-500040" y="-71280"/>
            <a:ext cx="9644040" cy="692928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3"/>
          <p:cNvGrpSpPr/>
          <p:nvPr/>
        </p:nvGrpSpPr>
        <p:grpSpPr>
          <a:xfrm>
            <a:off x="2771640" y="836640"/>
            <a:ext cx="5833800" cy="5328720"/>
            <a:chOff x="2771640" y="836640"/>
            <a:chExt cx="5833800" cy="5328720"/>
          </a:xfrm>
        </p:grpSpPr>
        <p:sp>
          <p:nvSpPr>
            <p:cNvPr id="398" name="AutoShape 4"/>
            <p:cNvSpPr/>
            <p:nvPr/>
          </p:nvSpPr>
          <p:spPr>
            <a:xfrm>
              <a:off x="2771640" y="836640"/>
              <a:ext cx="5833800" cy="5328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"/>
            <p:cNvSpPr/>
            <p:nvPr/>
          </p:nvSpPr>
          <p:spPr>
            <a:xfrm>
              <a:off x="3345840" y="1674000"/>
              <a:ext cx="46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"/>
            <p:cNvSpPr/>
            <p:nvPr/>
          </p:nvSpPr>
          <p:spPr>
            <a:xfrm>
              <a:off x="3347280" y="2435760"/>
              <a:ext cx="468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3345840" y="3196440"/>
              <a:ext cx="46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3347280" y="3958200"/>
              <a:ext cx="468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>
              <a:off x="3345840" y="4718520"/>
              <a:ext cx="46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3347280" y="5480280"/>
              <a:ext cx="468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AutoShape 11"/>
          <p:cNvSpPr/>
          <p:nvPr/>
        </p:nvSpPr>
        <p:spPr>
          <a:xfrm>
            <a:off x="755640" y="1197000"/>
            <a:ext cx="1943280" cy="127944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126800" y="1531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数学诊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3"/>
          <p:cNvGrpSpPr/>
          <p:nvPr/>
        </p:nvGrpSpPr>
        <p:grpSpPr>
          <a:xfrm>
            <a:off x="3071880" y="1844640"/>
            <a:ext cx="4577760" cy="2763720"/>
            <a:chOff x="3071880" y="1844640"/>
            <a:chExt cx="4577760" cy="2763720"/>
          </a:xfrm>
        </p:grpSpPr>
        <p:sp>
          <p:nvSpPr>
            <p:cNvPr id="408" name="Text Box 14"/>
            <p:cNvSpPr/>
            <p:nvPr/>
          </p:nvSpPr>
          <p:spPr>
            <a:xfrm>
              <a:off x="5060520" y="1844640"/>
              <a:ext cx="10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经过圆心的线段是直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5"/>
            <p:cNvSpPr/>
            <p:nvPr/>
          </p:nvSpPr>
          <p:spPr>
            <a:xfrm>
              <a:off x="5417640" y="2637000"/>
              <a:ext cx="10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圆的直径越长，圆周率越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4628160" y="3387600"/>
              <a:ext cx="23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圆的周长是它直径的    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"/>
            <p:cNvSpPr/>
            <p:nvPr/>
          </p:nvSpPr>
          <p:spPr>
            <a:xfrm>
              <a:off x="7197480" y="33526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3071880" y="4087800"/>
              <a:ext cx="280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π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＝ 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3.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9" descr=""/>
          <p:cNvPicPr/>
          <p:nvPr/>
        </p:nvPicPr>
        <p:blipFill>
          <a:blip r:embed="rId2"/>
          <a:stretch/>
        </p:blipFill>
        <p:spPr>
          <a:xfrm>
            <a:off x="2197080" y="4149720"/>
            <a:ext cx="12952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250920" y="662040"/>
            <a:ext cx="86421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908000" y="5373720"/>
            <a:ext cx="6624360" cy="958680"/>
            <a:chOff x="1908000" y="5373720"/>
            <a:chExt cx="6624360" cy="958680"/>
          </a:xfrm>
        </p:grpSpPr>
        <p:sp>
          <p:nvSpPr>
            <p:cNvPr id="416" name="Text Box 7"/>
            <p:cNvSpPr/>
            <p:nvPr/>
          </p:nvSpPr>
          <p:spPr>
            <a:xfrm>
              <a:off x="1908000" y="5373720"/>
              <a:ext cx="66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2196720" y="575316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WordArt 13" descr=""/>
          <p:cNvPicPr/>
          <p:nvPr/>
        </p:nvPicPr>
        <p:blipFill>
          <a:blip r:embed="rId1"/>
          <a:stretch/>
        </p:blipFill>
        <p:spPr>
          <a:xfrm>
            <a:off x="1835280" y="469800"/>
            <a:ext cx="3382920" cy="97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相信你是最棒的"/>
          <p:cNvPicPr/>
          <p:nvPr/>
        </p:nvPicPr>
        <p:blipFill>
          <a:blip r:embed="rId2"/>
          <a:stretch/>
        </p:blipFill>
        <p:spPr>
          <a:xfrm>
            <a:off x="6410160" y="243000"/>
            <a:ext cx="2521080" cy="14572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32"/>
          <p:cNvSpPr/>
          <p:nvPr/>
        </p:nvSpPr>
        <p:spPr>
          <a:xfrm>
            <a:off x="0" y="1844640"/>
            <a:ext cx="9144000" cy="889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       r            c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÷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 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π            π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7"/>
          <p:cNvSpPr/>
          <p:nvPr/>
        </p:nvSpPr>
        <p:spPr>
          <a:xfrm>
            <a:off x="539640" y="4724280"/>
            <a:ext cx="28728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539640" y="4400640"/>
            <a:ext cx="287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0"/>
          <p:cNvSpPr/>
          <p:nvPr/>
        </p:nvSpPr>
        <p:spPr>
          <a:xfrm>
            <a:off x="539640" y="4653000"/>
            <a:ext cx="287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8964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3924360" y="90792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张圆桌的直径是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0.95</a:t>
            </a:r>
            <a:r>
              <a:rPr b="0" lang="zh-CN" sz="3200" spc="-1" strike="noStrike">
                <a:solidFill>
                  <a:srgbClr val="0000ff"/>
                </a:solidFill>
                <a:latin typeface="Book Antiqua"/>
              </a:rPr>
              <a:t>米。这张圆桌的周长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zh-CN" sz="3200" spc="-1" strike="noStrike">
                <a:solidFill>
                  <a:srgbClr val="ff9933"/>
                </a:solidFill>
                <a:latin typeface="Book Antiqua"/>
              </a:rPr>
              <a:t>（得数保留两位小数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table028s"/>
          <p:cNvPicPr/>
          <p:nvPr/>
        </p:nvPicPr>
        <p:blipFill>
          <a:blip r:embed="rId1"/>
          <a:stretch/>
        </p:blipFill>
        <p:spPr>
          <a:xfrm>
            <a:off x="395280" y="1754280"/>
            <a:ext cx="3456000" cy="3259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mouse012s"/>
          <p:cNvPicPr/>
          <p:nvPr/>
        </p:nvPicPr>
        <p:blipFill>
          <a:blip r:embed="rId2"/>
          <a:stretch/>
        </p:blipFill>
        <p:spPr>
          <a:xfrm>
            <a:off x="108000" y="3621240"/>
            <a:ext cx="1593720" cy="167940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6"/>
          <p:cNvGrpSpPr/>
          <p:nvPr/>
        </p:nvGrpSpPr>
        <p:grpSpPr>
          <a:xfrm>
            <a:off x="5003640" y="2925720"/>
            <a:ext cx="2087640" cy="864720"/>
            <a:chOff x="5003640" y="2925720"/>
            <a:chExt cx="2087640" cy="864720"/>
          </a:xfrm>
        </p:grpSpPr>
        <p:sp>
          <p:nvSpPr>
            <p:cNvPr id="429" name="Rectangle 7"/>
            <p:cNvSpPr/>
            <p:nvPr/>
          </p:nvSpPr>
          <p:spPr>
            <a:xfrm>
              <a:off x="5003640" y="2997000"/>
              <a:ext cx="2087640" cy="792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8"/>
            <p:cNvGrpSpPr/>
            <p:nvPr/>
          </p:nvGrpSpPr>
          <p:grpSpPr>
            <a:xfrm>
              <a:off x="5198400" y="2925720"/>
              <a:ext cx="1731240" cy="864720"/>
              <a:chOff x="5198400" y="2925720"/>
              <a:chExt cx="1731240" cy="864720"/>
            </a:xfrm>
          </p:grpSpPr>
          <p:sp>
            <p:nvSpPr>
              <p:cNvPr id="431" name="Text Box 9"/>
              <p:cNvSpPr/>
              <p:nvPr/>
            </p:nvSpPr>
            <p:spPr>
              <a:xfrm>
                <a:off x="5198400" y="3016080"/>
                <a:ext cx="91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3399"/>
                    </a:solidFill>
                    <a:latin typeface="Georgia"/>
                  </a:rPr>
                  <a:t>C</a:t>
                </a:r>
                <a:r>
                  <a:rPr b="0" lang="zh-CN" sz="4000" spc="-1" strike="noStrike">
                    <a:solidFill>
                      <a:srgbClr val="ff3399"/>
                    </a:solidFill>
                    <a:latin typeface="Arial"/>
                  </a:rPr>
                  <a:t>＝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10"/>
              <p:cNvSpPr/>
              <p:nvPr/>
            </p:nvSpPr>
            <p:spPr>
              <a:xfrm>
                <a:off x="6374160" y="2965320"/>
                <a:ext cx="555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3399"/>
                    </a:solidFill>
                    <a:latin typeface="Monotype Corsiva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1"/>
              <p:cNvSpPr/>
              <p:nvPr/>
            </p:nvSpPr>
            <p:spPr>
              <a:xfrm>
                <a:off x="6009840" y="2925720"/>
                <a:ext cx="566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3399"/>
                    </a:solidFill>
                    <a:latin typeface="Arial"/>
                  </a:rPr>
                  <a:t>π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Rectangle 12"/>
          <p:cNvSpPr/>
          <p:nvPr/>
        </p:nvSpPr>
        <p:spPr>
          <a:xfrm>
            <a:off x="6154920" y="12794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5351040" y="4119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14×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4934520" y="46767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Lucida Console"/>
              </a:rPr>
              <a:t>2.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4775760" y="5157720"/>
            <a:ext cx="3554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zh-CN" sz="1800" spc="-1" strike="noStrike">
                <a:solidFill>
                  <a:srgbClr val="000000"/>
                </a:solidFill>
                <a:latin typeface="Lucida Console"/>
              </a:rPr>
              <a:t>2.98</a:t>
            </a:r>
            <a:r>
              <a:rPr b="0" lang="zh-CN" sz="1800" spc="-1" strike="noStrike">
                <a:solidFill>
                  <a:srgbClr val="000000"/>
                </a:solidFill>
                <a:latin typeface="Lucida Console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Lucida Console"/>
              </a:rPr>
              <a:t>答：这张圆桌的周长大约是</a:t>
            </a:r>
            <a:r>
              <a:rPr b="0" lang="zh-CN" sz="2400" spc="-1" strike="noStrike">
                <a:solidFill>
                  <a:srgbClr val="000000"/>
                </a:solidFill>
                <a:latin typeface="Lucida Console"/>
              </a:rPr>
              <a:t>2.98</a:t>
            </a:r>
            <a:r>
              <a:rPr b="0" lang="zh-CN" sz="2400" spc="-1" strike="noStrike">
                <a:solidFill>
                  <a:srgbClr val="000000"/>
                </a:solidFill>
                <a:latin typeface="Lucida Console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79 1.11111E-006 C -0.24271 0.08403 -0.23594 0.14398 -0.229 0.14398 C -0.22223 0.14398 -0.2165 0.08403 -0.21441 1.11111E-006 C -0.21129 0.08403 -0.20556 0.14398 -0.19879 0.14398 C -0.19202 0.14398 -0.18594 0.08403 -0.18403 1.11111E-006 C -0.18125 0.08403 -0.17535 0.14398 -0.16841 0.14398 C -0.16146 0.14398 -0.15469 0.08403 -0.15295 1.11111E-006 C -0.1507 0.08403 -0.14479 0.14398 -0.13698 0.14398 C -0.13125 0.14398 -0.12448 0.08403 -0.1224 1.11111E-006 C -0.12032 0.08403 -0.11372 0.14398 -0.10695 0.14398 C -0.1 0.14398 -0.09427 0.08403 -0.09219 1.11111E-006 C -0.08924 0.08403 -0.08334 0.14398 -0.07657 0.14398 C -0.06979 0.14398 -0.06372 0.08403 -0.06077 1.11111E-006 C -0.05903 0.08403 -0.05313 0.14398 -0.04618 0.14398 C -0.03924 0.14398 -0.03247 0.08403 -0.03073 1.11111E-006 C -0.02848 0.08403 -0.02257 0.14398 -0.01476 0.14398 C -0.00799 0.14398 -0.00226 0.08403 3.05556E-006 1.11111E-006 E">
                                      <p:cBhvr>
                                        <p:cTn id="34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4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89996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816360" cy="2665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324000" y="9428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一个木桩的横截面周长是</a:t>
            </a:r>
            <a:r>
              <a:rPr b="0" lang="en-US" sz="3600" spc="-1" strike="noStrike">
                <a:solidFill>
                  <a:srgbClr val="0000ff"/>
                </a:solidFill>
                <a:latin typeface="Lucida Console"/>
              </a:rPr>
              <a:t>37.68</a:t>
            </a:r>
            <a:r>
              <a:rPr b="0" lang="zh-CN" sz="3600" spc="-1" strike="noStrike">
                <a:solidFill>
                  <a:srgbClr val="0000ff"/>
                </a:solidFill>
                <a:latin typeface="Lucida Console"/>
              </a:rPr>
              <a:t>米。它的直径是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frog011s"/>
          <p:cNvPicPr/>
          <p:nvPr/>
        </p:nvPicPr>
        <p:blipFill>
          <a:blip r:embed="rId2"/>
          <a:stretch/>
        </p:blipFill>
        <p:spPr>
          <a:xfrm rot="21156000">
            <a:off x="7093080" y="2787120"/>
            <a:ext cx="131436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6"/>
          <p:cNvGrpSpPr/>
          <p:nvPr/>
        </p:nvGrpSpPr>
        <p:grpSpPr>
          <a:xfrm>
            <a:off x="1763640" y="2276640"/>
            <a:ext cx="2087640" cy="864360"/>
            <a:chOff x="1763640" y="2276640"/>
            <a:chExt cx="2087640" cy="864360"/>
          </a:xfrm>
        </p:grpSpPr>
        <p:sp>
          <p:nvSpPr>
            <p:cNvPr id="443" name="Rectangle 7"/>
            <p:cNvSpPr/>
            <p:nvPr/>
          </p:nvSpPr>
          <p:spPr>
            <a:xfrm>
              <a:off x="1763640" y="2347560"/>
              <a:ext cx="2087640" cy="79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8"/>
            <p:cNvGrpSpPr/>
            <p:nvPr/>
          </p:nvGrpSpPr>
          <p:grpSpPr>
            <a:xfrm>
              <a:off x="1958400" y="2276640"/>
              <a:ext cx="1731240" cy="864360"/>
              <a:chOff x="1958400" y="2276640"/>
              <a:chExt cx="1731240" cy="864360"/>
            </a:xfrm>
          </p:grpSpPr>
          <p:sp>
            <p:nvSpPr>
              <p:cNvPr id="445" name="Text Box 9"/>
              <p:cNvSpPr/>
              <p:nvPr/>
            </p:nvSpPr>
            <p:spPr>
              <a:xfrm>
                <a:off x="1958400" y="2366640"/>
                <a:ext cx="91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3399"/>
                    </a:solidFill>
                    <a:latin typeface="Georgia"/>
                  </a:rPr>
                  <a:t>C</a:t>
                </a:r>
                <a:r>
                  <a:rPr b="0" lang="zh-CN" sz="4000" spc="-1" strike="noStrike">
                    <a:solidFill>
                      <a:srgbClr val="ff3399"/>
                    </a:solidFill>
                    <a:latin typeface="Arial"/>
                  </a:rPr>
                  <a:t>＝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0"/>
              <p:cNvSpPr/>
              <p:nvPr/>
            </p:nvSpPr>
            <p:spPr>
              <a:xfrm>
                <a:off x="3134160" y="2315880"/>
                <a:ext cx="555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3399"/>
                    </a:solidFill>
                    <a:latin typeface="Monotype Corsiva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1"/>
              <p:cNvSpPr/>
              <p:nvPr/>
            </p:nvSpPr>
            <p:spPr>
              <a:xfrm>
                <a:off x="2769840" y="2276640"/>
                <a:ext cx="566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3399"/>
                    </a:solidFill>
                    <a:latin typeface="Arial"/>
                  </a:rPr>
                  <a:t>π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12"/>
          <p:cNvSpPr/>
          <p:nvPr/>
        </p:nvSpPr>
        <p:spPr>
          <a:xfrm>
            <a:off x="868320" y="3521160"/>
            <a:ext cx="38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法一：用方程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        </a:t>
            </a:r>
            <a:r>
              <a:rPr b="0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设直径为</a:t>
            </a:r>
            <a:r>
              <a:rPr b="0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x</a:t>
            </a:r>
            <a:r>
              <a:rPr b="0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780840" y="4816440"/>
            <a:ext cx="41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法二：用算术方法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        </a:t>
            </a:r>
            <a:r>
              <a:rPr b="0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直径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＝周长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÷ 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0.43056 C 0.22778 0.28982 0.2283 0.14908 0.22413 0.13889 C 0.21996 0.12871 0.2092 0.38889 0.20278 0.36945 C 0.19618 0.35 0.19253 0.04537 0.18455 0.02223 C 0.17673 -0.000920000000000001 0.1625 0.24723 0.15486 0.23056 C 0.14722 0.21389 0.14462 -0.0625 0.13854 -0.07777 C 0.13194 -0.09305 0.12587 0.11436 0.11701 0.13889 C 0.10816 0.16343 0.10538 0.0926 0.08559 0.06945 C 0.06614 0.0463 0.03298 0.02315 2.22222E-006 -3.7037E-006 E">
                                      <p:cBhvr>
                                        <p:cTn id="38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图片12"/>
          <p:cNvPicPr/>
          <p:nvPr/>
        </p:nvPicPr>
        <p:blipFill>
          <a:blip r:embed="rId1"/>
          <a:srcRect l="0" t="0" r="0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684360" y="134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轮胎的半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它滚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前进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919520" y="278136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下列解法哪个对？（              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1187280" y="345600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3.14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0.3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397880" y="4121280"/>
            <a:ext cx="40129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000÷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3.14×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187280" y="4797360"/>
            <a:ext cx="57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×3.14×0.3×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826920" y="62064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11"/>
          <p:cNvSpPr txBox="1"/>
          <p:nvPr/>
        </p:nvSpPr>
        <p:spPr>
          <a:xfrm>
            <a:off x="2843280" y="333360"/>
            <a:ext cx="259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开心辞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6156360" y="3808440"/>
            <a:ext cx="496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u=3199417319,4271941100&amp;fm=0&amp;gp=16"/>
          <p:cNvPicPr/>
          <p:nvPr/>
        </p:nvPicPr>
        <p:blipFill>
          <a:blip r:embed="rId2"/>
          <a:stretch/>
        </p:blipFill>
        <p:spPr>
          <a:xfrm>
            <a:off x="5867280" y="3816360"/>
            <a:ext cx="277812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摩天轮的半径是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米，坐着它转动一周是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" descr="u=2607155967,1981469091&amp;fm=0&amp;gp=42"/>
          <p:cNvPicPr/>
          <p:nvPr/>
        </p:nvPicPr>
        <p:blipFill>
          <a:blip r:embed="rId1"/>
          <a:stretch/>
        </p:blipFill>
        <p:spPr>
          <a:xfrm>
            <a:off x="6300720" y="2708280"/>
            <a:ext cx="2519280" cy="3529080"/>
          </a:xfrm>
          <a:prstGeom prst="rect">
            <a:avLst/>
          </a:prstGeom>
          <a:ln w="0">
            <a:noFill/>
          </a:ln>
        </p:spPr>
      </p:pic>
      <p:sp>
        <p:nvSpPr>
          <p:cNvPr id="462" name="WordArt 7"/>
          <p:cNvSpPr txBox="1"/>
          <p:nvPr/>
        </p:nvSpPr>
        <p:spPr>
          <a:xfrm>
            <a:off x="2843280" y="476280"/>
            <a:ext cx="244944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冒险岛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607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0" y="2060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小明的妈妈在自家的墙根下建了一个花坛（如图）。你能计算出花坛的周长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ubChord"/>
          <p:cNvSpPr/>
          <p:nvPr/>
        </p:nvSpPr>
        <p:spPr>
          <a:xfrm rot="18881400">
            <a:off x="5291640" y="333720"/>
            <a:ext cx="3456000" cy="3454560"/>
          </a:xfrm>
          <a:custGeom>
            <a:avLst/>
            <a:gdLst>
              <a:gd name="textAreaLeft" fmla="*/ 505800 w 3456000"/>
              <a:gd name="textAreaRight" fmla="*/ 2950200 w 3456000"/>
              <a:gd name="textAreaTop" fmla="*/ 505800 h 3454560"/>
              <a:gd name="textAreaBottom" fmla="*/ 2948760 h 345456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9900"/>
          </a:solidFill>
          <a:ln w="63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 rot="5400000">
            <a:off x="6804000" y="117000"/>
            <a:ext cx="433440" cy="3456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558480" y="98100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8"/>
          <p:cNvSpPr txBox="1"/>
          <p:nvPr/>
        </p:nvSpPr>
        <p:spPr>
          <a:xfrm>
            <a:off x="395280" y="115920"/>
            <a:ext cx="4175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勇攀高峰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uu"/>
          <p:cNvPicPr/>
          <p:nvPr/>
        </p:nvPicPr>
        <p:blipFill>
          <a:blip r:embed="rId1"/>
          <a:stretch/>
        </p:blipFill>
        <p:spPr>
          <a:xfrm>
            <a:off x="-490680" y="0"/>
            <a:ext cx="1020924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"/>
          <p:cNvSpPr/>
          <p:nvPr/>
        </p:nvSpPr>
        <p:spPr>
          <a:xfrm>
            <a:off x="3247200" y="1441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彩云"/>
              </a:rPr>
              <a:t>恭喜你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039480" y="36734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彩云"/>
              </a:rPr>
              <a:t>顺利过关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765"/>
          <p:cNvPicPr/>
          <p:nvPr/>
        </p:nvPicPr>
        <p:blipFill>
          <a:blip r:embed="rId1"/>
          <a:stretch/>
        </p:blipFill>
        <p:spPr>
          <a:xfrm>
            <a:off x="574560" y="357120"/>
            <a:ext cx="8926560" cy="675324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4067280" y="5516640"/>
            <a:ext cx="3529080" cy="1010160"/>
            <a:chOff x="4067280" y="5516640"/>
            <a:chExt cx="3529080" cy="1010160"/>
          </a:xfrm>
        </p:grpSpPr>
        <p:sp>
          <p:nvSpPr>
            <p:cNvPr id="475" name="Freeform 5"/>
            <p:cNvSpPr/>
            <p:nvPr/>
          </p:nvSpPr>
          <p:spPr>
            <a:xfrm>
              <a:off x="4067280" y="5516640"/>
              <a:ext cx="3313080" cy="100800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6"/>
            <p:cNvSpPr/>
            <p:nvPr/>
          </p:nvSpPr>
          <p:spPr>
            <a:xfrm>
              <a:off x="4427640" y="576252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7"/>
          <p:cNvSpPr/>
          <p:nvPr/>
        </p:nvSpPr>
        <p:spPr>
          <a:xfrm>
            <a:off x="1214280" y="9288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今天我学习了圆周长的知识。我知道圆周率是（    ）和（    ）的比值，它用字母（  ）表示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它是我国古代数学家（      ）发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250920" y="4005360"/>
            <a:ext cx="2520720" cy="252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250920" y="4005360"/>
            <a:ext cx="2519280" cy="2519280"/>
          </a:xfrm>
          <a:prstGeom prst="ellipse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1476360" y="5229360"/>
            <a:ext cx="142920" cy="1429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1130040" y="531972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楷体_GB2312"/>
              </a:rPr>
              <a:t>直径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50920" y="530064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514440" y="458136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≈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3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>
            <a:off x="3368520" y="1392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5363640" y="139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7"/>
          <p:cNvSpPr/>
          <p:nvPr/>
        </p:nvSpPr>
        <p:spPr>
          <a:xfrm>
            <a:off x="2185560" y="2328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祖冲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1000080" y="296532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我还知道圆的周长总是直径的（   ）倍。已知圆的直径就可以用公式（       ）求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；    已知圆的半径就可以用公式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求周长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反之，已知圆周长可求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直径和半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7076880" y="298116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20"/>
          <p:cNvGrpSpPr/>
          <p:nvPr/>
        </p:nvGrpSpPr>
        <p:grpSpPr>
          <a:xfrm>
            <a:off x="5761800" y="3357720"/>
            <a:ext cx="1229400" cy="577440"/>
            <a:chOff x="5761800" y="3357720"/>
            <a:chExt cx="1229400" cy="577440"/>
          </a:xfrm>
        </p:grpSpPr>
        <p:sp>
          <p:nvSpPr>
            <p:cNvPr id="490" name="Text Box 21"/>
            <p:cNvSpPr/>
            <p:nvPr/>
          </p:nvSpPr>
          <p:spPr>
            <a:xfrm>
              <a:off x="5761800" y="3387600"/>
              <a:ext cx="71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eorgia"/>
                  <a:ea typeface="楷体_GB2312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2"/>
            <p:cNvSpPr/>
            <p:nvPr/>
          </p:nvSpPr>
          <p:spPr>
            <a:xfrm>
              <a:off x="6586560" y="341460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Monotype Corsiva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3"/>
            <p:cNvSpPr/>
            <p:nvPr/>
          </p:nvSpPr>
          <p:spPr>
            <a:xfrm>
              <a:off x="6343560" y="335772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4"/>
          <p:cNvGrpSpPr/>
          <p:nvPr/>
        </p:nvGrpSpPr>
        <p:grpSpPr>
          <a:xfrm>
            <a:off x="6854040" y="3824280"/>
            <a:ext cx="1444320" cy="534600"/>
            <a:chOff x="6854040" y="3824280"/>
            <a:chExt cx="1444320" cy="534600"/>
          </a:xfrm>
        </p:grpSpPr>
        <p:sp>
          <p:nvSpPr>
            <p:cNvPr id="494" name="Text Box 25"/>
            <p:cNvSpPr/>
            <p:nvPr/>
          </p:nvSpPr>
          <p:spPr>
            <a:xfrm>
              <a:off x="6854040" y="3824280"/>
              <a:ext cx="71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eorgia"/>
                  <a:ea typeface="楷体_GB2312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6"/>
            <p:cNvSpPr/>
            <p:nvPr/>
          </p:nvSpPr>
          <p:spPr>
            <a:xfrm>
              <a:off x="7956000" y="3824280"/>
              <a:ext cx="3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Monotype Corsiva"/>
                  <a:ea typeface="楷体_GB2312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7"/>
            <p:cNvSpPr/>
            <p:nvPr/>
          </p:nvSpPr>
          <p:spPr>
            <a:xfrm>
              <a:off x="7530480" y="383832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Monotype Corsiva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28" descr=""/>
          <p:cNvPicPr/>
          <p:nvPr/>
        </p:nvPicPr>
        <p:blipFill>
          <a:blip r:embed="rId2"/>
          <a:stretch/>
        </p:blipFill>
        <p:spPr>
          <a:xfrm>
            <a:off x="7236000" y="4871880"/>
            <a:ext cx="1666800" cy="20862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0"/>
          <p:cNvSpPr/>
          <p:nvPr/>
        </p:nvSpPr>
        <p:spPr>
          <a:xfrm>
            <a:off x="3051000" y="18241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611280" y="333360"/>
            <a:ext cx="6264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00" name="Picture 3" descr="u=2235571723,2584506015&amp;fm=0&amp;gp=-38"/>
          <p:cNvPicPr/>
          <p:nvPr/>
        </p:nvPicPr>
        <p:blipFill>
          <a:blip r:embed="rId1"/>
          <a:stretch/>
        </p:blipFill>
        <p:spPr>
          <a:xfrm>
            <a:off x="5003640" y="3500280"/>
            <a:ext cx="3672000" cy="28418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4"/>
          <p:cNvSpPr/>
          <p:nvPr/>
        </p:nvSpPr>
        <p:spPr>
          <a:xfrm>
            <a:off x="5003640" y="5950080"/>
            <a:ext cx="2592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468360" y="5373720"/>
            <a:ext cx="25909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9966"/>
                </a:solidFill>
                <a:latin typeface="Arial"/>
              </a:rPr>
              <a:t>你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95280" y="404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5148360" y="105408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2556000" y="1198440"/>
            <a:ext cx="3744720" cy="3743280"/>
          </a:xfrm>
          <a:prstGeom prst="ellipse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987640" y="5516640"/>
            <a:ext cx="2957400" cy="642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圆的周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0532 C 0.02639 -0.00532 0.12205 0.12269 0.12205 0.28056 C 0.12205 0.43819 0.02639 0.5669 -0.0908 0.5669 C -0.20816 0.5669 -0.30313 0.43819 -0.30313 0.28056 C -0.30313 0.12269 -0.20816 -0.00532 -0.0908 -0.00532 Z">
                                      <p:cBhvr>
                                        <p:cTn id="57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yuese"/>
          <p:cNvPicPr/>
          <p:nvPr/>
        </p:nvPicPr>
        <p:blipFill>
          <a:blip r:embed="rId1"/>
          <a:stretch/>
        </p:blipFill>
        <p:spPr>
          <a:xfrm>
            <a:off x="-422280" y="0"/>
            <a:ext cx="10206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3"/>
          <p:cNvSpPr txBox="1"/>
          <p:nvPr/>
        </p:nvSpPr>
        <p:spPr>
          <a:xfrm>
            <a:off x="1836720" y="2924280"/>
            <a:ext cx="590400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圆的面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Oval 4"/>
          <p:cNvSpPr/>
          <p:nvPr/>
        </p:nvSpPr>
        <p:spPr>
          <a:xfrm>
            <a:off x="1042920" y="5646600"/>
            <a:ext cx="2298600" cy="59076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圆面积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"/>
          <p:cNvSpPr/>
          <p:nvPr/>
        </p:nvSpPr>
        <p:spPr>
          <a:xfrm>
            <a:off x="3564000" y="5646600"/>
            <a:ext cx="2298600" cy="59076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面积公式推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6"/>
          <p:cNvSpPr/>
          <p:nvPr/>
        </p:nvSpPr>
        <p:spPr>
          <a:xfrm>
            <a:off x="6516720" y="5646600"/>
            <a:ext cx="1722240" cy="59076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4" descr=""/>
          <p:cNvPicPr/>
          <p:nvPr/>
        </p:nvPicPr>
        <p:blipFill>
          <a:blip r:embed="rId1"/>
          <a:stretch/>
        </p:blipFill>
        <p:spPr>
          <a:xfrm>
            <a:off x="-139680" y="0"/>
            <a:ext cx="9569520" cy="69613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3"/>
          <p:cNvSpPr/>
          <p:nvPr/>
        </p:nvSpPr>
        <p:spPr>
          <a:xfrm>
            <a:off x="7760880" y="1628640"/>
            <a:ext cx="57384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2925000" y="4889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面积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5"/>
          <p:cNvSpPr/>
          <p:nvPr/>
        </p:nvSpPr>
        <p:spPr>
          <a:xfrm>
            <a:off x="971640" y="2565360"/>
            <a:ext cx="2808360" cy="13669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6"/>
          <p:cNvSpPr/>
          <p:nvPr/>
        </p:nvSpPr>
        <p:spPr>
          <a:xfrm>
            <a:off x="4572000" y="2292480"/>
            <a:ext cx="1728720" cy="16412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5"/>
          <p:cNvSpPr/>
          <p:nvPr/>
        </p:nvSpPr>
        <p:spPr>
          <a:xfrm>
            <a:off x="971640" y="2567160"/>
            <a:ext cx="2808360" cy="1366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0"/>
          <p:cNvSpPr/>
          <p:nvPr/>
        </p:nvSpPr>
        <p:spPr>
          <a:xfrm>
            <a:off x="971640" y="2565360"/>
            <a:ext cx="2808360" cy="1366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6"/>
          <p:cNvSpPr/>
          <p:nvPr/>
        </p:nvSpPr>
        <p:spPr>
          <a:xfrm>
            <a:off x="4572000" y="2292480"/>
            <a:ext cx="1728720" cy="164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1"/>
          <p:cNvSpPr/>
          <p:nvPr/>
        </p:nvSpPr>
        <p:spPr>
          <a:xfrm>
            <a:off x="4572000" y="2292480"/>
            <a:ext cx="1728720" cy="164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250" autoRev="1" fill="hold"/>
                                        <p:tgtEl>
                                          <p:spTgt spid="5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2571120" y="5060880"/>
            <a:ext cx="46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圆所占平面的大小叫做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圆的面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4"/>
          <p:cNvSpPr/>
          <p:nvPr/>
        </p:nvSpPr>
        <p:spPr>
          <a:xfrm>
            <a:off x="2666880" y="1066680"/>
            <a:ext cx="3581640" cy="3581640"/>
          </a:xfrm>
          <a:prstGeom prst="ellipse">
            <a:avLst/>
          </a:prstGeom>
          <a:solidFill>
            <a:srgbClr val="d9d8ec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5"/>
          <p:cNvSpPr/>
          <p:nvPr/>
        </p:nvSpPr>
        <p:spPr>
          <a:xfrm>
            <a:off x="2646360" y="1071720"/>
            <a:ext cx="3581280" cy="358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6"/>
          <p:cNvSpPr/>
          <p:nvPr/>
        </p:nvSpPr>
        <p:spPr>
          <a:xfrm>
            <a:off x="2646360" y="1071720"/>
            <a:ext cx="3581280" cy="3581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7"/>
          <p:cNvSpPr/>
          <p:nvPr/>
        </p:nvSpPr>
        <p:spPr>
          <a:xfrm>
            <a:off x="324000" y="5805360"/>
            <a:ext cx="1295280" cy="5907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Arial"/>
              </a:rPr>
              <a:t>返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7760880" y="1628640"/>
            <a:ext cx="57384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1620720" y="2349360"/>
            <a:ext cx="3095640" cy="169092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2948" h="1134">
                <a:moveTo>
                  <a:pt x="1088" y="0"/>
                </a:moveTo>
                <a:lnTo>
                  <a:pt x="0" y="1134"/>
                </a:lnTo>
                <a:lnTo>
                  <a:pt x="2948" y="1134"/>
                </a:lnTo>
                <a:lnTo>
                  <a:pt x="1088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7"/>
          <p:cNvSpPr/>
          <p:nvPr/>
        </p:nvSpPr>
        <p:spPr>
          <a:xfrm rot="10800000">
            <a:off x="2771280" y="2348640"/>
            <a:ext cx="3095640" cy="169092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2948" h="1134">
                <a:moveTo>
                  <a:pt x="1088" y="0"/>
                </a:moveTo>
                <a:lnTo>
                  <a:pt x="0" y="1134"/>
                </a:lnTo>
                <a:lnTo>
                  <a:pt x="2948" y="1134"/>
                </a:lnTo>
                <a:lnTo>
                  <a:pt x="10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8"/>
          <p:cNvSpPr/>
          <p:nvPr/>
        </p:nvSpPr>
        <p:spPr>
          <a:xfrm flipH="1" flipV="1" rot="10800000">
            <a:off x="1618200" y="2348280"/>
            <a:ext cx="3095640" cy="1690920"/>
          </a:xfrm>
          <a:custGeom>
            <a:avLst/>
            <a:gdLst>
              <a:gd name="textAreaLeft" fmla="*/ -360 w 3095640"/>
              <a:gd name="textAreaRight" fmla="*/ 3095640 w 3095640"/>
              <a:gd name="textAreaTop" fmla="*/ -360 h 1690920"/>
              <a:gd name="textAreaBottom" fmla="*/ 1690920 h 1690920"/>
            </a:gdLst>
            <a:ahLst/>
            <a:rect l="textAreaLeft" t="textAreaTop" r="textAreaRight" b="textAreaBottom"/>
            <a:pathLst>
              <a:path w="2948" h="1134">
                <a:moveTo>
                  <a:pt x="1088" y="0"/>
                </a:moveTo>
                <a:lnTo>
                  <a:pt x="0" y="1134"/>
                </a:lnTo>
                <a:lnTo>
                  <a:pt x="2948" y="1134"/>
                </a:lnTo>
                <a:lnTo>
                  <a:pt x="108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9"/>
          <p:cNvSpPr/>
          <p:nvPr/>
        </p:nvSpPr>
        <p:spPr>
          <a:xfrm>
            <a:off x="1908000" y="472428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你还记得三角形、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面积的推导过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0.13767 0.00278 E">
                                      <p:cBhvr>
                                        <p:cTn id="64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5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4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7760880" y="1628640"/>
            <a:ext cx="57384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/>
          <p:cNvSpPr/>
          <p:nvPr/>
        </p:nvSpPr>
        <p:spPr>
          <a:xfrm flipV="1">
            <a:off x="1332000" y="2275560"/>
            <a:ext cx="4319640" cy="2014200"/>
          </a:xfrm>
          <a:custGeom>
            <a:avLst/>
            <a:gdLst>
              <a:gd name="textAreaLeft" fmla="*/ 900000 w 4319640"/>
              <a:gd name="textAreaRight" fmla="*/ 3420000 w 4319640"/>
              <a:gd name="textAreaTop" fmla="*/ 419400 h 2014200"/>
              <a:gd name="textAreaBottom" fmla="*/ 1594800 h 20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 flipH="1" flipV="1">
            <a:off x="4571280" y="2276640"/>
            <a:ext cx="1081080" cy="2016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2411280" y="227664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"/>
          <p:cNvSpPr/>
          <p:nvPr/>
        </p:nvSpPr>
        <p:spPr>
          <a:xfrm flipH="1">
            <a:off x="1185840" y="2205000"/>
            <a:ext cx="1225440" cy="2158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/>
          <p:cNvSpPr/>
          <p:nvPr/>
        </p:nvSpPr>
        <p:spPr>
          <a:xfrm flipH="1">
            <a:off x="1329480" y="2276640"/>
            <a:ext cx="1081080" cy="2016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1908000" y="472428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你还记得三角形、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面积的推导过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4.81481E-006 L 0.35851 4.81481E-006 E">
                                      <p:cBhvr>
                                        <p:cTn id="67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5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900000" y="2060640"/>
            <a:ext cx="223200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572000" y="1557360"/>
            <a:ext cx="3168720" cy="316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900000" y="2060640"/>
            <a:ext cx="2232000" cy="223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4572000" y="1557360"/>
            <a:ext cx="3168720" cy="3168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3"/>
          <p:cNvGrpSpPr/>
          <p:nvPr/>
        </p:nvGrpSpPr>
        <p:grpSpPr>
          <a:xfrm>
            <a:off x="900000" y="3141720"/>
            <a:ext cx="2232000" cy="144360"/>
            <a:chOff x="900000" y="3141720"/>
            <a:chExt cx="2232000" cy="144360"/>
          </a:xfrm>
        </p:grpSpPr>
        <p:sp>
          <p:nvSpPr>
            <p:cNvPr id="543" name="Line 9"/>
            <p:cNvSpPr/>
            <p:nvPr/>
          </p:nvSpPr>
          <p:spPr>
            <a:xfrm>
              <a:off x="900000" y="3213000"/>
              <a:ext cx="22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1"/>
            <p:cNvSpPr/>
            <p:nvPr/>
          </p:nvSpPr>
          <p:spPr>
            <a:xfrm>
              <a:off x="1979640" y="314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4"/>
          <p:cNvGrpSpPr/>
          <p:nvPr/>
        </p:nvGrpSpPr>
        <p:grpSpPr>
          <a:xfrm>
            <a:off x="4572000" y="3141720"/>
            <a:ext cx="3168720" cy="144360"/>
            <a:chOff x="4572000" y="3141720"/>
            <a:chExt cx="3168720" cy="144360"/>
          </a:xfrm>
        </p:grpSpPr>
        <p:sp>
          <p:nvSpPr>
            <p:cNvPr id="546" name="Line 10"/>
            <p:cNvSpPr/>
            <p:nvPr/>
          </p:nvSpPr>
          <p:spPr>
            <a:xfrm>
              <a:off x="4572000" y="3213000"/>
              <a:ext cx="31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2"/>
            <p:cNvSpPr/>
            <p:nvPr/>
          </p:nvSpPr>
          <p:spPr>
            <a:xfrm>
              <a:off x="6084720" y="314172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16"/>
          <p:cNvSpPr/>
          <p:nvPr/>
        </p:nvSpPr>
        <p:spPr>
          <a:xfrm>
            <a:off x="1332000" y="5286240"/>
            <a:ext cx="73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猜一猜：圆的面积和什么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"/>
          <p:cNvSpPr/>
          <p:nvPr/>
        </p:nvSpPr>
        <p:spPr>
          <a:xfrm>
            <a:off x="2484360" y="1773360"/>
            <a:ext cx="3888000" cy="38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ubChord"/>
          <p:cNvSpPr/>
          <p:nvPr/>
        </p:nvSpPr>
        <p:spPr>
          <a:xfrm rot="18928200">
            <a:off x="2484360" y="1773000"/>
            <a:ext cx="3888000" cy="3887640"/>
          </a:xfrm>
          <a:custGeom>
            <a:avLst/>
            <a:gdLst>
              <a:gd name="textAreaLeft" fmla="*/ 569160 w 3888000"/>
              <a:gd name="textAreaRight" fmla="*/ 3318840 w 3888000"/>
              <a:gd name="textAreaTop" fmla="*/ 569160 h 3887640"/>
              <a:gd name="textAreaBottom" fmla="*/ 3318480 h 388764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5"/>
          <p:cNvGrpSpPr/>
          <p:nvPr/>
        </p:nvGrpSpPr>
        <p:grpSpPr>
          <a:xfrm>
            <a:off x="2627280" y="1773360"/>
            <a:ext cx="3600360" cy="3887640"/>
            <a:chOff x="2627280" y="1773360"/>
            <a:chExt cx="3600360" cy="3887640"/>
          </a:xfrm>
        </p:grpSpPr>
        <p:sp>
          <p:nvSpPr>
            <p:cNvPr id="553" name="Line 6"/>
            <p:cNvSpPr/>
            <p:nvPr/>
          </p:nvSpPr>
          <p:spPr>
            <a:xfrm>
              <a:off x="4427280" y="177336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7"/>
            <p:cNvSpPr/>
            <p:nvPr/>
          </p:nvSpPr>
          <p:spPr>
            <a:xfrm flipH="1">
              <a:off x="305856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8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9"/>
            <p:cNvSpPr/>
            <p:nvPr/>
          </p:nvSpPr>
          <p:spPr>
            <a:xfrm flipV="1">
              <a:off x="3635280" y="1917360"/>
              <a:ext cx="158436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0"/>
            <p:cNvSpPr/>
            <p:nvPr/>
          </p:nvSpPr>
          <p:spPr>
            <a:xfrm>
              <a:off x="3708360" y="1917720"/>
              <a:ext cx="143964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V="1">
              <a:off x="2627280" y="2925360"/>
              <a:ext cx="360036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2627280" y="2997360"/>
              <a:ext cx="3600360" cy="14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4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74320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3030480" y="2565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3386160" y="2212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3919680" y="2060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452916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0"/>
          <p:cNvSpPr/>
          <p:nvPr/>
        </p:nvSpPr>
        <p:spPr>
          <a:xfrm>
            <a:off x="5062680" y="2136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5407200" y="2633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562284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5672160" y="37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4"/>
          <p:cNvSpPr/>
          <p:nvPr/>
        </p:nvSpPr>
        <p:spPr>
          <a:xfrm>
            <a:off x="5364000" y="4218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4932360" y="4649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4356000" y="486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7"/>
          <p:cNvSpPr/>
          <p:nvPr/>
        </p:nvSpPr>
        <p:spPr>
          <a:xfrm>
            <a:off x="3851280" y="4865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8"/>
          <p:cNvSpPr/>
          <p:nvPr/>
        </p:nvSpPr>
        <p:spPr>
          <a:xfrm>
            <a:off x="3276720" y="4649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9"/>
          <p:cNvSpPr/>
          <p:nvPr/>
        </p:nvSpPr>
        <p:spPr>
          <a:xfrm>
            <a:off x="2949480" y="421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0"/>
          <p:cNvSpPr/>
          <p:nvPr/>
        </p:nvSpPr>
        <p:spPr>
          <a:xfrm>
            <a:off x="2700360" y="3713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51" descr=""/>
          <p:cNvPicPr/>
          <p:nvPr/>
        </p:nvPicPr>
        <p:blipFill>
          <a:blip r:embed="rId1"/>
          <a:stretch/>
        </p:blipFill>
        <p:spPr>
          <a:xfrm>
            <a:off x="2481120" y="1782720"/>
            <a:ext cx="4467240" cy="1933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2" descr=""/>
          <p:cNvPicPr/>
          <p:nvPr/>
        </p:nvPicPr>
        <p:blipFill>
          <a:blip r:embed="rId2"/>
          <a:stretch/>
        </p:blipFill>
        <p:spPr>
          <a:xfrm>
            <a:off x="2481120" y="3714840"/>
            <a:ext cx="4124520" cy="201924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88"/>
          <p:cNvGrpSpPr/>
          <p:nvPr/>
        </p:nvGrpSpPr>
        <p:grpSpPr>
          <a:xfrm>
            <a:off x="1405080" y="1330200"/>
            <a:ext cx="6335640" cy="2603520"/>
            <a:chOff x="1405080" y="1330200"/>
            <a:chExt cx="6335640" cy="2603520"/>
          </a:xfrm>
        </p:grpSpPr>
        <p:pic>
          <p:nvPicPr>
            <p:cNvPr id="582" name="Picture 86" descr="df"/>
            <p:cNvPicPr/>
            <p:nvPr/>
          </p:nvPicPr>
          <p:blipFill>
            <a:blip r:embed="rId3"/>
            <a:stretch/>
          </p:blipFill>
          <p:spPr>
            <a:xfrm>
              <a:off x="1405080" y="133020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Group 87"/>
            <p:cNvGrpSpPr/>
            <p:nvPr/>
          </p:nvGrpSpPr>
          <p:grpSpPr>
            <a:xfrm>
              <a:off x="1814400" y="1949400"/>
              <a:ext cx="5710320" cy="392040"/>
              <a:chOff x="1814400" y="1949400"/>
              <a:chExt cx="5710320" cy="392040"/>
            </a:xfrm>
          </p:grpSpPr>
          <p:sp>
            <p:nvSpPr>
              <p:cNvPr id="584" name="Text Box 74"/>
              <p:cNvSpPr/>
              <p:nvPr/>
            </p:nvSpPr>
            <p:spPr>
              <a:xfrm>
                <a:off x="1814400" y="197316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75"/>
              <p:cNvSpPr/>
              <p:nvPr/>
            </p:nvSpPr>
            <p:spPr>
              <a:xfrm>
                <a:off x="2533680" y="19494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76"/>
              <p:cNvSpPr/>
              <p:nvPr/>
            </p:nvSpPr>
            <p:spPr>
              <a:xfrm>
                <a:off x="3254400" y="19494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77"/>
              <p:cNvSpPr/>
              <p:nvPr/>
            </p:nvSpPr>
            <p:spPr>
              <a:xfrm>
                <a:off x="3902040" y="19494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78"/>
              <p:cNvSpPr/>
              <p:nvPr/>
            </p:nvSpPr>
            <p:spPr>
              <a:xfrm>
                <a:off x="4622760" y="19494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79"/>
              <p:cNvSpPr/>
              <p:nvPr/>
            </p:nvSpPr>
            <p:spPr>
              <a:xfrm>
                <a:off x="5270400" y="197316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80"/>
              <p:cNvSpPr/>
              <p:nvPr/>
            </p:nvSpPr>
            <p:spPr>
              <a:xfrm>
                <a:off x="5918040" y="197316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81"/>
              <p:cNvSpPr/>
              <p:nvPr/>
            </p:nvSpPr>
            <p:spPr>
              <a:xfrm>
                <a:off x="6638760" y="197316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111"/>
          <p:cNvGrpSpPr/>
          <p:nvPr/>
        </p:nvGrpSpPr>
        <p:grpSpPr>
          <a:xfrm>
            <a:off x="1042920" y="3429000"/>
            <a:ext cx="6335640" cy="2602080"/>
            <a:chOff x="1042920" y="3429000"/>
            <a:chExt cx="6335640" cy="2602080"/>
          </a:xfrm>
        </p:grpSpPr>
        <p:pic>
          <p:nvPicPr>
            <p:cNvPr id="593" name="Picture 89" descr="rgf"/>
            <p:cNvPicPr/>
            <p:nvPr/>
          </p:nvPicPr>
          <p:blipFill>
            <a:blip r:embed="rId4"/>
            <a:stretch/>
          </p:blipFill>
          <p:spPr>
            <a:xfrm>
              <a:off x="1042920" y="342900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4" name="Group 110"/>
            <p:cNvGrpSpPr/>
            <p:nvPr/>
          </p:nvGrpSpPr>
          <p:grpSpPr>
            <a:xfrm>
              <a:off x="1329840" y="4797360"/>
              <a:ext cx="5832000" cy="392040"/>
              <a:chOff x="1329840" y="4797360"/>
              <a:chExt cx="5832000" cy="392040"/>
            </a:xfrm>
          </p:grpSpPr>
          <p:sp>
            <p:nvSpPr>
              <p:cNvPr id="595" name="Text Box 102"/>
              <p:cNvSpPr/>
              <p:nvPr/>
            </p:nvSpPr>
            <p:spPr>
              <a:xfrm>
                <a:off x="1329840" y="48211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103"/>
              <p:cNvSpPr/>
              <p:nvPr/>
            </p:nvSpPr>
            <p:spPr>
              <a:xfrm>
                <a:off x="2048760" y="479736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104"/>
              <p:cNvSpPr/>
              <p:nvPr/>
            </p:nvSpPr>
            <p:spPr>
              <a:xfrm>
                <a:off x="2769480" y="479736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105"/>
              <p:cNvSpPr/>
              <p:nvPr/>
            </p:nvSpPr>
            <p:spPr>
              <a:xfrm>
                <a:off x="3417120" y="479736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106"/>
              <p:cNvSpPr/>
              <p:nvPr/>
            </p:nvSpPr>
            <p:spPr>
              <a:xfrm>
                <a:off x="4137840" y="479736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107"/>
              <p:cNvSpPr/>
              <p:nvPr/>
            </p:nvSpPr>
            <p:spPr>
              <a:xfrm>
                <a:off x="4785480" y="48211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108"/>
              <p:cNvSpPr/>
              <p:nvPr/>
            </p:nvSpPr>
            <p:spPr>
              <a:xfrm>
                <a:off x="5484240" y="4821120"/>
                <a:ext cx="88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109"/>
              <p:cNvSpPr/>
              <p:nvPr/>
            </p:nvSpPr>
            <p:spPr>
              <a:xfrm>
                <a:off x="6276240" y="48211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208"/>
          <p:cNvGrpSpPr/>
          <p:nvPr/>
        </p:nvGrpSpPr>
        <p:grpSpPr>
          <a:xfrm>
            <a:off x="1405080" y="2409840"/>
            <a:ext cx="6335640" cy="2603520"/>
            <a:chOff x="1405080" y="2409840"/>
            <a:chExt cx="6335640" cy="2603520"/>
          </a:xfrm>
        </p:grpSpPr>
        <p:pic>
          <p:nvPicPr>
            <p:cNvPr id="604" name="Picture 209" descr="df"/>
            <p:cNvPicPr/>
            <p:nvPr/>
          </p:nvPicPr>
          <p:blipFill>
            <a:blip r:embed="rId5"/>
            <a:stretch/>
          </p:blipFill>
          <p:spPr>
            <a:xfrm>
              <a:off x="1405080" y="240984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5" name="Group 210"/>
            <p:cNvGrpSpPr/>
            <p:nvPr/>
          </p:nvGrpSpPr>
          <p:grpSpPr>
            <a:xfrm>
              <a:off x="1814400" y="3029040"/>
              <a:ext cx="5710320" cy="392040"/>
              <a:chOff x="1814400" y="3029040"/>
              <a:chExt cx="5710320" cy="392040"/>
            </a:xfrm>
          </p:grpSpPr>
          <p:sp>
            <p:nvSpPr>
              <p:cNvPr id="606" name="Text Box 211"/>
              <p:cNvSpPr/>
              <p:nvPr/>
            </p:nvSpPr>
            <p:spPr>
              <a:xfrm>
                <a:off x="1814400" y="30528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212"/>
              <p:cNvSpPr/>
              <p:nvPr/>
            </p:nvSpPr>
            <p:spPr>
              <a:xfrm>
                <a:off x="2533680" y="302904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213"/>
              <p:cNvSpPr/>
              <p:nvPr/>
            </p:nvSpPr>
            <p:spPr>
              <a:xfrm>
                <a:off x="3254400" y="302904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14"/>
              <p:cNvSpPr/>
              <p:nvPr/>
            </p:nvSpPr>
            <p:spPr>
              <a:xfrm>
                <a:off x="3902040" y="302904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215"/>
              <p:cNvSpPr/>
              <p:nvPr/>
            </p:nvSpPr>
            <p:spPr>
              <a:xfrm>
                <a:off x="4622760" y="302904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216"/>
              <p:cNvSpPr/>
              <p:nvPr/>
            </p:nvSpPr>
            <p:spPr>
              <a:xfrm>
                <a:off x="5270400" y="30528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217"/>
              <p:cNvSpPr/>
              <p:nvPr/>
            </p:nvSpPr>
            <p:spPr>
              <a:xfrm>
                <a:off x="5918040" y="30528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218"/>
              <p:cNvSpPr/>
              <p:nvPr/>
            </p:nvSpPr>
            <p:spPr>
              <a:xfrm>
                <a:off x="6638760" y="3052800"/>
                <a:ext cx="8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219"/>
          <p:cNvGrpSpPr/>
          <p:nvPr/>
        </p:nvGrpSpPr>
        <p:grpSpPr>
          <a:xfrm>
            <a:off x="1044720" y="2565360"/>
            <a:ext cx="6335640" cy="2602080"/>
            <a:chOff x="1044720" y="2565360"/>
            <a:chExt cx="6335640" cy="2602080"/>
          </a:xfrm>
        </p:grpSpPr>
        <p:pic>
          <p:nvPicPr>
            <p:cNvPr id="615" name="Picture 220" descr="rgf"/>
            <p:cNvPicPr/>
            <p:nvPr/>
          </p:nvPicPr>
          <p:blipFill>
            <a:blip r:embed="rId6"/>
            <a:stretch/>
          </p:blipFill>
          <p:spPr>
            <a:xfrm>
              <a:off x="1044720" y="256536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" name="Group 221"/>
            <p:cNvGrpSpPr/>
            <p:nvPr/>
          </p:nvGrpSpPr>
          <p:grpSpPr>
            <a:xfrm>
              <a:off x="1331640" y="3933720"/>
              <a:ext cx="5832000" cy="392040"/>
              <a:chOff x="1331640" y="3933720"/>
              <a:chExt cx="5832000" cy="392040"/>
            </a:xfrm>
          </p:grpSpPr>
          <p:sp>
            <p:nvSpPr>
              <p:cNvPr id="617" name="Text Box 222"/>
              <p:cNvSpPr/>
              <p:nvPr/>
            </p:nvSpPr>
            <p:spPr>
              <a:xfrm>
                <a:off x="1331640" y="395748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223"/>
              <p:cNvSpPr/>
              <p:nvPr/>
            </p:nvSpPr>
            <p:spPr>
              <a:xfrm>
                <a:off x="2050560" y="39337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224"/>
              <p:cNvSpPr/>
              <p:nvPr/>
            </p:nvSpPr>
            <p:spPr>
              <a:xfrm>
                <a:off x="2771280" y="39337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225"/>
              <p:cNvSpPr/>
              <p:nvPr/>
            </p:nvSpPr>
            <p:spPr>
              <a:xfrm>
                <a:off x="3418920" y="39337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226"/>
              <p:cNvSpPr/>
              <p:nvPr/>
            </p:nvSpPr>
            <p:spPr>
              <a:xfrm>
                <a:off x="4139640" y="393372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227"/>
              <p:cNvSpPr/>
              <p:nvPr/>
            </p:nvSpPr>
            <p:spPr>
              <a:xfrm>
                <a:off x="4787280" y="395748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228"/>
              <p:cNvSpPr/>
              <p:nvPr/>
            </p:nvSpPr>
            <p:spPr>
              <a:xfrm>
                <a:off x="5486040" y="3957480"/>
                <a:ext cx="88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229"/>
              <p:cNvSpPr/>
              <p:nvPr/>
            </p:nvSpPr>
            <p:spPr>
              <a:xfrm>
                <a:off x="6278040" y="3957480"/>
                <a:ext cx="88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Times New Roman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Line 231"/>
          <p:cNvSpPr/>
          <p:nvPr/>
        </p:nvSpPr>
        <p:spPr>
          <a:xfrm>
            <a:off x="1619280" y="2852640"/>
            <a:ext cx="5616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32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33"/>
          <p:cNvSpPr/>
          <p:nvPr/>
        </p:nvSpPr>
        <p:spPr>
          <a:xfrm flipH="1">
            <a:off x="6804000" y="2852640"/>
            <a:ext cx="393840" cy="1800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237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629" name="Text Box 234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35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36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40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14699 L -1.38889E-006 1.48148E-006 E">
                                      <p:cBhvr>
                                        <p:cTn id="822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3634 L -1.38889E-006 1.85185E-006 E">
                                      <p:cBhvr>
                                        <p:cTn id="82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252360" y="142920"/>
            <a:ext cx="8748720" cy="623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0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48360" cy="230472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5"/>
          <p:cNvSpPr/>
          <p:nvPr/>
        </p:nvSpPr>
        <p:spPr>
          <a:xfrm>
            <a:off x="410076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分的份数越多，拼成的图形越接近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50"/>
          <p:cNvSpPr/>
          <p:nvPr/>
        </p:nvSpPr>
        <p:spPr>
          <a:xfrm>
            <a:off x="1547640" y="2852640"/>
            <a:ext cx="561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1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4006800" y="1844640"/>
            <a:ext cx="466920" cy="986040"/>
            <a:chOff x="4006800" y="1844640"/>
            <a:chExt cx="466920" cy="986040"/>
          </a:xfrm>
        </p:grpSpPr>
        <p:sp>
          <p:nvSpPr>
            <p:cNvPr id="639" name="Text Box 54"/>
            <p:cNvSpPr/>
            <p:nvPr/>
          </p:nvSpPr>
          <p:spPr>
            <a:xfrm>
              <a:off x="400680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55"/>
            <p:cNvSpPr/>
            <p:nvPr/>
          </p:nvSpPr>
          <p:spPr>
            <a:xfrm>
              <a:off x="4049280" y="2249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6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Line 59"/>
          <p:cNvSpPr/>
          <p:nvPr/>
        </p:nvSpPr>
        <p:spPr>
          <a:xfrm>
            <a:off x="7164360" y="2852640"/>
            <a:ext cx="0" cy="180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1"/>
          <p:cNvSpPr/>
          <p:nvPr/>
        </p:nvSpPr>
        <p:spPr>
          <a:xfrm>
            <a:off x="1547640" y="2852640"/>
            <a:ext cx="5616720" cy="1871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5554800" y="1922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2711520" y="836640"/>
            <a:ext cx="466560" cy="986040"/>
            <a:chOff x="2711520" y="836640"/>
            <a:chExt cx="466560" cy="986040"/>
          </a:xfrm>
        </p:grpSpPr>
        <p:sp>
          <p:nvSpPr>
            <p:cNvPr id="647" name="Text Box 8"/>
            <p:cNvSpPr/>
            <p:nvPr/>
          </p:nvSpPr>
          <p:spPr>
            <a:xfrm>
              <a:off x="2711520" y="83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9"/>
            <p:cNvSpPr/>
            <p:nvPr/>
          </p:nvSpPr>
          <p:spPr>
            <a:xfrm>
              <a:off x="2753640" y="1241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2773080" y="1343160"/>
              <a:ext cx="3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4"/>
          <p:cNvGrpSpPr/>
          <p:nvPr/>
        </p:nvGrpSpPr>
        <p:grpSpPr>
          <a:xfrm>
            <a:off x="1413000" y="1628640"/>
            <a:ext cx="4238640" cy="1440000"/>
            <a:chOff x="1413000" y="1628640"/>
            <a:chExt cx="4238640" cy="1440000"/>
          </a:xfrm>
        </p:grpSpPr>
        <p:pic>
          <p:nvPicPr>
            <p:cNvPr id="651" name="Picture 13" descr=""/>
            <p:cNvPicPr/>
            <p:nvPr/>
          </p:nvPicPr>
          <p:blipFill>
            <a:blip r:embed="rId1"/>
            <a:stretch/>
          </p:blipFill>
          <p:spPr>
            <a:xfrm>
              <a:off x="1413000" y="1628640"/>
              <a:ext cx="42386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12"/>
            <p:cNvSpPr/>
            <p:nvPr/>
          </p:nvSpPr>
          <p:spPr>
            <a:xfrm>
              <a:off x="1484280" y="1773000"/>
              <a:ext cx="3960720" cy="1224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17"/>
          <p:cNvGrpSpPr/>
          <p:nvPr/>
        </p:nvGrpSpPr>
        <p:grpSpPr>
          <a:xfrm>
            <a:off x="3197160" y="1049400"/>
            <a:ext cx="865440" cy="581400"/>
            <a:chOff x="3197160" y="1049400"/>
            <a:chExt cx="865440" cy="581400"/>
          </a:xfrm>
        </p:grpSpPr>
        <p:sp>
          <p:nvSpPr>
            <p:cNvPr id="654" name="Text Box 15"/>
            <p:cNvSpPr/>
            <p:nvPr/>
          </p:nvSpPr>
          <p:spPr>
            <a:xfrm>
              <a:off x="3197160" y="113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557160" y="10494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π</a:t>
              </a:r>
              <a:r>
                <a:rPr b="0" lang="en-US" sz="3200" spc="-1" strike="noStrike">
                  <a:solidFill>
                    <a:srgbClr val="0000ff"/>
                  </a:solidFill>
                  <a:latin typeface="Monotype Corsiva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18"/>
          <p:cNvSpPr/>
          <p:nvPr/>
        </p:nvSpPr>
        <p:spPr>
          <a:xfrm>
            <a:off x="541440" y="2492280"/>
            <a:ext cx="914400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方形面积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</a:rPr>
              <a:t>长 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×  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9"/>
          <p:cNvSpPr/>
          <p:nvPr/>
        </p:nvSpPr>
        <p:spPr>
          <a:xfrm>
            <a:off x="3564000" y="386064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20"/>
          <p:cNvSpPr/>
          <p:nvPr/>
        </p:nvSpPr>
        <p:spPr>
          <a:xfrm>
            <a:off x="5435640" y="386064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21"/>
          <p:cNvSpPr/>
          <p:nvPr/>
        </p:nvSpPr>
        <p:spPr>
          <a:xfrm>
            <a:off x="6877080" y="386064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2"/>
          <p:cNvSpPr/>
          <p:nvPr/>
        </p:nvSpPr>
        <p:spPr>
          <a:xfrm>
            <a:off x="900000" y="386064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圆 的 面 积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π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Lucida Console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×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4963680" y="5297400"/>
            <a:ext cx="14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π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 baseline="36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826920" y="4365720"/>
            <a:ext cx="6985080" cy="151128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476280"/>
            <a:ext cx="10190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动手做一做　动脑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利用准备的学具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测量一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一元硬币的周长，看哪位同学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方法最多，最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0030"/>
          <p:cNvPicPr/>
          <p:nvPr/>
        </p:nvPicPr>
        <p:blipFill>
          <a:blip r:embed="rId1"/>
          <a:stretch/>
        </p:blipFill>
        <p:spPr>
          <a:xfrm>
            <a:off x="611280" y="18900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1655640" y="3173400"/>
            <a:ext cx="7885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zh-CN" sz="9600" spc="-1" strike="noStrike">
                <a:solidFill>
                  <a:srgbClr val="ffff00"/>
                </a:solidFill>
                <a:latin typeface="Arial"/>
              </a:rPr>
              <a:t>＝ 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0" lang="en-US" sz="9600" spc="-1" strike="noStrike">
                <a:solidFill>
                  <a:srgbClr val="ffff00"/>
                </a:solidFill>
                <a:latin typeface="Monotype Corsiva"/>
              </a:rPr>
              <a:t>r</a:t>
            </a: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9600" spc="-1" strike="noStrike" baseline="36000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0"/>
          <p:cNvSpPr/>
          <p:nvPr/>
        </p:nvSpPr>
        <p:spPr>
          <a:xfrm>
            <a:off x="2863800" y="1492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圆的面积计算公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0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144360" y="0"/>
            <a:ext cx="882036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3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12600">
            <a:solidFill>
              <a:srgbClr val="66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"/>
          <p:cNvSpPr/>
          <p:nvPr/>
        </p:nvSpPr>
        <p:spPr>
          <a:xfrm>
            <a:off x="4427640" y="3068640"/>
            <a:ext cx="144360" cy="144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"/>
          <p:cNvSpPr/>
          <p:nvPr/>
        </p:nvSpPr>
        <p:spPr>
          <a:xfrm>
            <a:off x="4356000" y="2997360"/>
            <a:ext cx="287280" cy="28728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6"/>
          <p:cNvSpPr/>
          <p:nvPr/>
        </p:nvSpPr>
        <p:spPr>
          <a:xfrm>
            <a:off x="4282920" y="2925720"/>
            <a:ext cx="432000" cy="4320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"/>
          <p:cNvSpPr/>
          <p:nvPr/>
        </p:nvSpPr>
        <p:spPr>
          <a:xfrm>
            <a:off x="4211640" y="2852640"/>
            <a:ext cx="576360" cy="57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8"/>
          <p:cNvSpPr/>
          <p:nvPr/>
        </p:nvSpPr>
        <p:spPr>
          <a:xfrm>
            <a:off x="4140360" y="2781360"/>
            <a:ext cx="718920" cy="718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"/>
          <p:cNvSpPr/>
          <p:nvPr/>
        </p:nvSpPr>
        <p:spPr>
          <a:xfrm>
            <a:off x="4067280" y="2709720"/>
            <a:ext cx="863640" cy="863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3994200" y="2635200"/>
            <a:ext cx="1009440" cy="100980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3924360" y="2565360"/>
            <a:ext cx="1150920" cy="1150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3851280" y="2492280"/>
            <a:ext cx="1295280" cy="1295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13"/>
          <p:cNvSpPr/>
          <p:nvPr/>
        </p:nvSpPr>
        <p:spPr>
          <a:xfrm>
            <a:off x="3780000" y="2421000"/>
            <a:ext cx="1439640" cy="1439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4"/>
          <p:cNvSpPr/>
          <p:nvPr/>
        </p:nvSpPr>
        <p:spPr>
          <a:xfrm>
            <a:off x="3708360" y="2349360"/>
            <a:ext cx="1582920" cy="1582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5"/>
          <p:cNvSpPr/>
          <p:nvPr/>
        </p:nvSpPr>
        <p:spPr>
          <a:xfrm>
            <a:off x="3635280" y="2276640"/>
            <a:ext cx="1727280" cy="172692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6"/>
          <p:cNvSpPr/>
          <p:nvPr/>
        </p:nvSpPr>
        <p:spPr>
          <a:xfrm>
            <a:off x="3564000" y="2205000"/>
            <a:ext cx="1871640" cy="187164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7"/>
          <p:cNvSpPr/>
          <p:nvPr/>
        </p:nvSpPr>
        <p:spPr>
          <a:xfrm>
            <a:off x="3492360" y="2131920"/>
            <a:ext cx="2016360" cy="2016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8"/>
          <p:cNvSpPr/>
          <p:nvPr/>
        </p:nvSpPr>
        <p:spPr>
          <a:xfrm>
            <a:off x="3419640" y="2060640"/>
            <a:ext cx="2160360" cy="2160360"/>
          </a:xfrm>
          <a:prstGeom prst="ellipse">
            <a:avLst/>
          </a:prstGeom>
          <a:noFill/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1189080" y="4221000"/>
            <a:ext cx="70563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1405080" y="4149720"/>
            <a:ext cx="6553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1620720" y="4076640"/>
            <a:ext cx="612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2"/>
          <p:cNvSpPr/>
          <p:nvPr/>
        </p:nvSpPr>
        <p:spPr>
          <a:xfrm>
            <a:off x="1835280" y="4005360"/>
            <a:ext cx="56181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2052720" y="3933720"/>
            <a:ext cx="518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4"/>
          <p:cNvSpPr/>
          <p:nvPr/>
        </p:nvSpPr>
        <p:spPr>
          <a:xfrm>
            <a:off x="2268360" y="3860640"/>
            <a:ext cx="468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5"/>
          <p:cNvSpPr/>
          <p:nvPr/>
        </p:nvSpPr>
        <p:spPr>
          <a:xfrm>
            <a:off x="2486160" y="3789360"/>
            <a:ext cx="424656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6"/>
          <p:cNvSpPr/>
          <p:nvPr/>
        </p:nvSpPr>
        <p:spPr>
          <a:xfrm>
            <a:off x="2700360" y="3718080"/>
            <a:ext cx="37447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7"/>
          <p:cNvSpPr/>
          <p:nvPr/>
        </p:nvSpPr>
        <p:spPr>
          <a:xfrm>
            <a:off x="2916360" y="3645000"/>
            <a:ext cx="32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8"/>
          <p:cNvSpPr/>
          <p:nvPr/>
        </p:nvSpPr>
        <p:spPr>
          <a:xfrm>
            <a:off x="3132000" y="3573360"/>
            <a:ext cx="2737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9"/>
          <p:cNvSpPr/>
          <p:nvPr/>
        </p:nvSpPr>
        <p:spPr>
          <a:xfrm>
            <a:off x="3348000" y="3500280"/>
            <a:ext cx="23050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30"/>
          <p:cNvSpPr/>
          <p:nvPr/>
        </p:nvSpPr>
        <p:spPr>
          <a:xfrm>
            <a:off x="3564000" y="3429000"/>
            <a:ext cx="180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1"/>
          <p:cNvSpPr/>
          <p:nvPr/>
        </p:nvSpPr>
        <p:spPr>
          <a:xfrm>
            <a:off x="3708360" y="3357720"/>
            <a:ext cx="144000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2"/>
          <p:cNvSpPr/>
          <p:nvPr/>
        </p:nvSpPr>
        <p:spPr>
          <a:xfrm>
            <a:off x="3995640" y="3284640"/>
            <a:ext cx="93528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3"/>
          <p:cNvSpPr/>
          <p:nvPr/>
        </p:nvSpPr>
        <p:spPr>
          <a:xfrm>
            <a:off x="4286160" y="3213000"/>
            <a:ext cx="358920" cy="0"/>
          </a:xfrm>
          <a:prstGeom prst="line">
            <a:avLst/>
          </a:prstGeom>
          <a:ln w="63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4"/>
          <p:cNvSpPr/>
          <p:nvPr/>
        </p:nvSpPr>
        <p:spPr>
          <a:xfrm>
            <a:off x="4500720" y="3213000"/>
            <a:ext cx="0" cy="107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5"/>
          <p:cNvGrpSpPr/>
          <p:nvPr/>
        </p:nvGrpSpPr>
        <p:grpSpPr>
          <a:xfrm>
            <a:off x="971280" y="4292640"/>
            <a:ext cx="7274160" cy="361800"/>
            <a:chOff x="971280" y="4292640"/>
            <a:chExt cx="7274160" cy="361800"/>
          </a:xfrm>
        </p:grpSpPr>
        <p:sp>
          <p:nvSpPr>
            <p:cNvPr id="700" name="Line 36"/>
            <p:cNvSpPr/>
            <p:nvPr/>
          </p:nvSpPr>
          <p:spPr>
            <a:xfrm>
              <a:off x="971640" y="4365360"/>
              <a:ext cx="0" cy="2890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>
              <a:off x="8245440" y="4292640"/>
              <a:ext cx="0" cy="28872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>
              <a:off x="5148000" y="4437000"/>
              <a:ext cx="309708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971280" y="4437000"/>
              <a:ext cx="295236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40"/>
          <p:cNvGrpSpPr/>
          <p:nvPr/>
        </p:nvGrpSpPr>
        <p:grpSpPr>
          <a:xfrm>
            <a:off x="4119840" y="4137120"/>
            <a:ext cx="869400" cy="661680"/>
            <a:chOff x="4119840" y="4137120"/>
            <a:chExt cx="869400" cy="661680"/>
          </a:xfrm>
        </p:grpSpPr>
        <p:sp>
          <p:nvSpPr>
            <p:cNvPr id="705" name="Rectangle 41"/>
            <p:cNvSpPr/>
            <p:nvPr/>
          </p:nvSpPr>
          <p:spPr>
            <a:xfrm>
              <a:off x="4119840" y="415620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 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4340160" y="4137120"/>
              <a:ext cx="4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Rectangle 43"/>
          <p:cNvSpPr/>
          <p:nvPr/>
        </p:nvSpPr>
        <p:spPr>
          <a:xfrm>
            <a:off x="4500720" y="3429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4"/>
          <p:cNvSpPr/>
          <p:nvPr/>
        </p:nvSpPr>
        <p:spPr>
          <a:xfrm>
            <a:off x="3579120" y="11253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这是一个由草绳编织成的圆形茶杯垫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"/>
          <p:cNvPicPr/>
          <p:nvPr/>
        </p:nvPicPr>
        <p:blipFill>
          <a:blip r:embed="rId1"/>
          <a:srcRect l="13242" t="28300" r="50649" b="39398"/>
          <a:stretch/>
        </p:blipFill>
        <p:spPr>
          <a:xfrm>
            <a:off x="250920" y="2060640"/>
            <a:ext cx="28447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46"/>
          <p:cNvGrpSpPr/>
          <p:nvPr/>
        </p:nvGrpSpPr>
        <p:grpSpPr>
          <a:xfrm>
            <a:off x="1625400" y="4653000"/>
            <a:ext cx="6048720" cy="1946520"/>
            <a:chOff x="1625400" y="4653000"/>
            <a:chExt cx="6048720" cy="1946520"/>
          </a:xfrm>
        </p:grpSpPr>
        <p:sp>
          <p:nvSpPr>
            <p:cNvPr id="711" name="Rectangle 47"/>
            <p:cNvSpPr/>
            <p:nvPr/>
          </p:nvSpPr>
          <p:spPr>
            <a:xfrm>
              <a:off x="1625400" y="4653000"/>
              <a:ext cx="6048720" cy="1800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48"/>
            <p:cNvGrpSpPr/>
            <p:nvPr/>
          </p:nvGrpSpPr>
          <p:grpSpPr>
            <a:xfrm>
              <a:off x="2192400" y="4862520"/>
              <a:ext cx="3602520" cy="945000"/>
              <a:chOff x="2192400" y="4862520"/>
              <a:chExt cx="3602520" cy="945000"/>
            </a:xfrm>
          </p:grpSpPr>
          <p:sp>
            <p:nvSpPr>
              <p:cNvPr id="713" name="Rectangle 49"/>
              <p:cNvSpPr/>
              <p:nvPr/>
            </p:nvSpPr>
            <p:spPr>
              <a:xfrm>
                <a:off x="2192400" y="5010120"/>
                <a:ext cx="1974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三角形的面积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50"/>
              <p:cNvSpPr/>
              <p:nvPr/>
            </p:nvSpPr>
            <p:spPr>
              <a:xfrm>
                <a:off x="4694760" y="4862520"/>
                <a:ext cx="110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底</a:t>
                </a:r>
                <a:r>
                  <a:rPr b="0" lang="en-US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×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51"/>
              <p:cNvSpPr/>
              <p:nvPr/>
            </p:nvSpPr>
            <p:spPr>
              <a:xfrm>
                <a:off x="5049360" y="522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52"/>
            <p:cNvGrpSpPr/>
            <p:nvPr/>
          </p:nvGrpSpPr>
          <p:grpSpPr>
            <a:xfrm>
              <a:off x="2438280" y="5524560"/>
              <a:ext cx="4473720" cy="1074960"/>
              <a:chOff x="2438280" y="5524560"/>
              <a:chExt cx="4473720" cy="1074960"/>
            </a:xfrm>
          </p:grpSpPr>
          <p:sp>
            <p:nvSpPr>
              <p:cNvPr id="717" name="Rectangle 53"/>
              <p:cNvSpPr/>
              <p:nvPr/>
            </p:nvSpPr>
            <p:spPr>
              <a:xfrm>
                <a:off x="2438280" y="5805360"/>
                <a:ext cx="4290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所以圆的面积：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S=        =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π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 r</a:t>
                </a:r>
                <a:r>
                  <a:rPr b="0" lang="en-US" sz="3200" spc="-1" strike="noStrike" baseline="30000">
                    <a:solidFill>
                      <a:srgbClr val="ff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54"/>
              <p:cNvSpPr/>
              <p:nvPr/>
            </p:nvSpPr>
            <p:spPr>
              <a:xfrm>
                <a:off x="5209920" y="5641920"/>
                <a:ext cx="10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u="sng">
                    <a:solidFill>
                      <a:srgbClr val="000000"/>
                    </a:solidFill>
                    <a:uFillTx/>
                    <a:latin typeface="Arial"/>
                    <a:ea typeface="华文新魏"/>
                  </a:rPr>
                  <a:t>2  ×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55"/>
              <p:cNvSpPr/>
              <p:nvPr/>
            </p:nvSpPr>
            <p:spPr>
              <a:xfrm>
                <a:off x="5515920" y="6018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56"/>
              <p:cNvSpPr/>
              <p:nvPr/>
            </p:nvSpPr>
            <p:spPr>
              <a:xfrm>
                <a:off x="5331240" y="5524560"/>
                <a:ext cx="49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π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57"/>
              <p:cNvSpPr/>
              <p:nvPr/>
            </p:nvSpPr>
            <p:spPr>
              <a:xfrm>
                <a:off x="6730920" y="5740200"/>
                <a:ext cx="181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WordArt 58"/>
          <p:cNvSpPr txBox="1"/>
          <p:nvPr/>
        </p:nvSpPr>
        <p:spPr>
          <a:xfrm>
            <a:off x="252360" y="7398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万花筒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8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0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0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4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4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7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8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87"/>
          <p:cNvSpPr/>
          <p:nvPr/>
        </p:nvSpPr>
        <p:spPr>
          <a:xfrm>
            <a:off x="179280" y="0"/>
            <a:ext cx="882036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2"/>
          <p:cNvSpPr/>
          <p:nvPr/>
        </p:nvSpPr>
        <p:spPr>
          <a:xfrm>
            <a:off x="3059280" y="1197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圆的半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。它的面积是多少平方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78"/>
          <p:cNvGrpSpPr/>
          <p:nvPr/>
        </p:nvGrpSpPr>
        <p:grpSpPr>
          <a:xfrm>
            <a:off x="503280" y="2384280"/>
            <a:ext cx="2844360" cy="2844360"/>
            <a:chOff x="503280" y="2384280"/>
            <a:chExt cx="2844360" cy="2844360"/>
          </a:xfrm>
        </p:grpSpPr>
        <p:grpSp>
          <p:nvGrpSpPr>
            <p:cNvPr id="726" name="Group 73"/>
            <p:cNvGrpSpPr/>
            <p:nvPr/>
          </p:nvGrpSpPr>
          <p:grpSpPr>
            <a:xfrm>
              <a:off x="503280" y="2384280"/>
              <a:ext cx="2844360" cy="2844360"/>
              <a:chOff x="503280" y="2384280"/>
              <a:chExt cx="2844360" cy="2844360"/>
            </a:xfrm>
          </p:grpSpPr>
          <p:sp>
            <p:nvSpPr>
              <p:cNvPr id="727" name="Oval 74"/>
              <p:cNvSpPr/>
              <p:nvPr/>
            </p:nvSpPr>
            <p:spPr>
              <a:xfrm>
                <a:off x="503280" y="2384280"/>
                <a:ext cx="2844360" cy="2844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75"/>
              <p:cNvSpPr/>
              <p:nvPr/>
            </p:nvSpPr>
            <p:spPr>
              <a:xfrm>
                <a:off x="1866960" y="3745800"/>
                <a:ext cx="117000" cy="117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Line 76"/>
            <p:cNvSpPr/>
            <p:nvPr/>
          </p:nvSpPr>
          <p:spPr>
            <a:xfrm flipH="1" flipV="1">
              <a:off x="1034640" y="2679120"/>
              <a:ext cx="865080" cy="10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77"/>
            <p:cNvSpPr/>
            <p:nvPr/>
          </p:nvSpPr>
          <p:spPr>
            <a:xfrm rot="3055200">
              <a:off x="1451160" y="2961360"/>
              <a:ext cx="6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 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79"/>
          <p:cNvSpPr/>
          <p:nvPr/>
        </p:nvSpPr>
        <p:spPr>
          <a:xfrm>
            <a:off x="4570560" y="2562120"/>
            <a:ext cx="2628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＝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π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 baseline="36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1"/>
          <p:cNvSpPr/>
          <p:nvPr/>
        </p:nvSpPr>
        <p:spPr>
          <a:xfrm>
            <a:off x="4781880" y="3500280"/>
            <a:ext cx="1783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3.14×4</a:t>
            </a:r>
            <a:r>
              <a:rPr b="0" lang="en-US" sz="3200" spc="-1" strike="noStrike" baseline="44000">
                <a:solidFill>
                  <a:srgbClr val="000000"/>
                </a:solidFill>
                <a:latin typeface="Lucida Consol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85"/>
          <p:cNvGrpSpPr/>
          <p:nvPr/>
        </p:nvGrpSpPr>
        <p:grpSpPr>
          <a:xfrm>
            <a:off x="3696480" y="4149720"/>
            <a:ext cx="4862160" cy="1635480"/>
            <a:chOff x="3696480" y="4149720"/>
            <a:chExt cx="4862160" cy="1635480"/>
          </a:xfrm>
        </p:grpSpPr>
        <p:sp>
          <p:nvSpPr>
            <p:cNvPr id="734" name="Text Box 82"/>
            <p:cNvSpPr/>
            <p:nvPr/>
          </p:nvSpPr>
          <p:spPr>
            <a:xfrm>
              <a:off x="4574520" y="4149720"/>
              <a:ext cx="21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Console"/>
                </a:rPr>
                <a:t>3.1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Console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84"/>
            <p:cNvSpPr/>
            <p:nvPr/>
          </p:nvSpPr>
          <p:spPr>
            <a:xfrm>
              <a:off x="3696480" y="4716360"/>
              <a:ext cx="486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Console"/>
                </a:rPr>
                <a:t>50.24(</a:t>
              </a:r>
              <a:r>
                <a:rPr b="0" lang="zh-CN" sz="3200" spc="-1" strike="noStrike">
                  <a:solidFill>
                    <a:srgbClr val="000000"/>
                  </a:solidFill>
                  <a:latin typeface="Lucida Console"/>
                </a:rPr>
                <a:t>平方厘米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Console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Lucida Console"/>
                </a:rPr>
                <a:t>答：它的面积是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Console"/>
                </a:rPr>
                <a:t>50.24</a:t>
              </a:r>
              <a:r>
                <a:rPr b="0" lang="zh-CN" sz="3200" spc="-1" strike="noStrike">
                  <a:solidFill>
                    <a:srgbClr val="000000"/>
                  </a:solidFill>
                  <a:latin typeface="Lucida Console"/>
                </a:rPr>
                <a:t>平方厘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Oval 86"/>
          <p:cNvSpPr/>
          <p:nvPr/>
        </p:nvSpPr>
        <p:spPr>
          <a:xfrm>
            <a:off x="1979640" y="1268280"/>
            <a:ext cx="1008000" cy="50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0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7"/>
          <p:cNvSpPr/>
          <p:nvPr/>
        </p:nvSpPr>
        <p:spPr>
          <a:xfrm>
            <a:off x="1332000" y="119700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街心花园中圆形花坛的周长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8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。花坛的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6"/>
          <p:cNvSpPr/>
          <p:nvPr/>
        </p:nvSpPr>
        <p:spPr>
          <a:xfrm>
            <a:off x="6166080" y="1557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70"/>
          <p:cNvSpPr/>
          <p:nvPr/>
        </p:nvSpPr>
        <p:spPr>
          <a:xfrm>
            <a:off x="539640" y="2708280"/>
            <a:ext cx="2592360" cy="2592360"/>
          </a:xfrm>
          <a:prstGeom prst="ellipse">
            <a:avLst/>
          </a:prstGeom>
          <a:solidFill>
            <a:srgbClr val="99cc00"/>
          </a:solidFill>
          <a:ln w="1015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1"/>
          <p:cNvSpPr/>
          <p:nvPr/>
        </p:nvSpPr>
        <p:spPr>
          <a:xfrm>
            <a:off x="4570560" y="2921040"/>
            <a:ext cx="2628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＝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π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 baseline="36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2"/>
          <p:cNvSpPr/>
          <p:nvPr/>
        </p:nvSpPr>
        <p:spPr>
          <a:xfrm>
            <a:off x="5794200" y="4141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第一步求花坛半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3"/>
          <p:cNvSpPr/>
          <p:nvPr/>
        </p:nvSpPr>
        <p:spPr>
          <a:xfrm>
            <a:off x="4920840" y="4865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第二步求花坛面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74"/>
          <p:cNvSpPr/>
          <p:nvPr/>
        </p:nvSpPr>
        <p:spPr>
          <a:xfrm>
            <a:off x="324000" y="1268280"/>
            <a:ext cx="1008000" cy="50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0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15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7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68"/>
          <p:cNvSpPr/>
          <p:nvPr/>
        </p:nvSpPr>
        <p:spPr>
          <a:xfrm>
            <a:off x="755640" y="5083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华能火力发电厂的烟囱底面是圆形的，要想知道这根烟囱占地多少平方米有哪些办法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73" descr="xm_dlt"/>
          <p:cNvPicPr/>
          <p:nvPr/>
        </p:nvPicPr>
        <p:blipFill>
          <a:blip r:embed="rId1"/>
          <a:stretch/>
        </p:blipFill>
        <p:spPr>
          <a:xfrm>
            <a:off x="2556000" y="1351080"/>
            <a:ext cx="4392360" cy="330192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748" name="Group 280"/>
          <p:cNvGrpSpPr/>
          <p:nvPr/>
        </p:nvGrpSpPr>
        <p:grpSpPr>
          <a:xfrm>
            <a:off x="3203640" y="5865840"/>
            <a:ext cx="3024000" cy="1008360"/>
            <a:chOff x="3203640" y="5865840"/>
            <a:chExt cx="3024000" cy="1008360"/>
          </a:xfrm>
        </p:grpSpPr>
        <p:sp>
          <p:nvSpPr>
            <p:cNvPr id="749" name="Rectangle 274"/>
            <p:cNvSpPr/>
            <p:nvPr/>
          </p:nvSpPr>
          <p:spPr>
            <a:xfrm>
              <a:off x="3203640" y="586584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275"/>
            <p:cNvSpPr/>
            <p:nvPr/>
          </p:nvSpPr>
          <p:spPr>
            <a:xfrm>
              <a:off x="3924360" y="586584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76"/>
            <p:cNvSpPr/>
            <p:nvPr/>
          </p:nvSpPr>
          <p:spPr>
            <a:xfrm>
              <a:off x="4643280" y="586584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77"/>
            <p:cNvSpPr/>
            <p:nvPr/>
          </p:nvSpPr>
          <p:spPr>
            <a:xfrm>
              <a:off x="5291280" y="58658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0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2627280" y="98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盘的银色部分是一个圆环，内圆半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外圆半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它的面积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1547640" y="1125360"/>
            <a:ext cx="1008360" cy="50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539640" y="2421000"/>
            <a:ext cx="2592360" cy="2592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1370160" y="3251160"/>
            <a:ext cx="89820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7"/>
          <p:cNvSpPr/>
          <p:nvPr/>
        </p:nvSpPr>
        <p:spPr>
          <a:xfrm flipV="1">
            <a:off x="1870200" y="3386160"/>
            <a:ext cx="263880" cy="2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8"/>
          <p:cNvSpPr/>
          <p:nvPr/>
        </p:nvSpPr>
        <p:spPr>
          <a:xfrm rot="19102200">
            <a:off x="1483560" y="3155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539640" y="2421000"/>
            <a:ext cx="2592360" cy="2592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1407960" y="3286080"/>
            <a:ext cx="86040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5"/>
          <p:cNvSpPr/>
          <p:nvPr/>
        </p:nvSpPr>
        <p:spPr>
          <a:xfrm>
            <a:off x="1835280" y="37162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2016360" y="3692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3702240" y="341316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圆环面积＝             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5794200" y="4141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第一步求外圆面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4920840" y="4865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第二步求内圆面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5"/>
          <p:cNvSpPr/>
          <p:nvPr/>
        </p:nvSpPr>
        <p:spPr>
          <a:xfrm>
            <a:off x="5024520" y="5516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第三步求环形的面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6"/>
          <p:cNvSpPr/>
          <p:nvPr/>
        </p:nvSpPr>
        <p:spPr>
          <a:xfrm>
            <a:off x="5704200" y="346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华文新魏"/>
              </a:rPr>
              <a:t>外圆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7"/>
          <p:cNvSpPr/>
          <p:nvPr/>
        </p:nvSpPr>
        <p:spPr>
          <a:xfrm>
            <a:off x="7457040" y="346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华文新魏"/>
              </a:rPr>
              <a:t>内圆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4"/>
          <p:cNvSpPr/>
          <p:nvPr/>
        </p:nvSpPr>
        <p:spPr>
          <a:xfrm>
            <a:off x="176364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8"/>
          <p:cNvSpPr/>
          <p:nvPr/>
        </p:nvSpPr>
        <p:spPr>
          <a:xfrm flipV="1">
            <a:off x="1850040" y="3374280"/>
            <a:ext cx="278280" cy="26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9"/>
          <p:cNvSpPr/>
          <p:nvPr/>
        </p:nvSpPr>
        <p:spPr>
          <a:xfrm rot="19102200">
            <a:off x="1464480" y="3155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nodeType="clickEffect" fill="hold">
                      <p:stCondLst>
                        <p:cond delay="0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0" y="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627280" y="98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盘的银色部分是一个圆环，内圆半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外圆半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它的面积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4"/>
          <p:cNvSpPr/>
          <p:nvPr/>
        </p:nvSpPr>
        <p:spPr>
          <a:xfrm>
            <a:off x="1547640" y="1125360"/>
            <a:ext cx="1008360" cy="505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539640" y="2421000"/>
            <a:ext cx="2592360" cy="2592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370160" y="3251160"/>
            <a:ext cx="89820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7"/>
          <p:cNvSpPr/>
          <p:nvPr/>
        </p:nvSpPr>
        <p:spPr>
          <a:xfrm flipV="1">
            <a:off x="1870200" y="3386160"/>
            <a:ext cx="263880" cy="2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 rot="19102200">
            <a:off x="1483560" y="3155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9"/>
          <p:cNvSpPr/>
          <p:nvPr/>
        </p:nvSpPr>
        <p:spPr>
          <a:xfrm>
            <a:off x="539640" y="2421000"/>
            <a:ext cx="2592360" cy="2592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0"/>
          <p:cNvSpPr/>
          <p:nvPr/>
        </p:nvSpPr>
        <p:spPr>
          <a:xfrm>
            <a:off x="1407960" y="3286080"/>
            <a:ext cx="86040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835280" y="371628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2016360" y="3692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3702240" y="341316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华文新魏"/>
              </a:rPr>
              <a:t>圆环面积＝             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4212360" y="4375080"/>
            <a:ext cx="36511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3.14×6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华文新魏"/>
              </a:rPr>
              <a:t>2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- 3.14×2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7"/>
          <p:cNvSpPr/>
          <p:nvPr/>
        </p:nvSpPr>
        <p:spPr>
          <a:xfrm>
            <a:off x="5704200" y="346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华文新魏"/>
              </a:rPr>
              <a:t>外圆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8"/>
          <p:cNvSpPr/>
          <p:nvPr/>
        </p:nvSpPr>
        <p:spPr>
          <a:xfrm>
            <a:off x="7457040" y="346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华文新魏"/>
              </a:rPr>
              <a:t>内圆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9"/>
          <p:cNvSpPr/>
          <p:nvPr/>
        </p:nvSpPr>
        <p:spPr>
          <a:xfrm>
            <a:off x="176364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0"/>
          <p:cNvSpPr/>
          <p:nvPr/>
        </p:nvSpPr>
        <p:spPr>
          <a:xfrm flipV="1">
            <a:off x="1850040" y="3374280"/>
            <a:ext cx="278280" cy="26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1"/>
          <p:cNvSpPr/>
          <p:nvPr/>
        </p:nvSpPr>
        <p:spPr>
          <a:xfrm rot="19102200">
            <a:off x="1464480" y="3155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4191120" y="5235480"/>
            <a:ext cx="35463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3.14×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6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华文新魏"/>
              </a:rPr>
              <a:t>2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– 2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华文新魏"/>
              </a:rPr>
              <a:t>2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2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3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4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9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0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09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793" name="Text Box 210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76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77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48240 w 144360"/>
              <a:gd name="textAreaRight" fmla="*/ 96480 w 14436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78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48240 w 144360"/>
              <a:gd name="textAreaRight" fmla="*/ 9648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9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48240 w 144720"/>
              <a:gd name="textAreaRight" fmla="*/ 96480 w 14472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0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0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20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47880 w 144360"/>
              <a:gd name="textAreaRight" fmla="*/ 9612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202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48240 w 144720"/>
              <a:gd name="textAreaRight" fmla="*/ 96480 w 14472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203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8" dur="250" autoRev="1" fill="hold"/>
                                        <p:tgtEl>
                                          <p:spTgt spid="8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85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6"/>
          <p:cNvSpPr/>
          <p:nvPr/>
        </p:nvSpPr>
        <p:spPr>
          <a:xfrm>
            <a:off x="2846160" y="1141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求下面各圆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167"/>
          <p:cNvGrpSpPr/>
          <p:nvPr/>
        </p:nvGrpSpPr>
        <p:grpSpPr>
          <a:xfrm>
            <a:off x="2987640" y="2413080"/>
            <a:ext cx="2844360" cy="2844360"/>
            <a:chOff x="2987640" y="2413080"/>
            <a:chExt cx="2844360" cy="2844360"/>
          </a:xfrm>
        </p:grpSpPr>
        <p:sp>
          <p:nvSpPr>
            <p:cNvPr id="807" name="Oval 158"/>
            <p:cNvSpPr/>
            <p:nvPr/>
          </p:nvSpPr>
          <p:spPr>
            <a:xfrm>
              <a:off x="2987640" y="2413080"/>
              <a:ext cx="2844360" cy="28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59"/>
            <p:cNvSpPr/>
            <p:nvPr/>
          </p:nvSpPr>
          <p:spPr>
            <a:xfrm>
              <a:off x="4351320" y="3774600"/>
              <a:ext cx="117000" cy="117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68"/>
          <p:cNvGrpSpPr/>
          <p:nvPr/>
        </p:nvGrpSpPr>
        <p:grpSpPr>
          <a:xfrm>
            <a:off x="843120" y="3032280"/>
            <a:ext cx="1644480" cy="1644480"/>
            <a:chOff x="843120" y="3032280"/>
            <a:chExt cx="1644480" cy="1644480"/>
          </a:xfrm>
        </p:grpSpPr>
        <p:sp>
          <p:nvSpPr>
            <p:cNvPr id="810" name="Oval 169"/>
            <p:cNvSpPr/>
            <p:nvPr/>
          </p:nvSpPr>
          <p:spPr>
            <a:xfrm>
              <a:off x="843120" y="3032280"/>
              <a:ext cx="1644480" cy="16444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0"/>
            <p:cNvSpPr/>
            <p:nvPr/>
          </p:nvSpPr>
          <p:spPr>
            <a:xfrm>
              <a:off x="1631520" y="3819600"/>
              <a:ext cx="67680" cy="6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71"/>
          <p:cNvSpPr/>
          <p:nvPr/>
        </p:nvSpPr>
        <p:spPr>
          <a:xfrm>
            <a:off x="1692360" y="3857760"/>
            <a:ext cx="79200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72"/>
          <p:cNvGrpSpPr/>
          <p:nvPr/>
        </p:nvGrpSpPr>
        <p:grpSpPr>
          <a:xfrm>
            <a:off x="6345360" y="2793960"/>
            <a:ext cx="2120760" cy="2121120"/>
            <a:chOff x="6345360" y="2793960"/>
            <a:chExt cx="2120760" cy="2121120"/>
          </a:xfrm>
        </p:grpSpPr>
        <p:sp>
          <p:nvSpPr>
            <p:cNvPr id="814" name="Oval 173"/>
            <p:cNvSpPr/>
            <p:nvPr/>
          </p:nvSpPr>
          <p:spPr>
            <a:xfrm>
              <a:off x="6345360" y="2793960"/>
              <a:ext cx="2120760" cy="21211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4"/>
            <p:cNvSpPr/>
            <p:nvPr/>
          </p:nvSpPr>
          <p:spPr>
            <a:xfrm>
              <a:off x="7362000" y="380916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76"/>
          <p:cNvSpPr/>
          <p:nvPr/>
        </p:nvSpPr>
        <p:spPr>
          <a:xfrm>
            <a:off x="1635120" y="340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78"/>
          <p:cNvSpPr/>
          <p:nvPr/>
        </p:nvSpPr>
        <p:spPr>
          <a:xfrm flipH="1" flipV="1">
            <a:off x="3519360" y="2707920"/>
            <a:ext cx="86544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79"/>
          <p:cNvSpPr/>
          <p:nvPr/>
        </p:nvSpPr>
        <p:spPr>
          <a:xfrm rot="3055200">
            <a:off x="3890880" y="2929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80"/>
          <p:cNvSpPr/>
          <p:nvPr/>
        </p:nvSpPr>
        <p:spPr>
          <a:xfrm flipH="1">
            <a:off x="6372360" y="3860640"/>
            <a:ext cx="100800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81"/>
          <p:cNvSpPr/>
          <p:nvPr/>
        </p:nvSpPr>
        <p:spPr>
          <a:xfrm rot="20709600">
            <a:off x="6364440" y="35985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nodeType="clickEffect" fill="hold">
                      <p:stCondLst>
                        <p:cond delay="0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43"/>
          <p:cNvGrpSpPr/>
          <p:nvPr/>
        </p:nvGrpSpPr>
        <p:grpSpPr>
          <a:xfrm>
            <a:off x="144360" y="165240"/>
            <a:ext cx="8810280" cy="6189120"/>
            <a:chOff x="144360" y="165240"/>
            <a:chExt cx="8810280" cy="6189120"/>
          </a:xfrm>
        </p:grpSpPr>
        <p:sp>
          <p:nvSpPr>
            <p:cNvPr id="823" name="AutoShape 8"/>
            <p:cNvSpPr/>
            <p:nvPr/>
          </p:nvSpPr>
          <p:spPr>
            <a:xfrm>
              <a:off x="144360" y="165240"/>
              <a:ext cx="8810280" cy="61891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42"/>
            <p:cNvGrpSpPr/>
            <p:nvPr/>
          </p:nvGrpSpPr>
          <p:grpSpPr>
            <a:xfrm>
              <a:off x="590040" y="1138320"/>
              <a:ext cx="7866720" cy="3535920"/>
              <a:chOff x="590040" y="1138320"/>
              <a:chExt cx="7866720" cy="3535920"/>
            </a:xfrm>
          </p:grpSpPr>
          <p:sp>
            <p:nvSpPr>
              <p:cNvPr id="825" name="Line 9"/>
              <p:cNvSpPr/>
              <p:nvPr/>
            </p:nvSpPr>
            <p:spPr>
              <a:xfrm flipV="1">
                <a:off x="614520" y="1138320"/>
                <a:ext cx="7839000" cy="2916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"/>
              <p:cNvSpPr/>
              <p:nvPr/>
            </p:nvSpPr>
            <p:spPr>
              <a:xfrm>
                <a:off x="592920" y="2023200"/>
                <a:ext cx="7863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590040" y="2906280"/>
                <a:ext cx="786348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2"/>
              <p:cNvSpPr/>
              <p:nvPr/>
            </p:nvSpPr>
            <p:spPr>
              <a:xfrm>
                <a:off x="592920" y="3791160"/>
                <a:ext cx="7863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3"/>
              <p:cNvSpPr/>
              <p:nvPr/>
            </p:nvSpPr>
            <p:spPr>
              <a:xfrm>
                <a:off x="590040" y="4674240"/>
                <a:ext cx="786348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AutoShape 23"/>
          <p:cNvSpPr/>
          <p:nvPr/>
        </p:nvSpPr>
        <p:spPr>
          <a:xfrm>
            <a:off x="6950160" y="3357720"/>
            <a:ext cx="1942920" cy="127944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7321320" y="369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数学诊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1851120" y="1500120"/>
            <a:ext cx="56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圆的半径扩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的面积也扩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3194280" y="236376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半径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的圆，周长和面积相等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201400" y="3189240"/>
            <a:ext cx="20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一个圆的面积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。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5" descr=""/>
          <p:cNvPicPr/>
          <p:nvPr/>
        </p:nvPicPr>
        <p:blipFill>
          <a:blip r:embed="rId1"/>
          <a:stretch/>
        </p:blipFill>
        <p:spPr>
          <a:xfrm>
            <a:off x="36360" y="4221000"/>
            <a:ext cx="1295640" cy="23036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6" descr=""/>
          <p:cNvPicPr/>
          <p:nvPr/>
        </p:nvPicPr>
        <p:blipFill>
          <a:blip r:embed="rId2"/>
          <a:stretch/>
        </p:blipFill>
        <p:spPr>
          <a:xfrm>
            <a:off x="5845320" y="4268880"/>
            <a:ext cx="3190680" cy="24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44"/>
          <p:cNvSpPr/>
          <p:nvPr/>
        </p:nvSpPr>
        <p:spPr>
          <a:xfrm>
            <a:off x="8030160" y="1428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5"/>
          <p:cNvSpPr/>
          <p:nvPr/>
        </p:nvSpPr>
        <p:spPr>
          <a:xfrm>
            <a:off x="7597080" y="2286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6"/>
          <p:cNvSpPr/>
          <p:nvPr/>
        </p:nvSpPr>
        <p:spPr>
          <a:xfrm>
            <a:off x="5171400" y="3143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0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4" dur="250" autoRev="1" fill="hold"/>
                                        <p:tgtEl>
                                          <p:spTgt spid="8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5821200" y="538200"/>
            <a:ext cx="2175120" cy="253836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2538360"/>
              <a:gd name="textAreaBottom" fmla="*/ 2538720 h 2538360"/>
            </a:gdLst>
            <a:ahLst/>
            <a:rect l="textAreaLeft" t="textAreaTop" r="textAreaRight" b="textAreaBottom"/>
            <a:pathLst>
              <a:path w="1370" h="1599">
                <a:moveTo>
                  <a:pt x="71" y="79"/>
                </a:moveTo>
                <a:cubicBezTo>
                  <a:pt x="63" y="456"/>
                  <a:pt x="0" y="893"/>
                  <a:pt x="94" y="1265"/>
                </a:cubicBezTo>
                <a:cubicBezTo>
                  <a:pt x="107" y="1369"/>
                  <a:pt x="119" y="1515"/>
                  <a:pt x="196" y="1592"/>
                </a:cubicBezTo>
                <a:cubicBezTo>
                  <a:pt x="320" y="1585"/>
                  <a:pt x="447" y="1599"/>
                  <a:pt x="568" y="1570"/>
                </a:cubicBezTo>
                <a:cubicBezTo>
                  <a:pt x="610" y="1560"/>
                  <a:pt x="637" y="1516"/>
                  <a:pt x="659" y="1479"/>
                </a:cubicBezTo>
                <a:cubicBezTo>
                  <a:pt x="683" y="1438"/>
                  <a:pt x="704" y="1344"/>
                  <a:pt x="704" y="1344"/>
                </a:cubicBezTo>
                <a:cubicBezTo>
                  <a:pt x="714" y="1264"/>
                  <a:pt x="723" y="1195"/>
                  <a:pt x="749" y="1118"/>
                </a:cubicBezTo>
                <a:cubicBezTo>
                  <a:pt x="773" y="921"/>
                  <a:pt x="903" y="561"/>
                  <a:pt x="693" y="485"/>
                </a:cubicBezTo>
                <a:cubicBezTo>
                  <a:pt x="563" y="496"/>
                  <a:pt x="549" y="470"/>
                  <a:pt x="523" y="576"/>
                </a:cubicBezTo>
                <a:cubicBezTo>
                  <a:pt x="530" y="810"/>
                  <a:pt x="473" y="1183"/>
                  <a:pt x="715" y="1333"/>
                </a:cubicBezTo>
                <a:cubicBezTo>
                  <a:pt x="753" y="1357"/>
                  <a:pt x="796" y="1367"/>
                  <a:pt x="839" y="1378"/>
                </a:cubicBezTo>
                <a:cubicBezTo>
                  <a:pt x="884" y="1374"/>
                  <a:pt x="930" y="1375"/>
                  <a:pt x="975" y="1366"/>
                </a:cubicBezTo>
                <a:cubicBezTo>
                  <a:pt x="988" y="1363"/>
                  <a:pt x="997" y="1350"/>
                  <a:pt x="1009" y="1344"/>
                </a:cubicBezTo>
                <a:cubicBezTo>
                  <a:pt x="1039" y="1328"/>
                  <a:pt x="1072" y="1319"/>
                  <a:pt x="1099" y="1299"/>
                </a:cubicBezTo>
                <a:cubicBezTo>
                  <a:pt x="1248" y="1192"/>
                  <a:pt x="1089" y="1257"/>
                  <a:pt x="1235" y="1208"/>
                </a:cubicBezTo>
                <a:cubicBezTo>
                  <a:pt x="1300" y="1143"/>
                  <a:pt x="1306" y="1157"/>
                  <a:pt x="1325" y="1073"/>
                </a:cubicBezTo>
                <a:cubicBezTo>
                  <a:pt x="1335" y="1028"/>
                  <a:pt x="1348" y="937"/>
                  <a:pt x="1348" y="937"/>
                </a:cubicBezTo>
                <a:cubicBezTo>
                  <a:pt x="1370" y="625"/>
                  <a:pt x="1348" y="313"/>
                  <a:pt x="134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6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7"/>
          <p:cNvSpPr/>
          <p:nvPr/>
        </p:nvSpPr>
        <p:spPr>
          <a:xfrm>
            <a:off x="1042920" y="4154400"/>
            <a:ext cx="7199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图中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（     ）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A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（   ）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（   ）。如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厘米，那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直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）厘米，圆的周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）厘米，圆的面积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）平方厘米，半圆的面积为（     ）平方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8" descr="53"/>
          <p:cNvPicPr/>
          <p:nvPr/>
        </p:nvPicPr>
        <p:blipFill>
          <a:blip r:embed="rId1"/>
          <a:stretch/>
        </p:blipFill>
        <p:spPr>
          <a:xfrm>
            <a:off x="2340000" y="870120"/>
            <a:ext cx="3816360" cy="3135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0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2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5" descr=""/>
          <p:cNvPicPr/>
          <p:nvPr/>
        </p:nvPicPr>
        <p:blipFill>
          <a:blip r:embed="rId1"/>
          <a:stretch/>
        </p:blipFill>
        <p:spPr>
          <a:xfrm>
            <a:off x="5867280" y="4456080"/>
            <a:ext cx="3168720" cy="221292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7"/>
          <p:cNvSpPr/>
          <p:nvPr/>
        </p:nvSpPr>
        <p:spPr>
          <a:xfrm>
            <a:off x="828720" y="1125360"/>
            <a:ext cx="64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力量得一棵树干的周长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5.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。这棵树干的横截面积约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8" descr="O054s"/>
          <p:cNvPicPr/>
          <p:nvPr/>
        </p:nvPicPr>
        <p:blipFill>
          <a:blip r:embed="rId2"/>
          <a:stretch/>
        </p:blipFill>
        <p:spPr>
          <a:xfrm>
            <a:off x="4282920" y="3303720"/>
            <a:ext cx="174960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nodeType="clickEffect" fill="hold">
                      <p:stCondLst>
                        <p:cond delay="0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7"/>
          <p:cNvSpPr/>
          <p:nvPr/>
        </p:nvSpPr>
        <p:spPr>
          <a:xfrm>
            <a:off x="3780000" y="1197000"/>
            <a:ext cx="47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个圆环，它的内圆直径是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外圆直径是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如果圆环部分种草，种草的面积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5"/>
          <p:cNvGrpSpPr/>
          <p:nvPr/>
        </p:nvGrpSpPr>
        <p:grpSpPr>
          <a:xfrm>
            <a:off x="684360" y="3068640"/>
            <a:ext cx="3024000" cy="3024360"/>
            <a:chOff x="684360" y="3068640"/>
            <a:chExt cx="3024000" cy="3024360"/>
          </a:xfrm>
        </p:grpSpPr>
        <p:sp>
          <p:nvSpPr>
            <p:cNvPr id="850" name="Oval 12"/>
            <p:cNvSpPr/>
            <p:nvPr/>
          </p:nvSpPr>
          <p:spPr>
            <a:xfrm>
              <a:off x="684360" y="3068640"/>
              <a:ext cx="3024000" cy="3024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1123560" y="3507840"/>
              <a:ext cx="2143800" cy="2144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8f5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nodeType="clickEffect" fill="hold">
                      <p:stCondLst>
                        <p:cond delay="0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2" descr="图片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" descr=""/>
          <p:cNvPicPr/>
          <p:nvPr/>
        </p:nvPicPr>
        <p:blipFill>
          <a:blip r:embed="rId2"/>
          <a:stretch/>
        </p:blipFill>
        <p:spPr>
          <a:xfrm>
            <a:off x="825480" y="563400"/>
            <a:ext cx="4394160" cy="6034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4" name="WordArt 5"/>
          <p:cNvSpPr txBox="1"/>
          <p:nvPr/>
        </p:nvSpPr>
        <p:spPr>
          <a:xfrm rot="5400000">
            <a:off x="3601440" y="1881720"/>
            <a:ext cx="4030560" cy="22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冒险岛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nodeType="clickEffect" fill="hold">
                      <p:stCondLst>
                        <p:cond delay="0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5"/>
          <p:cNvSpPr/>
          <p:nvPr/>
        </p:nvSpPr>
        <p:spPr>
          <a:xfrm>
            <a:off x="216000" y="142920"/>
            <a:ext cx="874872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3927240" y="111744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求下图中涂色部分的面积。（单位：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7"/>
          <p:cNvGrpSpPr/>
          <p:nvPr/>
        </p:nvGrpSpPr>
        <p:grpSpPr>
          <a:xfrm>
            <a:off x="-96840" y="2388960"/>
            <a:ext cx="4940640" cy="2777040"/>
            <a:chOff x="-96840" y="2388960"/>
            <a:chExt cx="4940640" cy="2777040"/>
          </a:xfrm>
        </p:grpSpPr>
        <p:sp>
          <p:nvSpPr>
            <p:cNvPr id="858" name="PubChord"/>
            <p:cNvSpPr/>
            <p:nvPr/>
          </p:nvSpPr>
          <p:spPr>
            <a:xfrm flipH="1" rot="8075400">
              <a:off x="295200" y="2810160"/>
              <a:ext cx="1992240" cy="1934640"/>
            </a:xfrm>
            <a:custGeom>
              <a:avLst/>
              <a:gdLst>
                <a:gd name="textAreaLeft" fmla="*/ 291960 w 1992240"/>
                <a:gd name="textAreaRight" fmla="*/ 1700280 w 1992240"/>
                <a:gd name="textAreaTop" fmla="*/ 282960 h 1934640"/>
                <a:gd name="textAreaBottom" fmla="*/ 1651680 h 19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PubChord"/>
            <p:cNvSpPr/>
            <p:nvPr/>
          </p:nvSpPr>
          <p:spPr>
            <a:xfrm rot="13510800">
              <a:off x="2470320" y="2813040"/>
              <a:ext cx="1978920" cy="1935000"/>
            </a:xfrm>
            <a:custGeom>
              <a:avLst/>
              <a:gdLst>
                <a:gd name="textAreaLeft" fmla="*/ 289080 w 1978920"/>
                <a:gd name="textAreaRight" fmla="*/ 1689840 w 1978920"/>
                <a:gd name="textAreaTop" fmla="*/ 282960 h 1935000"/>
                <a:gd name="textAreaBottom" fmla="*/ 1652040 h 19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2"/>
            <p:cNvSpPr/>
            <p:nvPr/>
          </p:nvSpPr>
          <p:spPr>
            <a:xfrm>
              <a:off x="1264680" y="2799360"/>
              <a:ext cx="2224080" cy="19663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43"/>
          <p:cNvGrpSpPr/>
          <p:nvPr/>
        </p:nvGrpSpPr>
        <p:grpSpPr>
          <a:xfrm>
            <a:off x="1260000" y="4726080"/>
            <a:ext cx="2232360" cy="374760"/>
            <a:chOff x="1260000" y="4726080"/>
            <a:chExt cx="2232360" cy="374760"/>
          </a:xfrm>
        </p:grpSpPr>
        <p:sp>
          <p:nvSpPr>
            <p:cNvPr id="862" name="Line 38"/>
            <p:cNvSpPr/>
            <p:nvPr/>
          </p:nvSpPr>
          <p:spPr>
            <a:xfrm>
              <a:off x="1260360" y="4740480"/>
              <a:ext cx="0" cy="3603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39"/>
            <p:cNvSpPr/>
            <p:nvPr/>
          </p:nvSpPr>
          <p:spPr>
            <a:xfrm>
              <a:off x="3492360" y="4740480"/>
              <a:ext cx="0" cy="3603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0"/>
            <p:cNvSpPr/>
            <p:nvPr/>
          </p:nvSpPr>
          <p:spPr>
            <a:xfrm>
              <a:off x="2916000" y="4956120"/>
              <a:ext cx="576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41"/>
            <p:cNvSpPr/>
            <p:nvPr/>
          </p:nvSpPr>
          <p:spPr>
            <a:xfrm flipH="1">
              <a:off x="1260000" y="4956120"/>
              <a:ext cx="64764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42"/>
            <p:cNvSpPr/>
            <p:nvPr/>
          </p:nvSpPr>
          <p:spPr>
            <a:xfrm>
              <a:off x="1959840" y="47260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0"/>
          <p:cNvGrpSpPr/>
          <p:nvPr/>
        </p:nvGrpSpPr>
        <p:grpSpPr>
          <a:xfrm>
            <a:off x="4429080" y="2782800"/>
            <a:ext cx="368280" cy="1943280"/>
            <a:chOff x="4429080" y="2782800"/>
            <a:chExt cx="368280" cy="1943280"/>
          </a:xfrm>
        </p:grpSpPr>
        <p:sp>
          <p:nvSpPr>
            <p:cNvPr id="868" name="Line 45"/>
            <p:cNvSpPr/>
            <p:nvPr/>
          </p:nvSpPr>
          <p:spPr>
            <a:xfrm>
              <a:off x="4449600" y="4726080"/>
              <a:ext cx="33804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6"/>
            <p:cNvSpPr/>
            <p:nvPr/>
          </p:nvSpPr>
          <p:spPr>
            <a:xfrm>
              <a:off x="4439880" y="2782800"/>
              <a:ext cx="3384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47"/>
            <p:cNvSpPr/>
            <p:nvPr/>
          </p:nvSpPr>
          <p:spPr>
            <a:xfrm flipV="1">
              <a:off x="4641480" y="2782800"/>
              <a:ext cx="0" cy="501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48"/>
            <p:cNvSpPr/>
            <p:nvPr/>
          </p:nvSpPr>
          <p:spPr>
            <a:xfrm>
              <a:off x="4641480" y="4162320"/>
              <a:ext cx="0" cy="5637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49"/>
            <p:cNvSpPr/>
            <p:nvPr/>
          </p:nvSpPr>
          <p:spPr>
            <a:xfrm rot="16200000">
              <a:off x="4332240" y="366048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74"/>
          <p:cNvGrpSpPr/>
          <p:nvPr/>
        </p:nvGrpSpPr>
        <p:grpSpPr>
          <a:xfrm>
            <a:off x="4976640" y="1851480"/>
            <a:ext cx="4230000" cy="4229640"/>
            <a:chOff x="4976640" y="1851480"/>
            <a:chExt cx="4230000" cy="4229640"/>
          </a:xfrm>
        </p:grpSpPr>
        <p:sp>
          <p:nvSpPr>
            <p:cNvPr id="874" name="PubChord"/>
            <p:cNvSpPr/>
            <p:nvPr/>
          </p:nvSpPr>
          <p:spPr>
            <a:xfrm flipV="1" rot="13464600">
              <a:off x="7163640" y="3258360"/>
              <a:ext cx="1440000" cy="1327680"/>
            </a:xfrm>
            <a:custGeom>
              <a:avLst/>
              <a:gdLst>
                <a:gd name="textAreaLeft" fmla="*/ 210960 w 1440000"/>
                <a:gd name="textAreaRight" fmla="*/ 1229040 w 1440000"/>
                <a:gd name="textAreaTop" fmla="*/ 193680 h 1327680"/>
                <a:gd name="textAreaBottom" fmla="*/ 1134000 h 13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PubChord"/>
            <p:cNvSpPr/>
            <p:nvPr/>
          </p:nvSpPr>
          <p:spPr>
            <a:xfrm rot="8110800">
              <a:off x="5579280" y="2487240"/>
              <a:ext cx="3024360" cy="2957400"/>
            </a:xfrm>
            <a:custGeom>
              <a:avLst/>
              <a:gdLst>
                <a:gd name="textAreaLeft" fmla="*/ 442800 w 3024360"/>
                <a:gd name="textAreaRight" fmla="*/ 2581560 w 3024360"/>
                <a:gd name="textAreaTop" fmla="*/ 433080 h 2957400"/>
                <a:gd name="textAreaBottom" fmla="*/ 2524320 h 29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cc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PubChord"/>
            <p:cNvSpPr/>
            <p:nvPr/>
          </p:nvSpPr>
          <p:spPr>
            <a:xfrm flipH="1" rot="13489200">
              <a:off x="5578920" y="3147480"/>
              <a:ext cx="1565280" cy="1656000"/>
            </a:xfrm>
            <a:custGeom>
              <a:avLst/>
              <a:gdLst>
                <a:gd name="textAreaLeft" fmla="*/ 228600 w 1565280"/>
                <a:gd name="textAreaRight" fmla="*/ 1336680 w 1565280"/>
                <a:gd name="textAreaTop" fmla="*/ 243000 h 1656000"/>
                <a:gd name="textAreaBottom" fmla="*/ 141300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62"/>
          <p:cNvGrpSpPr/>
          <p:nvPr/>
        </p:nvGrpSpPr>
        <p:grpSpPr>
          <a:xfrm>
            <a:off x="7164360" y="4653000"/>
            <a:ext cx="1440000" cy="417600"/>
            <a:chOff x="7164360" y="4653000"/>
            <a:chExt cx="1440000" cy="417600"/>
          </a:xfrm>
        </p:grpSpPr>
        <p:sp>
          <p:nvSpPr>
            <p:cNvPr id="878" name="Line 63"/>
            <p:cNvSpPr/>
            <p:nvPr/>
          </p:nvSpPr>
          <p:spPr>
            <a:xfrm>
              <a:off x="7164360" y="4708440"/>
              <a:ext cx="0" cy="3603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604360" y="4653000"/>
              <a:ext cx="0" cy="41760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8211600" y="4925880"/>
              <a:ext cx="3924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 flipH="1">
              <a:off x="7164360" y="4924440"/>
              <a:ext cx="3909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67"/>
            <p:cNvSpPr/>
            <p:nvPr/>
          </p:nvSpPr>
          <p:spPr>
            <a:xfrm>
              <a:off x="7692840" y="4694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68"/>
          <p:cNvGrpSpPr/>
          <p:nvPr/>
        </p:nvGrpSpPr>
        <p:grpSpPr>
          <a:xfrm>
            <a:off x="5724360" y="4653000"/>
            <a:ext cx="1440000" cy="417600"/>
            <a:chOff x="5724360" y="4653000"/>
            <a:chExt cx="1440000" cy="417600"/>
          </a:xfrm>
        </p:grpSpPr>
        <p:sp>
          <p:nvSpPr>
            <p:cNvPr id="884" name="Line 69"/>
            <p:cNvSpPr/>
            <p:nvPr/>
          </p:nvSpPr>
          <p:spPr>
            <a:xfrm>
              <a:off x="5724360" y="4708440"/>
              <a:ext cx="0" cy="3603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164360" y="4653000"/>
              <a:ext cx="0" cy="41760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6771600" y="4925880"/>
              <a:ext cx="3924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 flipH="1">
              <a:off x="5724360" y="4924440"/>
              <a:ext cx="3909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73"/>
            <p:cNvSpPr/>
            <p:nvPr/>
          </p:nvSpPr>
          <p:spPr>
            <a:xfrm>
              <a:off x="6252840" y="4694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0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110"/>
          <p:cNvSpPr/>
          <p:nvPr/>
        </p:nvSpPr>
        <p:spPr>
          <a:xfrm>
            <a:off x="216000" y="0"/>
            <a:ext cx="874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468360" y="2173320"/>
          <a:ext cx="8172360" cy="363204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1944720"/>
                <a:gridCol w="2700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(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米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1ad"/>
                    </a:solidFill>
                  </a:tcPr>
                </a:tc>
              </a:tr>
            </a:tbl>
          </a:graphicData>
        </a:graphic>
      </p:graphicFrame>
      <p:sp>
        <p:nvSpPr>
          <p:cNvPr id="891" name="Text Box 37"/>
          <p:cNvSpPr/>
          <p:nvPr/>
        </p:nvSpPr>
        <p:spPr>
          <a:xfrm>
            <a:off x="554040" y="118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填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nodeType="clickEffect" fill="hold">
                      <p:stCondLst>
                        <p:cond delay="0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5" descr="uu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10"/>
          <p:cNvSpPr/>
          <p:nvPr/>
        </p:nvSpPr>
        <p:spPr>
          <a:xfrm>
            <a:off x="3247200" y="1441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华文彩云"/>
              </a:rPr>
              <a:t>恭喜你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3039480" y="36734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华文彩云"/>
              </a:rPr>
              <a:t>顺利过关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nodeType="clickEffect" fill="hold">
                      <p:stCondLst>
                        <p:cond delay="0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1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12" descr="765"/>
          <p:cNvPicPr/>
          <p:nvPr/>
        </p:nvPicPr>
        <p:blipFill>
          <a:blip r:embed="rId1"/>
          <a:stretch/>
        </p:blipFill>
        <p:spPr>
          <a:xfrm>
            <a:off x="647640" y="430200"/>
            <a:ext cx="8496360" cy="642780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44"/>
          <p:cNvGrpSpPr/>
          <p:nvPr/>
        </p:nvGrpSpPr>
        <p:grpSpPr>
          <a:xfrm>
            <a:off x="4067280" y="5516640"/>
            <a:ext cx="3529080" cy="1010160"/>
            <a:chOff x="4067280" y="5516640"/>
            <a:chExt cx="3529080" cy="1010160"/>
          </a:xfrm>
        </p:grpSpPr>
        <p:sp>
          <p:nvSpPr>
            <p:cNvPr id="898" name="Freeform 43"/>
            <p:cNvSpPr/>
            <p:nvPr/>
          </p:nvSpPr>
          <p:spPr>
            <a:xfrm>
              <a:off x="4067280" y="5516640"/>
              <a:ext cx="3313080" cy="100800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41"/>
            <p:cNvSpPr/>
            <p:nvPr/>
          </p:nvSpPr>
          <p:spPr>
            <a:xfrm>
              <a:off x="4427640" y="576252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99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45"/>
          <p:cNvSpPr/>
          <p:nvPr/>
        </p:nvSpPr>
        <p:spPr>
          <a:xfrm>
            <a:off x="1571760" y="1344600"/>
            <a:ext cx="70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楷体_GB2312"/>
              </a:rPr>
              <a:t>    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今天我学习了圆的面积。我知道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把一个圆平均分成若干等份，然后拼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起，可以拼成一个近似（     ）。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的宽是圆的（    ）</a:t>
            </a:r>
            <a:r>
              <a:rPr b="0" lang="en-US" sz="2400" spc="-1" strike="noStrike">
                <a:solidFill>
                  <a:srgbClr val="ffff00"/>
                </a:solidFill>
                <a:latin typeface="楷体_GB2312"/>
              </a:rPr>
              <a:t>,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长是圆的（       ）</a:t>
            </a:r>
            <a:r>
              <a:rPr b="0" lang="en-US" sz="2400" spc="-1" strike="noStrike">
                <a:solidFill>
                  <a:srgbClr val="ffff00"/>
                </a:solidFill>
                <a:latin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</a:rPr>
              <a:t>求圆面积用公式表示（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115" descr="图片4"/>
          <p:cNvPicPr/>
          <p:nvPr/>
        </p:nvPicPr>
        <p:blipFill>
          <a:blip r:embed="rId2"/>
          <a:stretch/>
        </p:blipFill>
        <p:spPr>
          <a:xfrm>
            <a:off x="7388280" y="515772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117"/>
          <p:cNvSpPr/>
          <p:nvPr/>
        </p:nvSpPr>
        <p:spPr>
          <a:xfrm>
            <a:off x="5011920" y="20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19"/>
          <p:cNvSpPr/>
          <p:nvPr/>
        </p:nvSpPr>
        <p:spPr>
          <a:xfrm>
            <a:off x="6392880" y="246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周长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1"/>
          <p:cNvSpPr/>
          <p:nvPr/>
        </p:nvSpPr>
        <p:spPr>
          <a:xfrm>
            <a:off x="4751280" y="2990880"/>
            <a:ext cx="262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S 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ff33cc"/>
                </a:solidFill>
                <a:latin typeface="Monotype Corsiva"/>
              </a:rPr>
              <a:t>r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 baseline="36000">
                <a:solidFill>
                  <a:srgbClr val="ff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7"/>
          <p:cNvSpPr/>
          <p:nvPr/>
        </p:nvSpPr>
        <p:spPr>
          <a:xfrm>
            <a:off x="3543120" y="246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28"/>
          <p:cNvSpPr/>
          <p:nvPr/>
        </p:nvSpPr>
        <p:spPr>
          <a:xfrm>
            <a:off x="6315120" y="4422600"/>
            <a:ext cx="3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33"/>
          <p:cNvGrpSpPr/>
          <p:nvPr/>
        </p:nvGrpSpPr>
        <p:grpSpPr>
          <a:xfrm>
            <a:off x="2771640" y="4060800"/>
            <a:ext cx="3649680" cy="1239840"/>
            <a:chOff x="2771640" y="4060800"/>
            <a:chExt cx="3649680" cy="1239840"/>
          </a:xfrm>
        </p:grpSpPr>
        <p:pic>
          <p:nvPicPr>
            <p:cNvPr id="908" name="Picture 134" descr=""/>
            <p:cNvPicPr/>
            <p:nvPr/>
          </p:nvPicPr>
          <p:blipFill>
            <a:blip r:embed="rId3"/>
            <a:stretch/>
          </p:blipFill>
          <p:spPr>
            <a:xfrm>
              <a:off x="2771640" y="4060800"/>
              <a:ext cx="364968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Rectangle 135"/>
            <p:cNvSpPr/>
            <p:nvPr/>
          </p:nvSpPr>
          <p:spPr>
            <a:xfrm>
              <a:off x="2832840" y="4185000"/>
              <a:ext cx="3410280" cy="10537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143"/>
          <p:cNvGrpSpPr/>
          <p:nvPr/>
        </p:nvGrpSpPr>
        <p:grpSpPr>
          <a:xfrm>
            <a:off x="4042800" y="3370320"/>
            <a:ext cx="1105920" cy="791640"/>
            <a:chOff x="4042800" y="3370320"/>
            <a:chExt cx="1105920" cy="791640"/>
          </a:xfrm>
        </p:grpSpPr>
        <p:grpSp>
          <p:nvGrpSpPr>
            <p:cNvPr id="911" name="Group 142"/>
            <p:cNvGrpSpPr/>
            <p:nvPr/>
          </p:nvGrpSpPr>
          <p:grpSpPr>
            <a:xfrm>
              <a:off x="4042800" y="3370320"/>
              <a:ext cx="403200" cy="791640"/>
              <a:chOff x="4042800" y="3370320"/>
              <a:chExt cx="403200" cy="791640"/>
            </a:xfrm>
          </p:grpSpPr>
          <p:sp>
            <p:nvSpPr>
              <p:cNvPr id="912" name="Text Box 130"/>
              <p:cNvSpPr/>
              <p:nvPr/>
            </p:nvSpPr>
            <p:spPr>
              <a:xfrm>
                <a:off x="4053960" y="3370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131"/>
              <p:cNvSpPr/>
              <p:nvPr/>
            </p:nvSpPr>
            <p:spPr>
              <a:xfrm>
                <a:off x="4042800" y="3702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132"/>
              <p:cNvSpPr/>
              <p:nvPr/>
            </p:nvSpPr>
            <p:spPr>
              <a:xfrm>
                <a:off x="4078080" y="3805200"/>
                <a:ext cx="367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6"/>
            <p:cNvGrpSpPr/>
            <p:nvPr/>
          </p:nvGrpSpPr>
          <p:grpSpPr>
            <a:xfrm>
              <a:off x="4408200" y="3500280"/>
              <a:ext cx="740520" cy="529200"/>
              <a:chOff x="4408200" y="3500280"/>
              <a:chExt cx="740520" cy="529200"/>
            </a:xfrm>
          </p:grpSpPr>
          <p:sp>
            <p:nvSpPr>
              <p:cNvPr id="916" name="Text Box 137"/>
              <p:cNvSpPr/>
              <p:nvPr/>
            </p:nvSpPr>
            <p:spPr>
              <a:xfrm>
                <a:off x="4408200" y="35697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Arial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138"/>
              <p:cNvSpPr/>
              <p:nvPr/>
            </p:nvSpPr>
            <p:spPr>
              <a:xfrm>
                <a:off x="4631400" y="3500280"/>
                <a:ext cx="51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Arial"/>
                  </a:rPr>
                  <a:t>π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Monotype Corsiv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Oval 144"/>
          <p:cNvSpPr/>
          <p:nvPr/>
        </p:nvSpPr>
        <p:spPr>
          <a:xfrm>
            <a:off x="324000" y="5862600"/>
            <a:ext cx="1295280" cy="5907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Arial"/>
              </a:rPr>
              <a:t>返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0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9" dur="250" autoRev="1" fill="hold"/>
                                        <p:tgtEl>
                                          <p:spTgt spid="8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200610309554127119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3"/>
          <p:cNvSpPr/>
          <p:nvPr/>
        </p:nvSpPr>
        <p:spPr>
          <a:xfrm>
            <a:off x="-541440" y="244944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99"/>
                </a:solidFill>
                <a:latin typeface="汉仪柏青体简"/>
                <a:ea typeface="汉仪柏青体简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nodeType="clickEffect" fill="hold">
                      <p:stCondLst>
                        <p:cond delay="0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897280" y="209520"/>
            <a:ext cx="3125520" cy="4211640"/>
            <a:chOff x="2897280" y="209520"/>
            <a:chExt cx="3125520" cy="4211640"/>
          </a:xfrm>
        </p:grpSpPr>
        <p:sp>
          <p:nvSpPr>
            <p:cNvPr id="229" name="Arc 4"/>
            <p:cNvSpPr/>
            <p:nvPr/>
          </p:nvSpPr>
          <p:spPr>
            <a:xfrm>
              <a:off x="2897280" y="1332000"/>
              <a:ext cx="3125520" cy="308916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3089160"/>
                <a:gd name="textAreaBottom" fmla="*/ 3089520 h 3089160"/>
              </a:gdLst>
              <a:ahLst/>
              <a:rect l="textAreaLeft" t="textAreaTop" r="textAreaRight" b="textAreaBottom"/>
              <a:pathLst>
                <a:path fill="none" w="43200" h="42503">
                  <a:moveTo>
                    <a:pt x="29815" y="926"/>
                  </a:moveTo>
                  <a:cubicBezTo>
                    <a:pt x="37913" y="4256"/>
                    <a:pt x="43200" y="12146"/>
                    <a:pt x="43200" y="20903"/>
                  </a:cubicBezTo>
                  <a:cubicBezTo>
                    <a:pt x="43200" y="32832"/>
                    <a:pt x="33529" y="42503"/>
                    <a:pt x="21600" y="42503"/>
                  </a:cubicBezTo>
                  <a:cubicBezTo>
                    <a:pt x="9670" y="42503"/>
                    <a:pt x="0" y="32832"/>
                    <a:pt x="0" y="20903"/>
                  </a:cubicBezTo>
                  <a:cubicBezTo>
                    <a:pt x="-1" y="11069"/>
                    <a:pt x="6641" y="2477"/>
                    <a:pt x="16157" y="0"/>
                  </a:cubicBezTo>
                </a:path>
                <a:path stroke="0" w="43200" h="42503">
                  <a:moveTo>
                    <a:pt x="29815" y="926"/>
                  </a:moveTo>
                  <a:cubicBezTo>
                    <a:pt x="37913" y="4256"/>
                    <a:pt x="43200" y="12146"/>
                    <a:pt x="43200" y="20903"/>
                  </a:cubicBezTo>
                  <a:cubicBezTo>
                    <a:pt x="43200" y="32832"/>
                    <a:pt x="33529" y="42503"/>
                    <a:pt x="21600" y="42503"/>
                  </a:cubicBezTo>
                  <a:cubicBezTo>
                    <a:pt x="9670" y="42503"/>
                    <a:pt x="0" y="32832"/>
                    <a:pt x="0" y="20903"/>
                  </a:cubicBezTo>
                  <a:cubicBezTo>
                    <a:pt x="-1" y="11069"/>
                    <a:pt x="6641" y="2477"/>
                    <a:pt x="16157" y="0"/>
                  </a:cubicBezTo>
                  <a:lnTo>
                    <a:pt x="21600" y="20903"/>
                  </a:lnTo>
                  <a:lnTo>
                    <a:pt x="29815" y="926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4070520" y="209520"/>
              <a:ext cx="1757160" cy="1149480"/>
            </a:xfrm>
            <a:custGeom>
              <a:avLst/>
              <a:gdLst>
                <a:gd name="textAreaLeft" fmla="*/ 0 w 1757160"/>
                <a:gd name="textAreaRight" fmla="*/ 1757520 w 175716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107" h="724">
                  <a:moveTo>
                    <a:pt x="0" y="704"/>
                  </a:moveTo>
                  <a:cubicBezTo>
                    <a:pt x="83" y="724"/>
                    <a:pt x="166" y="714"/>
                    <a:pt x="248" y="692"/>
                  </a:cubicBezTo>
                  <a:cubicBezTo>
                    <a:pt x="302" y="639"/>
                    <a:pt x="272" y="673"/>
                    <a:pt x="327" y="591"/>
                  </a:cubicBezTo>
                  <a:cubicBezTo>
                    <a:pt x="335" y="580"/>
                    <a:pt x="350" y="557"/>
                    <a:pt x="350" y="557"/>
                  </a:cubicBezTo>
                  <a:cubicBezTo>
                    <a:pt x="377" y="474"/>
                    <a:pt x="366" y="512"/>
                    <a:pt x="384" y="444"/>
                  </a:cubicBezTo>
                  <a:cubicBezTo>
                    <a:pt x="385" y="432"/>
                    <a:pt x="388" y="305"/>
                    <a:pt x="406" y="263"/>
                  </a:cubicBezTo>
                  <a:cubicBezTo>
                    <a:pt x="519" y="0"/>
                    <a:pt x="896" y="83"/>
                    <a:pt x="1107" y="8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WordArt 6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3"/>
          <p:cNvSpPr/>
          <p:nvPr/>
        </p:nvSpPr>
        <p:spPr>
          <a:xfrm flipH="1">
            <a:off x="3200400" y="1887480"/>
            <a:ext cx="2286000" cy="230508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fill="none" w="43200" h="43200">
                <a:moveTo>
                  <a:pt x="16872" y="523"/>
                </a:moveTo>
                <a:cubicBezTo>
                  <a:pt x="18424" y="175"/>
                  <a:pt x="20009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1826"/>
                  <a:pt x="6562" y="3270"/>
                  <a:pt x="16002" y="738"/>
                </a:cubicBezTo>
              </a:path>
              <a:path stroke="0" w="43200" h="43200">
                <a:moveTo>
                  <a:pt x="16872" y="523"/>
                </a:moveTo>
                <a:cubicBezTo>
                  <a:pt x="18424" y="175"/>
                  <a:pt x="20009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1826"/>
                  <a:pt x="6562" y="3270"/>
                  <a:pt x="16002" y="738"/>
                </a:cubicBezTo>
                <a:lnTo>
                  <a:pt x="21600" y="21600"/>
                </a:lnTo>
                <a:lnTo>
                  <a:pt x="16872" y="523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"/>
          <p:cNvSpPr/>
          <p:nvPr/>
        </p:nvSpPr>
        <p:spPr>
          <a:xfrm>
            <a:off x="4589640" y="1057320"/>
            <a:ext cx="2027160" cy="86040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1277" h="542">
                <a:moveTo>
                  <a:pt x="0" y="542"/>
                </a:moveTo>
                <a:cubicBezTo>
                  <a:pt x="64" y="538"/>
                  <a:pt x="128" y="537"/>
                  <a:pt x="192" y="531"/>
                </a:cubicBezTo>
                <a:cubicBezTo>
                  <a:pt x="237" y="527"/>
                  <a:pt x="276" y="495"/>
                  <a:pt x="317" y="475"/>
                </a:cubicBezTo>
                <a:cubicBezTo>
                  <a:pt x="345" y="461"/>
                  <a:pt x="377" y="459"/>
                  <a:pt x="407" y="452"/>
                </a:cubicBezTo>
                <a:cubicBezTo>
                  <a:pt x="481" y="436"/>
                  <a:pt x="558" y="431"/>
                  <a:pt x="633" y="418"/>
                </a:cubicBezTo>
                <a:cubicBezTo>
                  <a:pt x="677" y="397"/>
                  <a:pt x="727" y="388"/>
                  <a:pt x="768" y="362"/>
                </a:cubicBezTo>
                <a:cubicBezTo>
                  <a:pt x="784" y="352"/>
                  <a:pt x="788" y="330"/>
                  <a:pt x="802" y="317"/>
                </a:cubicBezTo>
                <a:cubicBezTo>
                  <a:pt x="888" y="240"/>
                  <a:pt x="874" y="276"/>
                  <a:pt x="926" y="215"/>
                </a:cubicBezTo>
                <a:cubicBezTo>
                  <a:pt x="938" y="201"/>
                  <a:pt x="944" y="179"/>
                  <a:pt x="960" y="170"/>
                </a:cubicBezTo>
                <a:cubicBezTo>
                  <a:pt x="1001" y="147"/>
                  <a:pt x="1053" y="153"/>
                  <a:pt x="1096" y="136"/>
                </a:cubicBezTo>
                <a:cubicBezTo>
                  <a:pt x="1168" y="107"/>
                  <a:pt x="1224" y="53"/>
                  <a:pt x="1277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 flipV="1">
            <a:off x="4648320" y="18288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3"/>
          <p:cNvSpPr/>
          <p:nvPr/>
        </p:nvSpPr>
        <p:spPr>
          <a:xfrm flipH="1">
            <a:off x="3200400" y="1887480"/>
            <a:ext cx="2286000" cy="230508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fill="none" w="43200" h="43200">
                <a:moveTo>
                  <a:pt x="16872" y="523"/>
                </a:moveTo>
                <a:cubicBezTo>
                  <a:pt x="18424" y="175"/>
                  <a:pt x="20009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1826"/>
                  <a:pt x="6562" y="3270"/>
                  <a:pt x="16002" y="738"/>
                </a:cubicBezTo>
              </a:path>
              <a:path stroke="0" w="43200" h="43200">
                <a:moveTo>
                  <a:pt x="16872" y="523"/>
                </a:moveTo>
                <a:cubicBezTo>
                  <a:pt x="18424" y="175"/>
                  <a:pt x="20009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1826"/>
                  <a:pt x="6562" y="3270"/>
                  <a:pt x="16002" y="738"/>
                </a:cubicBezTo>
                <a:lnTo>
                  <a:pt x="21600" y="21600"/>
                </a:lnTo>
                <a:lnTo>
                  <a:pt x="16872" y="523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 flipV="1">
            <a:off x="4648320" y="18288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3200400" y="1905120"/>
            <a:ext cx="2286000" cy="228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 flipV="1">
            <a:off x="7543800" y="4038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4191120"/>
            <a:ext cx="7162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395280" y="62064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绕线法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1:09:05Z</dcterms:created>
  <dc:creator/>
  <dc:description/>
  <dc:language>en-US</dc:language>
  <cp:lastModifiedBy/>
  <dcterms:modified xsi:type="dcterms:W3CDTF">2013-11-02T01:09:59Z</dcterms:modified>
  <cp:revision>1</cp:revision>
  <dc:subject/>
  <dc:title/>
</cp:coreProperties>
</file>