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4.png" ContentType="image/png"/>
  <Override PartName="/ppt/media/image3.gif" ContentType="image/gif"/>
  <Override PartName="/ppt/media/image6.png" ContentType="image/png"/>
  <Override PartName="/ppt/media/wind.wav" ContentType="audio/x-wav"/>
  <Override PartName="/ppt/media/image12.jpeg" ContentType="image/jpeg"/>
  <Override PartName="/ppt/media/image13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C0A-BE95-4ABE-ACA8-DC3BFCEA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508-3C92-441F-BB85-EF09F313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075-CF58-4A55-B746-624F660B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070-5D92-4543-85A1-12FD0020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1C7-4FE9-4710-9B2F-5F7D20FA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5B2-A916-49AA-9BD7-BED54C63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369-B6E9-413D-9C44-5AC0354E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E75-5D39-4E46-8E38-910FD7DD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F33-2602-437E-9C96-706F767E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D58-E3F0-428F-9E8B-714EEC4B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24A-EE22-429C-BB9B-1B2508B7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058-3A17-4CC2-9E0F-9EA48634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25B-9275-4126-BF5C-70D6411A83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4382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圆的周长练习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3886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射阳实小 吴海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一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长的铁条围成一个圆形铁环，它的半径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057400"/>
            <a:ext cx="3733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r=C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=3.14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×3.1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=3.14÷6.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=0.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教室里挂着一只钟表，这只钟表的分针的尖端转动一周所走的路程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5.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，它的分针长多少厘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791320"/>
            <a:ext cx="441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209680"/>
            <a:ext cx="4114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r=c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125.6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×3.1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125.6÷6.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厘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只挂钟的分针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cm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钟后，分针的尖端所走的路程是多少厘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04920" y="152280"/>
            <a:ext cx="7772400" cy="1008000"/>
            <a:chOff x="304920" y="152280"/>
            <a:chExt cx="7772400" cy="1008000"/>
          </a:xfrm>
        </p:grpSpPr>
        <p:sp>
          <p:nvSpPr>
            <p:cNvPr id="70" name=""/>
            <p:cNvSpPr/>
            <p:nvPr/>
          </p:nvSpPr>
          <p:spPr>
            <a:xfrm>
              <a:off x="1371600" y="304560"/>
              <a:ext cx="373392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Arial"/>
                  <a:ea typeface="幼圆"/>
                </a:rPr>
                <a:t> 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幼圆"/>
                </a:rPr>
                <a:t>正方形里最大的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304920" y="152280"/>
              <a:ext cx="79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791320" y="311040"/>
              <a:ext cx="2286000" cy="67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971800" y="1981080"/>
            <a:ext cx="251460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1980720"/>
            <a:ext cx="25146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81080"/>
            <a:ext cx="25146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3124080"/>
            <a:ext cx="990360" cy="703440"/>
            <a:chOff x="3733920" y="3124080"/>
            <a:chExt cx="990360" cy="703440"/>
          </a:xfrm>
        </p:grpSpPr>
        <p:sp>
          <p:nvSpPr>
            <p:cNvPr id="77" name=""/>
            <p:cNvSpPr/>
            <p:nvPr/>
          </p:nvSpPr>
          <p:spPr>
            <a:xfrm>
              <a:off x="4191120" y="3200400"/>
              <a:ext cx="75960" cy="7596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33920" y="312408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295280" y="1219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何在正方形里画一个最大的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876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法：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出正方形的两条对角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56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以对角线交点为圆心，以边长为直径画圆。</a:t>
            </a:r>
            <a:r>
              <a:rPr b="0" lang="zh-CN" sz="11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152280"/>
            <a:ext cx="7772400" cy="1008000"/>
            <a:chOff x="304920" y="152280"/>
            <a:chExt cx="7772400" cy="1008000"/>
          </a:xfrm>
        </p:grpSpPr>
        <p:sp>
          <p:nvSpPr>
            <p:cNvPr id="84" name=""/>
            <p:cNvSpPr/>
            <p:nvPr/>
          </p:nvSpPr>
          <p:spPr>
            <a:xfrm>
              <a:off x="1371600" y="304560"/>
              <a:ext cx="373392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Arial"/>
                  <a:ea typeface="幼圆"/>
                </a:rPr>
                <a:t> 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幼圆"/>
                </a:rPr>
                <a:t>正方形里最大的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304920" y="152280"/>
              <a:ext cx="79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791320" y="311040"/>
              <a:ext cx="2286000" cy="67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971800" y="1981080"/>
            <a:ext cx="251460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971800" y="1980720"/>
            <a:ext cx="25146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981080"/>
            <a:ext cx="251460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733920" y="3124080"/>
            <a:ext cx="990360" cy="703440"/>
            <a:chOff x="3733920" y="3124080"/>
            <a:chExt cx="990360" cy="703440"/>
          </a:xfrm>
        </p:grpSpPr>
        <p:sp>
          <p:nvSpPr>
            <p:cNvPr id="91" name=""/>
            <p:cNvSpPr/>
            <p:nvPr/>
          </p:nvSpPr>
          <p:spPr>
            <a:xfrm>
              <a:off x="4191120" y="3200400"/>
              <a:ext cx="75960" cy="7596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33920" y="312408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95280" y="1219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何在正方形里画一个最大的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952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方形与圆之间有什么联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8880" y="5562720"/>
            <a:ext cx="269244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正方形的边长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圆的直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04920" y="152280"/>
            <a:ext cx="7772400" cy="1008000"/>
            <a:chOff x="304920" y="152280"/>
            <a:chExt cx="7772400" cy="1008000"/>
          </a:xfrm>
        </p:grpSpPr>
        <p:sp>
          <p:nvSpPr>
            <p:cNvPr id="98" name=""/>
            <p:cNvSpPr/>
            <p:nvPr/>
          </p:nvSpPr>
          <p:spPr>
            <a:xfrm>
              <a:off x="1371600" y="304560"/>
              <a:ext cx="373392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Arial"/>
                  <a:ea typeface="幼圆"/>
                </a:rPr>
                <a:t> 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幼圆"/>
                </a:rPr>
                <a:t>长方形里最大的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304920" y="152280"/>
              <a:ext cx="79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791320" y="311040"/>
              <a:ext cx="2286000" cy="67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286000" y="1981080"/>
            <a:ext cx="426708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86000" y="1980720"/>
            <a:ext cx="426708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981080"/>
            <a:ext cx="426708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86200" y="3108240"/>
            <a:ext cx="990360" cy="703440"/>
            <a:chOff x="3886200" y="3108240"/>
            <a:chExt cx="990360" cy="703440"/>
          </a:xfrm>
        </p:grpSpPr>
        <p:sp>
          <p:nvSpPr>
            <p:cNvPr id="105" name=""/>
            <p:cNvSpPr/>
            <p:nvPr/>
          </p:nvSpPr>
          <p:spPr>
            <a:xfrm>
              <a:off x="4343400" y="3184560"/>
              <a:ext cx="75960" cy="7596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86200" y="310824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95280" y="1219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何在长方形里画一个最大的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876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法：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出长方形的两条对角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6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以对角线交点为圆心，以宽为直径画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04920" y="152280"/>
            <a:ext cx="7772400" cy="1008000"/>
            <a:chOff x="304920" y="152280"/>
            <a:chExt cx="7772400" cy="1008000"/>
          </a:xfrm>
        </p:grpSpPr>
        <p:sp>
          <p:nvSpPr>
            <p:cNvPr id="112" name=""/>
            <p:cNvSpPr/>
            <p:nvPr/>
          </p:nvSpPr>
          <p:spPr>
            <a:xfrm>
              <a:off x="1371600" y="304560"/>
              <a:ext cx="373392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Arial"/>
                  <a:ea typeface="幼圆"/>
                </a:rPr>
                <a:t> 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幼圆"/>
                </a:rPr>
                <a:t>长方形里最大的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304920" y="152280"/>
              <a:ext cx="79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791320" y="311040"/>
              <a:ext cx="2286000" cy="67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286000" y="1981080"/>
            <a:ext cx="4267080" cy="251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86000" y="1980720"/>
            <a:ext cx="426708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1981080"/>
            <a:ext cx="426708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886200" y="3108240"/>
            <a:ext cx="990360" cy="703440"/>
            <a:chOff x="3886200" y="3108240"/>
            <a:chExt cx="990360" cy="703440"/>
          </a:xfrm>
        </p:grpSpPr>
        <p:sp>
          <p:nvSpPr>
            <p:cNvPr id="119" name=""/>
            <p:cNvSpPr/>
            <p:nvPr/>
          </p:nvSpPr>
          <p:spPr>
            <a:xfrm>
              <a:off x="4343400" y="3184560"/>
              <a:ext cx="75960" cy="7596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310824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幼圆"/>
                  <a:ea typeface="幼圆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95280" y="1219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何在长方形里画一个最大的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876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方形与圆之间有什么联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486400"/>
            <a:ext cx="43434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长方形的宽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圆的直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6858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把一块边长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米的正方形铁片，剪成一个最大的圆形，这个圆的周长是（                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33560" y="190980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知道：圆的直径和正方形的边长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41920" y="11905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31.4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分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41560" y="2773440"/>
            <a:ext cx="1944720" cy="194472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773440"/>
            <a:ext cx="1942920" cy="187308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6858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在长１０厘米，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的长方形中剪下一个最大的圆，这个圆的半径是（          ）厘米，周长是（           ）厘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1240" y="23432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知道：圆的直径和长方形的宽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89600" y="1119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2880" y="16225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5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0880" y="2990880"/>
            <a:ext cx="3095640" cy="187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25600" y="2990880"/>
            <a:ext cx="1800360" cy="18716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476280"/>
            <a:ext cx="878544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铁环的半径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要使铁滚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4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至少需要滚动多少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辆货车车轮半径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如果货车的车轮每分钟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圈。这辆货车每小时行多少千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根铁丝正好能围成直径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的圆，如果把它围成一个正方形，则这个正方形的边长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么叫圆的周长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7621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581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围成圆的曲线的长叫做圆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7640" y="442800"/>
            <a:ext cx="90010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绕一个圆形的养鱼池走一圈正好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4.2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个养鱼池的直径是多少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某学校的花坛都是圆形的，直径均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。如果给每个花坛箍一圈铁丝，那么全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花坛全部箍完共需要铁丝多少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条跑道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884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用半径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铁环滚动多少圈，正好从跑道这头滚到另一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094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我们把大树树干的横截面近似地看作一个圆，一棵大树树干的周长约是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157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厘米，求大树树干横截面的半径是多少厘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19573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295280"/>
            <a:ext cx="799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木盆的底面是圆形。在它的底部箍一根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的铁丝，铁丝的接头处用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.0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。这个木盆的底面直径是多少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1640" y="1989000"/>
            <a:ext cx="73436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根铁丝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8.8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绕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圈，每个圆形圈的半径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ubChord"/>
          <p:cNvSpPr/>
          <p:nvPr/>
        </p:nvSpPr>
        <p:spPr>
          <a:xfrm rot="18881400">
            <a:off x="5256720" y="-456480"/>
            <a:ext cx="3456000" cy="3454560"/>
          </a:xfrm>
          <a:prstGeom prst="pie">
            <a:avLst/>
          </a:prstGeom>
          <a:solidFill>
            <a:srgbClr val="0099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 rot="5400000">
            <a:off x="6804000" y="-644400"/>
            <a:ext cx="433440" cy="3456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558480" y="219240"/>
            <a:ext cx="8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590920"/>
            <a:ext cx="5105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14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14×8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14×8÷2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335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求右图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3809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048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求圆周长的一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求圆的周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3886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求半圆的周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14842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：半圆形的周长就等于圆的周长的一半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55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270828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206064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342900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C 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半圆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= πr+2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3333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个半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出它的周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637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知道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: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半圆周长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圆的周长的一半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一条直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32440" y="304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半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2440" y="304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直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47640" y="405000"/>
            <a:ext cx="4852440" cy="4044240"/>
            <a:chOff x="1547640" y="405000"/>
            <a:chExt cx="4852440" cy="4044240"/>
          </a:xfrm>
        </p:grpSpPr>
        <p:grpSp>
          <p:nvGrpSpPr>
            <p:cNvPr id="161" name=""/>
            <p:cNvGrpSpPr/>
            <p:nvPr/>
          </p:nvGrpSpPr>
          <p:grpSpPr>
            <a:xfrm>
              <a:off x="1547640" y="405000"/>
              <a:ext cx="4852440" cy="4044240"/>
              <a:chOff x="1547640" y="405000"/>
              <a:chExt cx="4852440" cy="4044240"/>
            </a:xfrm>
          </p:grpSpPr>
          <p:sp>
            <p:nvSpPr>
              <p:cNvPr id="162" name=""/>
              <p:cNvSpPr/>
              <p:nvPr/>
            </p:nvSpPr>
            <p:spPr>
              <a:xfrm rot="16200000">
                <a:off x="1950120" y="2520"/>
                <a:ext cx="4044240" cy="484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755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75515"/>
                  </a:path>
                </a:pathLst>
              </a:custGeom>
              <a:solidFill>
                <a:srgbClr val="bbe0e3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7640" y="2420640"/>
                <a:ext cx="48524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2261880" y="2420640"/>
              <a:ext cx="342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66"/>
                  </a:solidFill>
                  <a:latin typeface="Arial"/>
                </a:rPr>
                <a:t>12</a:t>
              </a:r>
              <a:r>
                <a:rPr b="0" lang="zh-CN" sz="3600" spc="-1" strike="noStrike">
                  <a:solidFill>
                    <a:srgbClr val="ff0066"/>
                  </a:solidFill>
                  <a:latin typeface="Arial"/>
                </a:rPr>
                <a:t>厘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042920" y="3068640"/>
            <a:ext cx="7345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半圆的周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周长的一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×3.14÷2+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18.84+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30.8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80360" y="5013360"/>
            <a:ext cx="13525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80360" y="5013360"/>
            <a:ext cx="1352520" cy="141912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898200" y="547920"/>
            <a:ext cx="1512720" cy="2520720"/>
            <a:chOff x="898200" y="547920"/>
            <a:chExt cx="1512720" cy="2520720"/>
          </a:xfrm>
        </p:grpSpPr>
        <p:sp>
          <p:nvSpPr>
            <p:cNvPr id="169" name=""/>
            <p:cNvSpPr/>
            <p:nvPr/>
          </p:nvSpPr>
          <p:spPr>
            <a:xfrm rot="16200000">
              <a:off x="770760" y="675360"/>
              <a:ext cx="1767600" cy="15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650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65082"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98560" y="1365120"/>
              <a:ext cx="0" cy="170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9480" y="1365120"/>
              <a:ext cx="0" cy="170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98200" y="3068640"/>
              <a:ext cx="151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98560" y="1365120"/>
              <a:ext cx="1510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971640" y="3068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1630440"/>
            <a:ext cx="127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352680" y="990720"/>
            <a:ext cx="4913640" cy="2381760"/>
            <a:chOff x="3352680" y="990720"/>
            <a:chExt cx="4913640" cy="2381760"/>
          </a:xfrm>
        </p:grpSpPr>
        <p:sp>
          <p:nvSpPr>
            <p:cNvPr id="177" name=""/>
            <p:cNvSpPr/>
            <p:nvPr/>
          </p:nvSpPr>
          <p:spPr>
            <a:xfrm>
              <a:off x="4902480" y="2791080"/>
              <a:ext cx="219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160" y="1133640"/>
              <a:ext cx="115524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352680" y="990720"/>
              <a:ext cx="4913640" cy="1584360"/>
              <a:chOff x="3352680" y="990720"/>
              <a:chExt cx="4913640" cy="1584360"/>
            </a:xfrm>
          </p:grpSpPr>
          <p:sp>
            <p:nvSpPr>
              <p:cNvPr id="180" name=""/>
              <p:cNvSpPr/>
              <p:nvPr/>
            </p:nvSpPr>
            <p:spPr>
              <a:xfrm>
                <a:off x="7358040" y="990720"/>
                <a:ext cx="0" cy="15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66320" y="990720"/>
                <a:ext cx="1800000" cy="158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68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68889"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352680" y="990720"/>
                <a:ext cx="1798560" cy="158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68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68889"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58080" y="990720"/>
                <a:ext cx="0" cy="15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58080" y="2575080"/>
                <a:ext cx="310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258080" y="990720"/>
                <a:ext cx="310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0" y="3933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×3+6×3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5640" y="38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×2+5×3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221000" y="496872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13360" y="3078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2359080"/>
            <a:ext cx="2332080" cy="26636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505320" y="1295280"/>
            <a:ext cx="2333520" cy="3552840"/>
            <a:chOff x="3505320" y="1295280"/>
            <a:chExt cx="2333520" cy="3552840"/>
          </a:xfrm>
        </p:grpSpPr>
        <p:sp>
          <p:nvSpPr>
            <p:cNvPr id="192" name=""/>
            <p:cNvSpPr/>
            <p:nvPr/>
          </p:nvSpPr>
          <p:spPr>
            <a:xfrm>
              <a:off x="3505320" y="2529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810040" y="2529000"/>
              <a:ext cx="2844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4848120"/>
              <a:ext cx="230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33760" y="2529000"/>
              <a:ext cx="2305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3396600" y="1418040"/>
              <a:ext cx="2548800" cy="230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972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97294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9280" y="404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五、计算下面两个图形的周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135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知道圆周率的哪些知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304920"/>
            <a:ext cx="792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图的周长是多少厘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083360" y="4365720"/>
            <a:ext cx="2060640" cy="249228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523880" y="914400"/>
            <a:ext cx="5146560" cy="4650840"/>
            <a:chOff x="1523880" y="914400"/>
            <a:chExt cx="5146560" cy="4650840"/>
          </a:xfrm>
        </p:grpSpPr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1523880" y="914400"/>
              <a:ext cx="5146560" cy="41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180880" y="3470760"/>
              <a:ext cx="4011480" cy="0"/>
            </a:xfrm>
            <a:prstGeom prst="line">
              <a:avLst/>
            </a:prstGeom>
            <a:ln w="1260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156760" y="1377360"/>
              <a:ext cx="4035240" cy="4187880"/>
              <a:chOff x="2156760" y="1377360"/>
              <a:chExt cx="4035240" cy="4187880"/>
            </a:xfrm>
          </p:grpSpPr>
          <p:sp>
            <p:nvSpPr>
              <p:cNvPr id="206" name=""/>
              <p:cNvSpPr/>
              <p:nvPr/>
            </p:nvSpPr>
            <p:spPr>
              <a:xfrm>
                <a:off x="2180880" y="1377360"/>
                <a:ext cx="4010760" cy="418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87"/>
                    </a:moveTo>
                    <a:arcTo wR="10800" hR="10800" stAng="10772302" swAng="108514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87"/>
                    </a:moveTo>
                    <a:arcTo wR="10800" hR="10800" stAng="10772302" swAng="10851487"/>
                  </a:path>
                </a:pathLst>
              </a:cu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187520" y="2275200"/>
                <a:ext cx="2004480" cy="216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1155"/>
                    </a:moveTo>
                    <a:arcTo wR="10800" hR="10800" stAng="113091" swAng="106947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1155"/>
                    </a:moveTo>
                    <a:arcTo wR="10800" hR="10800" stAng="113091" swAng="10694757"/>
                  </a:path>
                </a:pathLst>
              </a:cu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0851600">
                <a:off x="2172600" y="2424240"/>
                <a:ext cx="2006640" cy="216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1155"/>
                    </a:moveTo>
                    <a:arcTo wR="10800" hR="10800" stAng="113091" swAng="106947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1155"/>
                    </a:moveTo>
                    <a:arcTo wR="10800" hR="10800" stAng="113091" swAng="10694757"/>
                  </a:path>
                </a:pathLst>
              </a:cu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676960" y="3632400"/>
              <a:ext cx="1113120" cy="520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黑体"/>
                  <a:ea typeface="黑体"/>
                </a:rPr>
                <a:t>5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80880" y="3705120"/>
              <a:ext cx="0" cy="4647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87880" y="3705120"/>
              <a:ext cx="0" cy="4647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17920" y="3937680"/>
              <a:ext cx="66996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180520" y="3937680"/>
              <a:ext cx="557640" cy="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92840" y="1112040"/>
            <a:ext cx="4138560" cy="4178160"/>
            <a:chOff x="492840" y="1112040"/>
            <a:chExt cx="4138560" cy="4178160"/>
          </a:xfrm>
        </p:grpSpPr>
        <p:sp>
          <p:nvSpPr>
            <p:cNvPr id="215" name=""/>
            <p:cNvSpPr/>
            <p:nvPr/>
          </p:nvSpPr>
          <p:spPr>
            <a:xfrm rot="16392000">
              <a:off x="579240" y="1239480"/>
              <a:ext cx="3965400" cy="39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16" y="28"/>
                  </a:moveTo>
                  <a:arcTo wR="10800" hR="10800" stAng="-5649705" swAng="10832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16" y="28"/>
                  </a:moveTo>
                  <a:arcTo wR="10800" hR="10800" stAng="-5649705" swAng="10832624"/>
                </a:path>
              </a:pathLst>
            </a:cu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539280" y="2364840"/>
              <a:ext cx="1874160" cy="173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2271600" y="2652480"/>
              <a:ext cx="1336320" cy="11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3502440" y="2731320"/>
              <a:ext cx="1069200" cy="99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1600" y="3233520"/>
              <a:ext cx="3810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003640" y="1371960"/>
            <a:ext cx="3241440" cy="3416400"/>
            <a:chOff x="5003640" y="1371960"/>
            <a:chExt cx="3241440" cy="3416400"/>
          </a:xfrm>
        </p:grpSpPr>
        <p:sp>
          <p:nvSpPr>
            <p:cNvPr id="221" name=""/>
            <p:cNvSpPr/>
            <p:nvPr/>
          </p:nvSpPr>
          <p:spPr>
            <a:xfrm rot="16200000">
              <a:off x="4940280" y="1483920"/>
              <a:ext cx="3416400" cy="319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13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1301"/>
                </a:path>
              </a:pathLst>
            </a:cu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4937400" y="2341440"/>
              <a:ext cx="1707120" cy="152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13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1301"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 rot="5400000">
              <a:off x="6554160" y="2173320"/>
              <a:ext cx="1707120" cy="166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13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1301"/>
                </a:path>
              </a:pathLst>
            </a:cu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003640" y="3073680"/>
              <a:ext cx="3241440" cy="100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84360" y="3141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3141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3141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31240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30481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451640" y="5157720"/>
            <a:ext cx="13525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一个圆内，圆周长的一半和半圆的周长是否相等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周长的一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圆的周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÷2+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5"/>
          <p:cNvSpPr/>
          <p:nvPr/>
        </p:nvSpPr>
        <p:spPr>
          <a:xfrm>
            <a:off x="609480" y="1295280"/>
            <a:ext cx="8305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圆周率是圆的周长除以它直径的商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用字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示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是一个固定的数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任何一个圆的圆周率都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它是一个无限不循环小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693396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030"/>
          <p:cNvPicPr/>
          <p:nvPr/>
        </p:nvPicPr>
        <p:blipFill>
          <a:blip r:embed="rId3"/>
          <a:stretch/>
        </p:blipFill>
        <p:spPr>
          <a:xfrm>
            <a:off x="533520" y="152280"/>
            <a:ext cx="728640" cy="990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371600" y="304920"/>
            <a:ext cx="2133720" cy="685800"/>
            <a:chOff x="1371600" y="304920"/>
            <a:chExt cx="2133720" cy="685800"/>
          </a:xfrm>
        </p:grpSpPr>
        <p:sp>
          <p:nvSpPr>
            <p:cNvPr id="52" name="Cloud"/>
            <p:cNvSpPr/>
            <p:nvPr/>
          </p:nvSpPr>
          <p:spPr>
            <a:xfrm>
              <a:off x="1371600" y="304920"/>
              <a:ext cx="2133720" cy="6858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93640" y="52092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我知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圆周长的计算公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1981080"/>
            <a:ext cx="4952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C=π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C=2π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根据圆的周长求直径或半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圆周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×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2860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=C÷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3962520"/>
            <a:ext cx="65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=C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 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或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=C÷2 ÷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3413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养鸡场，一面靠墙，另一面是用竹篱笆围成的半圆形养鸡场，这个半圆直径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篱笆长多少米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905120"/>
            <a:ext cx="84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半圆的周长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2.56cm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个圆的直径是多少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6920" y="1341360"/>
            <a:ext cx="70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半圆的周长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5.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厘米，这个圆的周长是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0:47:14Z</dcterms:created>
  <dc:creator>射阳实小吴海峰</dc:creator>
  <dc:description/>
  <cp:keywords>圆的周长练习二</cp:keywords>
  <dc:language>en-US</dc:language>
  <cp:lastModifiedBy>微软中国</cp:lastModifiedBy>
  <dcterms:modified xsi:type="dcterms:W3CDTF">2015-05-17T07:43:54Z</dcterms:modified>
  <cp:revision>34</cp:revision>
  <dc:subject>圆的周长练习二</dc:subject>
  <dc:title>圆的周长练习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