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554-B9A2-49B6-B5A5-3965AD3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3FF-8A50-4ABA-A8A3-7728DAF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D8B-836F-4C36-B279-4A855E83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F80-A687-4422-9410-627631F7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490-4320-408D-B9D0-8094D2E6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8A8-9021-4FA0-B4CD-47E8EE4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6CC-6551-4271-98EC-71EE0D73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C9F-2315-43FA-98D6-F582D1D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8CD-252D-49BF-A597-0C09F38D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D27-63CD-4BD5-ADC8-2FAB455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6F7-66A1-4696-A93A-387C1B3E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0AC5-2442-42E1-8F6C-5CE662D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EE2C-9855-4920-8E7F-0AEC1313D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213372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圆的周长练习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40360" y="5157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射阳实小  吴海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问题我能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辆自行车的车轮直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如果平均每分钟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圈，半小时行驶多少千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半径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圆形花池边栽树苗，每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5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栽一棵，共可以栽多少棵树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圆周长的计算公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981080"/>
            <a:ext cx="4952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C=π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C=2π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ubChord"/>
          <p:cNvSpPr/>
          <p:nvPr/>
        </p:nvSpPr>
        <p:spPr>
          <a:xfrm rot="18881400">
            <a:off x="5256720" y="-456480"/>
            <a:ext cx="3456000" cy="3454560"/>
          </a:xfrm>
          <a:prstGeom prst="pie">
            <a:avLst/>
          </a:prstGeom>
          <a:solidFill>
            <a:srgbClr val="009900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 rot="5400000">
            <a:off x="6804000" y="-644400"/>
            <a:ext cx="433440" cy="3456000"/>
          </a:xfrm>
          <a:custGeom>
            <a:avLst/>
            <a:gdLst>
              <a:gd name="textAreaLeft" fmla="*/ 276840 w 433440"/>
              <a:gd name="textAreaRight" fmla="*/ 433800 w 43344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558480" y="21924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2590920"/>
            <a:ext cx="5105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4×8÷2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5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右图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809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3048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圆周长的一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2514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圆的周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3886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半圆的周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4936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任何圆的周长总是直径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多一些。周长除以直径的商是一个固定的数，我们把它叫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用字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。在计算时，一般保留两位小数，取它的近似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圆的周长计算公式用字母表示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由公式看出圆的周长的直径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或是半径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圆规两脚间的距离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画出的圆的周长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圆的直径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它的周长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圆的半径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直径扩大为原来的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周长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挂钟的时针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，一昼夜这根时针的尖端走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判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936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两个圆的半径相等，这两个圆的周长也相等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大圆的圆周率比小圆的圆周率大。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一个圆的周长总是这个圆的直径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π=3.14                                                     ( 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圆的半径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，周长扩大为原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直径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圆的周长比半圆的周长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5.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整圆的周长一定比半圆的周长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同一个圆中，两端都在圆上的线段中，直径是最长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55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算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算出下列圆的周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0792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直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半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直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半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直径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半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问题我能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4936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光明饭店有一张大圆桌，直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这个圆桌的周长是多少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个圆形的铁环，直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做这样的一个铁环需要用多长的铁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问题我能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49360"/>
            <a:ext cx="91440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辆自行车的车轮半径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它一分钟可滚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圈，这辆自行车每分钟可行驶多少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一张长方形的纸上画一个最大的圆，纸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圆的直径应是多少厘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问题我能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张边长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的正方形，把它剪成一个最大的圆，这个圆的周长是多少厘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、宽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的长方形中剪下一个最大的圆，这个圆的半径是多少厘米，周长是多少厘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6T10:33:25Z</dcterms:created>
  <dc:creator>射阳实小吴海峰</dc:creator>
  <dc:description/>
  <cp:keywords>圆的周长练习一</cp:keywords>
  <dc:language>en-US</dc:language>
  <cp:lastModifiedBy>微软中国</cp:lastModifiedBy>
  <dcterms:modified xsi:type="dcterms:W3CDTF">2015-05-16T11:21:57Z</dcterms:modified>
  <cp:revision>3</cp:revision>
  <dc:subject>圆的周长练习一</dc:subject>
  <dc:title>圆的周长练习一</dc:title>
</cp:coreProperties>
</file>