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21.png" ContentType="image/png"/>
  <Override PartName="/ppt/media/image4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27F-0FFE-4B02-8B28-304BCE25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7707-EAB0-4BE9-9AA1-76A350A3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6E1-0E92-4902-B422-BCAE3BD8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EBEC-A9DF-4CF5-A3EE-9C884854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EBDC-BE6B-4D05-B026-6749611E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CD0-3022-4E57-90CD-80E4CA9D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7E99-631B-431F-9ECB-A7CFA2FF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BB05-D360-4369-98FE-C58529CAC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2064-44BD-41DA-A78C-CA7F0487C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03EC-C271-4399-8CD8-AA17D25A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7F5-6BA6-49E6-B9A2-730C2D3D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6991-46F5-450B-B9F1-76D18BF3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5EDE-C89A-4436-A23F-AFF3398093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7.png"/><Relationship Id="rId25" Type="http://schemas.openxmlformats.org/officeDocument/2006/relationships/image" Target="../media/image17.png"/><Relationship Id="rId26" Type="http://schemas.openxmlformats.org/officeDocument/2006/relationships/image" Target="../media/image17.png"/><Relationship Id="rId27" Type="http://schemas.openxmlformats.org/officeDocument/2006/relationships/image" Target="../media/image17.png"/><Relationship Id="rId2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19720" y="6126120"/>
            <a:ext cx="4724280" cy="5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三　方程（第一课时）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2590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等量关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-457200" y="-609480"/>
            <a:ext cx="3352680" cy="270180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2495520" y="781200"/>
            <a:ext cx="628560" cy="475920"/>
            <a:chOff x="2495520" y="781200"/>
            <a:chExt cx="628560" cy="475920"/>
          </a:xfrm>
        </p:grpSpPr>
        <p:sp>
          <p:nvSpPr>
            <p:cNvPr id="45" name=""/>
            <p:cNvSpPr/>
            <p:nvPr/>
          </p:nvSpPr>
          <p:spPr>
            <a:xfrm>
              <a:off x="2607480" y="781200"/>
              <a:ext cx="403920" cy="80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2660040" y="868320"/>
              <a:ext cx="314280" cy="73440"/>
            </a:xfrm>
            <a:custGeom>
              <a:avLst/>
              <a:gdLst>
                <a:gd name="textAreaLeft" fmla="*/ 69120 w 314280"/>
                <a:gd name="textAreaRight" fmla="*/ 245160 w 31428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95520" y="935280"/>
              <a:ext cx="628560" cy="321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2362320" y="1257480"/>
            <a:ext cx="4952880" cy="1447200"/>
            <a:chOff x="2362320" y="1257480"/>
            <a:chExt cx="4952880" cy="1447200"/>
          </a:xfrm>
        </p:grpSpPr>
        <p:sp>
          <p:nvSpPr>
            <p:cNvPr id="49" name=""/>
            <p:cNvSpPr/>
            <p:nvPr/>
          </p:nvSpPr>
          <p:spPr>
            <a:xfrm>
              <a:off x="4344840" y="1257480"/>
              <a:ext cx="963720" cy="82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24280" y="2239920"/>
              <a:ext cx="206640" cy="25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362320" y="1257480"/>
              <a:ext cx="1650960" cy="13788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35440" y="1395360"/>
              <a:ext cx="466560" cy="13824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84480" y="1533600"/>
              <a:ext cx="163440" cy="482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30560" y="2016360"/>
              <a:ext cx="66600" cy="482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54400" y="1671840"/>
              <a:ext cx="3110040" cy="206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254400" y="1870560"/>
              <a:ext cx="3110040" cy="3445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724280" y="2130480"/>
              <a:ext cx="206640" cy="206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767120" y="2176560"/>
              <a:ext cx="114480" cy="11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2362320" y="2497680"/>
              <a:ext cx="4952880" cy="206280"/>
            </a:xfrm>
            <a:custGeom>
              <a:avLst/>
              <a:gdLst>
                <a:gd name="textAreaLeft" fmla="*/ 483120 w 4952880"/>
                <a:gd name="textAreaRight" fmla="*/ 4469760 w 4952880"/>
                <a:gd name="textAreaTop" fmla="*/ 19800 h 206280"/>
                <a:gd name="textAreaBottom" fmla="*/ 18648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641920" y="1257480"/>
              <a:ext cx="1650960" cy="13788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15040" y="1395360"/>
              <a:ext cx="466920" cy="138240"/>
            </a:xfrm>
            <a:custGeom>
              <a:avLst/>
              <a:gdLst>
                <a:gd name="textAreaLeft" fmla="*/ 102600 w 466920"/>
                <a:gd name="textAreaRight" fmla="*/ 364320 w 4669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64440" y="1533600"/>
              <a:ext cx="161640" cy="482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408720" y="2016360"/>
              <a:ext cx="68400" cy="482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4824000" y="1257480"/>
              <a:ext cx="32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56320" y="1260360"/>
              <a:ext cx="468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86480" y="1274760"/>
              <a:ext cx="126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64080" y="1325520"/>
              <a:ext cx="111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08640" y="1360440"/>
              <a:ext cx="126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457880" y="1406520"/>
              <a:ext cx="10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624560" y="1295640"/>
              <a:ext cx="108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884480" y="1257480"/>
              <a:ext cx="11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4941720" y="1274760"/>
              <a:ext cx="223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4993920" y="129564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5047920" y="132408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098680" y="1352520"/>
              <a:ext cx="349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5148000" y="1395360"/>
              <a:ext cx="349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827600" y="1463760"/>
              <a:ext cx="0" cy="20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124080" y="777960"/>
            <a:ext cx="685800" cy="475920"/>
            <a:chOff x="3124080" y="777960"/>
            <a:chExt cx="685800" cy="475920"/>
          </a:xfrm>
        </p:grpSpPr>
        <p:sp>
          <p:nvSpPr>
            <p:cNvPr id="79" name=""/>
            <p:cNvSpPr/>
            <p:nvPr/>
          </p:nvSpPr>
          <p:spPr>
            <a:xfrm>
              <a:off x="3246480" y="777960"/>
              <a:ext cx="441000" cy="80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303720" y="865080"/>
              <a:ext cx="343080" cy="73440"/>
            </a:xfrm>
            <a:custGeom>
              <a:avLst/>
              <a:gdLst>
                <a:gd name="textAreaLeft" fmla="*/ 75240 w 343080"/>
                <a:gd name="textAreaRight" fmla="*/ 267840 w 34308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124080" y="932040"/>
              <a:ext cx="685800" cy="321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5880" y="797040"/>
            <a:ext cx="838440" cy="457200"/>
            <a:chOff x="6095880" y="797040"/>
            <a:chExt cx="838440" cy="457200"/>
          </a:xfrm>
        </p:grpSpPr>
        <p:sp>
          <p:nvSpPr>
            <p:cNvPr id="83" name=""/>
            <p:cNvSpPr/>
            <p:nvPr/>
          </p:nvSpPr>
          <p:spPr>
            <a:xfrm>
              <a:off x="6245280" y="797040"/>
              <a:ext cx="538920" cy="770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315480" y="880560"/>
              <a:ext cx="419400" cy="70560"/>
            </a:xfrm>
            <a:custGeom>
              <a:avLst/>
              <a:gdLst>
                <a:gd name="textAreaLeft" fmla="*/ 92160 w 419400"/>
                <a:gd name="textAreaRight" fmla="*/ 327240 w 419400"/>
                <a:gd name="textAreaTop" fmla="*/ 15480 h 70560"/>
                <a:gd name="textAreaBottom" fmla="*/ 55080 h 7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095880" y="945000"/>
              <a:ext cx="838440" cy="3092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2362320" y="4314960"/>
            <a:ext cx="4952880" cy="1447200"/>
            <a:chOff x="2362320" y="4314960"/>
            <a:chExt cx="4952880" cy="1447200"/>
          </a:xfrm>
        </p:grpSpPr>
        <p:sp>
          <p:nvSpPr>
            <p:cNvPr id="87" name=""/>
            <p:cNvSpPr/>
            <p:nvPr/>
          </p:nvSpPr>
          <p:spPr>
            <a:xfrm>
              <a:off x="4344840" y="4314960"/>
              <a:ext cx="963720" cy="82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24280" y="5297400"/>
              <a:ext cx="206640" cy="25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62320" y="4314960"/>
              <a:ext cx="1650960" cy="13788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935440" y="4452840"/>
              <a:ext cx="466560" cy="13824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84480" y="4591080"/>
              <a:ext cx="163440" cy="482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30560" y="5073840"/>
              <a:ext cx="66600" cy="482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254400" y="4729320"/>
              <a:ext cx="3110040" cy="206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254400" y="4928400"/>
              <a:ext cx="3110040" cy="3445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24280" y="5187960"/>
              <a:ext cx="206640" cy="206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67120" y="5234040"/>
              <a:ext cx="114480" cy="11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2362320" y="5555520"/>
              <a:ext cx="4952880" cy="206280"/>
            </a:xfrm>
            <a:custGeom>
              <a:avLst/>
              <a:gdLst>
                <a:gd name="textAreaLeft" fmla="*/ 483120 w 4952880"/>
                <a:gd name="textAreaRight" fmla="*/ 4469760 w 4952880"/>
                <a:gd name="textAreaTop" fmla="*/ 19800 h 206280"/>
                <a:gd name="textAreaBottom" fmla="*/ 18648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41920" y="4314960"/>
              <a:ext cx="1650960" cy="13788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15040" y="4452840"/>
              <a:ext cx="466920" cy="138240"/>
            </a:xfrm>
            <a:custGeom>
              <a:avLst/>
              <a:gdLst>
                <a:gd name="textAreaLeft" fmla="*/ 102600 w 466920"/>
                <a:gd name="textAreaRight" fmla="*/ 364320 w 4669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64440" y="4591080"/>
              <a:ext cx="161640" cy="482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8720" y="5073840"/>
              <a:ext cx="68400" cy="482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4824000" y="4314960"/>
              <a:ext cx="32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56320" y="4317840"/>
              <a:ext cx="468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86480" y="4332240"/>
              <a:ext cx="126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64080" y="4383000"/>
              <a:ext cx="111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08640" y="4417920"/>
              <a:ext cx="126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457880" y="4464000"/>
              <a:ext cx="10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624560" y="4353120"/>
              <a:ext cx="108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884480" y="4314960"/>
              <a:ext cx="11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941720" y="4332240"/>
              <a:ext cx="223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4993920" y="435312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047920" y="438156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5098680" y="4410000"/>
              <a:ext cx="349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5148000" y="4452840"/>
              <a:ext cx="349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4827600" y="4521240"/>
              <a:ext cx="0" cy="20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124080" y="292896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9770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14600" y="3844800"/>
            <a:ext cx="609480" cy="475920"/>
            <a:chOff x="2514600" y="3844800"/>
            <a:chExt cx="609480" cy="475920"/>
          </a:xfrm>
        </p:grpSpPr>
        <p:sp>
          <p:nvSpPr>
            <p:cNvPr id="119" name=""/>
            <p:cNvSpPr/>
            <p:nvPr/>
          </p:nvSpPr>
          <p:spPr>
            <a:xfrm>
              <a:off x="2623320" y="3844800"/>
              <a:ext cx="391680" cy="802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674080" y="3931920"/>
              <a:ext cx="304920" cy="73440"/>
            </a:xfrm>
            <a:custGeom>
              <a:avLst/>
              <a:gdLst>
                <a:gd name="textAreaLeft" fmla="*/ 66960 w 304920"/>
                <a:gd name="textAreaRight" fmla="*/ 237960 w 30492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4600" y="3998880"/>
              <a:ext cx="609480" cy="321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6080040" y="3784680"/>
            <a:ext cx="914400" cy="532800"/>
            <a:chOff x="6080040" y="3784680"/>
            <a:chExt cx="914400" cy="532800"/>
          </a:xfrm>
        </p:grpSpPr>
        <p:sp>
          <p:nvSpPr>
            <p:cNvPr id="123" name=""/>
            <p:cNvSpPr/>
            <p:nvPr/>
          </p:nvSpPr>
          <p:spPr>
            <a:xfrm>
              <a:off x="6243120" y="3784680"/>
              <a:ext cx="587880" cy="900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319440" y="3881520"/>
              <a:ext cx="457200" cy="824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18000 h 82440"/>
                <a:gd name="textAreaBottom" fmla="*/ 6444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80040" y="3957120"/>
              <a:ext cx="914400" cy="3603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143160" y="3844800"/>
            <a:ext cx="838440" cy="475920"/>
            <a:chOff x="3143160" y="3844800"/>
            <a:chExt cx="838440" cy="475920"/>
          </a:xfrm>
        </p:grpSpPr>
        <p:sp>
          <p:nvSpPr>
            <p:cNvPr id="127" name=""/>
            <p:cNvSpPr/>
            <p:nvPr/>
          </p:nvSpPr>
          <p:spPr>
            <a:xfrm>
              <a:off x="3292560" y="3844800"/>
              <a:ext cx="538920" cy="80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3362760" y="3931920"/>
              <a:ext cx="419400" cy="73440"/>
            </a:xfrm>
            <a:custGeom>
              <a:avLst/>
              <a:gdLst>
                <a:gd name="textAreaLeft" fmla="*/ 92160 w 419400"/>
                <a:gd name="textAreaRight" fmla="*/ 327240 w 41940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43160" y="3998880"/>
              <a:ext cx="838440" cy="32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457200" y="5181480"/>
            <a:ext cx="1400040" cy="1209600"/>
            <a:chOff x="457200" y="5181480"/>
            <a:chExt cx="1400040" cy="1209600"/>
          </a:xfrm>
        </p:grpSpPr>
        <p:sp>
          <p:nvSpPr>
            <p:cNvPr id="131" name=""/>
            <p:cNvSpPr/>
            <p:nvPr/>
          </p:nvSpPr>
          <p:spPr>
            <a:xfrm>
              <a:off x="961920" y="5869080"/>
              <a:ext cx="428760" cy="314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457200" y="5181480"/>
              <a:ext cx="1400040" cy="1209600"/>
              <a:chOff x="457200" y="5181480"/>
              <a:chExt cx="1400040" cy="1209600"/>
            </a:xfrm>
          </p:grpSpPr>
          <p:sp>
            <p:nvSpPr>
              <p:cNvPr id="133" name=""/>
              <p:cNvSpPr/>
              <p:nvPr/>
            </p:nvSpPr>
            <p:spPr>
              <a:xfrm>
                <a:off x="787320" y="5243400"/>
                <a:ext cx="253800" cy="2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276200" y="5243400"/>
                <a:ext cx="254160" cy="244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57200" y="5181480"/>
                <a:ext cx="1400040" cy="120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6" name=""/>
          <p:cNvSpPr/>
          <p:nvPr/>
        </p:nvSpPr>
        <p:spPr>
          <a:xfrm>
            <a:off x="304920" y="1981080"/>
            <a:ext cx="1981080" cy="2057400"/>
          </a:xfrm>
          <a:prstGeom prst="wedgeRoundRectCallout">
            <a:avLst>
              <a:gd name="adj1" fmla="val -10578"/>
              <a:gd name="adj2" fmla="val 9112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用式子表示天平两边数量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1752480" y="1009800"/>
            <a:ext cx="4952880" cy="1447200"/>
            <a:chOff x="1752480" y="1009800"/>
            <a:chExt cx="4952880" cy="1447200"/>
          </a:xfrm>
        </p:grpSpPr>
        <p:sp>
          <p:nvSpPr>
            <p:cNvPr id="138" name=""/>
            <p:cNvSpPr/>
            <p:nvPr/>
          </p:nvSpPr>
          <p:spPr>
            <a:xfrm>
              <a:off x="3735000" y="1009800"/>
              <a:ext cx="963720" cy="82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440" y="1992240"/>
              <a:ext cx="206640" cy="25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52480" y="1009800"/>
              <a:ext cx="1650960" cy="13788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25600" y="1147680"/>
              <a:ext cx="466560" cy="13824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74640" y="1285920"/>
              <a:ext cx="163440" cy="482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20720" y="1768680"/>
              <a:ext cx="66600" cy="482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44560" y="1424160"/>
              <a:ext cx="3110040" cy="206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644560" y="1622880"/>
              <a:ext cx="3110040" cy="3445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114440" y="1882800"/>
              <a:ext cx="206640" cy="206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57280" y="1928880"/>
              <a:ext cx="114480" cy="11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1752480" y="2250000"/>
              <a:ext cx="4952880" cy="206280"/>
            </a:xfrm>
            <a:custGeom>
              <a:avLst/>
              <a:gdLst>
                <a:gd name="textAreaLeft" fmla="*/ 483120 w 4952880"/>
                <a:gd name="textAreaRight" fmla="*/ 4469760 w 4952880"/>
                <a:gd name="textAreaTop" fmla="*/ 19800 h 206280"/>
                <a:gd name="textAreaBottom" fmla="*/ 18648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032080" y="1009800"/>
              <a:ext cx="1650960" cy="13788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605200" y="1147680"/>
              <a:ext cx="466920" cy="138240"/>
            </a:xfrm>
            <a:custGeom>
              <a:avLst/>
              <a:gdLst>
                <a:gd name="textAreaLeft" fmla="*/ 102600 w 466920"/>
                <a:gd name="textAreaRight" fmla="*/ 364320 w 4669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54600" y="1285920"/>
              <a:ext cx="161640" cy="482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8880" y="1768680"/>
              <a:ext cx="68400" cy="482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214160" y="1009800"/>
              <a:ext cx="32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6480" y="1012680"/>
              <a:ext cx="468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76640" y="1027080"/>
              <a:ext cx="126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4240" y="1077840"/>
              <a:ext cx="111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98800" y="1112760"/>
              <a:ext cx="126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848040" y="1158840"/>
              <a:ext cx="10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014720" y="1047960"/>
              <a:ext cx="108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274640" y="1009800"/>
              <a:ext cx="11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331880" y="1027080"/>
              <a:ext cx="223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384080" y="104796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438080" y="107640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488840" y="1104840"/>
              <a:ext cx="349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538160" y="1147680"/>
              <a:ext cx="349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217760" y="1216080"/>
              <a:ext cx="0" cy="20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752480" y="4219560"/>
            <a:ext cx="4952880" cy="1447200"/>
            <a:chOff x="1752480" y="4219560"/>
            <a:chExt cx="4952880" cy="1447200"/>
          </a:xfrm>
        </p:grpSpPr>
        <p:sp>
          <p:nvSpPr>
            <p:cNvPr id="168" name=""/>
            <p:cNvSpPr/>
            <p:nvPr/>
          </p:nvSpPr>
          <p:spPr>
            <a:xfrm>
              <a:off x="3735000" y="4219560"/>
              <a:ext cx="963720" cy="8269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14440" y="5202000"/>
              <a:ext cx="206640" cy="258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52480" y="4219560"/>
              <a:ext cx="1650960" cy="13788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25600" y="4357440"/>
              <a:ext cx="466560" cy="138240"/>
            </a:xfrm>
            <a:custGeom>
              <a:avLst/>
              <a:gdLst>
                <a:gd name="textAreaLeft" fmla="*/ 102600 w 466560"/>
                <a:gd name="textAreaRight" fmla="*/ 363960 w 46656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474640" y="4495680"/>
              <a:ext cx="163440" cy="482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20720" y="4978440"/>
              <a:ext cx="66600" cy="482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44560" y="4633920"/>
              <a:ext cx="3110040" cy="2062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2644560" y="4833000"/>
              <a:ext cx="3110040" cy="34452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14440" y="5092560"/>
              <a:ext cx="206640" cy="2062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5138640"/>
              <a:ext cx="114480" cy="11412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752480" y="5460120"/>
              <a:ext cx="4952880" cy="206280"/>
            </a:xfrm>
            <a:custGeom>
              <a:avLst/>
              <a:gdLst>
                <a:gd name="textAreaLeft" fmla="*/ 483120 w 4952880"/>
                <a:gd name="textAreaRight" fmla="*/ 4469760 w 4952880"/>
                <a:gd name="textAreaTop" fmla="*/ 19800 h 206280"/>
                <a:gd name="textAreaBottom" fmla="*/ 186480 h 20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57" y="21600"/>
                  </a:lnTo>
                  <a:lnTo>
                    <a:pt x="643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32080" y="4219560"/>
              <a:ext cx="1650960" cy="137880"/>
            </a:xfrm>
            <a:custGeom>
              <a:avLst/>
              <a:gdLst>
                <a:gd name="textAreaLeft" fmla="*/ 362880 w 1650960"/>
                <a:gd name="textAreaRight" fmla="*/ 1288080 w 1650960"/>
                <a:gd name="textAreaTop" fmla="*/ 30240 h 137880"/>
                <a:gd name="textAreaBottom" fmla="*/ 107640 h 13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05200" y="4357440"/>
              <a:ext cx="466920" cy="138240"/>
            </a:xfrm>
            <a:custGeom>
              <a:avLst/>
              <a:gdLst>
                <a:gd name="textAreaLeft" fmla="*/ 102600 w 466920"/>
                <a:gd name="textAreaRight" fmla="*/ 364320 w 466920"/>
                <a:gd name="textAreaTop" fmla="*/ 30240 h 138240"/>
                <a:gd name="textAreaBottom" fmla="*/ 108000 h 13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754600" y="4495680"/>
              <a:ext cx="161640" cy="4827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798880" y="4978440"/>
              <a:ext cx="68400" cy="482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214160" y="4219560"/>
              <a:ext cx="324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146480" y="4222440"/>
              <a:ext cx="468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76640" y="4236840"/>
              <a:ext cx="1260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54240" y="4287600"/>
              <a:ext cx="111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98800" y="4322520"/>
              <a:ext cx="126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848040" y="4368600"/>
              <a:ext cx="1080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14720" y="4257720"/>
              <a:ext cx="1080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4274640" y="4219560"/>
              <a:ext cx="1116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4331880" y="4236840"/>
              <a:ext cx="223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384080" y="425772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4438080" y="4286160"/>
              <a:ext cx="33480" cy="6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488840" y="4314600"/>
              <a:ext cx="349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538160" y="4357440"/>
              <a:ext cx="3492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217760" y="4425840"/>
              <a:ext cx="0" cy="2080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2514600" y="2757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895480" y="58816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2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470560" y="3673440"/>
            <a:ext cx="838080" cy="533160"/>
            <a:chOff x="5470560" y="3673440"/>
            <a:chExt cx="838080" cy="533160"/>
          </a:xfrm>
        </p:grpSpPr>
        <p:sp>
          <p:nvSpPr>
            <p:cNvPr id="200" name=""/>
            <p:cNvSpPr/>
            <p:nvPr/>
          </p:nvSpPr>
          <p:spPr>
            <a:xfrm>
              <a:off x="5619960" y="3673440"/>
              <a:ext cx="538560" cy="9000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689800" y="3770280"/>
              <a:ext cx="419040" cy="82440"/>
            </a:xfrm>
            <a:custGeom>
              <a:avLst/>
              <a:gdLst>
                <a:gd name="textAreaLeft" fmla="*/ 92160 w 419040"/>
                <a:gd name="textAreaRight" fmla="*/ 326880 w 419040"/>
                <a:gd name="textAreaTop" fmla="*/ 18000 h 82440"/>
                <a:gd name="textAreaBottom" fmla="*/ 6444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470560" y="3845880"/>
              <a:ext cx="838080" cy="36072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905120" y="533520"/>
            <a:ext cx="723960" cy="475920"/>
            <a:chOff x="1905120" y="533520"/>
            <a:chExt cx="723960" cy="475920"/>
          </a:xfrm>
        </p:grpSpPr>
        <p:sp>
          <p:nvSpPr>
            <p:cNvPr id="204" name=""/>
            <p:cNvSpPr/>
            <p:nvPr/>
          </p:nvSpPr>
          <p:spPr>
            <a:xfrm>
              <a:off x="2034360" y="533520"/>
              <a:ext cx="465480" cy="80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094480" y="620640"/>
              <a:ext cx="362160" cy="73440"/>
            </a:xfrm>
            <a:custGeom>
              <a:avLst/>
              <a:gdLst>
                <a:gd name="textAreaLeft" fmla="*/ 79560 w 362160"/>
                <a:gd name="textAreaRight" fmla="*/ 282600 w 36216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905120" y="687600"/>
              <a:ext cx="723960" cy="321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2622600" y="533520"/>
            <a:ext cx="590400" cy="475920"/>
            <a:chOff x="2622600" y="533520"/>
            <a:chExt cx="590400" cy="475920"/>
          </a:xfrm>
        </p:grpSpPr>
        <p:sp>
          <p:nvSpPr>
            <p:cNvPr id="208" name=""/>
            <p:cNvSpPr/>
            <p:nvPr/>
          </p:nvSpPr>
          <p:spPr>
            <a:xfrm>
              <a:off x="2727720" y="533520"/>
              <a:ext cx="379440" cy="80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2777040" y="620640"/>
              <a:ext cx="295200" cy="73440"/>
            </a:xfrm>
            <a:custGeom>
              <a:avLst/>
              <a:gdLst>
                <a:gd name="textAreaLeft" fmla="*/ 64800 w 295200"/>
                <a:gd name="textAreaRight" fmla="*/ 230400 w 295200"/>
                <a:gd name="textAreaTop" fmla="*/ 16200 h 73440"/>
                <a:gd name="textAreaBottom" fmla="*/ 57240 h 7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22600" y="687600"/>
              <a:ext cx="590400" cy="321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438880" y="473040"/>
            <a:ext cx="914400" cy="533160"/>
            <a:chOff x="5438880" y="473040"/>
            <a:chExt cx="914400" cy="533160"/>
          </a:xfrm>
        </p:grpSpPr>
        <p:sp>
          <p:nvSpPr>
            <p:cNvPr id="212" name=""/>
            <p:cNvSpPr/>
            <p:nvPr/>
          </p:nvSpPr>
          <p:spPr>
            <a:xfrm>
              <a:off x="5601960" y="473040"/>
              <a:ext cx="587880" cy="90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5678280" y="569880"/>
              <a:ext cx="457200" cy="824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18000 h 82440"/>
                <a:gd name="textAreaBottom" fmla="*/ 64440 h 8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38880" y="645480"/>
              <a:ext cx="914400" cy="36072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981080" y="3500280"/>
            <a:ext cx="567000" cy="729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2514600" y="3505320"/>
            <a:ext cx="566640" cy="7286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082960" y="3876840"/>
            <a:ext cx="365040" cy="21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610000" y="3857760"/>
            <a:ext cx="36504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133720" y="380880"/>
            <a:ext cx="6553080" cy="45720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255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95480" y="48744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什么叫等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3720" y="1143000"/>
            <a:ext cx="6629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像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2x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这些表示相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楷体_GB2312"/>
              </a:rPr>
              <a:t>系的式子，叫做等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9718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什么是方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35053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7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2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这样的式子，叫做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781200" y="838080"/>
            <a:ext cx="2133360" cy="45720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c99ff"/>
              </a:gs>
              <a:gs pos="50000">
                <a:srgbClr val="f9f4fe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试一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457200"/>
            <a:ext cx="838080" cy="838080"/>
          </a:xfrm>
          <a:prstGeom prst="ellipse">
            <a:avLst/>
          </a:prstGeom>
          <a:gradFill rotWithShape="0">
            <a:gsLst>
              <a:gs pos="0">
                <a:srgbClr val="99ff99"/>
              </a:gs>
              <a:gs pos="50000">
                <a:srgbClr val="fafefa"/>
              </a:gs>
              <a:gs pos="100000">
                <a:srgbClr val="99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 rot="1105200">
            <a:off x="495000" y="152280"/>
            <a:ext cx="838080" cy="1148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143000" y="1447920"/>
            <a:ext cx="7086600" cy="4495680"/>
          </a:xfrm>
          <a:prstGeom prst="rect">
            <a:avLst/>
          </a:prstGeom>
          <a:solidFill>
            <a:srgbClr val="cc99ff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158256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判断下面的式子，哪些是方程？哪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Arial"/>
                <a:ea typeface="楷体_GB2312"/>
              </a:rPr>
              <a:t>不是方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3048120"/>
            <a:ext cx="2210040" cy="533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3048120"/>
            <a:ext cx="2210040" cy="53316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981080" y="4952880"/>
            <a:ext cx="2210040" cy="5335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3962520"/>
            <a:ext cx="2133720" cy="609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952880" y="3962520"/>
            <a:ext cx="2210040" cy="609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4876920"/>
            <a:ext cx="2210040" cy="60948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3046320"/>
            <a:ext cx="60199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00             x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23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15               8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－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x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＞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4x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32                    2x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2362320"/>
            <a:ext cx="1600200" cy="4572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62720" y="2362320"/>
            <a:ext cx="1752480" cy="4572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不是方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5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152280" y="152280"/>
            <a:ext cx="1967040" cy="1368360"/>
            <a:chOff x="152280" y="152280"/>
            <a:chExt cx="1967040" cy="1368360"/>
          </a:xfrm>
        </p:grpSpPr>
        <p:sp>
          <p:nvSpPr>
            <p:cNvPr id="239" name=""/>
            <p:cNvSpPr/>
            <p:nvPr/>
          </p:nvSpPr>
          <p:spPr>
            <a:xfrm>
              <a:off x="463320" y="776160"/>
              <a:ext cx="1656000" cy="642600"/>
            </a:xfrm>
            <a:prstGeom prst="rect">
              <a:avLst/>
            </a:prstGeom>
            <a:solidFill>
              <a:srgbClr val="ffcc99"/>
            </a:solidFill>
            <a:ln w="25560">
              <a:solidFill>
                <a:srgbClr val="000000"/>
              </a:solidFill>
              <a:prstDash val="dash"/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一练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152280" y="152280"/>
              <a:ext cx="847800" cy="136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26960" y="1901880"/>
            <a:ext cx="1486080" cy="8413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380880" y="1698480"/>
            <a:ext cx="455760" cy="420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541440" y="1690560"/>
            <a:ext cx="455400" cy="419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6"/>
          <a:stretch/>
        </p:blipFill>
        <p:spPr>
          <a:xfrm>
            <a:off x="655560" y="1690560"/>
            <a:ext cx="455760" cy="4194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768240" y="1682640"/>
            <a:ext cx="455760" cy="420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939960" y="1676520"/>
            <a:ext cx="455400" cy="4204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1150920" y="1684440"/>
            <a:ext cx="455760" cy="4204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0"/>
          <a:stretch/>
        </p:blipFill>
        <p:spPr>
          <a:xfrm>
            <a:off x="1395360" y="1677960"/>
            <a:ext cx="455760" cy="4208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1"/>
          <a:stretch/>
        </p:blipFill>
        <p:spPr>
          <a:xfrm>
            <a:off x="2476440" y="1901880"/>
            <a:ext cx="1486080" cy="8413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2"/>
          <a:stretch/>
        </p:blipFill>
        <p:spPr>
          <a:xfrm>
            <a:off x="2430360" y="1698480"/>
            <a:ext cx="455760" cy="4208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13"/>
          <a:stretch/>
        </p:blipFill>
        <p:spPr>
          <a:xfrm>
            <a:off x="2647800" y="1685880"/>
            <a:ext cx="455760" cy="4208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14"/>
          <a:stretch/>
        </p:blipFill>
        <p:spPr>
          <a:xfrm>
            <a:off x="2876400" y="1685880"/>
            <a:ext cx="454320" cy="4208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15"/>
          <a:stretch/>
        </p:blipFill>
        <p:spPr>
          <a:xfrm>
            <a:off x="3103560" y="1685880"/>
            <a:ext cx="455760" cy="4208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6"/>
          <a:stretch/>
        </p:blipFill>
        <p:spPr>
          <a:xfrm>
            <a:off x="3444840" y="1685880"/>
            <a:ext cx="455760" cy="420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3200400" y="533520"/>
            <a:ext cx="4800600" cy="6858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看图列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2019240" y="179028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752480" y="3124080"/>
            <a:ext cx="8384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57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千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838080" y="2286000"/>
            <a:ext cx="6098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32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千克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8120" y="2286000"/>
            <a:ext cx="53316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楷体_GB2312"/>
              </a:rPr>
              <a:t>千克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7"/>
          <a:stretch/>
        </p:blipFill>
        <p:spPr>
          <a:xfrm>
            <a:off x="4648320" y="1523880"/>
            <a:ext cx="1523880" cy="995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8"/>
          <a:stretch/>
        </p:blipFill>
        <p:spPr>
          <a:xfrm>
            <a:off x="4952880" y="167652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19"/>
          <a:stretch/>
        </p:blipFill>
        <p:spPr>
          <a:xfrm>
            <a:off x="5181480" y="1752480"/>
            <a:ext cx="1524240" cy="995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0"/>
          <a:stretch/>
        </p:blipFill>
        <p:spPr>
          <a:xfrm>
            <a:off x="6934320" y="1587600"/>
            <a:ext cx="1523880" cy="11160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5791320" y="273996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7924680" y="27432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11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66" name=""/>
          <p:cNvSpPr/>
          <p:nvPr/>
        </p:nvSpPr>
        <p:spPr>
          <a:xfrm rot="16200000">
            <a:off x="6972120" y="195192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0" y="32767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39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1"/>
          <a:stretch/>
        </p:blipFill>
        <p:spPr>
          <a:xfrm>
            <a:off x="1066680" y="4419720"/>
            <a:ext cx="1168560" cy="7714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2"/>
          <a:stretch/>
        </p:blipFill>
        <p:spPr>
          <a:xfrm>
            <a:off x="2438280" y="4419720"/>
            <a:ext cx="1168560" cy="77148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3"/>
          <a:stretch/>
        </p:blipFill>
        <p:spPr>
          <a:xfrm>
            <a:off x="3809880" y="4419720"/>
            <a:ext cx="1168560" cy="7714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4"/>
          <a:stretch/>
        </p:blipFill>
        <p:spPr>
          <a:xfrm flipH="1" rot="11128200">
            <a:off x="5730120" y="4190760"/>
            <a:ext cx="593280" cy="1026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5"/>
          <a:stretch/>
        </p:blipFill>
        <p:spPr>
          <a:xfrm flipH="1" rot="11128200">
            <a:off x="6171480" y="4190760"/>
            <a:ext cx="593280" cy="1026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6"/>
          <a:stretch/>
        </p:blipFill>
        <p:spPr>
          <a:xfrm flipH="1" rot="11128200">
            <a:off x="6628680" y="4190760"/>
            <a:ext cx="593280" cy="10267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7"/>
          <a:stretch/>
        </p:blipFill>
        <p:spPr>
          <a:xfrm flipH="1" rot="11128200">
            <a:off x="7085880" y="4190760"/>
            <a:ext cx="593280" cy="102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1371600" y="52182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743200" y="52182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038480" y="521820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x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78" name=""/>
          <p:cNvSpPr/>
          <p:nvPr/>
        </p:nvSpPr>
        <p:spPr>
          <a:xfrm rot="16200000">
            <a:off x="4343400" y="2855520"/>
            <a:ext cx="228600" cy="5562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4720 h 5562360"/>
              <a:gd name="textAreaBottom" fmla="*/ 5417640 h 556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251240" y="5803920"/>
            <a:ext cx="457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40</a:t>
            </a: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34434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71500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x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0958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3x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304920" y="1066680"/>
            <a:ext cx="678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先读一读，再列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）一辆汽车的载重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吨，用这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汽车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次，可以运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吨货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）一瓶矿泉水的价格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.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元，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个面包的价格是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元，买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个面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和一瓶矿泉水一共花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4.9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523880" y="5029200"/>
            <a:ext cx="4191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.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905120" y="1913040"/>
            <a:ext cx="67816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列出方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加上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4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等于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5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9.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除以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等于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倍减去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21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，差是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倍加上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，和是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20.8</a:t>
            </a: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5880" y="2514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4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95880" y="32004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9.6÷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24080" y="44197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5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8212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6x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2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5105520" y="-903240"/>
            <a:ext cx="4300560" cy="3456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3124080"/>
            <a:ext cx="6705720" cy="1176480"/>
          </a:xfrm>
          <a:prstGeom prst="rect">
            <a:avLst/>
          </a:prstGeom>
          <a:solidFill>
            <a:srgbClr val="ffff99"/>
          </a:solidFill>
          <a:ln w="3168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90520" y="33955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过今天的学习，大家有什么收获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谢晓（豆角）</cp:lastModifiedBy>
  <dcterms:modified xsi:type="dcterms:W3CDTF">2010-11-11T08:09:16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