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20.wmf" ContentType="image/x-wmf"/>
  <Override PartName="/ppt/media/image17.png" ContentType="image/png"/>
  <Override PartName="/ppt/media/image19.jpeg" ContentType="image/jpeg"/>
  <Override PartName="/ppt/media/image42.jpeg" ContentType="image/jpeg"/>
  <Override PartName="/ppt/media/image16.jpeg" ContentType="image/jpeg"/>
  <Override PartName="/ppt/media/image15.wmf" ContentType="image/x-wmf"/>
  <Override PartName="/ppt/media/image1.jpeg" ContentType="image/jpeg"/>
  <Override PartName="/ppt/media/image25.wmf" ContentType="image/x-wmf"/>
  <Override PartName="/ppt/media/image2.jpeg" ContentType="image/jpeg"/>
  <Override PartName="/ppt/media/image13.wmf" ContentType="image/x-wmf"/>
  <Override PartName="/ppt/media/image30.png" ContentType="image/png"/>
  <Override PartName="/ppt/media/image28.png" ContentType="image/png"/>
  <Override PartName="/ppt/media/image29.jpeg" ContentType="image/jpeg"/>
  <Override PartName="/ppt/media/image26.png" ContentType="image/png"/>
  <Override PartName="/ppt/media/image11.wmf" ContentType="image/x-wmf"/>
  <Override PartName="/ppt/media/image3.png" ContentType="image/png"/>
  <Override PartName="/ppt/media/image12.png" ContentType="image/png"/>
  <Override PartName="/ppt/media/image7.wmf" ContentType="image/x-wmf"/>
  <Override PartName="/ppt/media/image32.png" ContentType="image/png"/>
  <Override PartName="/ppt/media/image34.wmf" ContentType="image/x-wmf"/>
  <Override PartName="/ppt/media/image37.png" ContentType="image/png"/>
  <Override PartName="/ppt/media/image40.jpeg" ContentType="image/jpeg"/>
  <Override PartName="/ppt/media/image41.png" ContentType="image/png"/>
  <Override PartName="/ppt/media/image9.png" ContentType="image/png"/>
  <Override PartName="/ppt/media/image39.png" ContentType="image/png"/>
  <Override PartName="/ppt/media/image43.png" ContentType="image/png"/>
  <Override PartName="/ppt/media/image8.jpeg" ContentType="image/jpeg"/>
  <Override PartName="/ppt/media/image38.png" ContentType="image/png"/>
  <Override PartName="/ppt/media/image5.png" ContentType="image/png"/>
  <Override PartName="/ppt/media/image35.png" ContentType="image/png"/>
  <Override PartName="/ppt/media/image31.jpeg" ContentType="image/jpeg"/>
  <Override PartName="/ppt/media/image10.wmf" ContentType="image/x-wmf"/>
  <Override PartName="/ppt/media/image36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27.png" ContentType="image/png"/>
  <Override PartName="/ppt/media/image3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A5AB-88BF-4746-B57A-826038BB8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D34F-42D7-4C84-81B8-FAEEDC7B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B836-46D1-44AC-9B48-C1BEBB20D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2DB1-4E1A-4005-973B-AFE526B00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1A81-4270-4BF6-9D7C-D3B14D09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CD65-478F-42CE-8B50-315C0FBE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C9D4-217D-4F54-ACAF-F9647451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8562-2686-486E-AB09-811C1177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272F-2BE7-4E35-941A-2D574399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549F-D41A-4C9C-A020-C5B87C39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6912-C651-46A9-A394-6879CD66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2FF0-B280-47B8-83ED-78A6D46D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D3FF-F29E-4469-B655-F0F708FE5C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image" Target="../media/image34.wmf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5.png"/><Relationship Id="rId8" Type="http://schemas.openxmlformats.org/officeDocument/2006/relationships/image" Target="../media/image38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39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15.wmf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image" Target="../media/image5.png"/><Relationship Id="rId4" Type="http://schemas.openxmlformats.org/officeDocument/2006/relationships/image" Target="../media/image21.wmf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4.wmf"/><Relationship Id="rId3" Type="http://schemas.openxmlformats.org/officeDocument/2006/relationships/image" Target="../media/image5.png"/><Relationship Id="rId4" Type="http://schemas.openxmlformats.org/officeDocument/2006/relationships/image" Target="../media/image25.wmf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8.png"/><Relationship Id="rId14" Type="http://schemas.openxmlformats.org/officeDocument/2006/relationships/image" Target="../media/image28.png"/><Relationship Id="rId15" Type="http://schemas.openxmlformats.org/officeDocument/2006/relationships/image" Target="../media/image28.png"/><Relationship Id="rId16" Type="http://schemas.openxmlformats.org/officeDocument/2006/relationships/image" Target="../media/image28.png"/><Relationship Id="rId17" Type="http://schemas.openxmlformats.org/officeDocument/2006/relationships/image" Target="../media/image28.png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19720" y="6126120"/>
            <a:ext cx="4724280" cy="5814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三　方程（第二课时）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2590920"/>
            <a:ext cx="67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等式的基本性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457200" y="3808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看图列出方程，并在括号里填上适当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1066680" y="1836720"/>
            <a:ext cx="3657600" cy="1198080"/>
            <a:chOff x="1066680" y="1836720"/>
            <a:chExt cx="3657600" cy="1198080"/>
          </a:xfrm>
        </p:grpSpPr>
        <p:sp>
          <p:nvSpPr>
            <p:cNvPr id="397" name=""/>
            <p:cNvSpPr/>
            <p:nvPr/>
          </p:nvSpPr>
          <p:spPr>
            <a:xfrm>
              <a:off x="2530800" y="1836720"/>
              <a:ext cx="711360" cy="6843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811240" y="2649960"/>
              <a:ext cx="152280" cy="2138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066680" y="1836720"/>
              <a:ext cx="1218960" cy="114120"/>
            </a:xfrm>
            <a:custGeom>
              <a:avLst/>
              <a:gdLst>
                <a:gd name="textAreaLeft" fmla="*/ 267840 w 1218960"/>
                <a:gd name="textAreaRight" fmla="*/ 951120 w 1218960"/>
                <a:gd name="textAreaTop" fmla="*/ 24840 h 114120"/>
                <a:gd name="textAreaBottom" fmla="*/ 892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489680" y="1950840"/>
              <a:ext cx="344520" cy="114120"/>
            </a:xfrm>
            <a:custGeom>
              <a:avLst/>
              <a:gdLst>
                <a:gd name="textAreaLeft" fmla="*/ 75600 w 344520"/>
                <a:gd name="textAreaRight" fmla="*/ 268920 w 344520"/>
                <a:gd name="textAreaTop" fmla="*/ 24840 h 114120"/>
                <a:gd name="textAreaBottom" fmla="*/ 892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99840" y="2064960"/>
              <a:ext cx="120960" cy="399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33680" y="2464560"/>
              <a:ext cx="49320" cy="399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725120" y="2179440"/>
              <a:ext cx="2296440" cy="170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1725120" y="2344320"/>
              <a:ext cx="2296440" cy="284760"/>
            </a:xfrm>
            <a:prstGeom prst="triangle">
              <a:avLst>
                <a:gd name="adj" fmla="val 50000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811240" y="2559240"/>
              <a:ext cx="152280" cy="1710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842560" y="2597400"/>
              <a:ext cx="84240" cy="946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1066680" y="2863080"/>
              <a:ext cx="3657600" cy="171000"/>
            </a:xfrm>
            <a:custGeom>
              <a:avLst/>
              <a:gdLst>
                <a:gd name="textAreaLeft" fmla="*/ 356760 w 3657600"/>
                <a:gd name="textAreaRight" fmla="*/ 3300840 w 3657600"/>
                <a:gd name="textAreaTop" fmla="*/ 16560 h 171000"/>
                <a:gd name="textAreaBottom" fmla="*/ 154440 h 17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57" y="21600"/>
                  </a:lnTo>
                  <a:lnTo>
                    <a:pt x="643" y="2160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488400" y="1836720"/>
              <a:ext cx="1219320" cy="114120"/>
            </a:xfrm>
            <a:custGeom>
              <a:avLst/>
              <a:gdLst>
                <a:gd name="textAreaLeft" fmla="*/ 268200 w 1219320"/>
                <a:gd name="textAreaRight" fmla="*/ 951120 w 1219320"/>
                <a:gd name="textAreaTop" fmla="*/ 24840 h 114120"/>
                <a:gd name="textAreaBottom" fmla="*/ 892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11760" y="1950840"/>
              <a:ext cx="344520" cy="114120"/>
            </a:xfrm>
            <a:custGeom>
              <a:avLst/>
              <a:gdLst>
                <a:gd name="textAreaLeft" fmla="*/ 75600 w 344520"/>
                <a:gd name="textAreaRight" fmla="*/ 268920 w 344520"/>
                <a:gd name="textAreaTop" fmla="*/ 24840 h 114120"/>
                <a:gd name="textAreaBottom" fmla="*/ 892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021920" y="2064960"/>
              <a:ext cx="119520" cy="399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54680" y="2464560"/>
              <a:ext cx="50400" cy="399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2884680" y="1836720"/>
              <a:ext cx="21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34640" y="1839240"/>
              <a:ext cx="3240" cy="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782800" y="1851120"/>
              <a:ext cx="9000" cy="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692440" y="1893240"/>
              <a:ext cx="7920" cy="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651400" y="1922040"/>
              <a:ext cx="9000" cy="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613960" y="1960200"/>
              <a:ext cx="7920" cy="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737080" y="1868040"/>
              <a:ext cx="7920" cy="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2929320" y="1836720"/>
              <a:ext cx="7920" cy="5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2971440" y="1851120"/>
              <a:ext cx="16200" cy="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3010320" y="1868040"/>
              <a:ext cx="24480" cy="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3049920" y="1891800"/>
              <a:ext cx="24480" cy="5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3087360" y="1915560"/>
              <a:ext cx="25560" cy="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3123720" y="1950840"/>
              <a:ext cx="25560" cy="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2887200" y="2007360"/>
              <a:ext cx="0" cy="172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5181480" y="1219320"/>
            <a:ext cx="3276720" cy="2133360"/>
          </a:xfrm>
          <a:prstGeom prst="verticalScroll">
            <a:avLst>
              <a:gd name="adj" fmla="val 893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181480" y="3962520"/>
            <a:ext cx="3276720" cy="2133360"/>
          </a:xfrm>
          <a:prstGeom prst="verticalScroll">
            <a:avLst>
              <a:gd name="adj" fmla="val 893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845400" y="1854360"/>
            <a:ext cx="3045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宋体"/>
              </a:rPr>
              <a:t>＝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29" name=""/>
          <p:cNvSpPr/>
          <p:nvPr/>
        </p:nvSpPr>
        <p:spPr>
          <a:xfrm>
            <a:off x="5638680" y="228600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238880" y="22860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6083280" y="2413080"/>
            <a:ext cx="1857240" cy="78732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6829560" y="4619520"/>
            <a:ext cx="3045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宋体"/>
              </a:rPr>
              <a:t>＝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33" name=""/>
          <p:cNvSpPr/>
          <p:nvPr/>
        </p:nvSpPr>
        <p:spPr>
          <a:xfrm>
            <a:off x="5562720" y="5051520"/>
            <a:ext cx="1203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223040" y="50515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3"/>
          <a:stretch/>
        </p:blipFill>
        <p:spPr>
          <a:xfrm>
            <a:off x="6099120" y="5178600"/>
            <a:ext cx="1857600" cy="78732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5629320" y="169056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281720" y="169056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081920" y="25290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791320" y="4495680"/>
            <a:ext cx="90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329600" y="45100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095960" y="5286240"/>
            <a:ext cx="9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1066680" y="4905360"/>
            <a:ext cx="3657600" cy="1198080"/>
            <a:chOff x="1066680" y="4905360"/>
            <a:chExt cx="3657600" cy="1198080"/>
          </a:xfrm>
        </p:grpSpPr>
        <p:sp>
          <p:nvSpPr>
            <p:cNvPr id="443" name=""/>
            <p:cNvSpPr/>
            <p:nvPr/>
          </p:nvSpPr>
          <p:spPr>
            <a:xfrm>
              <a:off x="2530800" y="4905360"/>
              <a:ext cx="711360" cy="6843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11240" y="5718600"/>
              <a:ext cx="152280" cy="2138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066680" y="4905360"/>
              <a:ext cx="1218960" cy="114120"/>
            </a:xfrm>
            <a:custGeom>
              <a:avLst/>
              <a:gdLst>
                <a:gd name="textAreaLeft" fmla="*/ 267840 w 1218960"/>
                <a:gd name="textAreaRight" fmla="*/ 951120 w 1218960"/>
                <a:gd name="textAreaTop" fmla="*/ 24840 h 114120"/>
                <a:gd name="textAreaBottom" fmla="*/ 892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489680" y="5019480"/>
              <a:ext cx="344520" cy="114120"/>
            </a:xfrm>
            <a:custGeom>
              <a:avLst/>
              <a:gdLst>
                <a:gd name="textAreaLeft" fmla="*/ 75600 w 344520"/>
                <a:gd name="textAreaRight" fmla="*/ 268920 w 344520"/>
                <a:gd name="textAreaTop" fmla="*/ 24840 h 114120"/>
                <a:gd name="textAreaBottom" fmla="*/ 892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599840" y="5133600"/>
              <a:ext cx="120960" cy="399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33680" y="5533200"/>
              <a:ext cx="49320" cy="399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725120" y="5248080"/>
              <a:ext cx="2296440" cy="170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1725120" y="5412960"/>
              <a:ext cx="2296440" cy="284760"/>
            </a:xfrm>
            <a:prstGeom prst="triangle">
              <a:avLst>
                <a:gd name="adj" fmla="val 50000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811240" y="5627880"/>
              <a:ext cx="152280" cy="1710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42560" y="5666040"/>
              <a:ext cx="84240" cy="946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1066680" y="5932080"/>
              <a:ext cx="3657600" cy="171000"/>
            </a:xfrm>
            <a:custGeom>
              <a:avLst/>
              <a:gdLst>
                <a:gd name="textAreaLeft" fmla="*/ 356760 w 3657600"/>
                <a:gd name="textAreaRight" fmla="*/ 3300840 w 3657600"/>
                <a:gd name="textAreaTop" fmla="*/ 16560 h 171000"/>
                <a:gd name="textAreaBottom" fmla="*/ 154440 h 17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57" y="21600"/>
                  </a:lnTo>
                  <a:lnTo>
                    <a:pt x="643" y="2160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488400" y="4905360"/>
              <a:ext cx="1219320" cy="114120"/>
            </a:xfrm>
            <a:custGeom>
              <a:avLst/>
              <a:gdLst>
                <a:gd name="textAreaLeft" fmla="*/ 268200 w 1219320"/>
                <a:gd name="textAreaRight" fmla="*/ 951120 w 1219320"/>
                <a:gd name="textAreaTop" fmla="*/ 24840 h 114120"/>
                <a:gd name="textAreaBottom" fmla="*/ 892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911760" y="5019480"/>
              <a:ext cx="344520" cy="114120"/>
            </a:xfrm>
            <a:custGeom>
              <a:avLst/>
              <a:gdLst>
                <a:gd name="textAreaLeft" fmla="*/ 75600 w 344520"/>
                <a:gd name="textAreaRight" fmla="*/ 268920 w 344520"/>
                <a:gd name="textAreaTop" fmla="*/ 24840 h 114120"/>
                <a:gd name="textAreaBottom" fmla="*/ 892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021920" y="5133600"/>
              <a:ext cx="119520" cy="399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054680" y="5533200"/>
              <a:ext cx="50400" cy="399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2884680" y="4905360"/>
              <a:ext cx="21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834640" y="4907880"/>
              <a:ext cx="3240" cy="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782800" y="4919760"/>
              <a:ext cx="9000" cy="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692440" y="4961880"/>
              <a:ext cx="7920" cy="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651400" y="4990680"/>
              <a:ext cx="9000" cy="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613960" y="5028840"/>
              <a:ext cx="7920" cy="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737080" y="4936680"/>
              <a:ext cx="7920" cy="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2929320" y="4905360"/>
              <a:ext cx="7920" cy="5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2971440" y="4919760"/>
              <a:ext cx="16200" cy="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3010320" y="4936680"/>
              <a:ext cx="24480" cy="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3049920" y="4960440"/>
              <a:ext cx="24480" cy="5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3087360" y="4984200"/>
              <a:ext cx="25560" cy="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3123720" y="5019480"/>
              <a:ext cx="25560" cy="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2887200" y="5076000"/>
              <a:ext cx="0" cy="172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2" name="" descr=""/>
          <p:cNvPicPr/>
          <p:nvPr/>
        </p:nvPicPr>
        <p:blipFill>
          <a:blip r:embed="rId4"/>
          <a:stretch/>
        </p:blipFill>
        <p:spPr>
          <a:xfrm>
            <a:off x="1371600" y="1352520"/>
            <a:ext cx="523800" cy="27612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5"/>
          <a:stretch/>
        </p:blipFill>
        <p:spPr>
          <a:xfrm>
            <a:off x="1295280" y="1581120"/>
            <a:ext cx="648000" cy="27612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6"/>
          <a:stretch/>
        </p:blipFill>
        <p:spPr>
          <a:xfrm>
            <a:off x="3790800" y="1581120"/>
            <a:ext cx="648000" cy="27612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7"/>
          <a:stretch/>
        </p:blipFill>
        <p:spPr>
          <a:xfrm>
            <a:off x="3828960" y="1343160"/>
            <a:ext cx="523800" cy="27612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8"/>
          <a:stretch/>
        </p:blipFill>
        <p:spPr>
          <a:xfrm>
            <a:off x="1295280" y="4648320"/>
            <a:ext cx="648000" cy="27612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9"/>
          <a:stretch/>
        </p:blipFill>
        <p:spPr>
          <a:xfrm>
            <a:off x="1295280" y="4419720"/>
            <a:ext cx="648000" cy="27612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10"/>
          <a:stretch/>
        </p:blipFill>
        <p:spPr>
          <a:xfrm>
            <a:off x="3505320" y="435276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11"/>
          <a:stretch/>
        </p:blipFill>
        <p:spPr>
          <a:xfrm>
            <a:off x="4105440" y="435276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12"/>
          <a:stretch/>
        </p:blipFill>
        <p:spPr>
          <a:xfrm>
            <a:off x="3800520" y="3876840"/>
            <a:ext cx="62856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457200" y="6094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3. 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用方程表示下面的数量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724280" y="46483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6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019920" y="320040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x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990720" y="1492200"/>
            <a:ext cx="1371600" cy="892080"/>
            <a:chOff x="990720" y="1492200"/>
            <a:chExt cx="1371600" cy="892080"/>
          </a:xfrm>
        </p:grpSpPr>
        <p:sp>
          <p:nvSpPr>
            <p:cNvPr id="485" name=""/>
            <p:cNvSpPr/>
            <p:nvPr/>
          </p:nvSpPr>
          <p:spPr>
            <a:xfrm>
              <a:off x="1149480" y="1523520"/>
              <a:ext cx="1008000" cy="77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990720" y="1492200"/>
              <a:ext cx="1371600" cy="892080"/>
              <a:chOff x="990720" y="1492200"/>
              <a:chExt cx="1371600" cy="892080"/>
            </a:xfrm>
          </p:grpSpPr>
          <p:sp>
            <p:nvSpPr>
              <p:cNvPr id="487" name=""/>
              <p:cNvSpPr/>
              <p:nvPr/>
            </p:nvSpPr>
            <p:spPr>
              <a:xfrm>
                <a:off x="1045080" y="1870200"/>
                <a:ext cx="18396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8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990720" y="1492200"/>
                <a:ext cx="1371600" cy="892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89" name=""/>
          <p:cNvGrpSpPr/>
          <p:nvPr/>
        </p:nvGrpSpPr>
        <p:grpSpPr>
          <a:xfrm>
            <a:off x="2397240" y="1488960"/>
            <a:ext cx="1371600" cy="892440"/>
            <a:chOff x="2397240" y="1488960"/>
            <a:chExt cx="1371600" cy="892440"/>
          </a:xfrm>
        </p:grpSpPr>
        <p:sp>
          <p:nvSpPr>
            <p:cNvPr id="490" name=""/>
            <p:cNvSpPr/>
            <p:nvPr/>
          </p:nvSpPr>
          <p:spPr>
            <a:xfrm>
              <a:off x="2556000" y="1520280"/>
              <a:ext cx="1008000" cy="771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1" name=""/>
            <p:cNvGrpSpPr/>
            <p:nvPr/>
          </p:nvGrpSpPr>
          <p:grpSpPr>
            <a:xfrm>
              <a:off x="2397240" y="1488960"/>
              <a:ext cx="1371600" cy="892440"/>
              <a:chOff x="2397240" y="1488960"/>
              <a:chExt cx="1371600" cy="892440"/>
            </a:xfrm>
          </p:grpSpPr>
          <p:sp>
            <p:nvSpPr>
              <p:cNvPr id="492" name=""/>
              <p:cNvSpPr/>
              <p:nvPr/>
            </p:nvSpPr>
            <p:spPr>
              <a:xfrm>
                <a:off x="2451600" y="1866960"/>
                <a:ext cx="18396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9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397240" y="1488960"/>
                <a:ext cx="1371600" cy="892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94" name=""/>
          <p:cNvGrpSpPr/>
          <p:nvPr/>
        </p:nvGrpSpPr>
        <p:grpSpPr>
          <a:xfrm>
            <a:off x="3794040" y="1473120"/>
            <a:ext cx="1371600" cy="892080"/>
            <a:chOff x="3794040" y="1473120"/>
            <a:chExt cx="1371600" cy="892080"/>
          </a:xfrm>
        </p:grpSpPr>
        <p:sp>
          <p:nvSpPr>
            <p:cNvPr id="495" name=""/>
            <p:cNvSpPr/>
            <p:nvPr/>
          </p:nvSpPr>
          <p:spPr>
            <a:xfrm>
              <a:off x="3952800" y="1504440"/>
              <a:ext cx="1008000" cy="77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3794040" y="1473120"/>
              <a:ext cx="1371600" cy="892080"/>
              <a:chOff x="3794040" y="1473120"/>
              <a:chExt cx="1371600" cy="892080"/>
            </a:xfrm>
          </p:grpSpPr>
          <p:sp>
            <p:nvSpPr>
              <p:cNvPr id="497" name=""/>
              <p:cNvSpPr/>
              <p:nvPr/>
            </p:nvSpPr>
            <p:spPr>
              <a:xfrm>
                <a:off x="3848400" y="1851120"/>
                <a:ext cx="18396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9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794040" y="1473120"/>
                <a:ext cx="1371600" cy="892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99" name=""/>
          <p:cNvGrpSpPr/>
          <p:nvPr/>
        </p:nvGrpSpPr>
        <p:grpSpPr>
          <a:xfrm>
            <a:off x="1685880" y="2765520"/>
            <a:ext cx="1371600" cy="892080"/>
            <a:chOff x="1685880" y="2765520"/>
            <a:chExt cx="1371600" cy="892080"/>
          </a:xfrm>
        </p:grpSpPr>
        <p:sp>
          <p:nvSpPr>
            <p:cNvPr id="500" name=""/>
            <p:cNvSpPr/>
            <p:nvPr/>
          </p:nvSpPr>
          <p:spPr>
            <a:xfrm>
              <a:off x="1844640" y="2796840"/>
              <a:ext cx="1008000" cy="77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1685880" y="2765520"/>
              <a:ext cx="1371600" cy="892080"/>
              <a:chOff x="1685880" y="2765520"/>
              <a:chExt cx="1371600" cy="892080"/>
            </a:xfrm>
          </p:grpSpPr>
          <p:sp>
            <p:nvSpPr>
              <p:cNvPr id="502" name=""/>
              <p:cNvSpPr/>
              <p:nvPr/>
            </p:nvSpPr>
            <p:spPr>
              <a:xfrm>
                <a:off x="1740240" y="3143520"/>
                <a:ext cx="18396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685880" y="2765520"/>
                <a:ext cx="1371600" cy="892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04" name=""/>
          <p:cNvGrpSpPr/>
          <p:nvPr/>
        </p:nvGrpSpPr>
        <p:grpSpPr>
          <a:xfrm>
            <a:off x="3105000" y="2762280"/>
            <a:ext cx="1371600" cy="892080"/>
            <a:chOff x="3105000" y="2762280"/>
            <a:chExt cx="1371600" cy="892080"/>
          </a:xfrm>
        </p:grpSpPr>
        <p:sp>
          <p:nvSpPr>
            <p:cNvPr id="505" name=""/>
            <p:cNvSpPr/>
            <p:nvPr/>
          </p:nvSpPr>
          <p:spPr>
            <a:xfrm>
              <a:off x="3263760" y="2793600"/>
              <a:ext cx="1008000" cy="77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6" name=""/>
            <p:cNvGrpSpPr/>
            <p:nvPr/>
          </p:nvGrpSpPr>
          <p:grpSpPr>
            <a:xfrm>
              <a:off x="3105000" y="2762280"/>
              <a:ext cx="1371600" cy="892080"/>
              <a:chOff x="3105000" y="2762280"/>
              <a:chExt cx="1371600" cy="892080"/>
            </a:xfrm>
          </p:grpSpPr>
          <p:sp>
            <p:nvSpPr>
              <p:cNvPr id="507" name=""/>
              <p:cNvSpPr/>
              <p:nvPr/>
            </p:nvSpPr>
            <p:spPr>
              <a:xfrm>
                <a:off x="3159360" y="3140280"/>
                <a:ext cx="18396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105000" y="2762280"/>
                <a:ext cx="1371600" cy="892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09" name=""/>
          <p:cNvSpPr txBox="1"/>
          <p:nvPr/>
        </p:nvSpPr>
        <p:spPr>
          <a:xfrm>
            <a:off x="1447920" y="2419200"/>
            <a:ext cx="457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x</a:t>
            </a: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元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895480" y="2438280"/>
            <a:ext cx="457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x</a:t>
            </a: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元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267080" y="2438280"/>
            <a:ext cx="457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x</a:t>
            </a: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元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133720" y="3733920"/>
            <a:ext cx="4572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x</a:t>
            </a: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元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581280" y="3733920"/>
            <a:ext cx="4572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x</a:t>
            </a: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元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514" name=""/>
          <p:cNvSpPr/>
          <p:nvPr/>
        </p:nvSpPr>
        <p:spPr>
          <a:xfrm>
            <a:off x="5410080" y="1600200"/>
            <a:ext cx="228600" cy="2362320"/>
          </a:xfrm>
          <a:custGeom>
            <a:avLst/>
            <a:gdLst>
              <a:gd name="textAreaLeft" fmla="*/ 0 w 228600"/>
              <a:gd name="textAreaRight" fmla="*/ 82440 w 2286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5943600" y="2590920"/>
            <a:ext cx="7621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120</a:t>
            </a: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元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516" name=""/>
          <p:cNvSpPr/>
          <p:nvPr/>
        </p:nvSpPr>
        <p:spPr>
          <a:xfrm>
            <a:off x="533520" y="4724280"/>
            <a:ext cx="4495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加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等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倍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08120" y="10288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776840" y="53388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x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5105520" y="-900000"/>
            <a:ext cx="4300560" cy="345276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1143000" y="3124080"/>
            <a:ext cx="6705720" cy="117648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190520" y="33955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通过今天的学习，大家有什么收获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47880" y="442800"/>
            <a:ext cx="2514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66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963960" y="3757680"/>
            <a:ext cx="963720" cy="826920"/>
            <a:chOff x="3963960" y="3757680"/>
            <a:chExt cx="963720" cy="826920"/>
          </a:xfrm>
        </p:grpSpPr>
        <p:sp>
          <p:nvSpPr>
            <p:cNvPr id="45" name=""/>
            <p:cNvSpPr/>
            <p:nvPr/>
          </p:nvSpPr>
          <p:spPr>
            <a:xfrm>
              <a:off x="3963960" y="3757680"/>
              <a:ext cx="963720" cy="8269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4443120" y="3757680"/>
              <a:ext cx="324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375080" y="3760920"/>
              <a:ext cx="468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305240" y="3775320"/>
              <a:ext cx="1260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183200" y="3826080"/>
              <a:ext cx="1080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127400" y="3861000"/>
              <a:ext cx="1260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76640" y="3907080"/>
              <a:ext cx="1116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243320" y="3795840"/>
              <a:ext cx="1116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4503240" y="3757680"/>
              <a:ext cx="1116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4560840" y="3775320"/>
              <a:ext cx="2232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4613400" y="3795840"/>
              <a:ext cx="3312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4667400" y="3824280"/>
              <a:ext cx="3312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4717800" y="3853080"/>
              <a:ext cx="3492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4766760" y="3895920"/>
              <a:ext cx="3492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4446720" y="3963600"/>
            <a:ext cx="0" cy="631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873520" y="4172040"/>
            <a:ext cx="3109680" cy="543960"/>
            <a:chOff x="2873520" y="4172040"/>
            <a:chExt cx="3109680" cy="543960"/>
          </a:xfrm>
        </p:grpSpPr>
        <p:sp>
          <p:nvSpPr>
            <p:cNvPr id="61" name=""/>
            <p:cNvSpPr/>
            <p:nvPr/>
          </p:nvSpPr>
          <p:spPr>
            <a:xfrm>
              <a:off x="2873520" y="4172040"/>
              <a:ext cx="3109680" cy="2059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2873520" y="4371840"/>
              <a:ext cx="3109680" cy="34416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934320" y="-517680"/>
            <a:ext cx="2819160" cy="2270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629400" y="1752480"/>
            <a:ext cx="1981080" cy="533520"/>
          </a:xfrm>
          <a:prstGeom prst="wedgeRoundRectCallout">
            <a:avLst>
              <a:gd name="adj1" fmla="val 25481"/>
              <a:gd name="adj2" fmla="val 12916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平衡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009880" y="3757680"/>
            <a:ext cx="1650960" cy="1244520"/>
            <a:chOff x="2009880" y="3757680"/>
            <a:chExt cx="1650960" cy="1244520"/>
          </a:xfrm>
        </p:grpSpPr>
        <p:sp>
          <p:nvSpPr>
            <p:cNvPr id="66" name=""/>
            <p:cNvSpPr/>
            <p:nvPr/>
          </p:nvSpPr>
          <p:spPr>
            <a:xfrm>
              <a:off x="2009880" y="3757680"/>
              <a:ext cx="1650960" cy="138240"/>
            </a:xfrm>
            <a:custGeom>
              <a:avLst/>
              <a:gdLst>
                <a:gd name="textAreaLeft" fmla="*/ 362880 w 1650960"/>
                <a:gd name="textAreaRight" fmla="*/ 1288080 w 1650960"/>
                <a:gd name="textAreaTop" fmla="*/ 30240 h 138240"/>
                <a:gd name="textAreaBottom" fmla="*/ 108000 h 13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83000" y="3895920"/>
              <a:ext cx="466560" cy="137880"/>
            </a:xfrm>
            <a:custGeom>
              <a:avLst/>
              <a:gdLst>
                <a:gd name="textAreaLeft" fmla="*/ 102600 w 466560"/>
                <a:gd name="textAreaRight" fmla="*/ 363960 w 466560"/>
                <a:gd name="textAreaTop" fmla="*/ 30240 h 137880"/>
                <a:gd name="textAreaBottom" fmla="*/ 107640 h 13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32040" y="4033800"/>
              <a:ext cx="163800" cy="482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778120" y="4519800"/>
              <a:ext cx="66960" cy="4824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232240" y="3757680"/>
            <a:ext cx="1650960" cy="1600200"/>
            <a:chOff x="5232240" y="3757680"/>
            <a:chExt cx="1650960" cy="1600200"/>
          </a:xfrm>
        </p:grpSpPr>
        <p:sp>
          <p:nvSpPr>
            <p:cNvPr id="71" name=""/>
            <p:cNvSpPr/>
            <p:nvPr/>
          </p:nvSpPr>
          <p:spPr>
            <a:xfrm>
              <a:off x="5232240" y="3757680"/>
              <a:ext cx="1650960" cy="138240"/>
            </a:xfrm>
            <a:custGeom>
              <a:avLst/>
              <a:gdLst>
                <a:gd name="textAreaLeft" fmla="*/ 362880 w 1650960"/>
                <a:gd name="textAreaRight" fmla="*/ 1288080 w 1650960"/>
                <a:gd name="textAreaTop" fmla="*/ 30240 h 138240"/>
                <a:gd name="textAreaBottom" fmla="*/ 108000 h 13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805360" y="3895920"/>
              <a:ext cx="466560" cy="137880"/>
            </a:xfrm>
            <a:custGeom>
              <a:avLst/>
              <a:gdLst>
                <a:gd name="textAreaLeft" fmla="*/ 102600 w 466560"/>
                <a:gd name="textAreaRight" fmla="*/ 363960 w 466560"/>
                <a:gd name="textAreaTop" fmla="*/ 30240 h 137880"/>
                <a:gd name="textAreaBottom" fmla="*/ 107640 h 13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954400" y="4033800"/>
              <a:ext cx="162000" cy="482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997240" y="4513320"/>
              <a:ext cx="74880" cy="844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1981080" y="4630680"/>
            <a:ext cx="4952880" cy="803160"/>
            <a:chOff x="1981080" y="4630680"/>
            <a:chExt cx="4952880" cy="803160"/>
          </a:xfrm>
        </p:grpSpPr>
        <p:grpSp>
          <p:nvGrpSpPr>
            <p:cNvPr id="76" name=""/>
            <p:cNvGrpSpPr/>
            <p:nvPr/>
          </p:nvGrpSpPr>
          <p:grpSpPr>
            <a:xfrm>
              <a:off x="4343400" y="4630680"/>
              <a:ext cx="206280" cy="368280"/>
              <a:chOff x="4343400" y="4630680"/>
              <a:chExt cx="206280" cy="368280"/>
            </a:xfrm>
          </p:grpSpPr>
          <p:sp>
            <p:nvSpPr>
              <p:cNvPr id="77" name=""/>
              <p:cNvSpPr/>
              <p:nvPr/>
            </p:nvSpPr>
            <p:spPr>
              <a:xfrm>
                <a:off x="4343400" y="4740120"/>
                <a:ext cx="206280" cy="25884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343400" y="4630680"/>
                <a:ext cx="206280" cy="2062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86240" y="4676760"/>
                <a:ext cx="114480" cy="11412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 flipV="1">
              <a:off x="1981080" y="4998960"/>
              <a:ext cx="4952880" cy="434880"/>
            </a:xfrm>
            <a:custGeom>
              <a:avLst/>
              <a:gdLst>
                <a:gd name="textAreaLeft" fmla="*/ 483120 w 4952880"/>
                <a:gd name="textAreaRight" fmla="*/ 4469760 w 4952880"/>
                <a:gd name="textAreaTop" fmla="*/ 42120 h 434880"/>
                <a:gd name="textAreaBottom" fmla="*/ 392760 h 43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57" y="21600"/>
                  </a:lnTo>
                  <a:lnTo>
                    <a:pt x="643" y="21600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2395440" y="3276720"/>
            <a:ext cx="804960" cy="475920"/>
            <a:chOff x="2395440" y="3276720"/>
            <a:chExt cx="804960" cy="475920"/>
          </a:xfrm>
        </p:grpSpPr>
        <p:sp>
          <p:nvSpPr>
            <p:cNvPr id="82" name=""/>
            <p:cNvSpPr/>
            <p:nvPr/>
          </p:nvSpPr>
          <p:spPr>
            <a:xfrm>
              <a:off x="2539080" y="3276720"/>
              <a:ext cx="517320" cy="80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2606040" y="3363840"/>
              <a:ext cx="402480" cy="73440"/>
            </a:xfrm>
            <a:custGeom>
              <a:avLst/>
              <a:gdLst>
                <a:gd name="textAreaLeft" fmla="*/ 88560 w 402480"/>
                <a:gd name="textAreaRight" fmla="*/ 313920 w 402480"/>
                <a:gd name="textAreaTop" fmla="*/ 16200 h 73440"/>
                <a:gd name="textAreaBottom" fmla="*/ 57240 h 7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95440" y="3430800"/>
              <a:ext cx="804960" cy="3218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5691240" y="3281400"/>
            <a:ext cx="861840" cy="475920"/>
            <a:chOff x="5691240" y="3281400"/>
            <a:chExt cx="861840" cy="475920"/>
          </a:xfrm>
        </p:grpSpPr>
        <p:sp>
          <p:nvSpPr>
            <p:cNvPr id="86" name=""/>
            <p:cNvSpPr/>
            <p:nvPr/>
          </p:nvSpPr>
          <p:spPr>
            <a:xfrm>
              <a:off x="5844960" y="3281400"/>
              <a:ext cx="554040" cy="80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5916960" y="3368520"/>
              <a:ext cx="430920" cy="73440"/>
            </a:xfrm>
            <a:custGeom>
              <a:avLst/>
              <a:gdLst>
                <a:gd name="textAreaLeft" fmla="*/ 94680 w 430920"/>
                <a:gd name="textAreaRight" fmla="*/ 336240 w 430920"/>
                <a:gd name="textAreaTop" fmla="*/ 16200 h 73440"/>
                <a:gd name="textAreaBottom" fmla="*/ 57240 h 7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691240" y="3435480"/>
              <a:ext cx="861840" cy="3218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7467480" y="2895480"/>
            <a:ext cx="1295280" cy="1981080"/>
            <a:chOff x="7467480" y="2895480"/>
            <a:chExt cx="1295280" cy="1981080"/>
          </a:xfrm>
        </p:grpSpPr>
        <p:sp>
          <p:nvSpPr>
            <p:cNvPr id="90" name=""/>
            <p:cNvSpPr/>
            <p:nvPr/>
          </p:nvSpPr>
          <p:spPr>
            <a:xfrm>
              <a:off x="7804080" y="3300840"/>
              <a:ext cx="506520" cy="26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3"/>
            <a:stretch/>
          </p:blipFill>
          <p:spPr>
            <a:xfrm>
              <a:off x="7467480" y="2895480"/>
              <a:ext cx="1295280" cy="198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 rot="10209000">
            <a:off x="532800" y="228240"/>
            <a:ext cx="731880" cy="914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228680" y="380880"/>
            <a:ext cx="273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小实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57200" y="2514600"/>
            <a:ext cx="1400040" cy="1209600"/>
            <a:chOff x="457200" y="2514600"/>
            <a:chExt cx="1400040" cy="1209600"/>
          </a:xfrm>
        </p:grpSpPr>
        <p:sp>
          <p:nvSpPr>
            <p:cNvPr id="95" name=""/>
            <p:cNvSpPr/>
            <p:nvPr/>
          </p:nvSpPr>
          <p:spPr>
            <a:xfrm>
              <a:off x="961920" y="3201840"/>
              <a:ext cx="428760" cy="31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457200" y="2514600"/>
              <a:ext cx="1400040" cy="1209600"/>
              <a:chOff x="457200" y="2514600"/>
              <a:chExt cx="1400040" cy="1209600"/>
            </a:xfrm>
          </p:grpSpPr>
          <p:sp>
            <p:nvSpPr>
              <p:cNvPr id="97" name=""/>
              <p:cNvSpPr/>
              <p:nvPr/>
            </p:nvSpPr>
            <p:spPr>
              <a:xfrm>
                <a:off x="787320" y="2576520"/>
                <a:ext cx="254160" cy="24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276200" y="2576520"/>
                <a:ext cx="254160" cy="24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57200" y="2514600"/>
                <a:ext cx="1400040" cy="1209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" name=""/>
          <p:cNvSpPr/>
          <p:nvPr/>
        </p:nvSpPr>
        <p:spPr>
          <a:xfrm>
            <a:off x="609480" y="1295280"/>
            <a:ext cx="4648320" cy="533520"/>
          </a:xfrm>
          <a:prstGeom prst="wedgeRoundRectCallout">
            <a:avLst>
              <a:gd name="adj1" fmla="val -37194"/>
              <a:gd name="adj2" fmla="val 140180"/>
              <a:gd name="adj3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用算式表示实验的结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3429000" y="5638680"/>
            <a:ext cx="182880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45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3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1">
                                          <p:stCondLst>
                                            <p:cond delay="41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7" fill="hold">
                                          <p:stCondLst>
                                            <p:cond delay="32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41" fill="hold">
                                          <p:stCondLst>
                                            <p:cond delay="33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41" fill="hold">
                                          <p:stCondLst>
                                            <p:cond delay="41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7" fill="hold">
                                          <p:stCondLst>
                                            <p:cond delay="453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41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4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4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47880" y="442800"/>
            <a:ext cx="2514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66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963960" y="3757680"/>
            <a:ext cx="963720" cy="826920"/>
            <a:chOff x="3963960" y="3757680"/>
            <a:chExt cx="963720" cy="826920"/>
          </a:xfrm>
        </p:grpSpPr>
        <p:sp>
          <p:nvSpPr>
            <p:cNvPr id="104" name=""/>
            <p:cNvSpPr/>
            <p:nvPr/>
          </p:nvSpPr>
          <p:spPr>
            <a:xfrm>
              <a:off x="3963960" y="3757680"/>
              <a:ext cx="963720" cy="8269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443120" y="3757680"/>
              <a:ext cx="324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375080" y="3760920"/>
              <a:ext cx="468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305240" y="3775320"/>
              <a:ext cx="1260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83200" y="3826080"/>
              <a:ext cx="1080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27400" y="3861000"/>
              <a:ext cx="1260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76640" y="3907080"/>
              <a:ext cx="1116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243320" y="3795840"/>
              <a:ext cx="1116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4503240" y="3757680"/>
              <a:ext cx="1116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560840" y="3775320"/>
              <a:ext cx="2232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4613400" y="3795840"/>
              <a:ext cx="3312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4667400" y="3824280"/>
              <a:ext cx="3312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4717800" y="3853080"/>
              <a:ext cx="3492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4766760" y="3895920"/>
              <a:ext cx="3492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 flipV="1">
            <a:off x="4446720" y="3963600"/>
            <a:ext cx="0" cy="631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873520" y="4172040"/>
            <a:ext cx="3109680" cy="543960"/>
            <a:chOff x="2873520" y="4172040"/>
            <a:chExt cx="3109680" cy="543960"/>
          </a:xfrm>
        </p:grpSpPr>
        <p:sp>
          <p:nvSpPr>
            <p:cNvPr id="120" name=""/>
            <p:cNvSpPr/>
            <p:nvPr/>
          </p:nvSpPr>
          <p:spPr>
            <a:xfrm>
              <a:off x="2873520" y="4172040"/>
              <a:ext cx="3109680" cy="2059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2873520" y="4371840"/>
              <a:ext cx="3109680" cy="34416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248520" y="1981080"/>
            <a:ext cx="2361960" cy="533520"/>
          </a:xfrm>
          <a:prstGeom prst="wedgeRoundRectCallout">
            <a:avLst>
              <a:gd name="adj1" fmla="val 29435"/>
              <a:gd name="adj2" fmla="val 12916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左边重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041560" y="3757680"/>
            <a:ext cx="1650960" cy="1244520"/>
            <a:chOff x="2041560" y="3757680"/>
            <a:chExt cx="1650960" cy="1244520"/>
          </a:xfrm>
        </p:grpSpPr>
        <p:sp>
          <p:nvSpPr>
            <p:cNvPr id="124" name=""/>
            <p:cNvSpPr/>
            <p:nvPr/>
          </p:nvSpPr>
          <p:spPr>
            <a:xfrm>
              <a:off x="2041560" y="3757680"/>
              <a:ext cx="1650960" cy="138240"/>
            </a:xfrm>
            <a:custGeom>
              <a:avLst/>
              <a:gdLst>
                <a:gd name="textAreaLeft" fmla="*/ 362880 w 1650960"/>
                <a:gd name="textAreaRight" fmla="*/ 1288080 w 1650960"/>
                <a:gd name="textAreaTop" fmla="*/ 30240 h 138240"/>
                <a:gd name="textAreaBottom" fmla="*/ 108000 h 13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14680" y="3895920"/>
              <a:ext cx="466560" cy="137880"/>
            </a:xfrm>
            <a:custGeom>
              <a:avLst/>
              <a:gdLst>
                <a:gd name="textAreaLeft" fmla="*/ 102600 w 466560"/>
                <a:gd name="textAreaRight" fmla="*/ 363960 w 466560"/>
                <a:gd name="textAreaTop" fmla="*/ 30240 h 137880"/>
                <a:gd name="textAreaBottom" fmla="*/ 107640 h 13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63720" y="4033800"/>
              <a:ext cx="163800" cy="482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09800" y="4519800"/>
              <a:ext cx="66960" cy="4824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208480" y="3763800"/>
            <a:ext cx="1650960" cy="1600200"/>
            <a:chOff x="5208480" y="3763800"/>
            <a:chExt cx="1650960" cy="1600200"/>
          </a:xfrm>
        </p:grpSpPr>
        <p:sp>
          <p:nvSpPr>
            <p:cNvPr id="129" name=""/>
            <p:cNvSpPr/>
            <p:nvPr/>
          </p:nvSpPr>
          <p:spPr>
            <a:xfrm>
              <a:off x="5208480" y="3763800"/>
              <a:ext cx="1650960" cy="138240"/>
            </a:xfrm>
            <a:custGeom>
              <a:avLst/>
              <a:gdLst>
                <a:gd name="textAreaLeft" fmla="*/ 362880 w 1650960"/>
                <a:gd name="textAreaRight" fmla="*/ 1288080 w 1650960"/>
                <a:gd name="textAreaTop" fmla="*/ 30240 h 138240"/>
                <a:gd name="textAreaBottom" fmla="*/ 108000 h 13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81600" y="3902040"/>
              <a:ext cx="466560" cy="137880"/>
            </a:xfrm>
            <a:custGeom>
              <a:avLst/>
              <a:gdLst>
                <a:gd name="textAreaLeft" fmla="*/ 102600 w 466560"/>
                <a:gd name="textAreaRight" fmla="*/ 363960 w 466560"/>
                <a:gd name="textAreaTop" fmla="*/ 30240 h 137880"/>
                <a:gd name="textAreaBottom" fmla="*/ 107640 h 13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30640" y="4039920"/>
              <a:ext cx="162000" cy="482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73480" y="4519440"/>
              <a:ext cx="74880" cy="844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981080" y="4618080"/>
            <a:ext cx="4952880" cy="803160"/>
            <a:chOff x="1981080" y="4618080"/>
            <a:chExt cx="4952880" cy="803160"/>
          </a:xfrm>
        </p:grpSpPr>
        <p:grpSp>
          <p:nvGrpSpPr>
            <p:cNvPr id="134" name=""/>
            <p:cNvGrpSpPr/>
            <p:nvPr/>
          </p:nvGrpSpPr>
          <p:grpSpPr>
            <a:xfrm>
              <a:off x="4343400" y="4618080"/>
              <a:ext cx="206280" cy="368280"/>
              <a:chOff x="4343400" y="4618080"/>
              <a:chExt cx="206280" cy="368280"/>
            </a:xfrm>
          </p:grpSpPr>
          <p:sp>
            <p:nvSpPr>
              <p:cNvPr id="135" name=""/>
              <p:cNvSpPr/>
              <p:nvPr/>
            </p:nvSpPr>
            <p:spPr>
              <a:xfrm>
                <a:off x="4343400" y="4727520"/>
                <a:ext cx="206280" cy="25884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343400" y="4618080"/>
                <a:ext cx="206280" cy="2062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86240" y="4664160"/>
                <a:ext cx="114480" cy="11412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 flipV="1">
              <a:off x="1981080" y="4986360"/>
              <a:ext cx="4952880" cy="434880"/>
            </a:xfrm>
            <a:custGeom>
              <a:avLst/>
              <a:gdLst>
                <a:gd name="textAreaLeft" fmla="*/ 483120 w 4952880"/>
                <a:gd name="textAreaRight" fmla="*/ 4469760 w 4952880"/>
                <a:gd name="textAreaTop" fmla="*/ 42120 h 434880"/>
                <a:gd name="textAreaBottom" fmla="*/ 392760 h 43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57" y="21600"/>
                  </a:lnTo>
                  <a:lnTo>
                    <a:pt x="643" y="21600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068560" y="3276720"/>
            <a:ext cx="806400" cy="475920"/>
            <a:chOff x="2068560" y="3276720"/>
            <a:chExt cx="806400" cy="475920"/>
          </a:xfrm>
        </p:grpSpPr>
        <p:sp>
          <p:nvSpPr>
            <p:cNvPr id="140" name=""/>
            <p:cNvSpPr/>
            <p:nvPr/>
          </p:nvSpPr>
          <p:spPr>
            <a:xfrm>
              <a:off x="2212200" y="3276720"/>
              <a:ext cx="518400" cy="80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279520" y="3363840"/>
              <a:ext cx="403200" cy="73440"/>
            </a:xfrm>
            <a:custGeom>
              <a:avLst/>
              <a:gdLst>
                <a:gd name="textAreaLeft" fmla="*/ 88560 w 403200"/>
                <a:gd name="textAreaRight" fmla="*/ 314640 w 403200"/>
                <a:gd name="textAreaTop" fmla="*/ 16200 h 73440"/>
                <a:gd name="textAreaBottom" fmla="*/ 57240 h 7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68560" y="3430800"/>
              <a:ext cx="806400" cy="3218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203800" y="3292560"/>
            <a:ext cx="862200" cy="475920"/>
            <a:chOff x="5203800" y="3292560"/>
            <a:chExt cx="862200" cy="475920"/>
          </a:xfrm>
        </p:grpSpPr>
        <p:sp>
          <p:nvSpPr>
            <p:cNvPr id="144" name=""/>
            <p:cNvSpPr/>
            <p:nvPr/>
          </p:nvSpPr>
          <p:spPr>
            <a:xfrm>
              <a:off x="5357520" y="3292560"/>
              <a:ext cx="554040" cy="80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5429520" y="3379680"/>
              <a:ext cx="431280" cy="73440"/>
            </a:xfrm>
            <a:custGeom>
              <a:avLst/>
              <a:gdLst>
                <a:gd name="textAreaLeft" fmla="*/ 94680 w 431280"/>
                <a:gd name="textAreaRight" fmla="*/ 336600 w 431280"/>
                <a:gd name="textAreaTop" fmla="*/ 16200 h 73440"/>
                <a:gd name="textAreaBottom" fmla="*/ 57240 h 7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203800" y="3446640"/>
              <a:ext cx="862200" cy="3218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7467480" y="3124080"/>
            <a:ext cx="1295280" cy="1981080"/>
            <a:chOff x="7467480" y="3124080"/>
            <a:chExt cx="1295280" cy="1981080"/>
          </a:xfrm>
        </p:grpSpPr>
        <p:sp>
          <p:nvSpPr>
            <p:cNvPr id="148" name=""/>
            <p:cNvSpPr/>
            <p:nvPr/>
          </p:nvSpPr>
          <p:spPr>
            <a:xfrm>
              <a:off x="7804080" y="3529440"/>
              <a:ext cx="506520" cy="26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7467480" y="3124080"/>
              <a:ext cx="1295280" cy="198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 rot="10209000">
            <a:off x="532800" y="228240"/>
            <a:ext cx="731880" cy="914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228680" y="380880"/>
            <a:ext cx="273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小实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295280"/>
            <a:ext cx="3657600" cy="533520"/>
          </a:xfrm>
          <a:prstGeom prst="wedgeRoundRectCallout">
            <a:avLst>
              <a:gd name="adj1" fmla="val -33722"/>
              <a:gd name="adj2" fmla="val 181250"/>
              <a:gd name="adj3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在左边放入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533160" y="2743200"/>
            <a:ext cx="1066680" cy="1828800"/>
            <a:chOff x="533160" y="2743200"/>
            <a:chExt cx="1066680" cy="1828800"/>
          </a:xfrm>
        </p:grpSpPr>
        <p:sp>
          <p:nvSpPr>
            <p:cNvPr id="154" name=""/>
            <p:cNvSpPr/>
            <p:nvPr/>
          </p:nvSpPr>
          <p:spPr>
            <a:xfrm flipH="1">
              <a:off x="1166040" y="3227040"/>
              <a:ext cx="201960" cy="176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905040" y="3214800"/>
              <a:ext cx="201960" cy="176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 flipH="1">
              <a:off x="533160" y="2743200"/>
              <a:ext cx="1066680" cy="18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" name=""/>
          <p:cNvGrpSpPr/>
          <p:nvPr/>
        </p:nvGrpSpPr>
        <p:grpSpPr>
          <a:xfrm>
            <a:off x="2860560" y="3276720"/>
            <a:ext cx="804960" cy="475920"/>
            <a:chOff x="2860560" y="3276720"/>
            <a:chExt cx="804960" cy="475920"/>
          </a:xfrm>
        </p:grpSpPr>
        <p:sp>
          <p:nvSpPr>
            <p:cNvPr id="158" name=""/>
            <p:cNvSpPr/>
            <p:nvPr/>
          </p:nvSpPr>
          <p:spPr>
            <a:xfrm>
              <a:off x="3004200" y="3276720"/>
              <a:ext cx="517320" cy="80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071160" y="3363840"/>
              <a:ext cx="402480" cy="73440"/>
            </a:xfrm>
            <a:custGeom>
              <a:avLst/>
              <a:gdLst>
                <a:gd name="textAreaLeft" fmla="*/ 88560 w 402480"/>
                <a:gd name="textAreaRight" fmla="*/ 313920 w 402480"/>
                <a:gd name="textAreaTop" fmla="*/ 16200 h 73440"/>
                <a:gd name="textAreaBottom" fmla="*/ 57240 h 7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60560" y="3430800"/>
              <a:ext cx="804960" cy="321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2971800" y="5715000"/>
            <a:ext cx="3032280" cy="733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419720" y="1905120"/>
            <a:ext cx="4190760" cy="533160"/>
          </a:xfrm>
          <a:prstGeom prst="wedgeRoundRectCallout">
            <a:avLst>
              <a:gd name="adj1" fmla="val 34773"/>
              <a:gd name="adj2" fmla="val 167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在右边也放入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20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447920"/>
            <a:ext cx="2362320" cy="533160"/>
          </a:xfrm>
          <a:prstGeom prst="wedgeRoundRectCallout">
            <a:avLst>
              <a:gd name="adj1" fmla="val -24796"/>
              <a:gd name="adj2" fmla="val 181250"/>
              <a:gd name="adj3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平衡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6073920" y="2911320"/>
            <a:ext cx="804600" cy="475920"/>
            <a:chOff x="6073920" y="2911320"/>
            <a:chExt cx="804600" cy="475920"/>
          </a:xfrm>
        </p:grpSpPr>
        <p:sp>
          <p:nvSpPr>
            <p:cNvPr id="165" name=""/>
            <p:cNvSpPr/>
            <p:nvPr/>
          </p:nvSpPr>
          <p:spPr>
            <a:xfrm>
              <a:off x="6217560" y="2911320"/>
              <a:ext cx="517320" cy="80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6284520" y="2998440"/>
              <a:ext cx="402480" cy="73440"/>
            </a:xfrm>
            <a:custGeom>
              <a:avLst/>
              <a:gdLst>
                <a:gd name="textAreaLeft" fmla="*/ 88560 w 402480"/>
                <a:gd name="textAreaRight" fmla="*/ 313920 w 402480"/>
                <a:gd name="textAreaTop" fmla="*/ 16200 h 73440"/>
                <a:gd name="textAreaBottom" fmla="*/ 57240 h 7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73920" y="3065400"/>
              <a:ext cx="804600" cy="321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2438280" y="5718240"/>
            <a:ext cx="423540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59259E-006 L -1.66667E-006 0.05023 E">
                                      <p:cBhvr>
                                        <p:cTn id="179" dur="5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7.40741E-007 L 4.16667E-006 -0.0544 E">
                                      <p:cBhvr>
                                        <p:cTn id="181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00000">
                                      <p:cBhvr>
                                        <p:cTn id="1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00000">
                                      <p:cBhvr>
                                        <p:cTn id="1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0.00232 L -8.33333E-007 0.05185 E">
                                      <p:cBhvr>
                                        <p:cTn id="187" dur="5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0.00232 L -2.5E-006 0.05185 E">
                                      <p:cBhvr>
                                        <p:cTn id="189" dur="5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0.00348 L 4.16667E-006 -0.05578 E">
                                      <p:cBhvr>
                                        <p:cTn id="191" dur="5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5254 L -1.66667E-006 -0.00301 E">
                                      <p:cBhvr>
                                        <p:cTn id="219" dur="5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5069 L -2.5E-006 -0.00231 E">
                                      <p:cBhvr>
                                        <p:cTn id="221" dur="5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.05046 L -8.33333E-007 -0.00139 E">
                                      <p:cBhvr>
                                        <p:cTn id="223" dur="5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0.05231 L 4.16667E-006 0.00093 E">
                                      <p:cBhvr>
                                        <p:cTn id="225" dur="5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0.00347 L 2.77778E-007 0.05718 E">
                                      <p:cBhvr>
                                        <p:cTn id="227" dur="5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6 -0.0544 L 0.00086 0.00231 E">
                                      <p:cBhvr>
                                        <p:cTn id="229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2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00000">
                                      <p:cBhvr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947880" y="442800"/>
            <a:ext cx="2514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66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963960" y="3757680"/>
            <a:ext cx="963720" cy="826920"/>
            <a:chOff x="3963960" y="3757680"/>
            <a:chExt cx="963720" cy="826920"/>
          </a:xfrm>
        </p:grpSpPr>
        <p:sp>
          <p:nvSpPr>
            <p:cNvPr id="171" name=""/>
            <p:cNvSpPr/>
            <p:nvPr/>
          </p:nvSpPr>
          <p:spPr>
            <a:xfrm>
              <a:off x="3963960" y="3757680"/>
              <a:ext cx="963720" cy="8269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4443120" y="3757680"/>
              <a:ext cx="324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375080" y="3760920"/>
              <a:ext cx="468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305240" y="3775320"/>
              <a:ext cx="1260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183200" y="3826080"/>
              <a:ext cx="1080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27400" y="3861000"/>
              <a:ext cx="1260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076640" y="3907080"/>
              <a:ext cx="1116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43320" y="3795840"/>
              <a:ext cx="1116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4503240" y="3757680"/>
              <a:ext cx="1116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4560840" y="3775320"/>
              <a:ext cx="2232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4613400" y="3795840"/>
              <a:ext cx="3312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4667400" y="3824280"/>
              <a:ext cx="3312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4717800" y="3853080"/>
              <a:ext cx="3492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4766760" y="3895920"/>
              <a:ext cx="3492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V="1">
            <a:off x="4446720" y="3963600"/>
            <a:ext cx="0" cy="631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873520" y="4172040"/>
            <a:ext cx="3109680" cy="543960"/>
            <a:chOff x="2873520" y="4172040"/>
            <a:chExt cx="3109680" cy="543960"/>
          </a:xfrm>
        </p:grpSpPr>
        <p:sp>
          <p:nvSpPr>
            <p:cNvPr id="187" name=""/>
            <p:cNvSpPr/>
            <p:nvPr/>
          </p:nvSpPr>
          <p:spPr>
            <a:xfrm>
              <a:off x="2873520" y="4172040"/>
              <a:ext cx="3109680" cy="2059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873520" y="4371840"/>
              <a:ext cx="3109680" cy="34416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226120" y="3832200"/>
            <a:ext cx="1650960" cy="1244520"/>
            <a:chOff x="5226120" y="3832200"/>
            <a:chExt cx="1650960" cy="1244520"/>
          </a:xfrm>
        </p:grpSpPr>
        <p:sp>
          <p:nvSpPr>
            <p:cNvPr id="190" name=""/>
            <p:cNvSpPr/>
            <p:nvPr/>
          </p:nvSpPr>
          <p:spPr>
            <a:xfrm>
              <a:off x="5226120" y="3832200"/>
              <a:ext cx="1650960" cy="138240"/>
            </a:xfrm>
            <a:custGeom>
              <a:avLst/>
              <a:gdLst>
                <a:gd name="textAreaLeft" fmla="*/ 362880 w 1650960"/>
                <a:gd name="textAreaRight" fmla="*/ 1288080 w 1650960"/>
                <a:gd name="textAreaTop" fmla="*/ 30240 h 138240"/>
                <a:gd name="textAreaBottom" fmla="*/ 108000 h 13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99240" y="3970440"/>
              <a:ext cx="466560" cy="137880"/>
            </a:xfrm>
            <a:custGeom>
              <a:avLst/>
              <a:gdLst>
                <a:gd name="textAreaLeft" fmla="*/ 102600 w 466560"/>
                <a:gd name="textAreaRight" fmla="*/ 363960 w 466560"/>
                <a:gd name="textAreaTop" fmla="*/ 30240 h 137880"/>
                <a:gd name="textAreaBottom" fmla="*/ 107640 h 13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48280" y="4108320"/>
              <a:ext cx="163800" cy="482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94360" y="4594320"/>
              <a:ext cx="66960" cy="4824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2057400" y="3840120"/>
            <a:ext cx="1650960" cy="1600200"/>
            <a:chOff x="2057400" y="3840120"/>
            <a:chExt cx="1650960" cy="1600200"/>
          </a:xfrm>
        </p:grpSpPr>
        <p:sp>
          <p:nvSpPr>
            <p:cNvPr id="195" name=""/>
            <p:cNvSpPr/>
            <p:nvPr/>
          </p:nvSpPr>
          <p:spPr>
            <a:xfrm>
              <a:off x="2057400" y="3840120"/>
              <a:ext cx="1650960" cy="138240"/>
            </a:xfrm>
            <a:custGeom>
              <a:avLst/>
              <a:gdLst>
                <a:gd name="textAreaLeft" fmla="*/ 362880 w 1650960"/>
                <a:gd name="textAreaRight" fmla="*/ 1288080 w 1650960"/>
                <a:gd name="textAreaTop" fmla="*/ 30240 h 138240"/>
                <a:gd name="textAreaBottom" fmla="*/ 108000 h 13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630520" y="3978360"/>
              <a:ext cx="466560" cy="137880"/>
            </a:xfrm>
            <a:custGeom>
              <a:avLst/>
              <a:gdLst>
                <a:gd name="textAreaLeft" fmla="*/ 102600 w 466560"/>
                <a:gd name="textAreaRight" fmla="*/ 363960 w 466560"/>
                <a:gd name="textAreaTop" fmla="*/ 30240 h 137880"/>
                <a:gd name="textAreaBottom" fmla="*/ 107640 h 13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779560" y="4116240"/>
              <a:ext cx="162000" cy="482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22400" y="4595760"/>
              <a:ext cx="74880" cy="844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981080" y="4630680"/>
            <a:ext cx="4952880" cy="855000"/>
            <a:chOff x="1981080" y="4630680"/>
            <a:chExt cx="4952880" cy="855000"/>
          </a:xfrm>
        </p:grpSpPr>
        <p:grpSp>
          <p:nvGrpSpPr>
            <p:cNvPr id="200" name=""/>
            <p:cNvGrpSpPr/>
            <p:nvPr/>
          </p:nvGrpSpPr>
          <p:grpSpPr>
            <a:xfrm>
              <a:off x="4343400" y="4630680"/>
              <a:ext cx="206280" cy="391680"/>
              <a:chOff x="4343400" y="4630680"/>
              <a:chExt cx="206280" cy="391680"/>
            </a:xfrm>
          </p:grpSpPr>
          <p:sp>
            <p:nvSpPr>
              <p:cNvPr id="201" name=""/>
              <p:cNvSpPr/>
              <p:nvPr/>
            </p:nvSpPr>
            <p:spPr>
              <a:xfrm>
                <a:off x="4343400" y="4746960"/>
                <a:ext cx="206280" cy="2754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343400" y="4630680"/>
                <a:ext cx="206280" cy="2192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386240" y="4679640"/>
                <a:ext cx="114480" cy="12132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 flipV="1">
              <a:off x="1981080" y="5022000"/>
              <a:ext cx="4952880" cy="463320"/>
            </a:xfrm>
            <a:custGeom>
              <a:avLst/>
              <a:gdLst>
                <a:gd name="textAreaLeft" fmla="*/ 483120 w 4952880"/>
                <a:gd name="textAreaRight" fmla="*/ 4469760 w 4952880"/>
                <a:gd name="textAreaTop" fmla="*/ 45000 h 463320"/>
                <a:gd name="textAreaBottom" fmla="*/ 418320 h 46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57" y="21600"/>
                  </a:lnTo>
                  <a:lnTo>
                    <a:pt x="643" y="21600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063880" y="3357720"/>
            <a:ext cx="804600" cy="475920"/>
            <a:chOff x="2063880" y="3357720"/>
            <a:chExt cx="804600" cy="475920"/>
          </a:xfrm>
        </p:grpSpPr>
        <p:sp>
          <p:nvSpPr>
            <p:cNvPr id="206" name=""/>
            <p:cNvSpPr/>
            <p:nvPr/>
          </p:nvSpPr>
          <p:spPr>
            <a:xfrm>
              <a:off x="2207520" y="3357720"/>
              <a:ext cx="517320" cy="80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2274480" y="3444840"/>
              <a:ext cx="402480" cy="73440"/>
            </a:xfrm>
            <a:custGeom>
              <a:avLst/>
              <a:gdLst>
                <a:gd name="textAreaLeft" fmla="*/ 88560 w 402480"/>
                <a:gd name="textAreaRight" fmla="*/ 313920 w 402480"/>
                <a:gd name="textAreaTop" fmla="*/ 16200 h 73440"/>
                <a:gd name="textAreaBottom" fmla="*/ 57240 h 7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63880" y="3511800"/>
              <a:ext cx="804600" cy="3218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180040" y="3349800"/>
            <a:ext cx="861840" cy="475920"/>
            <a:chOff x="5180040" y="3349800"/>
            <a:chExt cx="861840" cy="475920"/>
          </a:xfrm>
        </p:grpSpPr>
        <p:sp>
          <p:nvSpPr>
            <p:cNvPr id="210" name=""/>
            <p:cNvSpPr/>
            <p:nvPr/>
          </p:nvSpPr>
          <p:spPr>
            <a:xfrm>
              <a:off x="5333760" y="3349800"/>
              <a:ext cx="554040" cy="80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5405760" y="3436920"/>
              <a:ext cx="430920" cy="73440"/>
            </a:xfrm>
            <a:custGeom>
              <a:avLst/>
              <a:gdLst>
                <a:gd name="textAreaLeft" fmla="*/ 94680 w 430920"/>
                <a:gd name="textAreaRight" fmla="*/ 336240 w 430920"/>
                <a:gd name="textAreaTop" fmla="*/ 16200 h 73440"/>
                <a:gd name="textAreaBottom" fmla="*/ 57240 h 7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80040" y="3503880"/>
              <a:ext cx="861840" cy="3218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7467480" y="3124080"/>
            <a:ext cx="1295280" cy="1981080"/>
            <a:chOff x="7467480" y="3124080"/>
            <a:chExt cx="1295280" cy="1981080"/>
          </a:xfrm>
        </p:grpSpPr>
        <p:sp>
          <p:nvSpPr>
            <p:cNvPr id="214" name=""/>
            <p:cNvSpPr/>
            <p:nvPr/>
          </p:nvSpPr>
          <p:spPr>
            <a:xfrm>
              <a:off x="7804080" y="3529440"/>
              <a:ext cx="506520" cy="26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5" name="" descr=""/>
            <p:cNvPicPr/>
            <p:nvPr/>
          </p:nvPicPr>
          <p:blipFill>
            <a:blip r:embed="rId2"/>
            <a:stretch/>
          </p:blipFill>
          <p:spPr>
            <a:xfrm>
              <a:off x="7467480" y="3124080"/>
              <a:ext cx="1295280" cy="198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 rot="10209000">
            <a:off x="532800" y="228240"/>
            <a:ext cx="731880" cy="9144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228680" y="380880"/>
            <a:ext cx="273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小实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33160" y="2743200"/>
            <a:ext cx="1066680" cy="1828800"/>
            <a:chOff x="533160" y="2743200"/>
            <a:chExt cx="1066680" cy="1828800"/>
          </a:xfrm>
        </p:grpSpPr>
        <p:sp>
          <p:nvSpPr>
            <p:cNvPr id="219" name=""/>
            <p:cNvSpPr/>
            <p:nvPr/>
          </p:nvSpPr>
          <p:spPr>
            <a:xfrm flipH="1">
              <a:off x="1166040" y="3227040"/>
              <a:ext cx="201960" cy="176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905040" y="3214800"/>
              <a:ext cx="201960" cy="176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1" name="" descr=""/>
            <p:cNvPicPr/>
            <p:nvPr/>
          </p:nvPicPr>
          <p:blipFill>
            <a:blip r:embed="rId4"/>
            <a:stretch/>
          </p:blipFill>
          <p:spPr>
            <a:xfrm flipH="1">
              <a:off x="533160" y="2743200"/>
              <a:ext cx="1066680" cy="18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"/>
          <p:cNvGrpSpPr/>
          <p:nvPr/>
        </p:nvGrpSpPr>
        <p:grpSpPr>
          <a:xfrm>
            <a:off x="2870280" y="3362400"/>
            <a:ext cx="804960" cy="475920"/>
            <a:chOff x="2870280" y="3362400"/>
            <a:chExt cx="804960" cy="475920"/>
          </a:xfrm>
        </p:grpSpPr>
        <p:sp>
          <p:nvSpPr>
            <p:cNvPr id="223" name=""/>
            <p:cNvSpPr/>
            <p:nvPr/>
          </p:nvSpPr>
          <p:spPr>
            <a:xfrm>
              <a:off x="3013920" y="3362400"/>
              <a:ext cx="517320" cy="80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3080880" y="3449520"/>
              <a:ext cx="402480" cy="73440"/>
            </a:xfrm>
            <a:custGeom>
              <a:avLst/>
              <a:gdLst>
                <a:gd name="textAreaLeft" fmla="*/ 88560 w 402480"/>
                <a:gd name="textAreaRight" fmla="*/ 313920 w 402480"/>
                <a:gd name="textAreaTop" fmla="*/ 16200 h 73440"/>
                <a:gd name="textAreaBottom" fmla="*/ 57240 h 7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870280" y="3516480"/>
              <a:ext cx="804960" cy="321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046920" y="3349800"/>
            <a:ext cx="804600" cy="475920"/>
            <a:chOff x="6046920" y="3349800"/>
            <a:chExt cx="804600" cy="475920"/>
          </a:xfrm>
        </p:grpSpPr>
        <p:sp>
          <p:nvSpPr>
            <p:cNvPr id="227" name=""/>
            <p:cNvSpPr/>
            <p:nvPr/>
          </p:nvSpPr>
          <p:spPr>
            <a:xfrm>
              <a:off x="6190560" y="3349800"/>
              <a:ext cx="517320" cy="80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6257520" y="3436920"/>
              <a:ext cx="402480" cy="73440"/>
            </a:xfrm>
            <a:custGeom>
              <a:avLst/>
              <a:gdLst>
                <a:gd name="textAreaLeft" fmla="*/ 88560 w 402480"/>
                <a:gd name="textAreaRight" fmla="*/ 313920 w 402480"/>
                <a:gd name="textAreaTop" fmla="*/ 16200 h 73440"/>
                <a:gd name="textAreaBottom" fmla="*/ 57240 h 7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46920" y="3503880"/>
              <a:ext cx="804600" cy="321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380880" y="1523880"/>
            <a:ext cx="4267440" cy="533520"/>
          </a:xfrm>
          <a:prstGeom prst="wedgeRoundRectCallout">
            <a:avLst>
              <a:gd name="adj1" fmla="val -33555"/>
              <a:gd name="adj2" fmla="val 169939"/>
              <a:gd name="adj3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在左边再放入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2057400"/>
            <a:ext cx="4572000" cy="533520"/>
          </a:xfrm>
          <a:prstGeom prst="wedgeRoundRectCallout">
            <a:avLst>
              <a:gd name="adj1" fmla="val 25592"/>
              <a:gd name="adj2" fmla="val 14612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在右边也再放入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100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2376360" y="2867040"/>
            <a:ext cx="819360" cy="4953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5637240" y="2859120"/>
            <a:ext cx="819000" cy="495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2859120" y="3348000"/>
            <a:ext cx="819000" cy="4953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8"/>
          <a:stretch/>
        </p:blipFill>
        <p:spPr>
          <a:xfrm>
            <a:off x="6029280" y="3648240"/>
            <a:ext cx="819360" cy="49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952560" y="5715000"/>
          <a:ext cx="7218360" cy="733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52560" y="5715000"/>
                    <a:ext cx="721836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685800" y="1371600"/>
            <a:ext cx="3581280" cy="533520"/>
          </a:xfrm>
          <a:prstGeom prst="wedgeRoundRectCallout">
            <a:avLst>
              <a:gd name="adj1" fmla="val -32537"/>
              <a:gd name="adj2" fmla="val 189879"/>
              <a:gd name="adj3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从左边拿走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95880" y="2057400"/>
            <a:ext cx="2743200" cy="533520"/>
          </a:xfrm>
          <a:prstGeom prst="wedgeRoundRectCallout">
            <a:avLst>
              <a:gd name="adj1" fmla="val 18750"/>
              <a:gd name="adj2" fmla="val 1458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你那边轻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219320" y="5745240"/>
          <a:ext cx="5960880" cy="731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19320" y="5745240"/>
                    <a:ext cx="596088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5029200" y="1828800"/>
            <a:ext cx="3962520" cy="533520"/>
          </a:xfrm>
          <a:prstGeom prst="wedgeRoundRectCallout">
            <a:avLst>
              <a:gd name="adj1" fmla="val 28685"/>
              <a:gd name="adj2" fmla="val 179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从右边也拿走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20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1295280"/>
            <a:ext cx="2895480" cy="533520"/>
          </a:xfrm>
          <a:prstGeom prst="wedgeRoundRectCallout">
            <a:avLst>
              <a:gd name="adj1" fmla="val -28782"/>
              <a:gd name="adj2" fmla="val 202680"/>
              <a:gd name="adj3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天平又平衡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905120" y="5715000"/>
          <a:ext cx="4757760" cy="731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05120" y="5715000"/>
                    <a:ext cx="475776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3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00000">
                                      <p:cBhvr>
                                        <p:cTn id="30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0.00162 L 2.22222E-006 -0.04838 E">
                                      <p:cBhvr>
                                        <p:cTn id="308" dur="5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0.00116 L 4.72222E-006 -0.04769 E">
                                      <p:cBhvr>
                                        <p:cTn id="310" dur="5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96296E-006 L 1.94444E-006 -0.04768 E">
                                      <p:cBhvr>
                                        <p:cTn id="312" dur="5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0.0037 L 4.44444E-006 0.04305 E">
                                      <p:cBhvr>
                                        <p:cTn id="314" dur="5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0.00625 L -1.66667E-006 0.04607 E">
                                      <p:cBhvr>
                                        <p:cTn id="316" dur="5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625 L -0.00052 0.04606 E">
                                      <p:cBhvr>
                                        <p:cTn id="318" dur="5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139 L -0.00052 0.0463 E">
                                      <p:cBhvr>
                                        <p:cTn id="320" dur="5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1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0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00000">
                                      <p:cBhvr>
                                        <p:cTn id="3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00000">
                                      <p:cBhvr>
                                        <p:cTn id="3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0.04259 L 4.44444E-006 0.00416 E">
                                      <p:cBhvr>
                                        <p:cTn id="366" dur="5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0.00486 L 0.00052 -0.04098 E">
                                      <p:cBhvr>
                                        <p:cTn id="368" dur="5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4028 L -1.66667E-006 0.0044 E">
                                      <p:cBhvr>
                                        <p:cTn id="370" dur="5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0.04745 L 2.22222E-006 0.00208 E">
                                      <p:cBhvr>
                                        <p:cTn id="372" dur="5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0.04491 L 4.72222E-006 0.00162 E">
                                      <p:cBhvr>
                                        <p:cTn id="374" dur="5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0.04491 L 1.94444E-006 0.00162 E">
                                      <p:cBhvr>
                                        <p:cTn id="376" dur="5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"/>
          <p:cNvGrpSpPr/>
          <p:nvPr/>
        </p:nvGrpSpPr>
        <p:grpSpPr>
          <a:xfrm>
            <a:off x="7086600" y="2666880"/>
            <a:ext cx="1065240" cy="1871640"/>
            <a:chOff x="7086600" y="2666880"/>
            <a:chExt cx="1065240" cy="1871640"/>
          </a:xfrm>
        </p:grpSpPr>
        <p:sp>
          <p:nvSpPr>
            <p:cNvPr id="247" name=""/>
            <p:cNvSpPr/>
            <p:nvPr/>
          </p:nvSpPr>
          <p:spPr>
            <a:xfrm>
              <a:off x="7310520" y="3039840"/>
              <a:ext cx="309600" cy="34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77360" y="3006720"/>
              <a:ext cx="309600" cy="34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9" name="" descr=""/>
            <p:cNvPicPr/>
            <p:nvPr/>
          </p:nvPicPr>
          <p:blipFill>
            <a:blip r:embed="rId2"/>
            <a:stretch/>
          </p:blipFill>
          <p:spPr>
            <a:xfrm>
              <a:off x="7086600" y="2666880"/>
              <a:ext cx="1065240" cy="187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1066680" y="609480"/>
            <a:ext cx="7027920" cy="16192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447920" y="3276720"/>
            <a:ext cx="5181480" cy="1143000"/>
          </a:xfrm>
          <a:prstGeom prst="wedgeRoundRectCallout">
            <a:avLst>
              <a:gd name="adj1" fmla="val 61796"/>
              <a:gd name="adj2" fmla="val -48888"/>
              <a:gd name="adj3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等式的两边同时加上或减去同一个数，等式仍然成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1905120" y="3048120"/>
            <a:ext cx="4952880" cy="1446840"/>
            <a:chOff x="1905120" y="3048120"/>
            <a:chExt cx="4952880" cy="1446840"/>
          </a:xfrm>
        </p:grpSpPr>
        <p:sp>
          <p:nvSpPr>
            <p:cNvPr id="253" name=""/>
            <p:cNvSpPr/>
            <p:nvPr/>
          </p:nvSpPr>
          <p:spPr>
            <a:xfrm>
              <a:off x="3888000" y="3048120"/>
              <a:ext cx="963360" cy="826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267440" y="4030560"/>
              <a:ext cx="206280" cy="2581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05120" y="3048120"/>
              <a:ext cx="1650960" cy="137880"/>
            </a:xfrm>
            <a:custGeom>
              <a:avLst/>
              <a:gdLst>
                <a:gd name="textAreaLeft" fmla="*/ 362880 w 1650960"/>
                <a:gd name="textAreaRight" fmla="*/ 1288080 w 1650960"/>
                <a:gd name="textAreaTop" fmla="*/ 30240 h 137880"/>
                <a:gd name="textAreaBottom" fmla="*/ 107640 h 13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478240" y="3186000"/>
              <a:ext cx="466560" cy="137520"/>
            </a:xfrm>
            <a:custGeom>
              <a:avLst/>
              <a:gdLst>
                <a:gd name="textAreaLeft" fmla="*/ 102600 w 466560"/>
                <a:gd name="textAreaRight" fmla="*/ 363960 w 466560"/>
                <a:gd name="textAreaTop" fmla="*/ 30240 h 137520"/>
                <a:gd name="textAreaBottom" fmla="*/ 10728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627280" y="3323880"/>
              <a:ext cx="163800" cy="4824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73360" y="3806640"/>
              <a:ext cx="66960" cy="4820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797200" y="3462120"/>
              <a:ext cx="3110040" cy="2059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2797200" y="3661560"/>
              <a:ext cx="3110040" cy="3438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67440" y="3920760"/>
              <a:ext cx="206280" cy="206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10280" y="3966840"/>
              <a:ext cx="114120" cy="1141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1905120" y="4288320"/>
              <a:ext cx="4952880" cy="206280"/>
            </a:xfrm>
            <a:custGeom>
              <a:avLst/>
              <a:gdLst>
                <a:gd name="textAreaLeft" fmla="*/ 483120 w 4952880"/>
                <a:gd name="textAreaRight" fmla="*/ 4469760 w 4952880"/>
                <a:gd name="textAreaTop" fmla="*/ 19800 h 206280"/>
                <a:gd name="textAreaBottom" fmla="*/ 186480 h 20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57" y="21600"/>
                  </a:lnTo>
                  <a:lnTo>
                    <a:pt x="643" y="21600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84720" y="3048120"/>
              <a:ext cx="1651320" cy="137880"/>
            </a:xfrm>
            <a:custGeom>
              <a:avLst/>
              <a:gdLst>
                <a:gd name="textAreaLeft" fmla="*/ 362880 w 1651320"/>
                <a:gd name="textAreaRight" fmla="*/ 1288440 w 1651320"/>
                <a:gd name="textAreaTop" fmla="*/ 30240 h 137880"/>
                <a:gd name="textAreaBottom" fmla="*/ 107640 h 13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757840" y="3186000"/>
              <a:ext cx="466920" cy="137520"/>
            </a:xfrm>
            <a:custGeom>
              <a:avLst/>
              <a:gdLst>
                <a:gd name="textAreaLeft" fmla="*/ 102600 w 466920"/>
                <a:gd name="textAreaRight" fmla="*/ 364320 w 466920"/>
                <a:gd name="textAreaTop" fmla="*/ 30240 h 137520"/>
                <a:gd name="textAreaBottom" fmla="*/ 10728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907240" y="3323880"/>
              <a:ext cx="162000" cy="4824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951520" y="3806640"/>
              <a:ext cx="68400" cy="4820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4366800" y="3048120"/>
              <a:ext cx="3240" cy="13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299120" y="3051000"/>
              <a:ext cx="468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229280" y="3065400"/>
              <a:ext cx="1260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106880" y="3116160"/>
              <a:ext cx="11160" cy="6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51440" y="3151080"/>
              <a:ext cx="12600" cy="6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00680" y="3197160"/>
              <a:ext cx="11160" cy="6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67360" y="3085920"/>
              <a:ext cx="1116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4427280" y="3048120"/>
              <a:ext cx="1116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4484880" y="3065400"/>
              <a:ext cx="2232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4536720" y="3085920"/>
              <a:ext cx="3348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4590720" y="3114360"/>
              <a:ext cx="3348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4641480" y="3143160"/>
              <a:ext cx="3492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690800" y="3186000"/>
              <a:ext cx="3492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4370400" y="3253680"/>
              <a:ext cx="0" cy="207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3200400" y="4724280"/>
            <a:ext cx="2209680" cy="8845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 rot="10209000">
            <a:off x="761760" y="228240"/>
            <a:ext cx="609480" cy="7621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295280" y="4111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照下面的样子做一做再写出等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4"/>
          <a:stretch/>
        </p:blipFill>
        <p:spPr>
          <a:xfrm>
            <a:off x="2538360" y="5562720"/>
            <a:ext cx="3535560" cy="8841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5"/>
          <a:stretch/>
        </p:blipFill>
        <p:spPr>
          <a:xfrm>
            <a:off x="2305080" y="2557440"/>
            <a:ext cx="695160" cy="4953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6"/>
          <a:stretch/>
        </p:blipFill>
        <p:spPr>
          <a:xfrm>
            <a:off x="5595840" y="2562120"/>
            <a:ext cx="695520" cy="4860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7"/>
          <a:stretch/>
        </p:blipFill>
        <p:spPr>
          <a:xfrm>
            <a:off x="1614600" y="2548080"/>
            <a:ext cx="695160" cy="4950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8"/>
          <a:stretch/>
        </p:blipFill>
        <p:spPr>
          <a:xfrm>
            <a:off x="3000240" y="2548080"/>
            <a:ext cx="695520" cy="4950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9"/>
          <a:stretch/>
        </p:blipFill>
        <p:spPr>
          <a:xfrm>
            <a:off x="4924440" y="2562120"/>
            <a:ext cx="695160" cy="4860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10"/>
          <a:stretch/>
        </p:blipFill>
        <p:spPr>
          <a:xfrm>
            <a:off x="6262560" y="2571840"/>
            <a:ext cx="695520" cy="4856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11"/>
          <a:stretch/>
        </p:blipFill>
        <p:spPr>
          <a:xfrm>
            <a:off x="5943600" y="2100240"/>
            <a:ext cx="695160" cy="4856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12"/>
          <a:stretch/>
        </p:blipFill>
        <p:spPr>
          <a:xfrm>
            <a:off x="5257800" y="2100240"/>
            <a:ext cx="695160" cy="4856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13"/>
          <a:stretch/>
        </p:blipFill>
        <p:spPr>
          <a:xfrm>
            <a:off x="2666880" y="2071800"/>
            <a:ext cx="695520" cy="4953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14"/>
          <a:stretch/>
        </p:blipFill>
        <p:spPr>
          <a:xfrm>
            <a:off x="1981080" y="2071800"/>
            <a:ext cx="69552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"/>
          <p:cNvGrpSpPr/>
          <p:nvPr/>
        </p:nvGrpSpPr>
        <p:grpSpPr>
          <a:xfrm>
            <a:off x="1905120" y="2895480"/>
            <a:ext cx="4952880" cy="1447920"/>
            <a:chOff x="1905120" y="2895480"/>
            <a:chExt cx="4952880" cy="1447920"/>
          </a:xfrm>
        </p:grpSpPr>
        <p:sp>
          <p:nvSpPr>
            <p:cNvPr id="297" name=""/>
            <p:cNvSpPr/>
            <p:nvPr/>
          </p:nvSpPr>
          <p:spPr>
            <a:xfrm>
              <a:off x="3888000" y="2895480"/>
              <a:ext cx="963360" cy="8269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267440" y="3878280"/>
              <a:ext cx="206280" cy="2584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905120" y="2895480"/>
              <a:ext cx="1650960" cy="138240"/>
            </a:xfrm>
            <a:custGeom>
              <a:avLst/>
              <a:gdLst>
                <a:gd name="textAreaLeft" fmla="*/ 362880 w 1650960"/>
                <a:gd name="textAreaRight" fmla="*/ 1288080 w 1650960"/>
                <a:gd name="textAreaTop" fmla="*/ 30240 h 138240"/>
                <a:gd name="textAreaBottom" fmla="*/ 108000 h 13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478240" y="3033720"/>
              <a:ext cx="466560" cy="137880"/>
            </a:xfrm>
            <a:custGeom>
              <a:avLst/>
              <a:gdLst>
                <a:gd name="textAreaLeft" fmla="*/ 102600 w 466560"/>
                <a:gd name="textAreaRight" fmla="*/ 363960 w 466560"/>
                <a:gd name="textAreaTop" fmla="*/ 30240 h 137880"/>
                <a:gd name="textAreaBottom" fmla="*/ 107640 h 13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27280" y="3171600"/>
              <a:ext cx="163800" cy="482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73360" y="3654360"/>
              <a:ext cx="66960" cy="4824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97200" y="3309840"/>
              <a:ext cx="3110040" cy="206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2797200" y="3510000"/>
              <a:ext cx="3110040" cy="34416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67440" y="3768480"/>
              <a:ext cx="206280" cy="206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310280" y="3814560"/>
              <a:ext cx="114120" cy="1144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1905120" y="4136760"/>
              <a:ext cx="4952880" cy="206640"/>
            </a:xfrm>
            <a:custGeom>
              <a:avLst/>
              <a:gdLst>
                <a:gd name="textAreaLeft" fmla="*/ 483120 w 4952880"/>
                <a:gd name="textAreaRight" fmla="*/ 4469760 w 4952880"/>
                <a:gd name="textAreaTop" fmla="*/ 20160 h 206640"/>
                <a:gd name="textAreaBottom" fmla="*/ 186480 h 2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57" y="21600"/>
                  </a:lnTo>
                  <a:lnTo>
                    <a:pt x="643" y="21600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184720" y="2895480"/>
              <a:ext cx="1651320" cy="138240"/>
            </a:xfrm>
            <a:custGeom>
              <a:avLst/>
              <a:gdLst>
                <a:gd name="textAreaLeft" fmla="*/ 362880 w 1651320"/>
                <a:gd name="textAreaRight" fmla="*/ 1288440 w 1651320"/>
                <a:gd name="textAreaTop" fmla="*/ 30240 h 138240"/>
                <a:gd name="textAreaBottom" fmla="*/ 108000 h 13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757840" y="3033720"/>
              <a:ext cx="466920" cy="137880"/>
            </a:xfrm>
            <a:custGeom>
              <a:avLst/>
              <a:gdLst>
                <a:gd name="textAreaLeft" fmla="*/ 102600 w 466920"/>
                <a:gd name="textAreaRight" fmla="*/ 364320 w 466920"/>
                <a:gd name="textAreaTop" fmla="*/ 30240 h 137880"/>
                <a:gd name="textAreaBottom" fmla="*/ 107640 h 13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907240" y="3171600"/>
              <a:ext cx="162000" cy="482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951520" y="3654360"/>
              <a:ext cx="68400" cy="4824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4366800" y="2895480"/>
              <a:ext cx="324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299120" y="2898720"/>
              <a:ext cx="468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229280" y="2913120"/>
              <a:ext cx="1260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06880" y="2963880"/>
              <a:ext cx="1116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051440" y="2998800"/>
              <a:ext cx="1260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000680" y="3044880"/>
              <a:ext cx="1116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167360" y="2933640"/>
              <a:ext cx="1116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4427280" y="2895480"/>
              <a:ext cx="1116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4484880" y="2913120"/>
              <a:ext cx="2232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4536720" y="2933640"/>
              <a:ext cx="3348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4590720" y="2962080"/>
              <a:ext cx="3348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641480" y="2990880"/>
              <a:ext cx="3492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4690800" y="3033720"/>
              <a:ext cx="3492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4370400" y="3101760"/>
              <a:ext cx="0" cy="208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2514600" y="4267080"/>
            <a:ext cx="3535200" cy="88452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 rot="10209000">
            <a:off x="761760" y="228240"/>
            <a:ext cx="609480" cy="7621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295280" y="4111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照下面的样子做一做再写出等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2541600" y="4952880"/>
            <a:ext cx="3597120" cy="88452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1219320" y="114300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比较刚才写出的算式，你发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5"/>
          <a:stretch/>
        </p:blipFill>
        <p:spPr>
          <a:xfrm>
            <a:off x="7391520" y="4724280"/>
            <a:ext cx="1328760" cy="15051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1442880" y="5848200"/>
            <a:ext cx="5639040" cy="838440"/>
          </a:xfrm>
          <a:prstGeom prst="wedgeRoundRectCallout">
            <a:avLst>
              <a:gd name="adj1" fmla="val 62921"/>
              <a:gd name="adj2" fmla="val -10928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等式的两边同时乘或除以同一个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除数不能为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），等式仍然成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6"/>
          <a:stretch/>
        </p:blipFill>
        <p:spPr>
          <a:xfrm>
            <a:off x="1676520" y="1943280"/>
            <a:ext cx="704880" cy="49500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7"/>
          <a:stretch/>
        </p:blipFill>
        <p:spPr>
          <a:xfrm>
            <a:off x="2362320" y="1947960"/>
            <a:ext cx="704880" cy="495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8"/>
          <a:stretch/>
        </p:blipFill>
        <p:spPr>
          <a:xfrm>
            <a:off x="3048120" y="1938240"/>
            <a:ext cx="704880" cy="4953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9"/>
          <a:stretch/>
        </p:blipFill>
        <p:spPr>
          <a:xfrm>
            <a:off x="1676520" y="2424240"/>
            <a:ext cx="704880" cy="4950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10"/>
          <a:stretch/>
        </p:blipFill>
        <p:spPr>
          <a:xfrm>
            <a:off x="2362320" y="2424240"/>
            <a:ext cx="704880" cy="4950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11"/>
          <a:stretch/>
        </p:blipFill>
        <p:spPr>
          <a:xfrm>
            <a:off x="3062160" y="2424240"/>
            <a:ext cx="704880" cy="49500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12"/>
          <a:stretch/>
        </p:blipFill>
        <p:spPr>
          <a:xfrm>
            <a:off x="6324480" y="2424240"/>
            <a:ext cx="704880" cy="48564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13"/>
          <a:stretch/>
        </p:blipFill>
        <p:spPr>
          <a:xfrm>
            <a:off x="5653080" y="2424240"/>
            <a:ext cx="704880" cy="48564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14"/>
          <a:stretch/>
        </p:blipFill>
        <p:spPr>
          <a:xfrm>
            <a:off x="4971960" y="2424240"/>
            <a:ext cx="704880" cy="48564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15"/>
          <a:stretch/>
        </p:blipFill>
        <p:spPr>
          <a:xfrm>
            <a:off x="4967280" y="1952640"/>
            <a:ext cx="704880" cy="4856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16"/>
          <a:stretch/>
        </p:blipFill>
        <p:spPr>
          <a:xfrm>
            <a:off x="5653080" y="1952640"/>
            <a:ext cx="704880" cy="48564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17"/>
          <a:stretch/>
        </p:blipFill>
        <p:spPr>
          <a:xfrm>
            <a:off x="6324480" y="1952640"/>
            <a:ext cx="70488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2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6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0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4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8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2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6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0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457200" y="1447920"/>
            <a:ext cx="8458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在   里填上运算符号，在   里填上适当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数，使等式成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92360" y="1539720"/>
            <a:ext cx="380880" cy="3812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457960" y="1523880"/>
            <a:ext cx="380880" cy="3812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52280" y="2859120"/>
            <a:ext cx="8229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x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2    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x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x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2                        5x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80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6x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x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80                                  x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895480" y="3429000"/>
            <a:ext cx="685800" cy="609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966000" y="3429000"/>
            <a:ext cx="685800" cy="609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209680" y="5349960"/>
            <a:ext cx="685800" cy="609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537240" y="5349960"/>
            <a:ext cx="685800" cy="609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657600" y="3429000"/>
            <a:ext cx="762120" cy="609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696080" y="3429000"/>
            <a:ext cx="762120" cy="609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971800" y="5334120"/>
            <a:ext cx="762120" cy="609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315200" y="5334120"/>
            <a:ext cx="762120" cy="609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943360" y="3429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857760" y="345456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010280" y="34290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896240" y="3468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243160" y="53244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157560" y="534996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600960" y="53341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515360" y="53593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338040" y="14400"/>
            <a:ext cx="24955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"/>
          <p:cNvGrpSpPr/>
          <p:nvPr/>
        </p:nvGrpSpPr>
        <p:grpSpPr>
          <a:xfrm>
            <a:off x="152280" y="152280"/>
            <a:ext cx="1967040" cy="1368360"/>
            <a:chOff x="152280" y="152280"/>
            <a:chExt cx="1967040" cy="1368360"/>
          </a:xfrm>
        </p:grpSpPr>
        <p:sp>
          <p:nvSpPr>
            <p:cNvPr id="367" name=""/>
            <p:cNvSpPr/>
            <p:nvPr/>
          </p:nvSpPr>
          <p:spPr>
            <a:xfrm>
              <a:off x="463320" y="776160"/>
              <a:ext cx="1656000" cy="64260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prstDash val="dash"/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练一练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8" name="" descr=""/>
            <p:cNvPicPr/>
            <p:nvPr/>
          </p:nvPicPr>
          <p:blipFill>
            <a:blip r:embed="rId2"/>
            <a:stretch/>
          </p:blipFill>
          <p:spPr>
            <a:xfrm>
              <a:off x="152280" y="152280"/>
              <a:ext cx="847800" cy="136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"/>
          <p:cNvSpPr/>
          <p:nvPr/>
        </p:nvSpPr>
        <p:spPr>
          <a:xfrm>
            <a:off x="3048120" y="533520"/>
            <a:ext cx="5181480" cy="6858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1.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应用等式的性质填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9200" y="1700280"/>
            <a:ext cx="89917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9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00    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9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9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00                   x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2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＝             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x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64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x÷1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x÷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64÷                    x÷15×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＝                   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127320" y="2286000"/>
            <a:ext cx="685800" cy="609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502400" y="2286000"/>
            <a:ext cx="685800" cy="609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470720" y="4191120"/>
            <a:ext cx="685800" cy="609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889440" y="2286000"/>
            <a:ext cx="609480" cy="609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232840" y="2286000"/>
            <a:ext cx="609480" cy="609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051000" y="4203720"/>
            <a:ext cx="609840" cy="609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89240" y="4876920"/>
            <a:ext cx="609480" cy="609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289560" y="4191120"/>
            <a:ext cx="609840" cy="609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8232840" y="4191120"/>
            <a:ext cx="609480" cy="609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273800" y="4876920"/>
            <a:ext cx="609840" cy="609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162240" y="22734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98800" y="22986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543800" y="2286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280360" y="231156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49640" y="42292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518240" y="41911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286000" y="4902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18480" y="2971800"/>
            <a:ext cx="609480" cy="609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845400" y="300996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05240" y="3035160"/>
            <a:ext cx="60948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414520" y="304812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281640" y="423396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220240" y="420516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0800" y="490536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谢晓（豆角）</cp:lastModifiedBy>
  <dcterms:modified xsi:type="dcterms:W3CDTF">2014-03-06T17:27:4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  <property fmtid="{D5CDD505-2E9C-101B-9397-08002B2CF9AE}" pid="3" name="Version">
    <vt:r8>1</vt:r8>
  </property>
</Properties>
</file>