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25.wmf" ContentType="image/x-wmf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98F-EB55-4C76-BE6C-EA23068A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83F-4475-44C8-BAAE-5BD9338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A53F-74FF-4A19-8DCA-2A43BA9E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AAF-4880-4D5B-B067-70070C4E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BCB-C3A7-4985-8CB7-797829F8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BCE-707F-459D-AC83-EE36B962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303-911E-47AF-84E0-1B0BA476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E8D-E0AE-442D-BD88-9F921959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88F-3952-482D-BD4B-C5E966A8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D63-1720-4188-A361-B0F35E7C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EC6-28B4-461B-AEE2-45454BF4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2B3-3553-4E81-B6DF-112A7C9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7190-5531-48BB-93F4-DAFC61C28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6126120"/>
            <a:ext cx="47242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　方程（第四课时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840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方程的解与解方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457200"/>
            <a:ext cx="8153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一块三角形地的面积是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780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平方米。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高是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米，底边是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1857240"/>
            <a:ext cx="6248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底边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5×30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30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780÷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560÷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底边长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5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2438280"/>
            <a:ext cx="3047760" cy="1995120"/>
            <a:chOff x="685800" y="2438280"/>
            <a:chExt cx="3047760" cy="1995120"/>
          </a:xfrm>
        </p:grpSpPr>
        <p:sp>
          <p:nvSpPr>
            <p:cNvPr id="141" name=""/>
            <p:cNvSpPr/>
            <p:nvPr/>
          </p:nvSpPr>
          <p:spPr>
            <a:xfrm>
              <a:off x="685800" y="2438280"/>
              <a:ext cx="3047760" cy="1971720"/>
            </a:xfrm>
            <a:prstGeom prst="triangle">
              <a:avLst>
                <a:gd name="adj" fmla="val 3700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1960" y="2460960"/>
              <a:ext cx="0" cy="197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21960" y="4165920"/>
              <a:ext cx="217440" cy="24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1905120" y="3429000"/>
            <a:ext cx="380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4419720"/>
          <a:ext cx="4572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441972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105520" y="-903240"/>
            <a:ext cx="4300560" cy="345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000" y="3124080"/>
            <a:ext cx="6705720" cy="11764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90520" y="3395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学习，大家有什么收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-568440"/>
            <a:ext cx="3352680" cy="270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73280" y="415800"/>
            <a:ext cx="25794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efed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猜数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0388400">
            <a:off x="457200" y="228240"/>
            <a:ext cx="696960" cy="873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-60480" y="1295280"/>
            <a:ext cx="1508040" cy="2152800"/>
            <a:chOff x="-60480" y="1295280"/>
            <a:chExt cx="1508040" cy="2152800"/>
          </a:xfrm>
        </p:grpSpPr>
        <p:sp>
          <p:nvSpPr>
            <p:cNvPr id="47" name=""/>
            <p:cNvSpPr/>
            <p:nvPr/>
          </p:nvSpPr>
          <p:spPr>
            <a:xfrm>
              <a:off x="644400" y="1530360"/>
              <a:ext cx="22860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-60480" y="1295280"/>
              <a:ext cx="1508040" cy="21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09680" y="1066680"/>
            <a:ext cx="2667240" cy="1067040"/>
          </a:xfrm>
          <a:prstGeom prst="wedgeRoundRectCallout">
            <a:avLst>
              <a:gd name="adj1" fmla="val -77736"/>
              <a:gd name="adj2" fmla="val 343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在你心里想一个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848720" y="3276720"/>
            <a:ext cx="989640" cy="1904040"/>
            <a:chOff x="7848720" y="3276720"/>
            <a:chExt cx="989640" cy="1904040"/>
          </a:xfrm>
        </p:grpSpPr>
        <p:sp>
          <p:nvSpPr>
            <p:cNvPr id="51" name=""/>
            <p:cNvSpPr/>
            <p:nvPr/>
          </p:nvSpPr>
          <p:spPr>
            <a:xfrm>
              <a:off x="8251200" y="4933440"/>
              <a:ext cx="344160" cy="21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73720" y="4884480"/>
              <a:ext cx="344160" cy="21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7848720" y="3276720"/>
              <a:ext cx="989640" cy="1904040"/>
              <a:chOff x="7848720" y="3276720"/>
              <a:chExt cx="989640" cy="1904040"/>
            </a:xfrm>
          </p:grpSpPr>
          <p:sp>
            <p:nvSpPr>
              <p:cNvPr id="54" name=""/>
              <p:cNvSpPr/>
              <p:nvPr/>
            </p:nvSpPr>
            <p:spPr>
              <a:xfrm rot="2700000">
                <a:off x="8112960" y="3709440"/>
                <a:ext cx="105120" cy="159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700000">
                <a:off x="8254800" y="3810960"/>
                <a:ext cx="105120" cy="159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48720" y="3276720"/>
                <a:ext cx="989640" cy="190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7" name=""/>
          <p:cNvSpPr/>
          <p:nvPr/>
        </p:nvSpPr>
        <p:spPr>
          <a:xfrm>
            <a:off x="6172200" y="1447920"/>
            <a:ext cx="2666880" cy="761760"/>
          </a:xfrm>
          <a:prstGeom prst="wedgeRoundRectCallout">
            <a:avLst>
              <a:gd name="adj1" fmla="val 33750"/>
              <a:gd name="adj2" fmla="val 187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嗯，想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1066680"/>
            <a:ext cx="2667240" cy="1067040"/>
          </a:xfrm>
          <a:prstGeom prst="wedgeRoundRectCallout">
            <a:avLst>
              <a:gd name="adj1" fmla="val -77736"/>
              <a:gd name="adj2" fmla="val 343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把它乘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，再加上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，得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0320" y="1066680"/>
            <a:ext cx="2666880" cy="1067040"/>
          </a:xfrm>
          <a:prstGeom prst="wedgeRoundRectCallout">
            <a:avLst>
              <a:gd name="adj1" fmla="val -77736"/>
              <a:gd name="adj2" fmla="val 343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我知道了，你想的数是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，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209680"/>
            <a:ext cx="731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这个数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根据这个数乘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再加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等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列出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0÷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是方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的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1447920"/>
            <a:ext cx="2666880" cy="761760"/>
          </a:xfrm>
          <a:prstGeom prst="wedgeRoundRectCallout">
            <a:avLst>
              <a:gd name="adj1" fmla="val 33750"/>
              <a:gd name="adj2" fmla="val 187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等于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1447920"/>
            <a:ext cx="2666880" cy="761760"/>
          </a:xfrm>
          <a:prstGeom prst="wedgeRoundRectCallout">
            <a:avLst>
              <a:gd name="adj1" fmla="val 33750"/>
              <a:gd name="adj2" fmla="val 187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对，您是怎么知道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38098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看作一个数，方程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边都减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9480" y="408636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492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两边都除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9480" y="5167440"/>
            <a:ext cx="3812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914400"/>
            <a:ext cx="6629400" cy="838080"/>
          </a:xfrm>
          <a:custGeom>
            <a:avLst/>
            <a:gdLst>
              <a:gd name="textAreaLeft" fmla="*/ 1245960 w 6629400"/>
              <a:gd name="textAreaRight" fmla="*/ 5383440 w 6629400"/>
              <a:gd name="textAreaTop" fmla="*/ 1047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5" y="0"/>
                </a:lnTo>
                <a:arcTo wR="675" hR="675" stAng="16200000" swAng="5400000"/>
                <a:lnTo>
                  <a:pt x="6760" y="2700"/>
                </a:lnTo>
                <a:lnTo>
                  <a:pt x="14840" y="2700"/>
                </a:lnTo>
                <a:lnTo>
                  <a:pt x="1484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7540" y="18900"/>
                </a:lnTo>
                <a:lnTo>
                  <a:pt x="17540" y="20925"/>
                </a:lnTo>
                <a:arcTo wR="675" hR="675" stAng="0" swAng="5400000"/>
                <a:lnTo>
                  <a:pt x="4735" y="21600"/>
                </a:lnTo>
                <a:arcTo wR="675" hR="675" stAng="5400000" swAng="5400000"/>
                <a:lnTo>
                  <a:pt x="406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760" y="675"/>
                </a:moveTo>
                <a:arcTo wR="675" hR="675" stAng="0" swAng="5400000"/>
                <a:lnTo>
                  <a:pt x="4735" y="1350"/>
                </a:lnTo>
                <a:arcTo wR="675" hR="675" stAng="16200000" swAng="-5400000"/>
                <a:arcTo wR="675" hR="675" stAng="10800000" swAng="-5400000"/>
                <a:lnTo>
                  <a:pt x="6760" y="2700"/>
                </a:lnTo>
              </a:path>
              <a:path fill="none" w="21600" h="21600">
                <a:moveTo>
                  <a:pt x="14840" y="675"/>
                </a:moveTo>
                <a:arcTo wR="675" hR="675" stAng="10800000" swAng="-5400000"/>
                <a:lnTo>
                  <a:pt x="16865" y="1350"/>
                </a:lnTo>
                <a:arcTo wR="675" hR="675" stAng="16200000" swAng="5400000"/>
                <a:arcTo wR="675" hR="675" stAng="0" swAng="5400000"/>
                <a:lnTo>
                  <a:pt x="14840" y="2700"/>
                </a:lnTo>
              </a:path>
              <a:path fill="none" w="21600" h="21600">
                <a:moveTo>
                  <a:pt x="4060" y="2025"/>
                </a:moveTo>
                <a:lnTo>
                  <a:pt x="4060" y="18900"/>
                </a:lnTo>
              </a:path>
              <a:path fill="none" w="21600" h="21600">
                <a:moveTo>
                  <a:pt x="17540" y="2025"/>
                </a:moveTo>
                <a:lnTo>
                  <a:pt x="1754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方程的解与解方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057400"/>
            <a:ext cx="6629400" cy="3962520"/>
          </a:xfrm>
          <a:prstGeom prst="roundRect">
            <a:avLst>
              <a:gd name="adj" fmla="val 16667"/>
            </a:avLst>
          </a:prstGeom>
          <a:solidFill>
            <a:srgbClr val="cc99ff">
              <a:alpha val="72000"/>
            </a:srgbClr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481840"/>
            <a:ext cx="7070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使方程左右两边相等的未知数的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叫做方程的解，刚才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就是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求方程的解的过程叫做解方程，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才，我们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的解的过程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是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0388400">
            <a:off x="1055520" y="574560"/>
            <a:ext cx="696960" cy="873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28800" y="60948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五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）班同学六一儿童节向山区小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友捐赠图书。亮亮捐了多少本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28195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亮亮捐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8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亮亮捐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本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4730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两边都除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410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方程两边都加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391520" y="2063880"/>
            <a:ext cx="969840" cy="2050920"/>
            <a:chOff x="7391520" y="2063880"/>
            <a:chExt cx="969840" cy="2050920"/>
          </a:xfrm>
        </p:grpSpPr>
        <p:sp>
          <p:nvSpPr>
            <p:cNvPr id="76" name=""/>
            <p:cNvSpPr/>
            <p:nvPr/>
          </p:nvSpPr>
          <p:spPr>
            <a:xfrm>
              <a:off x="7599240" y="2492280"/>
              <a:ext cx="50292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7391520" y="2063880"/>
              <a:ext cx="969840" cy="205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80520" y="3200400"/>
            <a:ext cx="1197000" cy="2406240"/>
            <a:chOff x="380520" y="3200400"/>
            <a:chExt cx="1197000" cy="2406240"/>
          </a:xfrm>
        </p:grpSpPr>
        <p:sp>
          <p:nvSpPr>
            <p:cNvPr id="79" name=""/>
            <p:cNvSpPr/>
            <p:nvPr/>
          </p:nvSpPr>
          <p:spPr>
            <a:xfrm flipH="1">
              <a:off x="1090800" y="3837240"/>
              <a:ext cx="226440" cy="23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98120" y="3821040"/>
              <a:ext cx="226440" cy="23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 flipH="1">
              <a:off x="380520" y="3200400"/>
              <a:ext cx="1197000" cy="24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152280" y="2057400"/>
            <a:ext cx="2590920" cy="609480"/>
          </a:xfrm>
          <a:prstGeom prst="wedgeRoundRectCallout">
            <a:avLst>
              <a:gd name="adj1" fmla="val -22856"/>
              <a:gd name="adj2" fmla="val 131509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我这是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34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1981080"/>
            <a:ext cx="4191120" cy="609840"/>
          </a:xfrm>
          <a:prstGeom prst="wedgeRoundRectCallout">
            <a:avLst>
              <a:gd name="adj1" fmla="val 57384"/>
              <a:gd name="adj2" fmla="val -1824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你的书比我的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倍少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81600" y="533520"/>
            <a:ext cx="2098080" cy="1639800"/>
            <a:chOff x="381600" y="533520"/>
            <a:chExt cx="2098080" cy="1639800"/>
          </a:xfrm>
        </p:grpSpPr>
        <p:sp>
          <p:nvSpPr>
            <p:cNvPr id="85" name=""/>
            <p:cNvSpPr/>
            <p:nvPr/>
          </p:nvSpPr>
          <p:spPr>
            <a:xfrm flipH="1">
              <a:off x="814320" y="1352520"/>
              <a:ext cx="555120" cy="47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81600" y="533520"/>
              <a:ext cx="2098080" cy="1639800"/>
              <a:chOff x="381600" y="533520"/>
              <a:chExt cx="2098080" cy="1639800"/>
            </a:xfrm>
          </p:grpSpPr>
          <p:sp>
            <p:nvSpPr>
              <p:cNvPr id="87" name=""/>
              <p:cNvSpPr/>
              <p:nvPr/>
            </p:nvSpPr>
            <p:spPr>
              <a:xfrm flipH="1" rot="19857000">
                <a:off x="2157840" y="939240"/>
                <a:ext cx="219600" cy="304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9857000">
                <a:off x="1937880" y="1047600"/>
                <a:ext cx="219240" cy="304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1600" y="533520"/>
                <a:ext cx="2098080" cy="1639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" name=""/>
          <p:cNvSpPr/>
          <p:nvPr/>
        </p:nvSpPr>
        <p:spPr>
          <a:xfrm>
            <a:off x="3200400" y="609480"/>
            <a:ext cx="4648320" cy="609840"/>
          </a:xfrm>
          <a:prstGeom prst="wedgeRoundRectCallout">
            <a:avLst>
              <a:gd name="adj1" fmla="val -65916"/>
              <a:gd name="adj2" fmla="val 18231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算得对不对呢？检验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7432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检验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2x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2×19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＝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715000" y="4267080"/>
            <a:ext cx="1400040" cy="1209600"/>
            <a:chOff x="5715000" y="4267080"/>
            <a:chExt cx="1400040" cy="1209600"/>
          </a:xfrm>
        </p:grpSpPr>
        <p:sp>
          <p:nvSpPr>
            <p:cNvPr id="93" name=""/>
            <p:cNvSpPr/>
            <p:nvPr/>
          </p:nvSpPr>
          <p:spPr>
            <a:xfrm>
              <a:off x="6219720" y="4954680"/>
              <a:ext cx="42876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715000" y="4267080"/>
              <a:ext cx="1400040" cy="1209600"/>
              <a:chOff x="5715000" y="4267080"/>
              <a:chExt cx="1400040" cy="1209600"/>
            </a:xfrm>
          </p:grpSpPr>
          <p:sp>
            <p:nvSpPr>
              <p:cNvPr id="95" name=""/>
              <p:cNvSpPr/>
              <p:nvPr/>
            </p:nvSpPr>
            <p:spPr>
              <a:xfrm>
                <a:off x="6045120" y="4329000"/>
                <a:ext cx="25380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34000" y="4329000"/>
                <a:ext cx="25416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15000" y="4267080"/>
                <a:ext cx="1400040" cy="120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8" name=""/>
          <p:cNvSpPr/>
          <p:nvPr/>
        </p:nvSpPr>
        <p:spPr>
          <a:xfrm>
            <a:off x="685800" y="4648320"/>
            <a:ext cx="4038480" cy="761760"/>
          </a:xfrm>
          <a:prstGeom prst="wedgeRoundRectCallout">
            <a:avLst>
              <a:gd name="adj1" fmla="val 77319"/>
              <a:gd name="adj2" fmla="val -341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代入原方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符合题意。答案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52280" y="152280"/>
            <a:ext cx="1967040" cy="1368360"/>
            <a:chOff x="152280" y="152280"/>
            <a:chExt cx="1967040" cy="1368360"/>
          </a:xfrm>
        </p:grpSpPr>
        <p:sp>
          <p:nvSpPr>
            <p:cNvPr id="100" name=""/>
            <p:cNvSpPr/>
            <p:nvPr/>
          </p:nvSpPr>
          <p:spPr>
            <a:xfrm>
              <a:off x="463320" y="776160"/>
              <a:ext cx="165600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84780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2743200" y="533520"/>
            <a:ext cx="533412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列方程并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2247840" y="232344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81080" y="3657600"/>
            <a:ext cx="838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38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6591240" y="232344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00800" y="359568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76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07" name=""/>
          <p:cNvSpPr/>
          <p:nvPr/>
        </p:nvSpPr>
        <p:spPr>
          <a:xfrm>
            <a:off x="806400" y="4267080"/>
            <a:ext cx="3581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3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0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2480" y="4197240"/>
            <a:ext cx="4191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x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72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30481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48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14600" y="30481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05320" y="30481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85800" y="2060640"/>
            <a:ext cx="1523880" cy="911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286000" y="2057400"/>
            <a:ext cx="933480" cy="101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257640" y="2133720"/>
            <a:ext cx="93348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181480" y="2139840"/>
            <a:ext cx="609840" cy="557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867280" y="2133720"/>
            <a:ext cx="609840" cy="556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486400" y="2666880"/>
            <a:ext cx="609480" cy="557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5257800" y="18288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943600" y="18288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72200" y="28195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467480" y="2286000"/>
            <a:ext cx="277920" cy="48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848720" y="2286000"/>
            <a:ext cx="277560" cy="485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467480" y="2819520"/>
            <a:ext cx="277920" cy="485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848720" y="2819520"/>
            <a:ext cx="2775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700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                         3.5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20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解方程并检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560" y="1185840"/>
            <a:ext cx="41911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4÷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×1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1195560"/>
            <a:ext cx="38862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.5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.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0.7÷3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检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.5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.5×0.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304920"/>
            <a:ext cx="7467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地球绕太阳一周的时间比水星绕太阳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周所用时间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倍还多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天。水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绕太阳一周要用多少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630520"/>
            <a:ext cx="586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水星绕太阳一周要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6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52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水星绕太阳一周要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162920" y="3048120"/>
            <a:ext cx="1066320" cy="1729800"/>
            <a:chOff x="7162920" y="3048120"/>
            <a:chExt cx="1066320" cy="1729800"/>
          </a:xfrm>
        </p:grpSpPr>
        <p:sp>
          <p:nvSpPr>
            <p:cNvPr id="132" name=""/>
            <p:cNvSpPr/>
            <p:nvPr/>
          </p:nvSpPr>
          <p:spPr>
            <a:xfrm flipH="1">
              <a:off x="7621200" y="3386160"/>
              <a:ext cx="357120" cy="32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>
              <a:off x="7162920" y="3048120"/>
              <a:ext cx="1066320" cy="172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962520" y="2057400"/>
            <a:ext cx="4038480" cy="533520"/>
          </a:xfrm>
          <a:prstGeom prst="wedgeRoundRectCallout">
            <a:avLst>
              <a:gd name="adj1" fmla="val 38601"/>
              <a:gd name="adj2" fmla="val 112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地球绕太阳一周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36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0880" y="304920"/>
            <a:ext cx="8686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果园里有苹果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棵，比梨树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倍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棵，比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子树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倍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）果园里有梨树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）果园里有李子树多少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89548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解：设果园里有梨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棵，李子树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2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答：果园里有梨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棵，李子树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50532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8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8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4-03-06T17:27:4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