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Button18.wav" ContentType="audio/x-wav"/>
  <Override PartName="/ppt/media/chimes.wav" ContentType="audio/x-wav"/>
  <Override PartName="/ppt/media/image6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375-B386-4900-86B1-5746105D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F7B-A7BE-4177-A74C-9021C8A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327-087C-43C1-800B-937F2EA6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9C4-70C3-4CCA-BF49-3300BA97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EA3-4D36-4D2E-8482-13B9CAE4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BD2-BB6B-4079-90FE-4B0B9A4A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C1C-EE61-4EBF-A3E5-DFDC2E58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A42-611F-4F30-A3F9-E80F5FCA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023-6203-40E2-B354-DF0B566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BF6-5F3C-4E72-BED9-ED8BD906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E5F-5ABC-4A7D-93E4-271B3662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C71-A2AA-4D00-8DEE-9D5DE75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7EB-9C43-4CA6-A525-5A414011C046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utton18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4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分数乘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>
            <a:off x="2700360" y="1989000"/>
            <a:ext cx="446400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24360" y="3141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分数乘分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468360" y="3284640"/>
            <a:ext cx="4321080" cy="2016000"/>
            <a:chOff x="468360" y="3284640"/>
            <a:chExt cx="4321080" cy="2016000"/>
          </a:xfrm>
        </p:grpSpPr>
        <p:grpSp>
          <p:nvGrpSpPr>
            <p:cNvPr id="206" name="Group 5"/>
            <p:cNvGrpSpPr/>
            <p:nvPr/>
          </p:nvGrpSpPr>
          <p:grpSpPr>
            <a:xfrm>
              <a:off x="468360" y="3284640"/>
              <a:ext cx="4321080" cy="2016000"/>
              <a:chOff x="468360" y="3284640"/>
              <a:chExt cx="4321080" cy="2016000"/>
            </a:xfrm>
          </p:grpSpPr>
          <p:sp>
            <p:nvSpPr>
              <p:cNvPr id="207" name="Rectangle 6"/>
              <p:cNvSpPr/>
              <p:nvPr/>
            </p:nvSpPr>
            <p:spPr>
              <a:xfrm>
                <a:off x="468360" y="3284640"/>
                <a:ext cx="4321080" cy="201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"/>
              <p:cNvSpPr/>
              <p:nvPr/>
            </p:nvSpPr>
            <p:spPr>
              <a:xfrm>
                <a:off x="468360" y="4005360"/>
                <a:ext cx="4321080" cy="1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8"/>
              <p:cNvSpPr/>
              <p:nvPr/>
            </p:nvSpPr>
            <p:spPr>
              <a:xfrm>
                <a:off x="468360" y="4653000"/>
                <a:ext cx="4321080" cy="1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9"/>
              <p:cNvSpPr/>
              <p:nvPr/>
            </p:nvSpPr>
            <p:spPr>
              <a:xfrm>
                <a:off x="1347840" y="3284640"/>
                <a:ext cx="1440" cy="2016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0"/>
              <p:cNvSpPr/>
              <p:nvPr/>
            </p:nvSpPr>
            <p:spPr>
              <a:xfrm>
                <a:off x="2225880" y="3284640"/>
                <a:ext cx="1440" cy="2016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1"/>
              <p:cNvSpPr/>
              <p:nvPr/>
            </p:nvSpPr>
            <p:spPr>
              <a:xfrm>
                <a:off x="3105360" y="3284640"/>
                <a:ext cx="1440" cy="2016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2"/>
              <p:cNvSpPr/>
              <p:nvPr/>
            </p:nvSpPr>
            <p:spPr>
              <a:xfrm>
                <a:off x="3940200" y="3284640"/>
                <a:ext cx="1440" cy="2016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13"/>
            <p:cNvSpPr/>
            <p:nvPr/>
          </p:nvSpPr>
          <p:spPr>
            <a:xfrm>
              <a:off x="468360" y="3284640"/>
              <a:ext cx="4321080" cy="1368360"/>
            </a:xfrm>
            <a:prstGeom prst="rect">
              <a:avLst/>
            </a:prstGeom>
            <a:solidFill>
              <a:srgbClr val="ff0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4"/>
          <p:cNvSpPr/>
          <p:nvPr/>
        </p:nvSpPr>
        <p:spPr>
          <a:xfrm>
            <a:off x="468360" y="3284640"/>
            <a:ext cx="3457440" cy="1368360"/>
          </a:xfrm>
          <a:prstGeom prst="rect">
            <a:avLst/>
          </a:prstGeom>
          <a:solidFill>
            <a:srgbClr val="0000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5"/>
          <p:cNvGrpSpPr/>
          <p:nvPr/>
        </p:nvGrpSpPr>
        <p:grpSpPr>
          <a:xfrm>
            <a:off x="5111640" y="3549600"/>
            <a:ext cx="3601800" cy="1211040"/>
            <a:chOff x="5111640" y="3549600"/>
            <a:chExt cx="3601800" cy="1211040"/>
          </a:xfrm>
        </p:grpSpPr>
        <p:grpSp>
          <p:nvGrpSpPr>
            <p:cNvPr id="217" name="Group 16"/>
            <p:cNvGrpSpPr/>
            <p:nvPr/>
          </p:nvGrpSpPr>
          <p:grpSpPr>
            <a:xfrm>
              <a:off x="5111640" y="3606840"/>
              <a:ext cx="647640" cy="1145880"/>
              <a:chOff x="5111640" y="3606840"/>
              <a:chExt cx="647640" cy="1145880"/>
            </a:xfrm>
          </p:grpSpPr>
          <p:sp>
            <p:nvSpPr>
              <p:cNvPr id="218" name="Text Box 17"/>
              <p:cNvSpPr/>
              <p:nvPr/>
            </p:nvSpPr>
            <p:spPr>
              <a:xfrm>
                <a:off x="5183640" y="4110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8"/>
              <p:cNvSpPr/>
              <p:nvPr/>
            </p:nvSpPr>
            <p:spPr>
              <a:xfrm>
                <a:off x="5111640" y="4132440"/>
                <a:ext cx="647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9"/>
              <p:cNvSpPr/>
              <p:nvPr/>
            </p:nvSpPr>
            <p:spPr>
              <a:xfrm>
                <a:off x="5183640" y="36068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20"/>
            <p:cNvGrpSpPr/>
            <p:nvPr/>
          </p:nvGrpSpPr>
          <p:grpSpPr>
            <a:xfrm>
              <a:off x="6337080" y="3592440"/>
              <a:ext cx="647640" cy="1145880"/>
              <a:chOff x="6337080" y="3592440"/>
              <a:chExt cx="647640" cy="1145880"/>
            </a:xfrm>
          </p:grpSpPr>
          <p:sp>
            <p:nvSpPr>
              <p:cNvPr id="222" name="Text Box 21"/>
              <p:cNvSpPr/>
              <p:nvPr/>
            </p:nvSpPr>
            <p:spPr>
              <a:xfrm>
                <a:off x="6409080" y="40957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22"/>
              <p:cNvSpPr/>
              <p:nvPr/>
            </p:nvSpPr>
            <p:spPr>
              <a:xfrm>
                <a:off x="6337080" y="4118040"/>
                <a:ext cx="647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23"/>
              <p:cNvSpPr/>
              <p:nvPr/>
            </p:nvSpPr>
            <p:spPr>
              <a:xfrm>
                <a:off x="6409080" y="35924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24"/>
            <p:cNvSpPr/>
            <p:nvPr/>
          </p:nvSpPr>
          <p:spPr>
            <a:xfrm>
              <a:off x="5787000" y="3895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7117560" y="3868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26"/>
            <p:cNvGrpSpPr/>
            <p:nvPr/>
          </p:nvGrpSpPr>
          <p:grpSpPr>
            <a:xfrm>
              <a:off x="7596720" y="3549600"/>
              <a:ext cx="1116720" cy="1211040"/>
              <a:chOff x="7596720" y="3549600"/>
              <a:chExt cx="1116720" cy="1211040"/>
            </a:xfrm>
          </p:grpSpPr>
          <p:sp>
            <p:nvSpPr>
              <p:cNvPr id="228" name="Text Box 27"/>
              <p:cNvSpPr/>
              <p:nvPr/>
            </p:nvSpPr>
            <p:spPr>
              <a:xfrm>
                <a:off x="7596720" y="411804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（  ）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28"/>
              <p:cNvSpPr/>
              <p:nvPr/>
            </p:nvSpPr>
            <p:spPr>
              <a:xfrm>
                <a:off x="7617240" y="354960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（  ）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9"/>
              <p:cNvSpPr/>
              <p:nvPr/>
            </p:nvSpPr>
            <p:spPr>
              <a:xfrm>
                <a:off x="7705440" y="4141800"/>
                <a:ext cx="10080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Text Box 30"/>
          <p:cNvSpPr/>
          <p:nvPr/>
        </p:nvSpPr>
        <p:spPr>
          <a:xfrm>
            <a:off x="793692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>
            <a:off x="7860960" y="4221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20"/>
          <p:cNvGrpSpPr/>
          <p:nvPr/>
        </p:nvGrpSpPr>
        <p:grpSpPr>
          <a:xfrm>
            <a:off x="5048280" y="3570120"/>
            <a:ext cx="2857320" cy="216000"/>
            <a:chOff x="5048280" y="3570120"/>
            <a:chExt cx="2857320" cy="216000"/>
          </a:xfrm>
        </p:grpSpPr>
        <p:grpSp>
          <p:nvGrpSpPr>
            <p:cNvPr id="237" name="组合 19"/>
            <p:cNvGrpSpPr/>
            <p:nvPr/>
          </p:nvGrpSpPr>
          <p:grpSpPr>
            <a:xfrm>
              <a:off x="5048280" y="3570120"/>
              <a:ext cx="2857320" cy="215280"/>
              <a:chOff x="5048280" y="3570120"/>
              <a:chExt cx="2857320" cy="215280"/>
            </a:xfrm>
          </p:grpSpPr>
          <p:sp>
            <p:nvSpPr>
              <p:cNvPr id="238" name="矩形 38"/>
              <p:cNvSpPr/>
              <p:nvPr/>
            </p:nvSpPr>
            <p:spPr>
              <a:xfrm>
                <a:off x="5048280" y="3570120"/>
                <a:ext cx="714240" cy="215280"/>
              </a:xfrm>
              <a:prstGeom prst="rect">
                <a:avLst/>
              </a:prstGeom>
              <a:solidFill>
                <a:srgbClr val="a6a6a6"/>
              </a:solidFill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39"/>
              <p:cNvSpPr/>
              <p:nvPr/>
            </p:nvSpPr>
            <p:spPr>
              <a:xfrm>
                <a:off x="5762520" y="3570120"/>
                <a:ext cx="2143080" cy="21528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直接连接符 44"/>
            <p:cNvSpPr/>
            <p:nvPr/>
          </p:nvSpPr>
          <p:spPr>
            <a:xfrm>
              <a:off x="6500880" y="3571560"/>
              <a:ext cx="1440" cy="21456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30"/>
          <p:cNvGrpSpPr/>
          <p:nvPr/>
        </p:nvGrpSpPr>
        <p:grpSpPr>
          <a:xfrm>
            <a:off x="536400" y="1486080"/>
            <a:ext cx="3678480" cy="3943080"/>
            <a:chOff x="536400" y="1486080"/>
            <a:chExt cx="3678480" cy="3943080"/>
          </a:xfrm>
        </p:grpSpPr>
        <p:pic>
          <p:nvPicPr>
            <p:cNvPr id="242" name="图片 15" descr="53b25eb379796.png"/>
            <p:cNvPicPr/>
            <p:nvPr/>
          </p:nvPicPr>
          <p:blipFill>
            <a:blip r:embed="rId1"/>
            <a:stretch/>
          </p:blipFill>
          <p:spPr>
            <a:xfrm>
              <a:off x="536400" y="1486080"/>
              <a:ext cx="367848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矩形 16"/>
            <p:cNvSpPr/>
            <p:nvPr/>
          </p:nvSpPr>
          <p:spPr>
            <a:xfrm>
              <a:off x="774360" y="2165400"/>
              <a:ext cx="328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我国古代著名哲学著作</a:t>
              </a:r>
              <a:r>
                <a:rPr b="1" lang="en-US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《</a:t>
              </a: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庄子</a:t>
              </a:r>
              <a:r>
                <a:rPr b="1" lang="en-US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天下</a:t>
              </a:r>
              <a:r>
                <a:rPr b="1" lang="en-US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》</a:t>
              </a: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中有这样一段：“一尺之棰，日取其半，万世不竭。”意思是说：一尺长的木棍，每天截一半，永远也截不完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31"/>
          <p:cNvSpPr/>
          <p:nvPr/>
        </p:nvSpPr>
        <p:spPr>
          <a:xfrm>
            <a:off x="5048280" y="2106720"/>
            <a:ext cx="2857320" cy="214200"/>
          </a:xfrm>
          <a:prstGeom prst="rect">
            <a:avLst/>
          </a:prstGeom>
          <a:solidFill>
            <a:srgbClr val="a6a6a6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8"/>
          <p:cNvGrpSpPr/>
          <p:nvPr/>
        </p:nvGrpSpPr>
        <p:grpSpPr>
          <a:xfrm>
            <a:off x="5048280" y="2855880"/>
            <a:ext cx="2856960" cy="214200"/>
            <a:chOff x="5048280" y="2855880"/>
            <a:chExt cx="2856960" cy="214200"/>
          </a:xfrm>
        </p:grpSpPr>
        <p:sp>
          <p:nvSpPr>
            <p:cNvPr id="246" name="矩形 35"/>
            <p:cNvSpPr/>
            <p:nvPr/>
          </p:nvSpPr>
          <p:spPr>
            <a:xfrm>
              <a:off x="5048280" y="2855880"/>
              <a:ext cx="1428480" cy="214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36"/>
            <p:cNvSpPr/>
            <p:nvPr/>
          </p:nvSpPr>
          <p:spPr>
            <a:xfrm>
              <a:off x="6476760" y="2855880"/>
              <a:ext cx="1428480" cy="214200"/>
            </a:xfrm>
            <a:prstGeom prst="rect">
              <a:avLst/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21"/>
          <p:cNvGrpSpPr/>
          <p:nvPr/>
        </p:nvGrpSpPr>
        <p:grpSpPr>
          <a:xfrm>
            <a:off x="5048280" y="4284720"/>
            <a:ext cx="2857320" cy="216000"/>
            <a:chOff x="5048280" y="4284720"/>
            <a:chExt cx="2857320" cy="216000"/>
          </a:xfrm>
        </p:grpSpPr>
        <p:sp>
          <p:nvSpPr>
            <p:cNvPr id="249" name="矩形 41"/>
            <p:cNvSpPr/>
            <p:nvPr/>
          </p:nvSpPr>
          <p:spPr>
            <a:xfrm>
              <a:off x="5048280" y="4284720"/>
              <a:ext cx="357120" cy="214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42"/>
            <p:cNvSpPr/>
            <p:nvPr/>
          </p:nvSpPr>
          <p:spPr>
            <a:xfrm>
              <a:off x="5405400" y="4284720"/>
              <a:ext cx="2500200" cy="214560"/>
            </a:xfrm>
            <a:prstGeom prst="rect">
              <a:avLst/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46"/>
            <p:cNvSpPr/>
            <p:nvPr/>
          </p:nvSpPr>
          <p:spPr>
            <a:xfrm>
              <a:off x="6500880" y="4286160"/>
              <a:ext cx="1440" cy="21456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48"/>
            <p:cNvSpPr/>
            <p:nvPr/>
          </p:nvSpPr>
          <p:spPr>
            <a:xfrm>
              <a:off x="5786280" y="4286160"/>
              <a:ext cx="1440" cy="21456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5"/>
          <p:cNvSpPr/>
          <p:nvPr/>
        </p:nvSpPr>
        <p:spPr>
          <a:xfrm>
            <a:off x="3701520" y="420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76"/>
          <p:cNvSpPr/>
          <p:nvPr/>
        </p:nvSpPr>
        <p:spPr>
          <a:xfrm>
            <a:off x="4211640" y="40006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77"/>
          <p:cNvSpPr/>
          <p:nvPr/>
        </p:nvSpPr>
        <p:spPr>
          <a:xfrm>
            <a:off x="4550400" y="4216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78"/>
          <p:cNvSpPr/>
          <p:nvPr/>
        </p:nvSpPr>
        <p:spPr>
          <a:xfrm>
            <a:off x="4907520" y="40021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40"/>
          <p:cNvGrpSpPr/>
          <p:nvPr/>
        </p:nvGrpSpPr>
        <p:grpSpPr>
          <a:xfrm>
            <a:off x="2643120" y="2130480"/>
            <a:ext cx="3810240" cy="285840"/>
            <a:chOff x="2643120" y="2130480"/>
            <a:chExt cx="3810240" cy="285840"/>
          </a:xfrm>
        </p:grpSpPr>
        <p:sp>
          <p:nvSpPr>
            <p:cNvPr id="261" name="矩形 4"/>
            <p:cNvSpPr/>
            <p:nvPr/>
          </p:nvSpPr>
          <p:spPr>
            <a:xfrm>
              <a:off x="2643120" y="2130480"/>
              <a:ext cx="1905120" cy="285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5"/>
            <p:cNvSpPr/>
            <p:nvPr/>
          </p:nvSpPr>
          <p:spPr>
            <a:xfrm>
              <a:off x="4548240" y="2130480"/>
              <a:ext cx="1905120" cy="285840"/>
            </a:xfrm>
            <a:prstGeom prst="rect">
              <a:avLst/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左大括号 6"/>
          <p:cNvSpPr/>
          <p:nvPr/>
        </p:nvSpPr>
        <p:spPr>
          <a:xfrm rot="16200000">
            <a:off x="3470040" y="1671480"/>
            <a:ext cx="285840" cy="1917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9960 h 1917720"/>
              <a:gd name="textAreaBottom" fmla="*/ 187776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3"/>
                  <a:pt x="10800" y="1445"/>
                </a:cubicBezTo>
                <a:lnTo>
                  <a:pt x="10800" y="9355"/>
                </a:lnTo>
                <a:cubicBezTo>
                  <a:pt x="10800" y="10078"/>
                  <a:pt x="5400" y="10800"/>
                  <a:pt x="0" y="10800"/>
                </a:cubicBezTo>
                <a:cubicBezTo>
                  <a:pt x="5400" y="10800"/>
                  <a:pt x="10800" y="11523"/>
                  <a:pt x="10800" y="12245"/>
                </a:cubicBezTo>
                <a:lnTo>
                  <a:pt x="10800" y="20155"/>
                </a:lnTo>
                <a:cubicBezTo>
                  <a:pt x="10800" y="2087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左大括号 7"/>
          <p:cNvSpPr/>
          <p:nvPr/>
        </p:nvSpPr>
        <p:spPr>
          <a:xfrm flipH="1" rot="16200000">
            <a:off x="5392440" y="951840"/>
            <a:ext cx="214200" cy="18572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9880 h 1857240"/>
              <a:gd name="textAreaBottom" fmla="*/ 182736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0"/>
                  <a:pt x="10800" y="1119"/>
                </a:cubicBezTo>
                <a:lnTo>
                  <a:pt x="10800" y="9681"/>
                </a:lnTo>
                <a:cubicBezTo>
                  <a:pt x="10800" y="10241"/>
                  <a:pt x="5400" y="10800"/>
                  <a:pt x="0" y="10800"/>
                </a:cubicBezTo>
                <a:cubicBezTo>
                  <a:pt x="5400" y="10800"/>
                  <a:pt x="10800" y="11360"/>
                  <a:pt x="10800" y="11919"/>
                </a:cubicBezTo>
                <a:lnTo>
                  <a:pt x="10800" y="20481"/>
                </a:lnTo>
                <a:cubicBezTo>
                  <a:pt x="10800" y="210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6"/>
          <p:cNvGrpSpPr/>
          <p:nvPr/>
        </p:nvGrpSpPr>
        <p:grpSpPr>
          <a:xfrm>
            <a:off x="5006880" y="987480"/>
            <a:ext cx="1292760" cy="825480"/>
            <a:chOff x="5006880" y="987480"/>
            <a:chExt cx="1292760" cy="825480"/>
          </a:xfrm>
        </p:grpSpPr>
        <p:sp>
          <p:nvSpPr>
            <p:cNvPr id="266" name="矩形 9"/>
            <p:cNvSpPr/>
            <p:nvPr/>
          </p:nvSpPr>
          <p:spPr>
            <a:xfrm>
              <a:off x="5006880" y="1201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剪去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0"/>
            <p:cNvSpPr/>
            <p:nvPr/>
          </p:nvSpPr>
          <p:spPr>
            <a:xfrm>
              <a:off x="5936040" y="987480"/>
              <a:ext cx="36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d0d0d"/>
                  </a:solidFill>
                  <a:uFillTx/>
                  <a:latin typeface="黑体"/>
                  <a:ea typeface="黑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3"/>
          <p:cNvGrpSpPr/>
          <p:nvPr/>
        </p:nvGrpSpPr>
        <p:grpSpPr>
          <a:xfrm>
            <a:off x="2441520" y="2806560"/>
            <a:ext cx="2559240" cy="962640"/>
            <a:chOff x="2441520" y="2806560"/>
            <a:chExt cx="2559240" cy="962640"/>
          </a:xfrm>
        </p:grpSpPr>
        <p:sp>
          <p:nvSpPr>
            <p:cNvPr id="269" name="矩形 45"/>
            <p:cNvSpPr/>
            <p:nvPr/>
          </p:nvSpPr>
          <p:spPr>
            <a:xfrm>
              <a:off x="2441520" y="2806560"/>
              <a:ext cx="255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剩余部分是单位“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”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13"/>
            <p:cNvSpPr/>
            <p:nvPr/>
          </p:nvSpPr>
          <p:spPr>
            <a:xfrm>
              <a:off x="3534840" y="3065400"/>
              <a:ext cx="33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d0d0d"/>
                  </a:solidFill>
                  <a:uFillTx/>
                  <a:latin typeface="黑体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左大括号 42"/>
          <p:cNvSpPr/>
          <p:nvPr/>
        </p:nvSpPr>
        <p:spPr>
          <a:xfrm flipH="1" rot="16200000">
            <a:off x="3929040" y="1500120"/>
            <a:ext cx="214560" cy="928800"/>
          </a:xfrm>
          <a:custGeom>
            <a:avLst/>
            <a:gdLst>
              <a:gd name="textAreaLeft" fmla="*/ 137160 w 214560"/>
              <a:gd name="textAreaRight" fmla="*/ 214920 w 214560"/>
              <a:gd name="textAreaTop" fmla="*/ 29880 h 928800"/>
              <a:gd name="textAreaBottom" fmla="*/ 89892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9"/>
                  <a:pt x="10800" y="2238"/>
                </a:cubicBezTo>
                <a:lnTo>
                  <a:pt x="10800" y="8562"/>
                </a:lnTo>
                <a:cubicBezTo>
                  <a:pt x="10800" y="9681"/>
                  <a:pt x="5400" y="10800"/>
                  <a:pt x="0" y="10800"/>
                </a:cubicBezTo>
                <a:cubicBezTo>
                  <a:pt x="5400" y="10800"/>
                  <a:pt x="10800" y="11919"/>
                  <a:pt x="10800" y="13038"/>
                </a:cubicBezTo>
                <a:lnTo>
                  <a:pt x="10800" y="19362"/>
                </a:lnTo>
                <a:cubicBezTo>
                  <a:pt x="10800" y="2048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77"/>
          <p:cNvSpPr/>
          <p:nvPr/>
        </p:nvSpPr>
        <p:spPr>
          <a:xfrm>
            <a:off x="4550400" y="433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78"/>
          <p:cNvSpPr/>
          <p:nvPr/>
        </p:nvSpPr>
        <p:spPr>
          <a:xfrm>
            <a:off x="4907520" y="41180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73"/>
          <p:cNvGrpSpPr/>
          <p:nvPr/>
        </p:nvGrpSpPr>
        <p:grpSpPr>
          <a:xfrm>
            <a:off x="2479680" y="2695680"/>
            <a:ext cx="2558880" cy="703800"/>
            <a:chOff x="2479680" y="2695680"/>
            <a:chExt cx="2558880" cy="703800"/>
          </a:xfrm>
        </p:grpSpPr>
        <p:sp>
          <p:nvSpPr>
            <p:cNvPr id="278" name="矩形 45"/>
            <p:cNvSpPr/>
            <p:nvPr/>
          </p:nvSpPr>
          <p:spPr>
            <a:xfrm>
              <a:off x="2479680" y="2793240"/>
              <a:ext cx="25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剩余纸条  的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7"/>
            <p:cNvSpPr/>
            <p:nvPr/>
          </p:nvSpPr>
          <p:spPr>
            <a:xfrm>
              <a:off x="3742560" y="2695680"/>
              <a:ext cx="33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d0d0d"/>
                  </a:solidFill>
                  <a:uFillTx/>
                  <a:latin typeface="黑体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8"/>
            <p:cNvSpPr/>
            <p:nvPr/>
          </p:nvSpPr>
          <p:spPr>
            <a:xfrm>
              <a:off x="4385520" y="2695680"/>
              <a:ext cx="33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d0d0d"/>
                  </a:solidFill>
                  <a:uFillTx/>
                  <a:latin typeface="黑体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9"/>
          <p:cNvSpPr/>
          <p:nvPr/>
        </p:nvSpPr>
        <p:spPr>
          <a:xfrm>
            <a:off x="3997800" y="429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22"/>
          <p:cNvGrpSpPr/>
          <p:nvPr/>
        </p:nvGrpSpPr>
        <p:grpSpPr>
          <a:xfrm>
            <a:off x="2681280" y="2119320"/>
            <a:ext cx="3786120" cy="295200"/>
            <a:chOff x="2681280" y="2119320"/>
            <a:chExt cx="3786120" cy="295200"/>
          </a:xfrm>
        </p:grpSpPr>
        <p:sp>
          <p:nvSpPr>
            <p:cNvPr id="283" name="矩形 11"/>
            <p:cNvSpPr/>
            <p:nvPr/>
          </p:nvSpPr>
          <p:spPr>
            <a:xfrm>
              <a:off x="2681280" y="2130120"/>
              <a:ext cx="946080" cy="2844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2"/>
            <p:cNvSpPr/>
            <p:nvPr/>
          </p:nvSpPr>
          <p:spPr>
            <a:xfrm>
              <a:off x="3627360" y="2119320"/>
              <a:ext cx="946080" cy="284400"/>
            </a:xfrm>
            <a:prstGeom prst="rect">
              <a:avLst/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3"/>
            <p:cNvSpPr/>
            <p:nvPr/>
          </p:nvSpPr>
          <p:spPr>
            <a:xfrm>
              <a:off x="4573440" y="2119320"/>
              <a:ext cx="947520" cy="284400"/>
            </a:xfrm>
            <a:prstGeom prst="rect">
              <a:avLst/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4"/>
            <p:cNvSpPr/>
            <p:nvPr/>
          </p:nvSpPr>
          <p:spPr>
            <a:xfrm>
              <a:off x="5521320" y="2119320"/>
              <a:ext cx="946080" cy="284400"/>
            </a:xfrm>
            <a:prstGeom prst="rect">
              <a:avLst/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73"/>
          <p:cNvGrpSpPr/>
          <p:nvPr/>
        </p:nvGrpSpPr>
        <p:grpSpPr>
          <a:xfrm>
            <a:off x="3252960" y="1195560"/>
            <a:ext cx="2558880" cy="703800"/>
            <a:chOff x="3252960" y="1195560"/>
            <a:chExt cx="2558880" cy="703800"/>
          </a:xfrm>
        </p:grpSpPr>
        <p:sp>
          <p:nvSpPr>
            <p:cNvPr id="288" name="矩形 25"/>
            <p:cNvSpPr/>
            <p:nvPr/>
          </p:nvSpPr>
          <p:spPr>
            <a:xfrm>
              <a:off x="3252960" y="1293120"/>
              <a:ext cx="25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剩余纸条  的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8"/>
            <p:cNvSpPr/>
            <p:nvPr/>
          </p:nvSpPr>
          <p:spPr>
            <a:xfrm>
              <a:off x="4515840" y="1195560"/>
              <a:ext cx="33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d0d0d"/>
                  </a:solidFill>
                  <a:uFillTx/>
                  <a:latin typeface="黑体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22"/>
            <p:cNvSpPr/>
            <p:nvPr/>
          </p:nvSpPr>
          <p:spPr>
            <a:xfrm>
              <a:off x="5158800" y="1195560"/>
              <a:ext cx="33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d0d0d"/>
                  </a:solidFill>
                  <a:uFillTx/>
                  <a:latin typeface="黑体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矩形 24"/>
          <p:cNvSpPr/>
          <p:nvPr/>
        </p:nvSpPr>
        <p:spPr>
          <a:xfrm>
            <a:off x="3659760" y="40910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76"/>
          <p:cNvSpPr/>
          <p:nvPr/>
        </p:nvSpPr>
        <p:spPr>
          <a:xfrm>
            <a:off x="4211640" y="41162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5"/>
          <p:cNvSpPr/>
          <p:nvPr/>
        </p:nvSpPr>
        <p:spPr>
          <a:xfrm>
            <a:off x="583200" y="2408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76"/>
          <p:cNvSpPr/>
          <p:nvPr/>
        </p:nvSpPr>
        <p:spPr>
          <a:xfrm>
            <a:off x="834120" y="220500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7"/>
          <p:cNvSpPr/>
          <p:nvPr/>
        </p:nvSpPr>
        <p:spPr>
          <a:xfrm>
            <a:off x="2662200" y="2421000"/>
            <a:ext cx="239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?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一张长方形的纸折一折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，再算一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8"/>
          <p:cNvSpPr/>
          <p:nvPr/>
        </p:nvSpPr>
        <p:spPr>
          <a:xfrm>
            <a:off x="243720" y="220500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"/>
          <p:cNvSpPr/>
          <p:nvPr/>
        </p:nvSpPr>
        <p:spPr>
          <a:xfrm>
            <a:off x="3379320" y="367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9"/>
          <p:cNvSpPr/>
          <p:nvPr/>
        </p:nvSpPr>
        <p:spPr>
          <a:xfrm>
            <a:off x="3851280" y="3689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     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1"/>
          <p:cNvSpPr/>
          <p:nvPr/>
        </p:nvSpPr>
        <p:spPr>
          <a:xfrm>
            <a:off x="3040920" y="34732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>
            <a:off x="5442840" y="3475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3631320" y="34732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4383000" y="3475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3×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×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"/>
          <p:cNvSpPr/>
          <p:nvPr/>
        </p:nvSpPr>
        <p:spPr>
          <a:xfrm>
            <a:off x="917640" y="176040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黑体"/>
                <a:ea typeface="黑体"/>
              </a:rPr>
              <a:t>乐乐认为：一个数与分数相乘，积一定小于这个数。你同意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47"/>
          <p:cNvGrpSpPr/>
          <p:nvPr/>
        </p:nvGrpSpPr>
        <p:grpSpPr>
          <a:xfrm>
            <a:off x="2504160" y="2913120"/>
            <a:ext cx="896040" cy="947160"/>
            <a:chOff x="2504160" y="2913120"/>
            <a:chExt cx="896040" cy="947160"/>
          </a:xfrm>
        </p:grpSpPr>
        <p:sp>
          <p:nvSpPr>
            <p:cNvPr id="314" name="矩形 33"/>
            <p:cNvSpPr/>
            <p:nvPr/>
          </p:nvSpPr>
          <p:spPr>
            <a:xfrm>
              <a:off x="2504160" y="3115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3"/>
            <p:cNvSpPr/>
            <p:nvPr/>
          </p:nvSpPr>
          <p:spPr>
            <a:xfrm>
              <a:off x="3006000" y="29131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d0d0d"/>
                  </a:solidFill>
                  <a:uFillTx/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48"/>
          <p:cNvGrpSpPr/>
          <p:nvPr/>
        </p:nvGrpSpPr>
        <p:grpSpPr>
          <a:xfrm>
            <a:off x="5566320" y="2924280"/>
            <a:ext cx="896040" cy="947160"/>
            <a:chOff x="5566320" y="2924280"/>
            <a:chExt cx="896040" cy="947160"/>
          </a:xfrm>
        </p:grpSpPr>
        <p:sp>
          <p:nvSpPr>
            <p:cNvPr id="317" name="矩形 49"/>
            <p:cNvSpPr/>
            <p:nvPr/>
          </p:nvSpPr>
          <p:spPr>
            <a:xfrm>
              <a:off x="5566320" y="3126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6"/>
            <p:cNvSpPr/>
            <p:nvPr/>
          </p:nvSpPr>
          <p:spPr>
            <a:xfrm>
              <a:off x="6068160" y="29242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d0d0d"/>
                  </a:solidFill>
                  <a:uFillTx/>
                  <a:latin typeface="黑体"/>
                  <a:ea typeface="黑体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矩形 8"/>
          <p:cNvSpPr/>
          <p:nvPr/>
        </p:nvSpPr>
        <p:spPr>
          <a:xfrm>
            <a:off x="1374840" y="3841920"/>
            <a:ext cx="6429240" cy="202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用字母表示因数与积的关系：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a×b=c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①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≠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②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b=1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c=a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③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＜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＜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。（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≠</a:t>
            </a: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7"/>
          <p:cNvSpPr/>
          <p:nvPr/>
        </p:nvSpPr>
        <p:spPr>
          <a:xfrm>
            <a:off x="3507480" y="19000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8"/>
          <p:cNvSpPr/>
          <p:nvPr/>
        </p:nvSpPr>
        <p:spPr>
          <a:xfrm>
            <a:off x="2623320" y="1900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98"/>
          <p:cNvSpPr/>
          <p:nvPr/>
        </p:nvSpPr>
        <p:spPr>
          <a:xfrm>
            <a:off x="3207240" y="213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13"/>
          <p:cNvSpPr/>
          <p:nvPr/>
        </p:nvSpPr>
        <p:spPr>
          <a:xfrm>
            <a:off x="3527280" y="460836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8"/>
          <p:cNvSpPr/>
          <p:nvPr/>
        </p:nvSpPr>
        <p:spPr>
          <a:xfrm>
            <a:off x="3281760" y="3460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6"/>
          <p:cNvSpPr/>
          <p:nvPr/>
        </p:nvSpPr>
        <p:spPr>
          <a:xfrm>
            <a:off x="2649600" y="45813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9"/>
          <p:cNvSpPr/>
          <p:nvPr/>
        </p:nvSpPr>
        <p:spPr>
          <a:xfrm>
            <a:off x="3555720" y="32576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0"/>
          <p:cNvSpPr/>
          <p:nvPr/>
        </p:nvSpPr>
        <p:spPr>
          <a:xfrm>
            <a:off x="2936160" y="32576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98"/>
          <p:cNvSpPr/>
          <p:nvPr/>
        </p:nvSpPr>
        <p:spPr>
          <a:xfrm>
            <a:off x="3207240" y="47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"/>
          <p:cNvSpPr/>
          <p:nvPr/>
        </p:nvSpPr>
        <p:spPr>
          <a:xfrm>
            <a:off x="1763640" y="3716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Garamond"/>
                <a:ea typeface="华文新魏"/>
              </a:rPr>
              <a:t>本节课学的内容，你理解了吗？同学之间互相讨论一下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8436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835280" y="2060640"/>
            <a:ext cx="57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掌握分数乘分数的运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掌握一个数的几分之几是多少的运算，能解决有关分数乘法的简单实际问题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线连接符 21"/>
          <p:cNvSpPr/>
          <p:nvPr/>
        </p:nvSpPr>
        <p:spPr>
          <a:xfrm flipV="1">
            <a:off x="468360" y="156348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429200" y="2374920"/>
            <a:ext cx="47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的      是多少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4067280" y="2254320"/>
            <a:ext cx="647640" cy="1145880"/>
            <a:chOff x="4067280" y="2254320"/>
            <a:chExt cx="647640" cy="1145880"/>
          </a:xfrm>
        </p:grpSpPr>
        <p:sp>
          <p:nvSpPr>
            <p:cNvPr id="59" name="Text Box 6"/>
            <p:cNvSpPr/>
            <p:nvPr/>
          </p:nvSpPr>
          <p:spPr>
            <a:xfrm>
              <a:off x="4139280" y="275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067280" y="2779920"/>
              <a:ext cx="64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8"/>
            <p:cNvSpPr/>
            <p:nvPr/>
          </p:nvSpPr>
          <p:spPr>
            <a:xfrm>
              <a:off x="4100760" y="2254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5"/>
          <p:cNvGrpSpPr/>
          <p:nvPr/>
        </p:nvGrpSpPr>
        <p:grpSpPr>
          <a:xfrm>
            <a:off x="3226320" y="3262320"/>
            <a:ext cx="1632960" cy="1145880"/>
            <a:chOff x="3226320" y="3262320"/>
            <a:chExt cx="1632960" cy="1145880"/>
          </a:xfrm>
        </p:grpSpPr>
        <p:sp>
          <p:nvSpPr>
            <p:cNvPr id="63" name="Text Box 16"/>
            <p:cNvSpPr/>
            <p:nvPr/>
          </p:nvSpPr>
          <p:spPr>
            <a:xfrm>
              <a:off x="3226320" y="3527280"/>
              <a:ext cx="86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8 </a:t>
              </a:r>
              <a:r>
                <a:rPr b="1" lang="en-US" sz="36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17"/>
            <p:cNvGrpSpPr/>
            <p:nvPr/>
          </p:nvGrpSpPr>
          <p:grpSpPr>
            <a:xfrm>
              <a:off x="4211640" y="3262320"/>
              <a:ext cx="647640" cy="1145880"/>
              <a:chOff x="4211640" y="3262320"/>
              <a:chExt cx="647640" cy="1145880"/>
            </a:xfrm>
          </p:grpSpPr>
          <p:sp>
            <p:nvSpPr>
              <p:cNvPr id="65" name="Text Box 18"/>
              <p:cNvSpPr/>
              <p:nvPr/>
            </p:nvSpPr>
            <p:spPr>
              <a:xfrm>
                <a:off x="4283640" y="37656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华文新魏"/>
                    <a:ea typeface="华文新魏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9"/>
              <p:cNvSpPr/>
              <p:nvPr/>
            </p:nvSpPr>
            <p:spPr>
              <a:xfrm>
                <a:off x="4211640" y="3787920"/>
                <a:ext cx="647640" cy="1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20"/>
              <p:cNvSpPr/>
              <p:nvPr/>
            </p:nvSpPr>
            <p:spPr>
              <a:xfrm>
                <a:off x="4245120" y="32623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华文新魏"/>
                    <a:ea typeface="华文新魏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Text Box 21"/>
          <p:cNvSpPr/>
          <p:nvPr/>
        </p:nvSpPr>
        <p:spPr>
          <a:xfrm>
            <a:off x="1552680" y="150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答列式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347200" y="4653000"/>
            <a:ext cx="42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说出下面算式表示的意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553040" y="56293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×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569040" y="56815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×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801400" y="56815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×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826920" y="4724280"/>
            <a:ext cx="792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042920" y="21337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  <a:ea typeface="华文新魏"/>
              </a:rPr>
              <a:t>求一个数的几分之几是多少，用乘法来计算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900000" y="41497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  <a:ea typeface="华文新魏"/>
              </a:rPr>
              <a:t>思考整数乘法表示的意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63640" y="2203560"/>
            <a:ext cx="3745080" cy="187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1763640" y="2871720"/>
            <a:ext cx="3745080" cy="1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1763640" y="3473280"/>
            <a:ext cx="37450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763640" y="2203560"/>
            <a:ext cx="3745080" cy="126972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697560" y="13892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分数表示下图中的涂色部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9"/>
          <p:cNvGrpSpPr/>
          <p:nvPr/>
        </p:nvGrpSpPr>
        <p:grpSpPr>
          <a:xfrm>
            <a:off x="1692360" y="4367160"/>
            <a:ext cx="3744720" cy="1873440"/>
            <a:chOff x="1692360" y="4367160"/>
            <a:chExt cx="3744720" cy="1873440"/>
          </a:xfrm>
        </p:grpSpPr>
        <p:sp>
          <p:nvSpPr>
            <p:cNvPr id="89" name="Rectangle 10"/>
            <p:cNvSpPr/>
            <p:nvPr/>
          </p:nvSpPr>
          <p:spPr>
            <a:xfrm>
              <a:off x="1692360" y="4367160"/>
              <a:ext cx="3744720" cy="1873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>
              <a:off x="1692360" y="5036760"/>
              <a:ext cx="3744720" cy="1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>
              <a:off x="1692360" y="5638680"/>
              <a:ext cx="3744720" cy="1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2454480" y="4367160"/>
              <a:ext cx="1080" cy="1873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3215160" y="4367160"/>
              <a:ext cx="1080" cy="1873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5"/>
            <p:cNvSpPr/>
            <p:nvPr/>
          </p:nvSpPr>
          <p:spPr>
            <a:xfrm>
              <a:off x="3977640" y="4367160"/>
              <a:ext cx="1080" cy="1873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>
              <a:off x="4700880" y="4367160"/>
              <a:ext cx="1080" cy="1873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7"/>
          <p:cNvSpPr/>
          <p:nvPr/>
        </p:nvSpPr>
        <p:spPr>
          <a:xfrm>
            <a:off x="1692360" y="4365720"/>
            <a:ext cx="1512720" cy="187308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6948360" y="2324160"/>
            <a:ext cx="647640" cy="1145880"/>
            <a:chOff x="6948360" y="2324160"/>
            <a:chExt cx="647640" cy="1145880"/>
          </a:xfrm>
        </p:grpSpPr>
        <p:sp>
          <p:nvSpPr>
            <p:cNvPr id="98" name="Text Box 19"/>
            <p:cNvSpPr/>
            <p:nvPr/>
          </p:nvSpPr>
          <p:spPr>
            <a:xfrm>
              <a:off x="7020360" y="2827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0"/>
            <p:cNvSpPr/>
            <p:nvPr/>
          </p:nvSpPr>
          <p:spPr>
            <a:xfrm>
              <a:off x="6948360" y="2849760"/>
              <a:ext cx="64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1"/>
            <p:cNvSpPr/>
            <p:nvPr/>
          </p:nvSpPr>
          <p:spPr>
            <a:xfrm>
              <a:off x="7020360" y="2324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7380360" y="5060880"/>
            <a:ext cx="647640" cy="1145880"/>
            <a:chOff x="7380360" y="5060880"/>
            <a:chExt cx="647640" cy="1145880"/>
          </a:xfrm>
        </p:grpSpPr>
        <p:sp>
          <p:nvSpPr>
            <p:cNvPr id="102" name="Text Box 23"/>
            <p:cNvSpPr/>
            <p:nvPr/>
          </p:nvSpPr>
          <p:spPr>
            <a:xfrm>
              <a:off x="7452360" y="5564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7380360" y="5586480"/>
              <a:ext cx="64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5"/>
            <p:cNvSpPr/>
            <p:nvPr/>
          </p:nvSpPr>
          <p:spPr>
            <a:xfrm>
              <a:off x="7452360" y="5060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6011280" y="5049720"/>
            <a:ext cx="792720" cy="1145880"/>
            <a:chOff x="6011280" y="5049720"/>
            <a:chExt cx="792720" cy="1145880"/>
          </a:xfrm>
        </p:grpSpPr>
        <p:sp>
          <p:nvSpPr>
            <p:cNvPr id="106" name="Text Box 27"/>
            <p:cNvSpPr/>
            <p:nvPr/>
          </p:nvSpPr>
          <p:spPr>
            <a:xfrm>
              <a:off x="6045840" y="5553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>
              <a:off x="6156360" y="5575320"/>
              <a:ext cx="64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9"/>
            <p:cNvSpPr/>
            <p:nvPr/>
          </p:nvSpPr>
          <p:spPr>
            <a:xfrm>
              <a:off x="6011280" y="5049720"/>
              <a:ext cx="56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线连接符 21"/>
          <p:cNvSpPr/>
          <p:nvPr/>
        </p:nvSpPr>
        <p:spPr>
          <a:xfrm flipV="1">
            <a:off x="39528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3252960" y="404640"/>
            <a:ext cx="2520720" cy="2349720"/>
          </a:xfrm>
          <a:prstGeom prst="wedgeRoundRectCallout">
            <a:avLst>
              <a:gd name="adj1" fmla="val -55157"/>
              <a:gd name="adj2" fmla="val 12824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979640" y="3718080"/>
            <a:ext cx="4321080" cy="20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979640" y="3718080"/>
            <a:ext cx="4321080" cy="100800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979640" y="3718080"/>
            <a:ext cx="1081080" cy="1008000"/>
          </a:xfrm>
          <a:prstGeom prst="rect">
            <a:avLst/>
          </a:prstGeom>
          <a:solidFill>
            <a:srgbClr val="0000ff">
              <a:alpha val="5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3060720" y="3645000"/>
            <a:ext cx="2188800" cy="1079280"/>
            <a:chOff x="3060720" y="3645000"/>
            <a:chExt cx="2188800" cy="1079280"/>
          </a:xfrm>
        </p:grpSpPr>
        <p:sp>
          <p:nvSpPr>
            <p:cNvPr id="117" name="Line 18"/>
            <p:cNvSpPr/>
            <p:nvPr/>
          </p:nvSpPr>
          <p:spPr>
            <a:xfrm>
              <a:off x="3060720" y="3645000"/>
              <a:ext cx="1080" cy="107928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>
              <a:off x="4153680" y="3645000"/>
              <a:ext cx="1440" cy="107928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5248440" y="3645000"/>
              <a:ext cx="1080" cy="107928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3075120" y="4668840"/>
            <a:ext cx="2188800" cy="1079640"/>
            <a:chOff x="3075120" y="4668840"/>
            <a:chExt cx="2188800" cy="1079640"/>
          </a:xfrm>
        </p:grpSpPr>
        <p:sp>
          <p:nvSpPr>
            <p:cNvPr id="121" name="Line 22"/>
            <p:cNvSpPr/>
            <p:nvPr/>
          </p:nvSpPr>
          <p:spPr>
            <a:xfrm>
              <a:off x="3075120" y="4668840"/>
              <a:ext cx="1080" cy="1079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4168080" y="4668840"/>
              <a:ext cx="1440" cy="1079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5262840" y="4668840"/>
              <a:ext cx="1080" cy="1079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10257"/>
          <p:cNvSpPr/>
          <p:nvPr/>
        </p:nvSpPr>
        <p:spPr>
          <a:xfrm>
            <a:off x="1116000" y="2060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台收割机每小时收割小麦    公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台收割机   小时可收割小麦多少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0258" descr="1"/>
          <p:cNvPicPr/>
          <p:nvPr/>
        </p:nvPicPr>
        <p:blipFill>
          <a:blip r:embed="rId1"/>
          <a:stretch/>
        </p:blipFill>
        <p:spPr>
          <a:xfrm>
            <a:off x="5651640" y="1989000"/>
            <a:ext cx="215640" cy="5130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0259" descr="2"/>
          <p:cNvPicPr/>
          <p:nvPr/>
        </p:nvPicPr>
        <p:blipFill>
          <a:blip r:embed="rId2"/>
          <a:stretch/>
        </p:blipFill>
        <p:spPr>
          <a:xfrm>
            <a:off x="3635280" y="2492280"/>
            <a:ext cx="1936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39528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252960" y="404640"/>
            <a:ext cx="2520720" cy="2349720"/>
          </a:xfrm>
          <a:prstGeom prst="wedgeRoundRectCallout">
            <a:avLst>
              <a:gd name="adj1" fmla="val -55157"/>
              <a:gd name="adj2" fmla="val 12824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650880" y="-1170000"/>
            <a:ext cx="76320" cy="76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556000" y="981000"/>
            <a:ext cx="432108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556000" y="981000"/>
            <a:ext cx="4321080" cy="100800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556000" y="981000"/>
            <a:ext cx="1081080" cy="1008000"/>
          </a:xfrm>
          <a:prstGeom prst="rect">
            <a:avLst/>
          </a:prstGeom>
          <a:solidFill>
            <a:srgbClr val="0000ff">
              <a:alpha val="5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777400" y="3645000"/>
            <a:ext cx="46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色部分是这块地的几分之几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2729520" y="4343400"/>
            <a:ext cx="4319640" cy="1145880"/>
            <a:chOff x="2729520" y="4343400"/>
            <a:chExt cx="4319640" cy="1145880"/>
          </a:xfrm>
        </p:grpSpPr>
        <p:sp>
          <p:nvSpPr>
            <p:cNvPr id="137" name="Text Box 11"/>
            <p:cNvSpPr/>
            <p:nvPr/>
          </p:nvSpPr>
          <p:spPr>
            <a:xfrm>
              <a:off x="2729520" y="4630680"/>
              <a:ext cx="43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2)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蓝色部分占    的几分之几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4787640" y="4343400"/>
              <a:ext cx="647640" cy="1145880"/>
              <a:chOff x="4787640" y="4343400"/>
              <a:chExt cx="647640" cy="1145880"/>
            </a:xfrm>
          </p:grpSpPr>
          <p:sp>
            <p:nvSpPr>
              <p:cNvPr id="139" name="Text Box 13"/>
              <p:cNvSpPr/>
              <p:nvPr/>
            </p:nvSpPr>
            <p:spPr>
              <a:xfrm>
                <a:off x="4859640" y="48466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4787640" y="4869000"/>
                <a:ext cx="647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15"/>
              <p:cNvSpPr/>
              <p:nvPr/>
            </p:nvSpPr>
            <p:spPr>
              <a:xfrm>
                <a:off x="4821120" y="43434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16"/>
          <p:cNvSpPr/>
          <p:nvPr/>
        </p:nvSpPr>
        <p:spPr>
          <a:xfrm>
            <a:off x="2848680" y="5567400"/>
            <a:ext cx="46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蓝色部分是这块地的几分之几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7"/>
          <p:cNvGrpSpPr/>
          <p:nvPr/>
        </p:nvGrpSpPr>
        <p:grpSpPr>
          <a:xfrm>
            <a:off x="3651120" y="981000"/>
            <a:ext cx="2188800" cy="1079640"/>
            <a:chOff x="3651120" y="981000"/>
            <a:chExt cx="2188800" cy="1079640"/>
          </a:xfrm>
        </p:grpSpPr>
        <p:sp>
          <p:nvSpPr>
            <p:cNvPr id="144" name="Line 18"/>
            <p:cNvSpPr/>
            <p:nvPr/>
          </p:nvSpPr>
          <p:spPr>
            <a:xfrm>
              <a:off x="3651120" y="981000"/>
              <a:ext cx="1080" cy="1079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4744080" y="981000"/>
              <a:ext cx="1440" cy="1079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5838840" y="981000"/>
              <a:ext cx="1080" cy="1079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1"/>
          <p:cNvGrpSpPr/>
          <p:nvPr/>
        </p:nvGrpSpPr>
        <p:grpSpPr>
          <a:xfrm>
            <a:off x="3651120" y="1932120"/>
            <a:ext cx="2188800" cy="1079280"/>
            <a:chOff x="3651120" y="1932120"/>
            <a:chExt cx="2188800" cy="1079280"/>
          </a:xfrm>
        </p:grpSpPr>
        <p:sp>
          <p:nvSpPr>
            <p:cNvPr id="148" name="Line 22"/>
            <p:cNvSpPr/>
            <p:nvPr/>
          </p:nvSpPr>
          <p:spPr>
            <a:xfrm>
              <a:off x="3651120" y="1932120"/>
              <a:ext cx="1080" cy="107928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4744080" y="1932120"/>
              <a:ext cx="1440" cy="107928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4"/>
            <p:cNvSpPr/>
            <p:nvPr/>
          </p:nvSpPr>
          <p:spPr>
            <a:xfrm>
              <a:off x="5838840" y="1932120"/>
              <a:ext cx="1080" cy="107928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124000" y="1700280"/>
            <a:ext cx="4321080" cy="20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124000" y="1700280"/>
            <a:ext cx="4321080" cy="100800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2094120" y="4197240"/>
            <a:ext cx="4795200" cy="1145880"/>
            <a:chOff x="2094120" y="4197240"/>
            <a:chExt cx="4795200" cy="1145880"/>
          </a:xfrm>
        </p:grpSpPr>
        <p:sp>
          <p:nvSpPr>
            <p:cNvPr id="157" name="Text Box 7"/>
            <p:cNvSpPr/>
            <p:nvPr/>
          </p:nvSpPr>
          <p:spPr>
            <a:xfrm>
              <a:off x="2094120" y="4484520"/>
              <a:ext cx="47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1)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蓝色部分占        的几分之几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8"/>
            <p:cNvGrpSpPr/>
            <p:nvPr/>
          </p:nvGrpSpPr>
          <p:grpSpPr>
            <a:xfrm>
              <a:off x="4429080" y="4197240"/>
              <a:ext cx="647640" cy="1145880"/>
              <a:chOff x="4429080" y="4197240"/>
              <a:chExt cx="647640" cy="1145880"/>
            </a:xfrm>
          </p:grpSpPr>
          <p:sp>
            <p:nvSpPr>
              <p:cNvPr id="159" name="Text Box 9"/>
              <p:cNvSpPr/>
              <p:nvPr/>
            </p:nvSpPr>
            <p:spPr>
              <a:xfrm>
                <a:off x="4501080" y="47005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0"/>
              <p:cNvSpPr/>
              <p:nvPr/>
            </p:nvSpPr>
            <p:spPr>
              <a:xfrm>
                <a:off x="4429080" y="4722840"/>
                <a:ext cx="647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1"/>
              <p:cNvSpPr/>
              <p:nvPr/>
            </p:nvSpPr>
            <p:spPr>
              <a:xfrm>
                <a:off x="4462560" y="41972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Text Box 12"/>
          <p:cNvSpPr/>
          <p:nvPr/>
        </p:nvSpPr>
        <p:spPr>
          <a:xfrm>
            <a:off x="2438280" y="5421240"/>
            <a:ext cx="46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蓝色部分是这张纸的几分之几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124000" y="1700280"/>
            <a:ext cx="3241800" cy="1008000"/>
          </a:xfrm>
          <a:prstGeom prst="rect">
            <a:avLst/>
          </a:prstGeom>
          <a:solidFill>
            <a:srgbClr val="00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3191040" y="1700280"/>
            <a:ext cx="2188800" cy="2015640"/>
            <a:chOff x="3191040" y="1700280"/>
            <a:chExt cx="2188800" cy="2015640"/>
          </a:xfrm>
        </p:grpSpPr>
        <p:sp>
          <p:nvSpPr>
            <p:cNvPr id="165" name="Line 15"/>
            <p:cNvSpPr/>
            <p:nvPr/>
          </p:nvSpPr>
          <p:spPr>
            <a:xfrm>
              <a:off x="3191040" y="1700280"/>
              <a:ext cx="1080" cy="2015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4284000" y="1700280"/>
              <a:ext cx="1440" cy="2015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5378760" y="1700280"/>
              <a:ext cx="1080" cy="2015640"/>
            </a:xfrm>
            <a:prstGeom prst="line">
              <a:avLst/>
            </a:prstGeom>
            <a:ln w="2844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8"/>
          <p:cNvSpPr/>
          <p:nvPr/>
        </p:nvSpPr>
        <p:spPr>
          <a:xfrm>
            <a:off x="6370920" y="492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四分之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729840" y="580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八分之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806840" y="16066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算式在下图中涂色表示计算结果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611280" y="2349360"/>
            <a:ext cx="4321080" cy="2016000"/>
            <a:chOff x="611280" y="2349360"/>
            <a:chExt cx="4321080" cy="2016000"/>
          </a:xfrm>
        </p:grpSpPr>
        <p:grpSp>
          <p:nvGrpSpPr>
            <p:cNvPr id="175" name="Group 6"/>
            <p:cNvGrpSpPr/>
            <p:nvPr/>
          </p:nvGrpSpPr>
          <p:grpSpPr>
            <a:xfrm>
              <a:off x="611280" y="2349360"/>
              <a:ext cx="4321080" cy="2016000"/>
              <a:chOff x="611280" y="2349360"/>
              <a:chExt cx="4321080" cy="201600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611280" y="2349360"/>
                <a:ext cx="4321080" cy="201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8"/>
              <p:cNvSpPr/>
              <p:nvPr/>
            </p:nvSpPr>
            <p:spPr>
              <a:xfrm>
                <a:off x="611280" y="3070080"/>
                <a:ext cx="4321080" cy="1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>
                <a:off x="611280" y="3717720"/>
                <a:ext cx="4321080" cy="1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1490760" y="2349360"/>
                <a:ext cx="1440" cy="2016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>
                <a:off x="2368800" y="2349360"/>
                <a:ext cx="1440" cy="2016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>
                <a:off x="3248280" y="2349360"/>
                <a:ext cx="1440" cy="2016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3"/>
              <p:cNvSpPr/>
              <p:nvPr/>
            </p:nvSpPr>
            <p:spPr>
              <a:xfrm>
                <a:off x="4083120" y="2349360"/>
                <a:ext cx="1440" cy="2016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14"/>
            <p:cNvSpPr/>
            <p:nvPr/>
          </p:nvSpPr>
          <p:spPr>
            <a:xfrm>
              <a:off x="611280" y="2349360"/>
              <a:ext cx="4321080" cy="1368360"/>
            </a:xfrm>
            <a:prstGeom prst="rect">
              <a:avLst/>
            </a:prstGeom>
            <a:solidFill>
              <a:srgbClr val="ff0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5"/>
          <p:cNvGrpSpPr/>
          <p:nvPr/>
        </p:nvGrpSpPr>
        <p:grpSpPr>
          <a:xfrm>
            <a:off x="5254560" y="2255760"/>
            <a:ext cx="3601800" cy="1211040"/>
            <a:chOff x="5254560" y="2255760"/>
            <a:chExt cx="3601800" cy="1211040"/>
          </a:xfrm>
        </p:grpSpPr>
        <p:grpSp>
          <p:nvGrpSpPr>
            <p:cNvPr id="185" name="Group 16"/>
            <p:cNvGrpSpPr/>
            <p:nvPr/>
          </p:nvGrpSpPr>
          <p:grpSpPr>
            <a:xfrm>
              <a:off x="5254560" y="2313000"/>
              <a:ext cx="647640" cy="1145880"/>
              <a:chOff x="5254560" y="2313000"/>
              <a:chExt cx="647640" cy="1145880"/>
            </a:xfrm>
          </p:grpSpPr>
          <p:sp>
            <p:nvSpPr>
              <p:cNvPr id="186" name="Text Box 17"/>
              <p:cNvSpPr/>
              <p:nvPr/>
            </p:nvSpPr>
            <p:spPr>
              <a:xfrm>
                <a:off x="5326560" y="2816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8"/>
              <p:cNvSpPr/>
              <p:nvPr/>
            </p:nvSpPr>
            <p:spPr>
              <a:xfrm>
                <a:off x="5254560" y="2838600"/>
                <a:ext cx="647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9"/>
              <p:cNvSpPr/>
              <p:nvPr/>
            </p:nvSpPr>
            <p:spPr>
              <a:xfrm>
                <a:off x="5326560" y="23130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0"/>
            <p:cNvGrpSpPr/>
            <p:nvPr/>
          </p:nvGrpSpPr>
          <p:grpSpPr>
            <a:xfrm>
              <a:off x="6480000" y="2298600"/>
              <a:ext cx="647640" cy="1145880"/>
              <a:chOff x="6480000" y="2298600"/>
              <a:chExt cx="647640" cy="1145880"/>
            </a:xfrm>
          </p:grpSpPr>
          <p:sp>
            <p:nvSpPr>
              <p:cNvPr id="190" name="Text Box 21"/>
              <p:cNvSpPr/>
              <p:nvPr/>
            </p:nvSpPr>
            <p:spPr>
              <a:xfrm>
                <a:off x="6552000" y="28018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2"/>
              <p:cNvSpPr/>
              <p:nvPr/>
            </p:nvSpPr>
            <p:spPr>
              <a:xfrm>
                <a:off x="6480000" y="2824200"/>
                <a:ext cx="647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23"/>
              <p:cNvSpPr/>
              <p:nvPr/>
            </p:nvSpPr>
            <p:spPr>
              <a:xfrm>
                <a:off x="6513480" y="22986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 Box 24"/>
            <p:cNvSpPr/>
            <p:nvPr/>
          </p:nvSpPr>
          <p:spPr>
            <a:xfrm>
              <a:off x="5929920" y="2601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7260480" y="2574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26"/>
            <p:cNvGrpSpPr/>
            <p:nvPr/>
          </p:nvGrpSpPr>
          <p:grpSpPr>
            <a:xfrm>
              <a:off x="7739640" y="2255760"/>
              <a:ext cx="1116720" cy="1211040"/>
              <a:chOff x="7739640" y="2255760"/>
              <a:chExt cx="1116720" cy="1211040"/>
            </a:xfrm>
          </p:grpSpPr>
          <p:sp>
            <p:nvSpPr>
              <p:cNvPr id="196" name="Text Box 27"/>
              <p:cNvSpPr/>
              <p:nvPr/>
            </p:nvSpPr>
            <p:spPr>
              <a:xfrm>
                <a:off x="7739640" y="282420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（  ）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28"/>
              <p:cNvSpPr/>
              <p:nvPr/>
            </p:nvSpPr>
            <p:spPr>
              <a:xfrm>
                <a:off x="7760160" y="225576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（  ）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29"/>
              <p:cNvSpPr/>
              <p:nvPr/>
            </p:nvSpPr>
            <p:spPr>
              <a:xfrm>
                <a:off x="7848360" y="2847960"/>
                <a:ext cx="10080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Rectangle 30"/>
          <p:cNvSpPr/>
          <p:nvPr/>
        </p:nvSpPr>
        <p:spPr>
          <a:xfrm>
            <a:off x="611280" y="2349360"/>
            <a:ext cx="865080" cy="1368720"/>
          </a:xfrm>
          <a:prstGeom prst="rect">
            <a:avLst/>
          </a:prstGeom>
          <a:solidFill>
            <a:srgbClr val="0000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7"/>
          <p:cNvSpPr/>
          <p:nvPr/>
        </p:nvSpPr>
        <p:spPr>
          <a:xfrm>
            <a:off x="8029800" y="2333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7999200" y="2852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6T10:31:32Z</dcterms:created>
  <dc:creator/>
  <dc:description/>
  <dc:language>en-US</dc:language>
  <cp:lastModifiedBy>Administrator</cp:lastModifiedBy>
  <dcterms:modified xsi:type="dcterms:W3CDTF">2016-06-02T05:35:29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