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type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hammer.wav" ContentType="audio/x-wav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32E-E9D4-4006-B0EA-F7862402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86C-6A74-45FB-9328-8CF19E5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B34-2C33-444B-8989-72138BE1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A82-36D2-4BC3-A2A9-F196E6F2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738-2BE6-461D-931B-0441221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0CA-2747-4FAB-BB58-FEB8371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2B5-BCAF-482A-8094-CEEB788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209-3C0E-49CF-87EB-ED5CB18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932-3CDA-4106-B92D-B7C1861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083-9528-4F17-9214-BDD046E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E50-00C2-4DD9-81B7-6A3C6AA5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35E-2537-4088-9955-B4C0206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1D91-D162-4C22-B800-BB3FBA9629B5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7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统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446400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7.2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复式折线统计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4338" descr="6"/>
          <p:cNvPicPr/>
          <p:nvPr/>
        </p:nvPicPr>
        <p:blipFill>
          <a:blip r:embed="rId1"/>
          <a:stretch/>
        </p:blipFill>
        <p:spPr>
          <a:xfrm>
            <a:off x="552600" y="1487520"/>
            <a:ext cx="8038800" cy="4871880"/>
          </a:xfrm>
          <a:prstGeom prst="rect">
            <a:avLst/>
          </a:prstGeom>
          <a:ln w="0">
            <a:noFill/>
          </a:ln>
        </p:spPr>
      </p:pic>
      <p:sp>
        <p:nvSpPr>
          <p:cNvPr id="135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5362"/>
          <p:cNvSpPr/>
          <p:nvPr/>
        </p:nvSpPr>
        <p:spPr>
          <a:xfrm>
            <a:off x="1258920" y="4437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我国男、女人数的差距有什么变化？你从中想到了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363"/>
          <p:cNvSpPr/>
          <p:nvPr/>
        </p:nvSpPr>
        <p:spPr>
          <a:xfrm>
            <a:off x="468360" y="549360"/>
            <a:ext cx="8540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统计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5364"/>
          <p:cNvSpPr/>
          <p:nvPr/>
        </p:nvSpPr>
        <p:spPr>
          <a:xfrm>
            <a:off x="1692360" y="163980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同点：都是折线统计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5365"/>
          <p:cNvSpPr/>
          <p:nvPr/>
        </p:nvSpPr>
        <p:spPr>
          <a:xfrm>
            <a:off x="1692360" y="214488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同点：单式折线统计图用一条折线表示五次人口普查总人口数量变化情况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式折线统计图用不同颜色的两条折线分别表示五次人口普查男、女人数变化情况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692360" y="365616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复式折线统计图</a:t>
            </a:r>
            <a:r>
              <a:rPr b="0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可以较容易的比较出两组数据的变化趋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在制作复式统计图时，要注意画出</a:t>
            </a:r>
            <a:r>
              <a:rPr b="0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图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5367"/>
          <p:cNvSpPr/>
          <p:nvPr/>
        </p:nvSpPr>
        <p:spPr>
          <a:xfrm>
            <a:off x="2141640" y="1123920"/>
            <a:ext cx="67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这两幅统计图有什么相同点和不同点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252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同侧圆角矩形 4"/>
          <p:cNvSpPr/>
          <p:nvPr/>
        </p:nvSpPr>
        <p:spPr>
          <a:xfrm>
            <a:off x="252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857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容易看出各种数量的多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42920" y="364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条形统计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482840" y="5589720"/>
            <a:ext cx="19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折线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55640" y="5084640"/>
            <a:ext cx="3384720" cy="1297080"/>
          </a:xfrm>
          <a:prstGeom prst="ellipse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同侧圆角矩形 4"/>
          <p:cNvSpPr/>
          <p:nvPr/>
        </p:nvSpPr>
        <p:spPr>
          <a:xfrm>
            <a:off x="46836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34136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1"/>
          <p:cNvSpPr/>
          <p:nvPr/>
        </p:nvSpPr>
        <p:spPr>
          <a:xfrm>
            <a:off x="5724360" y="3195720"/>
            <a:ext cx="9144000" cy="1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1557360"/>
            <a:ext cx="95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很清楚地看出数量的增减变化的情况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00000" y="3068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条形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339920" y="5013360"/>
            <a:ext cx="19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折线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611280" y="4724280"/>
            <a:ext cx="3456000" cy="1152720"/>
          </a:xfrm>
          <a:prstGeom prst="ellipse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596360" y="4967280"/>
            <a:ext cx="788760" cy="1557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324000" y="2251080"/>
            <a:ext cx="7489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欣和刘云为了参加学校运动会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跳绳比赛，提前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进行训练，每天测试成绩如下（单位：次）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538920" y="3284640"/>
            <a:ext cx="7633080" cy="1647360"/>
            <a:chOff x="538920" y="3284640"/>
            <a:chExt cx="7633080" cy="1647360"/>
          </a:xfrm>
        </p:grpSpPr>
        <p:sp>
          <p:nvSpPr>
            <p:cNvPr id="167" name="Rectangle 7"/>
            <p:cNvSpPr/>
            <p:nvPr/>
          </p:nvSpPr>
          <p:spPr>
            <a:xfrm>
              <a:off x="7502400" y="4475520"/>
              <a:ext cx="66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83244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616284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5494680" y="4475520"/>
              <a:ext cx="66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482508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415512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348552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2815560" y="4475520"/>
              <a:ext cx="66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5"/>
            <p:cNvSpPr/>
            <p:nvPr/>
          </p:nvSpPr>
          <p:spPr>
            <a:xfrm>
              <a:off x="2147040" y="4475520"/>
              <a:ext cx="668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1477800" y="4475520"/>
              <a:ext cx="66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539280" y="4475520"/>
              <a:ext cx="938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刘云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7502400" y="4020120"/>
              <a:ext cx="667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683244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616284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5494680" y="4020120"/>
              <a:ext cx="667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82508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3"/>
            <p:cNvSpPr/>
            <p:nvPr/>
          </p:nvSpPr>
          <p:spPr>
            <a:xfrm>
              <a:off x="415512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348552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2815560" y="4020120"/>
              <a:ext cx="669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6"/>
            <p:cNvSpPr/>
            <p:nvPr/>
          </p:nvSpPr>
          <p:spPr>
            <a:xfrm>
              <a:off x="2147040" y="4020120"/>
              <a:ext cx="668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1477800" y="4020120"/>
              <a:ext cx="669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>
              <a:off x="539280" y="4020120"/>
              <a:ext cx="938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李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7502400" y="3338280"/>
              <a:ext cx="6678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0"/>
            <p:cNvSpPr/>
            <p:nvPr/>
          </p:nvSpPr>
          <p:spPr>
            <a:xfrm>
              <a:off x="683244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616284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5494680" y="3338280"/>
              <a:ext cx="6678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482508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4"/>
            <p:cNvSpPr/>
            <p:nvPr/>
          </p:nvSpPr>
          <p:spPr>
            <a:xfrm>
              <a:off x="415512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5"/>
            <p:cNvSpPr/>
            <p:nvPr/>
          </p:nvSpPr>
          <p:spPr>
            <a:xfrm>
              <a:off x="348552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6"/>
            <p:cNvSpPr/>
            <p:nvPr/>
          </p:nvSpPr>
          <p:spPr>
            <a:xfrm>
              <a:off x="2815560" y="3338280"/>
              <a:ext cx="6696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7"/>
            <p:cNvSpPr/>
            <p:nvPr/>
          </p:nvSpPr>
          <p:spPr>
            <a:xfrm>
              <a:off x="2147040" y="3338280"/>
              <a:ext cx="6681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8"/>
            <p:cNvSpPr/>
            <p:nvPr/>
          </p:nvSpPr>
          <p:spPr>
            <a:xfrm>
              <a:off x="1477800" y="3338280"/>
              <a:ext cx="66924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539280" y="3338280"/>
              <a:ext cx="9381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0"/>
            <p:cNvSpPr/>
            <p:nvPr/>
          </p:nvSpPr>
          <p:spPr>
            <a:xfrm>
              <a:off x="539280" y="3338280"/>
              <a:ext cx="7630920" cy="108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1"/>
            <p:cNvSpPr/>
            <p:nvPr/>
          </p:nvSpPr>
          <p:spPr>
            <a:xfrm>
              <a:off x="539280" y="4930560"/>
              <a:ext cx="7630920" cy="144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2"/>
            <p:cNvSpPr/>
            <p:nvPr/>
          </p:nvSpPr>
          <p:spPr>
            <a:xfrm>
              <a:off x="539280" y="3338280"/>
              <a:ext cx="144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3"/>
            <p:cNvSpPr/>
            <p:nvPr/>
          </p:nvSpPr>
          <p:spPr>
            <a:xfrm>
              <a:off x="8170560" y="3338280"/>
              <a:ext cx="144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4"/>
            <p:cNvSpPr/>
            <p:nvPr/>
          </p:nvSpPr>
          <p:spPr>
            <a:xfrm>
              <a:off x="539280" y="4020120"/>
              <a:ext cx="7630920" cy="144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5"/>
            <p:cNvSpPr/>
            <p:nvPr/>
          </p:nvSpPr>
          <p:spPr>
            <a:xfrm>
              <a:off x="147780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2147040" y="3338280"/>
              <a:ext cx="144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281556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348552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415512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0"/>
            <p:cNvSpPr/>
            <p:nvPr/>
          </p:nvSpPr>
          <p:spPr>
            <a:xfrm>
              <a:off x="482508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1"/>
            <p:cNvSpPr/>
            <p:nvPr/>
          </p:nvSpPr>
          <p:spPr>
            <a:xfrm>
              <a:off x="549468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2"/>
            <p:cNvSpPr/>
            <p:nvPr/>
          </p:nvSpPr>
          <p:spPr>
            <a:xfrm>
              <a:off x="616284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3"/>
            <p:cNvSpPr/>
            <p:nvPr/>
          </p:nvSpPr>
          <p:spPr>
            <a:xfrm>
              <a:off x="683244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4"/>
            <p:cNvSpPr/>
            <p:nvPr/>
          </p:nvSpPr>
          <p:spPr>
            <a:xfrm>
              <a:off x="7502400" y="3338280"/>
              <a:ext cx="1080" cy="159192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5"/>
            <p:cNvSpPr/>
            <p:nvPr/>
          </p:nvSpPr>
          <p:spPr>
            <a:xfrm>
              <a:off x="539280" y="4475520"/>
              <a:ext cx="7630920" cy="1080"/>
            </a:xfrm>
            <a:prstGeom prst="line">
              <a:avLst/>
            </a:prstGeom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6"/>
            <p:cNvSpPr/>
            <p:nvPr/>
          </p:nvSpPr>
          <p:spPr>
            <a:xfrm>
              <a:off x="864000" y="35557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绩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7"/>
            <p:cNvSpPr/>
            <p:nvPr/>
          </p:nvSpPr>
          <p:spPr>
            <a:xfrm flipH="1" flipV="1">
              <a:off x="899640" y="3337920"/>
              <a:ext cx="576000" cy="7182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8"/>
            <p:cNvSpPr/>
            <p:nvPr/>
          </p:nvSpPr>
          <p:spPr>
            <a:xfrm flipH="1" flipV="1">
              <a:off x="538920" y="3625200"/>
              <a:ext cx="936360" cy="43128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9"/>
            <p:cNvSpPr/>
            <p:nvPr/>
          </p:nvSpPr>
          <p:spPr>
            <a:xfrm>
              <a:off x="649440" y="335736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成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60"/>
            <p:cNvSpPr/>
            <p:nvPr/>
          </p:nvSpPr>
          <p:spPr>
            <a:xfrm>
              <a:off x="540720" y="37713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姓名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61"/>
            <p:cNvSpPr/>
            <p:nvPr/>
          </p:nvSpPr>
          <p:spPr>
            <a:xfrm>
              <a:off x="1011600" y="3284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2"/>
            <p:cNvSpPr/>
            <p:nvPr/>
          </p:nvSpPr>
          <p:spPr>
            <a:xfrm>
              <a:off x="1151280" y="3428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几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3"/>
            <p:cNvSpPr/>
            <p:nvPr/>
          </p:nvSpPr>
          <p:spPr>
            <a:xfrm>
              <a:off x="1225800" y="36284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5"/>
          <p:cNvPicPr/>
          <p:nvPr/>
        </p:nvPicPr>
        <p:blipFill>
          <a:blip r:embed="rId1"/>
          <a:stretch/>
        </p:blipFill>
        <p:spPr>
          <a:xfrm>
            <a:off x="1908000" y="1989000"/>
            <a:ext cx="50864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Rectangle 5"/>
          <p:cNvSpPr/>
          <p:nvPr/>
        </p:nvSpPr>
        <p:spPr>
          <a:xfrm>
            <a:off x="3437280" y="14997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下面的统计图，回答问题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895400" y="5100120"/>
            <a:ext cx="557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李欣和刘云第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的成绩相差多少？第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呢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333880" y="5676480"/>
            <a:ext cx="438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答：第</a:t>
            </a:r>
            <a:r>
              <a:rPr b="1" lang="en-US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天相差</a:t>
            </a:r>
            <a:r>
              <a:rPr b="1" lang="en-US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次，第</a:t>
            </a:r>
            <a:r>
              <a:rPr b="1" lang="en-US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天相差</a:t>
            </a:r>
            <a:r>
              <a:rPr b="1" lang="en-US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次。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05"/>
          <p:cNvPicPr/>
          <p:nvPr/>
        </p:nvPicPr>
        <p:blipFill>
          <a:blip r:embed="rId1"/>
          <a:stretch/>
        </p:blipFill>
        <p:spPr>
          <a:xfrm>
            <a:off x="1908000" y="1822320"/>
            <a:ext cx="50864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" name="Rectangle 4"/>
          <p:cNvSpPr/>
          <p:nvPr/>
        </p:nvSpPr>
        <p:spPr>
          <a:xfrm>
            <a:off x="3437280" y="133308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下面的统计图，回答问题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185840" y="4826160"/>
            <a:ext cx="748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李欣和刘云跳绳的成绩呈现什么变化趋势？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谁的进步幅度大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476360" y="556740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答：都呈逐步上升的趋势，但上升的情况不同。</a:t>
            </a:r>
            <a:br>
              <a:rPr sz="2600"/>
            </a:b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李欣是稳步上升，刘云忽高忽底。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256000" cy="1805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6480360" cy="244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6588000" y="765000"/>
            <a:ext cx="20876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6480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60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476360" y="282672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复式折线统计图的产生过程，并能在已有知识的基础上自主探索复式折线统计图的绘制方法，了解其特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复式折线统计图对数据进行简单的分析，作出合理的推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自主探索，合作交流的学习活动，发展同学们的统计观念，提高同学们的统计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同学们从数学的角度思考问题的良好习惯，让同学们获得成功的体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1763640" y="37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170" descr="3"/>
          <p:cNvPicPr/>
          <p:nvPr/>
        </p:nvPicPr>
        <p:blipFill>
          <a:blip r:embed="rId1"/>
          <a:stretch/>
        </p:blipFill>
        <p:spPr>
          <a:xfrm>
            <a:off x="1143000" y="1460520"/>
            <a:ext cx="6858000" cy="4378320"/>
          </a:xfrm>
          <a:prstGeom prst="rect">
            <a:avLst/>
          </a:prstGeom>
          <a:ln w="0">
            <a:noFill/>
          </a:ln>
        </p:spPr>
      </p:pic>
      <p:sp>
        <p:nvSpPr>
          <p:cNvPr id="57" name="同侧圆角矩形 9"/>
          <p:cNvSpPr/>
          <p:nvPr/>
        </p:nvSpPr>
        <p:spPr>
          <a:xfrm>
            <a:off x="17928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线连接符 21"/>
          <p:cNvSpPr/>
          <p:nvPr/>
        </p:nvSpPr>
        <p:spPr>
          <a:xfrm>
            <a:off x="210960" y="1484280"/>
            <a:ext cx="15526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cw6"/>
          <p:cNvPicPr/>
          <p:nvPr/>
        </p:nvPicPr>
        <p:blipFill>
          <a:blip r:embed="rId1"/>
          <a:stretch/>
        </p:blipFill>
        <p:spPr>
          <a:xfrm>
            <a:off x="4351320" y="2028960"/>
            <a:ext cx="2455920" cy="275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34920" y="1844640"/>
            <a:ext cx="5051520" cy="1528920"/>
          </a:xfrm>
          <a:prstGeom prst="cloudCallout">
            <a:avLst>
              <a:gd name="adj1" fmla="val 48425"/>
              <a:gd name="adj2" fmla="val 83875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要看出我国五次人口普查总人数的变化情况，该怎么办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979640" y="3789360"/>
            <a:ext cx="3330720" cy="1144440"/>
          </a:xfrm>
          <a:prstGeom prst="wedgeRoundRectCallout">
            <a:avLst>
              <a:gd name="adj1" fmla="val -42898"/>
              <a:gd name="adj2" fmla="val 6831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473880" y="836640"/>
            <a:ext cx="2394000" cy="2095560"/>
          </a:xfrm>
          <a:prstGeom prst="wedgeRoundRectCallout">
            <a:avLst>
              <a:gd name="adj1" fmla="val -11074"/>
              <a:gd name="adj2" fmla="val 7693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因为折线统计图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可以很容易地看出数量增减变化的情况。</a:t>
            </a:r>
            <a:r>
              <a:rPr b="0" lang="zh-CN" sz="2800" spc="-1" strike="noStrike">
                <a:solidFill>
                  <a:srgbClr val="ff99cc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w25"/>
          <p:cNvPicPr/>
          <p:nvPr/>
        </p:nvPicPr>
        <p:blipFill>
          <a:blip r:embed="rId2"/>
          <a:stretch/>
        </p:blipFill>
        <p:spPr>
          <a:xfrm>
            <a:off x="352440" y="4541760"/>
            <a:ext cx="189540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cw29"/>
          <p:cNvPicPr/>
          <p:nvPr/>
        </p:nvPicPr>
        <p:blipFill>
          <a:blip r:embed="rId3"/>
          <a:stretch/>
        </p:blipFill>
        <p:spPr>
          <a:xfrm>
            <a:off x="7278840" y="3408480"/>
            <a:ext cx="1865160" cy="253512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8200"/>
          <p:cNvSpPr/>
          <p:nvPr/>
        </p:nvSpPr>
        <p:spPr>
          <a:xfrm>
            <a:off x="2268360" y="3933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用折线统计图表示出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9218" descr="4"/>
          <p:cNvPicPr/>
          <p:nvPr/>
        </p:nvPicPr>
        <p:blipFill>
          <a:blip r:embed="rId1"/>
          <a:stretch/>
        </p:blipFill>
        <p:spPr>
          <a:xfrm>
            <a:off x="468360" y="1197000"/>
            <a:ext cx="8123040" cy="3314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9219" descr="20061222154654880"/>
          <p:cNvPicPr/>
          <p:nvPr/>
        </p:nvPicPr>
        <p:blipFill>
          <a:blip r:embed="rId2"/>
          <a:stretch/>
        </p:blipFill>
        <p:spPr>
          <a:xfrm rot="21593400">
            <a:off x="7812000" y="5013360"/>
            <a:ext cx="69048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矩形 9220"/>
          <p:cNvSpPr txBox="1"/>
          <p:nvPr/>
        </p:nvSpPr>
        <p:spPr>
          <a:xfrm>
            <a:off x="6372360" y="5661000"/>
            <a:ext cx="1222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议一议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文本框 9221"/>
          <p:cNvSpPr/>
          <p:nvPr/>
        </p:nvSpPr>
        <p:spPr>
          <a:xfrm>
            <a:off x="1042920" y="4365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察统计图，说说我国人口变化的情况是怎样的趋势？预测一下：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我国的人口大概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侧圆角矩形 9"/>
          <p:cNvSpPr/>
          <p:nvPr/>
        </p:nvSpPr>
        <p:spPr>
          <a:xfrm>
            <a:off x="32220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35388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cw6"/>
          <p:cNvPicPr/>
          <p:nvPr/>
        </p:nvPicPr>
        <p:blipFill>
          <a:blip r:embed="rId1"/>
          <a:stretch/>
        </p:blipFill>
        <p:spPr>
          <a:xfrm>
            <a:off x="4351320" y="2028960"/>
            <a:ext cx="2455920" cy="27511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25560" y="639720"/>
            <a:ext cx="5049720" cy="1654200"/>
          </a:xfrm>
          <a:prstGeom prst="cloudCallout">
            <a:avLst>
              <a:gd name="adj1" fmla="val 48425"/>
              <a:gd name="adj2" fmla="val 83875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要看出我国这五次人口普查男、女人口数变化情况，该怎么办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030400" y="3889440"/>
            <a:ext cx="4702320" cy="1044360"/>
          </a:xfrm>
          <a:prstGeom prst="wedgeRoundRectCallout">
            <a:avLst>
              <a:gd name="adj1" fmla="val -46050"/>
              <a:gd name="adj2" fmla="val 700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也可以利用两个单式折线统计图把数据表示出来。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cw25"/>
          <p:cNvPicPr/>
          <p:nvPr/>
        </p:nvPicPr>
        <p:blipFill>
          <a:blip r:embed="rId2"/>
          <a:stretch/>
        </p:blipFill>
        <p:spPr>
          <a:xfrm>
            <a:off x="352440" y="4541760"/>
            <a:ext cx="1895400" cy="2187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cw29"/>
          <p:cNvPicPr/>
          <p:nvPr/>
        </p:nvPicPr>
        <p:blipFill>
          <a:blip r:embed="rId3"/>
          <a:stretch/>
        </p:blipFill>
        <p:spPr>
          <a:xfrm>
            <a:off x="7278840" y="3408480"/>
            <a:ext cx="1865160" cy="25351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6516720" y="0"/>
            <a:ext cx="2627280" cy="3105000"/>
          </a:xfrm>
          <a:prstGeom prst="wedgeRoundRectCallout">
            <a:avLst>
              <a:gd name="adj1" fmla="val -6615"/>
              <a:gd name="adj2" fmla="val 7014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单式折线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以分别看出男性（或女性）人口数量的变化情况，但是 男性和女性人口数量的变化情况不容易比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0080" y="693720"/>
            <a:ext cx="3672000" cy="1381320"/>
          </a:xfrm>
          <a:prstGeom prst="wedgeRoundRectCallout">
            <a:avLst>
              <a:gd name="adj1" fmla="val 42388"/>
              <a:gd name="adj2" fmla="val 6612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怎样做才能更方便地比较男、女人口数量的变化情况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-252360" y="2421000"/>
            <a:ext cx="5413320" cy="1654200"/>
          </a:xfrm>
          <a:prstGeom prst="cloudCallout">
            <a:avLst>
              <a:gd name="adj1" fmla="val -15717"/>
              <a:gd name="adj2" fmla="val 90212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以把两个单式折线统计图合并成一个统计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928880" y="3382920"/>
            <a:ext cx="4179960" cy="2292480"/>
          </a:xfrm>
          <a:prstGeom prst="wedgeRoundRectCallout">
            <a:avLst>
              <a:gd name="adj1" fmla="val -50074"/>
              <a:gd name="adj2" fmla="val 622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可以先在一个空白的统计图上画出男性数量的变化情况，再画出女性人口数量的变化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368520" y="981000"/>
            <a:ext cx="4238640" cy="1546200"/>
          </a:xfrm>
          <a:prstGeom prst="wedgeRoundRectCallout">
            <a:avLst>
              <a:gd name="adj1" fmla="val 42171"/>
              <a:gd name="adj2" fmla="val 6716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cc"/>
                </a:solidFill>
                <a:latin typeface="Arial"/>
                <a:ea typeface="楷体_GB2312"/>
              </a:rPr>
              <a:t>怎么才能把两个统计图合并到一起呢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cw25"/>
          <p:cNvPicPr/>
          <p:nvPr/>
        </p:nvPicPr>
        <p:blipFill>
          <a:blip r:embed="rId1"/>
          <a:stretch/>
        </p:blipFill>
        <p:spPr>
          <a:xfrm>
            <a:off x="352440" y="4541760"/>
            <a:ext cx="1895400" cy="218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w29"/>
          <p:cNvPicPr/>
          <p:nvPr/>
        </p:nvPicPr>
        <p:blipFill>
          <a:blip r:embed="rId2"/>
          <a:stretch/>
        </p:blipFill>
        <p:spPr>
          <a:xfrm>
            <a:off x="6735600" y="2436840"/>
            <a:ext cx="1865520" cy="2535120"/>
          </a:xfrm>
          <a:prstGeom prst="rect">
            <a:avLst/>
          </a:prstGeom>
          <a:ln w="0">
            <a:noFill/>
          </a:ln>
        </p:spPr>
      </p:pic>
      <p:sp>
        <p:nvSpPr>
          <p:cNvPr id="9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82"/>
          <p:cNvSpPr/>
          <p:nvPr/>
        </p:nvSpPr>
        <p:spPr>
          <a:xfrm>
            <a:off x="901800" y="1494000"/>
            <a:ext cx="4136760" cy="1166760"/>
          </a:xfrm>
          <a:prstGeom prst="wedgeRectCallout">
            <a:avLst>
              <a:gd name="adj1" fmla="val -43666"/>
              <a:gd name="adj2" fmla="val 114523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了让大家一看见这幅统计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就明白其中的含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给统计图加上标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83"/>
          <p:cNvSpPr/>
          <p:nvPr/>
        </p:nvSpPr>
        <p:spPr>
          <a:xfrm>
            <a:off x="5076720" y="0"/>
            <a:ext cx="3816360" cy="1393920"/>
          </a:xfrm>
          <a:prstGeom prst="wedgeRoundRectCallout">
            <a:avLst>
              <a:gd name="adj1" fmla="val 21587"/>
              <a:gd name="adj2" fmla="val 10819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不同的颜色来代表不同性别人口变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图上指明什么颜色表示什么性别人口变化情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2292"/>
          <p:cNvSpPr/>
          <p:nvPr/>
        </p:nvSpPr>
        <p:spPr>
          <a:xfrm>
            <a:off x="7451640" y="4076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月制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50" descr="cw29"/>
          <p:cNvPicPr/>
          <p:nvPr/>
        </p:nvPicPr>
        <p:blipFill>
          <a:blip r:embed="rId1"/>
          <a:stretch/>
        </p:blipFill>
        <p:spPr>
          <a:xfrm>
            <a:off x="7093080" y="1557360"/>
            <a:ext cx="1865160" cy="2535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294" descr="5"/>
          <p:cNvPicPr/>
          <p:nvPr/>
        </p:nvPicPr>
        <p:blipFill>
          <a:blip r:embed="rId2"/>
          <a:stretch/>
        </p:blipFill>
        <p:spPr>
          <a:xfrm>
            <a:off x="1260360" y="3286080"/>
            <a:ext cx="6294600" cy="298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9" descr="cw25"/>
          <p:cNvPicPr/>
          <p:nvPr/>
        </p:nvPicPr>
        <p:blipFill>
          <a:blip r:embed="rId3"/>
          <a:stretch/>
        </p:blipFill>
        <p:spPr>
          <a:xfrm>
            <a:off x="-181080" y="2565360"/>
            <a:ext cx="1895760" cy="218772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12296"/>
          <p:cNvGrpSpPr/>
          <p:nvPr/>
        </p:nvGrpSpPr>
        <p:grpSpPr>
          <a:xfrm>
            <a:off x="7380360" y="4508640"/>
            <a:ext cx="1439640" cy="1008000"/>
            <a:chOff x="7380360" y="4508640"/>
            <a:chExt cx="1439640" cy="1008000"/>
          </a:xfrm>
        </p:grpSpPr>
        <p:sp>
          <p:nvSpPr>
            <p:cNvPr id="100" name="矩形 12297"/>
            <p:cNvSpPr/>
            <p:nvPr/>
          </p:nvSpPr>
          <p:spPr>
            <a:xfrm>
              <a:off x="7380360" y="4508640"/>
              <a:ext cx="143964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12298"/>
            <p:cNvGrpSpPr/>
            <p:nvPr/>
          </p:nvGrpSpPr>
          <p:grpSpPr>
            <a:xfrm>
              <a:off x="7667280" y="4797720"/>
              <a:ext cx="649080" cy="71280"/>
              <a:chOff x="7667280" y="4797720"/>
              <a:chExt cx="649080" cy="71280"/>
            </a:xfrm>
          </p:grpSpPr>
          <p:sp>
            <p:nvSpPr>
              <p:cNvPr id="102" name="直接连接符 12299"/>
              <p:cNvSpPr/>
              <p:nvPr/>
            </p:nvSpPr>
            <p:spPr>
              <a:xfrm>
                <a:off x="7667280" y="4869000"/>
                <a:ext cx="649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12300"/>
              <p:cNvSpPr/>
              <p:nvPr/>
            </p:nvSpPr>
            <p:spPr>
              <a:xfrm>
                <a:off x="7956000" y="4797720"/>
                <a:ext cx="7092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12301"/>
            <p:cNvGrpSpPr/>
            <p:nvPr/>
          </p:nvGrpSpPr>
          <p:grpSpPr>
            <a:xfrm>
              <a:off x="7667280" y="5229360"/>
              <a:ext cx="649080" cy="71280"/>
              <a:chOff x="7667280" y="5229360"/>
              <a:chExt cx="649080" cy="71280"/>
            </a:xfrm>
          </p:grpSpPr>
          <p:sp>
            <p:nvSpPr>
              <p:cNvPr id="105" name="直接连接符 12302"/>
              <p:cNvSpPr/>
              <p:nvPr/>
            </p:nvSpPr>
            <p:spPr>
              <a:xfrm>
                <a:off x="7667280" y="5300640"/>
                <a:ext cx="64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12303"/>
              <p:cNvSpPr/>
              <p:nvPr/>
            </p:nvSpPr>
            <p:spPr>
              <a:xfrm>
                <a:off x="7956000" y="5229360"/>
                <a:ext cx="7092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文本框 12304"/>
            <p:cNvSpPr/>
            <p:nvPr/>
          </p:nvSpPr>
          <p:spPr>
            <a:xfrm>
              <a:off x="8243640" y="508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男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2305"/>
            <p:cNvSpPr/>
            <p:nvPr/>
          </p:nvSpPr>
          <p:spPr>
            <a:xfrm>
              <a:off x="8243640" y="4653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女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直线连接符 21"/>
          <p:cNvSpPr/>
          <p:nvPr/>
        </p:nvSpPr>
        <p:spPr>
          <a:xfrm flipV="1">
            <a:off x="10944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同侧圆角矩形 4"/>
          <p:cNvSpPr/>
          <p:nvPr/>
        </p:nvSpPr>
        <p:spPr>
          <a:xfrm>
            <a:off x="108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3313" descr="5"/>
          <p:cNvPicPr/>
          <p:nvPr/>
        </p:nvPicPr>
        <p:blipFill>
          <a:blip r:embed="rId1"/>
          <a:stretch/>
        </p:blipFill>
        <p:spPr>
          <a:xfrm>
            <a:off x="1476360" y="3141720"/>
            <a:ext cx="6294600" cy="2989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315"/>
          <p:cNvSpPr/>
          <p:nvPr/>
        </p:nvSpPr>
        <p:spPr>
          <a:xfrm>
            <a:off x="7451640" y="4076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月制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竖卷形 13316"/>
          <p:cNvSpPr/>
          <p:nvPr/>
        </p:nvSpPr>
        <p:spPr>
          <a:xfrm>
            <a:off x="179280" y="4005360"/>
            <a:ext cx="971640" cy="2520720"/>
          </a:xfrm>
          <a:prstGeom prst="vertic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7"/>
          <p:cNvSpPr/>
          <p:nvPr/>
        </p:nvSpPr>
        <p:spPr>
          <a:xfrm>
            <a:off x="468360" y="429264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复式折线统计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cw6"/>
          <p:cNvPicPr/>
          <p:nvPr/>
        </p:nvPicPr>
        <p:blipFill>
          <a:blip r:embed="rId2"/>
          <a:stretch/>
        </p:blipFill>
        <p:spPr>
          <a:xfrm>
            <a:off x="6688080" y="1197000"/>
            <a:ext cx="2455920" cy="27511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2063880" y="765000"/>
            <a:ext cx="6122880" cy="1009800"/>
          </a:xfrm>
          <a:prstGeom prst="cloudCallout">
            <a:avLst>
              <a:gd name="adj1" fmla="val 38805"/>
              <a:gd name="adj2" fmla="val 88699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刚才制作的统计图是复式折线统计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图中必须有标题和图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20"/>
          <p:cNvSpPr/>
          <p:nvPr/>
        </p:nvSpPr>
        <p:spPr>
          <a:xfrm>
            <a:off x="8388360" y="59500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图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321"/>
          <p:cNvSpPr/>
          <p:nvPr/>
        </p:nvSpPr>
        <p:spPr>
          <a:xfrm>
            <a:off x="7380360" y="4508640"/>
            <a:ext cx="1439640" cy="100800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3322"/>
          <p:cNvGrpSpPr/>
          <p:nvPr/>
        </p:nvGrpSpPr>
        <p:grpSpPr>
          <a:xfrm>
            <a:off x="7667640" y="4797360"/>
            <a:ext cx="649440" cy="71280"/>
            <a:chOff x="7667640" y="4797360"/>
            <a:chExt cx="649440" cy="71280"/>
          </a:xfrm>
        </p:grpSpPr>
        <p:sp>
          <p:nvSpPr>
            <p:cNvPr id="121" name="直接连接符 13323"/>
            <p:cNvSpPr/>
            <p:nvPr/>
          </p:nvSpPr>
          <p:spPr>
            <a:xfrm>
              <a:off x="7667640" y="4868640"/>
              <a:ext cx="649440" cy="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3324"/>
            <p:cNvSpPr/>
            <p:nvPr/>
          </p:nvSpPr>
          <p:spPr>
            <a:xfrm>
              <a:off x="7956720" y="47973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3325"/>
          <p:cNvGrpSpPr/>
          <p:nvPr/>
        </p:nvGrpSpPr>
        <p:grpSpPr>
          <a:xfrm>
            <a:off x="7667640" y="5229360"/>
            <a:ext cx="649440" cy="71280"/>
            <a:chOff x="7667640" y="5229360"/>
            <a:chExt cx="649440" cy="71280"/>
          </a:xfrm>
        </p:grpSpPr>
        <p:sp>
          <p:nvSpPr>
            <p:cNvPr id="124" name="直接连接符 13326"/>
            <p:cNvSpPr/>
            <p:nvPr/>
          </p:nvSpPr>
          <p:spPr>
            <a:xfrm>
              <a:off x="7667640" y="5300640"/>
              <a:ext cx="649440" cy="0"/>
            </a:xfrm>
            <a:prstGeom prst="line">
              <a:avLst/>
            </a:prstGeom>
            <a:ln w="1908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3327"/>
            <p:cNvSpPr/>
            <p:nvPr/>
          </p:nvSpPr>
          <p:spPr>
            <a:xfrm>
              <a:off x="7956720" y="522936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13328"/>
          <p:cNvSpPr/>
          <p:nvPr/>
        </p:nvSpPr>
        <p:spPr>
          <a:xfrm>
            <a:off x="8244000" y="50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3329"/>
          <p:cNvSpPr/>
          <p:nvPr/>
        </p:nvSpPr>
        <p:spPr>
          <a:xfrm>
            <a:off x="8244000" y="465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标注 13330"/>
          <p:cNvSpPr/>
          <p:nvPr/>
        </p:nvSpPr>
        <p:spPr>
          <a:xfrm>
            <a:off x="7380360" y="4510080"/>
            <a:ext cx="1439640" cy="1008000"/>
          </a:xfrm>
          <a:prstGeom prst="wedgeRectCallout">
            <a:avLst>
              <a:gd name="adj1" fmla="val 43717"/>
              <a:gd name="adj2" fmla="val 83069"/>
            </a:avLst>
          </a:prstGeom>
          <a:noFill/>
          <a:ln w="381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3331"/>
          <p:cNvSpPr/>
          <p:nvPr/>
        </p:nvSpPr>
        <p:spPr>
          <a:xfrm>
            <a:off x="140328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形标注 13332"/>
          <p:cNvSpPr/>
          <p:nvPr/>
        </p:nvSpPr>
        <p:spPr>
          <a:xfrm>
            <a:off x="1547640" y="2854440"/>
            <a:ext cx="5329440" cy="1006200"/>
          </a:xfrm>
          <a:prstGeom prst="wedgeEllipseCallout">
            <a:avLst>
              <a:gd name="adj1" fmla="val -45620"/>
              <a:gd name="adj2" fmla="val -60393"/>
            </a:avLst>
          </a:prstGeom>
          <a:noFill/>
          <a:ln w="381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252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同侧圆角矩形 4"/>
          <p:cNvSpPr/>
          <p:nvPr/>
        </p:nvSpPr>
        <p:spPr>
          <a:xfrm>
            <a:off x="252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1:15:04Z</dcterms:created>
  <dc:creator/>
  <dc:description/>
  <dc:language>en-US</dc:language>
  <cp:lastModifiedBy>Administrator</cp:lastModifiedBy>
  <dcterms:modified xsi:type="dcterms:W3CDTF">2016-06-02T06:09:00Z</dcterms:modified>
  <cp:revision>1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