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442-9AF7-46C5-8CDE-9A11F5A5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BC3-5EF9-4137-A8EC-E19DFA84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583-E0FC-4188-83F8-6B2E9CA8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795-4EFD-4F65-8D5A-A443AC8F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963-3E98-419E-BC80-77F8803C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28F-E56F-4724-9771-16AF621C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B66-95DD-4DA6-AEC3-1AA458A9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B59-23FB-46D0-A4AF-D82EFA9C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165-8550-46C9-BC93-97E500C6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0A8-94E3-4703-B188-14445CC9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866-E6CD-42E5-84AE-407D1BBB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D83-9BB4-482E-8B7B-19780016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B313-6394-47E2-A17F-83B20682C0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9720" y="6126120"/>
            <a:ext cx="472428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　方程（第五课时）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057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列方程解决稍复杂的相遇问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528480"/>
            <a:ext cx="8686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甲、乙两艘轮船沿同一航线同时从上海开往青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经过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小时后，甲船落在乙船后面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57.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千米。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船平均每小时行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32.5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千米，乙船平均每小时行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7120" y="4367160"/>
            <a:ext cx="6781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乙船平均每小时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8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7.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2.5×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答：乙船每小时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5.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1371600" cy="930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30080" y="3554280"/>
            <a:ext cx="129564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8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63264 -1.11111E-006 E">
                                      <p:cBhvr>
                                        <p:cTn id="69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05520" y="-903240"/>
            <a:ext cx="4300560" cy="3456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43000" y="3124080"/>
            <a:ext cx="6705720" cy="11764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90520" y="33955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今天的学习，大家有什么收获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8840" y="457200"/>
            <a:ext cx="581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甲乙两列火车分别同时从北京和上海开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相向而行。甲车每小时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2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千米，乙车每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8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千米，经过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小时相遇。北京到上海的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是多少千米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0360" y="2286000"/>
            <a:ext cx="2590920" cy="36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07400" y="2244600"/>
            <a:ext cx="2057400" cy="44136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143000" y="2819520"/>
            <a:ext cx="6629400" cy="91800"/>
            <a:chOff x="1143000" y="2819520"/>
            <a:chExt cx="6629400" cy="91800"/>
          </a:xfrm>
        </p:grpSpPr>
        <p:sp>
          <p:nvSpPr>
            <p:cNvPr id="47" name=""/>
            <p:cNvSpPr/>
            <p:nvPr/>
          </p:nvSpPr>
          <p:spPr>
            <a:xfrm>
              <a:off x="1143000" y="2909160"/>
              <a:ext cx="6629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43000" y="2819520"/>
              <a:ext cx="0" cy="9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43680" y="2819520"/>
              <a:ext cx="0" cy="9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72400" y="2819520"/>
              <a:ext cx="0" cy="9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 rot="16200000">
            <a:off x="4340880" y="-197640"/>
            <a:ext cx="228600" cy="6567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1000 h 6567480"/>
              <a:gd name="textAreaBottom" fmla="*/ 6396480 h 656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10200" y="327672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？千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3880" y="27194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北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72480" y="27194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上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581280"/>
            <a:ext cx="7619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方法一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用两车的速度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相遇时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2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×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46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7080" y="487692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方法二：把两车相遇时各走的路程相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22 ×7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7 ×7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46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L 0.26511 -2.22222E-006 E">
                                      <p:cBhvr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40741E-007 L -0.20382 -7.40741E-007 E">
                                      <p:cBhvr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13520" y="1206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乙两列火车分别同时从北京和上海开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相向而行。经过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小时相遇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甲车平均每小时行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少千米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07400" y="1873080"/>
            <a:ext cx="2057400" cy="4413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143000" y="2558880"/>
            <a:ext cx="6629400" cy="92160"/>
            <a:chOff x="1143000" y="2558880"/>
            <a:chExt cx="6629400" cy="92160"/>
          </a:xfrm>
        </p:grpSpPr>
        <p:sp>
          <p:nvSpPr>
            <p:cNvPr id="60" name=""/>
            <p:cNvSpPr/>
            <p:nvPr/>
          </p:nvSpPr>
          <p:spPr>
            <a:xfrm>
              <a:off x="1143000" y="2648880"/>
              <a:ext cx="6629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3000" y="2558880"/>
              <a:ext cx="0" cy="92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43680" y="2558880"/>
              <a:ext cx="0" cy="92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2400" y="2558880"/>
              <a:ext cx="0" cy="92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 rot="16200000">
            <a:off x="4340880" y="-457920"/>
            <a:ext cx="228600" cy="6567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1000 h 6567480"/>
              <a:gd name="textAreaBottom" fmla="*/ 6396480 h 656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038480" y="3016080"/>
            <a:ext cx="857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463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千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3880" y="245916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北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872480" y="245916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上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68" name=""/>
          <p:cNvSpPr/>
          <p:nvPr/>
        </p:nvSpPr>
        <p:spPr>
          <a:xfrm>
            <a:off x="231840" y="19242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9480" y="1568520"/>
            <a:ext cx="1143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每小时行？千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391520" y="1339920"/>
            <a:ext cx="1218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每小时行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87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千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162560" y="172080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4003560"/>
            <a:ext cx="1457280" cy="1935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2917800"/>
            <a:ext cx="3429000" cy="838080"/>
          </a:xfrm>
          <a:prstGeom prst="wedgeRoundRectCallout">
            <a:avLst>
              <a:gd name="adj1" fmla="val -30740"/>
              <a:gd name="adj2" fmla="val 7916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找出等量关系，再试着列方程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3360" y="2101680"/>
            <a:ext cx="2590920" cy="3621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7391520" y="3622680"/>
            <a:ext cx="1561680" cy="2238120"/>
            <a:chOff x="7391520" y="3622680"/>
            <a:chExt cx="1561680" cy="2238120"/>
          </a:xfrm>
        </p:grpSpPr>
        <p:sp>
          <p:nvSpPr>
            <p:cNvPr id="76" name=""/>
            <p:cNvSpPr/>
            <p:nvPr/>
          </p:nvSpPr>
          <p:spPr>
            <a:xfrm>
              <a:off x="7797600" y="4080600"/>
              <a:ext cx="610200" cy="29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7391520" y="3622680"/>
              <a:ext cx="1561680" cy="22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5149800" y="2905200"/>
            <a:ext cx="3352680" cy="457200"/>
          </a:xfrm>
          <a:prstGeom prst="wedgeRoundRectCallout">
            <a:avLst>
              <a:gd name="adj1" fmla="val 35180"/>
              <a:gd name="adj2" fmla="val 103125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我找的等量关系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564516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甲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时行的路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乙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时行的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46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13520" y="15228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乙两列火车分别同时从北京和上海开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相向而行。经过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小时相遇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甲车平均每小时行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少千米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0360" y="2057400"/>
            <a:ext cx="2590920" cy="36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007400" y="2000160"/>
            <a:ext cx="2057400" cy="44136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143000" y="2590920"/>
            <a:ext cx="6629400" cy="91800"/>
            <a:chOff x="1143000" y="2590920"/>
            <a:chExt cx="6629400" cy="91800"/>
          </a:xfrm>
        </p:grpSpPr>
        <p:sp>
          <p:nvSpPr>
            <p:cNvPr id="84" name=""/>
            <p:cNvSpPr/>
            <p:nvPr/>
          </p:nvSpPr>
          <p:spPr>
            <a:xfrm>
              <a:off x="1143000" y="2680560"/>
              <a:ext cx="6629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3000" y="2590920"/>
              <a:ext cx="0" cy="9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43680" y="2590920"/>
              <a:ext cx="0" cy="9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2400" y="2590920"/>
              <a:ext cx="0" cy="9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 rot="16200000">
            <a:off x="4340880" y="-426240"/>
            <a:ext cx="228600" cy="6567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1000 h 6567480"/>
              <a:gd name="textAreaBottom" fmla="*/ 6396480 h 656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3048120"/>
            <a:ext cx="857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463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千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3880" y="24908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北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872480" y="24908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上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2" name=""/>
          <p:cNvSpPr/>
          <p:nvPr/>
        </p:nvSpPr>
        <p:spPr>
          <a:xfrm>
            <a:off x="231840" y="195588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3239280"/>
            <a:ext cx="6476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设甲车平均每小时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7×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4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0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4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46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÷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答：甲车平均每小时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2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千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600200"/>
            <a:ext cx="1143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每小时行？千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391520" y="1498680"/>
            <a:ext cx="1218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每小时行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87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千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162560" y="189540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0.26511 1.11111E-006 E">
                                      <p:cBhvr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20382 -2.59259E-006 E">
                                      <p:cBhvr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13520" y="15228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乙两列火车分别同时从北京和上海开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相向而行。经过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小时相遇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甲车平均每小时行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少千米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0360" y="2057400"/>
            <a:ext cx="2590920" cy="361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007400" y="1905120"/>
            <a:ext cx="2057400" cy="44136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143000" y="2590920"/>
            <a:ext cx="6629400" cy="91800"/>
            <a:chOff x="1143000" y="2590920"/>
            <a:chExt cx="6629400" cy="91800"/>
          </a:xfrm>
        </p:grpSpPr>
        <p:sp>
          <p:nvSpPr>
            <p:cNvPr id="101" name=""/>
            <p:cNvSpPr/>
            <p:nvPr/>
          </p:nvSpPr>
          <p:spPr>
            <a:xfrm>
              <a:off x="1143000" y="2680560"/>
              <a:ext cx="6629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43000" y="2590920"/>
              <a:ext cx="0" cy="9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43680" y="2590920"/>
              <a:ext cx="0" cy="9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2400" y="2590920"/>
              <a:ext cx="0" cy="9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rot="16200000">
            <a:off x="4340880" y="-426240"/>
            <a:ext cx="228600" cy="6567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1000 h 6567480"/>
              <a:gd name="textAreaBottom" fmla="*/ 6396480 h 656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38480" y="3048120"/>
            <a:ext cx="857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463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千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3880" y="24908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北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72480" y="24908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上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9" name=""/>
          <p:cNvSpPr/>
          <p:nvPr/>
        </p:nvSpPr>
        <p:spPr>
          <a:xfrm>
            <a:off x="231840" y="195588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1000" y="3582000"/>
            <a:ext cx="6477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设甲车平均每小时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46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7×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46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÷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答：甲车平均每小时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2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600200"/>
            <a:ext cx="1143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每小时行？千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391520" y="1371600"/>
            <a:ext cx="1218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每小时行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87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千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162560" y="175248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4920" y="4419720"/>
            <a:ext cx="1012320" cy="2050920"/>
            <a:chOff x="304920" y="4419720"/>
            <a:chExt cx="1012320" cy="2050920"/>
          </a:xfrm>
        </p:grpSpPr>
        <p:sp>
          <p:nvSpPr>
            <p:cNvPr id="115" name=""/>
            <p:cNvSpPr/>
            <p:nvPr/>
          </p:nvSpPr>
          <p:spPr>
            <a:xfrm flipH="1">
              <a:off x="574560" y="4848120"/>
              <a:ext cx="52524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 flipH="1">
              <a:off x="304920" y="4419720"/>
              <a:ext cx="1012320" cy="20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380880" y="2971800"/>
            <a:ext cx="3353040" cy="533520"/>
          </a:xfrm>
          <a:prstGeom prst="wedgeRoundRectCallout">
            <a:avLst>
              <a:gd name="adj1" fmla="val -37592"/>
              <a:gd name="adj2" fmla="val 174402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我找的等量关系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835760" y="4800600"/>
            <a:ext cx="1123920" cy="2057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77120" y="2895480"/>
            <a:ext cx="2438280" cy="838440"/>
          </a:xfrm>
          <a:prstGeom prst="wedgeRoundRectCallout">
            <a:avLst>
              <a:gd name="adj1" fmla="val 30861"/>
              <a:gd name="adj2" fmla="val 14924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还能找到其他等量关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267440" cy="182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24192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56744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甲、乙两个工程队同时从两端开凿一条隧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计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天完成。甲队计划每天完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米，乙队每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需要完成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3719520"/>
            <a:ext cx="655308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设乙队每天需要完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7×3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32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32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48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56÷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乙队每天需要完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20600" y="222120"/>
            <a:ext cx="1980720" cy="1162080"/>
            <a:chOff x="120600" y="222120"/>
            <a:chExt cx="1980720" cy="1162080"/>
          </a:xfrm>
        </p:grpSpPr>
        <p:sp>
          <p:nvSpPr>
            <p:cNvPr id="125" name=""/>
            <p:cNvSpPr/>
            <p:nvPr/>
          </p:nvSpPr>
          <p:spPr>
            <a:xfrm>
              <a:off x="433800" y="741600"/>
              <a:ext cx="1667520" cy="6426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一练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20600" y="222120"/>
              <a:ext cx="853560" cy="113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473040" y="14475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每袋大米重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千克，每袋面粉重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25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千克。这辆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上已装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48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袋大米，还能装多少袋面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34120" y="2514600"/>
            <a:ext cx="3235320" cy="1622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410080" y="3276720"/>
            <a:ext cx="1295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载重：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3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 rot="755400">
            <a:off x="5334120" y="2819520"/>
            <a:ext cx="612720" cy="42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 rot="755400">
            <a:off x="5715000" y="2819520"/>
            <a:ext cx="612720" cy="423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 rot="755400">
            <a:off x="5943600" y="2819520"/>
            <a:ext cx="612720" cy="42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 rot="755400">
            <a:off x="6172200" y="2819520"/>
            <a:ext cx="612720" cy="423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 rot="755400">
            <a:off x="5438880" y="2577960"/>
            <a:ext cx="612720" cy="42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 rot="755400">
            <a:off x="5743440" y="2577960"/>
            <a:ext cx="613080" cy="42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 rot="755400">
            <a:off x="5972040" y="2577960"/>
            <a:ext cx="613080" cy="4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 rot="755400">
            <a:off x="6200640" y="2577960"/>
            <a:ext cx="613080" cy="424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14400" y="2379600"/>
            <a:ext cx="5715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设还能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袋面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吨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50×4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5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5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00÷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还能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袋面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432160" y="257040"/>
            <a:ext cx="4146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张村和李村合修一条道路，他们各从本村一端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同时施工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天完成。完工时，张村比李村多修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米。张村平均每天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米，李村平均每天修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2960" y="1701720"/>
            <a:ext cx="7010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设李村平均每天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6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75×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6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2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120÷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李村平均每天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760" y="172944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2x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29                13×7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4x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1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9x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2.5                 3x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0.9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0.6×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838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3.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解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6240" y="2247840"/>
            <a:ext cx="2997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2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2263680"/>
            <a:ext cx="2997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2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6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4656240"/>
            <a:ext cx="2997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.5÷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32240" y="4656240"/>
            <a:ext cx="314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0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.3÷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</cp:lastModifiedBy>
  <dcterms:modified xsi:type="dcterms:W3CDTF">2014-03-06T17:27:4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