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3.jpeg" ContentType="image/jpeg"/>
  <Override PartName="/ppt/media/image2.jpeg" ContentType="image/jpeg"/>
  <Override PartName="/ppt/media/image19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D86-D920-41FF-B0B8-9F04DA9E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39B-9F1B-43B8-B4D5-E197D02D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2FF-C751-4B42-8082-4F824662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43A-221E-457F-8D92-14ADFABE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581-B68E-492B-A52B-136A94CF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B98-5EEA-49D3-A197-1BE259C1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B30-385F-4781-AFF8-8AE8AC78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0EE-9B93-4C76-A0CC-4199D917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BA2-203D-42CC-A2C0-32808974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74E-512F-4718-84C0-E5B3325E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C6E-CDAA-46BC-A43E-FDBBA675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B89-EE32-4C4C-88CA-B292B4BD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25AE-A543-4211-BBF3-780DF9D430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9720" y="6126120"/>
            <a:ext cx="472428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　方程（第三课时）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440" y="2089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列方程解一步计算的应用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05520" y="-903240"/>
            <a:ext cx="4300560" cy="345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43000" y="3124080"/>
            <a:ext cx="6705720" cy="11764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90520" y="33955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今天的学习，大家有什么收获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7120" y="-568440"/>
            <a:ext cx="3352680" cy="270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3280" y="415800"/>
            <a:ext cx="51051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efed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图列方程，并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0388400">
            <a:off x="457200" y="228240"/>
            <a:ext cx="696960" cy="87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066680" y="1219320"/>
            <a:ext cx="2428920" cy="145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581280" y="1295280"/>
            <a:ext cx="1702080" cy="185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752480" y="2666880"/>
            <a:ext cx="533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58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91120" y="2635200"/>
            <a:ext cx="533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772040" y="2743200"/>
            <a:ext cx="1035000" cy="1736640"/>
            <a:chOff x="7772040" y="2743200"/>
            <a:chExt cx="1035000" cy="1736640"/>
          </a:xfrm>
        </p:grpSpPr>
        <p:grpSp>
          <p:nvGrpSpPr>
            <p:cNvPr id="51" name=""/>
            <p:cNvGrpSpPr/>
            <p:nvPr/>
          </p:nvGrpSpPr>
          <p:grpSpPr>
            <a:xfrm>
              <a:off x="7907760" y="2860920"/>
              <a:ext cx="337320" cy="380160"/>
              <a:chOff x="7907760" y="2860920"/>
              <a:chExt cx="337320" cy="380160"/>
            </a:xfrm>
          </p:grpSpPr>
          <p:sp>
            <p:nvSpPr>
              <p:cNvPr id="52" name=""/>
              <p:cNvSpPr/>
              <p:nvPr/>
            </p:nvSpPr>
            <p:spPr>
              <a:xfrm flipH="1" rot="20305800">
                <a:off x="7926840" y="2895120"/>
                <a:ext cx="215280" cy="14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20305800">
                <a:off x="8010720" y="3061800"/>
                <a:ext cx="215280" cy="14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 flipH="1">
              <a:off x="7772040" y="2743200"/>
              <a:ext cx="1035000" cy="173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 rot="16200000">
            <a:off x="3085920" y="195192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95480" y="3276720"/>
            <a:ext cx="5335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92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7" name=""/>
          <p:cNvSpPr/>
          <p:nvPr/>
        </p:nvSpPr>
        <p:spPr>
          <a:xfrm>
            <a:off x="5451480" y="1463760"/>
            <a:ext cx="3352680" cy="609480"/>
          </a:xfrm>
          <a:prstGeom prst="wedgeRoundRectCallout">
            <a:avLst>
              <a:gd name="adj1" fmla="val 26467"/>
              <a:gd name="adj2" fmla="val 1638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条裤子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73392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9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x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53040" y="4648320"/>
            <a:ext cx="1400040" cy="1209600"/>
            <a:chOff x="5153040" y="4648320"/>
            <a:chExt cx="1400040" cy="1209600"/>
          </a:xfrm>
        </p:grpSpPr>
        <p:sp>
          <p:nvSpPr>
            <p:cNvPr id="60" name=""/>
            <p:cNvSpPr/>
            <p:nvPr/>
          </p:nvSpPr>
          <p:spPr>
            <a:xfrm>
              <a:off x="5657760" y="5335920"/>
              <a:ext cx="42876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153040" y="4648320"/>
              <a:ext cx="1400040" cy="1209600"/>
              <a:chOff x="5153040" y="4648320"/>
              <a:chExt cx="1400040" cy="1209600"/>
            </a:xfrm>
          </p:grpSpPr>
          <p:sp>
            <p:nvSpPr>
              <p:cNvPr id="62" name=""/>
              <p:cNvSpPr/>
              <p:nvPr/>
            </p:nvSpPr>
            <p:spPr>
              <a:xfrm>
                <a:off x="5483160" y="4710240"/>
                <a:ext cx="253800" cy="2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972040" y="4710240"/>
                <a:ext cx="254160" cy="2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3040" y="4648320"/>
                <a:ext cx="1400040" cy="120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5" name=""/>
          <p:cNvSpPr/>
          <p:nvPr/>
        </p:nvSpPr>
        <p:spPr>
          <a:xfrm>
            <a:off x="4876920" y="3276720"/>
            <a:ext cx="2743200" cy="1066680"/>
          </a:xfrm>
          <a:prstGeom prst="wedgeRoundRectCallout">
            <a:avLst>
              <a:gd name="adj1" fmla="val 3879"/>
              <a:gd name="adj2" fmla="val 82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方程两边为什么都减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0388400">
            <a:off x="1055520" y="574560"/>
            <a:ext cx="696960" cy="87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28800" y="6094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王叔叔是某晚报的记者，他学会用电脑打字后，每分钟可打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个字。你知道王叔叔每分钟手写多少个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2438280"/>
            <a:ext cx="221004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2209680"/>
            <a:ext cx="3886200" cy="1067040"/>
          </a:xfrm>
          <a:prstGeom prst="wedgeRoundRectCallout">
            <a:avLst>
              <a:gd name="adj1" fmla="val -62458"/>
              <a:gd name="adj2" fmla="val 15027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太方便啦！是我以前手写速度的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05320"/>
            <a:ext cx="6477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设王叔叔每分钟手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个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20÷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答：王叔叔每分钟手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个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4781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方程两边都除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152280" y="152280"/>
            <a:ext cx="1967040" cy="1368360"/>
            <a:chOff x="152280" y="152280"/>
            <a:chExt cx="1967040" cy="1368360"/>
          </a:xfrm>
        </p:grpSpPr>
        <p:sp>
          <p:nvSpPr>
            <p:cNvPr id="73" name=""/>
            <p:cNvSpPr/>
            <p:nvPr/>
          </p:nvSpPr>
          <p:spPr>
            <a:xfrm>
              <a:off x="463320" y="776160"/>
              <a:ext cx="1656000" cy="6426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一练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84780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2743200" y="533520"/>
            <a:ext cx="533412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图列方程，并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866600" y="209484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00200" y="3429000"/>
            <a:ext cx="838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38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29200" y="3197160"/>
            <a:ext cx="6858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50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毫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162920" y="320040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毫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210000" y="240912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43600" y="3733920"/>
            <a:ext cx="762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74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毫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267080"/>
            <a:ext cx="2819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38÷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4419720"/>
            <a:ext cx="4191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00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7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74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957240" cy="97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600200" y="1752480"/>
            <a:ext cx="957240" cy="971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705040" y="1752480"/>
            <a:ext cx="957240" cy="971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85800" y="28195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28800" y="28195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71800" y="28195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029200" y="1676520"/>
            <a:ext cx="534960" cy="144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7182000" y="2116080"/>
            <a:ext cx="4172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52280" y="152280"/>
            <a:ext cx="1967040" cy="1368360"/>
            <a:chOff x="152280" y="152280"/>
            <a:chExt cx="1967040" cy="1368360"/>
          </a:xfrm>
        </p:grpSpPr>
        <p:sp>
          <p:nvSpPr>
            <p:cNvPr id="93" name=""/>
            <p:cNvSpPr/>
            <p:nvPr/>
          </p:nvSpPr>
          <p:spPr>
            <a:xfrm>
              <a:off x="463320" y="776160"/>
              <a:ext cx="1656000" cy="6426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一练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84780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2743200" y="533520"/>
            <a:ext cx="533412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图列方程，并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95520" y="3048120"/>
            <a:ext cx="4572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3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543640" y="304812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3984480" y="2049120"/>
            <a:ext cx="352440" cy="2940120"/>
          </a:xfrm>
          <a:custGeom>
            <a:avLst/>
            <a:gdLst>
              <a:gd name="textAreaLeft" fmla="*/ 225360 w 352440"/>
              <a:gd name="textAreaRight" fmla="*/ 352800 w 352440"/>
              <a:gd name="textAreaTop" fmla="*/ 76680 h 2940120"/>
              <a:gd name="textAreaBottom" fmla="*/ 2863440 h 294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67120" y="3809880"/>
            <a:ext cx="500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9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4433760"/>
            <a:ext cx="4190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62000" y="2286000"/>
            <a:ext cx="990720" cy="422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190600" y="2244600"/>
            <a:ext cx="990720" cy="422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114640" y="2473200"/>
            <a:ext cx="990360" cy="422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190600" y="1940040"/>
            <a:ext cx="990720" cy="422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2419200" y="2397240"/>
            <a:ext cx="990720" cy="422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2724120" y="2209680"/>
            <a:ext cx="990720" cy="42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2495520" y="2133720"/>
            <a:ext cx="990720" cy="422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2495520" y="1905120"/>
            <a:ext cx="990720" cy="422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2495520" y="2286000"/>
            <a:ext cx="990720" cy="422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2495520" y="2438280"/>
            <a:ext cx="990720" cy="422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2647800" y="2133720"/>
            <a:ext cx="990720" cy="42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2724120" y="1981080"/>
            <a:ext cx="990720" cy="422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5029200" y="2414520"/>
            <a:ext cx="463680" cy="53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5203800" y="2357280"/>
            <a:ext cx="463680" cy="536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5435640" y="2471760"/>
            <a:ext cx="463680" cy="534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5610240" y="2414520"/>
            <a:ext cx="463680" cy="53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5784840" y="2414520"/>
            <a:ext cx="463680" cy="534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5087880" y="2187720"/>
            <a:ext cx="463680" cy="536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1"/>
          <a:stretch/>
        </p:blipFill>
        <p:spPr>
          <a:xfrm>
            <a:off x="5319720" y="2131920"/>
            <a:ext cx="463680" cy="534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2"/>
          <a:stretch/>
        </p:blipFill>
        <p:spPr>
          <a:xfrm>
            <a:off x="5610240" y="2187720"/>
            <a:ext cx="463680" cy="536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3"/>
          <a:stretch/>
        </p:blipFill>
        <p:spPr>
          <a:xfrm>
            <a:off x="5784840" y="2131920"/>
            <a:ext cx="463680" cy="534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4"/>
          <a:stretch/>
        </p:blipFill>
        <p:spPr>
          <a:xfrm>
            <a:off x="5145120" y="1905120"/>
            <a:ext cx="463680" cy="534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5"/>
          <a:stretch/>
        </p:blipFill>
        <p:spPr>
          <a:xfrm>
            <a:off x="5435640" y="1905120"/>
            <a:ext cx="463680" cy="534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6"/>
          <a:stretch/>
        </p:blipFill>
        <p:spPr>
          <a:xfrm>
            <a:off x="5726160" y="1905120"/>
            <a:ext cx="46368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949400"/>
            <a:ext cx="7010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                5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2                10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066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求下列方程中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的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2514600"/>
            <a:ext cx="2819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2514600"/>
            <a:ext cx="2819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7.5÷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4800600"/>
            <a:ext cx="2819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7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4800600"/>
            <a:ext cx="2819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÷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121932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《学生字典》有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128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页，是《故事书》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数的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倍。这本《故事书》有多少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2743200"/>
            <a:ext cx="5867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解：设《故事书》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28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答：《故事书》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152388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152388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9748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爸爸体重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6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千克，是儿子体重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儿子体重是多少千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2590920"/>
            <a:ext cx="6781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解：设儿子体重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千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69÷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答：儿子体重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千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45720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红红家离学校的距离是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0.3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千米，亮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家离学校的距离是红家离学校距离的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倍。亮亮家离学校有多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2971800"/>
            <a:ext cx="6553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0.32×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.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答：亮亮家离学校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.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谢晓（豆角）</cp:lastModifiedBy>
  <dcterms:modified xsi:type="dcterms:W3CDTF">2014-03-06T17:27:4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