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EE2-CC7F-4F5D-980A-6B4E7E63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386-ABDB-462F-B368-C310A39B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4F9-8DB4-4716-80CC-86577EC2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E18-7FE7-48B4-9A81-83DA86BA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E776-4C8C-4700-A85C-23F88D62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0222-64A7-47D7-81D7-6527169F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631-54FE-464C-A571-C529EEED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D5F7-2A57-4DDA-B520-B58EFAD6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6AE2-38EA-4B0E-8CCB-4186A907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D9F2-3BDD-4144-AD98-D5B4EE5A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C8CD-37A0-4AEF-B230-AD93F064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519-B803-4763-B47B-390695EE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91B8-8D3B-4D2C-B521-A115375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61C6-968B-4081-BB56-868FD09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442E-0CF8-4CE0-9852-097F2960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9A2A-7A1F-424E-BDFD-8EE6B7A7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A1BA-BE90-4A4C-946D-1CDD06C4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492C-005B-4FF8-B898-62E0CFC5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46BE-C96B-40AC-BAF1-01BC29E5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800B-CC1E-4133-AC93-02E955B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1F67-1089-45C9-A6B7-03534952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590A-827F-476C-B770-5016D4A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353-611D-4B79-B8C9-F5832666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80BB-2EA8-4945-A5CC-ADB3F56E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D9C1-B1CD-4FEE-9556-7B218ACC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37AE-3222-42B8-9A9B-B7447FA9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1092-2D42-4FB1-B325-61C376E0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FB08-037D-47CB-A990-D4C3A25A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2D71-C336-4F33-9422-1D7DC32A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6748-42CB-4B88-AA99-A65AF0D3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D99-2475-4947-9D68-00BE728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A2F-EA8B-41D0-8D67-5C677A3C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623-F148-42D4-98EC-F3E358DE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929-017B-44AF-AF36-C4462EFF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2AC-BE74-40B6-A90D-560E2C1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C65-0AB0-45E7-899D-CB9BC038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16D8-078A-4C4D-B294-943BB8B92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E2F9-5EBB-4AF9-852B-9A7FEFBF6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8053-D888-4B03-BC8A-5800F8E99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1</a:t>
            </a: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图形的运动（二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线连接符 21"/>
          <p:cNvSpPr/>
          <p:nvPr/>
        </p:nvSpPr>
        <p:spPr>
          <a:xfrm>
            <a:off x="2700360" y="1989000"/>
            <a:ext cx="4464000" cy="180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3924360" y="3141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.1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轴对称图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14337"/>
          <p:cNvSpPr/>
          <p:nvPr/>
        </p:nvSpPr>
        <p:spPr>
          <a:xfrm>
            <a:off x="612720" y="134136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方格纸上画出下面的图形，剪下来折一折，看看哪些是轴对称图形，画出它们的对称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4338" descr=""/>
          <p:cNvPicPr/>
          <p:nvPr/>
        </p:nvPicPr>
        <p:blipFill>
          <a:blip r:embed="rId1"/>
          <a:stretch/>
        </p:blipFill>
        <p:spPr>
          <a:xfrm>
            <a:off x="1044720" y="2435400"/>
            <a:ext cx="6549840" cy="2815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同侧圆角矩形 1"/>
          <p:cNvGrpSpPr/>
          <p:nvPr/>
        </p:nvGrpSpPr>
        <p:grpSpPr>
          <a:xfrm>
            <a:off x="244440" y="762120"/>
            <a:ext cx="2017800" cy="523800"/>
            <a:chOff x="244440" y="762120"/>
            <a:chExt cx="2017800" cy="523800"/>
          </a:xfrm>
        </p:grpSpPr>
        <p:pic>
          <p:nvPicPr>
            <p:cNvPr id="214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244440" y="762120"/>
              <a:ext cx="2017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77920" y="7905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究新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直线连接符 21"/>
          <p:cNvSpPr/>
          <p:nvPr/>
        </p:nvSpPr>
        <p:spPr>
          <a:xfrm flipV="1">
            <a:off x="252360" y="1341000"/>
            <a:ext cx="2071800" cy="468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5361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056360" cy="35290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同侧圆角矩形 1"/>
          <p:cNvGrpSpPr/>
          <p:nvPr/>
        </p:nvGrpSpPr>
        <p:grpSpPr>
          <a:xfrm>
            <a:off x="463680" y="974880"/>
            <a:ext cx="2011320" cy="529920"/>
            <a:chOff x="463680" y="974880"/>
            <a:chExt cx="2011320" cy="529920"/>
          </a:xfrm>
        </p:grpSpPr>
        <p:pic>
          <p:nvPicPr>
            <p:cNvPr id="220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3680" y="974880"/>
              <a:ext cx="201132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93560" y="100656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究新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6385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2736720" cy="2278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6386"/>
          <p:cNvSpPr/>
          <p:nvPr/>
        </p:nvSpPr>
        <p:spPr>
          <a:xfrm>
            <a:off x="1116000" y="465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上面的图中可以看出，长方形、正方形、等腰三角形、等腰梯形和圆都是轴对称图形。有的轴对称图形不止一条对称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6387"/>
          <p:cNvGrpSpPr/>
          <p:nvPr/>
        </p:nvGrpSpPr>
        <p:grpSpPr>
          <a:xfrm>
            <a:off x="4211640" y="1484280"/>
            <a:ext cx="3384720" cy="2727360"/>
            <a:chOff x="4211640" y="1484280"/>
            <a:chExt cx="3384720" cy="2727360"/>
          </a:xfrm>
        </p:grpSpPr>
        <p:pic>
          <p:nvPicPr>
            <p:cNvPr id="226" name="图片 16388" descr=""/>
            <p:cNvPicPr/>
            <p:nvPr/>
          </p:nvPicPr>
          <p:blipFill>
            <a:blip r:embed="rId2"/>
            <a:stretch/>
          </p:blipFill>
          <p:spPr>
            <a:xfrm>
              <a:off x="4211640" y="1484280"/>
              <a:ext cx="33847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直接连接符 16389"/>
            <p:cNvSpPr/>
            <p:nvPr/>
          </p:nvSpPr>
          <p:spPr>
            <a:xfrm flipV="1">
              <a:off x="6516720" y="1771560"/>
              <a:ext cx="934920" cy="936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16390"/>
            <p:cNvSpPr/>
            <p:nvPr/>
          </p:nvSpPr>
          <p:spPr>
            <a:xfrm>
              <a:off x="6516720" y="1771560"/>
              <a:ext cx="934920" cy="936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16391"/>
          <p:cNvSpPr/>
          <p:nvPr/>
        </p:nvSpPr>
        <p:spPr>
          <a:xfrm>
            <a:off x="1619280" y="1341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不是轴对称图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6392"/>
          <p:cNvSpPr/>
          <p:nvPr/>
        </p:nvSpPr>
        <p:spPr>
          <a:xfrm>
            <a:off x="4788000" y="9079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是轴对称图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6393"/>
          <p:cNvSpPr/>
          <p:nvPr/>
        </p:nvSpPr>
        <p:spPr>
          <a:xfrm>
            <a:off x="7785000" y="220500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ff"/>
                </a:solidFill>
                <a:latin typeface="Arial"/>
              </a:rPr>
              <a:t>圆有无数条对称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6394"/>
          <p:cNvSpPr/>
          <p:nvPr/>
        </p:nvSpPr>
        <p:spPr>
          <a:xfrm flipV="1">
            <a:off x="7093080" y="2924280"/>
            <a:ext cx="790560" cy="576000"/>
          </a:xfrm>
          <a:prstGeom prst="line">
            <a:avLst/>
          </a:prstGeom>
          <a:ln cap="sq" w="12600">
            <a:solidFill>
              <a:srgbClr val="ff0000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同侧圆角矩形 1"/>
          <p:cNvGrpSpPr/>
          <p:nvPr/>
        </p:nvGrpSpPr>
        <p:grpSpPr>
          <a:xfrm>
            <a:off x="171360" y="762120"/>
            <a:ext cx="2017800" cy="523800"/>
            <a:chOff x="171360" y="762120"/>
            <a:chExt cx="2017800" cy="523800"/>
          </a:xfrm>
        </p:grpSpPr>
        <p:pic>
          <p:nvPicPr>
            <p:cNvPr id="235" name="同侧圆角矩形 1" descr=""/>
            <p:cNvPicPr/>
            <p:nvPr/>
          </p:nvPicPr>
          <p:blipFill>
            <a:blip r:embed="rId3"/>
            <a:stretch/>
          </p:blipFill>
          <p:spPr>
            <a:xfrm>
              <a:off x="171360" y="762120"/>
              <a:ext cx="2017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04840" y="790560"/>
              <a:ext cx="19508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究新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直线连接符 21"/>
          <p:cNvSpPr/>
          <p:nvPr/>
        </p:nvSpPr>
        <p:spPr>
          <a:xfrm flipV="1">
            <a:off x="108000" y="1341000"/>
            <a:ext cx="2071800" cy="468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7409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3498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7410"/>
          <p:cNvSpPr/>
          <p:nvPr/>
        </p:nvSpPr>
        <p:spPr>
          <a:xfrm>
            <a:off x="1979640" y="907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面哪些是轴对称图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同侧圆角矩形 1"/>
          <p:cNvGrpSpPr/>
          <p:nvPr/>
        </p:nvGrpSpPr>
        <p:grpSpPr>
          <a:xfrm>
            <a:off x="171360" y="828720"/>
            <a:ext cx="2017800" cy="530280"/>
            <a:chOff x="171360" y="828720"/>
            <a:chExt cx="2017800" cy="530280"/>
          </a:xfrm>
        </p:grpSpPr>
        <p:pic>
          <p:nvPicPr>
            <p:cNvPr id="242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171360" y="828720"/>
              <a:ext cx="20178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04840" y="861840"/>
              <a:ext cx="19508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究新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直线连接符 21"/>
          <p:cNvSpPr/>
          <p:nvPr/>
        </p:nvSpPr>
        <p:spPr>
          <a:xfrm flipV="1">
            <a:off x="196920" y="1479600"/>
            <a:ext cx="2071440" cy="648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8433"/>
          <p:cNvSpPr/>
          <p:nvPr/>
        </p:nvSpPr>
        <p:spPr>
          <a:xfrm>
            <a:off x="2661120" y="141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画出下面每组图形的对称轴，各能画几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8434"/>
          <p:cNvGrpSpPr/>
          <p:nvPr/>
        </p:nvGrpSpPr>
        <p:grpSpPr>
          <a:xfrm>
            <a:off x="1006560" y="2240280"/>
            <a:ext cx="7610400" cy="2394720"/>
            <a:chOff x="1006560" y="2240280"/>
            <a:chExt cx="7610400" cy="2394720"/>
          </a:xfrm>
        </p:grpSpPr>
        <p:pic>
          <p:nvPicPr>
            <p:cNvPr id="247" name="图片 18435" descr="1"/>
            <p:cNvPicPr/>
            <p:nvPr/>
          </p:nvPicPr>
          <p:blipFill>
            <a:blip r:embed="rId1"/>
            <a:stretch/>
          </p:blipFill>
          <p:spPr>
            <a:xfrm>
              <a:off x="1332000" y="2349360"/>
              <a:ext cx="7284960" cy="22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直接连接符 18436"/>
            <p:cNvSpPr/>
            <p:nvPr/>
          </p:nvSpPr>
          <p:spPr>
            <a:xfrm>
              <a:off x="4578480" y="2577960"/>
              <a:ext cx="0" cy="2057040"/>
            </a:xfrm>
            <a:prstGeom prst="line">
              <a:avLst/>
            </a:prstGeom>
            <a:ln cap="sq" w="3816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18437"/>
            <p:cNvSpPr/>
            <p:nvPr/>
          </p:nvSpPr>
          <p:spPr>
            <a:xfrm>
              <a:off x="2997360" y="3606480"/>
              <a:ext cx="3047760" cy="0"/>
            </a:xfrm>
            <a:prstGeom prst="line">
              <a:avLst/>
            </a:prstGeom>
            <a:ln cap="sq" w="3816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18438"/>
            <p:cNvSpPr/>
            <p:nvPr/>
          </p:nvSpPr>
          <p:spPr>
            <a:xfrm>
              <a:off x="7359840" y="2501640"/>
              <a:ext cx="0" cy="2057040"/>
            </a:xfrm>
            <a:prstGeom prst="line">
              <a:avLst/>
            </a:prstGeom>
            <a:ln cap="sq" w="3816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18439"/>
            <p:cNvSpPr/>
            <p:nvPr/>
          </p:nvSpPr>
          <p:spPr>
            <a:xfrm>
              <a:off x="1006560" y="2240280"/>
              <a:ext cx="2291040" cy="2342160"/>
            </a:xfrm>
            <a:prstGeom prst="line">
              <a:avLst/>
            </a:prstGeom>
            <a:ln cap="sq" w="3816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同侧圆角矩形 1"/>
          <p:cNvGrpSpPr/>
          <p:nvPr/>
        </p:nvGrpSpPr>
        <p:grpSpPr>
          <a:xfrm>
            <a:off x="317520" y="762120"/>
            <a:ext cx="2011320" cy="523800"/>
            <a:chOff x="317520" y="762120"/>
            <a:chExt cx="2011320" cy="523800"/>
          </a:xfrm>
        </p:grpSpPr>
        <p:pic>
          <p:nvPicPr>
            <p:cNvPr id="254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317520" y="762120"/>
              <a:ext cx="20113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49200" y="7905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直线连接符 21"/>
          <p:cNvSpPr/>
          <p:nvPr/>
        </p:nvSpPr>
        <p:spPr>
          <a:xfrm flipV="1">
            <a:off x="324000" y="1420560"/>
            <a:ext cx="2071440" cy="468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9457"/>
          <p:cNvSpPr/>
          <p:nvPr/>
        </p:nvSpPr>
        <p:spPr>
          <a:xfrm>
            <a:off x="1260360" y="2818080"/>
            <a:ext cx="7056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．通过今天的学习，你有什么收获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．为什么轴对称图形都很美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．并不是只有对称才美，有时不对称也是一种美。在生活中只要你用心去发现美，去创造美，我们的生活就会越来越美好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138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684360" y="378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547640" y="2133720"/>
            <a:ext cx="532944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步认识轴对称图形，知道轴对称图形的含义，能判断一个图形是不是轴对称图形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能够找出轴对称图形的对称轴，并画出对称轴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培养同学们观察、操作实践和抽象、概括的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能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力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7170"/>
          <p:cNvSpPr/>
          <p:nvPr/>
        </p:nvSpPr>
        <p:spPr>
          <a:xfrm>
            <a:off x="900000" y="1557360"/>
            <a:ext cx="791532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察下面的图形，这些图形有什么特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7171" descr="1"/>
          <p:cNvPicPr/>
          <p:nvPr/>
        </p:nvPicPr>
        <p:blipFill>
          <a:blip r:embed="rId1"/>
          <a:stretch/>
        </p:blipFill>
        <p:spPr>
          <a:xfrm>
            <a:off x="614520" y="1916280"/>
            <a:ext cx="8076960" cy="22460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7172"/>
          <p:cNvSpPr/>
          <p:nvPr/>
        </p:nvSpPr>
        <p:spPr>
          <a:xfrm>
            <a:off x="1547640" y="4365720"/>
            <a:ext cx="49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些图形左右都是对称的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同侧圆角矩形 9"/>
          <p:cNvGrpSpPr/>
          <p:nvPr/>
        </p:nvGrpSpPr>
        <p:grpSpPr>
          <a:xfrm>
            <a:off x="171360" y="762120"/>
            <a:ext cx="2017800" cy="523800"/>
            <a:chOff x="171360" y="762120"/>
            <a:chExt cx="2017800" cy="523800"/>
          </a:xfrm>
        </p:grpSpPr>
        <p:pic>
          <p:nvPicPr>
            <p:cNvPr id="149" name="同侧圆角矩形 9" descr=""/>
            <p:cNvPicPr/>
            <p:nvPr/>
          </p:nvPicPr>
          <p:blipFill>
            <a:blip r:embed="rId2"/>
            <a:stretch/>
          </p:blipFill>
          <p:spPr>
            <a:xfrm>
              <a:off x="171360" y="762120"/>
              <a:ext cx="2017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04840" y="7905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复习导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直线连接符 21"/>
          <p:cNvSpPr/>
          <p:nvPr/>
        </p:nvSpPr>
        <p:spPr>
          <a:xfrm flipV="1">
            <a:off x="210960" y="1406520"/>
            <a:ext cx="2071800" cy="648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8193"/>
          <p:cNvSpPr/>
          <p:nvPr/>
        </p:nvSpPr>
        <p:spPr>
          <a:xfrm>
            <a:off x="2484360" y="119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再来看一看其它的对称图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819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1584360" cy="32400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8195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808000" cy="12510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8196" descr=""/>
          <p:cNvPicPr/>
          <p:nvPr/>
        </p:nvPicPr>
        <p:blipFill>
          <a:blip r:embed="rId3"/>
          <a:stretch/>
        </p:blipFill>
        <p:spPr>
          <a:xfrm>
            <a:off x="6300720" y="2852640"/>
            <a:ext cx="2376720" cy="1332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同侧圆角矩形 9"/>
          <p:cNvGrpSpPr/>
          <p:nvPr/>
        </p:nvGrpSpPr>
        <p:grpSpPr>
          <a:xfrm>
            <a:off x="444600" y="974880"/>
            <a:ext cx="2012760" cy="529920"/>
            <a:chOff x="444600" y="974880"/>
            <a:chExt cx="2012760" cy="529920"/>
          </a:xfrm>
        </p:grpSpPr>
        <p:pic>
          <p:nvPicPr>
            <p:cNvPr id="158" name="同侧圆角矩形 9" descr=""/>
            <p:cNvPicPr/>
            <p:nvPr/>
          </p:nvPicPr>
          <p:blipFill>
            <a:blip r:embed="rId4"/>
            <a:stretch/>
          </p:blipFill>
          <p:spPr>
            <a:xfrm>
              <a:off x="444600" y="974880"/>
              <a:ext cx="20127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7720" y="100656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复习导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9217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017800" cy="18813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9218" descr=""/>
          <p:cNvPicPr/>
          <p:nvPr/>
        </p:nvPicPr>
        <p:blipFill>
          <a:blip r:embed="rId2"/>
          <a:stretch/>
        </p:blipFill>
        <p:spPr>
          <a:xfrm>
            <a:off x="6012000" y="2492280"/>
            <a:ext cx="2520720" cy="18399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9219" descr=""/>
          <p:cNvPicPr/>
          <p:nvPr/>
        </p:nvPicPr>
        <p:blipFill>
          <a:blip r:embed="rId3"/>
          <a:stretch/>
        </p:blipFill>
        <p:spPr>
          <a:xfrm>
            <a:off x="3492360" y="2205000"/>
            <a:ext cx="2173320" cy="23036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同侧圆角矩形 9"/>
          <p:cNvGrpSpPr/>
          <p:nvPr/>
        </p:nvGrpSpPr>
        <p:grpSpPr>
          <a:xfrm>
            <a:off x="444600" y="974880"/>
            <a:ext cx="2012760" cy="529920"/>
            <a:chOff x="444600" y="974880"/>
            <a:chExt cx="2012760" cy="529920"/>
          </a:xfrm>
        </p:grpSpPr>
        <p:pic>
          <p:nvPicPr>
            <p:cNvPr id="166" name="同侧圆角矩形 9" descr=""/>
            <p:cNvPicPr/>
            <p:nvPr/>
          </p:nvPicPr>
          <p:blipFill>
            <a:blip r:embed="rId4"/>
            <a:stretch/>
          </p:blipFill>
          <p:spPr>
            <a:xfrm>
              <a:off x="444600" y="974880"/>
              <a:ext cx="20127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100656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复习导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10241"/>
          <p:cNvSpPr/>
          <p:nvPr/>
        </p:nvSpPr>
        <p:spPr>
          <a:xfrm>
            <a:off x="1476360" y="134136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先把一张纸对折，在折好的一侧画出图形，用剪刀剪下来，再把纸打开，看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看能得到一个什么样的图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10242"/>
          <p:cNvGrpSpPr/>
          <p:nvPr/>
        </p:nvGrpSpPr>
        <p:grpSpPr>
          <a:xfrm>
            <a:off x="826920" y="2565360"/>
            <a:ext cx="7558200" cy="2567160"/>
            <a:chOff x="826920" y="2565360"/>
            <a:chExt cx="7558200" cy="2567160"/>
          </a:xfrm>
        </p:grpSpPr>
        <p:pic>
          <p:nvPicPr>
            <p:cNvPr id="171" name="图片 10243" descr="10"/>
            <p:cNvPicPr/>
            <p:nvPr/>
          </p:nvPicPr>
          <p:blipFill>
            <a:blip r:embed="rId1"/>
            <a:stretch/>
          </p:blipFill>
          <p:spPr>
            <a:xfrm>
              <a:off x="826920" y="2781360"/>
              <a:ext cx="1674720" cy="23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图片 10244" descr="14"/>
            <p:cNvPicPr/>
            <p:nvPr/>
          </p:nvPicPr>
          <p:blipFill>
            <a:blip r:embed="rId2"/>
            <a:stretch/>
          </p:blipFill>
          <p:spPr>
            <a:xfrm>
              <a:off x="2627280" y="3357360"/>
              <a:ext cx="106344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图片 10245" descr="11"/>
            <p:cNvPicPr/>
            <p:nvPr/>
          </p:nvPicPr>
          <p:blipFill>
            <a:blip r:embed="rId3"/>
            <a:stretch/>
          </p:blipFill>
          <p:spPr>
            <a:xfrm>
              <a:off x="3778200" y="2708280"/>
              <a:ext cx="158904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图片 10246" descr="14"/>
            <p:cNvPicPr/>
            <p:nvPr/>
          </p:nvPicPr>
          <p:blipFill>
            <a:blip r:embed="rId4"/>
            <a:stretch/>
          </p:blipFill>
          <p:spPr>
            <a:xfrm>
              <a:off x="5651280" y="3284640"/>
              <a:ext cx="106380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图片 10247" descr="12"/>
            <p:cNvPicPr/>
            <p:nvPr/>
          </p:nvPicPr>
          <p:blipFill>
            <a:blip r:embed="rId5"/>
            <a:stretch/>
          </p:blipFill>
          <p:spPr>
            <a:xfrm>
              <a:off x="6875280" y="2565360"/>
              <a:ext cx="15098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同侧圆角矩形 9"/>
          <p:cNvGrpSpPr/>
          <p:nvPr/>
        </p:nvGrpSpPr>
        <p:grpSpPr>
          <a:xfrm>
            <a:off x="244440" y="762120"/>
            <a:ext cx="2017800" cy="523800"/>
            <a:chOff x="244440" y="762120"/>
            <a:chExt cx="2017800" cy="523800"/>
          </a:xfrm>
        </p:grpSpPr>
        <p:pic>
          <p:nvPicPr>
            <p:cNvPr id="178" name="同侧圆角矩形 9" descr=""/>
            <p:cNvPicPr/>
            <p:nvPr/>
          </p:nvPicPr>
          <p:blipFill>
            <a:blip r:embed="rId6"/>
            <a:stretch/>
          </p:blipFill>
          <p:spPr>
            <a:xfrm>
              <a:off x="244440" y="762120"/>
              <a:ext cx="2017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77920" y="7905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直线连接符 21"/>
          <p:cNvSpPr/>
          <p:nvPr/>
        </p:nvSpPr>
        <p:spPr>
          <a:xfrm flipV="1">
            <a:off x="284040" y="1407960"/>
            <a:ext cx="2071800" cy="504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1265" descr="13"/>
          <p:cNvPicPr/>
          <p:nvPr/>
        </p:nvPicPr>
        <p:blipFill>
          <a:blip r:embed="rId1"/>
          <a:stretch/>
        </p:blipFill>
        <p:spPr>
          <a:xfrm>
            <a:off x="2484360" y="1197000"/>
            <a:ext cx="4040280" cy="46083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同侧圆角矩形 9"/>
          <p:cNvGrpSpPr/>
          <p:nvPr/>
        </p:nvGrpSpPr>
        <p:grpSpPr>
          <a:xfrm>
            <a:off x="244440" y="762120"/>
            <a:ext cx="2017800" cy="523800"/>
            <a:chOff x="244440" y="762120"/>
            <a:chExt cx="2017800" cy="523800"/>
          </a:xfrm>
        </p:grpSpPr>
        <p:pic>
          <p:nvPicPr>
            <p:cNvPr id="184" name="同侧圆角矩形 9" descr=""/>
            <p:cNvPicPr/>
            <p:nvPr/>
          </p:nvPicPr>
          <p:blipFill>
            <a:blip r:embed="rId2"/>
            <a:stretch/>
          </p:blipFill>
          <p:spPr>
            <a:xfrm>
              <a:off x="244440" y="762120"/>
              <a:ext cx="2017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7905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线连接符 21"/>
          <p:cNvSpPr/>
          <p:nvPr/>
        </p:nvSpPr>
        <p:spPr>
          <a:xfrm flipV="1">
            <a:off x="284040" y="1407960"/>
            <a:ext cx="2071800" cy="504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12289"/>
          <p:cNvSpPr/>
          <p:nvPr/>
        </p:nvSpPr>
        <p:spPr>
          <a:xfrm>
            <a:off x="2094840" y="1484280"/>
            <a:ext cx="50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如果一个图形沿着一条直线对折，两侧的图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能够完全重合，这个图形就是</a:t>
            </a:r>
            <a:r>
              <a:rPr b="0" lang="zh-CN" sz="3200" spc="-1" strike="noStrike">
                <a:solidFill>
                  <a:srgbClr val="0080ff"/>
                </a:solidFill>
                <a:latin typeface="Arial"/>
                <a:ea typeface="楷体_GB2312"/>
              </a:rPr>
              <a:t>轴对称图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2290"/>
          <p:cNvSpPr/>
          <p:nvPr/>
        </p:nvSpPr>
        <p:spPr>
          <a:xfrm>
            <a:off x="2407320" y="2421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折痕所在的这条直线叫做</a:t>
            </a:r>
            <a:r>
              <a:rPr b="0" lang="zh-CN" sz="3200" spc="-1" strike="noStrike">
                <a:solidFill>
                  <a:srgbClr val="0080ff"/>
                </a:solidFill>
                <a:latin typeface="Arial"/>
                <a:ea typeface="楷体_GB2312"/>
              </a:rPr>
              <a:t>对称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12291"/>
          <p:cNvGrpSpPr/>
          <p:nvPr/>
        </p:nvGrpSpPr>
        <p:grpSpPr>
          <a:xfrm>
            <a:off x="2556000" y="2997360"/>
            <a:ext cx="4781520" cy="3531960"/>
            <a:chOff x="2556000" y="2997360"/>
            <a:chExt cx="4781520" cy="3531960"/>
          </a:xfrm>
        </p:grpSpPr>
        <p:pic>
          <p:nvPicPr>
            <p:cNvPr id="190" name="图片 12292" descr="13"/>
            <p:cNvPicPr/>
            <p:nvPr/>
          </p:nvPicPr>
          <p:blipFill>
            <a:blip r:embed="rId1"/>
            <a:stretch/>
          </p:blipFill>
          <p:spPr>
            <a:xfrm>
              <a:off x="2556000" y="2997360"/>
              <a:ext cx="3096720" cy="35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直接连接符 12293"/>
            <p:cNvSpPr/>
            <p:nvPr/>
          </p:nvSpPr>
          <p:spPr>
            <a:xfrm>
              <a:off x="4586040" y="5157720"/>
              <a:ext cx="1142640" cy="0"/>
            </a:xfrm>
            <a:prstGeom prst="line">
              <a:avLst/>
            </a:prstGeom>
            <a:ln w="936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2294"/>
            <p:cNvSpPr/>
            <p:nvPr/>
          </p:nvSpPr>
          <p:spPr>
            <a:xfrm>
              <a:off x="6090120" y="4867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轴对称图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2295"/>
            <p:cNvSpPr/>
            <p:nvPr/>
          </p:nvSpPr>
          <p:spPr>
            <a:xfrm>
              <a:off x="5755680" y="31399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对称轴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12296"/>
            <p:cNvSpPr/>
            <p:nvPr/>
          </p:nvSpPr>
          <p:spPr>
            <a:xfrm>
              <a:off x="4068360" y="3409920"/>
              <a:ext cx="1523880" cy="0"/>
            </a:xfrm>
            <a:prstGeom prst="line">
              <a:avLst/>
            </a:prstGeom>
            <a:ln cap="sq" w="1260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同侧圆角矩形 9"/>
          <p:cNvGrpSpPr/>
          <p:nvPr/>
        </p:nvGrpSpPr>
        <p:grpSpPr>
          <a:xfrm>
            <a:off x="244440" y="762120"/>
            <a:ext cx="2017800" cy="523800"/>
            <a:chOff x="244440" y="762120"/>
            <a:chExt cx="2017800" cy="523800"/>
          </a:xfrm>
        </p:grpSpPr>
        <p:pic>
          <p:nvPicPr>
            <p:cNvPr id="197" name="同侧圆角矩形 9" descr=""/>
            <p:cNvPicPr/>
            <p:nvPr/>
          </p:nvPicPr>
          <p:blipFill>
            <a:blip r:embed="rId2"/>
            <a:stretch/>
          </p:blipFill>
          <p:spPr>
            <a:xfrm>
              <a:off x="244440" y="762120"/>
              <a:ext cx="2017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77920" y="7905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直线连接符 21"/>
          <p:cNvSpPr/>
          <p:nvPr/>
        </p:nvSpPr>
        <p:spPr>
          <a:xfrm flipV="1">
            <a:off x="284040" y="1407960"/>
            <a:ext cx="2071800" cy="504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13313"/>
          <p:cNvSpPr/>
          <p:nvPr/>
        </p:nvSpPr>
        <p:spPr>
          <a:xfrm>
            <a:off x="2973960" y="13413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图形是不是轴对称图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13314" descr="15"/>
          <p:cNvPicPr/>
          <p:nvPr/>
        </p:nvPicPr>
        <p:blipFill>
          <a:blip r:embed="rId1"/>
          <a:stretch/>
        </p:blipFill>
        <p:spPr>
          <a:xfrm>
            <a:off x="1116000" y="2060640"/>
            <a:ext cx="6913440" cy="205884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3315"/>
          <p:cNvSpPr/>
          <p:nvPr/>
        </p:nvSpPr>
        <p:spPr>
          <a:xfrm>
            <a:off x="2048400" y="465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楷体_GB2312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3316"/>
          <p:cNvSpPr/>
          <p:nvPr/>
        </p:nvSpPr>
        <p:spPr>
          <a:xfrm>
            <a:off x="4597920" y="465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楷体_GB2312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3317"/>
          <p:cNvSpPr/>
          <p:nvPr/>
        </p:nvSpPr>
        <p:spPr>
          <a:xfrm>
            <a:off x="7188480" y="465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ff"/>
                </a:solidFill>
                <a:latin typeface="Arial"/>
                <a:ea typeface="楷体_GB2312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7453440" y="333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同侧圆角矩形 9"/>
          <p:cNvGrpSpPr/>
          <p:nvPr/>
        </p:nvGrpSpPr>
        <p:grpSpPr>
          <a:xfrm>
            <a:off x="244440" y="762120"/>
            <a:ext cx="2017800" cy="523800"/>
            <a:chOff x="244440" y="762120"/>
            <a:chExt cx="2017800" cy="523800"/>
          </a:xfrm>
        </p:grpSpPr>
        <p:pic>
          <p:nvPicPr>
            <p:cNvPr id="207" name="同侧圆角矩形 9" descr=""/>
            <p:cNvPicPr/>
            <p:nvPr/>
          </p:nvPicPr>
          <p:blipFill>
            <a:blip r:embed="rId2"/>
            <a:stretch/>
          </p:blipFill>
          <p:spPr>
            <a:xfrm>
              <a:off x="244440" y="762120"/>
              <a:ext cx="2017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77920" y="79056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线连接符 21"/>
          <p:cNvSpPr/>
          <p:nvPr/>
        </p:nvSpPr>
        <p:spPr>
          <a:xfrm flipV="1">
            <a:off x="284040" y="1407960"/>
            <a:ext cx="2071800" cy="5040"/>
          </a:xfrm>
          <a:prstGeom prst="line">
            <a:avLst/>
          </a:prstGeom>
          <a:ln w="38160">
            <a:solidFill>
              <a:srgbClr val="8faf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14:11:02Z</dcterms:created>
  <dc:creator/>
  <dc:description/>
  <dc:language>en-US</dc:language>
  <cp:lastModifiedBy>Administrator</cp:lastModifiedBy>
  <dcterms:modified xsi:type="dcterms:W3CDTF">2016-06-02T01:11:42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