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3.jpeg" ContentType="image/jpeg"/>
  <Override PartName="/ppt/media/image27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3.wmf" ContentType="image/x-wmf"/>
  <Override PartName="/ppt/media/image5.png" ContentType="image/png"/>
  <Override PartName="/ppt/media/image34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3.wmf" ContentType="image/x-wmf"/>
  <Override PartName="/ppt/media/image10.wmf" ContentType="image/x-wmf"/>
  <Override PartName="/ppt/media/image35.wmf" ContentType="image/x-wmf"/>
  <Override PartName="/ppt/media/image40.wmf" ContentType="image/x-wmf"/>
  <Override PartName="/ppt/media/image8.wmf" ContentType="image/x-wmf"/>
  <Override PartName="/ppt/media/image38.wmf" ContentType="image/x-wmf"/>
  <Override PartName="/ppt/media/image30.wmf" ContentType="image/x-wmf"/>
  <Override PartName="/ppt/media/image42.wmf" ContentType="image/x-wmf"/>
  <Override PartName="/ppt/media/image31.wmf" ContentType="image/x-wmf"/>
  <Override PartName="/ppt/media/image43.wmf" ContentType="image/x-wmf"/>
  <Override PartName="/ppt/media/image12.wmf" ContentType="image/x-wmf"/>
  <Override PartName="/ppt/media/image4.png" ContentType="image/png"/>
  <Override PartName="/ppt/media/image37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25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32.wmf" ContentType="image/x-wmf"/>
  <Override PartName="/ppt/media/image29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E7B8B-9A4A-42C2-AFCC-55C8B7B7F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90EBEA-A16E-4B8D-AE12-2DC789EC6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9FC0EA-C442-45FF-9F29-F26C8DD48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02864E-6816-4C18-A6BA-89D8883B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CE3F2F-0D81-4EB2-8FBD-BBDAFDF8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45F9F3-6DCB-41BF-9A07-BFE45264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7DCDD7-0E28-4AE0-ADB8-519CCDAD7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39D76A-F4B1-4155-A4E7-B5B6ADDA3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577C7D-FEB2-4148-BF68-DE23F0A7D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CB8ED2-CA28-4620-B95C-DACC11196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7AD5AC-44BB-42A9-BCDD-42B89A0C2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989063-5AF5-4A91-94BC-7C062CA38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1077EC-A2C7-4764-B90A-9452ECC79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6B094E-25ED-4DFA-887D-BB702155F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21C812-5EC3-4235-B1DC-6DC41FD75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5DE2B3-7593-46F1-B75E-2F011FE8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921380-CC44-48BB-AA72-A60FBF61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AC8E61-992D-4808-9C50-0FFC6670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A55A5E-F2E2-436C-8770-817932AFD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F42A84-BA78-4A57-9729-02D22C5F4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CBBCD9-0AC2-468C-9469-CFBE59CE1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1A69F0-5A6D-4D61-9435-48414FB3C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3951B0-B9D3-408B-AC01-B6717EB99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7B553B-5B8B-4908-B049-C66B2F7E4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E7ED59-8B84-4C04-9FC4-347D8C92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78012D-99B2-4DCB-9A2F-48BF8512D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2468E8-096C-4A64-AF3A-8745A4B05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CC426D-629B-4ECA-832B-5DB39394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D16B70-2C7C-4D1B-912D-45F143D2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B59BFF-FFA8-4BD2-8FDD-508E9096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FF03-2016-4C3E-ADB3-54A57683B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A7A8DB-EEBC-4D99-9F15-2503FFCED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C3820A-D1B9-4C72-8146-043E15B48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02EEF4-2665-43DA-B0D1-76F1BA20A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3107F0-4A2A-4C3F-BC18-57326C9CB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E602FC-E532-4929-A25A-FD6E9789E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2A61B7-561F-4228-9E28-2CD83BACC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C79731-6317-4B8E-8E72-CB782235F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AE1B80-BE39-4623-A212-F0932D5ED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672C90-B49A-4064-AF65-383BD1D30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2A599F-3EBE-45C0-95C0-769E3009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1BB5-6100-4F67-95CD-3C0F0DC51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C0E408-DC9E-476E-8A19-E8BC1CE9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973A12-0762-4266-ABDB-E9995EDE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7C0337-4BB7-420F-A8A1-1375B2635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826DC9-1925-4427-A792-A41010E2A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85F964-DFE8-4589-B80E-545CE2BE0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15AB78-C506-465D-93D9-758D2C16A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AFAE24-765D-4D85-8B10-AFF351E49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21B8B2-A59D-4FBD-A342-B501EC74C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F85FED-7F2E-413E-B800-D6D0627B4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DD0828-4144-4E68-87D3-B3D79C981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054A-70E8-4544-A86F-3ABD0EAE2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693BAA-71C0-4601-99B4-867E69E37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DFF51F-0100-493B-81BE-D4E29D1D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2958DB-20DA-493B-97FB-912A7A25D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F2E12C-0D1C-4DCA-9F0E-EF0934F5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4595D4-CC85-4BBF-B6BC-2D0745E77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D52294-FADA-483C-8FBC-49D4B8D2B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5E6810-B01B-4BCC-9135-0413D42B4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57D6E6-45D2-4F8C-B423-816386D2D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2C812F-3DB0-4166-8F1F-E3F320829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73F8A5-A0C8-4C91-B540-51E310E50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4262-4A18-4572-A641-326EF652D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6DC535-D078-4F5D-AAA1-08D2C0F9F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86D60A-441D-400A-A9D2-997B1BB41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0446ED-914B-47CD-8408-41CB2C253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6F5BE5-7FB9-4E68-AA02-59175CCE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AF87DF-44BF-4E63-ABDC-DB2EE312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9FABB2-4C84-4B1D-9FF8-81B3D7C6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0881E2-07F0-4129-9C53-D4FDAF8B7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3CBA27-7B62-408A-8421-28BEA3368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5A0384-07E5-4CA4-89B8-B115C8E5B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C3C8C5-88E0-42A7-A6F7-BAF1B349E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D82B-81FA-4B90-B3E1-EB17FF331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A81D56-24FF-435F-8478-26FF44C0B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032344-0F2E-4AC0-8135-6AC507941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3E921D-7F4E-4165-AC4D-73C71FB6F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DCDFC7-9F2D-4816-A216-2E639EFF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40935B-991D-4513-A0C2-318C6D72D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16F1A3-63AD-4222-A658-5EFA8013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ED3BFF-9248-41D8-9A3D-9AABEEE1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194333-13B5-4A02-A247-43E14CB3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CC0CB3-7CBE-47BE-B711-0926DA8AB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67ACFC-2F1C-4607-91FF-0DD5C3A27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D5B4-39A9-45B2-B6FF-1900BEC12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D0EE1F-13D4-4990-8D0C-279588E5A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2CE02E-A67F-48A6-9292-C206CA002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9F9E0A-7FDD-4ADA-89CB-AEF1219BC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1D7209-CCF9-497B-98D7-2C079ABEE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F8A740-8723-45FD-9A54-F241EDB74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FF1C83-3711-45A0-9AD4-71E49DE6B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37429D-EF5B-489F-B83D-B687F17A9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71B125-8646-4359-8DCE-4C5E1B89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E4E254-560F-465F-8773-BA6CF5B3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53E03A-69B0-4E75-B5D6-8322B565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4B1C-D54E-4970-A66B-701C0AAB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C6EC8C-93C4-4A23-B16A-D5BDE2332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474634-2950-4A1A-BE46-6EE58B84C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897D26-6F8B-4520-89EB-5417FE04C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9D3FF3-C8C7-4981-9F21-AA78732A9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A732F1-0A63-4260-8CDF-E6E8B9C9C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10687C-6726-4C2A-B26A-DC074E9FB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E20CF4-22C1-4A66-AB0D-D9F50B084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B0E8CC-E0BC-4CC6-9A63-F8F3A12F1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BDDFC2-6290-4F40-96BE-F23AC9C2B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70F71C-03CC-4B68-AB7C-435CF386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83D3-1500-423B-90DF-B630248D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0D6913-CEC6-4D46-947E-87A9F6E3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94746B-3E12-4A15-B311-C5ED479F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4338AB-98EF-4A0F-9FB3-40D091A9C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A3CC9A-3340-4FF5-84D0-1C51EBA06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A7E0C1-AF13-4922-ADB3-4E534F73C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A74640-591D-41F2-A10A-80C4D045A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F2D3F9-D1E3-49D1-B778-1C5641669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4D3A0E-BAE2-41C6-9046-35FA31FF2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440110-6BA2-4D3A-BF83-4A43E650C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2AD46A-31AC-4938-9F51-7D6C2182F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F73F-4109-46EE-BB7F-B4C77589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A92A8A-2BD1-41AB-A9AB-1487946FE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123778-96EB-4DA7-8F15-A803E5EC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41A864-3B8A-455A-87BA-14A9A363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FFE671-6F3C-4BD8-9D2B-E08EB8EB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2108FF-5FD2-4695-8B10-535CE84B2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EF2DE0-70E1-46F7-B467-4F490E4ED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388080-B51E-4D02-8A8F-E931384C6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0149F5-2B06-4E08-94AE-BCC4EBF67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BF6A41-7904-40B9-BD15-8DE690109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06E851-2676-45AD-8635-0E8D1CC28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C18F-A28A-4190-A0A7-A5E32B35E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8C126E-3E55-4FC1-B53C-1DB805894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681B70-A094-4E7D-8D2E-A1D916A05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4342F9-7D0E-48E9-B453-B923AE54E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216BCF-9E58-45B0-9CE2-29EF6157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051927-EC95-4075-8D04-274198EC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DA1507-A9C0-4D59-81F3-A669F65B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913801-B27B-43AB-8636-EDB5975AE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C88AC6-526C-4C82-8B83-A1DA4B7D9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255725-D693-45CB-9C0D-2748E10A1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79ED0D-BCD4-481F-9AF3-52F7C7D66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FE8F-3E56-4083-AD03-CF98BC27D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A9AE53-E25D-44D6-9439-149C03F00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289576-E57D-4469-876E-261635A15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7EDC2F-1A7F-46D2-AE13-1A9B1E66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8F9C76-1F29-480C-9864-E645E0653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C26FC4-0B10-45C3-997E-B7894C61C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EB1194-88E2-4382-810E-746E9F3A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6BC8E6-00E5-4E6D-8D61-5D0CB1CC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C982B4-1065-42CB-9465-DC7BD340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B2B586-C9E0-43AF-8057-B80B7974A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4BE0C0-080F-4B03-8DA4-161B29492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64AD-FF24-4873-B963-5A0B60541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56B32A-E1CA-4A63-A6C0-D1747CF07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8A010E-96E3-4029-9045-0F4730972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38EE33-9380-4D53-B4C4-1EE099209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B08DDF-9B8F-4DAF-9901-1F6F43A10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84EDA5-1E91-4662-9DAF-21B3B57E2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DCB0C4-B5B0-4B1D-A8E3-3F1D64EB4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15575A-2803-44D4-B9A9-86E05837C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00CDF6-4B1B-4A50-857B-93FE187C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BB9518-167B-41F4-9777-EC9D22AD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64CD01-7C61-41E7-8D93-3E72800E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D6372-D91C-49BE-9A51-7035A5DF9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06C327-26F6-490A-87F3-0B441DBC4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268763-1DAB-443C-80AD-DD721B12B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6CED54-27E4-4468-ACD9-D161A75BC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B7CF9E-8F88-4180-B8DE-4F3EB9D29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EC0597-113F-4FF5-B528-E0AF89CCF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70DDD8-BF62-486C-8220-1DA50470A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0DBB9B-10DA-4EBD-82C4-F8A07129E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C6D530-37B4-4E93-89A4-668AC95DC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408365-39B8-4A6A-804D-1E562F739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6683CB-6731-49FD-A888-8B5EE485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82C5F-47A2-4EF8-BA62-327F9A181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368E3B-42AC-417C-BDEE-3F915132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48120D-0AFD-4EF9-B380-494FCE2A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3CFC0C-FE7D-47B3-9AC6-9C5C8AB09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C856A1-EAB4-41F8-97ED-CB3BAEE3E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8DE312-9D33-4B0D-8F41-B29AB04D4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F98F72A-0DC0-4A54-905D-4D795AC70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201183E-CC66-45FE-9EA1-674B04897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06B9E48-5249-4FDD-A04C-6F85E9A80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3344470-B32A-45F8-864F-777F34C02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24D2C28-A0EC-4258-A165-5E77C8C3C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6B090-F439-4F91-9BF5-131003843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F1628C-5CB1-4D24-924D-E83E48493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033A772-14C9-4F42-925C-FE452BB7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EDE78A7-08F8-40BE-9BD3-CB621AB0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FF81AD-5C5E-46FE-BAF6-5AA2CB56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BE7023E-9949-4AF6-8072-38FA5D4AB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2BDD94B-EF2F-44CA-8632-485329D44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555FCF6-C6DB-49EA-8680-82DCB2C57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54D84EE-0AA8-48DA-BB24-995B8FC65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77AA7BE-9CF6-486C-82AD-3CA6CA95A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DE906D7-8E54-48EC-8FCE-144D1F13E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37BC5-F2EC-4D39-BEA1-B327A8D80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32DF185-8C18-4B17-89F8-EC171043B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78BEE94-21C7-41F3-843A-D8F380C0F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C53B1B2-B777-4564-BC49-7C6A0C9E3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0FD80A5-A5D2-463D-BA34-18F0C544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BD84E11-5F01-4E3E-80C3-77087213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77F1310-76CE-4F8A-85A2-0743AFE5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C9BE6C6-7E54-4AC9-B321-0423CC39C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077387C-1AB2-4015-9CD9-22F1E8556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CF3CA96-41C0-44FE-BB99-D55538AC3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930F3-9F54-416C-A177-D9A8161B1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E3774-5851-4DDE-8207-ABC98D633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27CD6-9B1E-4FFE-A21B-9AAC5BD8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B4090-22F4-45E3-955E-E3492950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8A0CC-BC58-422E-9B9A-2CD3B199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E5457-A346-40E7-8124-F7340A1B9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9C047-8A6D-41C5-BB10-FF249915E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7924D-5ADB-4487-A83E-2C3416F90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7658A-0C5C-4095-A4D5-052077BEC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BBF25-8FA2-4773-BDEC-73F7DB6C0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DE22B-7E14-462C-997F-75FE758BF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45F83-553B-41FF-8518-7A6E3C3C5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20312-F8EE-4F1C-B62F-4F7212D96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18409-2934-4E92-92FD-7A12031CB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F8569-2E02-4CD4-8B57-73A02313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53DEF-9AD7-4D61-A0DC-A608F1EA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49ED9-923A-4F0B-BF8B-126C62DD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17A4C-88F8-4CB9-8955-741DFE47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5CC26-53C5-49D7-9C00-D54D4F963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507E8-1720-40E8-8704-F9C2DDBC9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86553-8939-4F86-9116-2A6BAD20A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7BFC1-54A0-4DAB-883B-2B810F2EB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82572-ECD1-4A2E-B66C-9920DA96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4FA7D-72AC-4CB0-998B-EA939387C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FA7A1-E72A-429C-AE07-4855F9916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FD941-8E9B-4A75-8A0F-6A7AD5B9C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55E31-8D3D-4474-976D-4FCD20A6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65CDD-844D-431A-90CA-A108C549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66868-93B5-49A8-AC19-08704425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ADC8E-CA58-49A9-AD7D-A13DAB883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20E47-B598-40AA-8BCD-C2048779F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8776C-89DA-4BF3-848B-A3D6018C7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3EB49-B484-40C2-9521-334A3903F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5730F-7C0C-474E-A95B-C8FFA3920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3584D-D7DD-470A-858C-1BF670381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94447-7560-4881-8BB2-2FE9ECA48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FC417-7287-4423-8A66-58C8473FB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2E755-3817-4C64-92EA-17F04529A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04C07-B2A1-49A4-B7C1-D71AE5F1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0828B-DEFF-4654-9D00-A46EE69A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A8DF2-41F1-49EF-B843-FE33C559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36116-0AED-41CC-8DCB-4875A2F88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6A5E9-DD26-4DF8-B49C-1EB021E1E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492AE-E885-4D81-B529-5ABC4E58F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253CB-E21B-4954-9A6B-45EC2D7D3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C44BA9-2F44-4ADD-A210-7FB686C2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46845-07A0-4139-8636-F52CA77C6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FC03D-E5E2-4C54-A250-8835DE22F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CB78E-8841-49B8-97DE-84311CBB6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BF8F3-57F6-4F6C-BEDF-C5DB4238B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52A36F-09F2-4471-833D-C161C0AB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2D5397-5850-4127-9228-25E1556F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04381-A390-4B74-84D7-48AE2F89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42BE44-535F-47FA-BA13-CB3BD85A8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E0008-F6BE-4133-A127-1AD231DE9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29EDE-40ED-46E5-8568-7EFA4FD31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E5E65-3B6A-47C7-9056-3FB064504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27B403-2E48-4188-B4EB-AB0B12117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EF1BC0-5321-4389-A568-200BBBC7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9DD94E-5C98-44B9-AE1B-96BDBC511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1C973-CD63-499B-B481-6C950B651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241B5-3895-4A01-B16F-AEF1DFDCD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218E1-E29B-486C-A00C-CAFD5337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96F2F6-8014-478F-B08F-C979136F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EFA74E-24E1-40C6-BD4E-20F2B9F5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70C7D-475E-471B-9938-B58BEAE31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A0334-9CF7-4308-90A7-4E90FB222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8F7D78-FA07-47BD-BC7B-5C5FDAFD6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5A0114-EE8D-4DDC-9040-6BFD0C7D0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9EC765-CF9A-4441-88E9-A10011CAF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A4C67F-D470-48D9-97E7-A11E135F6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5C54F-34F0-4237-BEFA-E3C1A04BC5AF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1215D-83CA-468C-A31E-CDA0AEE839EE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D77BA-0AFC-4184-85E6-DBD067BD579C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C284F-D79E-4530-982A-65306EC14B4B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1A848-958E-43C7-A8E8-D8A5167454B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DAA33-31A8-4D53-AB83-89F9A2E58EB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0C1AE-981A-4832-A967-5FB0DB23C89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30F5A-A118-44FC-97B3-C4C855F68B8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28114-A51B-4D64-8418-27E49D56CFC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6415B-9432-4C48-AF1E-48EBF8C1E43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88C06-1FF5-456A-83C4-E1552EB866D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图片 8" descr="数学ppt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1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0A3DB-D7FC-4743-87ED-D225DDE37AB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3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81BF2-68E6-47C5-9E9C-AC872E69AFD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AAC62-2B7F-4412-9E51-D1DEFAEA3AE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00FE8-2244-4C7B-BE78-89A67E33E9A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B79AB-0DCC-44FD-A0E3-BB6B56C1CA6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8" descr="数学ppt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0724F-D7AA-4830-B78B-7AA86C827554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77507-63D3-4221-8321-9906BE047362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26623-FC46-4891-8FC3-C444CC59DBE2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8D5E8-E488-4827-8393-9131494D795A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4160E-A026-4DDD-A23A-A988B0A06F6E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699F9-2742-48D8-B6F8-75C846BF6DB5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63CFA-D1AF-455B-9D5B-E8FDDEC95D84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2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2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0.wmf"/><Relationship Id="rId3" Type="http://schemas.openxmlformats.org/officeDocument/2006/relationships/image" Target="../media/image41.wmf"/><Relationship Id="rId4" Type="http://schemas.openxmlformats.org/officeDocument/2006/relationships/image" Target="../media/image42.wmf"/><Relationship Id="rId5" Type="http://schemas.openxmlformats.org/officeDocument/2006/relationships/image" Target="../media/image43.wmf"/><Relationship Id="rId6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4.wmf"/><Relationship Id="rId11" Type="http://schemas.openxmlformats.org/officeDocument/2006/relationships/image" Target="../media/image15.wmf"/><Relationship Id="rId12" Type="http://schemas.openxmlformats.org/officeDocument/2006/relationships/image" Target="../media/image16.wmf"/><Relationship Id="rId13" Type="http://schemas.openxmlformats.org/officeDocument/2006/relationships/image" Target="../media/image17.wmf"/><Relationship Id="rId14" Type="http://schemas.openxmlformats.org/officeDocument/2006/relationships/slideLayout" Target="../slideLayouts/slideLayout2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2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2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2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9.png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image" Target="../media/image32.wmf"/><Relationship Id="rId6" Type="http://schemas.openxmlformats.org/officeDocument/2006/relationships/image" Target="../media/image33.wmf"/><Relationship Id="rId7" Type="http://schemas.openxmlformats.org/officeDocument/2006/relationships/image" Target="../media/image34.wmf"/><Relationship Id="rId8" Type="http://schemas.openxmlformats.org/officeDocument/2006/relationships/image" Target="../media/image35.wmf"/><Relationship Id="rId9" Type="http://schemas.openxmlformats.org/officeDocument/2006/relationships/slideLayout" Target="../slideLayouts/slideLayout2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标题 1"/>
          <p:cNvSpPr/>
          <p:nvPr/>
        </p:nvSpPr>
        <p:spPr>
          <a:xfrm>
            <a:off x="1095480" y="2103480"/>
            <a:ext cx="69530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分数与除法的关系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982" name="组合 1"/>
          <p:cNvGrpSpPr/>
          <p:nvPr/>
        </p:nvGrpSpPr>
        <p:grpSpPr>
          <a:xfrm>
            <a:off x="539640" y="4022640"/>
            <a:ext cx="2160720" cy="399960"/>
            <a:chOff x="539640" y="4022640"/>
            <a:chExt cx="2160720" cy="399960"/>
          </a:xfrm>
        </p:grpSpPr>
        <p:sp>
          <p:nvSpPr>
            <p:cNvPr id="983" name="矩形 41"/>
            <p:cNvSpPr/>
            <p:nvPr/>
          </p:nvSpPr>
          <p:spPr>
            <a:xfrm>
              <a:off x="971280" y="4051080"/>
              <a:ext cx="1584360" cy="3603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dfe9de">
                    <a:alpha val="5411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984" name="Picture 5" descr="C:\Documents and Settings\pub\Desktop\未命名文件夹 4\按钮\按钮3.jpg"/>
            <p:cNvPicPr/>
            <p:nvPr/>
          </p:nvPicPr>
          <p:blipFill>
            <a:blip r:embed="rId1"/>
            <a:stretch/>
          </p:blipFill>
          <p:spPr>
            <a:xfrm>
              <a:off x="539640" y="4065480"/>
              <a:ext cx="357120" cy="3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Text Box 12"/>
            <p:cNvSpPr/>
            <p:nvPr/>
          </p:nvSpPr>
          <p:spPr>
            <a:xfrm>
              <a:off x="973080" y="4022640"/>
              <a:ext cx="172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Adobe 楷体 Std R"/>
                </a:rPr>
                <a:t>作业提升练</a:t>
              </a:r>
              <a:endParaRPr b="1" lang="en-US" sz="20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  <p:grpSp>
        <p:nvGrpSpPr>
          <p:cNvPr id="986" name="组合 2"/>
          <p:cNvGrpSpPr/>
          <p:nvPr/>
        </p:nvGrpSpPr>
        <p:grpSpPr>
          <a:xfrm>
            <a:off x="1332000" y="4599000"/>
            <a:ext cx="2340000" cy="399960"/>
            <a:chOff x="1332000" y="4599000"/>
            <a:chExt cx="2340000" cy="399960"/>
          </a:xfrm>
        </p:grpSpPr>
        <p:sp>
          <p:nvSpPr>
            <p:cNvPr id="987" name="矩形 42"/>
            <p:cNvSpPr/>
            <p:nvPr/>
          </p:nvSpPr>
          <p:spPr>
            <a:xfrm>
              <a:off x="1763640" y="4627440"/>
              <a:ext cx="1584360" cy="3603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dfe9de">
                    <a:alpha val="5411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988" name="Picture 5" descr="C:\Documents and Settings\pub\Desktop\未命名文件夹 4\按钮\按钮3.jpg"/>
            <p:cNvPicPr/>
            <p:nvPr/>
          </p:nvPicPr>
          <p:blipFill>
            <a:blip r:embed="rId2"/>
            <a:stretch/>
          </p:blipFill>
          <p:spPr>
            <a:xfrm>
              <a:off x="1332000" y="4641840"/>
              <a:ext cx="357120" cy="3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9" name="Text Box 12"/>
            <p:cNvSpPr/>
            <p:nvPr/>
          </p:nvSpPr>
          <p:spPr>
            <a:xfrm>
              <a:off x="1765080" y="4599000"/>
              <a:ext cx="190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Adobe 楷体 Std R"/>
                </a:rPr>
                <a:t>作业拓展练</a:t>
              </a:r>
              <a:endParaRPr b="1" lang="en-US" sz="20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  <p:sp>
        <p:nvSpPr>
          <p:cNvPr id="990" name="TextBox 20"/>
          <p:cNvSpPr/>
          <p:nvPr/>
        </p:nvSpPr>
        <p:spPr>
          <a:xfrm>
            <a:off x="6310080" y="1214280"/>
            <a:ext cx="17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QD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五年级下册</a:t>
            </a: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1" name="TextBox 22"/>
          <p:cNvSpPr/>
          <p:nvPr/>
        </p:nvSpPr>
        <p:spPr>
          <a:xfrm>
            <a:off x="3866400" y="3711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Calibri"/>
                <a:ea typeface="宋体"/>
              </a:rPr>
              <a:t>作业习题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2" name="TextBox 4"/>
          <p:cNvSpPr/>
          <p:nvPr/>
        </p:nvSpPr>
        <p:spPr>
          <a:xfrm>
            <a:off x="3786120" y="1684440"/>
            <a:ext cx="4572000" cy="4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楷体"/>
              </a:rPr>
              <a:t>2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楷体"/>
              </a:rPr>
              <a:t>校园艺术节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楷体"/>
              </a:rPr>
              <a:t>——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楷体"/>
              </a:rPr>
              <a:t>分数的意义和性质</a:t>
            </a:r>
            <a:endParaRPr b="1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矩形 10"/>
          <p:cNvSpPr/>
          <p:nvPr/>
        </p:nvSpPr>
        <p:spPr>
          <a:xfrm>
            <a:off x="719280" y="1924200"/>
            <a:ext cx="72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把一个假分数化成带分数后，分子减小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这个假分数可能是多少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写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即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1087" name="组合 11"/>
          <p:cNvGrpSpPr/>
          <p:nvPr/>
        </p:nvGrpSpPr>
        <p:grpSpPr>
          <a:xfrm>
            <a:off x="476280" y="441360"/>
            <a:ext cx="2852640" cy="668160"/>
            <a:chOff x="476280" y="441360"/>
            <a:chExt cx="2852640" cy="668160"/>
          </a:xfrm>
        </p:grpSpPr>
        <p:sp>
          <p:nvSpPr>
            <p:cNvPr id="1088" name="圆角矩形 19"/>
            <p:cNvSpPr/>
            <p:nvPr/>
          </p:nvSpPr>
          <p:spPr>
            <a:xfrm>
              <a:off x="1396800" y="66024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a6a6a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grpSp>
          <p:nvGrpSpPr>
            <p:cNvPr id="1089" name="组合 6"/>
            <p:cNvGrpSpPr/>
            <p:nvPr/>
          </p:nvGrpSpPr>
          <p:grpSpPr>
            <a:xfrm>
              <a:off x="476280" y="441360"/>
              <a:ext cx="2852640" cy="668160"/>
              <a:chOff x="476280" y="441360"/>
              <a:chExt cx="2852640" cy="668160"/>
            </a:xfrm>
          </p:grpSpPr>
          <p:sp>
            <p:nvSpPr>
              <p:cNvPr id="1090" name="文本框 13"/>
              <p:cNvSpPr/>
              <p:nvPr/>
            </p:nvSpPr>
            <p:spPr>
              <a:xfrm>
                <a:off x="1403640" y="647640"/>
                <a:ext cx="192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作业提升练</a:t>
                </a:r>
                <a:endParaRPr b="1" lang="en-US" sz="24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pic>
            <p:nvPicPr>
              <p:cNvPr id="1091" name="图片 9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280" y="441360"/>
                <a:ext cx="1083960" cy="66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092" name="组合 9"/>
          <p:cNvGrpSpPr/>
          <p:nvPr/>
        </p:nvGrpSpPr>
        <p:grpSpPr>
          <a:xfrm>
            <a:off x="1187280" y="3365640"/>
            <a:ext cx="6985080" cy="784080"/>
            <a:chOff x="1187280" y="3365640"/>
            <a:chExt cx="6985080" cy="784080"/>
          </a:xfrm>
        </p:grpSpPr>
        <p:pic>
          <p:nvPicPr>
            <p:cNvPr id="1093" name="对象 1" descr=""/>
            <p:cNvPicPr/>
            <p:nvPr/>
          </p:nvPicPr>
          <p:blipFill>
            <a:blip r:embed="rId2"/>
            <a:stretch/>
          </p:blipFill>
          <p:spPr>
            <a:xfrm>
              <a:off x="4409640" y="3365640"/>
              <a:ext cx="3762720" cy="78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4" name="矩形 8"/>
            <p:cNvSpPr/>
            <p:nvPr/>
          </p:nvSpPr>
          <p:spPr>
            <a:xfrm>
              <a:off x="1187280" y="3545640"/>
              <a:ext cx="457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答：这个假分数可能是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矩形 10"/>
          <p:cNvSpPr/>
          <p:nvPr/>
        </p:nvSpPr>
        <p:spPr>
          <a:xfrm>
            <a:off x="826920" y="1665360"/>
            <a:ext cx="721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一个带分数，它的分数部分的分子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把它化成假分数后，分子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这个带分数可能是多少？你能把它们从大到小排列起来吗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1096" name="组合 13"/>
          <p:cNvGrpSpPr/>
          <p:nvPr/>
        </p:nvGrpSpPr>
        <p:grpSpPr>
          <a:xfrm>
            <a:off x="1368360" y="3490920"/>
            <a:ext cx="6875640" cy="2414520"/>
            <a:chOff x="1368360" y="3490920"/>
            <a:chExt cx="6875640" cy="2414520"/>
          </a:xfrm>
        </p:grpSpPr>
        <p:pic>
          <p:nvPicPr>
            <p:cNvPr id="1097" name="对象 19" descr=""/>
            <p:cNvPicPr/>
            <p:nvPr/>
          </p:nvPicPr>
          <p:blipFill>
            <a:blip r:embed="rId1"/>
            <a:stretch/>
          </p:blipFill>
          <p:spPr>
            <a:xfrm>
              <a:off x="4380120" y="3490920"/>
              <a:ext cx="3719880" cy="72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8" name="对象 8" descr=""/>
            <p:cNvPicPr/>
            <p:nvPr/>
          </p:nvPicPr>
          <p:blipFill>
            <a:blip r:embed="rId2"/>
            <a:stretch/>
          </p:blipFill>
          <p:spPr>
            <a:xfrm>
              <a:off x="2099880" y="4284720"/>
              <a:ext cx="22561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9" name="矩形 9"/>
            <p:cNvSpPr/>
            <p:nvPr/>
          </p:nvSpPr>
          <p:spPr>
            <a:xfrm>
              <a:off x="1368360" y="3634200"/>
              <a:ext cx="325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答：这个带分数可能是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1100" name="矩形 10"/>
            <p:cNvSpPr/>
            <p:nvPr/>
          </p:nvSpPr>
          <p:spPr>
            <a:xfrm>
              <a:off x="4320360" y="4393080"/>
              <a:ext cx="392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把它们从大到小排列起来为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1101" name="对象 11" descr=""/>
            <p:cNvPicPr/>
            <p:nvPr/>
          </p:nvPicPr>
          <p:blipFill>
            <a:blip r:embed="rId3"/>
            <a:stretch/>
          </p:blipFill>
          <p:spPr>
            <a:xfrm>
              <a:off x="2143800" y="5185080"/>
              <a:ext cx="5884200" cy="72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2" name="矩形 12"/>
            <p:cNvSpPr/>
            <p:nvPr/>
          </p:nvSpPr>
          <p:spPr>
            <a:xfrm>
              <a:off x="2815200" y="53290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＞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1103" name="矩形 28"/>
            <p:cNvSpPr/>
            <p:nvPr/>
          </p:nvSpPr>
          <p:spPr>
            <a:xfrm>
              <a:off x="3737160" y="53290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＞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1104" name="矩形 29"/>
            <p:cNvSpPr/>
            <p:nvPr/>
          </p:nvSpPr>
          <p:spPr>
            <a:xfrm>
              <a:off x="4691160" y="53290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＞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1105" name="矩形 30"/>
            <p:cNvSpPr/>
            <p:nvPr/>
          </p:nvSpPr>
          <p:spPr>
            <a:xfrm>
              <a:off x="5717160" y="53290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＞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1106" name="矩形 31"/>
            <p:cNvSpPr/>
            <p:nvPr/>
          </p:nvSpPr>
          <p:spPr>
            <a:xfrm>
              <a:off x="6725160" y="53290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＞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组合 14"/>
          <p:cNvGrpSpPr/>
          <p:nvPr/>
        </p:nvGrpSpPr>
        <p:grpSpPr>
          <a:xfrm>
            <a:off x="476280" y="441360"/>
            <a:ext cx="2852640" cy="668160"/>
            <a:chOff x="476280" y="441360"/>
            <a:chExt cx="2852640" cy="668160"/>
          </a:xfrm>
        </p:grpSpPr>
        <p:sp>
          <p:nvSpPr>
            <p:cNvPr id="1108" name="圆角矩形 15"/>
            <p:cNvSpPr/>
            <p:nvPr/>
          </p:nvSpPr>
          <p:spPr>
            <a:xfrm>
              <a:off x="1396800" y="66024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a6a6a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grpSp>
          <p:nvGrpSpPr>
            <p:cNvPr id="1109" name="组合 16"/>
            <p:cNvGrpSpPr/>
            <p:nvPr/>
          </p:nvGrpSpPr>
          <p:grpSpPr>
            <a:xfrm>
              <a:off x="476280" y="441360"/>
              <a:ext cx="2852640" cy="668160"/>
              <a:chOff x="476280" y="441360"/>
              <a:chExt cx="2852640" cy="668160"/>
            </a:xfrm>
          </p:grpSpPr>
          <p:sp>
            <p:nvSpPr>
              <p:cNvPr id="1110" name="文本框 13"/>
              <p:cNvSpPr/>
              <p:nvPr/>
            </p:nvSpPr>
            <p:spPr>
              <a:xfrm>
                <a:off x="1403640" y="647640"/>
                <a:ext cx="192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作业拓展练</a:t>
                </a:r>
                <a:endParaRPr b="1" lang="en-US" sz="24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pic>
            <p:nvPicPr>
              <p:cNvPr id="1111" name="图片 9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280" y="441360"/>
                <a:ext cx="1083960" cy="66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12" name="矩形 19"/>
          <p:cNvSpPr/>
          <p:nvPr/>
        </p:nvSpPr>
        <p:spPr>
          <a:xfrm>
            <a:off x="719280" y="1916280"/>
            <a:ext cx="769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2520" indent="-452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一个假分数的分子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把它化成带分数后，分子、分母和整数部分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连续的自然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无顺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这个假分数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化成的带分数分别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113" name="对象 12" descr=""/>
          <p:cNvPicPr/>
          <p:nvPr/>
        </p:nvPicPr>
        <p:blipFill>
          <a:blip r:embed="rId2"/>
          <a:stretch/>
        </p:blipFill>
        <p:spPr>
          <a:xfrm>
            <a:off x="2664000" y="2965320"/>
            <a:ext cx="441000" cy="720720"/>
          </a:xfrm>
          <a:prstGeom prst="rect">
            <a:avLst/>
          </a:prstGeom>
          <a:ln w="0">
            <a:noFill/>
          </a:ln>
        </p:spPr>
      </p:pic>
      <p:pic>
        <p:nvPicPr>
          <p:cNvPr id="1114" name="对象 2" descr=""/>
          <p:cNvPicPr/>
          <p:nvPr/>
        </p:nvPicPr>
        <p:blipFill>
          <a:blip r:embed="rId3"/>
          <a:stretch/>
        </p:blipFill>
        <p:spPr>
          <a:xfrm>
            <a:off x="3780000" y="2960640"/>
            <a:ext cx="441000" cy="720720"/>
          </a:xfrm>
          <a:prstGeom prst="rect">
            <a:avLst/>
          </a:prstGeom>
          <a:ln w="0">
            <a:noFill/>
          </a:ln>
        </p:spPr>
      </p:pic>
      <p:pic>
        <p:nvPicPr>
          <p:cNvPr id="1115" name="对象 3" descr=""/>
          <p:cNvPicPr/>
          <p:nvPr/>
        </p:nvPicPr>
        <p:blipFill>
          <a:blip r:embed="rId4"/>
          <a:stretch/>
        </p:blipFill>
        <p:spPr>
          <a:xfrm>
            <a:off x="7585200" y="2967120"/>
            <a:ext cx="608040" cy="720720"/>
          </a:xfrm>
          <a:prstGeom prst="rect">
            <a:avLst/>
          </a:prstGeom>
          <a:ln w="0">
            <a:noFill/>
          </a:ln>
        </p:spPr>
      </p:pic>
      <p:pic>
        <p:nvPicPr>
          <p:cNvPr id="1116" name="对象 4" descr=""/>
          <p:cNvPicPr/>
          <p:nvPr/>
        </p:nvPicPr>
        <p:blipFill>
          <a:blip r:embed="rId5"/>
          <a:stretch/>
        </p:blipFill>
        <p:spPr>
          <a:xfrm>
            <a:off x="1733400" y="3571920"/>
            <a:ext cx="606600" cy="72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2"/>
          <p:cNvSpPr/>
          <p:nvPr/>
        </p:nvSpPr>
        <p:spPr>
          <a:xfrm>
            <a:off x="1182600" y="1916280"/>
            <a:ext cx="6553440" cy="23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用分数进行单位换算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用分数表示两数之间的关系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994" name="组 45"/>
          <p:cNvGrpSpPr/>
          <p:nvPr/>
        </p:nvGrpSpPr>
        <p:grpSpPr>
          <a:xfrm>
            <a:off x="776160" y="334800"/>
            <a:ext cx="3119400" cy="796320"/>
            <a:chOff x="776160" y="334800"/>
            <a:chExt cx="3119400" cy="796320"/>
          </a:xfrm>
        </p:grpSpPr>
        <p:sp>
          <p:nvSpPr>
            <p:cNvPr id="995" name="AutoShape 2"/>
            <p:cNvSpPr/>
            <p:nvPr/>
          </p:nvSpPr>
          <p:spPr>
            <a:xfrm>
              <a:off x="1414080" y="695160"/>
              <a:ext cx="2189160" cy="40968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996" name="AutoShape 11"/>
            <p:cNvSpPr/>
            <p:nvPr/>
          </p:nvSpPr>
          <p:spPr>
            <a:xfrm>
              <a:off x="776160" y="334800"/>
              <a:ext cx="844560" cy="72108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997" name="文本框 48"/>
            <p:cNvSpPr/>
            <p:nvPr/>
          </p:nvSpPr>
          <p:spPr>
            <a:xfrm>
              <a:off x="1463400" y="671400"/>
              <a:ext cx="243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作业提升方向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矩形 10"/>
          <p:cNvSpPr/>
          <p:nvPr/>
        </p:nvSpPr>
        <p:spPr>
          <a:xfrm>
            <a:off x="700200" y="1449360"/>
            <a:ext cx="7883280" cy="48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在括号里填上适当的分数。</a:t>
            </a:r>
            <a:endParaRPr b="1" lang="en-US" sz="23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9 cm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＝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dm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15 dm</a:t>
            </a:r>
            <a:r>
              <a:rPr b="1" lang="en-US" sz="23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＝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m</a:t>
            </a:r>
            <a:r>
              <a:rPr b="1" lang="en-US" sz="23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endParaRPr b="1" lang="en-US" sz="23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3 g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＝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kg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708 kg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＝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t</a:t>
            </a:r>
            <a:endParaRPr b="1" lang="en-US" sz="23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5 dm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＝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m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82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公顷＝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平方千米</a:t>
            </a:r>
            <a:endParaRPr b="1" lang="en-US" sz="23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960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平方米＝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 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公顷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＝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元</a:t>
            </a:r>
            <a:endParaRPr b="1" lang="en-US" sz="23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48 m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＝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km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7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秒＝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</a:t>
            </a:r>
            <a:endParaRPr b="1" lang="en-US" sz="23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4 cm</a:t>
            </a:r>
            <a:r>
              <a:rPr b="1" lang="en-US" sz="23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＝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dm</a:t>
            </a:r>
            <a:r>
              <a:rPr b="1" lang="en-US" sz="23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2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35 cm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＝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m</a:t>
            </a:r>
            <a:endParaRPr b="1" lang="en-US" sz="23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999" name="组合 11"/>
          <p:cNvGrpSpPr/>
          <p:nvPr/>
        </p:nvGrpSpPr>
        <p:grpSpPr>
          <a:xfrm>
            <a:off x="476280" y="441360"/>
            <a:ext cx="2852640" cy="668160"/>
            <a:chOff x="476280" y="441360"/>
            <a:chExt cx="2852640" cy="668160"/>
          </a:xfrm>
        </p:grpSpPr>
        <p:sp>
          <p:nvSpPr>
            <p:cNvPr id="1000" name="圆角矩形 19"/>
            <p:cNvSpPr/>
            <p:nvPr/>
          </p:nvSpPr>
          <p:spPr>
            <a:xfrm>
              <a:off x="1396800" y="66024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a6a6a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grpSp>
          <p:nvGrpSpPr>
            <p:cNvPr id="1001" name="组合 6"/>
            <p:cNvGrpSpPr/>
            <p:nvPr/>
          </p:nvGrpSpPr>
          <p:grpSpPr>
            <a:xfrm>
              <a:off x="476280" y="441360"/>
              <a:ext cx="2852640" cy="668160"/>
              <a:chOff x="476280" y="441360"/>
              <a:chExt cx="2852640" cy="668160"/>
            </a:xfrm>
          </p:grpSpPr>
          <p:sp>
            <p:nvSpPr>
              <p:cNvPr id="1002" name="文本框 13"/>
              <p:cNvSpPr/>
              <p:nvPr/>
            </p:nvSpPr>
            <p:spPr>
              <a:xfrm>
                <a:off x="1403640" y="647640"/>
                <a:ext cx="192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作业提升练</a:t>
                </a:r>
                <a:endParaRPr b="1" lang="en-US" sz="24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pic>
            <p:nvPicPr>
              <p:cNvPr id="1003" name="图片 9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280" y="441360"/>
                <a:ext cx="1083960" cy="66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004" name="对象 1" descr=""/>
          <p:cNvPicPr/>
          <p:nvPr/>
        </p:nvPicPr>
        <p:blipFill>
          <a:blip r:embed="rId2"/>
          <a:stretch/>
        </p:blipFill>
        <p:spPr>
          <a:xfrm>
            <a:off x="2508120" y="2046240"/>
            <a:ext cx="262080" cy="743040"/>
          </a:xfrm>
          <a:prstGeom prst="rect">
            <a:avLst/>
          </a:prstGeom>
          <a:ln w="0">
            <a:noFill/>
          </a:ln>
        </p:spPr>
      </p:pic>
      <p:pic>
        <p:nvPicPr>
          <p:cNvPr id="1005" name="对象 2" descr=""/>
          <p:cNvPicPr/>
          <p:nvPr/>
        </p:nvPicPr>
        <p:blipFill>
          <a:blip r:embed="rId3"/>
          <a:stretch/>
        </p:blipFill>
        <p:spPr>
          <a:xfrm>
            <a:off x="6450120" y="2060640"/>
            <a:ext cx="353880" cy="743040"/>
          </a:xfrm>
          <a:prstGeom prst="rect">
            <a:avLst/>
          </a:prstGeom>
          <a:ln w="0">
            <a:noFill/>
          </a:ln>
        </p:spPr>
      </p:pic>
      <p:pic>
        <p:nvPicPr>
          <p:cNvPr id="1006" name="对象 3" descr=""/>
          <p:cNvPicPr/>
          <p:nvPr/>
        </p:nvPicPr>
        <p:blipFill>
          <a:blip r:embed="rId4"/>
          <a:stretch/>
        </p:blipFill>
        <p:spPr>
          <a:xfrm>
            <a:off x="2346480" y="2781360"/>
            <a:ext cx="447480" cy="743040"/>
          </a:xfrm>
          <a:prstGeom prst="rect">
            <a:avLst/>
          </a:prstGeom>
          <a:ln w="0">
            <a:noFill/>
          </a:ln>
        </p:spPr>
      </p:pic>
      <p:pic>
        <p:nvPicPr>
          <p:cNvPr id="1007" name="对象 4" descr=""/>
          <p:cNvPicPr/>
          <p:nvPr/>
        </p:nvPicPr>
        <p:blipFill>
          <a:blip r:embed="rId5"/>
          <a:stretch/>
        </p:blipFill>
        <p:spPr>
          <a:xfrm>
            <a:off x="6280200" y="2781360"/>
            <a:ext cx="447480" cy="743040"/>
          </a:xfrm>
          <a:prstGeom prst="rect">
            <a:avLst/>
          </a:prstGeom>
          <a:ln w="0">
            <a:noFill/>
          </a:ln>
        </p:spPr>
      </p:pic>
      <p:pic>
        <p:nvPicPr>
          <p:cNvPr id="1008" name="对象 5" descr=""/>
          <p:cNvPicPr/>
          <p:nvPr/>
        </p:nvPicPr>
        <p:blipFill>
          <a:blip r:embed="rId6"/>
          <a:stretch/>
        </p:blipFill>
        <p:spPr>
          <a:xfrm>
            <a:off x="6505560" y="3429000"/>
            <a:ext cx="353880" cy="743040"/>
          </a:xfrm>
          <a:prstGeom prst="rect">
            <a:avLst/>
          </a:prstGeom>
          <a:ln w="0">
            <a:noFill/>
          </a:ln>
        </p:spPr>
      </p:pic>
      <p:pic>
        <p:nvPicPr>
          <p:cNvPr id="1009" name="对象 6" descr=""/>
          <p:cNvPicPr/>
          <p:nvPr/>
        </p:nvPicPr>
        <p:blipFill>
          <a:blip r:embed="rId7"/>
          <a:stretch/>
        </p:blipFill>
        <p:spPr>
          <a:xfrm>
            <a:off x="6039000" y="4113360"/>
            <a:ext cx="353880" cy="742680"/>
          </a:xfrm>
          <a:prstGeom prst="rect">
            <a:avLst/>
          </a:prstGeom>
          <a:ln w="0">
            <a:noFill/>
          </a:ln>
        </p:spPr>
      </p:pic>
      <p:pic>
        <p:nvPicPr>
          <p:cNvPr id="1010" name="对象 7" descr=""/>
          <p:cNvPicPr/>
          <p:nvPr/>
        </p:nvPicPr>
        <p:blipFill>
          <a:blip r:embed="rId8"/>
          <a:stretch/>
        </p:blipFill>
        <p:spPr>
          <a:xfrm>
            <a:off x="6084720" y="4869000"/>
            <a:ext cx="262080" cy="742680"/>
          </a:xfrm>
          <a:prstGeom prst="rect">
            <a:avLst/>
          </a:prstGeom>
          <a:ln w="0">
            <a:noFill/>
          </a:ln>
        </p:spPr>
      </p:pic>
      <p:pic>
        <p:nvPicPr>
          <p:cNvPr id="1011" name="对象 8" descr=""/>
          <p:cNvPicPr/>
          <p:nvPr/>
        </p:nvPicPr>
        <p:blipFill>
          <a:blip r:embed="rId9"/>
          <a:stretch/>
        </p:blipFill>
        <p:spPr>
          <a:xfrm>
            <a:off x="6326280" y="5576760"/>
            <a:ext cx="353880" cy="743040"/>
          </a:xfrm>
          <a:prstGeom prst="rect">
            <a:avLst/>
          </a:prstGeom>
          <a:ln w="0">
            <a:noFill/>
          </a:ln>
        </p:spPr>
      </p:pic>
      <p:pic>
        <p:nvPicPr>
          <p:cNvPr id="1012" name="对象 9" descr=""/>
          <p:cNvPicPr/>
          <p:nvPr/>
        </p:nvPicPr>
        <p:blipFill>
          <a:blip r:embed="rId10"/>
          <a:stretch/>
        </p:blipFill>
        <p:spPr>
          <a:xfrm>
            <a:off x="2700360" y="3513240"/>
            <a:ext cx="262080" cy="742680"/>
          </a:xfrm>
          <a:prstGeom prst="rect">
            <a:avLst/>
          </a:prstGeom>
          <a:ln w="0">
            <a:noFill/>
          </a:ln>
        </p:spPr>
      </p:pic>
      <p:pic>
        <p:nvPicPr>
          <p:cNvPr id="1013" name="对象 10" descr=""/>
          <p:cNvPicPr/>
          <p:nvPr/>
        </p:nvPicPr>
        <p:blipFill>
          <a:blip r:embed="rId11"/>
          <a:stretch/>
        </p:blipFill>
        <p:spPr>
          <a:xfrm>
            <a:off x="3168720" y="4113360"/>
            <a:ext cx="539640" cy="742680"/>
          </a:xfrm>
          <a:prstGeom prst="rect">
            <a:avLst/>
          </a:prstGeom>
          <a:ln w="0">
            <a:noFill/>
          </a:ln>
        </p:spPr>
      </p:pic>
      <p:pic>
        <p:nvPicPr>
          <p:cNvPr id="1014" name="对象 11" descr=""/>
          <p:cNvPicPr/>
          <p:nvPr/>
        </p:nvPicPr>
        <p:blipFill>
          <a:blip r:embed="rId12"/>
          <a:stretch/>
        </p:blipFill>
        <p:spPr>
          <a:xfrm>
            <a:off x="2608200" y="4834080"/>
            <a:ext cx="446040" cy="742680"/>
          </a:xfrm>
          <a:prstGeom prst="rect">
            <a:avLst/>
          </a:prstGeom>
          <a:ln w="0">
            <a:noFill/>
          </a:ln>
        </p:spPr>
      </p:pic>
      <p:pic>
        <p:nvPicPr>
          <p:cNvPr id="1015" name="对象 12" descr=""/>
          <p:cNvPicPr/>
          <p:nvPr/>
        </p:nvPicPr>
        <p:blipFill>
          <a:blip r:embed="rId13"/>
          <a:stretch/>
        </p:blipFill>
        <p:spPr>
          <a:xfrm>
            <a:off x="2654280" y="5576760"/>
            <a:ext cx="355680" cy="74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矩形 10"/>
          <p:cNvSpPr/>
          <p:nvPr/>
        </p:nvSpPr>
        <p:spPr>
          <a:xfrm>
            <a:off x="576360" y="1665360"/>
            <a:ext cx="8172360" cy="56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判断。</a:t>
            </a:r>
            <a:endParaRPr b="1" lang="en-US" sz="23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)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把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 kg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面粉平均分成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9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份，每份的质量占总质量的    。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1" lang="en-US" sz="23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)17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＝          时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1" lang="en-US" sz="23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3)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袋大米吃了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还剩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kg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1" lang="en-US" sz="23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4)7÷4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＝  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1" lang="en-US" sz="23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5)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求一个数是另一个数的几分之几，得到的商有单位。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1" lang="en-US" sz="23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1017" name="组合 11"/>
          <p:cNvGrpSpPr/>
          <p:nvPr/>
        </p:nvGrpSpPr>
        <p:grpSpPr>
          <a:xfrm>
            <a:off x="476280" y="441360"/>
            <a:ext cx="2852640" cy="668160"/>
            <a:chOff x="476280" y="441360"/>
            <a:chExt cx="2852640" cy="668160"/>
          </a:xfrm>
        </p:grpSpPr>
        <p:sp>
          <p:nvSpPr>
            <p:cNvPr id="1018" name="圆角矩形 5"/>
            <p:cNvSpPr/>
            <p:nvPr/>
          </p:nvSpPr>
          <p:spPr>
            <a:xfrm>
              <a:off x="1396800" y="66024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a6a6a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grpSp>
          <p:nvGrpSpPr>
            <p:cNvPr id="1019" name="组合 6"/>
            <p:cNvGrpSpPr/>
            <p:nvPr/>
          </p:nvGrpSpPr>
          <p:grpSpPr>
            <a:xfrm>
              <a:off x="476280" y="441360"/>
              <a:ext cx="2852640" cy="668160"/>
              <a:chOff x="476280" y="441360"/>
              <a:chExt cx="2852640" cy="668160"/>
            </a:xfrm>
          </p:grpSpPr>
          <p:sp>
            <p:nvSpPr>
              <p:cNvPr id="1020" name="文本框 13"/>
              <p:cNvSpPr/>
              <p:nvPr/>
            </p:nvSpPr>
            <p:spPr>
              <a:xfrm>
                <a:off x="1403640" y="647640"/>
                <a:ext cx="192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作业提升练</a:t>
                </a:r>
                <a:endParaRPr b="1" lang="en-US" sz="24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pic>
            <p:nvPicPr>
              <p:cNvPr id="1021" name="图片 9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280" y="441360"/>
                <a:ext cx="1083960" cy="66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022" name="对象 1" descr=""/>
          <p:cNvPicPr/>
          <p:nvPr/>
        </p:nvPicPr>
        <p:blipFill>
          <a:blip r:embed="rId2"/>
          <a:stretch/>
        </p:blipFill>
        <p:spPr>
          <a:xfrm>
            <a:off x="7308720" y="2446200"/>
            <a:ext cx="184320" cy="743040"/>
          </a:xfrm>
          <a:prstGeom prst="rect">
            <a:avLst/>
          </a:prstGeom>
          <a:ln w="0">
            <a:noFill/>
          </a:ln>
        </p:spPr>
      </p:pic>
      <p:pic>
        <p:nvPicPr>
          <p:cNvPr id="1023" name="对象 2" descr=""/>
          <p:cNvPicPr/>
          <p:nvPr/>
        </p:nvPicPr>
        <p:blipFill>
          <a:blip r:embed="rId3"/>
          <a:stretch/>
        </p:blipFill>
        <p:spPr>
          <a:xfrm>
            <a:off x="1967040" y="3156120"/>
            <a:ext cx="353880" cy="742680"/>
          </a:xfrm>
          <a:prstGeom prst="rect">
            <a:avLst/>
          </a:prstGeom>
          <a:ln w="0">
            <a:noFill/>
          </a:ln>
        </p:spPr>
      </p:pic>
      <p:pic>
        <p:nvPicPr>
          <p:cNvPr id="1024" name="对象 8" descr=""/>
          <p:cNvPicPr/>
          <p:nvPr/>
        </p:nvPicPr>
        <p:blipFill>
          <a:blip r:embed="rId4"/>
          <a:stretch/>
        </p:blipFill>
        <p:spPr>
          <a:xfrm>
            <a:off x="2879640" y="3835440"/>
            <a:ext cx="185760" cy="743040"/>
          </a:xfrm>
          <a:prstGeom prst="rect">
            <a:avLst/>
          </a:prstGeom>
          <a:ln w="0">
            <a:noFill/>
          </a:ln>
        </p:spPr>
      </p:pic>
      <p:pic>
        <p:nvPicPr>
          <p:cNvPr id="1025" name="对象 9" descr=""/>
          <p:cNvPicPr/>
          <p:nvPr/>
        </p:nvPicPr>
        <p:blipFill>
          <a:blip r:embed="rId5"/>
          <a:stretch/>
        </p:blipFill>
        <p:spPr>
          <a:xfrm>
            <a:off x="4284720" y="3835440"/>
            <a:ext cx="183960" cy="743040"/>
          </a:xfrm>
          <a:prstGeom prst="rect">
            <a:avLst/>
          </a:prstGeom>
          <a:ln w="0">
            <a:noFill/>
          </a:ln>
        </p:spPr>
      </p:pic>
      <p:pic>
        <p:nvPicPr>
          <p:cNvPr id="1026" name="对象 10" descr=""/>
          <p:cNvPicPr/>
          <p:nvPr/>
        </p:nvPicPr>
        <p:blipFill>
          <a:blip r:embed="rId6"/>
          <a:stretch/>
        </p:blipFill>
        <p:spPr>
          <a:xfrm>
            <a:off x="1979640" y="4522680"/>
            <a:ext cx="185760" cy="743040"/>
          </a:xfrm>
          <a:prstGeom prst="rect">
            <a:avLst/>
          </a:prstGeom>
          <a:ln w="0">
            <a:noFill/>
          </a:ln>
        </p:spPr>
      </p:pic>
      <p:sp>
        <p:nvSpPr>
          <p:cNvPr id="1027" name="矩形 2"/>
          <p:cNvSpPr/>
          <p:nvPr/>
        </p:nvSpPr>
        <p:spPr>
          <a:xfrm>
            <a:off x="8060040" y="2622600"/>
            <a:ext cx="346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×</a:t>
            </a:r>
            <a:endParaRPr b="1" lang="en-US" sz="23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8" name="矩形 3"/>
          <p:cNvSpPr/>
          <p:nvPr/>
        </p:nvSpPr>
        <p:spPr>
          <a:xfrm>
            <a:off x="8075160" y="3335400"/>
            <a:ext cx="346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×</a:t>
            </a:r>
            <a:endParaRPr b="1" lang="en-US" sz="23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9" name="矩形 4"/>
          <p:cNvSpPr/>
          <p:nvPr/>
        </p:nvSpPr>
        <p:spPr>
          <a:xfrm>
            <a:off x="8079120" y="4032360"/>
            <a:ext cx="346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×</a:t>
            </a:r>
            <a:endParaRPr b="1" lang="en-US" sz="23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0" name="矩形 6"/>
          <p:cNvSpPr/>
          <p:nvPr/>
        </p:nvSpPr>
        <p:spPr>
          <a:xfrm>
            <a:off x="8013960" y="4749840"/>
            <a:ext cx="346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×</a:t>
            </a:r>
            <a:endParaRPr b="1" lang="en-US" sz="23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1" name="矩形 7"/>
          <p:cNvSpPr/>
          <p:nvPr/>
        </p:nvSpPr>
        <p:spPr>
          <a:xfrm>
            <a:off x="8006040" y="5419800"/>
            <a:ext cx="346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×</a:t>
            </a:r>
            <a:endParaRPr b="1" lang="en-US" sz="23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矩形 10"/>
          <p:cNvSpPr/>
          <p:nvPr/>
        </p:nvSpPr>
        <p:spPr>
          <a:xfrm>
            <a:off x="719280" y="1857240"/>
            <a:ext cx="7705440" cy="37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师傅和徒弟一共加工了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0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零件，其中师傅加工了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7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。</a:t>
            </a:r>
            <a:endParaRPr b="1" lang="en-US" sz="23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)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师傅加工的占总数的几分之几？</a:t>
            </a:r>
            <a:endParaRPr b="1" lang="en-US" sz="23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)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徒弟加工的占总数的几分之几？</a:t>
            </a:r>
            <a:endParaRPr b="1" lang="en-US" sz="23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1033" name="组合 8"/>
          <p:cNvGrpSpPr/>
          <p:nvPr/>
        </p:nvGrpSpPr>
        <p:grpSpPr>
          <a:xfrm>
            <a:off x="1079640" y="2843280"/>
            <a:ext cx="4527360" cy="1247760"/>
            <a:chOff x="1079640" y="2843280"/>
            <a:chExt cx="4527360" cy="1247760"/>
          </a:xfrm>
        </p:grpSpPr>
        <p:sp>
          <p:nvSpPr>
            <p:cNvPr id="1034" name="矩形 2"/>
            <p:cNvSpPr/>
            <p:nvPr/>
          </p:nvSpPr>
          <p:spPr>
            <a:xfrm>
              <a:off x="1079640" y="2901960"/>
              <a:ext cx="4527360" cy="11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37÷60</a:t>
              </a:r>
              <a:r>
                <a:rPr b="1" lang="zh-CN" sz="23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＝　</a:t>
              </a:r>
              <a:endParaRPr b="1" lang="en-US" sz="2300" spc="-1" strike="noStrike">
                <a:solidFill>
                  <a:srgbClr val="000000"/>
                </a:solidFill>
                <a:latin typeface="微软雅黑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答：师傅加工的占总数的         。</a:t>
              </a:r>
              <a:endParaRPr b="1" lang="en-US" sz="23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1035" name="对象 5" descr=""/>
            <p:cNvPicPr/>
            <p:nvPr/>
          </p:nvPicPr>
          <p:blipFill>
            <a:blip r:embed="rId1"/>
            <a:stretch/>
          </p:blipFill>
          <p:spPr>
            <a:xfrm>
              <a:off x="2414520" y="2843280"/>
              <a:ext cx="277560" cy="7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6" name="对象 6" descr=""/>
            <p:cNvPicPr/>
            <p:nvPr/>
          </p:nvPicPr>
          <p:blipFill>
            <a:blip r:embed="rId2"/>
            <a:stretch/>
          </p:blipFill>
          <p:spPr>
            <a:xfrm>
              <a:off x="4550760" y="3348000"/>
              <a:ext cx="277560" cy="743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7" name="组合 9"/>
          <p:cNvGrpSpPr/>
          <p:nvPr/>
        </p:nvGrpSpPr>
        <p:grpSpPr>
          <a:xfrm>
            <a:off x="1150920" y="4475160"/>
            <a:ext cx="4521240" cy="1330200"/>
            <a:chOff x="1150920" y="4475160"/>
            <a:chExt cx="4521240" cy="1330200"/>
          </a:xfrm>
        </p:grpSpPr>
        <p:sp>
          <p:nvSpPr>
            <p:cNvPr id="1038" name="矩形 3"/>
            <p:cNvSpPr/>
            <p:nvPr/>
          </p:nvSpPr>
          <p:spPr>
            <a:xfrm>
              <a:off x="1150920" y="4557960"/>
              <a:ext cx="4521240" cy="11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(60</a:t>
              </a:r>
              <a:r>
                <a:rPr b="1" lang="zh-CN" sz="23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－</a:t>
              </a:r>
              <a:r>
                <a:rPr b="1" lang="en-US" sz="23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37)÷60</a:t>
              </a:r>
              <a:r>
                <a:rPr b="1" lang="zh-CN" sz="23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＝　</a:t>
              </a:r>
              <a:endParaRPr b="1" lang="en-US" sz="2300" spc="-1" strike="noStrike">
                <a:solidFill>
                  <a:srgbClr val="000000"/>
                </a:solidFill>
                <a:latin typeface="微软雅黑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答：徒弟加工的占总数的       。</a:t>
              </a:r>
              <a:endParaRPr b="1" lang="en-US" sz="23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1039" name="对象 4" descr=""/>
            <p:cNvPicPr/>
            <p:nvPr/>
          </p:nvPicPr>
          <p:blipFill>
            <a:blip r:embed="rId3"/>
            <a:stretch/>
          </p:blipFill>
          <p:spPr>
            <a:xfrm>
              <a:off x="3304800" y="4475160"/>
              <a:ext cx="277560" cy="7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对象 7" descr=""/>
            <p:cNvPicPr/>
            <p:nvPr/>
          </p:nvPicPr>
          <p:blipFill>
            <a:blip r:embed="rId4"/>
            <a:stretch/>
          </p:blipFill>
          <p:spPr>
            <a:xfrm>
              <a:off x="4572000" y="5062320"/>
              <a:ext cx="277560" cy="7430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矩形 10"/>
          <p:cNvSpPr/>
          <p:nvPr/>
        </p:nvSpPr>
        <p:spPr>
          <a:xfrm>
            <a:off x="934920" y="1376280"/>
            <a:ext cx="7705800" cy="51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9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为了庆六一，同学们做了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6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朵红花和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7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朵黄花。</a:t>
            </a:r>
            <a:endParaRPr b="1" lang="en-US" sz="22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黄花的朵数是红花的几分之几？</a:t>
            </a:r>
            <a:endParaRPr b="1" lang="en-US" sz="22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红花的朵数是黄花的几倍？</a:t>
            </a:r>
            <a:endParaRPr b="1" lang="en-US" sz="22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3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红花的朵数占两种花总朵数的几分之几？</a:t>
            </a:r>
            <a:endParaRPr b="1" lang="en-US" sz="22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1042" name="组合 10"/>
          <p:cNvGrpSpPr/>
          <p:nvPr/>
        </p:nvGrpSpPr>
        <p:grpSpPr>
          <a:xfrm>
            <a:off x="1295280" y="2276640"/>
            <a:ext cx="4183200" cy="1282680"/>
            <a:chOff x="1295280" y="2276640"/>
            <a:chExt cx="4183200" cy="1282680"/>
          </a:xfrm>
        </p:grpSpPr>
        <p:sp>
          <p:nvSpPr>
            <p:cNvPr id="1043" name="矩形 1"/>
            <p:cNvSpPr/>
            <p:nvPr/>
          </p:nvSpPr>
          <p:spPr>
            <a:xfrm>
              <a:off x="1295280" y="2349000"/>
              <a:ext cx="4183200" cy="11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27÷36</a:t>
              </a:r>
              <a:r>
                <a:rPr b="1" lang="zh-CN" sz="23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＝　</a:t>
              </a:r>
              <a:endParaRPr b="1" lang="en-US" sz="2300" spc="-1" strike="noStrike">
                <a:solidFill>
                  <a:srgbClr val="000000"/>
                </a:solidFill>
                <a:latin typeface="微软雅黑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答：黄花的朵数是红花的       。</a:t>
              </a:r>
              <a:endParaRPr b="1" lang="en-US" sz="23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1044" name="对象 4" descr=""/>
            <p:cNvPicPr/>
            <p:nvPr/>
          </p:nvPicPr>
          <p:blipFill>
            <a:blip r:embed="rId1"/>
            <a:stretch/>
          </p:blipFill>
          <p:spPr>
            <a:xfrm>
              <a:off x="2664720" y="2276640"/>
              <a:ext cx="279360" cy="74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5" name="对象 5" descr=""/>
            <p:cNvPicPr/>
            <p:nvPr/>
          </p:nvPicPr>
          <p:blipFill>
            <a:blip r:embed="rId2"/>
            <a:stretch/>
          </p:blipFill>
          <p:spPr>
            <a:xfrm>
              <a:off x="4688280" y="2816640"/>
              <a:ext cx="279360" cy="742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46" name="组合 11"/>
          <p:cNvGrpSpPr/>
          <p:nvPr/>
        </p:nvGrpSpPr>
        <p:grpSpPr>
          <a:xfrm>
            <a:off x="1301760" y="3778200"/>
            <a:ext cx="4278240" cy="1235160"/>
            <a:chOff x="1301760" y="3778200"/>
            <a:chExt cx="4278240" cy="1235160"/>
          </a:xfrm>
        </p:grpSpPr>
        <p:sp>
          <p:nvSpPr>
            <p:cNvPr id="1047" name="矩形 3"/>
            <p:cNvSpPr/>
            <p:nvPr/>
          </p:nvSpPr>
          <p:spPr>
            <a:xfrm>
              <a:off x="1301760" y="3860640"/>
              <a:ext cx="4278240" cy="10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36÷27</a:t>
              </a:r>
              <a:r>
                <a:rPr b="1" lang="zh-CN" sz="2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＝　</a:t>
              </a:r>
              <a:endParaRPr b="1" lang="en-US" sz="2200" spc="-1" strike="noStrike">
                <a:solidFill>
                  <a:srgbClr val="000000"/>
                </a:solidFill>
                <a:latin typeface="微软雅黑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答：红花的朵数是黄花的       倍。</a:t>
              </a:r>
              <a:endParaRPr b="1" lang="en-US" sz="22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1048" name="对象 6" descr=""/>
            <p:cNvPicPr/>
            <p:nvPr/>
          </p:nvPicPr>
          <p:blipFill>
            <a:blip r:embed="rId3"/>
            <a:stretch/>
          </p:blipFill>
          <p:spPr>
            <a:xfrm>
              <a:off x="2545560" y="3778200"/>
              <a:ext cx="279360" cy="74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9" name="对象 7" descr=""/>
            <p:cNvPicPr/>
            <p:nvPr/>
          </p:nvPicPr>
          <p:blipFill>
            <a:blip r:embed="rId4"/>
            <a:stretch/>
          </p:blipFill>
          <p:spPr>
            <a:xfrm>
              <a:off x="4572000" y="4269960"/>
              <a:ext cx="279360" cy="743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0" name="组合 12"/>
          <p:cNvGrpSpPr/>
          <p:nvPr/>
        </p:nvGrpSpPr>
        <p:grpSpPr>
          <a:xfrm>
            <a:off x="1314360" y="5315040"/>
            <a:ext cx="5921640" cy="1245960"/>
            <a:chOff x="1314360" y="5315040"/>
            <a:chExt cx="5921640" cy="1245960"/>
          </a:xfrm>
        </p:grpSpPr>
        <p:sp>
          <p:nvSpPr>
            <p:cNvPr id="1051" name="矩形 2"/>
            <p:cNvSpPr/>
            <p:nvPr/>
          </p:nvSpPr>
          <p:spPr>
            <a:xfrm>
              <a:off x="1314360" y="5409720"/>
              <a:ext cx="5921640" cy="10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36÷(36</a:t>
              </a:r>
              <a:r>
                <a:rPr b="1" lang="zh-CN" sz="2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＋</a:t>
              </a:r>
              <a:r>
                <a:rPr b="1" lang="en-US" sz="2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27)</a:t>
              </a:r>
              <a:r>
                <a:rPr b="1" lang="zh-CN" sz="2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＝</a:t>
              </a:r>
              <a:endParaRPr b="1" lang="en-US" sz="2200" spc="-1" strike="noStrike">
                <a:solidFill>
                  <a:srgbClr val="000000"/>
                </a:solidFill>
                <a:latin typeface="微软雅黑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答：红花的朵数占两种花总朵数的</a:t>
              </a:r>
              <a:r>
                <a:rPr b="1" lang="en-US" sz="2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        </a:t>
              </a:r>
              <a:r>
                <a:rPr b="1" lang="zh-CN" sz="2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。</a:t>
              </a:r>
              <a:endParaRPr b="1" lang="en-US" sz="22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1052" name="对象 8" descr=""/>
            <p:cNvPicPr/>
            <p:nvPr/>
          </p:nvPicPr>
          <p:blipFill>
            <a:blip r:embed="rId5"/>
            <a:stretch/>
          </p:blipFill>
          <p:spPr>
            <a:xfrm>
              <a:off x="3347280" y="5315040"/>
              <a:ext cx="279360" cy="74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3" name="对象 9" descr=""/>
            <p:cNvPicPr/>
            <p:nvPr/>
          </p:nvPicPr>
          <p:blipFill>
            <a:blip r:embed="rId6"/>
            <a:stretch/>
          </p:blipFill>
          <p:spPr>
            <a:xfrm>
              <a:off x="5687640" y="5818680"/>
              <a:ext cx="279360" cy="7423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4" name="组合 14"/>
          <p:cNvGrpSpPr/>
          <p:nvPr/>
        </p:nvGrpSpPr>
        <p:grpSpPr>
          <a:xfrm>
            <a:off x="476280" y="441360"/>
            <a:ext cx="2852640" cy="668160"/>
            <a:chOff x="476280" y="441360"/>
            <a:chExt cx="2852640" cy="668160"/>
          </a:xfrm>
        </p:grpSpPr>
        <p:sp>
          <p:nvSpPr>
            <p:cNvPr id="1055" name="圆角矩形 15"/>
            <p:cNvSpPr/>
            <p:nvPr/>
          </p:nvSpPr>
          <p:spPr>
            <a:xfrm>
              <a:off x="1396800" y="66024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a6a6a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grpSp>
          <p:nvGrpSpPr>
            <p:cNvPr id="1056" name="组合 16"/>
            <p:cNvGrpSpPr/>
            <p:nvPr/>
          </p:nvGrpSpPr>
          <p:grpSpPr>
            <a:xfrm>
              <a:off x="476280" y="441360"/>
              <a:ext cx="2852640" cy="668160"/>
              <a:chOff x="476280" y="441360"/>
              <a:chExt cx="2852640" cy="668160"/>
            </a:xfrm>
          </p:grpSpPr>
          <p:sp>
            <p:nvSpPr>
              <p:cNvPr id="1057" name="文本框 13"/>
              <p:cNvSpPr/>
              <p:nvPr/>
            </p:nvSpPr>
            <p:spPr>
              <a:xfrm>
                <a:off x="1403640" y="647640"/>
                <a:ext cx="192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作业拓展练</a:t>
                </a:r>
                <a:endParaRPr b="1" lang="en-US" sz="24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pic>
            <p:nvPicPr>
              <p:cNvPr id="1058" name="图片 9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280" y="441360"/>
                <a:ext cx="1083960" cy="66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59" name="矩形 19"/>
          <p:cNvSpPr/>
          <p:nvPr/>
        </p:nvSpPr>
        <p:spPr>
          <a:xfrm>
            <a:off x="324000" y="1449360"/>
            <a:ext cx="8280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7120" indent="-6271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有同样大小的灰、黑、白球共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3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，按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灰球、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黑球、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白球的顺序依次排列，三种颜色的球各占总数的几分之几？</a:t>
            </a:r>
            <a:endParaRPr b="1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060" name="Picture 28" descr=""/>
          <p:cNvPicPr/>
          <p:nvPr/>
        </p:nvPicPr>
        <p:blipFill>
          <a:blip r:embed="rId2"/>
          <a:stretch/>
        </p:blipFill>
        <p:spPr>
          <a:xfrm>
            <a:off x="3421080" y="2276640"/>
            <a:ext cx="2771640" cy="1110960"/>
          </a:xfrm>
          <a:prstGeom prst="rect">
            <a:avLst/>
          </a:prstGeom>
          <a:ln w="0">
            <a:noFill/>
          </a:ln>
        </p:spPr>
      </p:pic>
      <p:grpSp>
        <p:nvGrpSpPr>
          <p:cNvPr id="1061" name="组合 8"/>
          <p:cNvGrpSpPr/>
          <p:nvPr/>
        </p:nvGrpSpPr>
        <p:grpSpPr>
          <a:xfrm>
            <a:off x="1025640" y="2600280"/>
            <a:ext cx="7981920" cy="3889440"/>
            <a:chOff x="1025640" y="2600280"/>
            <a:chExt cx="7981920" cy="3889440"/>
          </a:xfrm>
        </p:grpSpPr>
        <p:sp>
          <p:nvSpPr>
            <p:cNvPr id="1062" name="矩形 2"/>
            <p:cNvSpPr/>
            <p:nvPr/>
          </p:nvSpPr>
          <p:spPr>
            <a:xfrm>
              <a:off x="1025640" y="2600280"/>
              <a:ext cx="7981920" cy="37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627120" indent="-62712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1</a:t>
              </a:r>
              <a:r>
                <a:rPr b="1" lang="zh-CN" sz="2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＋</a:t>
              </a:r>
              <a:r>
                <a:rPr b="1" lang="en-US" sz="2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2</a:t>
              </a:r>
              <a:r>
                <a:rPr b="1" lang="zh-CN" sz="2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＋</a:t>
              </a:r>
              <a:r>
                <a:rPr b="1" lang="en-US" sz="2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3</a:t>
              </a:r>
              <a:r>
                <a:rPr b="1" lang="zh-CN" sz="2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＝</a:t>
              </a:r>
              <a:r>
                <a:rPr b="1" lang="en-US" sz="2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6(</a:t>
              </a:r>
              <a:r>
                <a:rPr b="1" lang="zh-CN" sz="2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个</a:t>
              </a:r>
              <a:r>
                <a:rPr b="1" lang="en-US" sz="2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)</a:t>
              </a:r>
              <a:endParaRPr b="1" lang="en-US" sz="2200" spc="-1" strike="noStrike">
                <a:solidFill>
                  <a:srgbClr val="000000"/>
                </a:solidFill>
                <a:latin typeface="微软雅黑"/>
              </a:endParaRPr>
            </a:p>
            <a:p>
              <a:pPr marL="627120" indent="-62712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73÷6</a:t>
              </a:r>
              <a:r>
                <a:rPr b="1" lang="zh-CN" sz="2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＝</a:t>
              </a:r>
              <a:r>
                <a:rPr b="1" lang="en-US" sz="2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12(</a:t>
              </a:r>
              <a:r>
                <a:rPr b="1" lang="zh-CN" sz="2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组</a:t>
              </a:r>
              <a:r>
                <a:rPr b="1" lang="en-US" sz="2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)……1(</a:t>
              </a:r>
              <a:r>
                <a:rPr b="1" lang="zh-CN" sz="2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个</a:t>
              </a:r>
              <a:r>
                <a:rPr b="1" lang="en-US" sz="2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)</a:t>
              </a:r>
              <a:endParaRPr b="1" lang="en-US" sz="2200" spc="-1" strike="noStrike">
                <a:solidFill>
                  <a:srgbClr val="000000"/>
                </a:solidFill>
                <a:latin typeface="微软雅黑"/>
              </a:endParaRPr>
            </a:p>
            <a:p>
              <a:pPr marL="627120" indent="-627120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1×12</a:t>
              </a:r>
              <a:r>
                <a:rPr b="1" lang="zh-CN" sz="2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＋</a:t>
              </a:r>
              <a:r>
                <a:rPr b="1" lang="en-US" sz="2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1</a:t>
              </a:r>
              <a:r>
                <a:rPr b="1" lang="zh-CN" sz="2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＝</a:t>
              </a:r>
              <a:r>
                <a:rPr b="1" lang="en-US" sz="2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13(</a:t>
              </a:r>
              <a:r>
                <a:rPr b="1" lang="zh-CN" sz="2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个</a:t>
              </a:r>
              <a:r>
                <a:rPr b="1" lang="en-US" sz="2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)</a:t>
              </a:r>
              <a:r>
                <a:rPr b="1" lang="zh-CN" sz="2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　 </a:t>
              </a:r>
              <a:r>
                <a:rPr b="1" lang="en-US" sz="2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13÷73</a:t>
              </a:r>
              <a:r>
                <a:rPr b="1" lang="zh-CN" sz="2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＝</a:t>
              </a:r>
              <a:endParaRPr b="1" lang="en-US" sz="2200" spc="-1" strike="noStrike">
                <a:solidFill>
                  <a:srgbClr val="000000"/>
                </a:solidFill>
                <a:latin typeface="微软雅黑"/>
              </a:endParaRPr>
            </a:p>
            <a:p>
              <a:pPr marL="627120" indent="-627120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2×12</a:t>
              </a:r>
              <a:r>
                <a:rPr b="1" lang="zh-CN" sz="2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＝</a:t>
              </a:r>
              <a:r>
                <a:rPr b="1" lang="en-US" sz="2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24(</a:t>
              </a:r>
              <a:r>
                <a:rPr b="1" lang="zh-CN" sz="2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个</a:t>
              </a:r>
              <a:r>
                <a:rPr b="1" lang="en-US" sz="2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)</a:t>
              </a:r>
              <a:r>
                <a:rPr b="1" lang="zh-CN" sz="2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　</a:t>
              </a:r>
              <a:r>
                <a:rPr b="1" lang="en-US" sz="2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24÷73</a:t>
              </a:r>
              <a:r>
                <a:rPr b="1" lang="zh-CN" sz="2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＝</a:t>
              </a:r>
              <a:endParaRPr b="1" lang="en-US" sz="2200" spc="-1" strike="noStrike">
                <a:solidFill>
                  <a:srgbClr val="000000"/>
                </a:solidFill>
                <a:latin typeface="微软雅黑"/>
              </a:endParaRPr>
            </a:p>
            <a:p>
              <a:pPr marL="627120" indent="-627120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3×12</a:t>
              </a:r>
              <a:r>
                <a:rPr b="1" lang="zh-CN" sz="2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＝</a:t>
              </a:r>
              <a:r>
                <a:rPr b="1" lang="en-US" sz="2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36 (</a:t>
              </a:r>
              <a:r>
                <a:rPr b="1" lang="zh-CN" sz="2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个</a:t>
              </a:r>
              <a:r>
                <a:rPr b="1" lang="en-US" sz="2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)</a:t>
              </a:r>
              <a:r>
                <a:rPr b="1" lang="zh-CN" sz="2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　</a:t>
              </a:r>
              <a:r>
                <a:rPr b="1" lang="en-US" sz="2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36÷73</a:t>
              </a:r>
              <a:r>
                <a:rPr b="1" lang="zh-CN" sz="2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＝</a:t>
              </a:r>
              <a:endParaRPr b="1" lang="en-US" sz="2200" spc="-1" strike="noStrike">
                <a:solidFill>
                  <a:srgbClr val="000000"/>
                </a:solidFill>
                <a:latin typeface="微软雅黑"/>
              </a:endParaRPr>
            </a:p>
            <a:p>
              <a:pPr marL="627120" indent="-627120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答：灰球占总数的       ，黑球占总数的       ，白球占总数的</a:t>
              </a:r>
              <a:r>
                <a:rPr b="1" lang="en-US" sz="2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      </a:t>
              </a:r>
              <a:r>
                <a:rPr b="1" lang="zh-CN" sz="2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。</a:t>
              </a:r>
              <a:endParaRPr b="1" lang="en-US" sz="22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1063" name="对象 5" descr=""/>
            <p:cNvPicPr/>
            <p:nvPr/>
          </p:nvPicPr>
          <p:blipFill>
            <a:blip r:embed="rId3"/>
            <a:stretch/>
          </p:blipFill>
          <p:spPr>
            <a:xfrm>
              <a:off x="4815360" y="3644640"/>
              <a:ext cx="263520" cy="7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对象 6" descr=""/>
            <p:cNvPicPr/>
            <p:nvPr/>
          </p:nvPicPr>
          <p:blipFill>
            <a:blip r:embed="rId4"/>
            <a:stretch/>
          </p:blipFill>
          <p:spPr>
            <a:xfrm>
              <a:off x="4221000" y="4305240"/>
              <a:ext cx="279360" cy="7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5" name="对象 7" descr=""/>
            <p:cNvPicPr/>
            <p:nvPr/>
          </p:nvPicPr>
          <p:blipFill>
            <a:blip r:embed="rId5"/>
            <a:stretch/>
          </p:blipFill>
          <p:spPr>
            <a:xfrm>
              <a:off x="4428000" y="4977000"/>
              <a:ext cx="279360" cy="7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6" name="对象 1" descr=""/>
            <p:cNvPicPr/>
            <p:nvPr/>
          </p:nvPicPr>
          <p:blipFill>
            <a:blip r:embed="rId6"/>
            <a:stretch/>
          </p:blipFill>
          <p:spPr>
            <a:xfrm>
              <a:off x="3427920" y="5710680"/>
              <a:ext cx="264960" cy="7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7" name="对象 3" descr=""/>
            <p:cNvPicPr/>
            <p:nvPr/>
          </p:nvPicPr>
          <p:blipFill>
            <a:blip r:embed="rId7"/>
            <a:stretch/>
          </p:blipFill>
          <p:spPr>
            <a:xfrm>
              <a:off x="5898240" y="5746680"/>
              <a:ext cx="279360" cy="7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8" name="对象 4" descr=""/>
            <p:cNvPicPr/>
            <p:nvPr/>
          </p:nvPicPr>
          <p:blipFill>
            <a:blip r:embed="rId8"/>
            <a:stretch/>
          </p:blipFill>
          <p:spPr>
            <a:xfrm>
              <a:off x="8325720" y="5659920"/>
              <a:ext cx="279360" cy="7430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标题 1"/>
          <p:cNvSpPr/>
          <p:nvPr/>
        </p:nvSpPr>
        <p:spPr>
          <a:xfrm>
            <a:off x="1095480" y="2103480"/>
            <a:ext cx="69530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假分数化成带分数（或整数）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1070" name="组合 1"/>
          <p:cNvGrpSpPr/>
          <p:nvPr/>
        </p:nvGrpSpPr>
        <p:grpSpPr>
          <a:xfrm>
            <a:off x="539640" y="4022640"/>
            <a:ext cx="2160720" cy="399960"/>
            <a:chOff x="539640" y="4022640"/>
            <a:chExt cx="2160720" cy="399960"/>
          </a:xfrm>
        </p:grpSpPr>
        <p:sp>
          <p:nvSpPr>
            <p:cNvPr id="1071" name="矩形 41"/>
            <p:cNvSpPr/>
            <p:nvPr/>
          </p:nvSpPr>
          <p:spPr>
            <a:xfrm>
              <a:off x="971280" y="4051080"/>
              <a:ext cx="1584360" cy="3603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dfe9de">
                    <a:alpha val="5411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1072" name="Picture 5" descr="C:\Documents and Settings\pub\Desktop\未命名文件夹 4\按钮\按钮3.jpg"/>
            <p:cNvPicPr/>
            <p:nvPr/>
          </p:nvPicPr>
          <p:blipFill>
            <a:blip r:embed="rId1"/>
            <a:stretch/>
          </p:blipFill>
          <p:spPr>
            <a:xfrm>
              <a:off x="539640" y="4065480"/>
              <a:ext cx="357120" cy="3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3" name="Text Box 12"/>
            <p:cNvSpPr/>
            <p:nvPr/>
          </p:nvSpPr>
          <p:spPr>
            <a:xfrm>
              <a:off x="973080" y="4022640"/>
              <a:ext cx="172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Adobe 楷体 Std R"/>
                </a:rPr>
                <a:t>作业提升练</a:t>
              </a:r>
              <a:endParaRPr b="1" lang="en-US" sz="20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  <p:grpSp>
        <p:nvGrpSpPr>
          <p:cNvPr id="1074" name="组合 2"/>
          <p:cNvGrpSpPr/>
          <p:nvPr/>
        </p:nvGrpSpPr>
        <p:grpSpPr>
          <a:xfrm>
            <a:off x="1332000" y="4599000"/>
            <a:ext cx="2340000" cy="399960"/>
            <a:chOff x="1332000" y="4599000"/>
            <a:chExt cx="2340000" cy="399960"/>
          </a:xfrm>
        </p:grpSpPr>
        <p:sp>
          <p:nvSpPr>
            <p:cNvPr id="1075" name="矩形 42"/>
            <p:cNvSpPr/>
            <p:nvPr/>
          </p:nvSpPr>
          <p:spPr>
            <a:xfrm>
              <a:off x="1763640" y="4627440"/>
              <a:ext cx="1584360" cy="3603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dfe9de">
                    <a:alpha val="5411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1076" name="Picture 5" descr="C:\Documents and Settings\pub\Desktop\未命名文件夹 4\按钮\按钮3.jpg"/>
            <p:cNvPicPr/>
            <p:nvPr/>
          </p:nvPicPr>
          <p:blipFill>
            <a:blip r:embed="rId2"/>
            <a:stretch/>
          </p:blipFill>
          <p:spPr>
            <a:xfrm>
              <a:off x="1332000" y="4641840"/>
              <a:ext cx="357120" cy="3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7" name="Text Box 12"/>
            <p:cNvSpPr/>
            <p:nvPr/>
          </p:nvSpPr>
          <p:spPr>
            <a:xfrm>
              <a:off x="1765080" y="4599000"/>
              <a:ext cx="190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Adobe 楷体 Std R"/>
                </a:rPr>
                <a:t>作业拓展练</a:t>
              </a:r>
              <a:endParaRPr b="1" lang="en-US" sz="20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  <p:sp>
        <p:nvSpPr>
          <p:cNvPr id="1078" name="TextBox 20"/>
          <p:cNvSpPr/>
          <p:nvPr/>
        </p:nvSpPr>
        <p:spPr>
          <a:xfrm>
            <a:off x="6310080" y="1214280"/>
            <a:ext cx="17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QD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五年级下册</a:t>
            </a: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79" name="TextBox 22"/>
          <p:cNvSpPr/>
          <p:nvPr/>
        </p:nvSpPr>
        <p:spPr>
          <a:xfrm>
            <a:off x="3866400" y="3711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Calibri"/>
                <a:ea typeface="宋体"/>
              </a:rPr>
              <a:t>作业习题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80" name="TextBox 4"/>
          <p:cNvSpPr/>
          <p:nvPr/>
        </p:nvSpPr>
        <p:spPr>
          <a:xfrm>
            <a:off x="3786120" y="1684440"/>
            <a:ext cx="4572000" cy="4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楷体"/>
              </a:rPr>
              <a:t>2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楷体"/>
              </a:rPr>
              <a:t>校园艺术节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楷体"/>
              </a:rPr>
              <a:t>——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楷体"/>
              </a:rPr>
              <a:t>分数的意义和性质</a:t>
            </a:r>
            <a:endParaRPr b="1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Rectangle 2"/>
          <p:cNvSpPr/>
          <p:nvPr/>
        </p:nvSpPr>
        <p:spPr>
          <a:xfrm>
            <a:off x="1440000" y="1268280"/>
            <a:ext cx="65530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假分数与带分数的互化变式应用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1082" name="组 45"/>
          <p:cNvGrpSpPr/>
          <p:nvPr/>
        </p:nvGrpSpPr>
        <p:grpSpPr>
          <a:xfrm>
            <a:off x="776160" y="334800"/>
            <a:ext cx="3119400" cy="796320"/>
            <a:chOff x="776160" y="334800"/>
            <a:chExt cx="3119400" cy="796320"/>
          </a:xfrm>
        </p:grpSpPr>
        <p:sp>
          <p:nvSpPr>
            <p:cNvPr id="1083" name="AutoShape 2"/>
            <p:cNvSpPr/>
            <p:nvPr/>
          </p:nvSpPr>
          <p:spPr>
            <a:xfrm>
              <a:off x="1414080" y="695160"/>
              <a:ext cx="2189160" cy="40968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1084" name="AutoShape 11"/>
            <p:cNvSpPr/>
            <p:nvPr/>
          </p:nvSpPr>
          <p:spPr>
            <a:xfrm>
              <a:off x="776160" y="334800"/>
              <a:ext cx="844560" cy="72108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1085" name="文本框 48"/>
            <p:cNvSpPr/>
            <p:nvPr/>
          </p:nvSpPr>
          <p:spPr>
            <a:xfrm>
              <a:off x="1463400" y="671400"/>
              <a:ext cx="243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作业提升方向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8T08:32:11Z</dcterms:created>
  <dc:creator>Administrator</dc:creator>
  <dc:description/>
  <dc:language>en-US</dc:language>
  <cp:lastModifiedBy>相忘于江湖</cp:lastModifiedBy>
  <dcterms:modified xsi:type="dcterms:W3CDTF">2018-01-07T06:56:09Z</dcterms:modified>
  <cp:revision>15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