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B1A-E3A0-4486-B8EE-E10F4641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D4A-CE78-4222-B2FE-351730D0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3FE-69D1-49C4-87D0-590C3A22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9F5-B135-46ED-954D-810868A7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A86-9C8E-42DA-A1C2-5F264625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185-C800-4877-A65D-2E7F5077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6A3-A235-4B28-AF63-7BFCE0BC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A6E-E89F-40B4-89A0-33F5B540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EBA-8C8D-4F43-9C6C-3BAD2C2E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2AD-85BE-4677-B144-3BF5705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FA8-B345-4CCA-A5E2-E0EB6D7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3F3-4C90-4794-8D6F-0B99003B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A3A7-F157-493E-A9F6-561149474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剪纸中的学问</a:t>
            </a: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208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09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24680" y="4778280"/>
            <a:ext cx="2119320" cy="207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819680"/>
            <a:ext cx="2124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758960" y="1197000"/>
            <a:ext cx="6910200" cy="518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63640" y="1197000"/>
            <a:ext cx="863640" cy="86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629080" y="1197000"/>
            <a:ext cx="863280" cy="86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492360" y="1197000"/>
            <a:ext cx="863640" cy="86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356000" y="1197000"/>
            <a:ext cx="863640" cy="86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221440" y="1197000"/>
            <a:ext cx="863280" cy="86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84720" y="1197000"/>
            <a:ext cx="863640" cy="86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948360" y="1197000"/>
            <a:ext cx="863640" cy="86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812000" y="1197000"/>
            <a:ext cx="863640" cy="86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763640" y="2060640"/>
            <a:ext cx="6912000" cy="863640"/>
            <a:chOff x="1763640" y="2060640"/>
            <a:chExt cx="6912000" cy="863640"/>
          </a:xfrm>
        </p:grpSpPr>
        <p:sp>
          <p:nvSpPr>
            <p:cNvPr id="635" name=""/>
            <p:cNvSpPr/>
            <p:nvPr/>
          </p:nvSpPr>
          <p:spPr>
            <a:xfrm>
              <a:off x="1763640" y="206064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28720" y="206064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92360" y="206064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56000" y="206064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1080" y="206064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84720" y="206064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948360" y="206064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812000" y="206064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763640" y="2925720"/>
            <a:ext cx="6912000" cy="863640"/>
            <a:chOff x="1763640" y="2925720"/>
            <a:chExt cx="6912000" cy="863640"/>
          </a:xfrm>
        </p:grpSpPr>
        <p:sp>
          <p:nvSpPr>
            <p:cNvPr id="644" name=""/>
            <p:cNvSpPr/>
            <p:nvPr/>
          </p:nvSpPr>
          <p:spPr>
            <a:xfrm>
              <a:off x="1763640" y="292572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28720" y="292572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92360" y="292572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6000" y="292572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21080" y="292572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84720" y="292572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48360" y="292572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812000" y="292572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763640" y="3789360"/>
            <a:ext cx="6912000" cy="863640"/>
            <a:chOff x="1763640" y="3789360"/>
            <a:chExt cx="6912000" cy="863640"/>
          </a:xfrm>
        </p:grpSpPr>
        <p:sp>
          <p:nvSpPr>
            <p:cNvPr id="653" name=""/>
            <p:cNvSpPr/>
            <p:nvPr/>
          </p:nvSpPr>
          <p:spPr>
            <a:xfrm>
              <a:off x="1763640" y="378936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28720" y="378936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92360" y="378936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56000" y="378936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21080" y="378936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84720" y="378936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48360" y="378936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812000" y="378936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763640" y="4653000"/>
            <a:ext cx="6912000" cy="863640"/>
            <a:chOff x="1763640" y="4653000"/>
            <a:chExt cx="6912000" cy="863640"/>
          </a:xfrm>
        </p:grpSpPr>
        <p:sp>
          <p:nvSpPr>
            <p:cNvPr id="662" name=""/>
            <p:cNvSpPr/>
            <p:nvPr/>
          </p:nvSpPr>
          <p:spPr>
            <a:xfrm>
              <a:off x="1763640" y="465300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28720" y="465300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92360" y="465300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56000" y="465300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21080" y="465300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84720" y="465300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48360" y="465300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12000" y="465300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763640" y="5518080"/>
            <a:ext cx="6912000" cy="863640"/>
            <a:chOff x="1763640" y="5518080"/>
            <a:chExt cx="6912000" cy="863640"/>
          </a:xfrm>
        </p:grpSpPr>
        <p:sp>
          <p:nvSpPr>
            <p:cNvPr id="671" name=""/>
            <p:cNvSpPr/>
            <p:nvPr/>
          </p:nvSpPr>
          <p:spPr>
            <a:xfrm>
              <a:off x="1763640" y="551808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28720" y="551808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92360" y="551808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56000" y="551808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221080" y="551808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84720" y="551808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48360" y="551808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12000" y="5518080"/>
              <a:ext cx="863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79280" y="0"/>
            <a:ext cx="878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边长是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66cc"/>
                </a:solidFill>
                <a:latin typeface="Arial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厘米的正方形，正好摆满，没有剩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5280" y="2997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572000" y="64008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758960" y="1197000"/>
            <a:ext cx="6910200" cy="518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763640" y="1197000"/>
            <a:ext cx="1150920" cy="1150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916360" y="1198440"/>
            <a:ext cx="1150920" cy="1150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068720" y="1197000"/>
            <a:ext cx="1150920" cy="1150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221440" y="1197000"/>
            <a:ext cx="1150920" cy="1150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373800" y="1197000"/>
            <a:ext cx="1150920" cy="1150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524720" y="1197000"/>
            <a:ext cx="1150920" cy="1150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763640" y="2349360"/>
            <a:ext cx="6912000" cy="1150920"/>
            <a:chOff x="1763640" y="2349360"/>
            <a:chExt cx="6912000" cy="1150920"/>
          </a:xfrm>
        </p:grpSpPr>
        <p:sp>
          <p:nvSpPr>
            <p:cNvPr id="690" name=""/>
            <p:cNvSpPr/>
            <p:nvPr/>
          </p:nvSpPr>
          <p:spPr>
            <a:xfrm>
              <a:off x="1763640" y="234936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16000" y="2349360"/>
              <a:ext cx="115128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8720" y="234936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21080" y="234936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73800" y="234936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24720" y="234936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763640" y="3500280"/>
            <a:ext cx="6912000" cy="1150920"/>
            <a:chOff x="1763640" y="3500280"/>
            <a:chExt cx="6912000" cy="1150920"/>
          </a:xfrm>
        </p:grpSpPr>
        <p:sp>
          <p:nvSpPr>
            <p:cNvPr id="697" name=""/>
            <p:cNvSpPr/>
            <p:nvPr/>
          </p:nvSpPr>
          <p:spPr>
            <a:xfrm>
              <a:off x="1763640" y="350028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16000" y="3500280"/>
              <a:ext cx="115128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68720" y="350028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21080" y="350028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373800" y="350028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524720" y="350028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1763640" y="4653000"/>
            <a:ext cx="6912000" cy="1150920"/>
            <a:chOff x="1763640" y="4653000"/>
            <a:chExt cx="6912000" cy="1150920"/>
          </a:xfrm>
        </p:grpSpPr>
        <p:sp>
          <p:nvSpPr>
            <p:cNvPr id="704" name=""/>
            <p:cNvSpPr/>
            <p:nvPr/>
          </p:nvSpPr>
          <p:spPr>
            <a:xfrm>
              <a:off x="1763640" y="465300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916000" y="4653000"/>
              <a:ext cx="115128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068720" y="465300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21080" y="465300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73800" y="465300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524720" y="4653000"/>
              <a:ext cx="1150920" cy="115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179280" y="0"/>
            <a:ext cx="878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边长是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66cc"/>
                </a:solidFill>
                <a:latin typeface="Arial"/>
              </a:rPr>
              <a:t>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厘米的正方形，没有正好摆满，有剩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95280" y="2997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0" y="64008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758960" y="1197000"/>
            <a:ext cx="6910200" cy="518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63640" y="1197000"/>
            <a:ext cx="1728720" cy="1728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92360" y="1197000"/>
            <a:ext cx="1729080" cy="1728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219640" y="1197000"/>
            <a:ext cx="1728720" cy="1728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948360" y="1197000"/>
            <a:ext cx="1729080" cy="1728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763640" y="2924280"/>
            <a:ext cx="6913440" cy="1728720"/>
            <a:chOff x="1763640" y="2924280"/>
            <a:chExt cx="6913440" cy="1728720"/>
          </a:xfrm>
        </p:grpSpPr>
        <p:sp>
          <p:nvSpPr>
            <p:cNvPr id="719" name=""/>
            <p:cNvSpPr/>
            <p:nvPr/>
          </p:nvSpPr>
          <p:spPr>
            <a:xfrm>
              <a:off x="1763640" y="2924280"/>
              <a:ext cx="1728720" cy="1728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492360" y="2924280"/>
              <a:ext cx="1728720" cy="1728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19640" y="2924280"/>
              <a:ext cx="1728720" cy="1728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948360" y="2924280"/>
              <a:ext cx="1728720" cy="1728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763640" y="4653000"/>
            <a:ext cx="6913440" cy="1728720"/>
            <a:chOff x="1763640" y="4653000"/>
            <a:chExt cx="6913440" cy="1728720"/>
          </a:xfrm>
        </p:grpSpPr>
        <p:sp>
          <p:nvSpPr>
            <p:cNvPr id="724" name=""/>
            <p:cNvSpPr/>
            <p:nvPr/>
          </p:nvSpPr>
          <p:spPr>
            <a:xfrm>
              <a:off x="1763640" y="4653000"/>
              <a:ext cx="1728720" cy="1728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92360" y="4653000"/>
              <a:ext cx="1728720" cy="1728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19640" y="4653000"/>
              <a:ext cx="1728720" cy="1728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48360" y="4653000"/>
              <a:ext cx="1728720" cy="1728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79280" y="0"/>
            <a:ext cx="878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边长是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66cc"/>
                </a:solidFill>
                <a:latin typeface="Arial"/>
              </a:rPr>
              <a:t>6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厘米的正方形，正好摆满，没有剩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5280" y="2997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0" y="64008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因数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因数中又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因数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公因数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 u="sng">
                <a:solidFill>
                  <a:srgbClr val="ff66cc"/>
                </a:solidFill>
                <a:uFillTx/>
                <a:latin typeface="Arial"/>
              </a:rPr>
              <a:t>1</a:t>
            </a:r>
            <a:r>
              <a:rPr b="1" lang="zh-CN" sz="4800" spc="-1" strike="noStrike" u="sng">
                <a:solidFill>
                  <a:srgbClr val="ff66cc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ff66cc"/>
                </a:solidFill>
                <a:uFillTx/>
                <a:latin typeface="Arial"/>
              </a:rPr>
              <a:t>2</a:t>
            </a:r>
            <a:r>
              <a:rPr b="1" lang="zh-CN" sz="4800" spc="-1" strike="noStrike" u="sng">
                <a:solidFill>
                  <a:srgbClr val="ff66cc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ff66cc"/>
                </a:solidFill>
                <a:uFillTx/>
                <a:latin typeface="Arial"/>
              </a:rPr>
              <a:t>3</a:t>
            </a:r>
            <a:r>
              <a:rPr b="1" lang="zh-CN" sz="4800" spc="-1" strike="noStrike" u="sng">
                <a:solidFill>
                  <a:srgbClr val="ff66cc"/>
                </a:solidFill>
                <a:uFillTx/>
                <a:latin typeface="Arial"/>
              </a:rPr>
              <a:t>，</a:t>
            </a:r>
            <a:r>
              <a:rPr b="1" lang="en-US" sz="4800" spc="-1" strike="noStrike" u="sng">
                <a:solidFill>
                  <a:srgbClr val="ff66cc"/>
                </a:solidFill>
                <a:uFillTx/>
                <a:latin typeface="Arial"/>
              </a:rPr>
              <a:t>6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最大公因数是：</a:t>
            </a:r>
            <a:r>
              <a:rPr b="1" lang="en-US" sz="4800" spc="-1" strike="noStrike" u="sng">
                <a:solidFill>
                  <a:srgbClr val="ff66cc"/>
                </a:solidFill>
                <a:uFillTx/>
                <a:latin typeface="Arial"/>
              </a:rPr>
              <a:t>6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2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1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6" dur="2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1" dur="20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6" dur="20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1" dur="2000"/>
                                        <p:tgtEl>
                                          <p:spTgt spid="7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6" dur="2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-250920" y="-241200"/>
            <a:ext cx="2590920" cy="191448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集合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187280" y="1268280"/>
            <a:ext cx="3168720" cy="1800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00720" y="1268280"/>
            <a:ext cx="3095640" cy="1800360"/>
          </a:xfrm>
          <a:prstGeom prst="ellipse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95080" y="816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24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的因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4000" y="816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  <a:ea typeface="黑体"/>
              </a:rPr>
              <a:t>的因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484360" y="32385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因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148360" y="3311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cc9900"/>
                </a:solidFill>
                <a:latin typeface="Arial"/>
              </a:rPr>
              <a:t>的因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1619280" y="4005360"/>
            <a:ext cx="5761080" cy="1655640"/>
            <a:chOff x="1619280" y="4005360"/>
            <a:chExt cx="5761080" cy="1655640"/>
          </a:xfrm>
        </p:grpSpPr>
        <p:sp>
          <p:nvSpPr>
            <p:cNvPr id="740" name=""/>
            <p:cNvSpPr/>
            <p:nvPr/>
          </p:nvSpPr>
          <p:spPr>
            <a:xfrm>
              <a:off x="1619280" y="4005360"/>
              <a:ext cx="3735360" cy="16556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20960" y="4005360"/>
              <a:ext cx="3659400" cy="1655640"/>
            </a:xfrm>
            <a:prstGeom prst="ellipse">
              <a:avLst/>
            </a:prstGeom>
            <a:noFill/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32200" y="4364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4356000" y="55879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635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的公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702880" y="1341360"/>
            <a:ext cx="91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2 3 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942880" y="134136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2 3 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487160" y="1484280"/>
            <a:ext cx="13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219640" y="134136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4509E-006 L 0.14688 0.40902 E">
                                      <p:cBhvr>
                                        <p:cTn id="583" dur="2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44509E-006 L -0.20746 0.40902 E">
                                      <p:cBhvr>
                                        <p:cTn id="587" dur="2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4509E-006 L 0.07275 0.39052 E">
                                      <p:cBhvr>
                                        <p:cTn id="591" dur="20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2936 L 0.03525 0.39006 E">
                                      <p:cBhvr>
                                        <p:cTn id="595" dur="2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1187280" y="2852640"/>
            <a:ext cx="72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你能找出</a:t>
            </a:r>
            <a:r>
              <a:rPr b="1" lang="en-US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12</a:t>
            </a: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和</a:t>
            </a:r>
            <a:r>
              <a:rPr b="1" lang="en-US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18</a:t>
            </a: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的最大公因数吗？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95280" y="476280"/>
            <a:ext cx="324000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自主探索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79524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250920" y="3573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最大公因数是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71080" y="3573360"/>
            <a:ext cx="19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508120" y="18050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508120" y="2334960"/>
            <a:ext cx="32162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99000" y="1616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784760" y="1557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739880" y="1700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771640" y="2349360"/>
            <a:ext cx="15840" cy="66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771640" y="2998800"/>
            <a:ext cx="3002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198960" y="2195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497480" y="220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00240" y="2408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52960" y="2924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79880" y="299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“□”标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因数，用“○” 标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因数，找一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公因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395280" y="3284640"/>
          <a:ext cx="8147160" cy="1473120"/>
        </p:xfrm>
        <a:graphic>
          <a:graphicData uri="http://schemas.openxmlformats.org/drawingml/2006/table">
            <a:tbl>
              <a:tblPr/>
              <a:tblGrid>
                <a:gridCol w="679320"/>
                <a:gridCol w="677880"/>
                <a:gridCol w="679680"/>
                <a:gridCol w="679320"/>
                <a:gridCol w="677880"/>
                <a:gridCol w="679320"/>
                <a:gridCol w="679680"/>
                <a:gridCol w="677880"/>
                <a:gridCol w="679320"/>
                <a:gridCol w="679320"/>
                <a:gridCol w="677880"/>
                <a:gridCol w="6796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8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剪纸班共有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名男生和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名女生，要分成小组活动，要求每个小组的男生人数与女生人数都相等，最多可以分为几组？每组有几名男生、几名女生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770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剪纸小组共剪了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朵牡丹和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条鲤鱼，要分给几个班装饰教室，如果每个班分得的牡丹与鲤鱼的张数都相等，最多可以分给几个班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673" t="20532" r="11219" b="51850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边长是</a:t>
            </a:r>
            <a:r>
              <a:rPr b="1" lang="zh-CN" sz="6600" spc="-1" strike="noStrike" u="sng">
                <a:solidFill>
                  <a:srgbClr val="009999"/>
                </a:solidFill>
                <a:uFillTx/>
                <a:latin typeface="Arial"/>
              </a:rPr>
              <a:t>整厘米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的正方形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剪完</a:t>
            </a:r>
            <a:r>
              <a:rPr b="1" lang="zh-CN" sz="6600" spc="-1" strike="noStrike" u="sng">
                <a:solidFill>
                  <a:srgbClr val="009999"/>
                </a:solidFill>
                <a:uFillTx/>
                <a:latin typeface="Arial"/>
              </a:rPr>
              <a:t>没有剩余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0400" y="1198440"/>
            <a:ext cx="6910560" cy="518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0400" y="1198440"/>
            <a:ext cx="28764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4948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3676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404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312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198440"/>
            <a:ext cx="28764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8948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7820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548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52760" y="1198440"/>
            <a:ext cx="28764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184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2912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6400" y="1198440"/>
            <a:ext cx="28764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548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4200" y="1198440"/>
            <a:ext cx="28764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184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6912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7840" y="1198440"/>
            <a:ext cx="28764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548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420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148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1056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9784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6920" y="119844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762200" y="1484280"/>
            <a:ext cx="6913440" cy="287280"/>
            <a:chOff x="1762200" y="1484280"/>
            <a:chExt cx="6913440" cy="287280"/>
          </a:xfrm>
        </p:grpSpPr>
        <p:sp>
          <p:nvSpPr>
            <p:cNvPr id="78" name=""/>
            <p:cNvSpPr/>
            <p:nvPr/>
          </p:nvSpPr>
          <p:spPr>
            <a:xfrm>
              <a:off x="176220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128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3856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2584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14560" y="148428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364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9092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8000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6728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5456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364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3092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820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0728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9600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8328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70560" y="148428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5964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4692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3600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2328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12000" y="148428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964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88360" y="148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762200" y="1773360"/>
            <a:ext cx="6913440" cy="287280"/>
            <a:chOff x="1762200" y="1773360"/>
            <a:chExt cx="6913440" cy="287280"/>
          </a:xfrm>
        </p:grpSpPr>
        <p:sp>
          <p:nvSpPr>
            <p:cNvPr id="103" name=""/>
            <p:cNvSpPr/>
            <p:nvPr/>
          </p:nvSpPr>
          <p:spPr>
            <a:xfrm>
              <a:off x="176220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128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3856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2584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14560" y="1773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364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092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8000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6728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456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364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3092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1820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0728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9600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8328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70560" y="1773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5964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692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3600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2328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12000" y="1773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9964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8360" y="1773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762200" y="2060640"/>
            <a:ext cx="6913440" cy="287280"/>
            <a:chOff x="1762200" y="2060640"/>
            <a:chExt cx="6913440" cy="287280"/>
          </a:xfrm>
        </p:grpSpPr>
        <p:sp>
          <p:nvSpPr>
            <p:cNvPr id="128" name=""/>
            <p:cNvSpPr/>
            <p:nvPr/>
          </p:nvSpPr>
          <p:spPr>
            <a:xfrm>
              <a:off x="176220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5128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3856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584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14560" y="20606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364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9092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6728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5456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364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3092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1820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0728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600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8328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70560" y="20606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5964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4692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600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2328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12000" y="20606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9964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8360" y="2060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762200" y="2349360"/>
            <a:ext cx="6913440" cy="287280"/>
            <a:chOff x="1762200" y="2349360"/>
            <a:chExt cx="6913440" cy="287280"/>
          </a:xfrm>
        </p:grpSpPr>
        <p:sp>
          <p:nvSpPr>
            <p:cNvPr id="153" name=""/>
            <p:cNvSpPr/>
            <p:nvPr/>
          </p:nvSpPr>
          <p:spPr>
            <a:xfrm>
              <a:off x="176220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5128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3856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584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14560" y="2349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364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9092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8000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6728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5456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4364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092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1820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0728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9600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8328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70560" y="2349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5964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4692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3600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2328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12000" y="2349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9964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8360" y="234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762200" y="2637000"/>
            <a:ext cx="6913440" cy="287280"/>
            <a:chOff x="1762200" y="2637000"/>
            <a:chExt cx="6913440" cy="287280"/>
          </a:xfrm>
        </p:grpSpPr>
        <p:sp>
          <p:nvSpPr>
            <p:cNvPr id="178" name=""/>
            <p:cNvSpPr/>
            <p:nvPr/>
          </p:nvSpPr>
          <p:spPr>
            <a:xfrm>
              <a:off x="176220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128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3856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584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14560" y="263700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0364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9092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8000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6728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456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364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092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1820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0728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600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328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70560" y="263700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4692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3600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2328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12000" y="263700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9964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88360" y="2637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762200" y="2924280"/>
            <a:ext cx="6913440" cy="287280"/>
            <a:chOff x="1762200" y="2924280"/>
            <a:chExt cx="6913440" cy="287280"/>
          </a:xfrm>
        </p:grpSpPr>
        <p:sp>
          <p:nvSpPr>
            <p:cNvPr id="203" name=""/>
            <p:cNvSpPr/>
            <p:nvPr/>
          </p:nvSpPr>
          <p:spPr>
            <a:xfrm>
              <a:off x="176220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128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3856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2584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14560" y="292428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364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9092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8000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6728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5456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4364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3092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1820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0728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600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8328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70560" y="292428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5964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4692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3600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2328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12000" y="292428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9964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88360" y="29242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762200" y="3213000"/>
            <a:ext cx="6913440" cy="287280"/>
            <a:chOff x="1762200" y="3213000"/>
            <a:chExt cx="6913440" cy="287280"/>
          </a:xfrm>
        </p:grpSpPr>
        <p:sp>
          <p:nvSpPr>
            <p:cNvPr id="228" name=""/>
            <p:cNvSpPr/>
            <p:nvPr/>
          </p:nvSpPr>
          <p:spPr>
            <a:xfrm>
              <a:off x="176220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128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3856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584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14560" y="321300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364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9092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8000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6728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5456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4364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3092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1820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0728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600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8328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70560" y="321300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5964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4692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3600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2328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12000" y="321300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9964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8360" y="321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762200" y="3502080"/>
            <a:ext cx="6913440" cy="287280"/>
            <a:chOff x="1762200" y="3502080"/>
            <a:chExt cx="6913440" cy="287280"/>
          </a:xfrm>
        </p:grpSpPr>
        <p:sp>
          <p:nvSpPr>
            <p:cNvPr id="253" name=""/>
            <p:cNvSpPr/>
            <p:nvPr/>
          </p:nvSpPr>
          <p:spPr>
            <a:xfrm>
              <a:off x="176220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5128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3856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2584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14560" y="350208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0364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9092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8000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6728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5456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4364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092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1820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0728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9600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328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70560" y="350208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5964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4692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3600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2328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12000" y="350208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9964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88360" y="350208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762200" y="3789360"/>
            <a:ext cx="6913440" cy="287280"/>
            <a:chOff x="1762200" y="3789360"/>
            <a:chExt cx="6913440" cy="287280"/>
          </a:xfrm>
        </p:grpSpPr>
        <p:sp>
          <p:nvSpPr>
            <p:cNvPr id="278" name=""/>
            <p:cNvSpPr/>
            <p:nvPr/>
          </p:nvSpPr>
          <p:spPr>
            <a:xfrm>
              <a:off x="176220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5128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3856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2584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14560" y="3789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0364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9092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8000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6728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5456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4364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3092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1820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0728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9600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8328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70560" y="3789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5964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4692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3600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2328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12000" y="3789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964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88360" y="378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762200" y="4078440"/>
            <a:ext cx="6913440" cy="287280"/>
            <a:chOff x="1762200" y="4078440"/>
            <a:chExt cx="6913440" cy="287280"/>
          </a:xfrm>
        </p:grpSpPr>
        <p:sp>
          <p:nvSpPr>
            <p:cNvPr id="303" name=""/>
            <p:cNvSpPr/>
            <p:nvPr/>
          </p:nvSpPr>
          <p:spPr>
            <a:xfrm>
              <a:off x="176220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5128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3856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2584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14560" y="40784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0364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9092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8000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6728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5456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364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3092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1820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0728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9600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8328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0560" y="40784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5964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4692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3600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2328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12000" y="40784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9964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88360" y="4078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762200" y="4365720"/>
            <a:ext cx="6913440" cy="287280"/>
            <a:chOff x="1762200" y="4365720"/>
            <a:chExt cx="6913440" cy="287280"/>
          </a:xfrm>
        </p:grpSpPr>
        <p:sp>
          <p:nvSpPr>
            <p:cNvPr id="328" name=""/>
            <p:cNvSpPr/>
            <p:nvPr/>
          </p:nvSpPr>
          <p:spPr>
            <a:xfrm>
              <a:off x="176220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5128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3856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2584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14560" y="436572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364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9092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8000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6728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5456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4364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3092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1820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0728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9600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8328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70560" y="436572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5964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692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3600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328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2000" y="436572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9964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8360" y="4365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762200" y="4653000"/>
            <a:ext cx="6913440" cy="287280"/>
            <a:chOff x="1762200" y="4653000"/>
            <a:chExt cx="6913440" cy="287280"/>
          </a:xfrm>
        </p:grpSpPr>
        <p:sp>
          <p:nvSpPr>
            <p:cNvPr id="353" name=""/>
            <p:cNvSpPr/>
            <p:nvPr/>
          </p:nvSpPr>
          <p:spPr>
            <a:xfrm>
              <a:off x="176220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5128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3856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2584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14560" y="465300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364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9092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000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6728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5456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364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3092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1820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0728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9600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8328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70560" y="465300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5964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4692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3600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2328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12000" y="465300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9964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88360" y="465300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62200" y="4941720"/>
            <a:ext cx="6913440" cy="287280"/>
            <a:chOff x="1762200" y="4941720"/>
            <a:chExt cx="6913440" cy="287280"/>
          </a:xfrm>
        </p:grpSpPr>
        <p:sp>
          <p:nvSpPr>
            <p:cNvPr id="378" name=""/>
            <p:cNvSpPr/>
            <p:nvPr/>
          </p:nvSpPr>
          <p:spPr>
            <a:xfrm>
              <a:off x="176220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128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3856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2584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14560" y="494172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0364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9092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8000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6728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456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4364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3092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1820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0728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600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8328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70560" y="494172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5964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4692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3600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2328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12000" y="494172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9964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88360" y="494172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762200" y="5229360"/>
            <a:ext cx="6913440" cy="287280"/>
            <a:chOff x="1762200" y="5229360"/>
            <a:chExt cx="6913440" cy="287280"/>
          </a:xfrm>
        </p:grpSpPr>
        <p:sp>
          <p:nvSpPr>
            <p:cNvPr id="403" name=""/>
            <p:cNvSpPr/>
            <p:nvPr/>
          </p:nvSpPr>
          <p:spPr>
            <a:xfrm>
              <a:off x="176220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5128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3856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2584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14560" y="5229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0364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9092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8000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6728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5456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4364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3092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1820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0728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9600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8328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70560" y="5229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5964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4692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3600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2328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2000" y="5229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9964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8360" y="5229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762200" y="5516640"/>
            <a:ext cx="6913440" cy="287280"/>
            <a:chOff x="1762200" y="5516640"/>
            <a:chExt cx="6913440" cy="287280"/>
          </a:xfrm>
        </p:grpSpPr>
        <p:sp>
          <p:nvSpPr>
            <p:cNvPr id="428" name=""/>
            <p:cNvSpPr/>
            <p:nvPr/>
          </p:nvSpPr>
          <p:spPr>
            <a:xfrm>
              <a:off x="176220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128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3856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2584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4560" y="55166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0364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9092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8000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6728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5456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4364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3092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1820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0728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9600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8328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0560" y="55166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5964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4692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3600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2328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12000" y="55166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9964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88360" y="55166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762200" y="5805360"/>
            <a:ext cx="6913440" cy="287280"/>
            <a:chOff x="1762200" y="5805360"/>
            <a:chExt cx="6913440" cy="287280"/>
          </a:xfrm>
        </p:grpSpPr>
        <p:sp>
          <p:nvSpPr>
            <p:cNvPr id="453" name=""/>
            <p:cNvSpPr/>
            <p:nvPr/>
          </p:nvSpPr>
          <p:spPr>
            <a:xfrm>
              <a:off x="176220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5128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3856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2584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14560" y="5805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364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9092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8000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6728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456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364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3092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1820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0728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79600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8328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70560" y="5805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964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4692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3600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2328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12000" y="580536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9964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8360" y="580536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762200" y="6094440"/>
            <a:ext cx="6913440" cy="287280"/>
            <a:chOff x="1762200" y="6094440"/>
            <a:chExt cx="6913440" cy="287280"/>
          </a:xfrm>
        </p:grpSpPr>
        <p:sp>
          <p:nvSpPr>
            <p:cNvPr id="478" name=""/>
            <p:cNvSpPr/>
            <p:nvPr/>
          </p:nvSpPr>
          <p:spPr>
            <a:xfrm>
              <a:off x="176220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128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3856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2584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14560" y="60944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0364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9092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8000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6728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5456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4364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3092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1820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0728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9600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8328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70560" y="60944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5964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4692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3600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2328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12000" y="6094440"/>
              <a:ext cx="28764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09964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388360" y="6094440"/>
              <a:ext cx="287280" cy="28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79280" y="0"/>
            <a:ext cx="878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边长是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66cc"/>
                </a:solidFill>
                <a:latin typeface="Arial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厘米的正方形，正好摆满，没有剩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0" y="64008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2997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758960" y="1197000"/>
            <a:ext cx="6910200" cy="518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63640" y="1197000"/>
            <a:ext cx="576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340000" y="1197000"/>
            <a:ext cx="576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16360" y="1197000"/>
            <a:ext cx="57600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490920" y="1197000"/>
            <a:ext cx="576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067280" y="1197000"/>
            <a:ext cx="57600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3280" y="1197000"/>
            <a:ext cx="576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19640" y="1197000"/>
            <a:ext cx="576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96000" y="1197000"/>
            <a:ext cx="576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72360" y="1197000"/>
            <a:ext cx="57600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948360" y="1197000"/>
            <a:ext cx="576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524720" y="1197000"/>
            <a:ext cx="576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099280" y="1197000"/>
            <a:ext cx="576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763640" y="1773360"/>
            <a:ext cx="6912000" cy="576000"/>
            <a:chOff x="1763640" y="1773360"/>
            <a:chExt cx="6912000" cy="576000"/>
          </a:xfrm>
        </p:grpSpPr>
        <p:sp>
          <p:nvSpPr>
            <p:cNvPr id="519" name=""/>
            <p:cNvSpPr/>
            <p:nvPr/>
          </p:nvSpPr>
          <p:spPr>
            <a:xfrm>
              <a:off x="1763640" y="1773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40000" y="1773360"/>
              <a:ext cx="57600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16000" y="1773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90920" y="1773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67280" y="1773360"/>
              <a:ext cx="57600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43280" y="1773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19640" y="1773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96000" y="1773360"/>
              <a:ext cx="57600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72000" y="1773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8360" y="1773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24720" y="1773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99280" y="1773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763640" y="2347920"/>
            <a:ext cx="6912000" cy="576360"/>
            <a:chOff x="1763640" y="2347920"/>
            <a:chExt cx="6912000" cy="576360"/>
          </a:xfrm>
        </p:grpSpPr>
        <p:sp>
          <p:nvSpPr>
            <p:cNvPr id="532" name=""/>
            <p:cNvSpPr/>
            <p:nvPr/>
          </p:nvSpPr>
          <p:spPr>
            <a:xfrm>
              <a:off x="1763640" y="234792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40000" y="234792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16000" y="234792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90920" y="234792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67280" y="234792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43280" y="234792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19640" y="234792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96000" y="234792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72000" y="234792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48360" y="234792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24720" y="234792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99280" y="234792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763640" y="2924280"/>
            <a:ext cx="6912000" cy="576000"/>
            <a:chOff x="1763640" y="2924280"/>
            <a:chExt cx="6912000" cy="576000"/>
          </a:xfrm>
        </p:grpSpPr>
        <p:sp>
          <p:nvSpPr>
            <p:cNvPr id="545" name=""/>
            <p:cNvSpPr/>
            <p:nvPr/>
          </p:nvSpPr>
          <p:spPr>
            <a:xfrm>
              <a:off x="1763640" y="292428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40000" y="2924280"/>
              <a:ext cx="57600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16000" y="292428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90920" y="292428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67280" y="2924280"/>
              <a:ext cx="57600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3280" y="292428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19640" y="292428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96000" y="2924280"/>
              <a:ext cx="57600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72000" y="292428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48360" y="292428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24720" y="292428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99280" y="292428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763640" y="3500280"/>
            <a:ext cx="6912000" cy="576360"/>
            <a:chOff x="1763640" y="3500280"/>
            <a:chExt cx="6912000" cy="576360"/>
          </a:xfrm>
        </p:grpSpPr>
        <p:sp>
          <p:nvSpPr>
            <p:cNvPr id="558" name=""/>
            <p:cNvSpPr/>
            <p:nvPr/>
          </p:nvSpPr>
          <p:spPr>
            <a:xfrm>
              <a:off x="1763640" y="350028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40000" y="350028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16000" y="350028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90920" y="350028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67280" y="350028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43280" y="350028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19640" y="350028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96000" y="350028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72000" y="350028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48360" y="350028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24720" y="350028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99280" y="350028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763640" y="4076640"/>
            <a:ext cx="6912000" cy="576360"/>
            <a:chOff x="1763640" y="4076640"/>
            <a:chExt cx="6912000" cy="576360"/>
          </a:xfrm>
        </p:grpSpPr>
        <p:sp>
          <p:nvSpPr>
            <p:cNvPr id="571" name=""/>
            <p:cNvSpPr/>
            <p:nvPr/>
          </p:nvSpPr>
          <p:spPr>
            <a:xfrm>
              <a:off x="1763640" y="407664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40000" y="407664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16000" y="407664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90920" y="407664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67280" y="407664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43280" y="407664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19640" y="407664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96000" y="407664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72000" y="407664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48360" y="407664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24720" y="407664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99280" y="407664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63640" y="4653000"/>
            <a:ext cx="6912000" cy="576360"/>
            <a:chOff x="1763640" y="4653000"/>
            <a:chExt cx="6912000" cy="576360"/>
          </a:xfrm>
        </p:grpSpPr>
        <p:sp>
          <p:nvSpPr>
            <p:cNvPr id="584" name=""/>
            <p:cNvSpPr/>
            <p:nvPr/>
          </p:nvSpPr>
          <p:spPr>
            <a:xfrm>
              <a:off x="1763640" y="465300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40000" y="465300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16000" y="465300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90920" y="465300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67280" y="465300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43280" y="465300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19640" y="465300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96000" y="465300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72000" y="465300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48360" y="465300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24720" y="465300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099280" y="465300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763640" y="5229360"/>
            <a:ext cx="6912000" cy="576000"/>
            <a:chOff x="1763640" y="5229360"/>
            <a:chExt cx="6912000" cy="576000"/>
          </a:xfrm>
        </p:grpSpPr>
        <p:sp>
          <p:nvSpPr>
            <p:cNvPr id="597" name=""/>
            <p:cNvSpPr/>
            <p:nvPr/>
          </p:nvSpPr>
          <p:spPr>
            <a:xfrm>
              <a:off x="1763640" y="5229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40000" y="5229360"/>
              <a:ext cx="57600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16000" y="5229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90920" y="5229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67280" y="5229360"/>
              <a:ext cx="57600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43280" y="5229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219640" y="5229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96000" y="5229360"/>
              <a:ext cx="57600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72000" y="5229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48360" y="5229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24720" y="5229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099280" y="5229360"/>
              <a:ext cx="576360" cy="57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763640" y="5805360"/>
            <a:ext cx="6912000" cy="576360"/>
            <a:chOff x="1763640" y="5805360"/>
            <a:chExt cx="6912000" cy="576360"/>
          </a:xfrm>
        </p:grpSpPr>
        <p:sp>
          <p:nvSpPr>
            <p:cNvPr id="610" name=""/>
            <p:cNvSpPr/>
            <p:nvPr/>
          </p:nvSpPr>
          <p:spPr>
            <a:xfrm>
              <a:off x="1763640" y="580536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40000" y="580536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16000" y="580536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90920" y="580536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67280" y="580536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43280" y="580536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19640" y="580536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96000" y="5805360"/>
              <a:ext cx="57600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72000" y="580536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48360" y="580536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24720" y="580536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099280" y="5805360"/>
              <a:ext cx="576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79280" y="0"/>
            <a:ext cx="878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边长是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66cc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厘米的正方形，正好摆满，没有剩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572000" y="64008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2997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5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22:28:15Z</dcterms:created>
  <dc:creator>龙帝国技术社区</dc:creator>
  <dc:description/>
  <dc:language>en-US</dc:language>
  <cp:lastModifiedBy>Lenovo</cp:lastModifiedBy>
  <dcterms:modified xsi:type="dcterms:W3CDTF">2014-03-16T12:59:23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