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15.wmf" ContentType="image/x-wmf"/>
  <Override PartName="/ppt/media/image7.png" ContentType="image/png"/>
  <Override PartName="/ppt/media/image1.jpeg" ContentType="image/jpeg"/>
  <Override PartName="/ppt/media/image11.wmf" ContentType="image/x-wmf"/>
  <Override PartName="/ppt/media/image12.png" ContentType="image/png"/>
  <Override PartName="/ppt/media/image16.wmf" ContentType="image/x-wmf"/>
  <Override PartName="/ppt/media/image8.png" ContentType="image/png"/>
  <Override PartName="/ppt/media/image9.wmf" ContentType="image/x-wmf"/>
  <Override PartName="/ppt/media/image5.png" ContentType="image/png"/>
  <Override PartName="/ppt/media/image13.wmf" ContentType="image/x-wmf"/>
  <Override PartName="/ppt/media/image30.wmf" ContentType="image/x-wmf"/>
  <Override PartName="/ppt/media/image4.png" ContentType="image/png"/>
  <Override PartName="/ppt/media/image2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6917C-4C2E-48CF-B57E-A99F09F5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0F3A9-EDEE-477E-A37A-8C4A5AF9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38813-16FE-42BC-9BAD-AC62FFAB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C9361-EBF1-428B-9960-925B44B9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29B6C-EE71-499B-80CE-7361B0BF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28918-C1E9-425B-84D6-C0502D39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9D77B-55A4-43FC-AEE3-8E975BAF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2721D-6BC3-4F51-886A-07CA81EE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EE996-CAEC-47CC-A687-16DC7B72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29A09-3837-42C5-A540-F527EDCA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24E1E-9F15-466F-82B2-F2CEB87E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3A89B-7B3A-48A8-912F-96D177D3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5F6FB-6D8A-42BE-A7E9-4026C186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891A9-1398-4631-B3D9-CE242316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70845-4A9B-4E6D-9CBA-3145A5F0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F528A-F60A-474F-B155-95B5EA4C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608AA-5E78-4B1E-BB74-9145B605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7C609-F4D7-4B74-AD3B-8F805DE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2D221-3B3F-41C2-8220-9E4FDF82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A15A6-40F8-4DE4-B521-38591AE4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DA88F-355D-4772-B51F-D868CB5A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B494B-7751-45ED-B86D-95B419B2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167DD-5876-4530-97E7-9C4F8A7B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ABACE-9FC7-433E-8CE2-E2C5D7FF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17EBD-BD51-47F6-8C37-2CDCDFDB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E3EDF-D8C2-4B57-AD4E-E3DAE2D5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5AF8C-D993-4F6D-95A4-075CA620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A7275-4773-41E8-AE79-721058FE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945C5-8C00-443C-96A9-5BAA283E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59B7B-7CD5-4DA6-AFC4-80EFE8C9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BF1-C78A-4E8B-BA1F-3A082FEB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F3E98-181D-4A8B-A8A7-E067CF53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A725E-31D1-46D9-B4A3-67A68926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8DC62-CF08-4325-911D-70D58A57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2F3DC-5FDC-4E54-8190-7DFFA606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65288-135E-4CBB-86FB-70E44F3D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03C48-D1A1-482D-B084-B3807738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76622-223F-4E6A-A793-EB51A919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51CBB-29D8-43BE-9276-56A2271A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D2196-3F91-4CCE-ACC2-C035ECEC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BB251-646D-4F4E-9C3A-CAF04810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71D-FFCB-49B5-80DB-4794D060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C235C-C9CA-4360-B61A-FB0AB91F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45A92-FF96-451F-BF17-EC301CAB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B24A2-8068-497E-9B15-3A83C25F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83A8D-9867-4147-8F34-7F76608B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77ACF-2733-473E-A2A0-B8EB08B6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20293-190C-45F3-A8F2-A3E8CF1E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98EA1-CCAA-4C97-8065-711D0218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12E09-FF21-45A4-979A-F61D4438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D77BF-C20F-4E4C-8AF6-600292F1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464EB-3C25-4C9E-AEE9-615CFCF8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521-D59B-4662-9ABF-EA07021E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370DC-B3BF-4F9C-BC75-047EF0C1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F913C-47F9-49E5-9FC7-01BDAA16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115C4-202D-4D2D-B0CA-F599FDFE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7394B-5CFE-45E1-8FBD-2FF75BB2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2B3B6-C7C7-46CC-A364-DD79FB85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561BB-738D-4A90-9503-F413AF93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F0461-F5DE-4A70-9345-E2039BEC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F0FC9-DAB6-4ABD-9625-4A311F1D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2511E-22AA-428C-8C8D-00B2B77A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B830D-20E8-4CF8-9908-E9492B60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A00-AD03-48AA-8311-9FEF97D2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2AEB9-0C5F-441F-BF94-253D1C34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3835B-AF3C-4446-B0D5-A885EEF3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8A5D3-E756-41F6-B663-68926C1A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BAF3B-BD1B-4039-AA04-C688AD13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C5A14-96CC-4B02-B6BF-5426E366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57CB5-8842-4A2B-BDBB-28F8EF3D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DBC06-BFB8-486E-8954-6E85AC39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EAF21-F0B9-47BF-AA6E-7D7B43B2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53584-A2D6-42B5-99C4-DAEE78B5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C31E4-3B7F-44A2-89AA-D035CC56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561-1524-417B-952B-8DB7C836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6698F-9984-4281-AFA2-A0C768C1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DF103-E3D1-40F9-A44F-8897F61E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81634-6827-498A-A6B3-333AFF50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94593-0073-4ED9-87E1-A10DAE0D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C7D8A-9B13-4CD2-973B-3655D01F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872DC-D3C2-4702-B25B-78E79593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F8412-D88B-4F0A-A660-91FB631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A8624-AF02-4415-80B3-3FC130D4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E3F93-78D5-49BD-AD38-F8F2187C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DD761-6FF8-432E-AB39-29D28B83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706-35FE-453A-96CD-1415FD90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E79DC-C673-4B80-B75C-E2D563AD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F5E94-2710-4928-8BDA-240B7674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F7532-62D6-46FB-8B6A-78BD7567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E25E2-EFFA-465F-9F72-DBF5EB5C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A9FD6F-0F7A-46CB-B754-C865D94A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067A7-2530-49FB-BD60-DD6C7DE6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DEC96-8C69-4FD6-8044-54F012A9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59B82-915D-4928-BCFB-A5A62D88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2F8C24-25C5-4D42-9EEF-C571FB2C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1396A-0B74-4E5F-8074-ADE7E8A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8F9-47B8-4F04-8586-DBFEBFFF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2090B-2C12-4B5B-9951-3E490316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E1211-C091-4C62-9094-55092591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D07E4-8DA3-4EC3-AD61-368B0EE5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2AEA08-2872-48F1-BC43-3E9E17C3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7D62C-1A8E-4D87-A6A7-3C5411D3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A6C0F-D126-4C22-A2FE-51792F2A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B00186-70F9-46D1-AC01-7FE2AE30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15D82-6146-4FA5-B4C6-8CFE73B8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D867F-3C71-4F43-99C2-ADEC387C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132D2-781C-4A73-AB22-C7F66915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21D-8E2C-4144-B923-86E1660D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A86213-EF34-4025-9A25-79A718DF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E0A64-2B35-4527-B678-50BC9EA6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EEB22-1A84-406D-9A96-A13B8A29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9EFA4D-3B78-46F3-9676-A7456AD4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FFCC8-7B4A-496E-B6FA-AF597725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8A7CDE-1DB8-4F70-BD4E-8BCA64B2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84F77-9CA0-4763-B1D5-C7B09EDE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8AC1A4-2CCF-4C28-A1CC-911829A1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F9E184-A4E6-4020-AB76-6A961196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3F729-6D26-4D72-82E7-BB6606FF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FFA-8DFD-412B-B3F2-06D86D15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D0C61-38C2-4356-9A0B-1BB956F4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E5185-F591-4997-82C0-0D4EB03D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A20F42-DE18-4036-BE18-17FD7C20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34342D-D130-4C8A-B367-3954B3A7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9FE0FE-013A-41B0-B02F-3F07E7D6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0D5DF6-AC07-4D6B-8AAB-B3AA5D98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1153C-2DA2-400D-91A7-621DEE45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0828E-2E8B-4791-9869-6059BDD8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22B1C-0BC1-4245-9975-15D9F99E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578D5F-A829-47EA-9B7B-0EB44A21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037-FF11-4935-8856-5672CA1F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CCB50-3CB9-4509-B36D-74E6088F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0FCC09-AC0D-4BBC-A243-CD19C166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05E86-B6B8-4581-A073-398543F8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22AE5F-E0E3-4A7C-ADBE-349642D1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0EF473-47A4-46CB-A9A9-D1CB886B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61DB85-CAD2-4DDD-94FE-E050B4EC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32CFCA-D2FD-42FE-9D0D-17AE1542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154C6-22FF-4D58-BB40-A2534727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657F36-48C9-4CEC-9E4D-602E8C53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5BB6E5-199C-443E-A4D6-D184A639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A1A-D4A1-4D09-B528-1E8C2832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11077C-6804-44D4-99FF-D6F155A3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F9A1A7-D4AA-49AC-BC1E-3D8B83D6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F719A3-695D-429E-AD1A-76C611DD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F3F7DD-C03A-41B2-A7E6-C14E8254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C3FBFF-5A50-4E51-AEB0-6E84DBE7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4625B-6DAA-4FF3-BFB5-8D873BA4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A0DEB7-2FEC-4E4C-A8A2-86ABDB3E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E79E67-4FDB-43CD-81A0-D5CF3D62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A0603-CAFD-4517-9849-9685E158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D69D9-D502-4C35-8F31-D262AC81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417-5875-408A-A8E0-E030360E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633F35-36EA-49A8-8CF5-D39072D6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64A31B-3FE0-4B55-AB29-78A51EB2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5F730C-4856-4A1E-93B1-4EB2EB4A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A4FA2B-879C-400C-A092-635A9896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4684A6-F6F8-4758-AA03-0E8007BF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5E5FA-7A7A-4F0B-9351-077A01D7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27923C-5E2F-4EE2-9A14-31A937B8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2FA20F-0BF7-4DDF-A8F1-29C83357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613B3A-48F5-413B-8E6C-73A9EB1E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323C27-2FAB-435E-81FA-E7C58361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39D2-2AB3-4BF8-A8E8-15A804E7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F5C2CE-4B57-4198-B577-2171E403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E76D2B-CCB0-44BC-8838-459B9B7A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71B3EC-C750-4F41-801B-F50B3AA2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5F981C-9FE3-488D-B77E-1CA0D98A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5DDE80-7350-45FC-898F-4808F9E3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364F92-9E7C-42D2-B7D8-CA9B7C2A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CFA7DA-FC21-4CBD-9B77-FF37585F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C57B26-C6C7-46A4-AF3F-F8AA4838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0FB85E-83EB-4339-A878-B29932F4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F59A78-9241-42B0-ADF8-661D030A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F34E-B9C9-42FB-959D-D43AB0D5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7992A7-0E17-4E3D-9733-4E3F1563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B0E8A-54C1-4F36-B7A3-3136098D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AD2F28-7859-4DEC-AB12-74BCC285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2B8B6A-8A71-45FF-B4A4-FB7490C0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23F366-E989-4A6C-ACEA-57DDAD26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751161-965C-41BC-A496-2BC7754E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614650-F34F-428D-BDA9-04C8B959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F24DF1-430A-47A3-8C08-5B35BBD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366C69-A459-4ECC-A829-C84592A6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B801F9-9A00-4A7C-879E-0DA13F7F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75C9-93D8-4C74-B587-5E6F1C22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570EBD-75AB-40EA-84F6-A0CD9955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4AE58A-FFAC-4E85-ABB7-F81F6694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9207A5-2881-4EA6-8AAF-EE39ACAD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684C53-A715-4E6C-8400-871707AF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6E55CE-9222-4E25-A8FC-2BE999F8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8C498F-FEC9-43C2-84B2-2CBA6A22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509749-C9D4-4D18-9E67-F1966CE9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0ED580-BF1C-468C-B628-A2C765F9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1A2715-6E89-475B-8D41-07CD09AA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BF7AA5-B025-49BE-A731-653CBD53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7AFE-AAF7-4262-A0CB-D5D69C15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A449CE-C89E-4B42-97C9-54874853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A047E7-5E15-4306-B5D5-B09924F6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BC7719-19D0-4BAA-B09A-243EDF5D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2DA957-6521-4618-A95B-AF55999F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41D25D-57F8-46D9-8262-CF819858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8979A1-A111-49F6-96A8-37A2F8CE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F999F8-C82A-4F88-B792-3C98E791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1B9C96-DD9C-415B-B3EC-FB021445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8B9C99-FD5A-43B3-9392-B5118BA0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3BBD-CACB-48AF-9E5B-4D3AFB15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3E41-B079-49CB-8170-33C7E284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6BCF-ECCE-4819-9056-891E9847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988B-273D-4297-9C82-7C8D853F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46E2-BCE0-4758-BC96-1FBB80BB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2AB1-0CE5-41E6-9449-D935BC37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AE79-CE3D-4895-9A6A-C5305727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5A1D-252B-4880-8E10-D9344BAC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579D5-39C6-4396-B428-3F392C71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19384-9652-4873-8EDA-2B6E345B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EE9E7-E731-4BDF-B08A-3DB79A23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060A-8521-45D9-8E0B-3A5B9ABA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F7B6-1B56-4DDD-9A3B-5D1DCC19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69E6-EF21-46D5-862F-7A02E7BB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20E9-E621-4482-9260-5F8D47B5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0447A-16ED-4F87-8410-85A8AEF7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560A-0295-466E-AF15-2746D417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0CB8-8500-47D3-B306-65E331A5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ECCA-FEF9-40B8-A5D2-F39D6BCB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1CDC-C713-4A83-B0E9-C90A8220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85999-FB32-42B8-9AE0-37C1A63C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A778-B561-4698-B6A9-03C9DFDE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01B08-0B2F-4FD5-AA60-40EA7078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A445-35DC-43EC-A8C2-37977CCE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FEDD9-CE12-4BFE-B4DC-FEFE677B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B0E5-79C6-44D1-97DB-E2CE54FE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A2032-1F1D-4744-B451-38A0A2B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CB271-827F-4F97-A046-8F7AAEE8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BF7DA-409C-4993-9E2A-A977DAE4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3A754-D65A-4A64-8CDC-3BBEA327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AF72C-ADE5-47F0-9A3E-A5C10EB4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F66E9-522B-45D6-B6E8-E44BC7DA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A129B-ABB8-41C0-9F2F-07819316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2348F-A9BB-45CD-840A-DB220D78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C31CE-4835-4E9C-89B2-7ECF8B10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8A4B0-A855-4C99-9D7A-D9BAE466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79A4E-1EE9-4FE5-8C95-9952C194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5C20E-07A7-470B-B7E5-30800A1F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CBC9F-42B0-4BCE-AC83-71070C88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4FA7F-982E-4762-AB43-12ED4B30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11F39-C49E-425B-B8F1-22883A41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6C9B4-0C8A-466B-BCF9-210E94E3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B6FB8-99A0-4AA1-8C5F-B9191FB8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0F16C-1B81-4FB3-BE53-6CDDA7B7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13F24-88D3-4B4D-8B2F-A20260C5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3BC1F-298D-47BC-9A16-0CCBC4E7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82EFA-B2D7-42D8-8D8A-526EFE33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8B476-500B-4C29-BE44-DF63BE8A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AE56D-16B1-41AB-9203-7B1C8386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CBE8A-4770-4FE2-9F25-B56E0997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68064-0316-4084-8870-910129BB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E4BA4-3651-41D4-A3D7-A414BA38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3693E-73EA-4A37-AF91-7E28B8BA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9541E-AAF6-4CBB-BC72-5E6E4CCA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0504F-1AA2-488A-A388-AF407B47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D0F33-4306-4463-91E9-598303FB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18A9F-E368-4821-9A38-1976A302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28537-5521-4C5C-8C43-10A155B8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3D2FE-04B2-4559-8D3E-054770AF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DE218-A7AE-4D69-86D0-BAD072E6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32C11-7CC6-4E44-8AD0-643FC362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A13CE-7B3B-46AE-B649-58BD6859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1E49E-2F10-4CF2-AB7F-88841409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98A7F-A506-4505-A191-9514D9AB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1FD3E-953B-41D1-8F76-2C046990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8A8AE-6956-48B1-AD83-78E4E00F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256C5-B48D-46FF-8552-54801C1D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ECD90-63DF-4C62-8525-9BED6F70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95158-4155-47D0-A7DD-D1643A7B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F2166-0E35-49CE-B63B-5A554513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690AD-452B-4131-A232-1F608C82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E8A6-868D-4019-9D56-7CA2529ECB6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9FF1-2AB0-42A6-924F-0F190954348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170F-B849-4A08-BD39-6BADB7AA64B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70C6-B285-4C61-81FC-AE8C80FB085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636A-DCFC-441E-87C6-2E46F901C0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0638-932A-44BC-9666-0B0AC84EDB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E17D-F597-4371-BEBC-F04FF6D7928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BCA8-F5BD-4C92-B7C4-9B597D5F1D0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A627-E037-4D2B-90BC-D995039B03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2C92-D962-484A-9E2C-0F16CC7E44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D7BC-8E5A-40E8-8C80-66E7A721E78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4AE9-2C09-4356-B078-848667705F1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5B23-17B9-4CA2-9B4D-1E1CC4C9DD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2F3A-97D0-4B6F-80D0-546EA978B07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7BDE-44F3-4FCE-AC1D-7F245BA40D2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82F2-47A3-4D01-966D-CC97542B5F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6B07-582A-4566-95CC-1AF5208EA86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797C-D620-40B9-962A-C4E618C87CA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6FEA-1286-4199-843E-8B1A0E6B31B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1B6D-B5A6-440F-8FE9-AA57D620124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AD1D-6745-4051-B045-34B316453B9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9298-2CD9-424B-BCAF-51D9CAE7AE4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C199-314E-4878-BB54-06F77D16B23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1219320" y="2103480"/>
            <a:ext cx="6953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数的分类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五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2"/>
          <p:cNvSpPr/>
          <p:nvPr/>
        </p:nvSpPr>
        <p:spPr>
          <a:xfrm>
            <a:off x="398556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3743280" y="1666800"/>
            <a:ext cx="45738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校园艺术节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分数的意义和性质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6553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假分数与带分数的关系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借助直线理解真、假分数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大小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按照分数的分类写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863640" y="1700280"/>
            <a:ext cx="72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假分数和带分数表示下面图形的阴影部分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4" name="Picture 14" descr=""/>
          <p:cNvPicPr/>
          <p:nvPr/>
        </p:nvPicPr>
        <p:blipFill>
          <a:blip r:embed="rId2"/>
          <a:stretch/>
        </p:blipFill>
        <p:spPr>
          <a:xfrm>
            <a:off x="1295280" y="2467080"/>
            <a:ext cx="2881440" cy="16095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5" descr=""/>
          <p:cNvPicPr/>
          <p:nvPr/>
        </p:nvPicPr>
        <p:blipFill>
          <a:blip r:embed="rId3"/>
          <a:stretch/>
        </p:blipFill>
        <p:spPr>
          <a:xfrm>
            <a:off x="4067280" y="2525760"/>
            <a:ext cx="3925800" cy="15876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6" descr=""/>
          <p:cNvPicPr/>
          <p:nvPr/>
        </p:nvPicPr>
        <p:blipFill>
          <a:blip r:embed="rId4"/>
          <a:stretch/>
        </p:blipFill>
        <p:spPr>
          <a:xfrm>
            <a:off x="1332000" y="4335480"/>
            <a:ext cx="3282840" cy="1428840"/>
          </a:xfrm>
          <a:prstGeom prst="rect">
            <a:avLst/>
          </a:prstGeom>
          <a:ln w="0">
            <a:noFill/>
          </a:ln>
        </p:spPr>
      </p:pic>
      <p:pic>
        <p:nvPicPr>
          <p:cNvPr id="1007" name="对象 1" descr=""/>
          <p:cNvPicPr/>
          <p:nvPr/>
        </p:nvPicPr>
        <p:blipFill>
          <a:blip r:embed="rId5"/>
          <a:stretch/>
        </p:blipFill>
        <p:spPr>
          <a:xfrm>
            <a:off x="3048120" y="3301920"/>
            <a:ext cx="503280" cy="787320"/>
          </a:xfrm>
          <a:prstGeom prst="rect">
            <a:avLst/>
          </a:prstGeom>
          <a:ln w="0">
            <a:noFill/>
          </a:ln>
        </p:spPr>
      </p:pic>
      <p:pic>
        <p:nvPicPr>
          <p:cNvPr id="1008" name="对象 2" descr=""/>
          <p:cNvPicPr/>
          <p:nvPr/>
        </p:nvPicPr>
        <p:blipFill>
          <a:blip r:embed="rId6"/>
          <a:stretch/>
        </p:blipFill>
        <p:spPr>
          <a:xfrm>
            <a:off x="6443640" y="3325680"/>
            <a:ext cx="503280" cy="787680"/>
          </a:xfrm>
          <a:prstGeom prst="rect">
            <a:avLst/>
          </a:prstGeom>
          <a:ln w="0">
            <a:noFill/>
          </a:ln>
        </p:spPr>
      </p:pic>
      <p:pic>
        <p:nvPicPr>
          <p:cNvPr id="1009" name="对象 3" descr=""/>
          <p:cNvPicPr/>
          <p:nvPr/>
        </p:nvPicPr>
        <p:blipFill>
          <a:blip r:embed="rId7"/>
          <a:stretch/>
        </p:blipFill>
        <p:spPr>
          <a:xfrm>
            <a:off x="3321000" y="5049720"/>
            <a:ext cx="503280" cy="787680"/>
          </a:xfrm>
          <a:prstGeom prst="rect">
            <a:avLst/>
          </a:prstGeom>
          <a:ln w="0">
            <a:noFill/>
          </a:ln>
        </p:spPr>
      </p:pic>
      <p:grpSp>
        <p:nvGrpSpPr>
          <p:cNvPr id="1010" name="组合 15"/>
          <p:cNvGrpSpPr/>
          <p:nvPr/>
        </p:nvGrpSpPr>
        <p:grpSpPr>
          <a:xfrm>
            <a:off x="2067120" y="5056200"/>
            <a:ext cx="485640" cy="819360"/>
            <a:chOff x="2067120" y="5056200"/>
            <a:chExt cx="485640" cy="819360"/>
          </a:xfrm>
        </p:grpSpPr>
        <p:sp>
          <p:nvSpPr>
            <p:cNvPr id="1011" name="矩形 5"/>
            <p:cNvSpPr/>
            <p:nvPr/>
          </p:nvSpPr>
          <p:spPr>
            <a:xfrm>
              <a:off x="2138760" y="541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12" name="矩形 6"/>
            <p:cNvSpPr/>
            <p:nvPr/>
          </p:nvSpPr>
          <p:spPr>
            <a:xfrm>
              <a:off x="2067120" y="505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3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1013" name="组合 14"/>
          <p:cNvGrpSpPr/>
          <p:nvPr/>
        </p:nvGrpSpPr>
        <p:grpSpPr>
          <a:xfrm>
            <a:off x="5042520" y="3319560"/>
            <a:ext cx="485640" cy="808920"/>
            <a:chOff x="5042520" y="3319560"/>
            <a:chExt cx="485640" cy="808920"/>
          </a:xfrm>
        </p:grpSpPr>
        <p:sp>
          <p:nvSpPr>
            <p:cNvPr id="1014" name="矩形 7"/>
            <p:cNvSpPr/>
            <p:nvPr/>
          </p:nvSpPr>
          <p:spPr>
            <a:xfrm>
              <a:off x="5140800" y="3668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15" name="矩形 11"/>
            <p:cNvSpPr/>
            <p:nvPr/>
          </p:nvSpPr>
          <p:spPr>
            <a:xfrm>
              <a:off x="5042520" y="3319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7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1016" name="组合 13"/>
          <p:cNvGrpSpPr/>
          <p:nvPr/>
        </p:nvGrpSpPr>
        <p:grpSpPr>
          <a:xfrm>
            <a:off x="1898280" y="3319560"/>
            <a:ext cx="405360" cy="1408680"/>
            <a:chOff x="1898280" y="3319560"/>
            <a:chExt cx="405360" cy="1408680"/>
          </a:xfrm>
        </p:grpSpPr>
        <p:sp>
          <p:nvSpPr>
            <p:cNvPr id="1017" name="矩形 4"/>
            <p:cNvSpPr/>
            <p:nvPr/>
          </p:nvSpPr>
          <p:spPr>
            <a:xfrm>
              <a:off x="1902600" y="3537000"/>
              <a:ext cx="4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   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18" name="矩形 12"/>
            <p:cNvSpPr/>
            <p:nvPr/>
          </p:nvSpPr>
          <p:spPr>
            <a:xfrm>
              <a:off x="1898280" y="33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矩形 10"/>
          <p:cNvSpPr/>
          <p:nvPr/>
        </p:nvSpPr>
        <p:spPr>
          <a:xfrm>
            <a:off x="917640" y="1628640"/>
            <a:ext cx="721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直线上标出下面各数，并填空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发现：真分数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             　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假分数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          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20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21" name="圆角矩形 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22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23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24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5" name="Picture 12" descr="N16"/>
          <p:cNvPicPr/>
          <p:nvPr/>
        </p:nvPicPr>
        <p:blipFill>
          <a:blip r:embed="rId2"/>
          <a:stretch/>
        </p:blipFill>
        <p:spPr>
          <a:xfrm>
            <a:off x="1550880" y="4221000"/>
            <a:ext cx="6042240" cy="551160"/>
          </a:xfrm>
          <a:prstGeom prst="rect">
            <a:avLst/>
          </a:prstGeom>
          <a:ln w="0">
            <a:noFill/>
          </a:ln>
        </p:spPr>
      </p:pic>
      <p:pic>
        <p:nvPicPr>
          <p:cNvPr id="1026" name="对象 1" descr=""/>
          <p:cNvPicPr/>
          <p:nvPr/>
        </p:nvPicPr>
        <p:blipFill>
          <a:blip r:embed="rId3"/>
          <a:stretch/>
        </p:blipFill>
        <p:spPr>
          <a:xfrm>
            <a:off x="1943280" y="2276640"/>
            <a:ext cx="455400" cy="884160"/>
          </a:xfrm>
          <a:prstGeom prst="rect">
            <a:avLst/>
          </a:prstGeom>
          <a:ln w="0">
            <a:noFill/>
          </a:ln>
        </p:spPr>
      </p:pic>
      <p:pic>
        <p:nvPicPr>
          <p:cNvPr id="1027" name="对象 3" descr=""/>
          <p:cNvPicPr/>
          <p:nvPr/>
        </p:nvPicPr>
        <p:blipFill>
          <a:blip r:embed="rId4"/>
          <a:stretch/>
        </p:blipFill>
        <p:spPr>
          <a:xfrm>
            <a:off x="2673360" y="2278080"/>
            <a:ext cx="536400" cy="882720"/>
          </a:xfrm>
          <a:prstGeom prst="rect">
            <a:avLst/>
          </a:prstGeom>
          <a:ln w="0">
            <a:noFill/>
          </a:ln>
        </p:spPr>
      </p:pic>
      <p:pic>
        <p:nvPicPr>
          <p:cNvPr id="1028" name="对象 4" descr=""/>
          <p:cNvPicPr/>
          <p:nvPr/>
        </p:nvPicPr>
        <p:blipFill>
          <a:blip r:embed="rId5"/>
          <a:stretch/>
        </p:blipFill>
        <p:spPr>
          <a:xfrm>
            <a:off x="3527280" y="2276640"/>
            <a:ext cx="455760" cy="882360"/>
          </a:xfrm>
          <a:prstGeom prst="rect">
            <a:avLst/>
          </a:prstGeom>
          <a:ln w="0">
            <a:noFill/>
          </a:ln>
        </p:spPr>
      </p:pic>
      <p:pic>
        <p:nvPicPr>
          <p:cNvPr id="1029" name="对象 6" descr=""/>
          <p:cNvPicPr/>
          <p:nvPr/>
        </p:nvPicPr>
        <p:blipFill>
          <a:blip r:embed="rId6"/>
          <a:stretch/>
        </p:blipFill>
        <p:spPr>
          <a:xfrm>
            <a:off x="4361040" y="2278080"/>
            <a:ext cx="295200" cy="882720"/>
          </a:xfrm>
          <a:prstGeom prst="rect">
            <a:avLst/>
          </a:prstGeom>
          <a:ln w="0">
            <a:noFill/>
          </a:ln>
        </p:spPr>
      </p:pic>
      <p:pic>
        <p:nvPicPr>
          <p:cNvPr id="1030" name="对象 7" descr=""/>
          <p:cNvPicPr/>
          <p:nvPr/>
        </p:nvPicPr>
        <p:blipFill>
          <a:blip r:embed="rId7"/>
          <a:stretch/>
        </p:blipFill>
        <p:spPr>
          <a:xfrm>
            <a:off x="5035680" y="2265480"/>
            <a:ext cx="563400" cy="882360"/>
          </a:xfrm>
          <a:prstGeom prst="rect">
            <a:avLst/>
          </a:prstGeom>
          <a:ln w="0">
            <a:noFill/>
          </a:ln>
        </p:spPr>
      </p:pic>
      <p:sp>
        <p:nvSpPr>
          <p:cNvPr id="1031" name="矩形 8"/>
          <p:cNvSpPr/>
          <p:nvPr/>
        </p:nvSpPr>
        <p:spPr>
          <a:xfrm>
            <a:off x="1717200" y="4160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2" name="矩形 18"/>
          <p:cNvSpPr/>
          <p:nvPr/>
        </p:nvSpPr>
        <p:spPr>
          <a:xfrm>
            <a:off x="2995200" y="4160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3" name="矩形 19"/>
          <p:cNvSpPr/>
          <p:nvPr/>
        </p:nvSpPr>
        <p:spPr>
          <a:xfrm>
            <a:off x="4105440" y="41497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4" name="矩形 20"/>
          <p:cNvSpPr/>
          <p:nvPr/>
        </p:nvSpPr>
        <p:spPr>
          <a:xfrm>
            <a:off x="4851000" y="41497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5" name="矩形 21"/>
          <p:cNvSpPr/>
          <p:nvPr/>
        </p:nvSpPr>
        <p:spPr>
          <a:xfrm>
            <a:off x="6338520" y="4160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6" name="对象 9" descr=""/>
          <p:cNvPicPr/>
          <p:nvPr/>
        </p:nvPicPr>
        <p:blipFill>
          <a:blip r:embed="rId8"/>
          <a:stretch/>
        </p:blipFill>
        <p:spPr>
          <a:xfrm>
            <a:off x="1679400" y="3260880"/>
            <a:ext cx="455760" cy="884160"/>
          </a:xfrm>
          <a:prstGeom prst="rect">
            <a:avLst/>
          </a:prstGeom>
          <a:ln w="0">
            <a:noFill/>
          </a:ln>
        </p:spPr>
      </p:pic>
      <p:pic>
        <p:nvPicPr>
          <p:cNvPr id="1037" name="对象 10" descr=""/>
          <p:cNvPicPr/>
          <p:nvPr/>
        </p:nvPicPr>
        <p:blipFill>
          <a:blip r:embed="rId9"/>
          <a:stretch/>
        </p:blipFill>
        <p:spPr>
          <a:xfrm>
            <a:off x="2957400" y="3286080"/>
            <a:ext cx="455760" cy="882720"/>
          </a:xfrm>
          <a:prstGeom prst="rect">
            <a:avLst/>
          </a:prstGeom>
          <a:ln w="0">
            <a:noFill/>
          </a:ln>
        </p:spPr>
      </p:pic>
      <p:pic>
        <p:nvPicPr>
          <p:cNvPr id="1038" name="对象 11" descr=""/>
          <p:cNvPicPr/>
          <p:nvPr/>
        </p:nvPicPr>
        <p:blipFill>
          <a:blip r:embed="rId10"/>
          <a:stretch/>
        </p:blipFill>
        <p:spPr>
          <a:xfrm>
            <a:off x="3927600" y="3262320"/>
            <a:ext cx="536400" cy="882720"/>
          </a:xfrm>
          <a:prstGeom prst="rect">
            <a:avLst/>
          </a:prstGeom>
          <a:ln w="0">
            <a:noFill/>
          </a:ln>
        </p:spPr>
      </p:pic>
      <p:pic>
        <p:nvPicPr>
          <p:cNvPr id="1039" name="对象 12" descr=""/>
          <p:cNvPicPr/>
          <p:nvPr/>
        </p:nvPicPr>
        <p:blipFill>
          <a:blip r:embed="rId11"/>
          <a:stretch/>
        </p:blipFill>
        <p:spPr>
          <a:xfrm>
            <a:off x="4851360" y="3262320"/>
            <a:ext cx="295200" cy="882720"/>
          </a:xfrm>
          <a:prstGeom prst="rect">
            <a:avLst/>
          </a:prstGeom>
          <a:ln w="0">
            <a:noFill/>
          </a:ln>
        </p:spPr>
      </p:pic>
      <p:pic>
        <p:nvPicPr>
          <p:cNvPr id="1040" name="对象 13" descr=""/>
          <p:cNvPicPr/>
          <p:nvPr/>
        </p:nvPicPr>
        <p:blipFill>
          <a:blip r:embed="rId12"/>
          <a:stretch/>
        </p:blipFill>
        <p:spPr>
          <a:xfrm>
            <a:off x="6168960" y="3267000"/>
            <a:ext cx="563760" cy="882720"/>
          </a:xfrm>
          <a:prstGeom prst="rect">
            <a:avLst/>
          </a:prstGeom>
          <a:ln w="0">
            <a:noFill/>
          </a:ln>
        </p:spPr>
      </p:pic>
      <p:sp>
        <p:nvSpPr>
          <p:cNvPr id="1041" name="矩形 14"/>
          <p:cNvSpPr/>
          <p:nvPr/>
        </p:nvSpPr>
        <p:spPr>
          <a:xfrm>
            <a:off x="2782080" y="5587920"/>
            <a:ext cx="15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右面包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2" name="矩形 15"/>
          <p:cNvSpPr/>
          <p:nvPr/>
        </p:nvSpPr>
        <p:spPr>
          <a:xfrm>
            <a:off x="4065480" y="505620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之间不包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矩形 10"/>
          <p:cNvSpPr/>
          <p:nvPr/>
        </p:nvSpPr>
        <p:spPr>
          <a:xfrm>
            <a:off x="1008000" y="2006640"/>
            <a:ext cx="721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按要求写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出分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真分数、假分数、带分数各一个，且它们的大小相差一个分数单位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44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45" name="圆角矩形 7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46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47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48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49" name="组合 11"/>
          <p:cNvGrpSpPr/>
          <p:nvPr/>
        </p:nvGrpSpPr>
        <p:grpSpPr>
          <a:xfrm>
            <a:off x="1531800" y="3787920"/>
            <a:ext cx="2500560" cy="901440"/>
            <a:chOff x="1531800" y="3787920"/>
            <a:chExt cx="2500560" cy="901440"/>
          </a:xfrm>
        </p:grpSpPr>
        <p:grpSp>
          <p:nvGrpSpPr>
            <p:cNvPr id="1050" name="组合 4"/>
            <p:cNvGrpSpPr/>
            <p:nvPr/>
          </p:nvGrpSpPr>
          <p:grpSpPr>
            <a:xfrm>
              <a:off x="2114280" y="3787920"/>
              <a:ext cx="1918080" cy="901440"/>
              <a:chOff x="2114280" y="3787920"/>
              <a:chExt cx="1918080" cy="901440"/>
            </a:xfrm>
          </p:grpSpPr>
          <p:pic>
            <p:nvPicPr>
              <p:cNvPr id="1051" name="对象 1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5600" y="3787920"/>
                <a:ext cx="536760" cy="88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对象 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14280" y="3806280"/>
                <a:ext cx="322200" cy="88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对象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876040" y="3806280"/>
                <a:ext cx="295200" cy="88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4" name="矩形 5"/>
            <p:cNvSpPr/>
            <p:nvPr/>
          </p:nvSpPr>
          <p:spPr>
            <a:xfrm>
              <a:off x="1531800" y="405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矩形 10"/>
          <p:cNvSpPr/>
          <p:nvPr/>
        </p:nvSpPr>
        <p:spPr>
          <a:xfrm>
            <a:off x="993600" y="184464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出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三个数字组成的最小真分数、最大假分数、最小带分数和最大带分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56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57" name="圆角矩形 7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58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59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60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61" name="组合 17"/>
          <p:cNvGrpSpPr/>
          <p:nvPr/>
        </p:nvGrpSpPr>
        <p:grpSpPr>
          <a:xfrm>
            <a:off x="1397160" y="3141720"/>
            <a:ext cx="6910200" cy="1763640"/>
            <a:chOff x="1397160" y="3141720"/>
            <a:chExt cx="6910200" cy="1763640"/>
          </a:xfrm>
        </p:grpSpPr>
        <p:sp>
          <p:nvSpPr>
            <p:cNvPr id="1062" name="矩形 12"/>
            <p:cNvSpPr/>
            <p:nvPr/>
          </p:nvSpPr>
          <p:spPr>
            <a:xfrm>
              <a:off x="1397160" y="3249000"/>
              <a:ext cx="6910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28560" indent="-62856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最小真分数是         ，最大假分数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，最小带分数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，最大带分数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63" name="对象 13" descr=""/>
            <p:cNvPicPr/>
            <p:nvPr/>
          </p:nvPicPr>
          <p:blipFill>
            <a:blip r:embed="rId2"/>
            <a:stretch/>
          </p:blipFill>
          <p:spPr>
            <a:xfrm>
              <a:off x="4042800" y="3141720"/>
              <a:ext cx="45684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对象 14" descr=""/>
            <p:cNvPicPr/>
            <p:nvPr/>
          </p:nvPicPr>
          <p:blipFill>
            <a:blip r:embed="rId3"/>
            <a:stretch/>
          </p:blipFill>
          <p:spPr>
            <a:xfrm>
              <a:off x="3723480" y="4022640"/>
              <a:ext cx="56340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对象 15" descr=""/>
            <p:cNvPicPr/>
            <p:nvPr/>
          </p:nvPicPr>
          <p:blipFill>
            <a:blip r:embed="rId4"/>
            <a:stretch/>
          </p:blipFill>
          <p:spPr>
            <a:xfrm>
              <a:off x="6850800" y="3152520"/>
              <a:ext cx="45684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对象 16" descr=""/>
            <p:cNvPicPr/>
            <p:nvPr/>
          </p:nvPicPr>
          <p:blipFill>
            <a:blip r:embed="rId5"/>
            <a:stretch/>
          </p:blipFill>
          <p:spPr>
            <a:xfrm>
              <a:off x="6478560" y="4003920"/>
              <a:ext cx="577440" cy="882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68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69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70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71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2" name="矩形 19"/>
          <p:cNvSpPr/>
          <p:nvPr/>
        </p:nvSpPr>
        <p:spPr>
          <a:xfrm>
            <a:off x="950760" y="1952640"/>
            <a:ext cx="721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下面是一串有规律排列的分数：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分数一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，真分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，假分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73" name="对象 1" descr=""/>
          <p:cNvPicPr/>
          <p:nvPr/>
        </p:nvPicPr>
        <p:blipFill>
          <a:blip r:embed="rId2"/>
          <a:stretch/>
        </p:blipFill>
        <p:spPr>
          <a:xfrm>
            <a:off x="1727280" y="2652840"/>
            <a:ext cx="4529160" cy="884160"/>
          </a:xfrm>
          <a:prstGeom prst="rect">
            <a:avLst/>
          </a:prstGeom>
          <a:ln w="0">
            <a:noFill/>
          </a:ln>
        </p:spPr>
      </p:pic>
      <p:sp>
        <p:nvSpPr>
          <p:cNvPr id="1074" name="矩形 3"/>
          <p:cNvSpPr/>
          <p:nvPr/>
        </p:nvSpPr>
        <p:spPr>
          <a:xfrm>
            <a:off x="31503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5" name="矩形 4"/>
          <p:cNvSpPr/>
          <p:nvPr/>
        </p:nvSpPr>
        <p:spPr>
          <a:xfrm>
            <a:off x="4047480" y="371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6627960" y="3711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>Administrator</dc:creator>
  <dc:description/>
  <dc:language>en-US</dc:language>
  <cp:lastModifiedBy>相忘于江湖</cp:lastModifiedBy>
  <dcterms:modified xsi:type="dcterms:W3CDTF">2018-01-07T07:12:15Z</dcterms:modified>
  <cp:revision>1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