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6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6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EE8A2-442C-484D-883E-C2710078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6509D-02B2-4858-907B-9C4E054A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FAD38-532D-4A30-A78F-092863F8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B845A-C541-408F-960A-511D58E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3EED-7040-4B52-ACA4-3C40CE0A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4DF16-960F-4ECF-9B38-F2839A83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3BAC-1AD9-405D-9054-477C4C8C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C69E0-63D2-40C8-9E2E-09B660A3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22B7F-2D05-45DB-934F-1C66D0E80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A3DB1-438E-4BB4-A570-68B1B932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DDD2E-C2B5-449B-9039-93579D5D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74788-7909-4792-BA0D-668E85B1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D672D-85A3-4171-9494-83A2466A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61B21-2234-461A-B4B1-BB82FD75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F9848-72E3-471A-9DC2-79DCF735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A32AF-09F2-4925-8E60-A92D6C9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F3B00-D897-40A6-AC48-1FBC90E8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824EF-BA92-4F47-98C6-4FBDB3CB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1C5C9-DD95-4638-9B50-C2DA457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71853-8E85-4668-9211-04C4180F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A4E04-9151-4863-A06C-CBBCA250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E9D34-B9D3-4518-87B7-076F04C2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98485-14CE-4AD6-8E7B-DF614C3B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77F7C-4954-4704-B880-4031371B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3626E-A05C-4ED6-953B-679A26F2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95EB1-1B9C-4548-9535-A5CA5541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8AE6D-A192-4475-B8CF-C1B9986A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588E1-0CE1-4E97-8B75-1811D72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D6C82-58DF-42F9-A9B5-D246C9EC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2ACF4-5FAC-4B8C-B428-E2802DC1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CFF-3529-4773-A400-C41502CF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BA92F-DD03-4E0F-B278-BA11C18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FCA62-06E0-415C-9EF2-DA8AA42E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D0A37-5D8E-42C2-BD2B-8A2BD7A6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C4711-1AB7-4BCF-910A-2829D901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9B748-08AE-4EE8-BB84-27E5F908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349CA-9480-4266-AA41-9EF9323D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40780-1D74-4027-B8B7-9B7416EB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8566B-0670-496D-AB43-66A4FF52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813C4-502F-4B98-A28A-741BB5C3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90050-54D3-4029-8137-72F95729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2FB-33C5-4F6F-97D4-7AF989D8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615B2-D71C-4C2E-A985-E49271F6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C810D-EAE7-482A-8ADB-7CAB3032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E9AA8-3ED5-472F-B4D5-6E156E2F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E7C9C-D1BC-4644-B939-0DA01D69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2A047-0065-45F4-9663-33B82E88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284A0-607C-4E01-9F4E-1F8B43D7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1FB0D-2C66-4135-AC85-EF94EAD2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9F108-2129-4185-A87A-FC45AB8E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5BFD1-C573-4CD7-B5E9-3BB510BA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14EB8-51A3-42F2-A49A-8DD5A51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71EF-E2BD-4F55-84CB-76B6B58D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9DEAA-4627-4DE4-8BCD-DC07A9F8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D47C6-0067-41A7-896A-A104395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FA3DB-55CB-44B3-BEBD-242DF03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C6374-3C71-4463-9206-28156195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4F8EA-59EC-4774-8F9A-85A47DA9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6F051-B974-45A5-B6AE-E95F396B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642BD-1733-4344-91C0-584FB5DC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81F85-7C2C-4AEC-9597-DAC673F4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E1042-F703-4259-9DFB-9FDD0B87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BF97E-ADF1-424C-ABEE-8E9336F5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16D8-4803-4640-B322-BD3B4948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64073-C879-480C-9220-053A6AD7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D375B-D527-4599-80C5-0AB468E2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76E7F-15C9-49F6-8F76-49E95180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B8A7A-517D-4FA5-8238-42092855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0BFEE-D42D-4F3F-A032-CE47FF8A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4370D-7920-4AFD-B3E8-B8001336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35C4A-185A-4AE8-8FDA-33555380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A8BB8-E2FE-4CC9-841F-72D361DC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70452-789C-4602-B915-8182A7F24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0DC43-D0FF-4B1E-93E4-0B2C7E83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78E-ADA3-49C4-888D-8E825A4F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5F9D1-64AD-4FE1-8B0C-17EFB82B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9B0A6-E8E9-4FD9-A31F-E88CDCAD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B29A3-EE2E-4926-8B84-ABF09103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B574D-C5EE-4E2D-9539-CE0B2DD0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1B886-866A-4A5F-8CDA-D70A6A45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DD5261-022C-4E99-9A28-BA03E82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A9E475-E9A3-4BD3-8D05-C62A9FEC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D9BA8-6765-4329-9C69-96098118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624A1-C012-4A71-8539-52F1B2DA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AA14E-4579-4EBC-973E-32D509116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6DC-D7DF-4A93-A8A3-3AB61EFB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EDA70-3DB6-41F1-9E36-031330FFD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01B9E-5281-46BE-BDF2-5F7A7B81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5967B-7079-420D-9177-6EB6E7B3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59F46-AEF2-4155-B339-70AC8EB8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09CB77-9FF1-489E-B133-9D27A752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CB4ED-167D-4218-8023-F4C2C4F2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59602-C6A6-45FC-9DEF-6477562D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7C184-6918-47B8-80E8-47C9D964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D0B9F-F5DA-4C7E-A909-FD3801D1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5E79A-6125-4B87-8DB3-384BCD79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97A9-E5FA-4809-96C0-820D510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59E4A-B657-403D-80DE-439F0B8A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66038-FC0A-466D-BD5A-718962FD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4BCA1-BF1A-4EA6-811C-7EFC63C3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EFD4B-CB00-4F68-AF2E-38E31E92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5E44B-5884-40AF-953A-74AD190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34FE8-D040-4A10-89E2-C0B236CB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C9520-CA1B-4E26-A81C-1AE02089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A4966-AC3D-45F2-AC0C-5B69E29E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2E6D0-F498-4573-BD1B-609DB9D0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281AA-4C72-4CA1-B856-CDF3946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509-3BBB-4CB5-B42A-8C03281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FE7D08-5474-40DF-89D1-951EF92C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D5F95-FB8E-4FBB-8913-BF03558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0BEC4-92DD-4E73-9E4D-AEA5CF92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68571D-513F-4D60-9FFC-8B2130FA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262DD0-1652-46B3-97BA-0BA47098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E492C-1B70-4D1B-B2D8-A1D3B39C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6501F-FC57-407A-AF4A-12F2BB8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98C4A-29EA-47A2-8F0A-39139AC8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7E2EA-75CD-4410-AE37-174BD93E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3FADE-8098-4B25-91AF-6729F79F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B0B-73AF-4B74-BC23-360F7D4A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9CA77-6D97-4119-A4A1-9D9FA825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8092AA-B350-4E11-8D37-BF0B706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DE9DAF-5F1D-4429-A8AC-15036917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4D0E2-509D-44B0-81DE-9393A17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91467-2E23-4EA7-A5C4-23B6F964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4998B5-F05E-4124-AADC-66924A1C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546666-8363-4DF6-A884-E906BD62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211285-CB72-4443-AE65-5D4972E6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ACC470-167E-412E-8279-8D033D68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9861F-3404-415F-B727-2EDF1C22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218-B19E-4AED-9BC4-603EEC4D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E7006-3C10-4A19-83AE-AF84F857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60A4C-C4BD-460C-9A24-B4FDB51A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ECB207-716A-49DF-9268-CB5F3C2A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2A0EF-A841-4CC7-8D32-3157D6FD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DDB27-15E5-49D4-BE26-A5AA379B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D00B7-E915-43B4-A95C-54944050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1B48D9-662F-4CAC-8E29-F4A30833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26F8E-2D0B-43A4-AA29-B5A54F36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F34020-4591-4811-8D4C-C737DBE59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BBFD2-0116-4F4B-B7BB-DA77B5C7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B3E-D1C6-4989-A8F5-F2A35AC6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10C38C-508A-4ABD-A8A2-79121217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7289AA-C0A5-4A2C-B610-40B46153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E9591C-6E01-4EA7-89B0-08256F83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1E0B4-7F94-401E-9744-3077457B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4127D1-9391-49AA-94F5-55894849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0EBB6-A370-426F-998A-FBC2B46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8EB34D-7127-46A1-B7A1-426D2F44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AC83E7-0BE1-4930-9F39-5A3D1E9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3DAF8-A05E-4393-8A8A-1B74F6A5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13F37-6ABE-4948-94B4-971F5DB9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2156-EDE8-4907-A6D0-8E1B30FE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94912B-F977-47A0-B316-C4F80E36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3E0F6-7A39-44A6-A278-3F8AD144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75A9C-3F15-42D6-B829-755F6012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C773C8-79F7-4BCF-AC8B-38BB1FE0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554C96-3527-45C7-B512-EDBC83C7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60866D-4529-4AC5-A262-4EC8A8E5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92B68-8B35-4762-9DD9-15765016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6184B0-CE41-4AC0-885E-57B6CAF3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BE91B-1386-4404-AC19-2B359439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FCEF08-2D23-428B-98F6-22D8B1C1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C955-3937-4C0A-B20F-7AD82A55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3FFEC3-0DB3-4A21-B370-F049623F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C9B87-8309-41FE-81EB-BA459BFE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76A1B-A9EA-4A8F-837C-14E8E525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3A58F-F625-4F11-B307-940237CA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92806-4D5C-4A29-A906-CE464C57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1CDF1F-2FFB-4EE9-B862-EF1F2ADE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DDA15-B532-4C22-8260-4E542A90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01801-8B26-43CE-A0CC-0C664797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2F27E-6F1A-4255-B636-13BA65AD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6C032-C0E1-43CE-B116-CE18D4A0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0026-8C68-4DA7-AE8D-D0A3CDBD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A1FE7-008C-466E-B2B7-BCA870E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5ABB56-1857-4B39-8BE4-124E05DE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90397D-C346-4DE1-AF26-9CAD99DF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F0431-A906-4DE7-B4CA-B72411F2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A6695-4573-466B-B803-C41B264B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C06F7C-C53E-492C-806F-39F62AF9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402E4A-694E-46B4-900F-029B1115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83F23-977A-4B4C-9BDF-B37FD291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2DAAE4-616D-4B70-9243-D2E2C0B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33582F-A7CC-4054-8995-599231A5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1B14-C242-429C-A3A8-C7507516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FF60BB-F4B9-44F7-9C5F-C454BCB3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1CC6F7-B1E5-4281-A75D-7949AF7D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6071EE-8220-4E68-9D5D-2B0E93EE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1F9358-34F3-443C-B8DD-74066979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249D98-7D7F-462E-A5C3-809C5407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6EAABC-6BA3-481E-A725-6CD032EB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509C54-27FB-42A9-A3D5-D88F43EE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AA44B2-B672-424E-AEB0-FBCE8CA8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852EC7-EA05-43CB-B378-7810D55E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D775EF-96EA-4A2A-8604-7BD72C51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9BDD-288D-4EBD-9036-FCECA6CD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BD8925-9797-45C0-8194-ACBAF92A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59EA43-AA68-4415-9738-64EED377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88D5B-372B-4847-8650-69B68EDA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D3FAD6-292B-4069-BF37-508C805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337009-9950-4CBC-AEEC-12407D9B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7647EC-60DC-4D38-B7A0-9AD86984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44173-5907-48E8-ABA9-B530C825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E2C89-78D4-4D06-9896-49A36F0E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054A0E-68AA-4C77-BA41-2F36CBFE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C053-A891-4917-A2E6-B1E00086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D16E-C09F-4C87-A7BF-1D64FE96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FECC-44B2-4B81-9283-E7603438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D7DF-029C-41FC-9E4C-15F6D3E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8057-BEF4-4465-8CF1-B14B5BA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C615-2FE4-4DAF-A7BC-1AA586C5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C511-FF24-4FBC-96D5-67959ED3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85E7-5747-454F-8A4C-61AB91FE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E78C2-FFC8-4B0F-9E5B-A5D3BCB4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F0AE-B1D7-4DD5-8BEF-A54E5ECF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9902-25B7-474B-9DB6-E40E0216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B9BA-207E-4EC5-8713-BD29C5E0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0322-D8C4-47D0-9638-2F9F4EEB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B960-F395-4AA2-AEF6-96A8B8B8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F70E-E3BA-488B-B8FC-F3683D06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9BAE8-01D3-4174-B256-33393DFE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1D40-45C3-49C3-A443-A4A708B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592E-F009-4DF1-845F-1009C970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4A1C-55B2-4089-9295-2A14CB0C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EC7D7-1A35-47D7-921B-9A326EC1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7EB3-5700-40E3-9D19-1A3AE785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CC38-B6E5-488A-AB46-653C846C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B1BF5-BA28-48E4-A360-F1CA6504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7D7AC-5D89-4EA8-BC98-51FFBFDE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F84EC-19B0-4F20-BFA2-BD49D9B4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0E67-5CBB-4F54-AACA-BC6C6D1E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74556-E8CB-4D67-8860-1697FDBF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9619-6649-453D-89AE-27DF084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45C29-69C4-484D-BFCD-52F3D2D2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4641-C607-4D86-BCC7-BD7550FA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66B5E-1AE5-45DE-BADB-72F63900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24B82-990A-47AF-8B41-F1CC1C3D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F8BE-C39E-41A5-A512-2FE5E949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79FFF-6C04-4CBD-965F-F15694F9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A0CFE-6E6D-402A-9DB1-60F276C5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284B8-031A-4D71-BB5F-723E41D1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BB675-A843-429B-9DEC-4FB3A651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F327-D1A6-4B78-B4E4-57D40510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DC9B-A9E6-47CD-A17D-A5424891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4729B-40D3-49DC-9CC1-BD71C88E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F66BD-0B00-4B41-97E9-C1E766FA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EE109-B7DF-44BD-9881-4C1E3972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6AD17-FD89-44DF-B740-EE2F150B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2E30-EFA2-4399-9D40-815CDA0E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4120-1B64-4DCC-9C3F-012391A8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D2C5C-9A7B-4CB8-B058-44A9A85F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C5232-2C1B-482A-85FE-3D75E1BE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61438-343F-40A2-8F8F-AD1309BE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3AEA5-2309-45AA-95F7-39B89E2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E2C26-4502-4C55-9DF8-B782C730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232BE-46D3-475C-80C1-0511AD4E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1223C-024C-4C46-9E33-83ACD168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6E5D9-E7A1-4F09-804E-BFD6B528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5E115-438D-47C3-9ADD-3E0DB7B6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F6BD1-ED80-4382-8E9E-3CCAF9A5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8C917-B251-4EDC-A33E-73F3598C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74B7F-629F-4C3D-AFAA-8473EA23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ADFE3-96CC-429B-AEA9-468EF629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871AC-0C53-44E6-ABAE-A7BBCB39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82296-F8BF-4144-B739-CADD71AC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309DC-8CF2-4FCE-8D1E-D497471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1A3F-AD0A-4301-8F1B-944D9E8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FD3BC-9BCC-4B6A-9DCA-36D6B20B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E4D1F-0395-44AF-B832-86520E3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FD4C9-ADE7-45BD-A6F6-A6F2C01A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E721E-25FE-49A1-8991-341EF5EC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CC33F-029E-4A19-8DB9-D7FC568D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FF690-5F56-4FE8-A277-7B1D9778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84BCF-B379-4FE3-B5C8-FD6159C6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94486-DF07-4A41-B142-21D38C51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64464-3D24-47BF-AD06-6E2A9179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B9F3-511A-4545-B955-FB432666FE6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C7AF-A520-4086-ACD7-729056D977C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82A3-B603-478A-B1AE-54554AF09AE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2DCD-635F-49B0-A523-BBDF6E0F136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C78A-3E9C-4C8C-81A2-65A75955F82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1F96-879B-4A12-9BE1-128ECB00ADC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F85F-2AFA-4C6E-8086-B6E48879123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1859-DF65-45CB-88B2-34A4F85BB2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D04D-0230-4347-9E61-95B1871892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97EF-1048-4C32-9B33-3CE1A807DA4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516D-6873-493A-8B37-2FCF035D6F8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1993-B948-411E-A5FC-49D519CE898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389E-75D4-4EA8-A329-B093D351BA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9815-93CD-4A31-B897-7F3AE4DF29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C022-2637-41EE-8446-D28CC0AC83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67C-82EE-40BA-B7D7-7E60368CD7A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3F91-F087-48CD-A73D-EA4C3152F49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D545-8C5B-4FF1-AB9A-5EC0274CA13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420E-BDC3-447A-AB31-76D81744391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D75B-B9AD-48A1-8914-8901F1E7EF4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FCFF-FAFA-4036-A14A-7245826784A4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3FA5-17F1-417E-86B8-593C8480D62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DB13-B11C-4C2C-ADF3-AD0B8DA62F9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095480" y="2103480"/>
            <a:ext cx="6953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数的基本性质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2"/>
          <p:cNvSpPr/>
          <p:nvPr/>
        </p:nvSpPr>
        <p:spPr>
          <a:xfrm>
            <a:off x="38664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4"/>
          <p:cNvSpPr/>
          <p:nvPr/>
        </p:nvSpPr>
        <p:spPr>
          <a:xfrm>
            <a:off x="3786120" y="1684440"/>
            <a:ext cx="457200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校园艺术节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分数的意义和性质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1258920" y="1449360"/>
            <a:ext cx="655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分数的基本性质变式应用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根据分数的基本性质解决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1133640" y="1628640"/>
            <a:ext cx="689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回答下列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将     的分子加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要使分数的大小不变，分母应该怎样变化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对象 8" descr=""/>
          <p:cNvPicPr/>
          <p:nvPr/>
        </p:nvPicPr>
        <p:blipFill>
          <a:blip r:embed="rId2"/>
          <a:stretch/>
        </p:blipFill>
        <p:spPr>
          <a:xfrm>
            <a:off x="2540160" y="2384280"/>
            <a:ext cx="328320" cy="903600"/>
          </a:xfrm>
          <a:prstGeom prst="rect">
            <a:avLst/>
          </a:prstGeom>
          <a:ln w="0">
            <a:noFill/>
          </a:ln>
        </p:spPr>
      </p:pic>
      <p:sp>
        <p:nvSpPr>
          <p:cNvPr id="1005" name="矩形 22"/>
          <p:cNvSpPr/>
          <p:nvPr/>
        </p:nvSpPr>
        <p:spPr>
          <a:xfrm>
            <a:off x="1558800" y="414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分母应该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者加上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矩形 10"/>
          <p:cNvSpPr/>
          <p:nvPr/>
        </p:nvSpPr>
        <p:spPr>
          <a:xfrm>
            <a:off x="900000" y="1628640"/>
            <a:ext cx="72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将        的分子除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分母减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分数的大小有变化吗？请说明理由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07" name="对象 1" descr=""/>
          <p:cNvPicPr/>
          <p:nvPr/>
        </p:nvPicPr>
        <p:blipFill>
          <a:blip r:embed="rId1"/>
          <a:stretch/>
        </p:blipFill>
        <p:spPr>
          <a:xfrm>
            <a:off x="2346480" y="1628640"/>
            <a:ext cx="493560" cy="903600"/>
          </a:xfrm>
          <a:prstGeom prst="rect">
            <a:avLst/>
          </a:prstGeom>
          <a:ln w="0">
            <a:noFill/>
          </a:ln>
        </p:spPr>
      </p:pic>
      <p:sp>
        <p:nvSpPr>
          <p:cNvPr id="1008" name="矩形 8"/>
          <p:cNvSpPr/>
          <p:nvPr/>
        </p:nvSpPr>
        <p:spPr>
          <a:xfrm>
            <a:off x="1292400" y="339264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分数的大小没有变化。理由：分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减去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相当于把分母除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分子也除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根据分数的基本性质，分数的大小没有变化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矩形 10"/>
          <p:cNvSpPr/>
          <p:nvPr/>
        </p:nvSpPr>
        <p:spPr>
          <a:xfrm>
            <a:off x="1116000" y="1811160"/>
            <a:ext cx="7218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年级一班      的同学参加了舞蹈小组，      的同学参加了书法小组，参加哪个小组的人数多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0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1" name="圆角矩形 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12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13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14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15" name="对象 1" descr=""/>
          <p:cNvPicPr/>
          <p:nvPr/>
        </p:nvPicPr>
        <p:blipFill>
          <a:blip r:embed="rId2"/>
          <a:stretch/>
        </p:blipFill>
        <p:spPr>
          <a:xfrm>
            <a:off x="3198960" y="2346480"/>
            <a:ext cx="328320" cy="903240"/>
          </a:xfrm>
          <a:prstGeom prst="rect">
            <a:avLst/>
          </a:prstGeom>
          <a:ln w="0">
            <a:noFill/>
          </a:ln>
        </p:spPr>
      </p:pic>
      <p:pic>
        <p:nvPicPr>
          <p:cNvPr id="1016" name="对象 2" descr=""/>
          <p:cNvPicPr/>
          <p:nvPr/>
        </p:nvPicPr>
        <p:blipFill>
          <a:blip r:embed="rId3"/>
          <a:stretch/>
        </p:blipFill>
        <p:spPr>
          <a:xfrm>
            <a:off x="6916680" y="2317680"/>
            <a:ext cx="466920" cy="903240"/>
          </a:xfrm>
          <a:prstGeom prst="rect">
            <a:avLst/>
          </a:prstGeom>
          <a:ln w="0">
            <a:noFill/>
          </a:ln>
        </p:spPr>
      </p:pic>
      <p:grpSp>
        <p:nvGrpSpPr>
          <p:cNvPr id="1017" name="组合 15"/>
          <p:cNvGrpSpPr/>
          <p:nvPr/>
        </p:nvGrpSpPr>
        <p:grpSpPr>
          <a:xfrm>
            <a:off x="1547640" y="3957480"/>
            <a:ext cx="6516720" cy="2300040"/>
            <a:chOff x="1547640" y="3957480"/>
            <a:chExt cx="6516720" cy="2300040"/>
          </a:xfrm>
        </p:grpSpPr>
        <p:sp>
          <p:nvSpPr>
            <p:cNvPr id="1018" name="矩形 8"/>
            <p:cNvSpPr/>
            <p:nvPr/>
          </p:nvSpPr>
          <p:spPr>
            <a:xfrm>
              <a:off x="1547640" y="3969000"/>
              <a:ext cx="651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     　因为       ＞      ，所以        ＞       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参加书法小组的人数多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19" name="对象 9" descr=""/>
            <p:cNvPicPr/>
            <p:nvPr/>
          </p:nvPicPr>
          <p:blipFill>
            <a:blip r:embed="rId4"/>
            <a:stretch/>
          </p:blipFill>
          <p:spPr>
            <a:xfrm>
              <a:off x="1691640" y="3965760"/>
              <a:ext cx="3283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对象 10" descr=""/>
            <p:cNvPicPr/>
            <p:nvPr/>
          </p:nvPicPr>
          <p:blipFill>
            <a:blip r:embed="rId5"/>
            <a:stretch/>
          </p:blipFill>
          <p:spPr>
            <a:xfrm>
              <a:off x="2303280" y="3968640"/>
              <a:ext cx="4651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对象 11" descr=""/>
            <p:cNvPicPr/>
            <p:nvPr/>
          </p:nvPicPr>
          <p:blipFill>
            <a:blip r:embed="rId6"/>
            <a:stretch/>
          </p:blipFill>
          <p:spPr>
            <a:xfrm>
              <a:off x="4492080" y="3957480"/>
              <a:ext cx="4651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对象 12" descr=""/>
            <p:cNvPicPr/>
            <p:nvPr/>
          </p:nvPicPr>
          <p:blipFill>
            <a:blip r:embed="rId7"/>
            <a:stretch/>
          </p:blipFill>
          <p:spPr>
            <a:xfrm>
              <a:off x="3671640" y="3958200"/>
              <a:ext cx="4651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对象 13" descr=""/>
            <p:cNvPicPr/>
            <p:nvPr/>
          </p:nvPicPr>
          <p:blipFill>
            <a:blip r:embed="rId8"/>
            <a:stretch/>
          </p:blipFill>
          <p:spPr>
            <a:xfrm>
              <a:off x="5940360" y="3969000"/>
              <a:ext cx="465120" cy="90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对象 14" descr=""/>
            <p:cNvPicPr/>
            <p:nvPr/>
          </p:nvPicPr>
          <p:blipFill>
            <a:blip r:embed="rId9"/>
            <a:stretch/>
          </p:blipFill>
          <p:spPr>
            <a:xfrm>
              <a:off x="6768360" y="3969000"/>
              <a:ext cx="328320" cy="903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矩形 10"/>
          <p:cNvSpPr/>
          <p:nvPr/>
        </p:nvSpPr>
        <p:spPr>
          <a:xfrm>
            <a:off x="934920" y="181116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明有两支同样长的铅笔，第一支铅笔用去了      ，第二支铅笔用去了       。现在哪一支铅笔比较长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26" name="对象 1" descr=""/>
          <p:cNvPicPr/>
          <p:nvPr/>
        </p:nvPicPr>
        <p:blipFill>
          <a:blip r:embed="rId1"/>
          <a:stretch/>
        </p:blipFill>
        <p:spPr>
          <a:xfrm>
            <a:off x="7488360" y="1811160"/>
            <a:ext cx="328320" cy="903600"/>
          </a:xfrm>
          <a:prstGeom prst="rect">
            <a:avLst/>
          </a:prstGeom>
          <a:ln w="0">
            <a:noFill/>
          </a:ln>
        </p:spPr>
      </p:pic>
      <p:pic>
        <p:nvPicPr>
          <p:cNvPr id="1027" name="对象 2" descr=""/>
          <p:cNvPicPr/>
          <p:nvPr/>
        </p:nvPicPr>
        <p:blipFill>
          <a:blip r:embed="rId2"/>
          <a:stretch/>
        </p:blipFill>
        <p:spPr>
          <a:xfrm>
            <a:off x="3840120" y="2492280"/>
            <a:ext cx="495360" cy="903240"/>
          </a:xfrm>
          <a:prstGeom prst="rect">
            <a:avLst/>
          </a:prstGeom>
          <a:ln w="0">
            <a:noFill/>
          </a:ln>
        </p:spPr>
      </p:pic>
      <p:grpSp>
        <p:nvGrpSpPr>
          <p:cNvPr id="1028" name="组合 9"/>
          <p:cNvGrpSpPr/>
          <p:nvPr/>
        </p:nvGrpSpPr>
        <p:grpSpPr>
          <a:xfrm>
            <a:off x="1332000" y="3608280"/>
            <a:ext cx="6516720" cy="2300760"/>
            <a:chOff x="1332000" y="3608280"/>
            <a:chExt cx="6516720" cy="2300760"/>
          </a:xfrm>
        </p:grpSpPr>
        <p:sp>
          <p:nvSpPr>
            <p:cNvPr id="1029" name="矩形 10"/>
            <p:cNvSpPr/>
            <p:nvPr/>
          </p:nvSpPr>
          <p:spPr>
            <a:xfrm>
              <a:off x="1332000" y="3620520"/>
              <a:ext cx="6516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＝     　因为       ＞      ，所以        ＞       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现在第二支铅笔比较长。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030" name="对象 11" descr=""/>
            <p:cNvPicPr/>
            <p:nvPr/>
          </p:nvPicPr>
          <p:blipFill>
            <a:blip r:embed="rId3"/>
            <a:stretch/>
          </p:blipFill>
          <p:spPr>
            <a:xfrm>
              <a:off x="1476000" y="3617280"/>
              <a:ext cx="32832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对象 12" descr=""/>
            <p:cNvPicPr/>
            <p:nvPr/>
          </p:nvPicPr>
          <p:blipFill>
            <a:blip r:embed="rId4"/>
            <a:stretch/>
          </p:blipFill>
          <p:spPr>
            <a:xfrm>
              <a:off x="2073600" y="3620880"/>
              <a:ext cx="49356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对象 13" descr=""/>
            <p:cNvPicPr/>
            <p:nvPr/>
          </p:nvPicPr>
          <p:blipFill>
            <a:blip r:embed="rId5"/>
            <a:stretch/>
          </p:blipFill>
          <p:spPr>
            <a:xfrm>
              <a:off x="4262760" y="3608280"/>
              <a:ext cx="49356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对象 14" descr=""/>
            <p:cNvPicPr/>
            <p:nvPr/>
          </p:nvPicPr>
          <p:blipFill>
            <a:blip r:embed="rId6"/>
            <a:stretch/>
          </p:blipFill>
          <p:spPr>
            <a:xfrm>
              <a:off x="3443760" y="3609720"/>
              <a:ext cx="49212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对象 15" descr=""/>
            <p:cNvPicPr/>
            <p:nvPr/>
          </p:nvPicPr>
          <p:blipFill>
            <a:blip r:embed="rId7"/>
            <a:stretch/>
          </p:blipFill>
          <p:spPr>
            <a:xfrm>
              <a:off x="5793120" y="3620880"/>
              <a:ext cx="328320" cy="90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对象 16" descr=""/>
            <p:cNvPicPr/>
            <p:nvPr/>
          </p:nvPicPr>
          <p:blipFill>
            <a:blip r:embed="rId8"/>
            <a:stretch/>
          </p:blipFill>
          <p:spPr>
            <a:xfrm>
              <a:off x="6471000" y="3620880"/>
              <a:ext cx="492120" cy="903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矩形 10"/>
          <p:cNvSpPr/>
          <p:nvPr/>
        </p:nvSpPr>
        <p:spPr>
          <a:xfrm>
            <a:off x="1008000" y="1811160"/>
            <a:ext cx="72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果园，     种苹果树，     种梨树，      种杏树， 种桃树，      种山楂树。哪些果树的种植面积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808200" indent="-808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样大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37" name="对象 1" descr=""/>
          <p:cNvPicPr/>
          <p:nvPr/>
        </p:nvPicPr>
        <p:blipFill>
          <a:blip r:embed="rId1"/>
          <a:stretch/>
        </p:blipFill>
        <p:spPr>
          <a:xfrm>
            <a:off x="3038400" y="1816200"/>
            <a:ext cx="300240" cy="903240"/>
          </a:xfrm>
          <a:prstGeom prst="rect">
            <a:avLst/>
          </a:prstGeom>
          <a:ln w="0">
            <a:noFill/>
          </a:ln>
        </p:spPr>
      </p:pic>
      <p:pic>
        <p:nvPicPr>
          <p:cNvPr id="1038" name="对象 2" descr=""/>
          <p:cNvPicPr/>
          <p:nvPr/>
        </p:nvPicPr>
        <p:blipFill>
          <a:blip r:embed="rId2"/>
          <a:stretch/>
        </p:blipFill>
        <p:spPr>
          <a:xfrm>
            <a:off x="6443640" y="1803240"/>
            <a:ext cx="466920" cy="903600"/>
          </a:xfrm>
          <a:prstGeom prst="rect">
            <a:avLst/>
          </a:prstGeom>
          <a:ln w="0">
            <a:noFill/>
          </a:ln>
        </p:spPr>
      </p:pic>
      <p:pic>
        <p:nvPicPr>
          <p:cNvPr id="1039" name="对象 3" descr=""/>
          <p:cNvPicPr/>
          <p:nvPr/>
        </p:nvPicPr>
        <p:blipFill>
          <a:blip r:embed="rId3"/>
          <a:stretch/>
        </p:blipFill>
        <p:spPr>
          <a:xfrm>
            <a:off x="4824360" y="1811160"/>
            <a:ext cx="466920" cy="903600"/>
          </a:xfrm>
          <a:prstGeom prst="rect">
            <a:avLst/>
          </a:prstGeom>
          <a:ln w="0">
            <a:noFill/>
          </a:ln>
        </p:spPr>
      </p:pic>
      <p:pic>
        <p:nvPicPr>
          <p:cNvPr id="1040" name="对象 4" descr=""/>
          <p:cNvPicPr/>
          <p:nvPr/>
        </p:nvPicPr>
        <p:blipFill>
          <a:blip r:embed="rId4"/>
          <a:stretch/>
        </p:blipFill>
        <p:spPr>
          <a:xfrm>
            <a:off x="1425600" y="2529000"/>
            <a:ext cx="495360" cy="903240"/>
          </a:xfrm>
          <a:prstGeom prst="rect">
            <a:avLst/>
          </a:prstGeom>
          <a:ln w="0">
            <a:noFill/>
          </a:ln>
        </p:spPr>
      </p:pic>
      <p:pic>
        <p:nvPicPr>
          <p:cNvPr id="1041" name="对象 6" descr=""/>
          <p:cNvPicPr/>
          <p:nvPr/>
        </p:nvPicPr>
        <p:blipFill>
          <a:blip r:embed="rId5"/>
          <a:stretch/>
        </p:blipFill>
        <p:spPr>
          <a:xfrm>
            <a:off x="3044880" y="2529000"/>
            <a:ext cx="495360" cy="903240"/>
          </a:xfrm>
          <a:prstGeom prst="rect">
            <a:avLst/>
          </a:prstGeom>
          <a:ln w="0">
            <a:noFill/>
          </a:ln>
        </p:spPr>
      </p:pic>
      <p:grpSp>
        <p:nvGrpSpPr>
          <p:cNvPr id="1042" name="组合 7"/>
          <p:cNvGrpSpPr/>
          <p:nvPr/>
        </p:nvGrpSpPr>
        <p:grpSpPr>
          <a:xfrm>
            <a:off x="1368360" y="4113360"/>
            <a:ext cx="6516720" cy="2300400"/>
            <a:chOff x="1368360" y="4113360"/>
            <a:chExt cx="6516720" cy="2300400"/>
          </a:xfrm>
        </p:grpSpPr>
        <p:grpSp>
          <p:nvGrpSpPr>
            <p:cNvPr id="1043" name="组合 12"/>
            <p:cNvGrpSpPr/>
            <p:nvPr/>
          </p:nvGrpSpPr>
          <p:grpSpPr>
            <a:xfrm>
              <a:off x="1368360" y="4113360"/>
              <a:ext cx="6516720" cy="2300400"/>
              <a:chOff x="1368360" y="4113360"/>
              <a:chExt cx="6516720" cy="2300400"/>
            </a:xfrm>
          </p:grpSpPr>
          <p:sp>
            <p:nvSpPr>
              <p:cNvPr id="1044" name="矩形 13"/>
              <p:cNvSpPr/>
              <p:nvPr/>
            </p:nvSpPr>
            <p:spPr>
              <a:xfrm>
                <a:off x="1368360" y="4125240"/>
                <a:ext cx="6516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＝           　 ＝            所以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=      =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答：苹果树、杏树和山楂树的种植面积一样大。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45" name="对象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4680" y="4122720"/>
                <a:ext cx="465120" cy="90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对象 15" descr=""/>
              <p:cNvPicPr/>
              <p:nvPr/>
            </p:nvPicPr>
            <p:blipFill>
              <a:blip r:embed="rId7"/>
              <a:stretch/>
            </p:blipFill>
            <p:spPr>
              <a:xfrm>
                <a:off x="2205000" y="4125960"/>
                <a:ext cx="301320" cy="90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对象 16" descr=""/>
              <p:cNvPicPr/>
              <p:nvPr/>
            </p:nvPicPr>
            <p:blipFill>
              <a:blip r:embed="rId8"/>
              <a:stretch/>
            </p:blipFill>
            <p:spPr>
              <a:xfrm>
                <a:off x="3732480" y="4113360"/>
                <a:ext cx="301320" cy="90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对象 17" descr=""/>
              <p:cNvPicPr/>
              <p:nvPr/>
            </p:nvPicPr>
            <p:blipFill>
              <a:blip r:embed="rId9"/>
              <a:stretch/>
            </p:blipFill>
            <p:spPr>
              <a:xfrm>
                <a:off x="2916360" y="4114800"/>
                <a:ext cx="492120" cy="90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对象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67640" y="4125960"/>
                <a:ext cx="466560" cy="90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对象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07360" y="4125600"/>
                <a:ext cx="492120" cy="902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51" name="对象 20" descr=""/>
            <p:cNvPicPr/>
            <p:nvPr/>
          </p:nvPicPr>
          <p:blipFill>
            <a:blip r:embed="rId12"/>
            <a:stretch/>
          </p:blipFill>
          <p:spPr>
            <a:xfrm>
              <a:off x="5292720" y="4123800"/>
              <a:ext cx="328320" cy="902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3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4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55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56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7" name="矩形 19"/>
          <p:cNvSpPr/>
          <p:nvPr/>
        </p:nvSpPr>
        <p:spPr>
          <a:xfrm>
            <a:off x="900000" y="2017800"/>
            <a:ext cx="73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请你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数，写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大小相等的分数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个数只用一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58" name="组合 3"/>
          <p:cNvGrpSpPr/>
          <p:nvPr/>
        </p:nvGrpSpPr>
        <p:grpSpPr>
          <a:xfrm>
            <a:off x="1623600" y="3605040"/>
            <a:ext cx="7083720" cy="903600"/>
            <a:chOff x="1623600" y="3605040"/>
            <a:chExt cx="7083720" cy="903600"/>
          </a:xfrm>
        </p:grpSpPr>
        <p:grpSp>
          <p:nvGrpSpPr>
            <p:cNvPr id="1059" name="组合 13"/>
            <p:cNvGrpSpPr/>
            <p:nvPr/>
          </p:nvGrpSpPr>
          <p:grpSpPr>
            <a:xfrm>
              <a:off x="2190600" y="3605040"/>
              <a:ext cx="6516720" cy="903600"/>
              <a:chOff x="2190600" y="3605040"/>
              <a:chExt cx="6516720" cy="903600"/>
            </a:xfrm>
          </p:grpSpPr>
          <p:sp>
            <p:nvSpPr>
              <p:cNvPr id="1060" name="矩形 17"/>
              <p:cNvSpPr/>
              <p:nvPr/>
            </p:nvSpPr>
            <p:spPr>
              <a:xfrm>
                <a:off x="2190600" y="3616920"/>
                <a:ext cx="6516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          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楷体_GB2312"/>
                  </a:rPr>
                  <a:t>　 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61" name="对象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298600" y="3605040"/>
                <a:ext cx="1641240" cy="903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62" name="矩形 2"/>
            <p:cNvSpPr/>
            <p:nvPr/>
          </p:nvSpPr>
          <p:spPr>
            <a:xfrm>
              <a:off x="1623600" y="38703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答：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07:13:19Z</dcterms:modified>
  <cp:revision>1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