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6.png" ContentType="image/png"/>
  <Override PartName="/ppt/media/image19.wmf" ContentType="image/x-wmf"/>
  <Override PartName="/ppt/media/image14.jpeg" ContentType="image/jpeg"/>
  <Override PartName="/ppt/media/image17.wmf" ContentType="image/x-wmf"/>
  <Override PartName="/ppt/media/image16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974-F500-497C-81DF-ABBB3BE4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406-5DE7-4966-8D1D-9BE0B62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865-BD94-46E2-B301-BBCA3393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436-C46B-48DD-9653-BEA86930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FDF-5060-45A3-9CBD-47436B3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8D1-3FD7-4177-BB7E-73718552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ADF-42F7-4711-BE0B-061CE5B8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827-ED23-4442-99CE-493D1CEC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6D7-6F28-4A5A-A50C-C0A703A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321-0057-455F-A827-8F793B58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339-B6F3-47FF-AD18-57F3F82F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F35-E44F-46E5-BBD8-D500D18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D9C-E1C9-42CB-A183-C83F319621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1"/>
          <p:cNvSpPr/>
          <p:nvPr/>
        </p:nvSpPr>
        <p:spPr>
          <a:xfrm>
            <a:off x="5221440" y="5084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1"/>
          <p:cNvSpPr/>
          <p:nvPr/>
        </p:nvSpPr>
        <p:spPr>
          <a:xfrm>
            <a:off x="1835280" y="49878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1"/>
          <p:cNvSpPr/>
          <p:nvPr/>
        </p:nvSpPr>
        <p:spPr>
          <a:xfrm>
            <a:off x="468360" y="1484280"/>
            <a:ext cx="74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用分数和小数表示图中的涂色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9" descr="QQ截图20130904085327"/>
          <p:cNvPicPr/>
          <p:nvPr/>
        </p:nvPicPr>
        <p:blipFill>
          <a:blip r:embed="rId2"/>
          <a:srcRect l="0" t="0" r="53187" b="33706"/>
          <a:stretch/>
        </p:blipFill>
        <p:spPr>
          <a:xfrm>
            <a:off x="1332000" y="2133720"/>
            <a:ext cx="2736720" cy="2160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1"/>
          <p:cNvSpPr/>
          <p:nvPr/>
        </p:nvSpPr>
        <p:spPr>
          <a:xfrm>
            <a:off x="2771640" y="4941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1"/>
          <p:cNvSpPr/>
          <p:nvPr/>
        </p:nvSpPr>
        <p:spPr>
          <a:xfrm>
            <a:off x="6084720" y="504180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1"/>
          <p:cNvSpPr/>
          <p:nvPr/>
        </p:nvSpPr>
        <p:spPr>
          <a:xfrm>
            <a:off x="1836720" y="43657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1"/>
          <p:cNvSpPr/>
          <p:nvPr/>
        </p:nvSpPr>
        <p:spPr>
          <a:xfrm>
            <a:off x="5221440" y="44370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9" descr="QQ截图20130904085327"/>
          <p:cNvPicPr/>
          <p:nvPr/>
        </p:nvPicPr>
        <p:blipFill>
          <a:blip r:embed="rId3"/>
          <a:srcRect l="65360" t="0" r="0" b="33706"/>
          <a:stretch/>
        </p:blipFill>
        <p:spPr>
          <a:xfrm>
            <a:off x="4716360" y="2133720"/>
            <a:ext cx="2519640" cy="227016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21"/>
          <p:cNvGrpSpPr/>
          <p:nvPr/>
        </p:nvGrpSpPr>
        <p:grpSpPr>
          <a:xfrm>
            <a:off x="6300720" y="4365720"/>
            <a:ext cx="417960" cy="633960"/>
            <a:chOff x="6300720" y="4365720"/>
            <a:chExt cx="417960" cy="633960"/>
          </a:xfrm>
        </p:grpSpPr>
        <p:sp>
          <p:nvSpPr>
            <p:cNvPr id="152" name="AutoShape 16"/>
            <p:cNvSpPr/>
            <p:nvPr/>
          </p:nvSpPr>
          <p:spPr>
            <a:xfrm>
              <a:off x="6307200" y="4365720"/>
              <a:ext cx="409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8"/>
            <p:cNvSpPr/>
            <p:nvPr/>
          </p:nvSpPr>
          <p:spPr>
            <a:xfrm flipV="1">
              <a:off x="6300720" y="4652640"/>
              <a:ext cx="3952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6333840" y="4694400"/>
              <a:ext cx="3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6377400" y="43657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7"/>
          <p:cNvGrpSpPr/>
          <p:nvPr/>
        </p:nvGrpSpPr>
        <p:grpSpPr>
          <a:xfrm>
            <a:off x="2916360" y="4292640"/>
            <a:ext cx="415800" cy="633960"/>
            <a:chOff x="2916360" y="4292640"/>
            <a:chExt cx="415800" cy="633960"/>
          </a:xfrm>
        </p:grpSpPr>
        <p:sp>
          <p:nvSpPr>
            <p:cNvPr id="157" name="AutoShape 23"/>
            <p:cNvSpPr/>
            <p:nvPr/>
          </p:nvSpPr>
          <p:spPr>
            <a:xfrm>
              <a:off x="2922840" y="4292640"/>
              <a:ext cx="409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 flipV="1">
              <a:off x="2916360" y="4579560"/>
              <a:ext cx="3952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2950200" y="46213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3047400" y="42926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0" descr="QQ截图201309041521161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2229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1"/>
          <p:cNvSpPr/>
          <p:nvPr/>
        </p:nvSpPr>
        <p:spPr>
          <a:xfrm>
            <a:off x="468360" y="1413000"/>
            <a:ext cx="60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□里填上适当的分数或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1"/>
          <p:cNvSpPr/>
          <p:nvPr/>
        </p:nvSpPr>
        <p:spPr>
          <a:xfrm>
            <a:off x="4140360" y="2671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1"/>
          <p:cNvSpPr/>
          <p:nvPr/>
        </p:nvSpPr>
        <p:spPr>
          <a:xfrm>
            <a:off x="5867280" y="270828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1"/>
          <p:cNvSpPr/>
          <p:nvPr/>
        </p:nvSpPr>
        <p:spPr>
          <a:xfrm>
            <a:off x="6732720" y="2708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8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71640" y="4149720"/>
                <a:ext cx="4618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484360" y="4149720"/>
            <a:ext cx="33516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616200" y="4149720"/>
                <a:ext cx="335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6" descr="QQ截图20130904153646"/>
          <p:cNvPicPr/>
          <p:nvPr/>
        </p:nvPicPr>
        <p:blipFill>
          <a:blip r:embed="rId1"/>
          <a:stretch/>
        </p:blipFill>
        <p:spPr>
          <a:xfrm>
            <a:off x="595440" y="2809800"/>
            <a:ext cx="8153280" cy="1771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1"/>
          <p:cNvSpPr/>
          <p:nvPr/>
        </p:nvSpPr>
        <p:spPr>
          <a:xfrm>
            <a:off x="539640" y="1484280"/>
            <a:ext cx="71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○里填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1"/>
          <p:cNvSpPr/>
          <p:nvPr/>
        </p:nvSpPr>
        <p:spPr>
          <a:xfrm>
            <a:off x="752328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1"/>
          <p:cNvSpPr/>
          <p:nvPr/>
        </p:nvSpPr>
        <p:spPr>
          <a:xfrm>
            <a:off x="435600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1"/>
          <p:cNvSpPr/>
          <p:nvPr/>
        </p:nvSpPr>
        <p:spPr>
          <a:xfrm>
            <a:off x="1403280" y="2971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1403280" y="39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4465800" y="39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1"/>
          <p:cNvSpPr/>
          <p:nvPr/>
        </p:nvSpPr>
        <p:spPr>
          <a:xfrm>
            <a:off x="7451640" y="39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1"/>
          <p:cNvSpPr/>
          <p:nvPr/>
        </p:nvSpPr>
        <p:spPr>
          <a:xfrm>
            <a:off x="539640" y="1413000"/>
            <a:ext cx="71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数按从大到小的顺序排列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314360" y="2205000"/>
            <a:ext cx="446040" cy="863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44604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24320" y="2276640"/>
                <a:ext cx="561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8"/>
          <p:cNvSpPr/>
          <p:nvPr/>
        </p:nvSpPr>
        <p:spPr>
          <a:xfrm>
            <a:off x="2124000" y="234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427640" y="234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9"/>
          <p:cNvGrpSpPr/>
          <p:nvPr/>
        </p:nvGrpSpPr>
        <p:grpSpPr>
          <a:xfrm>
            <a:off x="1403280" y="3716280"/>
            <a:ext cx="4912920" cy="863640"/>
            <a:chOff x="1403280" y="3716280"/>
            <a:chExt cx="4912920" cy="86364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03280" y="3716280"/>
                  <a:ext cx="513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Text Box 8"/>
            <p:cNvSpPr/>
            <p:nvPr/>
          </p:nvSpPr>
          <p:spPr>
            <a:xfrm>
              <a:off x="2254320" y="3902400"/>
              <a:ext cx="148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.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8"/>
            <p:cNvSpPr/>
            <p:nvPr/>
          </p:nvSpPr>
          <p:spPr>
            <a:xfrm>
              <a:off x="3319920" y="3902400"/>
              <a:ext cx="148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0.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596480" y="3716280"/>
                  <a:ext cx="7056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5802840" y="3716280"/>
              <a:ext cx="5133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25"/>
            <p:cNvSpPr/>
            <p:nvPr/>
          </p:nvSpPr>
          <p:spPr>
            <a:xfrm>
              <a:off x="1901880" y="3963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>
              <a:off x="3000600" y="3963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4244400" y="3963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8"/>
            <p:cNvSpPr/>
            <p:nvPr/>
          </p:nvSpPr>
          <p:spPr>
            <a:xfrm>
              <a:off x="5342760" y="3963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61080" y="2781360"/>
            <a:ext cx="33336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246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0"/>
          <p:cNvSpPr/>
          <p:nvPr/>
        </p:nvSpPr>
        <p:spPr>
          <a:xfrm>
            <a:off x="4932360" y="2085840"/>
            <a:ext cx="3527280" cy="1739880"/>
          </a:xfrm>
          <a:prstGeom prst="rect">
            <a:avLst/>
          </a:prstGeom>
          <a:noFill/>
          <a:ln w="9360">
            <a:solidFill>
              <a:srgbClr val="232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丽和小红进行登山比赛，从山下到山顶，小丽用了   小时，小红用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0"/>
          <p:cNvSpPr/>
          <p:nvPr/>
        </p:nvSpPr>
        <p:spPr>
          <a:xfrm>
            <a:off x="2771640" y="1844640"/>
            <a:ext cx="5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767960" y="52027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根据这些信息，你能提出什么数学问题？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651640" y="41968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先到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E:\u=520543126,4088775716&amp;fm=23&amp;gp=0.jpg"/>
          <p:cNvPicPr/>
          <p:nvPr/>
        </p:nvPicPr>
        <p:blipFill>
          <a:blip r:embed="rId3"/>
          <a:stretch/>
        </p:blipFill>
        <p:spPr>
          <a:xfrm>
            <a:off x="596880" y="1700280"/>
            <a:ext cx="4214880" cy="302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7" descr="未命名"/>
          <p:cNvPicPr/>
          <p:nvPr/>
        </p:nvPicPr>
        <p:blipFill>
          <a:blip r:embed="rId4"/>
          <a:srcRect l="0" t="0" r="77025" b="88897"/>
          <a:stretch/>
        </p:blipFill>
        <p:spPr>
          <a:xfrm>
            <a:off x="596880" y="1268280"/>
            <a:ext cx="122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246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0"/>
          <p:cNvSpPr/>
          <p:nvPr/>
        </p:nvSpPr>
        <p:spPr>
          <a:xfrm>
            <a:off x="900000" y="43239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进行分数、小数的互化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51280" y="2349360"/>
            <a:ext cx="333360" cy="863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0"/>
          <p:cNvSpPr/>
          <p:nvPr/>
        </p:nvSpPr>
        <p:spPr>
          <a:xfrm>
            <a:off x="5364000" y="1557360"/>
            <a:ext cx="5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826920" y="2463120"/>
            <a:ext cx="7344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把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0.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化成分数再与      比较大小，或者把      化成小数再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0.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比较大小，就能知道谁先到。</a:t>
            </a:r>
            <a:r>
              <a:rPr b="1" lang="zh-CN" sz="2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1116000" y="1266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先到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659640" y="2390760"/>
            <a:ext cx="33336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1G]2HL]YS)ZT`8_OHVINRVH"/>
          <p:cNvPicPr/>
          <p:nvPr/>
        </p:nvPicPr>
        <p:blipFill>
          <a:blip r:embed="rId4"/>
          <a:stretch/>
        </p:blipFill>
        <p:spPr>
          <a:xfrm>
            <a:off x="581040" y="1413000"/>
            <a:ext cx="5047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826920" y="1413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小数化成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332000" y="29224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03360" y="2705040"/>
                <a:ext cx="520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19640" y="2705040"/>
                <a:ext cx="390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44"/>
          <p:cNvSpPr/>
          <p:nvPr/>
        </p:nvSpPr>
        <p:spPr>
          <a:xfrm>
            <a:off x="2898720" y="292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0"/>
          <p:cNvSpPr/>
          <p:nvPr/>
        </p:nvSpPr>
        <p:spPr>
          <a:xfrm>
            <a:off x="4103640" y="378504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小数表示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分之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化成分数后，能化简的要化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644920" y="4433760"/>
            <a:ext cx="715680" cy="100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67040" y="4433760"/>
                <a:ext cx="5857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25"/>
          <p:cNvSpPr/>
          <p:nvPr/>
        </p:nvSpPr>
        <p:spPr>
          <a:xfrm>
            <a:off x="3355920" y="4651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03280" y="46245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775320" y="556308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位小数表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百分之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化成分数后，能化简的要化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971640" y="20574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9"/>
          <p:cNvSpPr/>
          <p:nvPr/>
        </p:nvSpPr>
        <p:spPr>
          <a:xfrm>
            <a:off x="484200" y="134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小数化成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539640" y="539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2920" y="31989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95640" y="2997360"/>
                <a:ext cx="7156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292560" y="2981160"/>
                <a:ext cx="5857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Rectangle 13"/>
          <p:cNvSpPr/>
          <p:nvPr/>
        </p:nvSpPr>
        <p:spPr>
          <a:xfrm>
            <a:off x="2868480" y="319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45655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4348080"/>
                <a:ext cx="552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16"/>
          <p:cNvSpPr/>
          <p:nvPr/>
        </p:nvSpPr>
        <p:spPr>
          <a:xfrm>
            <a:off x="2868480" y="4565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24000" y="4349880"/>
            <a:ext cx="716040" cy="100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755640" y="564660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：怎样将小数化成分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116000" y="2060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755640" y="141300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分数化成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14360" y="2708280"/>
                <a:ext cx="520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93920" y="2700360"/>
                <a:ext cx="716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98760" y="2692440"/>
                <a:ext cx="585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86240" y="2708280"/>
                <a:ext cx="552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64000" y="270828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770040" y="141300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分数化成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708200" y="27558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170000" y="2540160"/>
                <a:ext cx="520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92440" y="2540160"/>
                <a:ext cx="716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1"/>
          <p:cNvSpPr/>
          <p:nvPr/>
        </p:nvSpPr>
        <p:spPr>
          <a:xfrm>
            <a:off x="2502720" y="4771080"/>
            <a:ext cx="38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母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数可以直接写成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267080" y="2714760"/>
            <a:ext cx="16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199880" y="3931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93680" y="1844640"/>
                <a:ext cx="5144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36520" y="2779560"/>
            <a:ext cx="513000" cy="936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743120" y="19954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666800" y="29718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276720" y="19749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262320" y="2967120"/>
            <a:ext cx="23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6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826920" y="5589720"/>
            <a:ext cx="7561440" cy="459720"/>
          </a:xfrm>
          <a:prstGeom prst="rect">
            <a:avLst/>
          </a:prstGeom>
          <a:solidFill>
            <a:srgbClr val="ff9966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数化成小数，用分子除以分母，除不尽时，得数一般保留三位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35160" y="3774960"/>
                <a:ext cx="3618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Text Box 8"/>
          <p:cNvSpPr/>
          <p:nvPr/>
        </p:nvSpPr>
        <p:spPr>
          <a:xfrm>
            <a:off x="1636560" y="39672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3073320" y="40035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826920" y="479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怎样将分数化成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19280" y="135576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755640" y="134136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分数化成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1619280" y="177012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9"/>
          <p:cNvSpPr/>
          <p:nvPr/>
        </p:nvSpPr>
        <p:spPr>
          <a:xfrm>
            <a:off x="539640" y="14590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分数化成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539640" y="539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38120" y="2349360"/>
                <a:ext cx="4287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9"/>
          <p:cNvSpPr/>
          <p:nvPr/>
        </p:nvSpPr>
        <p:spPr>
          <a:xfrm>
            <a:off x="1835280" y="24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338040" cy="873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763640" y="35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2195640" y="25210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203640" y="24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70836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195640" y="3573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146400" y="36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3637080" y="3573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7:22:24Z</dcterms:created>
  <dc:creator>Administrator</dc:creator>
  <dc:description/>
  <cp:keywords>青岛版数学</cp:keywords>
  <dc:language>en-US</dc:language>
  <cp:lastModifiedBy>微软用户</cp:lastModifiedBy>
  <dcterms:modified xsi:type="dcterms:W3CDTF">2015-11-04T07:23:20Z</dcterms:modified>
  <cp:revision>151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