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FF305-4D43-439C-9FA3-755624B1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039C1-1131-4BE2-B63C-452F1BC3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AD8ED-9D1E-4DAB-97A6-B14CFDC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7B7AA-AC3E-4955-A6B9-E9F9AFF0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67884-CC7E-44A0-BB8B-A4E0B05A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2EC56-C4D0-4CF4-9604-0AC4817C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5EB74-E147-4969-827A-F450B87E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21909-CE8F-4219-9BEA-AAE479C7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E12EC-9758-41A5-AE45-8E8B110D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D423A-0EF5-42FF-A4C2-B26C7152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B0FE3-DD45-4EB3-A9B1-ABD85A0B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691D8-4FB8-4083-8B0F-D9D1BEDA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FCE31-58B9-4A3C-ABB3-EA0CDD64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4F93C-5757-4BC6-B5D3-42823724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0F3F1-AD26-48EE-B784-05414D14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DB3AD-B725-4AB3-B2E2-D8BECC74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3F38E-456E-45BC-AEC5-80230352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DA237-BBC9-4773-8240-143CF2A4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FE827-BD68-4B68-953F-97400276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8DB89-90D2-4025-9838-AF52FBF7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C8302-026F-459C-AC45-59DEC9D4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71964-E711-4D7A-BB83-DF1E729D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DBB32-68C3-4A3C-B5FE-EAC622C0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5CD1F-2E1B-4885-BDE8-79683A0E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67E6C-AF96-44C5-B5E1-EBCE7747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0F1B7-5795-48A1-8EE7-4C1DC588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F2C52-037A-4F3A-A9AC-BF96D3A7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B87F1-6ADA-47C6-870E-0C713AEC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D5868-6297-49F2-910D-9F41C07A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FA4D3-A80C-431E-A5CF-898617F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20E-0EDE-4AFB-9818-15596266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B6488-EE75-4FB2-A460-2E7AC606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39372-49BF-44A3-8425-551F5DE4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BA517-5857-431D-AFB8-A3CEB898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8DD6C-6823-4DEA-9B6A-2F7EBCAF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7BF93-21C0-42AA-BC21-4B747277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C5E21-BF42-4586-BA23-F46C5697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90140-476A-47E9-9BD8-BECFE123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B3A2B-07D9-4EF9-B9EA-46C0C498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8A075-0400-4415-BB01-84F9EED4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E3C6B-B13C-4041-ACAF-3FDDCCF7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576-9F7B-461D-A703-B0B85988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E5A7A-3E5D-468D-AEF3-44851A9E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D406A-DDE0-41CF-B2A0-8E7B595B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02B90-C518-4FC2-A6C8-DE3857BD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FF826-C444-42E5-AD57-A701C85A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EAA9A-BEB3-4D98-AD70-7BEC72BA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EE955-35CA-4FD4-AD86-5FC6278A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74E3B-CBEC-4D55-AB5D-98B53FEA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3D6CB-7DC9-4629-BF11-BC6CEB01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40982-9411-4524-8887-DAB13DBE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6B2F0-D8C4-48DC-902B-BE60D518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CE1-4665-46B0-A863-F1E38447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97DEE-FAED-486E-8D28-B1665027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5B869-BB4F-458F-A8BD-93570876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199EF-0CF3-40D9-8508-E35FE708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A3186-EDAB-4F3A-93C2-14558E2F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5B3E9-74F6-4EAC-A99C-C192A9EA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722A0-5CE1-4B30-8ED7-605D210D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829D3-3171-4100-B69F-383DB0F2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39430-A20E-4D63-BADE-35814E4B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6FFC4-DA9E-41DE-8BC7-73BE2047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96456-4D24-4D7F-9796-B11B467F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F80-043A-4448-B4CE-77C37072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4828D-A1BB-4E86-B300-1015E5FC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3E0A9-9840-4AA1-A9A1-3E708163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02AED-F720-4A25-91A3-D5596A65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CBF53-A473-42E5-A08E-B00710C7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D57CF-E0CA-46EB-AA1A-58558C29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9EED0-E746-4E7A-A4CF-859D4244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A4A0F-DEA9-4452-A97A-96F998C7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57005-671E-452D-AEB3-EBB8A465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FAF8B-FA6C-4ECE-A7C7-8E81BCED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A711A-8C60-419B-92B1-727D7479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559-D3BD-4B33-9EFC-6FD62BFA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88998-AE19-482D-A2AF-8D71A1F4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94442-F2E4-4C3C-9583-3848A24D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C60FE-CDB3-4484-8380-4492DF2A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8332D-D36C-44F4-9FB5-FF385A6F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559A8-52BE-45E5-B3BA-5DB3E5E6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B2DA1-3A30-489E-B5E5-AA698723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7796C-3F57-4A54-B51A-E713DA21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76D0E-8A74-422B-AE36-F626654D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F66FA-ED49-4B3C-84CE-B16E9A0B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F6001-553C-4813-A51C-95EBC3A5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8D4-0275-4FD1-B07F-7738DCE4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3E845-EB41-44B7-B787-81F69A55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28550-53CA-47CB-ADB0-41D484BF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17181-EFA6-450A-B80C-AE10A48E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3D5D9-B95C-4E6E-9A40-FB9D29C3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DD9F53-5847-4CFB-84E8-9017633B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2B808-2C60-4261-83E2-AB2C6454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F3ADD-B763-4349-BEB3-157D01C8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E315E-604B-43E6-968F-E793A10F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44500-7F7E-46FC-BCE1-F1390EBD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7F79F-8128-4666-A404-F2BD719B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BB9-54C1-4DA3-80F0-ECD246C8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2037C-A5CC-4ECD-8A36-F9727AE7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00FFE-DA22-4481-97B9-E56C00C8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A1D0F-3D07-40BC-B32F-B44095B8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DA173-2584-468A-8CF4-F7462EC7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42326-CDCE-451F-A38A-DEE199AE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1E78F-8DCC-4870-8988-F185D66F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DAE34-18F5-497A-9268-6555D209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ADDE93-22A6-46D2-808A-B072C675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2FD9D-ABC8-4100-8C01-99EB27FB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173CA-0939-4584-9042-A4402E73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EF8-9511-4EA8-AFE9-98D9C12E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DD5A7-E267-4758-BF7C-E7C0555D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FA5FD-EECA-41EE-B448-78E542FE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B4139-E3D3-4848-A2BB-189054B0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463FD-9260-420F-A403-F27DACBD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FF44B-4E1B-49CF-AF6C-5E653258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9E6542-89AE-44A7-81D5-CECC0104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5ACDC-2A1A-4B94-9559-71401F98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FA9893-4AA9-4939-936B-EB04F540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89F30-047C-4705-97BE-B53B7640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34BCA-A3EF-4930-AAFD-BA10FEB0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40C-3174-465F-96D0-1EF8ABE4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C5F64-00ED-4BD4-B520-41509CD2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642A0-C1AD-4BED-AFAE-DAD0923B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22BE9-75B8-4CE8-80B1-FE3341A0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4FBEE2-34A2-40F1-B0AF-704358C5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6E97E-8468-4447-BFF7-4A53EA27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5F6AC-0D9C-4C64-ABC4-90D6D48E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2E942-6355-4986-A3FF-BB94B82B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C04411-479C-4014-803C-FDF741D1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66BC7-FC5F-4862-AD9C-1F18C619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124111-3CD2-48F3-AD80-635BC67F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46B-7480-4962-8775-F9BC23FA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FB499D-6A50-49C2-9B56-A8CD2723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B72155-D5CD-47C5-A08D-0A4B3903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C54169-7197-4480-8620-A4EE98CA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CD1987-CDE1-4282-851B-5521B85B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829B2-1F43-41A2-B913-419EAEBB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426042-10D2-4738-99D3-D7EBD58E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604AB-7E30-4943-BF5E-62B52565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B93D5-3818-4470-9E9E-22EC7A91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9174F-929E-4889-83E1-1DEECC01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E3214-9F11-436E-BB00-55AFBE18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C3D-EDD5-4B1A-B4BD-145FA817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310A4-C987-4DC2-B938-041D30A2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276D34-BC27-4C28-80EE-40BBE8E5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CB540-F3CF-4301-9CDF-D2068B1C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756D15-96B9-452B-9D44-827C04E7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3CA2E2-226C-443B-BA57-F93F062C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4D9BE9-E529-4F64-884E-667EA361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998CCA-BB99-4DEE-AC1F-D3412DFD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4FCB8-8AC3-489B-BF55-F528E20F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310C92-CF21-4519-A8B9-13A5F1FA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9AEF02-BD8D-490A-9B7D-B7121743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F23-58E8-4E19-B8BB-69E1DF82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886584-631C-47CE-9430-B1DDD15D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1D2E73-85D4-4C9E-A4B3-869BCE1D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3BADF5-718F-48AC-BE3A-300B7593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DDBBEF-2DE8-42CF-957C-031464CD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59073-D1E6-417B-905F-9E2DD84E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50754-95D5-4696-9D3A-D51CDD13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509B7-49D9-409D-9626-BACCFFBC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033C8-F7D7-4AA7-AACB-91C9E181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4616E-AA1D-4729-9276-984B827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087FDD-6340-4174-AAA3-219FF0D3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ECBB-8CED-45E1-ACB7-6B0D916C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DBFFCC-A9ED-4BC8-8E36-63D924D2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8918C4-AECC-45D6-B8DE-5DD52168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9EB5E-33D3-4C5F-875F-F4D65C2D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27532A-F8F8-4FFC-8796-3B9DE102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5F1934-4244-4DFD-BDE2-833423FA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F86BF2-64DA-4D8E-B386-F10E84CF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5CDFB5-8E0D-430B-A818-72EABFD6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5F825A-14E9-446C-891A-90C1190E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99078E-3B68-4172-9888-18754B50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1D7F78-1DBF-41F8-9E90-A072B69A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48BD-E2BF-490C-8F28-33F106D9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1699CA-D29E-4224-BA0A-E6C223A5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DD7B2-77C4-4EE7-8972-42DE13E6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F5283-3A4C-4033-AA10-D47DC60D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2486C4-E064-4591-B99F-4057C18C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1F5AA0-9B74-4AA5-97B6-0700773B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5A762A-59A4-4D53-9FA9-E9272C2E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CE1109-63E1-44BD-BB89-04A4E6C6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CF7DDB-81DB-4EDC-ACD7-71953860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27D222-A1C7-44AD-96FB-AD964458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F4B93A-651D-4E2A-B9D9-5C1132AE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4BDD-CEB4-4022-96B4-9CEE4DDF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464C15-1884-4583-98A0-5F5F7B8D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6FDD66-6DEB-41D7-A608-6BC9DAA6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B814FA-5596-43A8-8547-60E9E286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5BBFEA-63D8-43B9-A505-9515B252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F72D1F-012B-4EBD-8D8E-1F8630BC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C49432-44DD-44D7-8A29-318A2D7E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AE23FC-9F88-4CF5-9879-5971A080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5EADAA-F6D8-4D54-9271-D6D9186C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9DF4BA-A9DF-471F-805C-40EE1D8F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81FECD-6EEA-49DB-A7EF-F3C1F4A6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0B64-F3BE-4753-81F8-6949D309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C706CE-F2E1-43D3-B523-61D66F54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64EC03-AFB1-471E-8AE6-FE0D23DE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16F166-0217-48FD-8C8C-1B5CDFF8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F06B4D-BFBB-4F83-8190-0C02B788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D7AD34-B0F1-4469-92A2-CBB2D31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80FD82-20A1-48AC-801B-5DF13D7A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423766-8855-49BB-B105-031473DD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7DD9B8-D829-43AE-BED4-71C563AA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6A92F5-4EB7-4781-B876-8CFB2BCF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0137-8128-407E-AAFE-FDD3A071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8ECB-EED9-445F-9801-4F58120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4615-1F22-4035-9906-0D332EBE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A4DE-A158-406E-B069-B7BFC877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646B-6333-425C-9DA2-4F09BCE8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DF2F-AACF-4B8E-BBA3-82CDAA01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59A7-82E7-41C0-965A-84E0CB44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B4B7-D70E-4F13-B50D-036E7EA7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3A4C-8313-4A1E-BBC2-209661EC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C8310-F4AB-4000-BFE4-C1353472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5F02-6A6C-4089-A996-1B2AEC1D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2803D-1F58-4990-93E0-BF9F3829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1C566-D26A-4D86-913B-7EF9549B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5510-FD50-4745-A311-914414CD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97957-9013-4ED4-856B-7A229788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3781-9658-4A2E-82FC-A5545B1C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A02E4-A3D7-49E2-ABA9-3E52E572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9E69-B61B-4F47-83C8-D2F10E62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C152-673F-46E4-BE04-C0FFAF39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1076D-C061-46E6-B2EE-6C4B3D72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B82D1-A86F-4571-84EE-70EE275F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A3BA-432A-4615-8A0D-BF786874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876A-2415-4666-A933-8DD1A90C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044C-3B4C-4EC6-90C0-EECA047C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8C9EB-7D8B-4ACD-8A54-4E950BE0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E2D24-E854-4D4E-866D-6FD185AB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9675E-1966-4634-86DA-7CB264B6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94F14-15D5-4FC7-B4DA-F324A4F0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836E9-61ED-4D2A-8142-2B6F9A6A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0AAC-23DD-465D-A7BD-6BF91120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071B3-5645-4FB7-A74E-5E94BB25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79AB-67EE-4DE8-BCB7-BE2184BF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4ACFE-AE00-4618-8FA9-B9D956A4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73893-9AC4-40F5-A559-3EEEB616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B7097-26A5-4BF8-ABFA-ADE97327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D2ADD-4B58-4D1B-9C8C-FD9E8A1C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AA378-E433-4453-A6DA-C69577A0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9443F-B263-4335-B665-8B2328EC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26B1E-2A70-4BDF-A74A-284DB944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8F47A-1824-4686-8951-A3F71EF5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BE22A-ABB3-4745-90F2-DF6BC748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B6286-2251-4652-9385-7285DC2C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3BD28-CFC5-4DF0-B4DC-25A643E6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A25A2-B099-420A-8FAB-F75AAAE4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D267E-0723-432C-A6B2-67765005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C3933-AA68-4CF2-A6F3-24C66E0B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A153-1553-4A67-846F-A031F5D2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6DE42-5D77-4803-BB3A-C6E86D51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8BEB1-1A7D-4C11-A1A6-0A7826FA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2CD83-067E-4560-A670-C342E784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57BD3-F2AD-44D4-B64B-BF3BCC65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9B15F-50F5-44EE-A9EA-790FF9C1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162D1-B8DA-45BD-9F59-6EBB0280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AA0AD-40A9-4E33-902C-6A76AAC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D1E03-B1C1-4B3F-8CF8-409F314B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E969A-96D3-40A7-AD76-56D3605D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92495-1B54-45F5-BBC4-242187F9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A7867-3F46-4613-AD3C-5FC5E8F0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0FF8A-EC35-4ACF-87C3-A060040E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81348-9C23-4ED4-851C-9282A43A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54AE3-CA75-4D0E-A917-C8377D96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968B2-5207-4644-93C2-0453582E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17C48-A0FD-4638-9A7C-56513075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CB8B3-0003-4635-8165-95845CF2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C5810-137D-485E-9CC2-587F734A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FFF7B-F37F-4629-AF2F-EFA03855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E1E16-65B5-4BC4-846C-C69EA8FD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11A83-7134-41F5-B685-9381CD1D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FD847-6811-4DBC-B882-BD8F4893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829D2-5B03-4345-80B9-CE5C9BF6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3EA6D-77BA-4745-952F-7F078712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23E3-6EA8-4B8E-9945-227DC6603F9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5A65-722F-4BFF-B9E0-A01D18F3599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DCE6-A945-41D3-83BE-453B4A83E34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D2C0-5DB8-463F-9455-755C81373D5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1CCD-6497-48A5-94A7-80F9E92F26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B1CC-D3BE-44FB-B2D8-6B21B57C65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1D9D-D5A9-464B-A09F-28469A5D6D4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D41E-7151-4785-829F-4E2BEA17E08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E047-1701-4006-A134-C7EA72B4A7E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9041-09DB-40AA-A7D5-0834179A221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75D1-1570-4D21-B747-D38148A495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3C40-F29E-45CC-9C4C-3ADE80383E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2554-007A-43BC-86B9-889C8000CC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1002-B2EE-4E83-977C-E642D460CCD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9E4D-46E7-41D7-AFA1-4E6676E5057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FEFA-8736-4C48-8B17-064496C267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F6DE-87F4-434A-9EE7-7F725262224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01D8-AD11-4248-8B3A-ABF11F98D89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7562-C12F-43F1-9F49-BFFD43F66A5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FBCD-A96A-4C2A-977D-8184BA4FE59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7532-41BE-4D51-A115-B80409FA0F9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239A-7DE2-4E77-8DF2-5B2EC4EEA8C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B56B-31DD-407A-B8F8-E0AEA8EC3AE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079640" y="2103480"/>
            <a:ext cx="6953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认识正负数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4"/>
          <p:cNvSpPr/>
          <p:nvPr/>
        </p:nvSpPr>
        <p:spPr>
          <a:xfrm>
            <a:off x="4896000" y="1574640"/>
            <a:ext cx="370836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中国的热极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认识负数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五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22"/>
          <p:cNvSpPr/>
          <p:nvPr/>
        </p:nvSpPr>
        <p:spPr>
          <a:xfrm>
            <a:off x="390276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079640" y="1521000"/>
            <a:ext cx="655308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用正负数的意义解决简单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792000" y="1773360"/>
            <a:ext cx="72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某日中午，泰山的气温是零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傍晚时下降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天傍晚泰山的气温是多少摄氏度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矩形 1"/>
          <p:cNvSpPr/>
          <p:nvPr/>
        </p:nvSpPr>
        <p:spPr>
          <a:xfrm>
            <a:off x="1481040" y="3687840"/>
            <a:ext cx="56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这天傍晚泰山的气温是零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矩形 10"/>
          <p:cNvSpPr/>
          <p:nvPr/>
        </p:nvSpPr>
        <p:spPr>
          <a:xfrm>
            <a:off x="971640" y="1585800"/>
            <a:ext cx="77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看图填一填，做一做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的海拔高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　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的海拔高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06" name="Picture 11" descr="N2"/>
          <p:cNvPicPr/>
          <p:nvPr/>
        </p:nvPicPr>
        <p:blipFill>
          <a:blip r:embed="rId1"/>
          <a:stretch/>
        </p:blipFill>
        <p:spPr>
          <a:xfrm>
            <a:off x="2606760" y="2197080"/>
            <a:ext cx="4098960" cy="2362320"/>
          </a:xfrm>
          <a:prstGeom prst="rect">
            <a:avLst/>
          </a:prstGeom>
          <a:ln w="0">
            <a:noFill/>
          </a:ln>
        </p:spPr>
      </p:pic>
      <p:sp>
        <p:nvSpPr>
          <p:cNvPr id="1007" name="矩形 2"/>
          <p:cNvSpPr/>
          <p:nvPr/>
        </p:nvSpPr>
        <p:spPr>
          <a:xfrm>
            <a:off x="3981240" y="50054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8" name="矩形 3"/>
          <p:cNvSpPr/>
          <p:nvPr/>
        </p:nvSpPr>
        <p:spPr>
          <a:xfrm>
            <a:off x="1472760" y="55706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矩形 10"/>
          <p:cNvSpPr/>
          <p:nvPr/>
        </p:nvSpPr>
        <p:spPr>
          <a:xfrm>
            <a:off x="719280" y="1989000"/>
            <a:ext cx="77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的海拔高度记作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的海拔高度记作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它们各表示什么意思？并在图上标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矩形 4"/>
          <p:cNvSpPr/>
          <p:nvPr/>
        </p:nvSpPr>
        <p:spPr>
          <a:xfrm>
            <a:off x="1060560" y="3357720"/>
            <a:ext cx="73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表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地比海平面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，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表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地比海平面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。 图上标出略。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12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13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14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15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6" name="矩形 19"/>
          <p:cNvSpPr/>
          <p:nvPr/>
        </p:nvSpPr>
        <p:spPr>
          <a:xfrm>
            <a:off x="934920" y="205092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吐鲁番盆地一天内气温变化较大。某日早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气温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中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时气温上升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到了夜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时，气温又下降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时该地的气温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7" name="矩形 1"/>
          <p:cNvSpPr/>
          <p:nvPr/>
        </p:nvSpPr>
        <p:spPr>
          <a:xfrm>
            <a:off x="2710440" y="383076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19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20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21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22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3" name="矩形 19"/>
          <p:cNvSpPr/>
          <p:nvPr/>
        </p:nvSpPr>
        <p:spPr>
          <a:xfrm>
            <a:off x="719280" y="1996920"/>
            <a:ext cx="77054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正式的排球比赛中，对排球的质量有严格的规定。现在选出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排球，超重的克数用正数表示。结果如下：＋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克、－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克、＋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克、－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克、－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克。你能从中挑出一个质量最好的排球吗？并说明理由。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4" name="矩形 11"/>
          <p:cNvSpPr/>
          <p:nvPr/>
        </p:nvSpPr>
        <p:spPr>
          <a:xfrm>
            <a:off x="1343160" y="4473720"/>
            <a:ext cx="70815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＋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r>
              <a:rPr b="1" lang="zh-CN" sz="23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克的排球质量最好，因为它最接近标准质量。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6:40:22Z</dcterms:modified>
  <cp:revision>1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