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0985D7-1F17-4297-97E8-9B76D34E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3766C-30C2-47B2-A3CE-B57742C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C3793-C2EB-4415-958A-7533A49BA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17A8B0-58FE-4097-962C-9146C8F3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3714A-7BEA-4E67-8561-18464ED9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D38943-A945-48B4-9AE6-E256761B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4A84B-D060-4328-9E55-465BCF35F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BA7CA-F4F6-4FF8-BA04-A3B7E87E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7792B8-4B4D-4D21-9187-6770ACB06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3E59AA-9D0A-4AC1-8203-D9B984EEE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A1B0D-94D2-4628-9BF9-3AE98528D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D574E-107F-4C11-A9E7-26F534C2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A5100-D604-4433-AAAC-A506D4884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F4BD8-5A81-4C59-AA88-2EC584D7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58D41-FF4D-4632-B225-7B87BE8B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6F0254-08D2-4054-A634-61095498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5080B-6953-4574-9189-952F36C63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5D5304-2CEC-40E4-B7F2-BA214D4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43F218-6B60-419D-A3A7-ED75D96F5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E8EE33-4F4E-48C9-B2CF-92BF83FE7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53ECBE-E431-4733-A601-858786C9B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5F8AF-8749-44D2-B8F8-12B8748F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53C34D-0199-4070-A6A9-277A9A3A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61A08-5C65-4940-8913-76BC5C87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31F83-9669-4158-B8A1-A2AFAD4B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18C9BC-BB7E-4DD8-815C-D8D0114E8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A003D-FB49-406A-BEDC-42C9FFA2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790091-A460-4B0E-9759-C0A8CD70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3E6BD-177A-4338-8795-C5A2E71A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7CA6C-B95D-4D6C-8419-97AD14BAD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1C7D-BE9B-4205-9291-08542A05D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3F915-BBA3-4DE2-8189-7CC47BD1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04F06B-C02A-46EE-A85B-BD7480FCD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48C35F-D7CF-4507-B075-DD90BF6B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FA167-E186-424A-B411-63D7EBE7E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01607-FC2B-4159-BA2F-EF445A5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93E47-3633-44F0-A574-0506833B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8368E-E2C0-4C45-9270-13B652EE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60716-3BFF-48C0-842E-033ED485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BFCC24-B10B-468E-875C-27CF9666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B31CB-190F-456C-985F-BE63529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D58F-BDBA-48FC-9B87-4448D35E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EA217-9851-49C4-8142-EC7E584AF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EB454-CE7F-49A6-8EB9-D0A13BDA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5D37FD-0EA9-40C2-A4DB-5A21828C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6B1E9C-505C-4195-90E5-228738D6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E84A7E-EB59-462F-89AB-77466B763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9E60-68A7-4D4F-B395-9C118A12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2B274-05FC-4322-89C2-698FC8CE2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C335C-924B-43FE-B2A6-8A19496D8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2CA8FD-600F-47FE-B6E5-1BC626A2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C63E5-E27B-4E9C-A9C6-110E76D69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6AE7-0618-45F7-B691-34369222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2EC8A-F9C6-4168-B46A-42422BF9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9D161-9B4F-4B3F-942C-C3D873648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6E55C9-0A3D-4411-8D3F-7B4934F5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2B7868-52E8-4C3A-A13D-8965BD4C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8AF02-CF50-4F99-B631-91C85E93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2EAED-4926-4D94-A3C8-D903AB34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05CFF-14A4-4356-BE74-4771C3E79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57B459-F713-4675-9F7C-79397C61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894019-2428-4DAA-95FC-91D1BCB6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93490-7320-4BA3-8408-CD67557E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64C-249A-417A-B2BF-9FFA9469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E3F08-DE5A-42AF-9094-600751E6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7B9361-BBF5-455E-AA52-A44DC6C7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BD8EF-1C90-42F4-9613-4980CA07D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4ACE7B-1A89-45D3-BC5E-1444DE8D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FD6AA-4EBD-4488-9A0C-8E218FC0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DBDFC-123D-458F-BBC9-F5432A63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6E0EBA-B9EE-42CF-AE7A-A2B70A9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7E7B25-E754-432A-A51B-5B3F15D1D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ED0E5-649D-4941-BC4A-BAA4FBAA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CB3155-7C71-456C-8349-F08B0E6AE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64A-71C7-4A6F-B128-22E983612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F93F0-BBAB-4FDD-92CB-BB91F1A85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FC2DC6-CC85-4E06-A45B-2BE4B4E5C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96205-D5AC-4551-AFCF-6F568A9A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16BBD-5D09-4B43-868F-151432C2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A33457-3CEE-46C0-B221-EC3424A3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15486A-D033-43A7-8EDC-4E5DEF9A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8496D9C-DC12-404F-A66B-FB885388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AFFA84-B791-47C6-80FC-4FB07884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92FA16-8232-4294-A795-D93543D1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8220A6-D792-47C1-857D-B22975328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3DEC-E2B3-4A80-8182-84B11379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AC757E-02D1-46F2-9CC8-58209AC1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B03CC-0427-43B1-AD48-08FE1467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5A904D-45D7-41ED-8EC7-10FD323A9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AFB7E3-B2DD-4BE3-B6C3-3B705CDC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9A90E7-A11A-4B9F-AC02-80B1906E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D55A8-966E-431D-B7D8-78015F210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289A78-BE4E-4049-8383-3DC43EDD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F9DC5-5B3E-47E3-A509-27DB8BD0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048131-7A64-4F4E-85CD-A75BEA2F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795687-EE60-4A07-952F-1BC9E688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234F-9700-4DA5-A104-80C012EF8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82B428-204C-43F1-AE0B-C9161C00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36E024-087D-486C-9FF5-56DF95AF0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2EAC52-0C53-45D5-857A-4CDB02F8B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5C932D-2E76-4040-811E-3CD5DB305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317BA6-2942-4104-B719-E156E4FB5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E488D-43DD-4E4B-992B-1552ECB21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E6CDA9-E523-4D4B-9DA5-9246E3BA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5DEEA1-BF5C-426A-B678-482E93B0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79385-2B7F-4F85-96A9-712EC6F0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643D06-73A0-4CD8-A36C-F2C752D5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843-788A-413E-BBED-9EB97B0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6BCCE-391F-4B49-94A2-CC83B9CC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FDBFFF-E036-4A4A-A485-541C3F52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1E9F6C-6BAC-47F0-B2C6-FD894FD2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D51660-9198-470D-8EA5-1FF12660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A31A4-1721-4B92-B969-F02018EB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9C0802-C5E2-40FC-8BD4-C8510CE91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32AA18-1ED5-4975-ACBA-1918E6B6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55EC08-ED46-46F5-B76C-F75A597E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F90B12-2A30-431F-9843-841C43C95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6C1CE9-58D1-4F4A-ACF3-90BA14CF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439-8CC8-4C97-91D4-C935E6A7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E3325C3-DE37-45CF-89B2-08437A99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217EBA-DA2E-4739-9966-5185B77E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A911B-B7E0-41B5-99FC-2FFC3311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D42A89-70DD-4727-A502-4F37B873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FAD10-29BA-4CEC-B086-69A2D643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E8B57-7E0C-492A-9A2E-7160FBA19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E6219-F947-4808-8A04-F6C7BDAE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9CAC95-5457-4C83-979C-1DFB8E0ED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E45F8-5B45-43A6-BB30-BBB1EDD9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041B01-1616-43C5-B00B-5A428CD7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B5F3-5976-4EAC-8B20-87153938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901FCD-1216-48B5-AD8B-FE45EB49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9CFF4D-FA62-4EB1-A2B6-2AF07BC22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AE1EFC-AFB4-4505-9387-FD7A41E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65D6A3-DB02-4532-BC38-A274F4E4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3659FD-17A9-44D0-A226-694CCDDB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AC99FB-900F-4290-B6AA-FA518EFE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5D177-E39A-48D6-B039-711E7F10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F75648-3BA8-41BE-BD24-DFE133E5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9DE695-F516-4799-AAC2-72625E10A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22D333-30B8-449B-9514-204DA5391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6695-83E5-4D5A-9D84-E80CC4C2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74BCDE-A5A2-4639-BBB2-89CF286F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DD5F6-A29F-41A3-BFA0-DBE2144A9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24412A-7782-474C-AB50-7578E7DD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8CB148-D9F5-4ADE-BAAC-887467E4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D29DE-F41F-4EC0-822F-8F9F1FF7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37C0E3-D262-4B82-BF97-4FE27262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171B56-A0A2-4EAD-BB6C-3C29DBD1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035802-0EFD-4413-BBD3-7062378E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BB6EE-CB20-4CCC-836F-2B3CE95D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45DE2-CE23-4C0C-B7A8-966CDE06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8508-CA83-44C3-8213-5DA484F8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DCE5D5-9746-4403-9535-4B8F8EE3B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1085AE-3732-42FB-9621-58C05B5B3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2A1956-1585-4528-A8B9-E35BCC1E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075B7-0E2A-43C7-8C58-202B353F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2B85F0-D12F-435C-A972-00E5B854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B1855B-E3FF-434F-B841-E13A6E73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4B2D9A-7F97-4003-931C-905454B13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C4C1B-F238-4D7A-AFFF-064F8A36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BA61DF-2F5D-45B5-99F2-660B5305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AD7DCC-A689-4AA9-B005-D2807E4F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9F8B-ED61-4917-834D-E9B02E03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38738B-F71F-4F07-BD44-30FF602A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86D4DA-6E25-431C-A6F5-FABCF6B4F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C46A1C-3ACB-4EC1-9535-E78AB40F3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EE100-BBF6-4E55-8534-B411F361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882993-217B-4099-8632-1D86D0F2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6FE96D-46AF-4831-9FEF-A2EAC1E8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715EF-0BAC-4A5C-80DB-2F1C55530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7EC1E9-E64F-4768-8FF9-A1259026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E0C6E0-F829-4309-9171-2F2386A82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CE1D96-D6C9-4F7A-9BF6-DB1BCDE7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B7FF8-5CC3-4BA4-A560-B2042B03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B3059-2790-4ED1-8F27-F21FF9D8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A14ADF-C07F-4653-B039-EC85CA11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F93E39-E5B0-4F08-AB53-60F703AA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B2A122-D75A-4CE7-AF9A-0E92CF7A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71E968-9C52-42D0-8648-78EC2CB5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6744DE-9F1D-461E-9BEB-FCE3BC83E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326C6D-0415-4EE7-9F60-D5E1DEFB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6F4E2F-D7A0-485C-BEA1-47EBA68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BF6591-FED1-48F4-AD1A-EB8823F3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6ECEE-8215-4AEC-940B-A2ECF545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EFBD1-C39E-4720-B6EA-F541042A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F506C2-02E5-47BF-8EB8-DFEE1D5A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0845A1-B407-4F1F-8196-164D494D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1FC0CA-D827-4D90-B584-A9D58535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81A76E6-D82A-4E2B-9E52-40EEA33C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7B5515-B8D8-4796-9E28-1141CA91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31870-480C-41BF-ACAE-86B9832F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1A9054-23E2-4909-8189-F9DD7737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5603A21-41F6-4532-95F3-23C8DA0CC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D4DE63-3659-4137-8D57-E56F7A39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43BD23-0AE0-4EFB-A133-0495178F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D0B28-FFA9-40DF-8EE4-2B337E5D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C85C78-239D-4EF7-A2C5-D210D703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47E730-DF08-4051-80BD-AC0D904F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E85131-A6BA-41EE-93C4-6A4C48BD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9007D-E22F-4F2C-8D07-A071E3B2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F4425C-711A-430C-AACF-61890530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8D9E10-24AB-4088-BAFD-3F3FC583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3863C6-59B1-43F9-B21B-3D8DC481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D4CF8F-8895-428B-A937-3D74947A9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514E88-27F8-424C-B047-9E0529B0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79D4-01B0-4652-A05D-D89BFB3C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2BA1-AE1A-45CC-A02F-200185E80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380B-AED0-469C-A81F-211FB18B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C4C9-ADC4-445E-809E-E0CC1C43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1738-E197-42BC-B384-FA1AABF8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FACA2-3C69-460F-B87D-F13BC4EB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5E15-F4ED-40BE-AB18-32B7844E5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7C35-D517-4F06-A19F-090C87F8F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52968-0197-4CE2-950A-C4B9AFD8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B9A99-4588-4A16-B952-3622DF13C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67AB6-AB96-4522-96EE-5F083D66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7B49B-F9F6-4F86-84CF-94E2BAD47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FAF7-442C-4E6D-AB03-E70B73AA1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47AC-4E4F-4832-8919-055B0F20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F3513-4595-4108-BACA-C49C7EFB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33B0-7917-4CA5-AF34-4A1F342F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BB99B-E101-46F4-97FB-2728B98A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7EAA7-D463-4FAE-8F20-90A1E430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FD888-EFCC-4589-B6C7-4DFF68ED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0257-2DD1-4DD1-9F4D-3550113DF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BCB0-EE46-415E-BB5E-121B2B831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78BE-A877-4E91-8FEC-2AF661CD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8D7E1-118C-4516-A1EF-0C1D4587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4340F-EE04-4012-8EB2-36BAF9C8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8699B-9E6B-47DE-8094-55C9590C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908F8-0DAF-4EA0-B081-347E84885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9D1CA-6329-4BAB-8192-B8D7C4C2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D0CEB-0994-4EDB-A3B4-5B87B0488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99F5E-7266-462B-9502-703891BE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D538-3B83-4EC6-9A99-27BDC39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0EF3-76FE-42E7-AE70-D189A17E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CA03-3608-4524-B4D5-AF48B3747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E78F0-5056-4ECA-8848-7E0C7A619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22AC89-43A8-47C0-BF9E-8480212A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88A5DE-EF07-49FD-9075-CE5711A24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78DF3-1897-4275-8E9E-8949EB7F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F9888-0224-4C11-865D-575128CA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60A52-EDD3-4C33-B438-435CE670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F5CEA-A8DF-4473-95A8-EA94C633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B60ED-3C7C-4782-8EED-9E9D911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B3A2F-3C20-4EA3-8292-09A3910E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9E925-5C78-4F35-8A11-B50B09EB3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D3496-1738-4856-9F1D-0816C806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4FA7F-6FAD-47AC-BF91-2188F658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4F10E0-9C68-4760-84DA-84D6015E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9F8674-56DC-4F37-97DC-D6074C061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477A33-D264-44B1-A2C2-7BF1A14C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F18053-902D-4083-8CEC-65F689F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6A37E-67B2-421A-89BE-5B6CC718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DEDED4-AB70-4655-973A-EF17BDBD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FCCE8-05E1-47F2-9CA2-7CBB9400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6C77C-7482-4A11-ACB8-786628D7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B8E33-C58F-4D79-B06B-3762BFCD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2F7D0-97A4-49F7-BD95-9C1FFBAD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AA33E3-9886-453D-979C-AE12BBC91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B858-6F51-40B6-87F5-85B6CF98D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2F7414-F7FA-457A-ACBB-EB2AB5E72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F57AA-5AC5-4B40-A3B1-4E470E00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CF975-9092-43A6-996B-43CD514D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7559C-4C5A-4CD9-A69C-7A91ED83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A4FF7-055F-40E5-B8FA-F3045C78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4B7BE-C0DB-4183-8BA7-B36446161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319A9-D66C-42C1-82F9-4A4F029B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02FB-DA8E-4E6B-9926-37829CE0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86C80-C3CC-4A19-A133-8111D875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6FE53-7A45-4F2A-B2C1-3655FC90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765B-28F2-4F48-9AE6-AF7AEE12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069C8-3183-4B72-800E-4F1EBFEA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9B4269-16D0-4FF0-B657-C58CBC92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C81309-3ACE-4B17-8075-96F514E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2D885-1B8C-486F-8480-60763E1B5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7A2A5-A0D3-4246-9B5E-78375EB7A2C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04A1-D9B3-4F78-BA83-04E18A9B4CB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E6255-275C-45DB-B7D9-6BA475FDD0EE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6FB0-7CB7-46C7-8ED9-26EA71FEA342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0CBC-A8F1-4E2B-AC32-FD19473294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DD81-A165-4B05-87D8-23BCA900A52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8A7F-A36B-42DA-8168-151C39986B8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C5A52-5FE8-4113-9ACD-83F71424CA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4E81-5ACC-4590-BF8B-8A47464E2C6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613C-6A11-40D3-9634-85C577BC62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E6FB-9619-4F0E-B440-29BA7AFB4A9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1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B0AF8-10C6-4CAC-8F6E-429A4B6538A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7CE51-57EE-4941-9E68-9EC590467F2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2331-5DEE-45C2-A597-E69B1849125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BBFA-37F8-4F06-B1FF-FDA3A3C121E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03A5-0255-4DE8-B0C1-9E2DDD5DCF8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8" descr="数学ppt3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4150-1E6E-4A28-8FE2-9E2DD899DFD8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9047-C947-40D4-9B5E-78D879F80FEC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A5195-099D-4EFD-A829-F03E8441442F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55C4-21FB-47BF-A315-9A8D32EBBDE6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2BC0-C0B7-4F02-9D91-E62F7C41A33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7B54-2780-42DA-A95A-3637827CA0BA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C69D-4F23-4D17-947F-E35AD3C5FDD5}" type="slidenum">
              <a:rPr b="0" lang="zh-CN" sz="2400" spc="-1" strike="noStrike">
                <a:solidFill>
                  <a:srgbClr val="000000"/>
                </a:solidFill>
                <a:latin typeface="Franklin Gothic Book"/>
                <a:ea typeface="宋体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标题 1"/>
          <p:cNvSpPr/>
          <p:nvPr/>
        </p:nvSpPr>
        <p:spPr>
          <a:xfrm>
            <a:off x="1095480" y="2103480"/>
            <a:ext cx="69530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用数对确定位置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82" name="组合 1"/>
          <p:cNvGrpSpPr/>
          <p:nvPr/>
        </p:nvGrpSpPr>
        <p:grpSpPr>
          <a:xfrm>
            <a:off x="539640" y="4022640"/>
            <a:ext cx="2160720" cy="399960"/>
            <a:chOff x="539640" y="4022640"/>
            <a:chExt cx="2160720" cy="399960"/>
          </a:xfrm>
        </p:grpSpPr>
        <p:sp>
          <p:nvSpPr>
            <p:cNvPr id="983" name="矩形 41"/>
            <p:cNvSpPr/>
            <p:nvPr/>
          </p:nvSpPr>
          <p:spPr>
            <a:xfrm>
              <a:off x="971280" y="405108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4" name="Picture 5" descr="C:\Documents and Settings\pub\Desktop\未命名文件夹 4\按钮\按钮3.jpg"/>
            <p:cNvPicPr/>
            <p:nvPr/>
          </p:nvPicPr>
          <p:blipFill>
            <a:blip r:embed="rId1"/>
            <a:stretch/>
          </p:blipFill>
          <p:spPr>
            <a:xfrm>
              <a:off x="539640" y="406548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Text Box 12"/>
            <p:cNvSpPr/>
            <p:nvPr/>
          </p:nvSpPr>
          <p:spPr>
            <a:xfrm>
              <a:off x="973080" y="402264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提升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grpSp>
        <p:nvGrpSpPr>
          <p:cNvPr id="986" name="组合 2"/>
          <p:cNvGrpSpPr/>
          <p:nvPr/>
        </p:nvGrpSpPr>
        <p:grpSpPr>
          <a:xfrm>
            <a:off x="1332000" y="4599000"/>
            <a:ext cx="2340000" cy="399960"/>
            <a:chOff x="1332000" y="4599000"/>
            <a:chExt cx="2340000" cy="399960"/>
          </a:xfrm>
        </p:grpSpPr>
        <p:sp>
          <p:nvSpPr>
            <p:cNvPr id="987" name="矩形 42"/>
            <p:cNvSpPr/>
            <p:nvPr/>
          </p:nvSpPr>
          <p:spPr>
            <a:xfrm>
              <a:off x="1763640" y="4627440"/>
              <a:ext cx="1584360" cy="36036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dfe9de">
                    <a:alpha val="54117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pic>
          <p:nvPicPr>
            <p:cNvPr id="988" name="Picture 5" descr="C:\Documents and Settings\pub\Desktop\未命名文件夹 4\按钮\按钮3.jpg"/>
            <p:cNvPicPr/>
            <p:nvPr/>
          </p:nvPicPr>
          <p:blipFill>
            <a:blip r:embed="rId2"/>
            <a:stretch/>
          </p:blipFill>
          <p:spPr>
            <a:xfrm>
              <a:off x="1332000" y="4641840"/>
              <a:ext cx="357120" cy="3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9" name="Text Box 12"/>
            <p:cNvSpPr/>
            <p:nvPr/>
          </p:nvSpPr>
          <p:spPr>
            <a:xfrm>
              <a:off x="1765080" y="4599000"/>
              <a:ext cx="190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  <a:ea typeface="Adobe 楷体 Std R"/>
                </a:rPr>
                <a:t>作业拓展练</a:t>
              </a:r>
              <a:endParaRPr b="1" lang="en-US" sz="20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990" name="TextBox 4"/>
          <p:cNvSpPr/>
          <p:nvPr/>
        </p:nvSpPr>
        <p:spPr>
          <a:xfrm>
            <a:off x="4896000" y="1574640"/>
            <a:ext cx="3708360" cy="4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4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走进军营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楷体"/>
              </a:rPr>
              <a:t>方向与位置</a:t>
            </a:r>
            <a:endParaRPr b="1" lang="en-US" sz="2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1" name="TextBox 20"/>
          <p:cNvSpPr/>
          <p:nvPr/>
        </p:nvSpPr>
        <p:spPr>
          <a:xfrm>
            <a:off x="6310080" y="1214280"/>
            <a:ext cx="17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D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五年级下册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2" name="TextBox 22"/>
          <p:cNvSpPr/>
          <p:nvPr/>
        </p:nvSpPr>
        <p:spPr>
          <a:xfrm>
            <a:off x="397440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2"/>
          <p:cNvSpPr/>
          <p:nvPr/>
        </p:nvSpPr>
        <p:spPr>
          <a:xfrm>
            <a:off x="539640" y="1927080"/>
            <a:ext cx="79614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运用数对知识解决实际问题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在点子图上画图形感受数对的应用（数形结合思想）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平移中的数对变化规律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4" name="组 45"/>
          <p:cNvGrpSpPr/>
          <p:nvPr/>
        </p:nvGrpSpPr>
        <p:grpSpPr>
          <a:xfrm>
            <a:off x="776160" y="334800"/>
            <a:ext cx="3119400" cy="796320"/>
            <a:chOff x="776160" y="334800"/>
            <a:chExt cx="3119400" cy="796320"/>
          </a:xfrm>
        </p:grpSpPr>
        <p:sp>
          <p:nvSpPr>
            <p:cNvPr id="995" name="AutoShape 2"/>
            <p:cNvSpPr/>
            <p:nvPr/>
          </p:nvSpPr>
          <p:spPr>
            <a:xfrm>
              <a:off x="1414080" y="695160"/>
              <a:ext cx="2189160" cy="4096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6" name="AutoShape 11"/>
            <p:cNvSpPr/>
            <p:nvPr/>
          </p:nvSpPr>
          <p:spPr>
            <a:xfrm>
              <a:off x="776160" y="334800"/>
              <a:ext cx="844560" cy="7210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997" name="文本框 48"/>
            <p:cNvSpPr/>
            <p:nvPr/>
          </p:nvSpPr>
          <p:spPr>
            <a:xfrm>
              <a:off x="1463400" y="671400"/>
              <a:ext cx="243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1" lang="en-US" sz="24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10"/>
          <p:cNvSpPr/>
          <p:nvPr/>
        </p:nvSpPr>
        <p:spPr>
          <a:xfrm>
            <a:off x="1071720" y="1376280"/>
            <a:ext cx="72165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下面是丽华小区的平面图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数对表示超市、学校、诊所的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999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00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01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02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03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04" name="Picture 12" descr="dd20"/>
          <p:cNvPicPr/>
          <p:nvPr/>
        </p:nvPicPr>
        <p:blipFill>
          <a:blip r:embed="rId2"/>
          <a:stretch/>
        </p:blipFill>
        <p:spPr>
          <a:xfrm>
            <a:off x="2087640" y="2097000"/>
            <a:ext cx="4303800" cy="3024360"/>
          </a:xfrm>
          <a:prstGeom prst="rect">
            <a:avLst/>
          </a:prstGeom>
          <a:ln w="0">
            <a:noFill/>
          </a:ln>
        </p:spPr>
      </p:pic>
      <p:sp>
        <p:nvSpPr>
          <p:cNvPr id="1005" name="矩形 1"/>
          <p:cNvSpPr/>
          <p:nvPr/>
        </p:nvSpPr>
        <p:spPr>
          <a:xfrm>
            <a:off x="1440000" y="584208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超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学校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诊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2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6" name="矩形 7"/>
          <p:cNvSpPr/>
          <p:nvPr/>
        </p:nvSpPr>
        <p:spPr>
          <a:xfrm>
            <a:off x="3080160" y="33480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书店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7" name="矩形 15"/>
          <p:cNvSpPr/>
          <p:nvPr/>
        </p:nvSpPr>
        <p:spPr>
          <a:xfrm>
            <a:off x="3789000" y="38973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●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花园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矩形 10"/>
          <p:cNvSpPr/>
          <p:nvPr/>
        </p:nvSpPr>
        <p:spPr>
          <a:xfrm>
            <a:off x="900000" y="1647720"/>
            <a:ext cx="721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书店的位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花园的位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请你在图中标出来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从超市出来到诊所，可以怎样走？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9" name="矩形 2"/>
          <p:cNvSpPr/>
          <p:nvPr/>
        </p:nvSpPr>
        <p:spPr>
          <a:xfrm>
            <a:off x="1258920" y="3560760"/>
            <a:ext cx="650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先向东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格，再向南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格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矩形 10"/>
          <p:cNvSpPr/>
          <p:nvPr/>
        </p:nvSpPr>
        <p:spPr>
          <a:xfrm>
            <a:off x="934920" y="1581120"/>
            <a:ext cx="721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三角形的三个顶点分别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请你在点子图中画出这个三角形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11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12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13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14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15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16" name="Picture 2" descr="dd21"/>
          <p:cNvPicPr/>
          <p:nvPr/>
        </p:nvPicPr>
        <p:blipFill>
          <a:blip r:embed="rId2"/>
          <a:stretch/>
        </p:blipFill>
        <p:spPr>
          <a:xfrm>
            <a:off x="2484360" y="2852640"/>
            <a:ext cx="3492720" cy="3421080"/>
          </a:xfrm>
          <a:prstGeom prst="rect">
            <a:avLst/>
          </a:prstGeom>
          <a:ln w="0">
            <a:noFill/>
          </a:ln>
        </p:spPr>
      </p:pic>
      <p:grpSp>
        <p:nvGrpSpPr>
          <p:cNvPr id="1017" name="组合 10"/>
          <p:cNvGrpSpPr/>
          <p:nvPr/>
        </p:nvGrpSpPr>
        <p:grpSpPr>
          <a:xfrm>
            <a:off x="3236760" y="3897360"/>
            <a:ext cx="2055960" cy="1044360"/>
            <a:chOff x="3236760" y="3897360"/>
            <a:chExt cx="2055960" cy="1044360"/>
          </a:xfrm>
        </p:grpSpPr>
        <p:sp>
          <p:nvSpPr>
            <p:cNvPr id="1018" name="直接连接符 2"/>
            <p:cNvSpPr/>
            <p:nvPr/>
          </p:nvSpPr>
          <p:spPr>
            <a:xfrm flipV="1">
              <a:off x="3236760" y="3897360"/>
              <a:ext cx="993600" cy="7077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19" name="直接连接符 7"/>
            <p:cNvSpPr/>
            <p:nvPr/>
          </p:nvSpPr>
          <p:spPr>
            <a:xfrm>
              <a:off x="4230360" y="3897360"/>
              <a:ext cx="1062360" cy="104436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sp>
          <p:nvSpPr>
            <p:cNvPr id="1020" name="直接连接符 9"/>
            <p:cNvSpPr/>
            <p:nvPr/>
          </p:nvSpPr>
          <p:spPr>
            <a:xfrm>
              <a:off x="3236760" y="4605120"/>
              <a:ext cx="2055960" cy="336600"/>
            </a:xfrm>
            <a:prstGeom prst="line">
              <a:avLst/>
            </a:prstGeom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</p:grpSp>
      <p:sp>
        <p:nvSpPr>
          <p:cNvPr id="1021" name="矩形 1"/>
          <p:cNvSpPr/>
          <p:nvPr/>
        </p:nvSpPr>
        <p:spPr>
          <a:xfrm>
            <a:off x="3050640" y="441792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2" name="矩形 13"/>
          <p:cNvSpPr/>
          <p:nvPr/>
        </p:nvSpPr>
        <p:spPr>
          <a:xfrm>
            <a:off x="4095360" y="368460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3" name="矩形 14"/>
          <p:cNvSpPr/>
          <p:nvPr/>
        </p:nvSpPr>
        <p:spPr>
          <a:xfrm>
            <a:off x="5157360" y="479124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●</a:t>
            </a:r>
            <a:endParaRPr b="1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矩形 10"/>
          <p:cNvSpPr/>
          <p:nvPr/>
        </p:nvSpPr>
        <p:spPr>
          <a:xfrm>
            <a:off x="934920" y="1413000"/>
            <a:ext cx="766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看图填一填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用数对表示图中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grpSp>
        <p:nvGrpSpPr>
          <p:cNvPr id="1025" name="组合 11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26" name="圆角矩形 19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27" name="组合 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28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提升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29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30" name="Picture 2" descr="dd22"/>
          <p:cNvPicPr/>
          <p:nvPr/>
        </p:nvPicPr>
        <p:blipFill>
          <a:blip r:embed="rId2"/>
          <a:stretch/>
        </p:blipFill>
        <p:spPr>
          <a:xfrm>
            <a:off x="2771640" y="3166920"/>
            <a:ext cx="3095640" cy="309564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195984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288864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4245840" y="2649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5114160" y="263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6590520" y="2649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7419240" y="2649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矩形 10"/>
          <p:cNvSpPr/>
          <p:nvPr/>
        </p:nvSpPr>
        <p:spPr>
          <a:xfrm>
            <a:off x="647640" y="1844640"/>
            <a:ext cx="7920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三角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右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用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数对表示出平移后的三角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1B1C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顶点的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三角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向下平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不用画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用数对表示出平移后的三角形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三个顶点的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，　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8" name="矩形 1"/>
          <p:cNvSpPr/>
          <p:nvPr/>
        </p:nvSpPr>
        <p:spPr>
          <a:xfrm>
            <a:off x="171216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9" name="矩形 2"/>
          <p:cNvSpPr/>
          <p:nvPr/>
        </p:nvSpPr>
        <p:spPr>
          <a:xfrm>
            <a:off x="2558520" y="30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4087080" y="30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4934880" y="3068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6411240" y="3070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7239240" y="306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1648800" y="4689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5" name="矩形 9"/>
          <p:cNvSpPr/>
          <p:nvPr/>
        </p:nvSpPr>
        <p:spPr>
          <a:xfrm>
            <a:off x="2467800" y="470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6" name="矩形 10"/>
          <p:cNvSpPr/>
          <p:nvPr/>
        </p:nvSpPr>
        <p:spPr>
          <a:xfrm>
            <a:off x="4088880" y="470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7" name="矩形 11"/>
          <p:cNvSpPr/>
          <p:nvPr/>
        </p:nvSpPr>
        <p:spPr>
          <a:xfrm>
            <a:off x="4934880" y="471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8" name="矩形 12"/>
          <p:cNvSpPr/>
          <p:nvPr/>
        </p:nvSpPr>
        <p:spPr>
          <a:xfrm>
            <a:off x="6342840" y="471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9" name="矩形 13"/>
          <p:cNvSpPr/>
          <p:nvPr/>
        </p:nvSpPr>
        <p:spPr>
          <a:xfrm>
            <a:off x="7239240" y="4716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矩形 10"/>
          <p:cNvSpPr/>
          <p:nvPr/>
        </p:nvSpPr>
        <p:spPr>
          <a:xfrm>
            <a:off x="576360" y="2058840"/>
            <a:ext cx="79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4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平移我发现：向右平移，则列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   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向下平移，则行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   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“增加”或“减少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还能总结出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__________________________________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1" name="矩形 2"/>
          <p:cNvSpPr/>
          <p:nvPr/>
        </p:nvSpPr>
        <p:spPr>
          <a:xfrm>
            <a:off x="1017720" y="3683160"/>
            <a:ext cx="696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向左、右平移，行数不变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此空答案不唯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2" name="矩形 3"/>
          <p:cNvSpPr/>
          <p:nvPr/>
        </p:nvSpPr>
        <p:spPr>
          <a:xfrm>
            <a:off x="6284520" y="220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增加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53" name="矩形 1"/>
          <p:cNvSpPr/>
          <p:nvPr/>
        </p:nvSpPr>
        <p:spPr>
          <a:xfrm>
            <a:off x="2897280" y="26272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减少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4" name="组合 14"/>
          <p:cNvGrpSpPr/>
          <p:nvPr/>
        </p:nvGrpSpPr>
        <p:grpSpPr>
          <a:xfrm>
            <a:off x="476280" y="441360"/>
            <a:ext cx="2852640" cy="668160"/>
            <a:chOff x="476280" y="441360"/>
            <a:chExt cx="2852640" cy="668160"/>
          </a:xfrm>
        </p:grpSpPr>
        <p:sp>
          <p:nvSpPr>
            <p:cNvPr id="1055" name="圆角矩形 15"/>
            <p:cNvSpPr/>
            <p:nvPr/>
          </p:nvSpPr>
          <p:spPr>
            <a:xfrm>
              <a:off x="1396800" y="66024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a6a6a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微软雅黑"/>
              </a:endParaRPr>
            </a:p>
          </p:txBody>
        </p:sp>
        <p:grpSp>
          <p:nvGrpSpPr>
            <p:cNvPr id="1056" name="组合 16"/>
            <p:cNvGrpSpPr/>
            <p:nvPr/>
          </p:nvGrpSpPr>
          <p:grpSpPr>
            <a:xfrm>
              <a:off x="476280" y="441360"/>
              <a:ext cx="2852640" cy="668160"/>
              <a:chOff x="476280" y="441360"/>
              <a:chExt cx="2852640" cy="668160"/>
            </a:xfrm>
          </p:grpSpPr>
          <p:sp>
            <p:nvSpPr>
              <p:cNvPr id="1057" name="文本框 13"/>
              <p:cNvSpPr/>
              <p:nvPr/>
            </p:nvSpPr>
            <p:spPr>
              <a:xfrm>
                <a:off x="1403640" y="647640"/>
                <a:ext cx="192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作业拓展练</a:t>
                </a:r>
                <a:endParaRPr b="1" lang="en-US" sz="2400" spc="-1" strike="noStrike">
                  <a:solidFill>
                    <a:srgbClr val="000000"/>
                  </a:solidFill>
                  <a:latin typeface="微软雅黑"/>
                </a:endParaRPr>
              </a:p>
            </p:txBody>
          </p:sp>
          <p:pic>
            <p:nvPicPr>
              <p:cNvPr id="1058" name="图片 9" descr=""/>
              <p:cNvPicPr/>
              <p:nvPr/>
            </p:nvPicPr>
            <p:blipFill>
              <a:blip r:embed="rId1"/>
              <a:stretch/>
            </p:blipFill>
            <p:spPr>
              <a:xfrm>
                <a:off x="476280" y="441360"/>
                <a:ext cx="1083960" cy="66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9" name="矩形 19"/>
          <p:cNvSpPr/>
          <p:nvPr/>
        </p:nvSpPr>
        <p:spPr>
          <a:xfrm>
            <a:off x="611280" y="155736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．如下图，“马”在棋盘中的位置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它走的路线是“日”，请你写出“马”下一步可能走到的位置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60" name="Picture 9" descr="N38"/>
          <p:cNvPicPr/>
          <p:nvPr/>
        </p:nvPicPr>
        <p:blipFill>
          <a:blip r:embed="rId2"/>
          <a:stretch/>
        </p:blipFill>
        <p:spPr>
          <a:xfrm>
            <a:off x="2044800" y="2816280"/>
            <a:ext cx="4573440" cy="2374920"/>
          </a:xfrm>
          <a:prstGeom prst="rect">
            <a:avLst/>
          </a:prstGeom>
          <a:ln w="0">
            <a:noFill/>
          </a:ln>
        </p:spPr>
      </p:pic>
      <p:sp>
        <p:nvSpPr>
          <p:cNvPr id="1061" name="矩形 2"/>
          <p:cNvSpPr/>
          <p:nvPr/>
        </p:nvSpPr>
        <p:spPr>
          <a:xfrm>
            <a:off x="1030320" y="5300640"/>
            <a:ext cx="750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7120" indent="-6271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答：“马”下一步可能走到的位置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 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4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1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(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，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0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8T08:32:11Z</dcterms:created>
  <dc:creator/>
  <dc:description/>
  <dc:language>en-US</dc:language>
  <cp:lastModifiedBy>相忘于江湖</cp:lastModifiedBy>
  <dcterms:modified xsi:type="dcterms:W3CDTF">2018-01-07T07:26:21Z</dcterms:modified>
  <cp:revision>1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