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79D6-1F05-453C-B171-992C45577A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4B5E-4525-446E-8EB3-D3262BAC7FD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21A-7757-4314-9D1A-E568D604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D15-2648-4909-964C-8C5E238F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B00-8AAA-4755-A273-B8F4CD96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1AD-54E2-4839-98FA-BC007834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159A-AA11-4A57-8B08-0E19C4C0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0208-3C09-439A-AA6B-F4F81B5C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95F2-6CD5-498F-AFCE-4463F772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D1E0-6D31-4831-817A-C9E62482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D9BE-6DCB-4C16-B37E-F713E54B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CABE-8BD3-467E-B6DF-828F26C8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FFAC-69FF-4E0B-AD5F-A00F1765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A81-A8FC-47DF-9DE2-732A20CE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1B4F-DCAF-476B-B515-D132387F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FECD-8992-4BF2-9ED2-56B7EB20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6B19-4EBB-48AA-9BC5-2E0F6971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4A37-347E-4B7B-B784-2A200991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232F-EA58-4DAD-9E2B-AA88AD30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81E-2252-4B3B-815A-FE32BD09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077-89D3-4421-AF1C-0FD53FF3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0DF-60D8-4390-A072-98AC30B3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77D-5E93-46F5-8C64-0E191F58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619-DEAA-4972-9163-909DBE3F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827-07B2-4D8A-99D2-1D19165E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EDB-61AB-4B28-BF62-C2D41523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0955-4D51-4985-B10D-34001FC3E90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9B00-4DAA-4433-B08D-C4642DC2A34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619280" y="1989000"/>
            <a:ext cx="653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7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的大小比较（二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Box 5"/>
          <p:cNvSpPr/>
          <p:nvPr/>
        </p:nvSpPr>
        <p:spPr>
          <a:xfrm>
            <a:off x="714240" y="97488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分数的大小，把小熊从小到大排列起来，在○里填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图片 6" descr="1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57120" y="2058840"/>
            <a:ext cx="8358120" cy="158436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108"/>
          <p:cNvSpPr/>
          <p:nvPr/>
        </p:nvSpPr>
        <p:spPr>
          <a:xfrm>
            <a:off x="6715080" y="276228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08"/>
          <p:cNvSpPr/>
          <p:nvPr/>
        </p:nvSpPr>
        <p:spPr>
          <a:xfrm>
            <a:off x="8012160" y="226224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08"/>
          <p:cNvSpPr/>
          <p:nvPr/>
        </p:nvSpPr>
        <p:spPr>
          <a:xfrm>
            <a:off x="3786120" y="271476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08"/>
          <p:cNvSpPr/>
          <p:nvPr/>
        </p:nvSpPr>
        <p:spPr>
          <a:xfrm>
            <a:off x="5214960" y="283356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08"/>
          <p:cNvSpPr/>
          <p:nvPr/>
        </p:nvSpPr>
        <p:spPr>
          <a:xfrm>
            <a:off x="1714680" y="257184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5" descr=""/>
          <p:cNvPicPr/>
          <p:nvPr/>
        </p:nvPicPr>
        <p:blipFill>
          <a:blip r:embed="rId1"/>
          <a:stretch/>
        </p:blipFill>
        <p:spPr>
          <a:xfrm>
            <a:off x="971640" y="1571760"/>
            <a:ext cx="7458120" cy="29145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6"/>
          <p:cNvSpPr/>
          <p:nvPr/>
        </p:nvSpPr>
        <p:spPr>
          <a:xfrm>
            <a:off x="2428920" y="4905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提出什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19"/>
          <p:cNvSpPr/>
          <p:nvPr/>
        </p:nvSpPr>
        <p:spPr>
          <a:xfrm>
            <a:off x="1473120" y="1411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垃圾中塑料和菜叶果皮，哪类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组合 43"/>
          <p:cNvGrpSpPr/>
          <p:nvPr/>
        </p:nvGrpSpPr>
        <p:grpSpPr>
          <a:xfrm>
            <a:off x="3273480" y="2276640"/>
            <a:ext cx="647640" cy="1180800"/>
            <a:chOff x="3273480" y="2276640"/>
            <a:chExt cx="647640" cy="1180800"/>
          </a:xfrm>
        </p:grpSpPr>
        <p:sp>
          <p:nvSpPr>
            <p:cNvPr id="549" name="TextBox 8"/>
            <p:cNvSpPr/>
            <p:nvPr/>
          </p:nvSpPr>
          <p:spPr>
            <a:xfrm>
              <a:off x="3274200" y="2818080"/>
              <a:ext cx="64692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8"/>
            <p:cNvSpPr/>
            <p:nvPr/>
          </p:nvSpPr>
          <p:spPr>
            <a:xfrm>
              <a:off x="3273480" y="2276640"/>
              <a:ext cx="576000" cy="627840"/>
            </a:xfrm>
            <a:custGeom>
              <a:avLst/>
              <a:gdLst>
                <a:gd name="textAreaLeft" fmla="*/ 53640 w 576000"/>
                <a:gd name="textAreaRight" fmla="*/ 522360 w 576000"/>
                <a:gd name="textAreaTop" fmla="*/ 53640 h 627840"/>
                <a:gd name="textAreaBottom" fmla="*/ 574200 h 627840"/>
              </a:gdLst>
              <a:ahLst/>
              <a:rect l="textAreaLeft" t="textAreaTop" r="textAreaRight" b="textAreaBottom"/>
              <a:pathLst>
                <a:path w="21600" h="23543">
                  <a:moveTo>
                    <a:pt x="6866" y="0"/>
                  </a:moveTo>
                  <a:arcTo wR="6866" hR="6866" stAng="16200000" swAng="-5400000"/>
                  <a:lnTo>
                    <a:pt x="0" y="16677"/>
                  </a:lnTo>
                  <a:arcTo wR="6866" hR="6866" stAng="10800000" swAng="-5400000"/>
                  <a:lnTo>
                    <a:pt x="14734" y="2354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直接连接符 55"/>
            <p:cNvSpPr/>
            <p:nvPr/>
          </p:nvSpPr>
          <p:spPr>
            <a:xfrm>
              <a:off x="3274920" y="2881440"/>
              <a:ext cx="50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椭圆 58"/>
          <p:cNvSpPr/>
          <p:nvPr/>
        </p:nvSpPr>
        <p:spPr>
          <a:xfrm>
            <a:off x="4065480" y="2635200"/>
            <a:ext cx="720720" cy="6494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43"/>
          <p:cNvGrpSpPr/>
          <p:nvPr/>
        </p:nvGrpSpPr>
        <p:grpSpPr>
          <a:xfrm>
            <a:off x="5146560" y="2276640"/>
            <a:ext cx="647640" cy="1180800"/>
            <a:chOff x="5146560" y="2276640"/>
            <a:chExt cx="647640" cy="1180800"/>
          </a:xfrm>
        </p:grpSpPr>
        <p:sp>
          <p:nvSpPr>
            <p:cNvPr id="554" name="TextBox 8"/>
            <p:cNvSpPr/>
            <p:nvPr/>
          </p:nvSpPr>
          <p:spPr>
            <a:xfrm>
              <a:off x="5146560" y="2276640"/>
              <a:ext cx="576000" cy="627840"/>
            </a:xfrm>
            <a:custGeom>
              <a:avLst/>
              <a:gdLst>
                <a:gd name="textAreaLeft" fmla="*/ 53640 w 576000"/>
                <a:gd name="textAreaRight" fmla="*/ 522360 w 576000"/>
                <a:gd name="textAreaTop" fmla="*/ 53640 h 627840"/>
                <a:gd name="textAreaBottom" fmla="*/ 574200 h 627840"/>
              </a:gdLst>
              <a:ahLst/>
              <a:rect l="textAreaLeft" t="textAreaTop" r="textAreaRight" b="textAreaBottom"/>
              <a:pathLst>
                <a:path w="21600" h="23543">
                  <a:moveTo>
                    <a:pt x="6866" y="0"/>
                  </a:moveTo>
                  <a:arcTo wR="6866" hR="6866" stAng="16200000" swAng="-5400000"/>
                  <a:lnTo>
                    <a:pt x="0" y="16677"/>
                  </a:lnTo>
                  <a:arcTo wR="6866" hR="6866" stAng="10800000" swAng="-5400000"/>
                  <a:lnTo>
                    <a:pt x="14734" y="2354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62"/>
            <p:cNvSpPr/>
            <p:nvPr/>
          </p:nvSpPr>
          <p:spPr>
            <a:xfrm>
              <a:off x="5148000" y="2881440"/>
              <a:ext cx="50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8"/>
            <p:cNvSpPr/>
            <p:nvPr/>
          </p:nvSpPr>
          <p:spPr>
            <a:xfrm>
              <a:off x="5147280" y="2818080"/>
              <a:ext cx="64692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组合 68"/>
          <p:cNvGrpSpPr/>
          <p:nvPr/>
        </p:nvGrpSpPr>
        <p:grpSpPr>
          <a:xfrm>
            <a:off x="1904760" y="4219560"/>
            <a:ext cx="5401080" cy="1600200"/>
            <a:chOff x="1904760" y="4219560"/>
            <a:chExt cx="5401080" cy="1600200"/>
          </a:xfrm>
        </p:grpSpPr>
        <p:pic>
          <p:nvPicPr>
            <p:cNvPr id="558" name="Picture 51" descr=""/>
            <p:cNvPicPr/>
            <p:nvPr/>
          </p:nvPicPr>
          <p:blipFill>
            <a:blip r:embed="rId1"/>
            <a:stretch/>
          </p:blipFill>
          <p:spPr>
            <a:xfrm flipH="1">
              <a:off x="1904760" y="4867560"/>
              <a:ext cx="110700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AutoShape 24"/>
            <p:cNvSpPr/>
            <p:nvPr/>
          </p:nvSpPr>
          <p:spPr>
            <a:xfrm>
              <a:off x="3201120" y="4219560"/>
              <a:ext cx="4104720" cy="1080000"/>
            </a:xfrm>
            <a:prstGeom prst="wedgeRoundRectCallout">
              <a:avLst>
                <a:gd name="adj1" fmla="val -57337"/>
                <a:gd name="adj2" fmla="val 499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子和分母都不一样，怎样比较大小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9"/>
          <p:cNvSpPr/>
          <p:nvPr/>
        </p:nvSpPr>
        <p:spPr>
          <a:xfrm>
            <a:off x="1519200" y="1071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垃圾中塑料和菜叶果皮，哪类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43"/>
          <p:cNvGrpSpPr/>
          <p:nvPr/>
        </p:nvGrpSpPr>
        <p:grpSpPr>
          <a:xfrm>
            <a:off x="3319560" y="1576440"/>
            <a:ext cx="647640" cy="1182240"/>
            <a:chOff x="3319560" y="1576440"/>
            <a:chExt cx="647640" cy="1182240"/>
          </a:xfrm>
        </p:grpSpPr>
        <p:sp>
          <p:nvSpPr>
            <p:cNvPr id="562" name="TextBox 8"/>
            <p:cNvSpPr/>
            <p:nvPr/>
          </p:nvSpPr>
          <p:spPr>
            <a:xfrm>
              <a:off x="3320280" y="2119320"/>
              <a:ext cx="64692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8"/>
            <p:cNvSpPr/>
            <p:nvPr/>
          </p:nvSpPr>
          <p:spPr>
            <a:xfrm>
              <a:off x="3319560" y="1576440"/>
              <a:ext cx="576000" cy="627840"/>
            </a:xfrm>
            <a:custGeom>
              <a:avLst/>
              <a:gdLst>
                <a:gd name="textAreaLeft" fmla="*/ 53640 w 576000"/>
                <a:gd name="textAreaRight" fmla="*/ 522360 w 576000"/>
                <a:gd name="textAreaTop" fmla="*/ 53640 h 627840"/>
                <a:gd name="textAreaBottom" fmla="*/ 574200 h 627840"/>
              </a:gdLst>
              <a:ahLst/>
              <a:rect l="textAreaLeft" t="textAreaTop" r="textAreaRight" b="textAreaBottom"/>
              <a:pathLst>
                <a:path w="21600" h="23543">
                  <a:moveTo>
                    <a:pt x="6866" y="0"/>
                  </a:moveTo>
                  <a:arcTo wR="6866" hR="6866" stAng="16200000" swAng="-5400000"/>
                  <a:lnTo>
                    <a:pt x="0" y="16677"/>
                  </a:lnTo>
                  <a:arcTo wR="6866" hR="6866" stAng="10800000" swAng="-5400000"/>
                  <a:lnTo>
                    <a:pt x="14734" y="2354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67"/>
            <p:cNvSpPr/>
            <p:nvPr/>
          </p:nvSpPr>
          <p:spPr>
            <a:xfrm>
              <a:off x="3321000" y="2182680"/>
              <a:ext cx="50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椭圆 62"/>
          <p:cNvSpPr/>
          <p:nvPr/>
        </p:nvSpPr>
        <p:spPr>
          <a:xfrm>
            <a:off x="4111560" y="1936800"/>
            <a:ext cx="720720" cy="647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43"/>
          <p:cNvGrpSpPr/>
          <p:nvPr/>
        </p:nvGrpSpPr>
        <p:grpSpPr>
          <a:xfrm>
            <a:off x="5138640" y="1603440"/>
            <a:ext cx="647640" cy="1182240"/>
            <a:chOff x="5138640" y="1603440"/>
            <a:chExt cx="647640" cy="1182240"/>
          </a:xfrm>
        </p:grpSpPr>
        <p:sp>
          <p:nvSpPr>
            <p:cNvPr id="567" name="TextBox 8"/>
            <p:cNvSpPr/>
            <p:nvPr/>
          </p:nvSpPr>
          <p:spPr>
            <a:xfrm>
              <a:off x="5138640" y="1603440"/>
              <a:ext cx="576000" cy="627840"/>
            </a:xfrm>
            <a:custGeom>
              <a:avLst/>
              <a:gdLst>
                <a:gd name="textAreaLeft" fmla="*/ 53640 w 576000"/>
                <a:gd name="textAreaRight" fmla="*/ 522360 w 576000"/>
                <a:gd name="textAreaTop" fmla="*/ 53640 h 627840"/>
                <a:gd name="textAreaBottom" fmla="*/ 574200 h 627840"/>
              </a:gdLst>
              <a:ahLst/>
              <a:rect l="textAreaLeft" t="textAreaTop" r="textAreaRight" b="textAreaBottom"/>
              <a:pathLst>
                <a:path w="21600" h="23543">
                  <a:moveTo>
                    <a:pt x="6866" y="0"/>
                  </a:moveTo>
                  <a:arcTo wR="6866" hR="6866" stAng="16200000" swAng="-5400000"/>
                  <a:lnTo>
                    <a:pt x="0" y="16677"/>
                  </a:lnTo>
                  <a:arcTo wR="6866" hR="6866" stAng="10800000" swAng="-5400000"/>
                  <a:lnTo>
                    <a:pt x="14734" y="2354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72"/>
            <p:cNvSpPr/>
            <p:nvPr/>
          </p:nvSpPr>
          <p:spPr>
            <a:xfrm>
              <a:off x="5140080" y="2209680"/>
              <a:ext cx="50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8"/>
            <p:cNvSpPr/>
            <p:nvPr/>
          </p:nvSpPr>
          <p:spPr>
            <a:xfrm>
              <a:off x="5139360" y="2146320"/>
              <a:ext cx="64692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26"/>
          <p:cNvGrpSpPr/>
          <p:nvPr/>
        </p:nvGrpSpPr>
        <p:grpSpPr>
          <a:xfrm>
            <a:off x="1603440" y="2714760"/>
            <a:ext cx="6040440" cy="1142640"/>
            <a:chOff x="1603440" y="2714760"/>
            <a:chExt cx="6040440" cy="1142640"/>
          </a:xfrm>
        </p:grpSpPr>
        <p:sp>
          <p:nvSpPr>
            <p:cNvPr id="571" name="TextBox 8"/>
            <p:cNvSpPr/>
            <p:nvPr/>
          </p:nvSpPr>
          <p:spPr>
            <a:xfrm>
              <a:off x="1603440" y="2952720"/>
              <a:ext cx="604044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方法一：把    和    化成小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组合 43"/>
            <p:cNvGrpSpPr/>
            <p:nvPr/>
          </p:nvGrpSpPr>
          <p:grpSpPr>
            <a:xfrm>
              <a:off x="3660840" y="2714760"/>
              <a:ext cx="646560" cy="1142640"/>
              <a:chOff x="3660840" y="2714760"/>
              <a:chExt cx="646560" cy="1142640"/>
            </a:xfrm>
          </p:grpSpPr>
          <p:sp>
            <p:nvSpPr>
              <p:cNvPr id="573" name="TextBox 8"/>
              <p:cNvSpPr/>
              <p:nvPr/>
            </p:nvSpPr>
            <p:spPr>
              <a:xfrm>
                <a:off x="3672360" y="2714760"/>
                <a:ext cx="575640" cy="627120"/>
              </a:xfrm>
              <a:custGeom>
                <a:avLst/>
                <a:gdLst>
                  <a:gd name="textAreaLeft" fmla="*/ 53280 w 575640"/>
                  <a:gd name="textAreaRight" fmla="*/ 522360 w 575640"/>
                  <a:gd name="textAreaTop" fmla="*/ 53280 h 627120"/>
                  <a:gd name="textAreaBottom" fmla="*/ 573840 h 627120"/>
                </a:gdLst>
                <a:ahLst/>
                <a:rect l="textAreaLeft" t="textAreaTop" r="textAreaRight" b="textAreaBottom"/>
                <a:pathLst>
                  <a:path w="21600" h="23531">
                    <a:moveTo>
                      <a:pt x="6866" y="0"/>
                    </a:moveTo>
                    <a:arcTo wR="6866" hR="6866" stAng="16200000" swAng="-5400000"/>
                    <a:lnTo>
                      <a:pt x="0" y="16665"/>
                    </a:lnTo>
                    <a:arcTo wR="6866" hR="6866" stAng="10800000" swAng="-5400000"/>
                    <a:lnTo>
                      <a:pt x="14734" y="23531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直接连接符 86"/>
              <p:cNvSpPr/>
              <p:nvPr/>
            </p:nvSpPr>
            <p:spPr>
              <a:xfrm>
                <a:off x="3673440" y="3286440"/>
                <a:ext cx="501480" cy="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Box 8"/>
              <p:cNvSpPr/>
              <p:nvPr/>
            </p:nvSpPr>
            <p:spPr>
              <a:xfrm>
                <a:off x="3660840" y="3218040"/>
                <a:ext cx="64656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组合 43"/>
            <p:cNvGrpSpPr/>
            <p:nvPr/>
          </p:nvGrpSpPr>
          <p:grpSpPr>
            <a:xfrm>
              <a:off x="4691880" y="2714760"/>
              <a:ext cx="647640" cy="1142640"/>
              <a:chOff x="4691880" y="2714760"/>
              <a:chExt cx="647640" cy="1142640"/>
            </a:xfrm>
          </p:grpSpPr>
          <p:sp>
            <p:nvSpPr>
              <p:cNvPr id="577" name="TextBox 8"/>
              <p:cNvSpPr/>
              <p:nvPr/>
            </p:nvSpPr>
            <p:spPr>
              <a:xfrm>
                <a:off x="4691880" y="2714760"/>
                <a:ext cx="576000" cy="627840"/>
              </a:xfrm>
              <a:custGeom>
                <a:avLst/>
                <a:gdLst>
                  <a:gd name="textAreaLeft" fmla="*/ 53640 w 576000"/>
                  <a:gd name="textAreaRight" fmla="*/ 522360 w 576000"/>
                  <a:gd name="textAreaTop" fmla="*/ 53640 h 627840"/>
                  <a:gd name="textAreaBottom" fmla="*/ 574200 h 627840"/>
                </a:gdLst>
                <a:ahLst/>
                <a:rect l="textAreaLeft" t="textAreaTop" r="textAreaRight" b="textAreaBottom"/>
                <a:pathLst>
                  <a:path w="21600" h="23543">
                    <a:moveTo>
                      <a:pt x="6866" y="0"/>
                    </a:moveTo>
                    <a:arcTo wR="6866" hR="6866" stAng="16200000" swAng="-5400000"/>
                    <a:lnTo>
                      <a:pt x="0" y="16677"/>
                    </a:lnTo>
                    <a:arcTo wR="6866" hR="6866" stAng="10800000" swAng="-5400000"/>
                    <a:lnTo>
                      <a:pt x="14734" y="23543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直接连接符 83"/>
              <p:cNvSpPr/>
              <p:nvPr/>
            </p:nvSpPr>
            <p:spPr>
              <a:xfrm>
                <a:off x="4692600" y="3286440"/>
                <a:ext cx="501840" cy="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Box 8"/>
              <p:cNvSpPr/>
              <p:nvPr/>
            </p:nvSpPr>
            <p:spPr>
              <a:xfrm>
                <a:off x="4692600" y="3218040"/>
                <a:ext cx="6469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组合 43"/>
          <p:cNvGrpSpPr/>
          <p:nvPr/>
        </p:nvGrpSpPr>
        <p:grpSpPr>
          <a:xfrm>
            <a:off x="3332160" y="3448080"/>
            <a:ext cx="647640" cy="1182240"/>
            <a:chOff x="3332160" y="3448080"/>
            <a:chExt cx="647640" cy="1182240"/>
          </a:xfrm>
        </p:grpSpPr>
        <p:sp>
          <p:nvSpPr>
            <p:cNvPr id="581" name="TextBox 8"/>
            <p:cNvSpPr/>
            <p:nvPr/>
          </p:nvSpPr>
          <p:spPr>
            <a:xfrm>
              <a:off x="3332160" y="3448080"/>
              <a:ext cx="576000" cy="627840"/>
            </a:xfrm>
            <a:custGeom>
              <a:avLst/>
              <a:gdLst>
                <a:gd name="textAreaLeft" fmla="*/ 53640 w 576000"/>
                <a:gd name="textAreaRight" fmla="*/ 522360 w 576000"/>
                <a:gd name="textAreaTop" fmla="*/ 53640 h 627840"/>
                <a:gd name="textAreaBottom" fmla="*/ 574200 h 627840"/>
              </a:gdLst>
              <a:ahLst/>
              <a:rect l="textAreaLeft" t="textAreaTop" r="textAreaRight" b="textAreaBottom"/>
              <a:pathLst>
                <a:path w="21600" h="23543">
                  <a:moveTo>
                    <a:pt x="6866" y="0"/>
                  </a:moveTo>
                  <a:arcTo wR="6866" hR="6866" stAng="16200000" swAng="-5400000"/>
                  <a:lnTo>
                    <a:pt x="0" y="16677"/>
                  </a:lnTo>
                  <a:arcTo wR="6866" hR="6866" stAng="10800000" swAng="-5400000"/>
                  <a:lnTo>
                    <a:pt x="14734" y="2354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直接连接符 90"/>
            <p:cNvSpPr/>
            <p:nvPr/>
          </p:nvSpPr>
          <p:spPr>
            <a:xfrm>
              <a:off x="3333600" y="4054320"/>
              <a:ext cx="50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Box 8"/>
            <p:cNvSpPr/>
            <p:nvPr/>
          </p:nvSpPr>
          <p:spPr>
            <a:xfrm>
              <a:off x="3332880" y="3990960"/>
              <a:ext cx="64692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TextBox 8"/>
          <p:cNvSpPr/>
          <p:nvPr/>
        </p:nvSpPr>
        <p:spPr>
          <a:xfrm>
            <a:off x="3836880" y="3697200"/>
            <a:ext cx="3240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组合 43"/>
          <p:cNvGrpSpPr/>
          <p:nvPr/>
        </p:nvGrpSpPr>
        <p:grpSpPr>
          <a:xfrm>
            <a:off x="3376440" y="4429080"/>
            <a:ext cx="648000" cy="1182240"/>
            <a:chOff x="3376440" y="4429080"/>
            <a:chExt cx="648000" cy="1182240"/>
          </a:xfrm>
        </p:grpSpPr>
        <p:sp>
          <p:nvSpPr>
            <p:cNvPr id="586" name="TextBox 8"/>
            <p:cNvSpPr/>
            <p:nvPr/>
          </p:nvSpPr>
          <p:spPr>
            <a:xfrm>
              <a:off x="3376440" y="4429080"/>
              <a:ext cx="576360" cy="627840"/>
            </a:xfrm>
            <a:custGeom>
              <a:avLst/>
              <a:gdLst>
                <a:gd name="textAreaLeft" fmla="*/ 53640 w 576360"/>
                <a:gd name="textAreaRight" fmla="*/ 522720 w 576360"/>
                <a:gd name="textAreaTop" fmla="*/ 53640 h 627840"/>
                <a:gd name="textAreaBottom" fmla="*/ 574200 h 627840"/>
              </a:gdLst>
              <a:ahLst/>
              <a:rect l="textAreaLeft" t="textAreaTop" r="textAreaRight" b="textAreaBottom"/>
              <a:pathLst>
                <a:path w="21600" h="23528">
                  <a:moveTo>
                    <a:pt x="6866" y="0"/>
                  </a:moveTo>
                  <a:arcTo wR="6866" hR="6866" stAng="16200000" swAng="-5400000"/>
                  <a:lnTo>
                    <a:pt x="0" y="16662"/>
                  </a:lnTo>
                  <a:arcTo wR="6866" hR="6866" stAng="10800000" swAng="-5400000"/>
                  <a:lnTo>
                    <a:pt x="14734" y="23528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直接连接符 95"/>
            <p:cNvSpPr/>
            <p:nvPr/>
          </p:nvSpPr>
          <p:spPr>
            <a:xfrm>
              <a:off x="3377880" y="5035320"/>
              <a:ext cx="50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Box 8"/>
            <p:cNvSpPr/>
            <p:nvPr/>
          </p:nvSpPr>
          <p:spPr>
            <a:xfrm>
              <a:off x="3377160" y="4971960"/>
              <a:ext cx="64728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TextBox 8"/>
          <p:cNvSpPr/>
          <p:nvPr/>
        </p:nvSpPr>
        <p:spPr>
          <a:xfrm>
            <a:off x="3881520" y="4680000"/>
            <a:ext cx="32400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8"/>
          <p:cNvSpPr/>
          <p:nvPr/>
        </p:nvSpPr>
        <p:spPr>
          <a:xfrm>
            <a:off x="3160800" y="5473800"/>
            <a:ext cx="32400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1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8"/>
          <p:cNvSpPr/>
          <p:nvPr/>
        </p:nvSpPr>
        <p:spPr>
          <a:xfrm>
            <a:off x="4118040" y="1932120"/>
            <a:ext cx="32400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19"/>
          <p:cNvSpPr/>
          <p:nvPr/>
        </p:nvSpPr>
        <p:spPr>
          <a:xfrm>
            <a:off x="1519200" y="1071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垃圾中塑料和菜叶果皮，哪类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组合 43"/>
          <p:cNvGrpSpPr/>
          <p:nvPr/>
        </p:nvGrpSpPr>
        <p:grpSpPr>
          <a:xfrm>
            <a:off x="3319560" y="1576440"/>
            <a:ext cx="647640" cy="1182240"/>
            <a:chOff x="3319560" y="1576440"/>
            <a:chExt cx="647640" cy="1182240"/>
          </a:xfrm>
        </p:grpSpPr>
        <p:sp>
          <p:nvSpPr>
            <p:cNvPr id="594" name="TextBox 8"/>
            <p:cNvSpPr/>
            <p:nvPr/>
          </p:nvSpPr>
          <p:spPr>
            <a:xfrm>
              <a:off x="3320280" y="2119320"/>
              <a:ext cx="64692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8"/>
            <p:cNvSpPr/>
            <p:nvPr/>
          </p:nvSpPr>
          <p:spPr>
            <a:xfrm>
              <a:off x="3319560" y="1576440"/>
              <a:ext cx="576000" cy="627840"/>
            </a:xfrm>
            <a:custGeom>
              <a:avLst/>
              <a:gdLst>
                <a:gd name="textAreaLeft" fmla="*/ 53640 w 576000"/>
                <a:gd name="textAreaRight" fmla="*/ 522360 w 576000"/>
                <a:gd name="textAreaTop" fmla="*/ 53640 h 627840"/>
                <a:gd name="textAreaBottom" fmla="*/ 574200 h 627840"/>
              </a:gdLst>
              <a:ahLst/>
              <a:rect l="textAreaLeft" t="textAreaTop" r="textAreaRight" b="textAreaBottom"/>
              <a:pathLst>
                <a:path w="21600" h="23543">
                  <a:moveTo>
                    <a:pt x="6866" y="0"/>
                  </a:moveTo>
                  <a:arcTo wR="6866" hR="6866" stAng="16200000" swAng="-5400000"/>
                  <a:lnTo>
                    <a:pt x="0" y="16677"/>
                  </a:lnTo>
                  <a:arcTo wR="6866" hR="6866" stAng="10800000" swAng="-5400000"/>
                  <a:lnTo>
                    <a:pt x="14734" y="2354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直接连接符 67"/>
            <p:cNvSpPr/>
            <p:nvPr/>
          </p:nvSpPr>
          <p:spPr>
            <a:xfrm>
              <a:off x="3321000" y="2182680"/>
              <a:ext cx="50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椭圆 62"/>
          <p:cNvSpPr/>
          <p:nvPr/>
        </p:nvSpPr>
        <p:spPr>
          <a:xfrm>
            <a:off x="4111560" y="1936800"/>
            <a:ext cx="720720" cy="647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组合 43"/>
          <p:cNvGrpSpPr/>
          <p:nvPr/>
        </p:nvGrpSpPr>
        <p:grpSpPr>
          <a:xfrm>
            <a:off x="5192640" y="1576440"/>
            <a:ext cx="647640" cy="1182240"/>
            <a:chOff x="5192640" y="1576440"/>
            <a:chExt cx="647640" cy="1182240"/>
          </a:xfrm>
        </p:grpSpPr>
        <p:sp>
          <p:nvSpPr>
            <p:cNvPr id="599" name="TextBox 8"/>
            <p:cNvSpPr/>
            <p:nvPr/>
          </p:nvSpPr>
          <p:spPr>
            <a:xfrm>
              <a:off x="5193360" y="2119320"/>
              <a:ext cx="64692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8"/>
            <p:cNvSpPr/>
            <p:nvPr/>
          </p:nvSpPr>
          <p:spPr>
            <a:xfrm>
              <a:off x="5192640" y="1576440"/>
              <a:ext cx="576000" cy="627840"/>
            </a:xfrm>
            <a:custGeom>
              <a:avLst/>
              <a:gdLst>
                <a:gd name="textAreaLeft" fmla="*/ 53640 w 576000"/>
                <a:gd name="textAreaRight" fmla="*/ 522360 w 576000"/>
                <a:gd name="textAreaTop" fmla="*/ 53640 h 627840"/>
                <a:gd name="textAreaBottom" fmla="*/ 574200 h 627840"/>
              </a:gdLst>
              <a:ahLst/>
              <a:rect l="textAreaLeft" t="textAreaTop" r="textAreaRight" b="textAreaBottom"/>
              <a:pathLst>
                <a:path w="21600" h="23543">
                  <a:moveTo>
                    <a:pt x="6866" y="0"/>
                  </a:moveTo>
                  <a:arcTo wR="6866" hR="6866" stAng="16200000" swAng="-5400000"/>
                  <a:lnTo>
                    <a:pt x="0" y="16677"/>
                  </a:lnTo>
                  <a:arcTo wR="6866" hR="6866" stAng="10800000" swAng="-5400000"/>
                  <a:lnTo>
                    <a:pt x="14734" y="2354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72"/>
            <p:cNvSpPr/>
            <p:nvPr/>
          </p:nvSpPr>
          <p:spPr>
            <a:xfrm>
              <a:off x="5194080" y="2182680"/>
              <a:ext cx="50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43"/>
          <p:cNvGrpSpPr/>
          <p:nvPr/>
        </p:nvGrpSpPr>
        <p:grpSpPr>
          <a:xfrm>
            <a:off x="2666880" y="3479760"/>
            <a:ext cx="648000" cy="1137960"/>
            <a:chOff x="2666880" y="3479760"/>
            <a:chExt cx="648000" cy="1137960"/>
          </a:xfrm>
        </p:grpSpPr>
        <p:sp>
          <p:nvSpPr>
            <p:cNvPr id="603" name="TextBox 8"/>
            <p:cNvSpPr/>
            <p:nvPr/>
          </p:nvSpPr>
          <p:spPr>
            <a:xfrm>
              <a:off x="2666880" y="3479760"/>
              <a:ext cx="576360" cy="627840"/>
            </a:xfrm>
            <a:custGeom>
              <a:avLst/>
              <a:gdLst>
                <a:gd name="textAreaLeft" fmla="*/ 53640 w 576360"/>
                <a:gd name="textAreaRight" fmla="*/ 522720 w 576360"/>
                <a:gd name="textAreaTop" fmla="*/ 53640 h 627840"/>
                <a:gd name="textAreaBottom" fmla="*/ 574200 h 627840"/>
              </a:gdLst>
              <a:ahLst/>
              <a:rect l="textAreaLeft" t="textAreaTop" r="textAreaRight" b="textAreaBottom"/>
              <a:pathLst>
                <a:path w="21600" h="23528">
                  <a:moveTo>
                    <a:pt x="6866" y="0"/>
                  </a:moveTo>
                  <a:arcTo wR="6866" hR="6866" stAng="16200000" swAng="-5400000"/>
                  <a:lnTo>
                    <a:pt x="0" y="16662"/>
                  </a:lnTo>
                  <a:arcTo wR="6866" hR="6866" stAng="10800000" swAng="-5400000"/>
                  <a:lnTo>
                    <a:pt x="14734" y="23528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直接连接符 35"/>
            <p:cNvSpPr/>
            <p:nvPr/>
          </p:nvSpPr>
          <p:spPr>
            <a:xfrm>
              <a:off x="2668320" y="4086360"/>
              <a:ext cx="50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8"/>
            <p:cNvSpPr/>
            <p:nvPr/>
          </p:nvSpPr>
          <p:spPr>
            <a:xfrm>
              <a:off x="2667600" y="3978360"/>
              <a:ext cx="64728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TextBox 8"/>
          <p:cNvSpPr/>
          <p:nvPr/>
        </p:nvSpPr>
        <p:spPr>
          <a:xfrm>
            <a:off x="4046400" y="1906560"/>
            <a:ext cx="3240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38"/>
          <p:cNvGrpSpPr/>
          <p:nvPr/>
        </p:nvGrpSpPr>
        <p:grpSpPr>
          <a:xfrm>
            <a:off x="938160" y="2692440"/>
            <a:ext cx="7705800" cy="1142640"/>
            <a:chOff x="938160" y="2692440"/>
            <a:chExt cx="7705800" cy="1142640"/>
          </a:xfrm>
        </p:grpSpPr>
        <p:sp>
          <p:nvSpPr>
            <p:cNvPr id="608" name="TextBox 8"/>
            <p:cNvSpPr/>
            <p:nvPr/>
          </p:nvSpPr>
          <p:spPr>
            <a:xfrm>
              <a:off x="938160" y="2939760"/>
              <a:ext cx="770580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方法二：把    和    化成分子相同的分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9" name="组合 43"/>
            <p:cNvGrpSpPr/>
            <p:nvPr/>
          </p:nvGrpSpPr>
          <p:grpSpPr>
            <a:xfrm>
              <a:off x="3007080" y="2692440"/>
              <a:ext cx="647640" cy="1142640"/>
              <a:chOff x="3007080" y="2692440"/>
              <a:chExt cx="647640" cy="1142640"/>
            </a:xfrm>
          </p:grpSpPr>
          <p:sp>
            <p:nvSpPr>
              <p:cNvPr id="610" name="TextBox 8"/>
              <p:cNvSpPr/>
              <p:nvPr/>
            </p:nvSpPr>
            <p:spPr>
              <a:xfrm>
                <a:off x="3007080" y="2692440"/>
                <a:ext cx="576000" cy="627840"/>
              </a:xfrm>
              <a:custGeom>
                <a:avLst/>
                <a:gdLst>
                  <a:gd name="textAreaLeft" fmla="*/ 53640 w 576000"/>
                  <a:gd name="textAreaRight" fmla="*/ 522360 w 576000"/>
                  <a:gd name="textAreaTop" fmla="*/ 53640 h 627840"/>
                  <a:gd name="textAreaBottom" fmla="*/ 574200 h 627840"/>
                </a:gdLst>
                <a:ahLst/>
                <a:rect l="textAreaLeft" t="textAreaTop" r="textAreaRight" b="textAreaBottom"/>
                <a:pathLst>
                  <a:path w="21600" h="23543">
                    <a:moveTo>
                      <a:pt x="6866" y="0"/>
                    </a:moveTo>
                    <a:arcTo wR="6866" hR="6866" stAng="16200000" swAng="-5400000"/>
                    <a:lnTo>
                      <a:pt x="0" y="16677"/>
                    </a:lnTo>
                    <a:arcTo wR="6866" hR="6866" stAng="10800000" swAng="-5400000"/>
                    <a:lnTo>
                      <a:pt x="14734" y="23543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直接连接符 46"/>
              <p:cNvSpPr/>
              <p:nvPr/>
            </p:nvSpPr>
            <p:spPr>
              <a:xfrm>
                <a:off x="3007800" y="3273480"/>
                <a:ext cx="501480" cy="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Box 8"/>
              <p:cNvSpPr/>
              <p:nvPr/>
            </p:nvSpPr>
            <p:spPr>
              <a:xfrm>
                <a:off x="3007800" y="3195720"/>
                <a:ext cx="6469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组合 43"/>
            <p:cNvGrpSpPr/>
            <p:nvPr/>
          </p:nvGrpSpPr>
          <p:grpSpPr>
            <a:xfrm>
              <a:off x="4026960" y="2692440"/>
              <a:ext cx="647640" cy="1142640"/>
              <a:chOff x="4026960" y="2692440"/>
              <a:chExt cx="647640" cy="1142640"/>
            </a:xfrm>
          </p:grpSpPr>
          <p:sp>
            <p:nvSpPr>
              <p:cNvPr id="614" name="TextBox 8"/>
              <p:cNvSpPr/>
              <p:nvPr/>
            </p:nvSpPr>
            <p:spPr>
              <a:xfrm>
                <a:off x="4026960" y="2692440"/>
                <a:ext cx="576000" cy="627840"/>
              </a:xfrm>
              <a:custGeom>
                <a:avLst/>
                <a:gdLst>
                  <a:gd name="textAreaLeft" fmla="*/ 53640 w 576000"/>
                  <a:gd name="textAreaRight" fmla="*/ 522360 w 576000"/>
                  <a:gd name="textAreaTop" fmla="*/ 53640 h 627840"/>
                  <a:gd name="textAreaBottom" fmla="*/ 574200 h 627840"/>
                </a:gdLst>
                <a:ahLst/>
                <a:rect l="textAreaLeft" t="textAreaTop" r="textAreaRight" b="textAreaBottom"/>
                <a:pathLst>
                  <a:path w="21600" h="23543">
                    <a:moveTo>
                      <a:pt x="6866" y="0"/>
                    </a:moveTo>
                    <a:arcTo wR="6866" hR="6866" stAng="16200000" swAng="-5400000"/>
                    <a:lnTo>
                      <a:pt x="0" y="16677"/>
                    </a:lnTo>
                    <a:arcTo wR="6866" hR="6866" stAng="10800000" swAng="-5400000"/>
                    <a:lnTo>
                      <a:pt x="14734" y="23543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直接连接符 43"/>
              <p:cNvSpPr/>
              <p:nvPr/>
            </p:nvSpPr>
            <p:spPr>
              <a:xfrm>
                <a:off x="4029120" y="3273480"/>
                <a:ext cx="501480" cy="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Box 8"/>
              <p:cNvSpPr/>
              <p:nvPr/>
            </p:nvSpPr>
            <p:spPr>
              <a:xfrm>
                <a:off x="4027680" y="3195720"/>
                <a:ext cx="6469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Group 6"/>
          <p:cNvGrpSpPr/>
          <p:nvPr/>
        </p:nvGrpSpPr>
        <p:grpSpPr>
          <a:xfrm>
            <a:off x="3243600" y="3616200"/>
            <a:ext cx="1234440" cy="947160"/>
            <a:chOff x="3243600" y="3616200"/>
            <a:chExt cx="1234440" cy="947160"/>
          </a:xfrm>
        </p:grpSpPr>
        <p:grpSp>
          <p:nvGrpSpPr>
            <p:cNvPr id="618" name="Group 7"/>
            <p:cNvGrpSpPr/>
            <p:nvPr/>
          </p:nvGrpSpPr>
          <p:grpSpPr>
            <a:xfrm>
              <a:off x="3623760" y="3616200"/>
              <a:ext cx="854280" cy="947160"/>
              <a:chOff x="3623760" y="3616200"/>
              <a:chExt cx="854280" cy="947160"/>
            </a:xfrm>
          </p:grpSpPr>
          <p:sp>
            <p:nvSpPr>
              <p:cNvPr id="619" name="Rectangle 8"/>
              <p:cNvSpPr/>
              <p:nvPr/>
            </p:nvSpPr>
            <p:spPr>
              <a:xfrm>
                <a:off x="3623760" y="3616200"/>
                <a:ext cx="820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×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×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9"/>
              <p:cNvSpPr/>
              <p:nvPr/>
            </p:nvSpPr>
            <p:spPr>
              <a:xfrm>
                <a:off x="3688920" y="4093920"/>
                <a:ext cx="789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Rectangle 10"/>
            <p:cNvSpPr/>
            <p:nvPr/>
          </p:nvSpPr>
          <p:spPr>
            <a:xfrm>
              <a:off x="3243600" y="378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6"/>
          <p:cNvGrpSpPr/>
          <p:nvPr/>
        </p:nvGrpSpPr>
        <p:grpSpPr>
          <a:xfrm>
            <a:off x="4557960" y="3616200"/>
            <a:ext cx="1041120" cy="947160"/>
            <a:chOff x="4557960" y="3616200"/>
            <a:chExt cx="1041120" cy="947160"/>
          </a:xfrm>
        </p:grpSpPr>
        <p:grpSp>
          <p:nvGrpSpPr>
            <p:cNvPr id="623" name="Group 7"/>
            <p:cNvGrpSpPr/>
            <p:nvPr/>
          </p:nvGrpSpPr>
          <p:grpSpPr>
            <a:xfrm>
              <a:off x="4991760" y="3616200"/>
              <a:ext cx="607320" cy="947160"/>
              <a:chOff x="4991760" y="3616200"/>
              <a:chExt cx="607320" cy="947160"/>
            </a:xfrm>
          </p:grpSpPr>
          <p:sp>
            <p:nvSpPr>
              <p:cNvPr id="624" name="Rectangle 8"/>
              <p:cNvSpPr/>
              <p:nvPr/>
            </p:nvSpPr>
            <p:spPr>
              <a:xfrm>
                <a:off x="4991760" y="361620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9"/>
              <p:cNvSpPr/>
              <p:nvPr/>
            </p:nvSpPr>
            <p:spPr>
              <a:xfrm>
                <a:off x="5043600" y="4089240"/>
                <a:ext cx="542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Rectangle 10"/>
            <p:cNvSpPr/>
            <p:nvPr/>
          </p:nvSpPr>
          <p:spPr>
            <a:xfrm>
              <a:off x="4557960" y="378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70"/>
          <p:cNvGrpSpPr/>
          <p:nvPr/>
        </p:nvGrpSpPr>
        <p:grpSpPr>
          <a:xfrm>
            <a:off x="3143160" y="4357800"/>
            <a:ext cx="2136960" cy="1186560"/>
            <a:chOff x="3143160" y="4357800"/>
            <a:chExt cx="2136960" cy="1186560"/>
          </a:xfrm>
        </p:grpSpPr>
        <p:grpSp>
          <p:nvGrpSpPr>
            <p:cNvPr id="628" name="组合 43"/>
            <p:cNvGrpSpPr/>
            <p:nvPr/>
          </p:nvGrpSpPr>
          <p:grpSpPr>
            <a:xfrm>
              <a:off x="3143160" y="4362480"/>
              <a:ext cx="935280" cy="1181880"/>
              <a:chOff x="3143160" y="4362480"/>
              <a:chExt cx="935280" cy="1181880"/>
            </a:xfrm>
          </p:grpSpPr>
          <p:sp>
            <p:nvSpPr>
              <p:cNvPr id="629" name="TextBox 8"/>
              <p:cNvSpPr/>
              <p:nvPr/>
            </p:nvSpPr>
            <p:spPr>
              <a:xfrm>
                <a:off x="3143160" y="4905000"/>
                <a:ext cx="93528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TextBox 8"/>
              <p:cNvSpPr/>
              <p:nvPr/>
            </p:nvSpPr>
            <p:spPr>
              <a:xfrm>
                <a:off x="3287160" y="4362480"/>
                <a:ext cx="575640" cy="627120"/>
              </a:xfrm>
              <a:custGeom>
                <a:avLst/>
                <a:gdLst>
                  <a:gd name="textAreaLeft" fmla="*/ 53280 w 575640"/>
                  <a:gd name="textAreaRight" fmla="*/ 522360 w 575640"/>
                  <a:gd name="textAreaTop" fmla="*/ 53280 h 627120"/>
                  <a:gd name="textAreaBottom" fmla="*/ 573840 h 627120"/>
                </a:gdLst>
                <a:ahLst/>
                <a:rect l="textAreaLeft" t="textAreaTop" r="textAreaRight" b="textAreaBottom"/>
                <a:pathLst>
                  <a:path w="21600" h="23531">
                    <a:moveTo>
                      <a:pt x="6866" y="0"/>
                    </a:moveTo>
                    <a:arcTo wR="6866" hR="6866" stAng="16200000" swAng="-5400000"/>
                    <a:lnTo>
                      <a:pt x="0" y="16665"/>
                    </a:lnTo>
                    <a:arcTo wR="6866" hR="6866" stAng="10800000" swAng="-5400000"/>
                    <a:lnTo>
                      <a:pt x="14734" y="23531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直接连接符 74"/>
              <p:cNvSpPr/>
              <p:nvPr/>
            </p:nvSpPr>
            <p:spPr>
              <a:xfrm>
                <a:off x="3288960" y="4968720"/>
                <a:ext cx="500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TextBox 8"/>
            <p:cNvSpPr/>
            <p:nvPr/>
          </p:nvSpPr>
          <p:spPr>
            <a:xfrm>
              <a:off x="3719160" y="4583880"/>
              <a:ext cx="107964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组合 43"/>
            <p:cNvGrpSpPr/>
            <p:nvPr/>
          </p:nvGrpSpPr>
          <p:grpSpPr>
            <a:xfrm>
              <a:off x="4344480" y="4357800"/>
              <a:ext cx="935640" cy="1181520"/>
              <a:chOff x="4344480" y="4357800"/>
              <a:chExt cx="935640" cy="1181520"/>
            </a:xfrm>
          </p:grpSpPr>
          <p:sp>
            <p:nvSpPr>
              <p:cNvPr id="634" name="TextBox 8"/>
              <p:cNvSpPr/>
              <p:nvPr/>
            </p:nvSpPr>
            <p:spPr>
              <a:xfrm>
                <a:off x="4344480" y="4899960"/>
                <a:ext cx="93564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Box 8"/>
              <p:cNvSpPr/>
              <p:nvPr/>
            </p:nvSpPr>
            <p:spPr>
              <a:xfrm>
                <a:off x="4366800" y="4357800"/>
                <a:ext cx="575640" cy="627120"/>
              </a:xfrm>
              <a:custGeom>
                <a:avLst/>
                <a:gdLst>
                  <a:gd name="textAreaLeft" fmla="*/ 53280 w 575640"/>
                  <a:gd name="textAreaRight" fmla="*/ 522360 w 575640"/>
                  <a:gd name="textAreaTop" fmla="*/ 53280 h 627120"/>
                  <a:gd name="textAreaBottom" fmla="*/ 573840 h 627120"/>
                </a:gdLst>
                <a:ahLst/>
                <a:rect l="textAreaLeft" t="textAreaTop" r="textAreaRight" b="textAreaBottom"/>
                <a:pathLst>
                  <a:path w="21600" h="23531">
                    <a:moveTo>
                      <a:pt x="6866" y="0"/>
                    </a:moveTo>
                    <a:arcTo wR="6866" hR="6866" stAng="16200000" swAng="-5400000"/>
                    <a:lnTo>
                      <a:pt x="0" y="16665"/>
                    </a:lnTo>
                    <a:arcTo wR="6866" hR="6866" stAng="10800000" swAng="-5400000"/>
                    <a:lnTo>
                      <a:pt x="14734" y="23531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直接连接符 64"/>
              <p:cNvSpPr/>
              <p:nvPr/>
            </p:nvSpPr>
            <p:spPr>
              <a:xfrm>
                <a:off x="4368960" y="4964400"/>
                <a:ext cx="501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7" name="组合 38"/>
          <p:cNvGrpSpPr/>
          <p:nvPr/>
        </p:nvGrpSpPr>
        <p:grpSpPr>
          <a:xfrm>
            <a:off x="866880" y="5286240"/>
            <a:ext cx="7705800" cy="981000"/>
            <a:chOff x="866880" y="5286240"/>
            <a:chExt cx="7705800" cy="981000"/>
          </a:xfrm>
        </p:grpSpPr>
        <p:sp>
          <p:nvSpPr>
            <p:cNvPr id="638" name="TextBox 8"/>
            <p:cNvSpPr/>
            <p:nvPr/>
          </p:nvSpPr>
          <p:spPr>
            <a:xfrm>
              <a:off x="866880" y="5438520"/>
              <a:ext cx="770580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方法三：把    和    化成分母相同的分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组合 43"/>
            <p:cNvGrpSpPr/>
            <p:nvPr/>
          </p:nvGrpSpPr>
          <p:grpSpPr>
            <a:xfrm>
              <a:off x="2935800" y="5286240"/>
              <a:ext cx="647640" cy="981000"/>
              <a:chOff x="2935800" y="5286240"/>
              <a:chExt cx="647640" cy="981000"/>
            </a:xfrm>
          </p:grpSpPr>
          <p:sp>
            <p:nvSpPr>
              <p:cNvPr id="640" name="TextBox 8"/>
              <p:cNvSpPr/>
              <p:nvPr/>
            </p:nvSpPr>
            <p:spPr>
              <a:xfrm>
                <a:off x="2935800" y="5286240"/>
                <a:ext cx="576000" cy="627840"/>
              </a:xfrm>
              <a:custGeom>
                <a:avLst/>
                <a:gdLst>
                  <a:gd name="textAreaLeft" fmla="*/ 53640 w 576000"/>
                  <a:gd name="textAreaRight" fmla="*/ 522360 w 576000"/>
                  <a:gd name="textAreaTop" fmla="*/ 53640 h 627840"/>
                  <a:gd name="textAreaBottom" fmla="*/ 574200 h 627840"/>
                </a:gdLst>
                <a:ahLst/>
                <a:rect l="textAreaLeft" t="textAreaTop" r="textAreaRight" b="textAreaBottom"/>
                <a:pathLst>
                  <a:path w="21600" h="23543">
                    <a:moveTo>
                      <a:pt x="6866" y="0"/>
                    </a:moveTo>
                    <a:arcTo wR="6866" hR="6866" stAng="16200000" swAng="-5400000"/>
                    <a:lnTo>
                      <a:pt x="0" y="16677"/>
                    </a:lnTo>
                    <a:arcTo wR="6866" hR="6866" stAng="10800000" swAng="-5400000"/>
                    <a:lnTo>
                      <a:pt x="14734" y="23543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直接连接符 101"/>
              <p:cNvSpPr/>
              <p:nvPr/>
            </p:nvSpPr>
            <p:spPr>
              <a:xfrm>
                <a:off x="2936520" y="5772240"/>
                <a:ext cx="501480" cy="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Box 8"/>
              <p:cNvSpPr/>
              <p:nvPr/>
            </p:nvSpPr>
            <p:spPr>
              <a:xfrm>
                <a:off x="2936520" y="5627880"/>
                <a:ext cx="6469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43"/>
            <p:cNvGrpSpPr/>
            <p:nvPr/>
          </p:nvGrpSpPr>
          <p:grpSpPr>
            <a:xfrm>
              <a:off x="3955680" y="5286240"/>
              <a:ext cx="647640" cy="981000"/>
              <a:chOff x="3955680" y="5286240"/>
              <a:chExt cx="647640" cy="981000"/>
            </a:xfrm>
          </p:grpSpPr>
          <p:sp>
            <p:nvSpPr>
              <p:cNvPr id="644" name="TextBox 8"/>
              <p:cNvSpPr/>
              <p:nvPr/>
            </p:nvSpPr>
            <p:spPr>
              <a:xfrm>
                <a:off x="3956400" y="5627880"/>
                <a:ext cx="6469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TextBox 8"/>
              <p:cNvSpPr/>
              <p:nvPr/>
            </p:nvSpPr>
            <p:spPr>
              <a:xfrm>
                <a:off x="3955680" y="5286240"/>
                <a:ext cx="576000" cy="627840"/>
              </a:xfrm>
              <a:custGeom>
                <a:avLst/>
                <a:gdLst>
                  <a:gd name="textAreaLeft" fmla="*/ 53640 w 576000"/>
                  <a:gd name="textAreaRight" fmla="*/ 522360 w 576000"/>
                  <a:gd name="textAreaTop" fmla="*/ 53640 h 627840"/>
                  <a:gd name="textAreaBottom" fmla="*/ 574200 h 627840"/>
                </a:gdLst>
                <a:ahLst/>
                <a:rect l="textAreaLeft" t="textAreaTop" r="textAreaRight" b="textAreaBottom"/>
                <a:pathLst>
                  <a:path w="21600" h="23543">
                    <a:moveTo>
                      <a:pt x="6866" y="0"/>
                    </a:moveTo>
                    <a:arcTo wR="6866" hR="6866" stAng="16200000" swAng="-5400000"/>
                    <a:lnTo>
                      <a:pt x="0" y="16677"/>
                    </a:lnTo>
                    <a:arcTo wR="6866" hR="6866" stAng="10800000" swAng="-5400000"/>
                    <a:lnTo>
                      <a:pt x="14734" y="23543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直接连接符 88"/>
              <p:cNvSpPr/>
              <p:nvPr/>
            </p:nvSpPr>
            <p:spPr>
              <a:xfrm>
                <a:off x="3957840" y="5772240"/>
                <a:ext cx="501480" cy="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8"/>
          <p:cNvSpPr/>
          <p:nvPr/>
        </p:nvSpPr>
        <p:spPr>
          <a:xfrm>
            <a:off x="1071720" y="928800"/>
            <a:ext cx="40719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还有哪些比较方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91"/>
          <p:cNvSpPr/>
          <p:nvPr/>
        </p:nvSpPr>
        <p:spPr>
          <a:xfrm>
            <a:off x="2714760" y="380988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为        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07"/>
          <p:cNvGrpSpPr/>
          <p:nvPr/>
        </p:nvGrpSpPr>
        <p:grpSpPr>
          <a:xfrm>
            <a:off x="5538960" y="3666960"/>
            <a:ext cx="807840" cy="936360"/>
            <a:chOff x="5538960" y="3666960"/>
            <a:chExt cx="807840" cy="936360"/>
          </a:xfrm>
        </p:grpSpPr>
        <p:sp>
          <p:nvSpPr>
            <p:cNvPr id="650" name="Text Box 108"/>
            <p:cNvSpPr/>
            <p:nvPr/>
          </p:nvSpPr>
          <p:spPr>
            <a:xfrm>
              <a:off x="5538960" y="3666960"/>
              <a:ext cx="80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109"/>
            <p:cNvSpPr/>
            <p:nvPr/>
          </p:nvSpPr>
          <p:spPr>
            <a:xfrm>
              <a:off x="5538960" y="4082760"/>
              <a:ext cx="68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10"/>
            <p:cNvSpPr/>
            <p:nvPr/>
          </p:nvSpPr>
          <p:spPr>
            <a:xfrm>
              <a:off x="5595840" y="4154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107"/>
          <p:cNvGrpSpPr/>
          <p:nvPr/>
        </p:nvGrpSpPr>
        <p:grpSpPr>
          <a:xfrm>
            <a:off x="3714840" y="3666960"/>
            <a:ext cx="823320" cy="936360"/>
            <a:chOff x="3714840" y="3666960"/>
            <a:chExt cx="823320" cy="936360"/>
          </a:xfrm>
        </p:grpSpPr>
        <p:sp>
          <p:nvSpPr>
            <p:cNvPr id="654" name="Text Box 108"/>
            <p:cNvSpPr/>
            <p:nvPr/>
          </p:nvSpPr>
          <p:spPr>
            <a:xfrm>
              <a:off x="3730680" y="3666960"/>
              <a:ext cx="80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109"/>
            <p:cNvSpPr/>
            <p:nvPr/>
          </p:nvSpPr>
          <p:spPr>
            <a:xfrm>
              <a:off x="3730680" y="4082760"/>
              <a:ext cx="68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110"/>
            <p:cNvSpPr/>
            <p:nvPr/>
          </p:nvSpPr>
          <p:spPr>
            <a:xfrm>
              <a:off x="3714840" y="4154400"/>
              <a:ext cx="39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107"/>
          <p:cNvGrpSpPr/>
          <p:nvPr/>
        </p:nvGrpSpPr>
        <p:grpSpPr>
          <a:xfrm>
            <a:off x="4681440" y="3643200"/>
            <a:ext cx="824040" cy="936360"/>
            <a:chOff x="4681440" y="3643200"/>
            <a:chExt cx="824040" cy="936360"/>
          </a:xfrm>
        </p:grpSpPr>
        <p:sp>
          <p:nvSpPr>
            <p:cNvPr id="658" name="Text Box 108"/>
            <p:cNvSpPr/>
            <p:nvPr/>
          </p:nvSpPr>
          <p:spPr>
            <a:xfrm>
              <a:off x="4697640" y="3643200"/>
              <a:ext cx="80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109"/>
            <p:cNvSpPr/>
            <p:nvPr/>
          </p:nvSpPr>
          <p:spPr>
            <a:xfrm>
              <a:off x="4697640" y="4059000"/>
              <a:ext cx="68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10"/>
            <p:cNvSpPr/>
            <p:nvPr/>
          </p:nvSpPr>
          <p:spPr>
            <a:xfrm>
              <a:off x="4681440" y="413064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Box 104"/>
          <p:cNvSpPr/>
          <p:nvPr/>
        </p:nvSpPr>
        <p:spPr>
          <a:xfrm>
            <a:off x="4110120" y="38685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05"/>
          <p:cNvSpPr/>
          <p:nvPr/>
        </p:nvSpPr>
        <p:spPr>
          <a:xfrm>
            <a:off x="5110200" y="38685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06"/>
          <p:cNvSpPr/>
          <p:nvPr/>
        </p:nvSpPr>
        <p:spPr>
          <a:xfrm>
            <a:off x="2714760" y="459576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以       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107"/>
          <p:cNvGrpSpPr/>
          <p:nvPr/>
        </p:nvGrpSpPr>
        <p:grpSpPr>
          <a:xfrm>
            <a:off x="5516640" y="4452840"/>
            <a:ext cx="522360" cy="936360"/>
            <a:chOff x="5516640" y="4452840"/>
            <a:chExt cx="522360" cy="936360"/>
          </a:xfrm>
        </p:grpSpPr>
        <p:sp>
          <p:nvSpPr>
            <p:cNvPr id="665" name="Text Box 108"/>
            <p:cNvSpPr/>
            <p:nvPr/>
          </p:nvSpPr>
          <p:spPr>
            <a:xfrm>
              <a:off x="5516640" y="4452840"/>
              <a:ext cx="3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109"/>
            <p:cNvSpPr/>
            <p:nvPr/>
          </p:nvSpPr>
          <p:spPr>
            <a:xfrm>
              <a:off x="5516640" y="4868640"/>
              <a:ext cx="5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10"/>
            <p:cNvSpPr/>
            <p:nvPr/>
          </p:nvSpPr>
          <p:spPr>
            <a:xfrm>
              <a:off x="5538960" y="4940280"/>
              <a:ext cx="32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107"/>
          <p:cNvGrpSpPr/>
          <p:nvPr/>
        </p:nvGrpSpPr>
        <p:grpSpPr>
          <a:xfrm>
            <a:off x="3659040" y="4452840"/>
            <a:ext cx="488880" cy="936360"/>
            <a:chOff x="3659040" y="4452840"/>
            <a:chExt cx="488880" cy="936360"/>
          </a:xfrm>
        </p:grpSpPr>
        <p:sp>
          <p:nvSpPr>
            <p:cNvPr id="669" name="Text Box 108"/>
            <p:cNvSpPr/>
            <p:nvPr/>
          </p:nvSpPr>
          <p:spPr>
            <a:xfrm>
              <a:off x="3659040" y="4452840"/>
              <a:ext cx="48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09"/>
            <p:cNvSpPr/>
            <p:nvPr/>
          </p:nvSpPr>
          <p:spPr>
            <a:xfrm>
              <a:off x="3659040" y="486864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110"/>
            <p:cNvSpPr/>
            <p:nvPr/>
          </p:nvSpPr>
          <p:spPr>
            <a:xfrm>
              <a:off x="3681360" y="4940280"/>
              <a:ext cx="32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107"/>
          <p:cNvGrpSpPr/>
          <p:nvPr/>
        </p:nvGrpSpPr>
        <p:grpSpPr>
          <a:xfrm>
            <a:off x="4538520" y="4452840"/>
            <a:ext cx="466560" cy="936360"/>
            <a:chOff x="4538520" y="4452840"/>
            <a:chExt cx="466560" cy="936360"/>
          </a:xfrm>
        </p:grpSpPr>
        <p:sp>
          <p:nvSpPr>
            <p:cNvPr id="673" name="Text Box 108"/>
            <p:cNvSpPr/>
            <p:nvPr/>
          </p:nvSpPr>
          <p:spPr>
            <a:xfrm>
              <a:off x="4554360" y="445284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109"/>
            <p:cNvSpPr/>
            <p:nvPr/>
          </p:nvSpPr>
          <p:spPr>
            <a:xfrm>
              <a:off x="4554360" y="486864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10"/>
            <p:cNvSpPr/>
            <p:nvPr/>
          </p:nvSpPr>
          <p:spPr>
            <a:xfrm>
              <a:off x="4538520" y="4940280"/>
              <a:ext cx="3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TextBox 119"/>
          <p:cNvSpPr/>
          <p:nvPr/>
        </p:nvSpPr>
        <p:spPr>
          <a:xfrm>
            <a:off x="3967200" y="46656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20"/>
          <p:cNvSpPr/>
          <p:nvPr/>
        </p:nvSpPr>
        <p:spPr>
          <a:xfrm>
            <a:off x="4967280" y="46656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Object 2"/>
          <p:cNvGraphicFramePr/>
          <p:nvPr/>
        </p:nvGraphicFramePr>
        <p:xfrm>
          <a:off x="1571760" y="2571840"/>
          <a:ext cx="185724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2571840"/>
                    <a:ext cx="185724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Object 3"/>
          <p:cNvGraphicFramePr/>
          <p:nvPr/>
        </p:nvGraphicFramePr>
        <p:xfrm>
          <a:off x="3817800" y="2538360"/>
          <a:ext cx="196848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7800" y="2538360"/>
                    <a:ext cx="19684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Object 4"/>
          <p:cNvGraphicFramePr/>
          <p:nvPr/>
        </p:nvGraphicFramePr>
        <p:xfrm>
          <a:off x="5992920" y="2500200"/>
          <a:ext cx="209232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92920" y="2500200"/>
                    <a:ext cx="20923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4" name="组合 126"/>
          <p:cNvGrpSpPr/>
          <p:nvPr/>
        </p:nvGrpSpPr>
        <p:grpSpPr>
          <a:xfrm>
            <a:off x="1785960" y="1496880"/>
            <a:ext cx="6429240" cy="1003320"/>
            <a:chOff x="1785960" y="1496880"/>
            <a:chExt cx="6429240" cy="1003320"/>
          </a:xfrm>
        </p:grpSpPr>
        <p:sp>
          <p:nvSpPr>
            <p:cNvPr id="685" name="TextBox 124"/>
            <p:cNvSpPr/>
            <p:nvPr/>
          </p:nvSpPr>
          <p:spPr>
            <a:xfrm>
              <a:off x="1785960" y="1711080"/>
              <a:ext cx="642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方法四：如：比较          大小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86" name="Object 25"/>
            <p:cNvGraphicFramePr/>
            <p:nvPr/>
          </p:nvGraphicFramePr>
          <p:xfrm>
            <a:off x="4660920" y="1496880"/>
            <a:ext cx="1911240" cy="1003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87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60920" y="1496880"/>
                      <a:ext cx="1911240" cy="10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88" name="TextBox 8"/>
          <p:cNvSpPr/>
          <p:nvPr/>
        </p:nvSpPr>
        <p:spPr>
          <a:xfrm>
            <a:off x="1571760" y="5357880"/>
            <a:ext cx="40719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如何评价这种方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Box 3"/>
          <p:cNvSpPr/>
          <p:nvPr/>
        </p:nvSpPr>
        <p:spPr>
          <a:xfrm>
            <a:off x="571680" y="107172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较下面各组分数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0" name="Object 5"/>
          <p:cNvGraphicFramePr/>
          <p:nvPr/>
        </p:nvGraphicFramePr>
        <p:xfrm>
          <a:off x="2857680" y="1925640"/>
          <a:ext cx="13269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1925640"/>
                    <a:ext cx="1326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2" name="Object 6"/>
          <p:cNvGraphicFramePr/>
          <p:nvPr/>
        </p:nvGraphicFramePr>
        <p:xfrm>
          <a:off x="4654440" y="1928880"/>
          <a:ext cx="136548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4440" y="1928880"/>
                    <a:ext cx="1365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TextBox 6"/>
          <p:cNvSpPr/>
          <p:nvPr/>
        </p:nvSpPr>
        <p:spPr>
          <a:xfrm>
            <a:off x="3214800" y="221472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7"/>
          <p:cNvSpPr/>
          <p:nvPr/>
        </p:nvSpPr>
        <p:spPr>
          <a:xfrm>
            <a:off x="5072040" y="221472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Object 7"/>
          <p:cNvGraphicFramePr/>
          <p:nvPr/>
        </p:nvGraphicFramePr>
        <p:xfrm>
          <a:off x="2857680" y="3286080"/>
          <a:ext cx="136332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286080"/>
                    <a:ext cx="1363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Object 8"/>
          <p:cNvGraphicFramePr/>
          <p:nvPr/>
        </p:nvGraphicFramePr>
        <p:xfrm>
          <a:off x="4660920" y="3289320"/>
          <a:ext cx="1735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0920" y="3289320"/>
                    <a:ext cx="173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TextBox 10"/>
          <p:cNvSpPr/>
          <p:nvPr/>
        </p:nvSpPr>
        <p:spPr>
          <a:xfrm>
            <a:off x="3232080" y="357516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1"/>
          <p:cNvSpPr/>
          <p:nvPr/>
        </p:nvSpPr>
        <p:spPr>
          <a:xfrm>
            <a:off x="5232240" y="357192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Box 3"/>
          <p:cNvSpPr/>
          <p:nvPr/>
        </p:nvSpPr>
        <p:spPr>
          <a:xfrm>
            <a:off x="357120" y="12621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各组分数分别按照从小到大的顺序排列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3" name="Object 4"/>
          <p:cNvGraphicFramePr/>
          <p:nvPr/>
        </p:nvGraphicFramePr>
        <p:xfrm>
          <a:off x="1285920" y="2214720"/>
          <a:ext cx="123012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214720"/>
                    <a:ext cx="12301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Object 5"/>
          <p:cNvGraphicFramePr/>
          <p:nvPr/>
        </p:nvGraphicFramePr>
        <p:xfrm>
          <a:off x="1000080" y="3568680"/>
          <a:ext cx="171468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3568680"/>
                    <a:ext cx="17146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Object 6"/>
          <p:cNvGraphicFramePr/>
          <p:nvPr/>
        </p:nvGraphicFramePr>
        <p:xfrm>
          <a:off x="3525840" y="2214720"/>
          <a:ext cx="1617840" cy="100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5840" y="2214720"/>
                    <a:ext cx="16178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Object 7"/>
          <p:cNvGraphicFramePr/>
          <p:nvPr/>
        </p:nvGraphicFramePr>
        <p:xfrm>
          <a:off x="3359160" y="3568680"/>
          <a:ext cx="20700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9160" y="3568680"/>
                    <a:ext cx="20700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8"/>
          <p:cNvGraphicFramePr/>
          <p:nvPr/>
        </p:nvGraphicFramePr>
        <p:xfrm>
          <a:off x="6124680" y="2214720"/>
          <a:ext cx="1554120" cy="100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4680" y="2214720"/>
                    <a:ext cx="15541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Object 9"/>
          <p:cNvGraphicFramePr/>
          <p:nvPr/>
        </p:nvGraphicFramePr>
        <p:xfrm>
          <a:off x="6000840" y="3568680"/>
          <a:ext cx="2038320" cy="100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00840" y="3568680"/>
                    <a:ext cx="20383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4"/>
          <p:cNvSpPr/>
          <p:nvPr/>
        </p:nvSpPr>
        <p:spPr>
          <a:xfrm>
            <a:off x="1919160" y="137304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较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6" name="Object 6"/>
          <p:cNvGraphicFramePr/>
          <p:nvPr/>
        </p:nvGraphicFramePr>
        <p:xfrm>
          <a:off x="3930480" y="2286000"/>
          <a:ext cx="178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0480" y="2286000"/>
                    <a:ext cx="17812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Object 7"/>
          <p:cNvGraphicFramePr/>
          <p:nvPr/>
        </p:nvGraphicFramePr>
        <p:xfrm>
          <a:off x="3807000" y="3639960"/>
          <a:ext cx="226512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7000" y="3639960"/>
                    <a:ext cx="22651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3:17:07Z</dcterms:created>
  <dc:creator/>
  <dc:description/>
  <cp:keywords/>
  <dc:language>en-US</dc:language>
  <cp:lastModifiedBy/>
  <dcterms:modified xsi:type="dcterms:W3CDTF">2017-12-20T14:31:56Z</dcterms:modified>
  <cp:revision>1</cp:revision>
  <dc:subject/>
  <dc:title/>
</cp:coreProperties>
</file>