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28.wmf" ContentType="image/x-wmf"/>
  <Override PartName="/ppt/media/image32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7.wmf" ContentType="image/x-wmf"/>
  <Override PartName="/ppt/media/image37.wmf" ContentType="image/x-wmf"/>
  <Override PartName="/ppt/media/image13.wmf" ContentType="image/x-wmf"/>
  <Override PartName="/ppt/media/image4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EAD9-A7D2-4876-A483-AE05933D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AD4-B663-4A88-AB24-E4868017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EFA9-EA71-41BE-825C-6E588DC5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037-5454-42D4-9734-C70BF25C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8520-93B4-4E6C-BDDA-E32CFF43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B5D5-FED1-4E56-AC36-959B17C5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EC39-56AE-40B8-ADDA-FC3CE971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A2CC-3DDF-4B61-9CD3-E057247C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A9F1-3B75-4A2D-8A2A-DA6469B1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DDD8-ADC4-4E8A-B427-CA88E8B9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BC99-0EE5-40E2-AD99-62E5C5D3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3087-09C7-4F4C-A8C0-BA63904F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8574-90F2-4E3B-9712-C66059CA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A3F7-43E0-438C-A4E3-1EBECC73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2CFB-8972-42E7-8A9C-958AA689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12C1-05F7-4139-8B08-BFE93DC5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D111-1917-47E3-83FC-1252B574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A130-BEDF-4658-A1C0-A12ECA94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230-0BB3-45EB-9947-B767634F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7A3-7636-4BF4-BDD8-00873E12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1C34-92F8-4AE5-8058-D9BE56EC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0FD2-5CB7-4DB2-BD27-649A4AA8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F6D6-12C2-4749-BE42-7BF1D2A4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AB4B-7727-434D-ACE3-5AC491E9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8B96-8DFC-4648-A6C3-46FD5348820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6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6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0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0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4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5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9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9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3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3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7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7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1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1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5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5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9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9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3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3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38" name="矩形 9"/>
          <p:cNvSpPr/>
          <p:nvPr/>
        </p:nvSpPr>
        <p:spPr>
          <a:xfrm>
            <a:off x="2214720" y="2503440"/>
            <a:ext cx="5500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B93E-E9D0-4E71-834A-7D11004FA88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6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0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4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4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8" name="矩形 9"/>
          <p:cNvSpPr/>
          <p:nvPr/>
        </p:nvSpPr>
        <p:spPr>
          <a:xfrm>
            <a:off x="2214720" y="2503440"/>
            <a:ext cx="5500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9.wmf"/><Relationship Id="rId25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Box 3"/>
          <p:cNvSpPr/>
          <p:nvPr/>
        </p:nvSpPr>
        <p:spPr>
          <a:xfrm>
            <a:off x="1428840" y="17146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.9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数加减法</a:t>
            </a:r>
            <a:endParaRPr b="1" lang="en-US" sz="54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78" name="TextBox 3"/>
          <p:cNvSpPr/>
          <p:nvPr/>
        </p:nvSpPr>
        <p:spPr>
          <a:xfrm>
            <a:off x="650880" y="56988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1" lang="en-US" sz="32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矩形 4"/>
          <p:cNvSpPr/>
          <p:nvPr/>
        </p:nvSpPr>
        <p:spPr>
          <a:xfrm>
            <a:off x="755640" y="1114560"/>
            <a:ext cx="78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看图列式计算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甲、乙两队合修一条公路。没修的部分占这条公路的几分之几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pic>
        <p:nvPicPr>
          <p:cNvPr id="1014" name="Picture 9" descr=""/>
          <p:cNvPicPr/>
          <p:nvPr/>
        </p:nvPicPr>
        <p:blipFill>
          <a:blip r:embed="rId1"/>
          <a:stretch/>
        </p:blipFill>
        <p:spPr>
          <a:xfrm>
            <a:off x="3900600" y="3141720"/>
            <a:ext cx="4386240" cy="1135080"/>
          </a:xfrm>
          <a:prstGeom prst="rect">
            <a:avLst/>
          </a:prstGeom>
          <a:ln w="0">
            <a:noFill/>
          </a:ln>
        </p:spPr>
      </p:pic>
      <p:grpSp>
        <p:nvGrpSpPr>
          <p:cNvPr id="1015" name="组合 16"/>
          <p:cNvGrpSpPr/>
          <p:nvPr/>
        </p:nvGrpSpPr>
        <p:grpSpPr>
          <a:xfrm>
            <a:off x="4241880" y="2071800"/>
            <a:ext cx="3900240" cy="1125000"/>
            <a:chOff x="4241880" y="2071800"/>
            <a:chExt cx="3900240" cy="1125000"/>
          </a:xfrm>
        </p:grpSpPr>
        <p:sp>
          <p:nvSpPr>
            <p:cNvPr id="1016" name="右大括号 17"/>
            <p:cNvSpPr/>
            <p:nvPr/>
          </p:nvSpPr>
          <p:spPr>
            <a:xfrm rot="16200000">
              <a:off x="5954760" y="1009440"/>
              <a:ext cx="474120" cy="3900240"/>
            </a:xfrm>
            <a:custGeom>
              <a:avLst/>
              <a:gdLst>
                <a:gd name="textAreaLeft" fmla="*/ 0 w 474120"/>
                <a:gd name="textAreaRight" fmla="*/ 171000 w 474120"/>
                <a:gd name="textAreaTop" fmla="*/ 36720 h 3900240"/>
                <a:gd name="textAreaBottom" fmla="*/ 3863520 h 390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28"/>
                    <a:pt x="10800" y="656"/>
                  </a:cubicBezTo>
                  <a:lnTo>
                    <a:pt x="10800" y="10144"/>
                  </a:lnTo>
                  <a:cubicBezTo>
                    <a:pt x="10800" y="10472"/>
                    <a:pt x="16200" y="10800"/>
                    <a:pt x="21600" y="10800"/>
                  </a:cubicBezTo>
                  <a:cubicBezTo>
                    <a:pt x="16200" y="10800"/>
                    <a:pt x="10800" y="11128"/>
                    <a:pt x="10800" y="11456"/>
                  </a:cubicBezTo>
                  <a:lnTo>
                    <a:pt x="10800" y="20944"/>
                  </a:lnTo>
                  <a:cubicBezTo>
                    <a:pt x="10800" y="21272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1017" name="TextBox 8"/>
            <p:cNvSpPr/>
            <p:nvPr/>
          </p:nvSpPr>
          <p:spPr>
            <a:xfrm>
              <a:off x="5967360" y="2071800"/>
              <a:ext cx="215964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</p:grpSp>
      <p:grpSp>
        <p:nvGrpSpPr>
          <p:cNvPr id="1018" name="组合 79"/>
          <p:cNvGrpSpPr/>
          <p:nvPr/>
        </p:nvGrpSpPr>
        <p:grpSpPr>
          <a:xfrm>
            <a:off x="1714680" y="2548080"/>
            <a:ext cx="2428560" cy="1095120"/>
            <a:chOff x="1714680" y="2548080"/>
            <a:chExt cx="2428560" cy="1095120"/>
          </a:xfrm>
        </p:grpSpPr>
        <p:grpSp>
          <p:nvGrpSpPr>
            <p:cNvPr id="1019" name="组合 87"/>
            <p:cNvGrpSpPr/>
            <p:nvPr/>
          </p:nvGrpSpPr>
          <p:grpSpPr>
            <a:xfrm>
              <a:off x="2428920" y="2548080"/>
              <a:ext cx="1714320" cy="1095120"/>
              <a:chOff x="2428920" y="2548080"/>
              <a:chExt cx="1714320" cy="1095120"/>
            </a:xfrm>
          </p:grpSpPr>
          <p:grpSp>
            <p:nvGrpSpPr>
              <p:cNvPr id="1020" name="组合 43"/>
              <p:cNvGrpSpPr/>
              <p:nvPr/>
            </p:nvGrpSpPr>
            <p:grpSpPr>
              <a:xfrm>
                <a:off x="2428920" y="2548080"/>
                <a:ext cx="971280" cy="1095120"/>
                <a:chOff x="2428920" y="2548080"/>
                <a:chExt cx="971280" cy="1095120"/>
              </a:xfrm>
            </p:grpSpPr>
            <p:sp>
              <p:nvSpPr>
                <p:cNvPr id="1021" name="TextBox 8"/>
                <p:cNvSpPr/>
                <p:nvPr/>
              </p:nvSpPr>
              <p:spPr>
                <a:xfrm>
                  <a:off x="2518920" y="2548080"/>
                  <a:ext cx="575640" cy="627120"/>
                </a:xfrm>
                <a:custGeom>
                  <a:avLst/>
                  <a:gdLst>
                    <a:gd name="textAreaLeft" fmla="*/ 53280 w 575640"/>
                    <a:gd name="textAreaRight" fmla="*/ 522360 w 575640"/>
                    <a:gd name="textAreaTop" fmla="*/ 53280 h 627120"/>
                    <a:gd name="textAreaBottom" fmla="*/ 573840 h 627120"/>
                  </a:gdLst>
                  <a:ahLst/>
                  <a:rect l="textAreaLeft" t="textAreaTop" r="textAreaRight" b="textAreaBottom"/>
                  <a:pathLst>
                    <a:path w="21600" h="23531">
                      <a:moveTo>
                        <a:pt x="6866" y="0"/>
                      </a:moveTo>
                      <a:arcTo wR="6866" hR="6866" stAng="16200000" swAng="-5400000"/>
                      <a:lnTo>
                        <a:pt x="0" y="16665"/>
                      </a:lnTo>
                      <a:arcTo wR="6866" hR="6866" stAng="10800000" swAng="-5400000"/>
                      <a:lnTo>
                        <a:pt x="14734" y="23531"/>
                      </a:lnTo>
                      <a:arcTo wR="6866" hR="6866" stAng="5400000" swAng="-5400000"/>
                      <a:lnTo>
                        <a:pt x="21600" y="6866"/>
                      </a:lnTo>
                      <a:arcTo wR="6866" hR="6866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3</a:t>
                  </a:r>
                  <a:endParaRPr b="1" lang="en-US" sz="28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sp>
              <p:nvSpPr>
                <p:cNvPr id="1022" name="直接连接符 17"/>
                <p:cNvSpPr/>
                <p:nvPr/>
              </p:nvSpPr>
              <p:spPr>
                <a:xfrm>
                  <a:off x="2520720" y="3124080"/>
                  <a:ext cx="50148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sp>
              <p:nvSpPr>
                <p:cNvPr id="1023" name="TextBox 8"/>
                <p:cNvSpPr/>
                <p:nvPr/>
              </p:nvSpPr>
              <p:spPr>
                <a:xfrm>
                  <a:off x="2428920" y="3003840"/>
                  <a:ext cx="971280" cy="639360"/>
                </a:xfrm>
                <a:prstGeom prst="roundRect">
                  <a:avLst>
                    <a:gd name="adj" fmla="val 3178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10</a:t>
                  </a:r>
                  <a:endParaRPr b="1" lang="en-US" sz="28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024" name="TextBox 8"/>
              <p:cNvSpPr/>
              <p:nvPr/>
            </p:nvSpPr>
            <p:spPr>
              <a:xfrm>
                <a:off x="2928960" y="2781000"/>
                <a:ext cx="575640" cy="627120"/>
              </a:xfrm>
              <a:custGeom>
                <a:avLst/>
                <a:gdLst>
                  <a:gd name="textAreaLeft" fmla="*/ 53280 w 575640"/>
                  <a:gd name="textAreaRight" fmla="*/ 522360 w 575640"/>
                  <a:gd name="textAreaTop" fmla="*/ 53280 h 627120"/>
                  <a:gd name="textAreaBottom" fmla="*/ 573840 h 627120"/>
                </a:gdLst>
                <a:ahLst/>
                <a:rect l="textAreaLeft" t="textAreaTop" r="textAreaRight" b="textAreaBottom"/>
                <a:pathLst>
                  <a:path w="21600" h="23531">
                    <a:moveTo>
                      <a:pt x="6866" y="0"/>
                    </a:moveTo>
                    <a:arcTo wR="6866" hR="6866" stAng="16200000" swAng="-5400000"/>
                    <a:lnTo>
                      <a:pt x="0" y="16665"/>
                    </a:lnTo>
                    <a:arcTo wR="6866" hR="6866" stAng="10800000" swAng="-5400000"/>
                    <a:lnTo>
                      <a:pt x="14734" y="23531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－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pSp>
            <p:nvGrpSpPr>
              <p:cNvPr id="1025" name="组合 43"/>
              <p:cNvGrpSpPr/>
              <p:nvPr/>
            </p:nvGrpSpPr>
            <p:grpSpPr>
              <a:xfrm>
                <a:off x="3496320" y="2548080"/>
                <a:ext cx="646920" cy="1071360"/>
                <a:chOff x="3496320" y="2548080"/>
                <a:chExt cx="646920" cy="1071360"/>
              </a:xfrm>
            </p:grpSpPr>
            <p:sp>
              <p:nvSpPr>
                <p:cNvPr id="1026" name="TextBox 8"/>
                <p:cNvSpPr/>
                <p:nvPr/>
              </p:nvSpPr>
              <p:spPr>
                <a:xfrm>
                  <a:off x="3496320" y="2548080"/>
                  <a:ext cx="575640" cy="627120"/>
                </a:xfrm>
                <a:custGeom>
                  <a:avLst/>
                  <a:gdLst>
                    <a:gd name="textAreaLeft" fmla="*/ 53280 w 575640"/>
                    <a:gd name="textAreaRight" fmla="*/ 522360 w 575640"/>
                    <a:gd name="textAreaTop" fmla="*/ 53280 h 627120"/>
                    <a:gd name="textAreaBottom" fmla="*/ 573840 h 627120"/>
                  </a:gdLst>
                  <a:ahLst/>
                  <a:rect l="textAreaLeft" t="textAreaTop" r="textAreaRight" b="textAreaBottom"/>
                  <a:pathLst>
                    <a:path w="21600" h="23531">
                      <a:moveTo>
                        <a:pt x="6866" y="0"/>
                      </a:moveTo>
                      <a:arcTo wR="6866" hR="6866" stAng="16200000" swAng="-5400000"/>
                      <a:lnTo>
                        <a:pt x="0" y="16665"/>
                      </a:lnTo>
                      <a:arcTo wR="6866" hR="6866" stAng="10800000" swAng="-5400000"/>
                      <a:lnTo>
                        <a:pt x="14734" y="23531"/>
                      </a:lnTo>
                      <a:arcTo wR="6866" hR="6866" stAng="5400000" swAng="-5400000"/>
                      <a:lnTo>
                        <a:pt x="21600" y="6866"/>
                      </a:lnTo>
                      <a:arcTo wR="6866" hR="6866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1</a:t>
                  </a:r>
                  <a:endParaRPr b="1" lang="en-US" sz="28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sp>
              <p:nvSpPr>
                <p:cNvPr id="1027" name="直接连接符 14"/>
                <p:cNvSpPr/>
                <p:nvPr/>
              </p:nvSpPr>
              <p:spPr>
                <a:xfrm>
                  <a:off x="3500280" y="3125880"/>
                  <a:ext cx="50148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sp>
              <p:nvSpPr>
                <p:cNvPr id="1028" name="TextBox 8"/>
                <p:cNvSpPr/>
                <p:nvPr/>
              </p:nvSpPr>
              <p:spPr>
                <a:xfrm>
                  <a:off x="3496680" y="2980080"/>
                  <a:ext cx="646560" cy="639360"/>
                </a:xfrm>
                <a:prstGeom prst="roundRect">
                  <a:avLst>
                    <a:gd name="adj" fmla="val 3178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2</a:t>
                  </a:r>
                  <a:endParaRPr b="1" lang="en-US" sz="28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</p:grpSp>
        </p:grpSp>
        <p:sp>
          <p:nvSpPr>
            <p:cNvPr id="1029" name="TextBox 8"/>
            <p:cNvSpPr/>
            <p:nvPr/>
          </p:nvSpPr>
          <p:spPr>
            <a:xfrm>
              <a:off x="1924560" y="2799360"/>
              <a:ext cx="575640" cy="627120"/>
            </a:xfrm>
            <a:custGeom>
              <a:avLst/>
              <a:gdLst>
                <a:gd name="textAreaLeft" fmla="*/ 53280 w 575640"/>
                <a:gd name="textAreaRight" fmla="*/ 522360 w 575640"/>
                <a:gd name="textAreaTop" fmla="*/ 53280 h 627120"/>
                <a:gd name="textAreaBottom" fmla="*/ 573840 h 627120"/>
              </a:gdLst>
              <a:ahLst/>
              <a:rect l="textAreaLeft" t="textAreaTop" r="textAreaRight" b="textAreaBottom"/>
              <a:pathLst>
                <a:path w="21600" h="23531">
                  <a:moveTo>
                    <a:pt x="6866" y="0"/>
                  </a:moveTo>
                  <a:arcTo wR="6866" hR="6866" stAng="16200000" swAng="-5400000"/>
                  <a:lnTo>
                    <a:pt x="0" y="16665"/>
                  </a:lnTo>
                  <a:arcTo wR="6866" hR="6866" stAng="10800000" swAng="-5400000"/>
                  <a:lnTo>
                    <a:pt x="14734" y="23531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－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1030" name="TextBox 8"/>
            <p:cNvSpPr/>
            <p:nvPr/>
          </p:nvSpPr>
          <p:spPr>
            <a:xfrm>
              <a:off x="1714680" y="2799360"/>
              <a:ext cx="575640" cy="627120"/>
            </a:xfrm>
            <a:custGeom>
              <a:avLst/>
              <a:gdLst>
                <a:gd name="textAreaLeft" fmla="*/ 53280 w 575640"/>
                <a:gd name="textAreaRight" fmla="*/ 522360 w 575640"/>
                <a:gd name="textAreaTop" fmla="*/ 53280 h 627120"/>
                <a:gd name="textAreaBottom" fmla="*/ 573840 h 627120"/>
              </a:gdLst>
              <a:ahLst/>
              <a:rect l="textAreaLeft" t="textAreaTop" r="textAreaRight" b="textAreaBottom"/>
              <a:pathLst>
                <a:path w="21600" h="23531">
                  <a:moveTo>
                    <a:pt x="6866" y="0"/>
                  </a:moveTo>
                  <a:arcTo wR="6866" hR="6866" stAng="16200000" swAng="-5400000"/>
                  <a:lnTo>
                    <a:pt x="0" y="16665"/>
                  </a:lnTo>
                  <a:arcTo wR="6866" hR="6866" stAng="10800000" swAng="-5400000"/>
                  <a:lnTo>
                    <a:pt x="14734" y="23531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</p:grpSp>
      <p:grpSp>
        <p:nvGrpSpPr>
          <p:cNvPr id="1031" name="组合 126"/>
          <p:cNvGrpSpPr/>
          <p:nvPr/>
        </p:nvGrpSpPr>
        <p:grpSpPr>
          <a:xfrm>
            <a:off x="1357200" y="3348000"/>
            <a:ext cx="2222640" cy="1080720"/>
            <a:chOff x="1357200" y="3348000"/>
            <a:chExt cx="2222640" cy="1080720"/>
          </a:xfrm>
        </p:grpSpPr>
        <p:sp>
          <p:nvSpPr>
            <p:cNvPr id="1032" name="TextBox 8"/>
            <p:cNvSpPr/>
            <p:nvPr/>
          </p:nvSpPr>
          <p:spPr>
            <a:xfrm>
              <a:off x="1357200" y="3576240"/>
              <a:ext cx="575640" cy="627120"/>
            </a:xfrm>
            <a:custGeom>
              <a:avLst/>
              <a:gdLst>
                <a:gd name="textAreaLeft" fmla="*/ 53280 w 575640"/>
                <a:gd name="textAreaRight" fmla="*/ 522360 w 575640"/>
                <a:gd name="textAreaTop" fmla="*/ 53280 h 627120"/>
                <a:gd name="textAreaBottom" fmla="*/ 573840 h 627120"/>
              </a:gdLst>
              <a:ahLst/>
              <a:rect l="textAreaLeft" t="textAreaTop" r="textAreaRight" b="textAreaBottom"/>
              <a:pathLst>
                <a:path w="21600" h="23531">
                  <a:moveTo>
                    <a:pt x="6866" y="0"/>
                  </a:moveTo>
                  <a:arcTo wR="6866" hR="6866" stAng="16200000" swAng="-5400000"/>
                  <a:lnTo>
                    <a:pt x="0" y="16665"/>
                  </a:lnTo>
                  <a:arcTo wR="6866" hR="6866" stAng="10800000" swAng="-5400000"/>
                  <a:lnTo>
                    <a:pt x="14734" y="23531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pSp>
          <p:nvGrpSpPr>
            <p:cNvPr id="1033" name="组合 85"/>
            <p:cNvGrpSpPr/>
            <p:nvPr/>
          </p:nvGrpSpPr>
          <p:grpSpPr>
            <a:xfrm>
              <a:off x="1746000" y="3348000"/>
              <a:ext cx="1833840" cy="1080720"/>
              <a:chOff x="1746000" y="3348000"/>
              <a:chExt cx="1833840" cy="1080720"/>
            </a:xfrm>
          </p:grpSpPr>
          <p:grpSp>
            <p:nvGrpSpPr>
              <p:cNvPr id="1034" name="组合 43"/>
              <p:cNvGrpSpPr/>
              <p:nvPr/>
            </p:nvGrpSpPr>
            <p:grpSpPr>
              <a:xfrm>
                <a:off x="1746000" y="3348000"/>
                <a:ext cx="1044360" cy="1072080"/>
                <a:chOff x="1746000" y="3348000"/>
                <a:chExt cx="1044360" cy="1072080"/>
              </a:xfrm>
            </p:grpSpPr>
            <p:sp>
              <p:nvSpPr>
                <p:cNvPr id="1035" name="TextBox 8"/>
                <p:cNvSpPr/>
                <p:nvPr/>
              </p:nvSpPr>
              <p:spPr>
                <a:xfrm>
                  <a:off x="1746000" y="3780720"/>
                  <a:ext cx="1044360" cy="639360"/>
                </a:xfrm>
                <a:prstGeom prst="roundRect">
                  <a:avLst>
                    <a:gd name="adj" fmla="val 3178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10</a:t>
                  </a:r>
                  <a:endParaRPr b="1" lang="en-US" sz="28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sp>
              <p:nvSpPr>
                <p:cNvPr id="1036" name="TextBox 8"/>
                <p:cNvSpPr/>
                <p:nvPr/>
              </p:nvSpPr>
              <p:spPr>
                <a:xfrm>
                  <a:off x="1861200" y="3348000"/>
                  <a:ext cx="575640" cy="627120"/>
                </a:xfrm>
                <a:custGeom>
                  <a:avLst/>
                  <a:gdLst>
                    <a:gd name="textAreaLeft" fmla="*/ 53280 w 575640"/>
                    <a:gd name="textAreaRight" fmla="*/ 522360 w 575640"/>
                    <a:gd name="textAreaTop" fmla="*/ 53280 h 627120"/>
                    <a:gd name="textAreaBottom" fmla="*/ 573840 h 627120"/>
                  </a:gdLst>
                  <a:ahLst/>
                  <a:rect l="textAreaLeft" t="textAreaTop" r="textAreaRight" b="textAreaBottom"/>
                  <a:pathLst>
                    <a:path w="21600" h="23531">
                      <a:moveTo>
                        <a:pt x="6866" y="0"/>
                      </a:moveTo>
                      <a:arcTo wR="6866" hR="6866" stAng="16200000" swAng="-5400000"/>
                      <a:lnTo>
                        <a:pt x="0" y="16665"/>
                      </a:lnTo>
                      <a:arcTo wR="6866" hR="6866" stAng="10800000" swAng="-5400000"/>
                      <a:lnTo>
                        <a:pt x="14734" y="23531"/>
                      </a:lnTo>
                      <a:arcTo wR="6866" hR="6866" stAng="5400000" swAng="-5400000"/>
                      <a:lnTo>
                        <a:pt x="21600" y="6866"/>
                      </a:lnTo>
                      <a:arcTo wR="6866" hR="6866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7</a:t>
                  </a:r>
                  <a:endParaRPr b="1" lang="en-US" sz="28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sp>
              <p:nvSpPr>
                <p:cNvPr id="1037" name="直接连接符 30"/>
                <p:cNvSpPr/>
                <p:nvPr/>
              </p:nvSpPr>
              <p:spPr>
                <a:xfrm>
                  <a:off x="1860120" y="3924360"/>
                  <a:ext cx="50184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038" name="TextBox 8"/>
              <p:cNvSpPr/>
              <p:nvPr/>
            </p:nvSpPr>
            <p:spPr>
              <a:xfrm>
                <a:off x="2286000" y="3581280"/>
                <a:ext cx="575640" cy="627120"/>
              </a:xfrm>
              <a:custGeom>
                <a:avLst/>
                <a:gdLst>
                  <a:gd name="textAreaLeft" fmla="*/ 53280 w 575640"/>
                  <a:gd name="textAreaRight" fmla="*/ 522360 w 575640"/>
                  <a:gd name="textAreaTop" fmla="*/ 53280 h 627120"/>
                  <a:gd name="textAreaBottom" fmla="*/ 573840 h 627120"/>
                </a:gdLst>
                <a:ahLst/>
                <a:rect l="textAreaLeft" t="textAreaTop" r="textAreaRight" b="textAreaBottom"/>
                <a:pathLst>
                  <a:path w="21600" h="23531">
                    <a:moveTo>
                      <a:pt x="6866" y="0"/>
                    </a:moveTo>
                    <a:arcTo wR="6866" hR="6866" stAng="16200000" swAng="-5400000"/>
                    <a:lnTo>
                      <a:pt x="0" y="16665"/>
                    </a:lnTo>
                    <a:arcTo wR="6866" hR="6866" stAng="10800000" swAng="-5400000"/>
                    <a:lnTo>
                      <a:pt x="14734" y="23531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－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pSp>
            <p:nvGrpSpPr>
              <p:cNvPr id="1039" name="组合 43"/>
              <p:cNvGrpSpPr/>
              <p:nvPr/>
            </p:nvGrpSpPr>
            <p:grpSpPr>
              <a:xfrm>
                <a:off x="2929320" y="3348000"/>
                <a:ext cx="650520" cy="1080720"/>
                <a:chOff x="2929320" y="3348000"/>
                <a:chExt cx="650520" cy="1080720"/>
              </a:xfrm>
            </p:grpSpPr>
            <p:sp>
              <p:nvSpPr>
                <p:cNvPr id="1040" name="TextBox 8"/>
                <p:cNvSpPr/>
                <p:nvPr/>
              </p:nvSpPr>
              <p:spPr>
                <a:xfrm>
                  <a:off x="2929320" y="3348000"/>
                  <a:ext cx="575640" cy="627120"/>
                </a:xfrm>
                <a:custGeom>
                  <a:avLst/>
                  <a:gdLst>
                    <a:gd name="textAreaLeft" fmla="*/ 53280 w 575640"/>
                    <a:gd name="textAreaRight" fmla="*/ 522360 w 575640"/>
                    <a:gd name="textAreaTop" fmla="*/ 53280 h 627120"/>
                    <a:gd name="textAreaBottom" fmla="*/ 573840 h 627120"/>
                  </a:gdLst>
                  <a:ahLst/>
                  <a:rect l="textAreaLeft" t="textAreaTop" r="textAreaRight" b="textAreaBottom"/>
                  <a:pathLst>
                    <a:path w="21600" h="23531">
                      <a:moveTo>
                        <a:pt x="6866" y="0"/>
                      </a:moveTo>
                      <a:arcTo wR="6866" hR="6866" stAng="16200000" swAng="-5400000"/>
                      <a:lnTo>
                        <a:pt x="0" y="16665"/>
                      </a:lnTo>
                      <a:arcTo wR="6866" hR="6866" stAng="10800000" swAng="-5400000"/>
                      <a:lnTo>
                        <a:pt x="14734" y="23531"/>
                      </a:lnTo>
                      <a:arcTo wR="6866" hR="6866" stAng="5400000" swAng="-5400000"/>
                      <a:lnTo>
                        <a:pt x="21600" y="6866"/>
                      </a:lnTo>
                      <a:arcTo wR="6866" hR="6866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1</a:t>
                  </a:r>
                  <a:endParaRPr b="1" lang="en-US" sz="28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sp>
              <p:nvSpPr>
                <p:cNvPr id="1041" name="直接连接符 26"/>
                <p:cNvSpPr/>
                <p:nvPr/>
              </p:nvSpPr>
              <p:spPr>
                <a:xfrm>
                  <a:off x="2932200" y="3924360"/>
                  <a:ext cx="50148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sp>
              <p:nvSpPr>
                <p:cNvPr id="1042" name="TextBox 8"/>
                <p:cNvSpPr/>
                <p:nvPr/>
              </p:nvSpPr>
              <p:spPr>
                <a:xfrm>
                  <a:off x="2933280" y="3789360"/>
                  <a:ext cx="646560" cy="639360"/>
                </a:xfrm>
                <a:prstGeom prst="roundRect">
                  <a:avLst>
                    <a:gd name="adj" fmla="val 3178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2</a:t>
                  </a:r>
                  <a:endParaRPr b="1" lang="en-US" sz="28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1043" name="组合 126"/>
          <p:cNvGrpSpPr/>
          <p:nvPr/>
        </p:nvGrpSpPr>
        <p:grpSpPr>
          <a:xfrm>
            <a:off x="1357200" y="4137120"/>
            <a:ext cx="2208240" cy="1071720"/>
            <a:chOff x="1357200" y="4137120"/>
            <a:chExt cx="2208240" cy="1071720"/>
          </a:xfrm>
        </p:grpSpPr>
        <p:sp>
          <p:nvSpPr>
            <p:cNvPr id="1044" name="TextBox 8"/>
            <p:cNvSpPr/>
            <p:nvPr/>
          </p:nvSpPr>
          <p:spPr>
            <a:xfrm>
              <a:off x="1357200" y="4365000"/>
              <a:ext cx="575640" cy="627120"/>
            </a:xfrm>
            <a:custGeom>
              <a:avLst/>
              <a:gdLst>
                <a:gd name="textAreaLeft" fmla="*/ 53280 w 575640"/>
                <a:gd name="textAreaRight" fmla="*/ 522360 w 575640"/>
                <a:gd name="textAreaTop" fmla="*/ 53280 h 627120"/>
                <a:gd name="textAreaBottom" fmla="*/ 573840 h 627120"/>
              </a:gdLst>
              <a:ahLst/>
              <a:rect l="textAreaLeft" t="textAreaTop" r="textAreaRight" b="textAreaBottom"/>
              <a:pathLst>
                <a:path w="21600" h="23531">
                  <a:moveTo>
                    <a:pt x="6866" y="0"/>
                  </a:moveTo>
                  <a:arcTo wR="6866" hR="6866" stAng="16200000" swAng="-5400000"/>
                  <a:lnTo>
                    <a:pt x="0" y="16665"/>
                  </a:lnTo>
                  <a:arcTo wR="6866" hR="6866" stAng="10800000" swAng="-5400000"/>
                  <a:lnTo>
                    <a:pt x="14734" y="23531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pSp>
          <p:nvGrpSpPr>
            <p:cNvPr id="1045" name="组合 85"/>
            <p:cNvGrpSpPr/>
            <p:nvPr/>
          </p:nvGrpSpPr>
          <p:grpSpPr>
            <a:xfrm>
              <a:off x="1747800" y="4137120"/>
              <a:ext cx="1817640" cy="1071720"/>
              <a:chOff x="1747800" y="4137120"/>
              <a:chExt cx="1817640" cy="1071720"/>
            </a:xfrm>
          </p:grpSpPr>
          <p:grpSp>
            <p:nvGrpSpPr>
              <p:cNvPr id="1046" name="组合 43"/>
              <p:cNvGrpSpPr/>
              <p:nvPr/>
            </p:nvGrpSpPr>
            <p:grpSpPr>
              <a:xfrm>
                <a:off x="1747800" y="4143240"/>
                <a:ext cx="870840" cy="1065240"/>
                <a:chOff x="1747800" y="4143240"/>
                <a:chExt cx="870840" cy="1065240"/>
              </a:xfrm>
            </p:grpSpPr>
            <p:sp>
              <p:nvSpPr>
                <p:cNvPr id="1047" name="TextBox 8"/>
                <p:cNvSpPr/>
                <p:nvPr/>
              </p:nvSpPr>
              <p:spPr>
                <a:xfrm>
                  <a:off x="1747800" y="4569120"/>
                  <a:ext cx="828360" cy="639360"/>
                </a:xfrm>
                <a:prstGeom prst="roundRect">
                  <a:avLst>
                    <a:gd name="adj" fmla="val 3178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10</a:t>
                  </a:r>
                  <a:endParaRPr b="1" lang="en-US" sz="28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sp>
              <p:nvSpPr>
                <p:cNvPr id="1048" name="TextBox 8"/>
                <p:cNvSpPr/>
                <p:nvPr/>
              </p:nvSpPr>
              <p:spPr>
                <a:xfrm>
                  <a:off x="1861200" y="4143240"/>
                  <a:ext cx="757440" cy="639360"/>
                </a:xfrm>
                <a:prstGeom prst="roundRect">
                  <a:avLst>
                    <a:gd name="adj" fmla="val 3178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7</a:t>
                  </a:r>
                  <a:endParaRPr b="1" lang="en-US" sz="28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sp>
              <p:nvSpPr>
                <p:cNvPr id="1049" name="直接连接符 42"/>
                <p:cNvSpPr/>
                <p:nvPr/>
              </p:nvSpPr>
              <p:spPr>
                <a:xfrm>
                  <a:off x="1860120" y="4713120"/>
                  <a:ext cx="50184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050" name="TextBox 8"/>
              <p:cNvSpPr/>
              <p:nvPr/>
            </p:nvSpPr>
            <p:spPr>
              <a:xfrm>
                <a:off x="2289960" y="4370040"/>
                <a:ext cx="575640" cy="627120"/>
              </a:xfrm>
              <a:custGeom>
                <a:avLst/>
                <a:gdLst>
                  <a:gd name="textAreaLeft" fmla="*/ 53280 w 575640"/>
                  <a:gd name="textAreaRight" fmla="*/ 522360 w 575640"/>
                  <a:gd name="textAreaTop" fmla="*/ 53280 h 627120"/>
                  <a:gd name="textAreaBottom" fmla="*/ 573840 h 627120"/>
                </a:gdLst>
                <a:ahLst/>
                <a:rect l="textAreaLeft" t="textAreaTop" r="textAreaRight" b="textAreaBottom"/>
                <a:pathLst>
                  <a:path w="21600" h="23531">
                    <a:moveTo>
                      <a:pt x="6866" y="0"/>
                    </a:moveTo>
                    <a:arcTo wR="6866" hR="6866" stAng="16200000" swAng="-5400000"/>
                    <a:lnTo>
                      <a:pt x="0" y="16665"/>
                    </a:lnTo>
                    <a:arcTo wR="6866" hR="6866" stAng="10800000" swAng="-5400000"/>
                    <a:lnTo>
                      <a:pt x="14734" y="23531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－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pSp>
            <p:nvGrpSpPr>
              <p:cNvPr id="1051" name="组合 43"/>
              <p:cNvGrpSpPr/>
              <p:nvPr/>
            </p:nvGrpSpPr>
            <p:grpSpPr>
              <a:xfrm>
                <a:off x="2773800" y="4137120"/>
                <a:ext cx="791640" cy="1071720"/>
                <a:chOff x="2773800" y="4137120"/>
                <a:chExt cx="791640" cy="1071720"/>
              </a:xfrm>
            </p:grpSpPr>
            <p:sp>
              <p:nvSpPr>
                <p:cNvPr id="1052" name="TextBox 8"/>
                <p:cNvSpPr/>
                <p:nvPr/>
              </p:nvSpPr>
              <p:spPr>
                <a:xfrm>
                  <a:off x="2773800" y="4569480"/>
                  <a:ext cx="791640" cy="639360"/>
                </a:xfrm>
                <a:prstGeom prst="roundRect">
                  <a:avLst>
                    <a:gd name="adj" fmla="val 3178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10</a:t>
                  </a:r>
                  <a:endParaRPr b="1" lang="en-US" sz="28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sp>
              <p:nvSpPr>
                <p:cNvPr id="1053" name="TextBox 8"/>
                <p:cNvSpPr/>
                <p:nvPr/>
              </p:nvSpPr>
              <p:spPr>
                <a:xfrm>
                  <a:off x="2861640" y="4137120"/>
                  <a:ext cx="575640" cy="627120"/>
                </a:xfrm>
                <a:custGeom>
                  <a:avLst/>
                  <a:gdLst>
                    <a:gd name="textAreaLeft" fmla="*/ 53280 w 575640"/>
                    <a:gd name="textAreaRight" fmla="*/ 522360 w 575640"/>
                    <a:gd name="textAreaTop" fmla="*/ 53280 h 627120"/>
                    <a:gd name="textAreaBottom" fmla="*/ 573840 h 627120"/>
                  </a:gdLst>
                  <a:ahLst/>
                  <a:rect l="textAreaLeft" t="textAreaTop" r="textAreaRight" b="textAreaBottom"/>
                  <a:pathLst>
                    <a:path w="21600" h="23531">
                      <a:moveTo>
                        <a:pt x="6866" y="0"/>
                      </a:moveTo>
                      <a:arcTo wR="6866" hR="6866" stAng="16200000" swAng="-5400000"/>
                      <a:lnTo>
                        <a:pt x="0" y="16665"/>
                      </a:lnTo>
                      <a:arcTo wR="6866" hR="6866" stAng="10800000" swAng="-5400000"/>
                      <a:lnTo>
                        <a:pt x="14734" y="23531"/>
                      </a:lnTo>
                      <a:arcTo wR="6866" hR="6866" stAng="5400000" swAng="-5400000"/>
                      <a:lnTo>
                        <a:pt x="21600" y="6866"/>
                      </a:lnTo>
                      <a:arcTo wR="6866" hR="6866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5</a:t>
                  </a:r>
                  <a:endParaRPr b="1" lang="en-US" sz="28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sp>
              <p:nvSpPr>
                <p:cNvPr id="1054" name="直接连接符 39"/>
                <p:cNvSpPr/>
                <p:nvPr/>
              </p:nvSpPr>
              <p:spPr>
                <a:xfrm>
                  <a:off x="2862000" y="4713120"/>
                  <a:ext cx="50328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1055" name="组合 64"/>
          <p:cNvGrpSpPr/>
          <p:nvPr/>
        </p:nvGrpSpPr>
        <p:grpSpPr>
          <a:xfrm>
            <a:off x="1344600" y="4929120"/>
            <a:ext cx="1513080" cy="1071000"/>
            <a:chOff x="1344600" y="4929120"/>
            <a:chExt cx="1513080" cy="1071000"/>
          </a:xfrm>
        </p:grpSpPr>
        <p:sp>
          <p:nvSpPr>
            <p:cNvPr id="1056" name="TextBox 8"/>
            <p:cNvSpPr/>
            <p:nvPr/>
          </p:nvSpPr>
          <p:spPr>
            <a:xfrm>
              <a:off x="1344600" y="5162400"/>
              <a:ext cx="576720" cy="627840"/>
            </a:xfrm>
            <a:custGeom>
              <a:avLst/>
              <a:gdLst>
                <a:gd name="textAreaLeft" fmla="*/ 53640 w 576720"/>
                <a:gd name="textAreaRight" fmla="*/ 523080 w 576720"/>
                <a:gd name="textAreaTop" fmla="*/ 53640 h 627840"/>
                <a:gd name="textAreaBottom" fmla="*/ 574200 h 627840"/>
              </a:gdLst>
              <a:ahLst/>
              <a:rect l="textAreaLeft" t="textAreaTop" r="textAreaRight" b="textAreaBottom"/>
              <a:pathLst>
                <a:path w="21600" h="23513">
                  <a:moveTo>
                    <a:pt x="6866" y="0"/>
                  </a:moveTo>
                  <a:arcTo wR="6866" hR="6866" stAng="16200000" swAng="-5400000"/>
                  <a:lnTo>
                    <a:pt x="0" y="16647"/>
                  </a:lnTo>
                  <a:arcTo wR="6866" hR="6866" stAng="10800000" swAng="-5400000"/>
                  <a:lnTo>
                    <a:pt x="14734" y="2351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pSp>
          <p:nvGrpSpPr>
            <p:cNvPr id="1057" name="组合 43"/>
            <p:cNvGrpSpPr/>
            <p:nvPr/>
          </p:nvGrpSpPr>
          <p:grpSpPr>
            <a:xfrm>
              <a:off x="1921320" y="4929120"/>
              <a:ext cx="936360" cy="1071000"/>
              <a:chOff x="1921320" y="4929120"/>
              <a:chExt cx="936360" cy="1071000"/>
            </a:xfrm>
          </p:grpSpPr>
          <p:sp>
            <p:nvSpPr>
              <p:cNvPr id="1058" name="TextBox 8"/>
              <p:cNvSpPr/>
              <p:nvPr/>
            </p:nvSpPr>
            <p:spPr>
              <a:xfrm>
                <a:off x="1921320" y="4929120"/>
                <a:ext cx="86436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1059" name="直接连接符 47"/>
              <p:cNvSpPr/>
              <p:nvPr/>
            </p:nvSpPr>
            <p:spPr>
              <a:xfrm>
                <a:off x="1922400" y="5505480"/>
                <a:ext cx="5018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1060" name="TextBox 8"/>
              <p:cNvSpPr/>
              <p:nvPr/>
            </p:nvSpPr>
            <p:spPr>
              <a:xfrm>
                <a:off x="1922040" y="5360760"/>
                <a:ext cx="93564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061" name="组合 140"/>
          <p:cNvGrpSpPr/>
          <p:nvPr/>
        </p:nvGrpSpPr>
        <p:grpSpPr>
          <a:xfrm>
            <a:off x="4807800" y="5000760"/>
            <a:ext cx="3078720" cy="1071360"/>
            <a:chOff x="4807800" y="5000760"/>
            <a:chExt cx="3078720" cy="1071360"/>
          </a:xfrm>
        </p:grpSpPr>
        <p:sp>
          <p:nvSpPr>
            <p:cNvPr id="1062" name="矩形 4"/>
            <p:cNvSpPr/>
            <p:nvPr/>
          </p:nvSpPr>
          <p:spPr>
            <a:xfrm>
              <a:off x="4807800" y="5263560"/>
              <a:ext cx="120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答：没修的部分占这条公路的   。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pSp>
          <p:nvGrpSpPr>
            <p:cNvPr id="1063" name="组合 43"/>
            <p:cNvGrpSpPr/>
            <p:nvPr/>
          </p:nvGrpSpPr>
          <p:grpSpPr>
            <a:xfrm>
              <a:off x="7238880" y="5000760"/>
              <a:ext cx="647640" cy="1071360"/>
              <a:chOff x="7238880" y="5000760"/>
              <a:chExt cx="647640" cy="1071360"/>
            </a:xfrm>
          </p:grpSpPr>
          <p:sp>
            <p:nvSpPr>
              <p:cNvPr id="1064" name="TextBox 8"/>
              <p:cNvSpPr/>
              <p:nvPr/>
            </p:nvSpPr>
            <p:spPr>
              <a:xfrm>
                <a:off x="7239600" y="5432760"/>
                <a:ext cx="64692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1065" name="TextBox 8"/>
              <p:cNvSpPr/>
              <p:nvPr/>
            </p:nvSpPr>
            <p:spPr>
              <a:xfrm>
                <a:off x="7238880" y="5000760"/>
                <a:ext cx="576000" cy="627840"/>
              </a:xfrm>
              <a:custGeom>
                <a:avLst/>
                <a:gdLst>
                  <a:gd name="textAreaLeft" fmla="*/ 53640 w 576000"/>
                  <a:gd name="textAreaRight" fmla="*/ 522360 w 576000"/>
                  <a:gd name="textAreaTop" fmla="*/ 53640 h 627840"/>
                  <a:gd name="textAreaBottom" fmla="*/ 574200 h 627840"/>
                </a:gdLst>
                <a:ahLst/>
                <a:rect l="textAreaLeft" t="textAreaTop" r="textAreaRight" b="textAreaBottom"/>
                <a:pathLst>
                  <a:path w="21600" h="23543">
                    <a:moveTo>
                      <a:pt x="6866" y="0"/>
                    </a:moveTo>
                    <a:arcTo wR="6866" hR="6866" stAng="16200000" swAng="-5400000"/>
                    <a:lnTo>
                      <a:pt x="0" y="16677"/>
                    </a:lnTo>
                    <a:arcTo wR="6866" hR="6866" stAng="10800000" swAng="-5400000"/>
                    <a:lnTo>
                      <a:pt x="14734" y="23543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1066" name="直接连接符 54"/>
              <p:cNvSpPr/>
              <p:nvPr/>
            </p:nvSpPr>
            <p:spPr>
              <a:xfrm>
                <a:off x="7286760" y="5576760"/>
                <a:ext cx="36036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248000" y="5506920"/>
            <a:ext cx="4896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你能提出哪些数学问题？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0" name="Picture 63" descr="u6jx01_4_2345看图王"/>
          <p:cNvPicPr/>
          <p:nvPr/>
        </p:nvPicPr>
        <p:blipFill>
          <a:blip r:embed="rId1"/>
          <a:stretch/>
        </p:blipFill>
        <p:spPr>
          <a:xfrm>
            <a:off x="2786040" y="2428920"/>
            <a:ext cx="4834080" cy="3335400"/>
          </a:xfrm>
          <a:prstGeom prst="rect">
            <a:avLst/>
          </a:prstGeom>
          <a:ln w="0">
            <a:noFill/>
          </a:ln>
        </p:spPr>
      </p:pic>
      <p:grpSp>
        <p:nvGrpSpPr>
          <p:cNvPr id="781" name="组合 19"/>
          <p:cNvGrpSpPr/>
          <p:nvPr/>
        </p:nvGrpSpPr>
        <p:grpSpPr>
          <a:xfrm>
            <a:off x="2928960" y="1000080"/>
            <a:ext cx="2000160" cy="1000440"/>
            <a:chOff x="2928960" y="1000080"/>
            <a:chExt cx="2000160" cy="1000440"/>
          </a:xfrm>
        </p:grpSpPr>
        <p:sp>
          <p:nvSpPr>
            <p:cNvPr id="782" name="AutoShape 27"/>
            <p:cNvSpPr/>
            <p:nvPr/>
          </p:nvSpPr>
          <p:spPr>
            <a:xfrm>
              <a:off x="2928960" y="1000080"/>
              <a:ext cx="2000160" cy="1000440"/>
            </a:xfrm>
            <a:prstGeom prst="wedgeRoundRectCallout">
              <a:avLst>
                <a:gd name="adj1" fmla="val 35069"/>
                <a:gd name="adj2" fmla="val 9502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783" name="Rectangle 64"/>
            <p:cNvSpPr/>
            <p:nvPr/>
          </p:nvSpPr>
          <p:spPr>
            <a:xfrm>
              <a:off x="2990880" y="1000080"/>
              <a:ext cx="18669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吃了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块饼。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</p:grpSp>
      <p:sp>
        <p:nvSpPr>
          <p:cNvPr id="784" name="AutoShape 27"/>
          <p:cNvSpPr/>
          <p:nvPr/>
        </p:nvSpPr>
        <p:spPr>
          <a:xfrm>
            <a:off x="6000840" y="1357200"/>
            <a:ext cx="2247840" cy="650880"/>
          </a:xfrm>
          <a:prstGeom prst="wedgeRoundRectCallout">
            <a:avLst>
              <a:gd name="adj1" fmla="val -32416"/>
              <a:gd name="adj2" fmla="val 12382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85" name="Rectangle 72"/>
          <p:cNvSpPr/>
          <p:nvPr/>
        </p:nvSpPr>
        <p:spPr>
          <a:xfrm>
            <a:off x="6000840" y="1390680"/>
            <a:ext cx="2500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吃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块饼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pSp>
        <p:nvGrpSpPr>
          <p:cNvPr id="786" name="组合 20"/>
          <p:cNvGrpSpPr/>
          <p:nvPr/>
        </p:nvGrpSpPr>
        <p:grpSpPr>
          <a:xfrm>
            <a:off x="642960" y="2030400"/>
            <a:ext cx="3451320" cy="1820160"/>
            <a:chOff x="642960" y="2030400"/>
            <a:chExt cx="3451320" cy="1820160"/>
          </a:xfrm>
        </p:grpSpPr>
        <p:sp>
          <p:nvSpPr>
            <p:cNvPr id="787" name="AutoShape 27"/>
            <p:cNvSpPr/>
            <p:nvPr/>
          </p:nvSpPr>
          <p:spPr>
            <a:xfrm>
              <a:off x="664920" y="2135160"/>
              <a:ext cx="3000600" cy="1579680"/>
            </a:xfrm>
            <a:prstGeom prst="wedgeRoundRectCallout">
              <a:avLst>
                <a:gd name="adj1" fmla="val 54296"/>
                <a:gd name="adj2" fmla="val 503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788" name="Text Box 75"/>
            <p:cNvSpPr/>
            <p:nvPr/>
          </p:nvSpPr>
          <p:spPr>
            <a:xfrm>
              <a:off x="642960" y="2071440"/>
              <a:ext cx="345132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爸爸吃了  张饼，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妈妈吃了  张饼。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pSp>
          <p:nvGrpSpPr>
            <p:cNvPr id="789" name="Group 80"/>
            <p:cNvGrpSpPr/>
            <p:nvPr/>
          </p:nvGrpSpPr>
          <p:grpSpPr>
            <a:xfrm>
              <a:off x="2160720" y="2030400"/>
              <a:ext cx="504720" cy="1034280"/>
              <a:chOff x="2160720" y="2030400"/>
              <a:chExt cx="504720" cy="1034280"/>
            </a:xfrm>
          </p:grpSpPr>
          <p:sp>
            <p:nvSpPr>
              <p:cNvPr id="790" name="Text Box 81"/>
              <p:cNvSpPr/>
              <p:nvPr/>
            </p:nvSpPr>
            <p:spPr>
              <a:xfrm>
                <a:off x="2160720" y="2458800"/>
                <a:ext cx="50472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8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791" name="Text Box 82"/>
              <p:cNvSpPr/>
              <p:nvPr/>
            </p:nvSpPr>
            <p:spPr>
              <a:xfrm>
                <a:off x="2165400" y="2030400"/>
                <a:ext cx="36036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792" name="Line 83"/>
              <p:cNvSpPr/>
              <p:nvPr/>
            </p:nvSpPr>
            <p:spPr>
              <a:xfrm>
                <a:off x="2182680" y="25714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  <p:grpSp>
          <p:nvGrpSpPr>
            <p:cNvPr id="793" name="Group 88"/>
            <p:cNvGrpSpPr/>
            <p:nvPr/>
          </p:nvGrpSpPr>
          <p:grpSpPr>
            <a:xfrm>
              <a:off x="2157480" y="2868480"/>
              <a:ext cx="507960" cy="982080"/>
              <a:chOff x="2157480" y="2868480"/>
              <a:chExt cx="507960" cy="982080"/>
            </a:xfrm>
          </p:grpSpPr>
          <p:sp>
            <p:nvSpPr>
              <p:cNvPr id="794" name="Text Box 89"/>
              <p:cNvSpPr/>
              <p:nvPr/>
            </p:nvSpPr>
            <p:spPr>
              <a:xfrm>
                <a:off x="2160720" y="3244680"/>
                <a:ext cx="50472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8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795" name="Text Box 90"/>
              <p:cNvSpPr/>
              <p:nvPr/>
            </p:nvSpPr>
            <p:spPr>
              <a:xfrm>
                <a:off x="2157480" y="2868480"/>
                <a:ext cx="36036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796" name="Line 91"/>
              <p:cNvSpPr/>
              <p:nvPr/>
            </p:nvSpPr>
            <p:spPr>
              <a:xfrm>
                <a:off x="2173320" y="33573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7" name="Object 42"/>
          <p:cNvGraphicFramePr/>
          <p:nvPr/>
        </p:nvGraphicFramePr>
        <p:xfrm>
          <a:off x="2071800" y="1428840"/>
          <a:ext cx="382320" cy="10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428840"/>
                    <a:ext cx="38232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9" name="组合 93"/>
          <p:cNvGrpSpPr/>
          <p:nvPr/>
        </p:nvGrpSpPr>
        <p:grpSpPr>
          <a:xfrm>
            <a:off x="1417680" y="2620800"/>
            <a:ext cx="1868400" cy="1879920"/>
            <a:chOff x="1417680" y="2620800"/>
            <a:chExt cx="1868400" cy="1879920"/>
          </a:xfrm>
        </p:grpSpPr>
        <p:sp>
          <p:nvSpPr>
            <p:cNvPr id="800" name="饼形 53"/>
            <p:cNvSpPr/>
            <p:nvPr/>
          </p:nvSpPr>
          <p:spPr>
            <a:xfrm>
              <a:off x="1428480" y="2642760"/>
              <a:ext cx="1857600" cy="185796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801" name="椭圆 42"/>
            <p:cNvSpPr/>
            <p:nvPr/>
          </p:nvSpPr>
          <p:spPr>
            <a:xfrm>
              <a:off x="1417680" y="2620800"/>
              <a:ext cx="1857600" cy="1857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pSp>
          <p:nvGrpSpPr>
            <p:cNvPr id="802" name="组合 47"/>
            <p:cNvGrpSpPr/>
            <p:nvPr/>
          </p:nvGrpSpPr>
          <p:grpSpPr>
            <a:xfrm>
              <a:off x="1417680" y="2642760"/>
              <a:ext cx="1856880" cy="1857960"/>
              <a:chOff x="1417680" y="2642760"/>
              <a:chExt cx="1856880" cy="1857960"/>
            </a:xfrm>
          </p:grpSpPr>
          <p:sp>
            <p:nvSpPr>
              <p:cNvPr id="803" name="直接连接符 44"/>
              <p:cNvSpPr/>
              <p:nvPr/>
            </p:nvSpPr>
            <p:spPr>
              <a:xfrm flipV="1">
                <a:off x="1417680" y="3554280"/>
                <a:ext cx="18568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804" name="直接连接符 46"/>
              <p:cNvSpPr/>
              <p:nvPr/>
            </p:nvSpPr>
            <p:spPr>
              <a:xfrm>
                <a:off x="2344680" y="2642760"/>
                <a:ext cx="2880" cy="18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  <p:grpSp>
          <p:nvGrpSpPr>
            <p:cNvPr id="805" name="组合 48"/>
            <p:cNvGrpSpPr/>
            <p:nvPr/>
          </p:nvGrpSpPr>
          <p:grpSpPr>
            <a:xfrm>
              <a:off x="1690560" y="2894760"/>
              <a:ext cx="1311120" cy="1339560"/>
              <a:chOff x="1690560" y="2894760"/>
              <a:chExt cx="1311120" cy="1339560"/>
            </a:xfrm>
          </p:grpSpPr>
          <p:sp>
            <p:nvSpPr>
              <p:cNvPr id="806" name="直接连接符 49"/>
              <p:cNvSpPr/>
              <p:nvPr/>
            </p:nvSpPr>
            <p:spPr>
              <a:xfrm>
                <a:off x="1698120" y="2909880"/>
                <a:ext cx="1300320" cy="1324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807" name="直接连接符 50"/>
              <p:cNvSpPr/>
              <p:nvPr/>
            </p:nvSpPr>
            <p:spPr>
              <a:xfrm flipH="1">
                <a:off x="1690560" y="2894760"/>
                <a:ext cx="1311120" cy="13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808" name="组合 97"/>
          <p:cNvGrpSpPr/>
          <p:nvPr/>
        </p:nvGrpSpPr>
        <p:grpSpPr>
          <a:xfrm>
            <a:off x="3517560" y="2620800"/>
            <a:ext cx="1859400" cy="1879920"/>
            <a:chOff x="3517560" y="2620800"/>
            <a:chExt cx="1859400" cy="1879920"/>
          </a:xfrm>
        </p:grpSpPr>
        <p:sp>
          <p:nvSpPr>
            <p:cNvPr id="809" name="饼形 54"/>
            <p:cNvSpPr/>
            <p:nvPr/>
          </p:nvSpPr>
          <p:spPr>
            <a:xfrm>
              <a:off x="3519360" y="2620800"/>
              <a:ext cx="1857600" cy="1857960"/>
            </a:xfrm>
            <a:prstGeom prst="pi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pSp>
          <p:nvGrpSpPr>
            <p:cNvPr id="810" name="组合 56"/>
            <p:cNvGrpSpPr/>
            <p:nvPr/>
          </p:nvGrpSpPr>
          <p:grpSpPr>
            <a:xfrm>
              <a:off x="3519360" y="2626560"/>
              <a:ext cx="1857600" cy="1857960"/>
              <a:chOff x="3519360" y="2626560"/>
              <a:chExt cx="1857600" cy="1857960"/>
            </a:xfrm>
          </p:grpSpPr>
          <p:sp>
            <p:nvSpPr>
              <p:cNvPr id="811" name="直接连接符 57"/>
              <p:cNvSpPr/>
              <p:nvPr/>
            </p:nvSpPr>
            <p:spPr>
              <a:xfrm flipV="1">
                <a:off x="3519360" y="3555360"/>
                <a:ext cx="18576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812" name="直接连接符 58"/>
              <p:cNvSpPr/>
              <p:nvPr/>
            </p:nvSpPr>
            <p:spPr>
              <a:xfrm>
                <a:off x="4444920" y="2626560"/>
                <a:ext cx="1440" cy="18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  <p:grpSp>
          <p:nvGrpSpPr>
            <p:cNvPr id="813" name="组合 95"/>
            <p:cNvGrpSpPr/>
            <p:nvPr/>
          </p:nvGrpSpPr>
          <p:grpSpPr>
            <a:xfrm>
              <a:off x="3517560" y="2642760"/>
              <a:ext cx="1857240" cy="1857960"/>
              <a:chOff x="3517560" y="2642760"/>
              <a:chExt cx="1857240" cy="1857960"/>
            </a:xfrm>
          </p:grpSpPr>
          <p:sp>
            <p:nvSpPr>
              <p:cNvPr id="814" name="椭圆 55"/>
              <p:cNvSpPr/>
              <p:nvPr/>
            </p:nvSpPr>
            <p:spPr>
              <a:xfrm>
                <a:off x="3517560" y="2642760"/>
                <a:ext cx="1857240" cy="1857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pSp>
            <p:nvGrpSpPr>
              <p:cNvPr id="815" name="组合 59"/>
              <p:cNvGrpSpPr/>
              <p:nvPr/>
            </p:nvGrpSpPr>
            <p:grpSpPr>
              <a:xfrm>
                <a:off x="3778560" y="2913120"/>
                <a:ext cx="1332000" cy="1324440"/>
                <a:chOff x="3778560" y="2913120"/>
                <a:chExt cx="1332000" cy="1324440"/>
              </a:xfrm>
            </p:grpSpPr>
            <p:sp>
              <p:nvSpPr>
                <p:cNvPr id="816" name="直接连接符 60"/>
                <p:cNvSpPr/>
                <p:nvPr/>
              </p:nvSpPr>
              <p:spPr>
                <a:xfrm>
                  <a:off x="3778560" y="2913120"/>
                  <a:ext cx="1314360" cy="1314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sp>
              <p:nvSpPr>
                <p:cNvPr id="817" name="直接连接符 61"/>
                <p:cNvSpPr/>
                <p:nvPr/>
              </p:nvSpPr>
              <p:spPr>
                <a:xfrm flipH="1">
                  <a:off x="3797280" y="2922120"/>
                  <a:ext cx="1313280" cy="131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</p:grpSp>
        </p:grpSp>
      </p:grpSp>
      <p:graphicFrame>
        <p:nvGraphicFramePr>
          <p:cNvPr id="818" name="Object 43"/>
          <p:cNvGraphicFramePr/>
          <p:nvPr/>
        </p:nvGraphicFramePr>
        <p:xfrm>
          <a:off x="4286160" y="1428840"/>
          <a:ext cx="382680" cy="10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9" name="Object 4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6160" y="1428840"/>
                    <a:ext cx="3826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0" name="Rectangle 2"/>
          <p:cNvSpPr/>
          <p:nvPr/>
        </p:nvSpPr>
        <p:spPr>
          <a:xfrm>
            <a:off x="3071880" y="1571760"/>
            <a:ext cx="1071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21" name="Rectangle 2"/>
          <p:cNvSpPr/>
          <p:nvPr/>
        </p:nvSpPr>
        <p:spPr>
          <a:xfrm>
            <a:off x="1214280" y="714240"/>
            <a:ext cx="578664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爸爸和妈妈一共吃了多少张饼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822" name="Object 44"/>
          <p:cNvGraphicFramePr/>
          <p:nvPr/>
        </p:nvGraphicFramePr>
        <p:xfrm>
          <a:off x="3714840" y="4572000"/>
          <a:ext cx="960480" cy="10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3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4840" y="4572000"/>
                    <a:ext cx="9604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4" name="组合 94"/>
          <p:cNvGrpSpPr/>
          <p:nvPr/>
        </p:nvGrpSpPr>
        <p:grpSpPr>
          <a:xfrm>
            <a:off x="5778360" y="2620800"/>
            <a:ext cx="1936800" cy="1907640"/>
            <a:chOff x="5778360" y="2620800"/>
            <a:chExt cx="1936800" cy="1907640"/>
          </a:xfrm>
        </p:grpSpPr>
        <p:sp>
          <p:nvSpPr>
            <p:cNvPr id="825" name="饼形 86"/>
            <p:cNvSpPr/>
            <p:nvPr/>
          </p:nvSpPr>
          <p:spPr>
            <a:xfrm rot="154200">
              <a:off x="5817960" y="2684160"/>
              <a:ext cx="1857600" cy="180360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826" name="饼形 78"/>
            <p:cNvSpPr/>
            <p:nvPr/>
          </p:nvSpPr>
          <p:spPr>
            <a:xfrm>
              <a:off x="5816520" y="2620800"/>
              <a:ext cx="1857600" cy="1857600"/>
            </a:xfrm>
            <a:prstGeom prst="pi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827" name="椭圆 79"/>
            <p:cNvSpPr/>
            <p:nvPr/>
          </p:nvSpPr>
          <p:spPr>
            <a:xfrm>
              <a:off x="5814720" y="2626920"/>
              <a:ext cx="1856160" cy="185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pSp>
          <p:nvGrpSpPr>
            <p:cNvPr id="828" name="组合 80"/>
            <p:cNvGrpSpPr/>
            <p:nvPr/>
          </p:nvGrpSpPr>
          <p:grpSpPr>
            <a:xfrm>
              <a:off x="5815800" y="2626560"/>
              <a:ext cx="1857240" cy="1857240"/>
              <a:chOff x="5815800" y="2626560"/>
              <a:chExt cx="1857240" cy="1857240"/>
            </a:xfrm>
          </p:grpSpPr>
          <p:sp>
            <p:nvSpPr>
              <p:cNvPr id="829" name="直接连接符 81"/>
              <p:cNvSpPr/>
              <p:nvPr/>
            </p:nvSpPr>
            <p:spPr>
              <a:xfrm flipV="1">
                <a:off x="5815800" y="3555000"/>
                <a:ext cx="18572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830" name="直接连接符 82"/>
              <p:cNvSpPr/>
              <p:nvPr/>
            </p:nvSpPr>
            <p:spPr>
              <a:xfrm>
                <a:off x="6742080" y="2626560"/>
                <a:ext cx="1440" cy="1857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  <p:grpSp>
          <p:nvGrpSpPr>
            <p:cNvPr id="831" name="组合 83"/>
            <p:cNvGrpSpPr/>
            <p:nvPr/>
          </p:nvGrpSpPr>
          <p:grpSpPr>
            <a:xfrm>
              <a:off x="6075000" y="2896920"/>
              <a:ext cx="1329840" cy="1321560"/>
              <a:chOff x="6075000" y="2896920"/>
              <a:chExt cx="1329840" cy="1321560"/>
            </a:xfrm>
          </p:grpSpPr>
          <p:sp>
            <p:nvSpPr>
              <p:cNvPr id="832" name="直接连接符 84"/>
              <p:cNvSpPr/>
              <p:nvPr/>
            </p:nvSpPr>
            <p:spPr>
              <a:xfrm>
                <a:off x="6075000" y="2896920"/>
                <a:ext cx="1314360" cy="131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833" name="直接连接符 85"/>
              <p:cNvSpPr/>
              <p:nvPr/>
            </p:nvSpPr>
            <p:spPr>
              <a:xfrm flipH="1">
                <a:off x="6092640" y="2904120"/>
                <a:ext cx="1312200" cy="131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</p:grpSp>
      <p:graphicFrame>
        <p:nvGraphicFramePr>
          <p:cNvPr id="834" name="Object 45"/>
          <p:cNvGraphicFramePr/>
          <p:nvPr/>
        </p:nvGraphicFramePr>
        <p:xfrm>
          <a:off x="2143080" y="4637160"/>
          <a:ext cx="1720800" cy="107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5" name="Object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3080" y="4637160"/>
                    <a:ext cx="172080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46"/>
          <p:cNvGraphicFramePr/>
          <p:nvPr/>
        </p:nvGraphicFramePr>
        <p:xfrm>
          <a:off x="4651200" y="4637160"/>
          <a:ext cx="920880" cy="1077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7" name="Object 4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51200" y="4637160"/>
                    <a:ext cx="9208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47"/>
          <p:cNvGraphicFramePr/>
          <p:nvPr/>
        </p:nvGraphicFramePr>
        <p:xfrm>
          <a:off x="5262480" y="1494000"/>
          <a:ext cx="881280" cy="1077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39" name="Object 4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62480" y="1494000"/>
                    <a:ext cx="8812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48"/>
          <p:cNvGraphicFramePr/>
          <p:nvPr/>
        </p:nvGraphicFramePr>
        <p:xfrm>
          <a:off x="5477040" y="4643280"/>
          <a:ext cx="880920" cy="107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1" name="Object 4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77040" y="4643280"/>
                    <a:ext cx="88092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Rectangle 2"/>
          <p:cNvSpPr/>
          <p:nvPr/>
        </p:nvSpPr>
        <p:spPr>
          <a:xfrm>
            <a:off x="1857240" y="5643720"/>
            <a:ext cx="5000760" cy="564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计算的结果，能约分的要约分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843" name="Object 49"/>
          <p:cNvGraphicFramePr/>
          <p:nvPr/>
        </p:nvGraphicFramePr>
        <p:xfrm>
          <a:off x="5286240" y="1762200"/>
          <a:ext cx="841680" cy="452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4" name="Object 4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86240" y="1762200"/>
                    <a:ext cx="8416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5" name="Rectangle 2"/>
          <p:cNvSpPr/>
          <p:nvPr/>
        </p:nvSpPr>
        <p:spPr>
          <a:xfrm>
            <a:off x="1643040" y="2357280"/>
            <a:ext cx="578664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画图试一试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Object 42"/>
          <p:cNvGraphicFramePr/>
          <p:nvPr/>
        </p:nvGraphicFramePr>
        <p:xfrm>
          <a:off x="2071800" y="1428840"/>
          <a:ext cx="382320" cy="10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7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428840"/>
                    <a:ext cx="38232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8" name="组合 93"/>
          <p:cNvGrpSpPr/>
          <p:nvPr/>
        </p:nvGrpSpPr>
        <p:grpSpPr>
          <a:xfrm>
            <a:off x="1417680" y="2620800"/>
            <a:ext cx="1868400" cy="1879920"/>
            <a:chOff x="1417680" y="2620800"/>
            <a:chExt cx="1868400" cy="1879920"/>
          </a:xfrm>
        </p:grpSpPr>
        <p:sp>
          <p:nvSpPr>
            <p:cNvPr id="849" name="饼形 53"/>
            <p:cNvSpPr/>
            <p:nvPr/>
          </p:nvSpPr>
          <p:spPr>
            <a:xfrm>
              <a:off x="1428480" y="2642760"/>
              <a:ext cx="1857600" cy="185796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850" name="椭圆 42"/>
            <p:cNvSpPr/>
            <p:nvPr/>
          </p:nvSpPr>
          <p:spPr>
            <a:xfrm>
              <a:off x="1417680" y="2620800"/>
              <a:ext cx="1857600" cy="1857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pSp>
          <p:nvGrpSpPr>
            <p:cNvPr id="851" name="组合 47"/>
            <p:cNvGrpSpPr/>
            <p:nvPr/>
          </p:nvGrpSpPr>
          <p:grpSpPr>
            <a:xfrm>
              <a:off x="1417680" y="2642760"/>
              <a:ext cx="1856880" cy="1857960"/>
              <a:chOff x="1417680" y="2642760"/>
              <a:chExt cx="1856880" cy="1857960"/>
            </a:xfrm>
          </p:grpSpPr>
          <p:sp>
            <p:nvSpPr>
              <p:cNvPr id="852" name="直接连接符 44"/>
              <p:cNvSpPr/>
              <p:nvPr/>
            </p:nvSpPr>
            <p:spPr>
              <a:xfrm flipV="1">
                <a:off x="1417680" y="3554280"/>
                <a:ext cx="18568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853" name="直接连接符 46"/>
              <p:cNvSpPr/>
              <p:nvPr/>
            </p:nvSpPr>
            <p:spPr>
              <a:xfrm>
                <a:off x="2344680" y="2642760"/>
                <a:ext cx="2880" cy="18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  <p:grpSp>
          <p:nvGrpSpPr>
            <p:cNvPr id="854" name="组合 48"/>
            <p:cNvGrpSpPr/>
            <p:nvPr/>
          </p:nvGrpSpPr>
          <p:grpSpPr>
            <a:xfrm>
              <a:off x="1690560" y="2894760"/>
              <a:ext cx="1311120" cy="1339560"/>
              <a:chOff x="1690560" y="2894760"/>
              <a:chExt cx="1311120" cy="1339560"/>
            </a:xfrm>
          </p:grpSpPr>
          <p:sp>
            <p:nvSpPr>
              <p:cNvPr id="855" name="直接连接符 49"/>
              <p:cNvSpPr/>
              <p:nvPr/>
            </p:nvSpPr>
            <p:spPr>
              <a:xfrm>
                <a:off x="1698120" y="2909880"/>
                <a:ext cx="1300320" cy="1324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856" name="直接连接符 50"/>
              <p:cNvSpPr/>
              <p:nvPr/>
            </p:nvSpPr>
            <p:spPr>
              <a:xfrm flipH="1">
                <a:off x="1690560" y="2894760"/>
                <a:ext cx="1311120" cy="13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857" name="组合 97"/>
          <p:cNvGrpSpPr/>
          <p:nvPr/>
        </p:nvGrpSpPr>
        <p:grpSpPr>
          <a:xfrm>
            <a:off x="3517560" y="2620800"/>
            <a:ext cx="1859400" cy="1879920"/>
            <a:chOff x="3517560" y="2620800"/>
            <a:chExt cx="1859400" cy="1879920"/>
          </a:xfrm>
        </p:grpSpPr>
        <p:sp>
          <p:nvSpPr>
            <p:cNvPr id="858" name="饼形 54"/>
            <p:cNvSpPr/>
            <p:nvPr/>
          </p:nvSpPr>
          <p:spPr>
            <a:xfrm>
              <a:off x="3519360" y="2620800"/>
              <a:ext cx="1857600" cy="1857960"/>
            </a:xfrm>
            <a:prstGeom prst="pi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pSp>
          <p:nvGrpSpPr>
            <p:cNvPr id="859" name="组合 56"/>
            <p:cNvGrpSpPr/>
            <p:nvPr/>
          </p:nvGrpSpPr>
          <p:grpSpPr>
            <a:xfrm>
              <a:off x="3519360" y="2626560"/>
              <a:ext cx="1857600" cy="1857960"/>
              <a:chOff x="3519360" y="2626560"/>
              <a:chExt cx="1857600" cy="1857960"/>
            </a:xfrm>
          </p:grpSpPr>
          <p:sp>
            <p:nvSpPr>
              <p:cNvPr id="860" name="直接连接符 57"/>
              <p:cNvSpPr/>
              <p:nvPr/>
            </p:nvSpPr>
            <p:spPr>
              <a:xfrm flipV="1">
                <a:off x="3519360" y="3555360"/>
                <a:ext cx="18576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861" name="直接连接符 58"/>
              <p:cNvSpPr/>
              <p:nvPr/>
            </p:nvSpPr>
            <p:spPr>
              <a:xfrm>
                <a:off x="4444920" y="2626560"/>
                <a:ext cx="1440" cy="18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  <p:grpSp>
          <p:nvGrpSpPr>
            <p:cNvPr id="862" name="组合 95"/>
            <p:cNvGrpSpPr/>
            <p:nvPr/>
          </p:nvGrpSpPr>
          <p:grpSpPr>
            <a:xfrm>
              <a:off x="3517560" y="2642760"/>
              <a:ext cx="1857240" cy="1857960"/>
              <a:chOff x="3517560" y="2642760"/>
              <a:chExt cx="1857240" cy="1857960"/>
            </a:xfrm>
          </p:grpSpPr>
          <p:sp>
            <p:nvSpPr>
              <p:cNvPr id="863" name="椭圆 55"/>
              <p:cNvSpPr/>
              <p:nvPr/>
            </p:nvSpPr>
            <p:spPr>
              <a:xfrm>
                <a:off x="3517560" y="2642760"/>
                <a:ext cx="1857240" cy="1857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pSp>
            <p:nvGrpSpPr>
              <p:cNvPr id="864" name="组合 59"/>
              <p:cNvGrpSpPr/>
              <p:nvPr/>
            </p:nvGrpSpPr>
            <p:grpSpPr>
              <a:xfrm>
                <a:off x="3778560" y="2913120"/>
                <a:ext cx="1332000" cy="1324440"/>
                <a:chOff x="3778560" y="2913120"/>
                <a:chExt cx="1332000" cy="1324440"/>
              </a:xfrm>
            </p:grpSpPr>
            <p:sp>
              <p:nvSpPr>
                <p:cNvPr id="865" name="直接连接符 60"/>
                <p:cNvSpPr/>
                <p:nvPr/>
              </p:nvSpPr>
              <p:spPr>
                <a:xfrm>
                  <a:off x="3778560" y="2913120"/>
                  <a:ext cx="1314360" cy="1314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sp>
              <p:nvSpPr>
                <p:cNvPr id="866" name="直接连接符 61"/>
                <p:cNvSpPr/>
                <p:nvPr/>
              </p:nvSpPr>
              <p:spPr>
                <a:xfrm flipH="1">
                  <a:off x="3797280" y="2922120"/>
                  <a:ext cx="1313280" cy="131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</p:grpSp>
        </p:grpSp>
      </p:grpSp>
      <p:graphicFrame>
        <p:nvGraphicFramePr>
          <p:cNvPr id="867" name="Object 43"/>
          <p:cNvGraphicFramePr/>
          <p:nvPr/>
        </p:nvGraphicFramePr>
        <p:xfrm>
          <a:off x="4286160" y="1428840"/>
          <a:ext cx="382680" cy="10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8" name="Object 4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6160" y="1428840"/>
                    <a:ext cx="3826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9" name="Rectangle 2"/>
          <p:cNvSpPr/>
          <p:nvPr/>
        </p:nvSpPr>
        <p:spPr>
          <a:xfrm>
            <a:off x="3071880" y="1571760"/>
            <a:ext cx="1071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70" name="Rectangle 2"/>
          <p:cNvSpPr/>
          <p:nvPr/>
        </p:nvSpPr>
        <p:spPr>
          <a:xfrm>
            <a:off x="1214280" y="714240"/>
            <a:ext cx="578664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爸爸比妈妈多吃了多少张饼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871" name="Object 44"/>
          <p:cNvGraphicFramePr/>
          <p:nvPr/>
        </p:nvGraphicFramePr>
        <p:xfrm>
          <a:off x="3714840" y="4572000"/>
          <a:ext cx="960480" cy="10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2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4840" y="4572000"/>
                    <a:ext cx="9604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3" name="组合 94"/>
          <p:cNvGrpSpPr/>
          <p:nvPr/>
        </p:nvGrpSpPr>
        <p:grpSpPr>
          <a:xfrm>
            <a:off x="5778360" y="2620800"/>
            <a:ext cx="1936800" cy="1907640"/>
            <a:chOff x="5778360" y="2620800"/>
            <a:chExt cx="1936800" cy="1907640"/>
          </a:xfrm>
        </p:grpSpPr>
        <p:sp>
          <p:nvSpPr>
            <p:cNvPr id="874" name="饼形 78"/>
            <p:cNvSpPr/>
            <p:nvPr/>
          </p:nvSpPr>
          <p:spPr>
            <a:xfrm>
              <a:off x="5816520" y="2620800"/>
              <a:ext cx="1857600" cy="1857600"/>
            </a:xfrm>
            <a:prstGeom prst="pi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875" name="椭圆 79"/>
            <p:cNvSpPr/>
            <p:nvPr/>
          </p:nvSpPr>
          <p:spPr>
            <a:xfrm>
              <a:off x="5814720" y="2626920"/>
              <a:ext cx="1856160" cy="185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pSp>
          <p:nvGrpSpPr>
            <p:cNvPr id="876" name="组合 80"/>
            <p:cNvGrpSpPr/>
            <p:nvPr/>
          </p:nvGrpSpPr>
          <p:grpSpPr>
            <a:xfrm>
              <a:off x="5815800" y="2626560"/>
              <a:ext cx="1857240" cy="1857240"/>
              <a:chOff x="5815800" y="2626560"/>
              <a:chExt cx="1857240" cy="1857240"/>
            </a:xfrm>
          </p:grpSpPr>
          <p:sp>
            <p:nvSpPr>
              <p:cNvPr id="877" name="直接连接符 81"/>
              <p:cNvSpPr/>
              <p:nvPr/>
            </p:nvSpPr>
            <p:spPr>
              <a:xfrm flipV="1">
                <a:off x="5815800" y="3555000"/>
                <a:ext cx="18572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878" name="直接连接符 82"/>
              <p:cNvSpPr/>
              <p:nvPr/>
            </p:nvSpPr>
            <p:spPr>
              <a:xfrm>
                <a:off x="6742080" y="2626560"/>
                <a:ext cx="1440" cy="1857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  <p:grpSp>
          <p:nvGrpSpPr>
            <p:cNvPr id="879" name="组合 83"/>
            <p:cNvGrpSpPr/>
            <p:nvPr/>
          </p:nvGrpSpPr>
          <p:grpSpPr>
            <a:xfrm>
              <a:off x="6075000" y="2896920"/>
              <a:ext cx="1329840" cy="1321560"/>
              <a:chOff x="6075000" y="2896920"/>
              <a:chExt cx="1329840" cy="1321560"/>
            </a:xfrm>
          </p:grpSpPr>
          <p:sp>
            <p:nvSpPr>
              <p:cNvPr id="880" name="直接连接符 84"/>
              <p:cNvSpPr/>
              <p:nvPr/>
            </p:nvSpPr>
            <p:spPr>
              <a:xfrm>
                <a:off x="6075000" y="2896920"/>
                <a:ext cx="1314360" cy="131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881" name="直接连接符 85"/>
              <p:cNvSpPr/>
              <p:nvPr/>
            </p:nvSpPr>
            <p:spPr>
              <a:xfrm flipH="1">
                <a:off x="6092640" y="2904120"/>
                <a:ext cx="1312200" cy="131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  <p:sp>
          <p:nvSpPr>
            <p:cNvPr id="882" name="饼形 86"/>
            <p:cNvSpPr/>
            <p:nvPr/>
          </p:nvSpPr>
          <p:spPr>
            <a:xfrm rot="154200">
              <a:off x="5817960" y="2684160"/>
              <a:ext cx="1857600" cy="180360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</p:grpSp>
      <p:graphicFrame>
        <p:nvGraphicFramePr>
          <p:cNvPr id="883" name="Object 45"/>
          <p:cNvGraphicFramePr/>
          <p:nvPr/>
        </p:nvGraphicFramePr>
        <p:xfrm>
          <a:off x="2143080" y="4637160"/>
          <a:ext cx="1720800" cy="107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4" name="Object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3080" y="4637160"/>
                    <a:ext cx="172080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5" name="Object 46"/>
          <p:cNvGraphicFramePr/>
          <p:nvPr/>
        </p:nvGraphicFramePr>
        <p:xfrm>
          <a:off x="4672080" y="4637160"/>
          <a:ext cx="879480" cy="1077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6" name="Object 4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72080" y="4637160"/>
                    <a:ext cx="8794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47"/>
          <p:cNvGraphicFramePr/>
          <p:nvPr/>
        </p:nvGraphicFramePr>
        <p:xfrm>
          <a:off x="5243400" y="1494000"/>
          <a:ext cx="920880" cy="1077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8" name="Object 4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43400" y="1494000"/>
                    <a:ext cx="9208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9" name="Object 48"/>
          <p:cNvGraphicFramePr/>
          <p:nvPr/>
        </p:nvGraphicFramePr>
        <p:xfrm>
          <a:off x="5457960" y="4643280"/>
          <a:ext cx="920520" cy="107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0" name="Object 4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57960" y="4643280"/>
                    <a:ext cx="92052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Rectangle 2"/>
          <p:cNvSpPr/>
          <p:nvPr/>
        </p:nvSpPr>
        <p:spPr>
          <a:xfrm>
            <a:off x="6572160" y="4929120"/>
            <a:ext cx="1143000" cy="565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约分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892" name="Object 49"/>
          <p:cNvGraphicFramePr/>
          <p:nvPr/>
        </p:nvGraphicFramePr>
        <p:xfrm>
          <a:off x="5286240" y="1762200"/>
          <a:ext cx="841680" cy="452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4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86240" y="1762200"/>
                    <a:ext cx="8416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4" name="Rectangle 2"/>
          <p:cNvSpPr/>
          <p:nvPr/>
        </p:nvSpPr>
        <p:spPr>
          <a:xfrm>
            <a:off x="1643040" y="2357280"/>
            <a:ext cx="578664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画图试一试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5" name="Object 20"/>
          <p:cNvGraphicFramePr/>
          <p:nvPr/>
        </p:nvGraphicFramePr>
        <p:xfrm>
          <a:off x="2955960" y="1071720"/>
          <a:ext cx="3400560" cy="10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6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5960" y="1071720"/>
                    <a:ext cx="340056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7" name="Object 45"/>
          <p:cNvGraphicFramePr/>
          <p:nvPr/>
        </p:nvGraphicFramePr>
        <p:xfrm>
          <a:off x="2955960" y="2208240"/>
          <a:ext cx="3402000" cy="10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8" name="Object 4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55960" y="2208240"/>
                    <a:ext cx="340200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9" name="Rectangle 2"/>
          <p:cNvSpPr/>
          <p:nvPr/>
        </p:nvSpPr>
        <p:spPr>
          <a:xfrm>
            <a:off x="1071720" y="3286080"/>
            <a:ext cx="7215120" cy="71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同分母分数相加减，分母不变，分子相加减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1071720" y="3857760"/>
            <a:ext cx="7286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出几个同分母分数相加减的算式并计算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1" name="Rectangle 2"/>
          <p:cNvSpPr/>
          <p:nvPr/>
        </p:nvSpPr>
        <p:spPr>
          <a:xfrm>
            <a:off x="1143000" y="4429080"/>
            <a:ext cx="5500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如何计算异分母分数的加减法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2"/>
          <p:cNvSpPr/>
          <p:nvPr/>
        </p:nvSpPr>
        <p:spPr>
          <a:xfrm>
            <a:off x="785880" y="934920"/>
            <a:ext cx="778680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人们在日常生活中产生的垃圾叫做生活垃圾。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纸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废金属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垃圾回收的主要对象，它们在生活垃圾中共占几分之几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pic>
        <p:nvPicPr>
          <p:cNvPr id="903" name="Picture 139" descr="u6jx02_3_2345看图王"/>
          <p:cNvPicPr/>
          <p:nvPr/>
        </p:nvPicPr>
        <p:blipFill>
          <a:blip r:embed="rId1"/>
          <a:stretch/>
        </p:blipFill>
        <p:spPr>
          <a:xfrm>
            <a:off x="1000080" y="1857240"/>
            <a:ext cx="2995560" cy="2838600"/>
          </a:xfrm>
          <a:prstGeom prst="rect">
            <a:avLst/>
          </a:prstGeom>
          <a:ln w="0">
            <a:noFill/>
          </a:ln>
        </p:spPr>
      </p:pic>
      <p:sp>
        <p:nvSpPr>
          <p:cNvPr id="904" name="圆角矩形 55"/>
          <p:cNvSpPr/>
          <p:nvPr/>
        </p:nvSpPr>
        <p:spPr>
          <a:xfrm>
            <a:off x="1428840" y="2695680"/>
            <a:ext cx="785880" cy="928440"/>
          </a:xfrm>
          <a:custGeom>
            <a:avLst/>
            <a:gdLst>
              <a:gd name="textAreaLeft" fmla="*/ 38160 w 785880"/>
              <a:gd name="textAreaRight" fmla="*/ 747720 w 785880"/>
              <a:gd name="textAreaTop" fmla="*/ 38160 h 928440"/>
              <a:gd name="textAreaBottom" fmla="*/ 890280 h 928440"/>
            </a:gdLst>
            <a:ahLst/>
            <a:rect l="textAreaLeft" t="textAreaTop" r="textAreaRight" b="textAreaBottom"/>
            <a:pathLst>
              <a:path w="21600" h="25516">
                <a:moveTo>
                  <a:pt x="3600" y="0"/>
                </a:moveTo>
                <a:arcTo wR="3600" hR="3600" stAng="16200000" swAng="-5400000"/>
                <a:lnTo>
                  <a:pt x="0" y="21916"/>
                </a:lnTo>
                <a:arcTo wR="3600" hR="3600" stAng="10800000" swAng="-5400000"/>
                <a:lnTo>
                  <a:pt x="18000" y="255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5" name="圆角矩形 56"/>
          <p:cNvSpPr/>
          <p:nvPr/>
        </p:nvSpPr>
        <p:spPr>
          <a:xfrm>
            <a:off x="2714760" y="2695680"/>
            <a:ext cx="785520" cy="928440"/>
          </a:xfrm>
          <a:custGeom>
            <a:avLst/>
            <a:gdLst>
              <a:gd name="textAreaLeft" fmla="*/ 38160 w 785520"/>
              <a:gd name="textAreaRight" fmla="*/ 747360 w 785520"/>
              <a:gd name="textAreaTop" fmla="*/ 38160 h 928440"/>
              <a:gd name="textAreaBottom" fmla="*/ 890280 h 928440"/>
            </a:gdLst>
            <a:ahLst/>
            <a:rect l="textAreaLeft" t="textAreaTop" r="textAreaRight" b="textAreaBottom"/>
            <a:pathLst>
              <a:path w="21600" h="25528">
                <a:moveTo>
                  <a:pt x="3600" y="0"/>
                </a:moveTo>
                <a:arcTo wR="3600" hR="3600" stAng="16200000" swAng="-5400000"/>
                <a:lnTo>
                  <a:pt x="0" y="21928"/>
                </a:lnTo>
                <a:arcTo wR="3600" hR="3600" stAng="10800000" swAng="-5400000"/>
                <a:lnTo>
                  <a:pt x="18000" y="25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906" name="Object 53"/>
          <p:cNvGraphicFramePr/>
          <p:nvPr/>
        </p:nvGraphicFramePr>
        <p:xfrm>
          <a:off x="1500120" y="4357800"/>
          <a:ext cx="2071800" cy="10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7" name="Object 5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00120" y="4357800"/>
                    <a:ext cx="207180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8" name="AutoShape 169"/>
          <p:cNvSpPr/>
          <p:nvPr/>
        </p:nvSpPr>
        <p:spPr>
          <a:xfrm>
            <a:off x="3916440" y="3213000"/>
            <a:ext cx="798480" cy="144720"/>
          </a:xfrm>
          <a:prstGeom prst="rightArrow">
            <a:avLst>
              <a:gd name="adj1" fmla="val 50000"/>
              <a:gd name="adj2" fmla="val 298349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9" name="Rectangle 2"/>
          <p:cNvSpPr/>
          <p:nvPr/>
        </p:nvSpPr>
        <p:spPr>
          <a:xfrm>
            <a:off x="1714680" y="5221440"/>
            <a:ext cx="55004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与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最小公倍数是多少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pic>
        <p:nvPicPr>
          <p:cNvPr id="910" name="Picture 171" descr="未标题-9"/>
          <p:cNvPicPr/>
          <p:nvPr/>
        </p:nvPicPr>
        <p:blipFill>
          <a:blip r:embed="rId4"/>
          <a:stretch/>
        </p:blipFill>
        <p:spPr>
          <a:xfrm>
            <a:off x="4857840" y="2000160"/>
            <a:ext cx="2714400" cy="2627280"/>
          </a:xfrm>
          <a:prstGeom prst="rect">
            <a:avLst/>
          </a:prstGeom>
          <a:ln w="0">
            <a:noFill/>
          </a:ln>
        </p:spPr>
      </p:pic>
      <p:sp>
        <p:nvSpPr>
          <p:cNvPr id="911" name="圆角矩形 62"/>
          <p:cNvSpPr/>
          <p:nvPr/>
        </p:nvSpPr>
        <p:spPr>
          <a:xfrm>
            <a:off x="5143680" y="2786040"/>
            <a:ext cx="785520" cy="928800"/>
          </a:xfrm>
          <a:custGeom>
            <a:avLst/>
            <a:gdLst>
              <a:gd name="textAreaLeft" fmla="*/ 38160 w 785520"/>
              <a:gd name="textAreaRight" fmla="*/ 747360 w 785520"/>
              <a:gd name="textAreaTop" fmla="*/ 38160 h 928800"/>
              <a:gd name="textAreaBottom" fmla="*/ 890640 h 928800"/>
            </a:gdLst>
            <a:ahLst/>
            <a:rect l="textAreaLeft" t="textAreaTop" r="textAreaRight" b="textAreaBottom"/>
            <a:pathLst>
              <a:path w="21600" h="25538">
                <a:moveTo>
                  <a:pt x="3600" y="0"/>
                </a:moveTo>
                <a:arcTo wR="3600" hR="3600" stAng="16200000" swAng="-5400000"/>
                <a:lnTo>
                  <a:pt x="0" y="21938"/>
                </a:lnTo>
                <a:arcTo wR="3600" hR="3600" stAng="10800000" swAng="-5400000"/>
                <a:lnTo>
                  <a:pt x="18000" y="25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12" name="圆角矩形 63"/>
          <p:cNvSpPr/>
          <p:nvPr/>
        </p:nvSpPr>
        <p:spPr>
          <a:xfrm>
            <a:off x="6500880" y="2714760"/>
            <a:ext cx="785880" cy="928440"/>
          </a:xfrm>
          <a:custGeom>
            <a:avLst/>
            <a:gdLst>
              <a:gd name="textAreaLeft" fmla="*/ 38160 w 785880"/>
              <a:gd name="textAreaRight" fmla="*/ 747720 w 785880"/>
              <a:gd name="textAreaTop" fmla="*/ 38160 h 928440"/>
              <a:gd name="textAreaBottom" fmla="*/ 890280 h 928440"/>
            </a:gdLst>
            <a:ahLst/>
            <a:rect l="textAreaLeft" t="textAreaTop" r="textAreaRight" b="textAreaBottom"/>
            <a:pathLst>
              <a:path w="21600" h="25516">
                <a:moveTo>
                  <a:pt x="3600" y="0"/>
                </a:moveTo>
                <a:arcTo wR="3600" hR="3600" stAng="16200000" swAng="-5400000"/>
                <a:lnTo>
                  <a:pt x="0" y="21916"/>
                </a:lnTo>
                <a:arcTo wR="3600" hR="3600" stAng="10800000" swAng="-5400000"/>
                <a:lnTo>
                  <a:pt x="18000" y="255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913" name="Object 54"/>
          <p:cNvGraphicFramePr/>
          <p:nvPr/>
        </p:nvGraphicFramePr>
        <p:xfrm>
          <a:off x="1500120" y="4363920"/>
          <a:ext cx="3328920" cy="107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4" name="Object 5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00120" y="4363920"/>
                    <a:ext cx="332892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5" name="Object 55"/>
          <p:cNvGraphicFramePr/>
          <p:nvPr/>
        </p:nvGraphicFramePr>
        <p:xfrm>
          <a:off x="4822920" y="4363920"/>
          <a:ext cx="1035000" cy="107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6" name="Object 5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2920" y="4363920"/>
                    <a:ext cx="103500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7" name="圆角矩形 66"/>
          <p:cNvSpPr/>
          <p:nvPr/>
        </p:nvSpPr>
        <p:spPr>
          <a:xfrm>
            <a:off x="1500120" y="4363920"/>
            <a:ext cx="3357720" cy="1071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18" name="Rectangle 2"/>
          <p:cNvSpPr/>
          <p:nvPr/>
        </p:nvSpPr>
        <p:spPr>
          <a:xfrm>
            <a:off x="857160" y="5429160"/>
            <a:ext cx="7929720" cy="85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异分母分数相加减，先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通分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然后按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同分母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数加减的方法计算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2"/>
          <p:cNvSpPr/>
          <p:nvPr/>
        </p:nvSpPr>
        <p:spPr>
          <a:xfrm>
            <a:off x="857160" y="857160"/>
            <a:ext cx="77868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试一试：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食品垃圾比危险垃圾多几分之几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pic>
        <p:nvPicPr>
          <p:cNvPr id="920" name="Picture 139" descr="u6jx02_3_2345看图王"/>
          <p:cNvPicPr/>
          <p:nvPr/>
        </p:nvPicPr>
        <p:blipFill>
          <a:blip r:embed="rId1"/>
          <a:stretch/>
        </p:blipFill>
        <p:spPr>
          <a:xfrm>
            <a:off x="2862360" y="1428840"/>
            <a:ext cx="2995560" cy="283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1" name="Object 78"/>
          <p:cNvGraphicFramePr/>
          <p:nvPr/>
        </p:nvGraphicFramePr>
        <p:xfrm>
          <a:off x="2214720" y="4006800"/>
          <a:ext cx="1590480" cy="10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2" name="Object 7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4720" y="4006800"/>
                    <a:ext cx="15904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3" name="Object 79"/>
          <p:cNvGraphicFramePr/>
          <p:nvPr/>
        </p:nvGraphicFramePr>
        <p:xfrm>
          <a:off x="3751200" y="4000680"/>
          <a:ext cx="2035080" cy="107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4" name="Object 7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51200" y="4000680"/>
                    <a:ext cx="20350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5" name="Object 80"/>
          <p:cNvGraphicFramePr/>
          <p:nvPr/>
        </p:nvGraphicFramePr>
        <p:xfrm>
          <a:off x="5680080" y="4006800"/>
          <a:ext cx="1035000" cy="107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26" name="Object 8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80080" y="4006800"/>
                    <a:ext cx="103500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7" name="组合 84"/>
          <p:cNvGrpSpPr/>
          <p:nvPr/>
        </p:nvGrpSpPr>
        <p:grpSpPr>
          <a:xfrm>
            <a:off x="2428920" y="4851360"/>
            <a:ext cx="5715000" cy="1077840"/>
            <a:chOff x="2428920" y="4851360"/>
            <a:chExt cx="5715000" cy="1077840"/>
          </a:xfrm>
        </p:grpSpPr>
        <p:sp>
          <p:nvSpPr>
            <p:cNvPr id="928" name="Rectangle 2"/>
            <p:cNvSpPr/>
            <p:nvPr/>
          </p:nvSpPr>
          <p:spPr>
            <a:xfrm>
              <a:off x="2428920" y="5136840"/>
              <a:ext cx="57150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答：食品垃圾比危险垃圾多    。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aphicFrame>
          <p:nvGraphicFramePr>
            <p:cNvPr id="929" name="Object 81"/>
            <p:cNvGraphicFramePr/>
            <p:nvPr/>
          </p:nvGraphicFramePr>
          <p:xfrm>
            <a:off x="6801120" y="4851360"/>
            <a:ext cx="628560" cy="10778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30" name="Object 81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801120" y="4851360"/>
                      <a:ext cx="628560" cy="107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31" name="Rectangle 2"/>
          <p:cNvSpPr/>
          <p:nvPr/>
        </p:nvSpPr>
        <p:spPr>
          <a:xfrm>
            <a:off x="1785960" y="5643720"/>
            <a:ext cx="5000760" cy="564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计算的结果，能约分的要约分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3214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列式并计算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3" name="Rectangle 6"/>
          <p:cNvSpPr/>
          <p:nvPr/>
        </p:nvSpPr>
        <p:spPr>
          <a:xfrm>
            <a:off x="0" y="-270000"/>
            <a:ext cx="1843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34" name="Rectangle 51"/>
          <p:cNvSpPr/>
          <p:nvPr/>
        </p:nvSpPr>
        <p:spPr>
          <a:xfrm>
            <a:off x="3294720" y="4214880"/>
            <a:ext cx="2142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pSp>
        <p:nvGrpSpPr>
          <p:cNvPr id="935" name="Group 52"/>
          <p:cNvGrpSpPr/>
          <p:nvPr/>
        </p:nvGrpSpPr>
        <p:grpSpPr>
          <a:xfrm>
            <a:off x="3547080" y="4000680"/>
            <a:ext cx="445320" cy="888480"/>
            <a:chOff x="3547080" y="4000680"/>
            <a:chExt cx="445320" cy="888480"/>
          </a:xfrm>
        </p:grpSpPr>
        <p:sp>
          <p:nvSpPr>
            <p:cNvPr id="936" name="Rectangle 53"/>
            <p:cNvSpPr/>
            <p:nvPr/>
          </p:nvSpPr>
          <p:spPr>
            <a:xfrm>
              <a:off x="3547080" y="4376880"/>
              <a:ext cx="42768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pSp>
          <p:nvGrpSpPr>
            <p:cNvPr id="937" name="Group 54"/>
            <p:cNvGrpSpPr/>
            <p:nvPr/>
          </p:nvGrpSpPr>
          <p:grpSpPr>
            <a:xfrm>
              <a:off x="3632040" y="4000680"/>
              <a:ext cx="360360" cy="512280"/>
              <a:chOff x="3632040" y="4000680"/>
              <a:chExt cx="360360" cy="512280"/>
            </a:xfrm>
          </p:grpSpPr>
          <p:sp>
            <p:nvSpPr>
              <p:cNvPr id="938" name="Line 55"/>
              <p:cNvSpPr/>
              <p:nvPr/>
            </p:nvSpPr>
            <p:spPr>
              <a:xfrm>
                <a:off x="3632040" y="4468680"/>
                <a:ext cx="360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939" name="Rectangle 56"/>
              <p:cNvSpPr/>
              <p:nvPr/>
            </p:nvSpPr>
            <p:spPr>
              <a:xfrm>
                <a:off x="3714840" y="4000680"/>
                <a:ext cx="21420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4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940" name="Group 57"/>
          <p:cNvGrpSpPr/>
          <p:nvPr/>
        </p:nvGrpSpPr>
        <p:grpSpPr>
          <a:xfrm>
            <a:off x="2295360" y="4000680"/>
            <a:ext cx="863640" cy="937800"/>
            <a:chOff x="2295360" y="4000680"/>
            <a:chExt cx="863640" cy="937800"/>
          </a:xfrm>
        </p:grpSpPr>
        <p:grpSp>
          <p:nvGrpSpPr>
            <p:cNvPr id="941" name="Group 58"/>
            <p:cNvGrpSpPr/>
            <p:nvPr/>
          </p:nvGrpSpPr>
          <p:grpSpPr>
            <a:xfrm>
              <a:off x="2295360" y="4426200"/>
              <a:ext cx="863640" cy="512280"/>
              <a:chOff x="2295360" y="4426200"/>
              <a:chExt cx="863640" cy="512280"/>
            </a:xfrm>
          </p:grpSpPr>
          <p:sp>
            <p:nvSpPr>
              <p:cNvPr id="942" name="Line 59"/>
              <p:cNvSpPr/>
              <p:nvPr/>
            </p:nvSpPr>
            <p:spPr>
              <a:xfrm>
                <a:off x="2295360" y="4478400"/>
                <a:ext cx="863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943" name="Rectangle 60"/>
              <p:cNvSpPr/>
              <p:nvPr/>
            </p:nvSpPr>
            <p:spPr>
              <a:xfrm>
                <a:off x="2557440" y="4426200"/>
                <a:ext cx="21420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  <p:sp>
          <p:nvSpPr>
            <p:cNvPr id="944" name="Rectangle 61"/>
            <p:cNvSpPr/>
            <p:nvPr/>
          </p:nvSpPr>
          <p:spPr>
            <a:xfrm>
              <a:off x="2855880" y="4000680"/>
              <a:ext cx="2142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945" name="Rectangle 62"/>
            <p:cNvSpPr/>
            <p:nvPr/>
          </p:nvSpPr>
          <p:spPr>
            <a:xfrm>
              <a:off x="2322360" y="4019760"/>
              <a:ext cx="2142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946" name="Rectangle 63"/>
            <p:cNvSpPr/>
            <p:nvPr/>
          </p:nvSpPr>
          <p:spPr>
            <a:xfrm>
              <a:off x="2506320" y="4024440"/>
              <a:ext cx="30492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</p:grpSp>
      <p:grpSp>
        <p:nvGrpSpPr>
          <p:cNvPr id="947" name="Group 64"/>
          <p:cNvGrpSpPr/>
          <p:nvPr/>
        </p:nvGrpSpPr>
        <p:grpSpPr>
          <a:xfrm>
            <a:off x="678600" y="4019400"/>
            <a:ext cx="1533240" cy="918360"/>
            <a:chOff x="678600" y="4019400"/>
            <a:chExt cx="1533240" cy="918360"/>
          </a:xfrm>
        </p:grpSpPr>
        <p:grpSp>
          <p:nvGrpSpPr>
            <p:cNvPr id="948" name="Group 65"/>
            <p:cNvGrpSpPr/>
            <p:nvPr/>
          </p:nvGrpSpPr>
          <p:grpSpPr>
            <a:xfrm>
              <a:off x="678600" y="4019400"/>
              <a:ext cx="448560" cy="911880"/>
              <a:chOff x="678600" y="4019400"/>
              <a:chExt cx="448560" cy="911880"/>
            </a:xfrm>
          </p:grpSpPr>
          <p:sp>
            <p:nvSpPr>
              <p:cNvPr id="949" name="Rectangle 66"/>
              <p:cNvSpPr/>
              <p:nvPr/>
            </p:nvSpPr>
            <p:spPr>
              <a:xfrm>
                <a:off x="678600" y="4419000"/>
                <a:ext cx="42768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pSp>
            <p:nvGrpSpPr>
              <p:cNvPr id="950" name="Group 67"/>
              <p:cNvGrpSpPr/>
              <p:nvPr/>
            </p:nvGrpSpPr>
            <p:grpSpPr>
              <a:xfrm>
                <a:off x="766800" y="4019400"/>
                <a:ext cx="360360" cy="512280"/>
                <a:chOff x="766800" y="4019400"/>
                <a:chExt cx="360360" cy="512280"/>
              </a:xfrm>
            </p:grpSpPr>
            <p:sp>
              <p:nvSpPr>
                <p:cNvPr id="951" name="Line 68"/>
                <p:cNvSpPr/>
                <p:nvPr/>
              </p:nvSpPr>
              <p:spPr>
                <a:xfrm>
                  <a:off x="766800" y="4488840"/>
                  <a:ext cx="3603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sp>
              <p:nvSpPr>
                <p:cNvPr id="952" name="Rectangle 69"/>
                <p:cNvSpPr/>
                <p:nvPr/>
              </p:nvSpPr>
              <p:spPr>
                <a:xfrm>
                  <a:off x="849600" y="4019400"/>
                  <a:ext cx="214200" cy="51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2</a:t>
                  </a:r>
                  <a:endParaRPr b="1" lang="en-US" sz="28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</p:grpSp>
        </p:grpSp>
        <p:sp>
          <p:nvSpPr>
            <p:cNvPr id="953" name="Rectangle 70"/>
            <p:cNvSpPr/>
            <p:nvPr/>
          </p:nvSpPr>
          <p:spPr>
            <a:xfrm>
              <a:off x="1997640" y="4215960"/>
              <a:ext cx="2142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954" name="Rectangle 71"/>
            <p:cNvSpPr/>
            <p:nvPr/>
          </p:nvSpPr>
          <p:spPr>
            <a:xfrm>
              <a:off x="1245240" y="4236840"/>
              <a:ext cx="2142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pSp>
          <p:nvGrpSpPr>
            <p:cNvPr id="955" name="Group 72"/>
            <p:cNvGrpSpPr/>
            <p:nvPr/>
          </p:nvGrpSpPr>
          <p:grpSpPr>
            <a:xfrm>
              <a:off x="1393920" y="4019400"/>
              <a:ext cx="493200" cy="918360"/>
              <a:chOff x="1393920" y="4019400"/>
              <a:chExt cx="493200" cy="918360"/>
            </a:xfrm>
          </p:grpSpPr>
          <p:sp>
            <p:nvSpPr>
              <p:cNvPr id="956" name="Rectangle 73"/>
              <p:cNvSpPr/>
              <p:nvPr/>
            </p:nvSpPr>
            <p:spPr>
              <a:xfrm>
                <a:off x="1393920" y="4425480"/>
                <a:ext cx="42768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pSp>
            <p:nvGrpSpPr>
              <p:cNvPr id="957" name="Group 74"/>
              <p:cNvGrpSpPr/>
              <p:nvPr/>
            </p:nvGrpSpPr>
            <p:grpSpPr>
              <a:xfrm>
                <a:off x="1526760" y="4019400"/>
                <a:ext cx="360360" cy="512280"/>
                <a:chOff x="1526760" y="4019400"/>
                <a:chExt cx="360360" cy="512280"/>
              </a:xfrm>
            </p:grpSpPr>
            <p:sp>
              <p:nvSpPr>
                <p:cNvPr id="958" name="Line 75"/>
                <p:cNvSpPr/>
                <p:nvPr/>
              </p:nvSpPr>
              <p:spPr>
                <a:xfrm>
                  <a:off x="1526760" y="4479480"/>
                  <a:ext cx="3603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sp>
              <p:nvSpPr>
                <p:cNvPr id="959" name="Rectangle 76"/>
                <p:cNvSpPr/>
                <p:nvPr/>
              </p:nvSpPr>
              <p:spPr>
                <a:xfrm>
                  <a:off x="1609560" y="4019400"/>
                  <a:ext cx="214200" cy="51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2</a:t>
                  </a:r>
                  <a:endParaRPr b="1" lang="en-US" sz="28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960" name="Group 77"/>
          <p:cNvGrpSpPr/>
          <p:nvPr/>
        </p:nvGrpSpPr>
        <p:grpSpPr>
          <a:xfrm>
            <a:off x="4761360" y="3936960"/>
            <a:ext cx="1605240" cy="985680"/>
            <a:chOff x="4761360" y="3936960"/>
            <a:chExt cx="1605240" cy="985680"/>
          </a:xfrm>
        </p:grpSpPr>
        <p:sp>
          <p:nvSpPr>
            <p:cNvPr id="961" name="Rectangle 78"/>
            <p:cNvSpPr/>
            <p:nvPr/>
          </p:nvSpPr>
          <p:spPr>
            <a:xfrm>
              <a:off x="6152400" y="4175280"/>
              <a:ext cx="2142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pSp>
          <p:nvGrpSpPr>
            <p:cNvPr id="962" name="Group 79"/>
            <p:cNvGrpSpPr/>
            <p:nvPr/>
          </p:nvGrpSpPr>
          <p:grpSpPr>
            <a:xfrm>
              <a:off x="4761360" y="4008600"/>
              <a:ext cx="439200" cy="914040"/>
              <a:chOff x="4761360" y="4008600"/>
              <a:chExt cx="439200" cy="914040"/>
            </a:xfrm>
          </p:grpSpPr>
          <p:sp>
            <p:nvSpPr>
              <p:cNvPr id="963" name="Rectangle 80"/>
              <p:cNvSpPr/>
              <p:nvPr/>
            </p:nvSpPr>
            <p:spPr>
              <a:xfrm>
                <a:off x="4761360" y="4410360"/>
                <a:ext cx="42768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7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pSp>
            <p:nvGrpSpPr>
              <p:cNvPr id="964" name="Group 81"/>
              <p:cNvGrpSpPr/>
              <p:nvPr/>
            </p:nvGrpSpPr>
            <p:grpSpPr>
              <a:xfrm>
                <a:off x="4840200" y="4008600"/>
                <a:ext cx="360360" cy="512280"/>
                <a:chOff x="4840200" y="4008600"/>
                <a:chExt cx="360360" cy="512280"/>
              </a:xfrm>
            </p:grpSpPr>
            <p:sp>
              <p:nvSpPr>
                <p:cNvPr id="965" name="Line 82"/>
                <p:cNvSpPr/>
                <p:nvPr/>
              </p:nvSpPr>
              <p:spPr>
                <a:xfrm>
                  <a:off x="4840200" y="4448160"/>
                  <a:ext cx="3603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sp>
              <p:nvSpPr>
                <p:cNvPr id="966" name="Rectangle 83"/>
                <p:cNvSpPr/>
                <p:nvPr/>
              </p:nvSpPr>
              <p:spPr>
                <a:xfrm>
                  <a:off x="4940280" y="4008600"/>
                  <a:ext cx="169920" cy="51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6</a:t>
                  </a:r>
                  <a:endParaRPr b="1" lang="en-US" sz="28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</p:grpSp>
        </p:grpSp>
        <p:sp>
          <p:nvSpPr>
            <p:cNvPr id="967" name="Rectangle 84"/>
            <p:cNvSpPr/>
            <p:nvPr/>
          </p:nvSpPr>
          <p:spPr>
            <a:xfrm>
              <a:off x="5366520" y="4179960"/>
              <a:ext cx="2142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－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pSp>
          <p:nvGrpSpPr>
            <p:cNvPr id="968" name="Group 85"/>
            <p:cNvGrpSpPr/>
            <p:nvPr/>
          </p:nvGrpSpPr>
          <p:grpSpPr>
            <a:xfrm>
              <a:off x="5547240" y="3936960"/>
              <a:ext cx="510840" cy="975960"/>
              <a:chOff x="5547240" y="3936960"/>
              <a:chExt cx="510840" cy="975960"/>
            </a:xfrm>
          </p:grpSpPr>
          <p:sp>
            <p:nvSpPr>
              <p:cNvPr id="969" name="Rectangle 86"/>
              <p:cNvSpPr/>
              <p:nvPr/>
            </p:nvSpPr>
            <p:spPr>
              <a:xfrm>
                <a:off x="5547240" y="4400640"/>
                <a:ext cx="42768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7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grpSp>
            <p:nvGrpSpPr>
              <p:cNvPr id="970" name="Group 87"/>
              <p:cNvGrpSpPr/>
              <p:nvPr/>
            </p:nvGrpSpPr>
            <p:grpSpPr>
              <a:xfrm>
                <a:off x="5697720" y="3936960"/>
                <a:ext cx="360360" cy="512280"/>
                <a:chOff x="5697720" y="3936960"/>
                <a:chExt cx="360360" cy="512280"/>
              </a:xfrm>
            </p:grpSpPr>
            <p:sp>
              <p:nvSpPr>
                <p:cNvPr id="971" name="Line 88"/>
                <p:cNvSpPr/>
                <p:nvPr/>
              </p:nvSpPr>
              <p:spPr>
                <a:xfrm>
                  <a:off x="5697720" y="4438440"/>
                  <a:ext cx="3603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sp>
              <p:nvSpPr>
                <p:cNvPr id="972" name="Rectangle 89"/>
                <p:cNvSpPr/>
                <p:nvPr/>
              </p:nvSpPr>
              <p:spPr>
                <a:xfrm>
                  <a:off x="5742360" y="3936960"/>
                  <a:ext cx="214200" cy="51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2</a:t>
                  </a:r>
                  <a:endParaRPr b="1" lang="en-US" sz="28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973" name="Group 91"/>
          <p:cNvGrpSpPr/>
          <p:nvPr/>
        </p:nvGrpSpPr>
        <p:grpSpPr>
          <a:xfrm>
            <a:off x="6492960" y="3929040"/>
            <a:ext cx="910800" cy="969480"/>
            <a:chOff x="6492960" y="3929040"/>
            <a:chExt cx="910800" cy="969480"/>
          </a:xfrm>
        </p:grpSpPr>
        <p:grpSp>
          <p:nvGrpSpPr>
            <p:cNvPr id="974" name="Group 92"/>
            <p:cNvGrpSpPr/>
            <p:nvPr/>
          </p:nvGrpSpPr>
          <p:grpSpPr>
            <a:xfrm>
              <a:off x="6511680" y="4386240"/>
              <a:ext cx="892080" cy="512280"/>
              <a:chOff x="6511680" y="4386240"/>
              <a:chExt cx="892080" cy="512280"/>
            </a:xfrm>
          </p:grpSpPr>
          <p:sp>
            <p:nvSpPr>
              <p:cNvPr id="975" name="Line 93"/>
              <p:cNvSpPr/>
              <p:nvPr/>
            </p:nvSpPr>
            <p:spPr>
              <a:xfrm>
                <a:off x="6511680" y="4433760"/>
                <a:ext cx="892080" cy="1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976" name="Rectangle 94"/>
              <p:cNvSpPr/>
              <p:nvPr/>
            </p:nvSpPr>
            <p:spPr>
              <a:xfrm>
                <a:off x="6605280" y="4386240"/>
                <a:ext cx="42768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7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  <p:sp>
          <p:nvSpPr>
            <p:cNvPr id="977" name="Rectangle 95"/>
            <p:cNvSpPr/>
            <p:nvPr/>
          </p:nvSpPr>
          <p:spPr>
            <a:xfrm>
              <a:off x="7101000" y="3929040"/>
              <a:ext cx="2142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978" name="Rectangle 96"/>
            <p:cNvSpPr/>
            <p:nvPr/>
          </p:nvSpPr>
          <p:spPr>
            <a:xfrm>
              <a:off x="6492960" y="3929040"/>
              <a:ext cx="2142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979" name="Rectangle 97"/>
            <p:cNvSpPr/>
            <p:nvPr/>
          </p:nvSpPr>
          <p:spPr>
            <a:xfrm>
              <a:off x="6831720" y="3929040"/>
              <a:ext cx="2142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－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</p:grpSp>
      <p:grpSp>
        <p:nvGrpSpPr>
          <p:cNvPr id="980" name="Group 125"/>
          <p:cNvGrpSpPr/>
          <p:nvPr/>
        </p:nvGrpSpPr>
        <p:grpSpPr>
          <a:xfrm>
            <a:off x="7439040" y="4000680"/>
            <a:ext cx="713160" cy="902880"/>
            <a:chOff x="7439040" y="4000680"/>
            <a:chExt cx="713160" cy="902880"/>
          </a:xfrm>
        </p:grpSpPr>
        <p:sp>
          <p:nvSpPr>
            <p:cNvPr id="981" name="Rectangle 101"/>
            <p:cNvSpPr/>
            <p:nvPr/>
          </p:nvSpPr>
          <p:spPr>
            <a:xfrm>
              <a:off x="7439040" y="4191120"/>
              <a:ext cx="3600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pSp>
          <p:nvGrpSpPr>
            <p:cNvPr id="982" name="Group 102"/>
            <p:cNvGrpSpPr/>
            <p:nvPr/>
          </p:nvGrpSpPr>
          <p:grpSpPr>
            <a:xfrm>
              <a:off x="7701120" y="4000680"/>
              <a:ext cx="451080" cy="902880"/>
              <a:chOff x="7701120" y="4000680"/>
              <a:chExt cx="451080" cy="902880"/>
            </a:xfrm>
          </p:grpSpPr>
          <p:grpSp>
            <p:nvGrpSpPr>
              <p:cNvPr id="983" name="Group 103"/>
              <p:cNvGrpSpPr/>
              <p:nvPr/>
            </p:nvGrpSpPr>
            <p:grpSpPr>
              <a:xfrm>
                <a:off x="7710480" y="4391280"/>
                <a:ext cx="441720" cy="512280"/>
                <a:chOff x="7710480" y="4391280"/>
                <a:chExt cx="441720" cy="512280"/>
              </a:xfrm>
            </p:grpSpPr>
            <p:sp>
              <p:nvSpPr>
                <p:cNvPr id="984" name="Rectangle 104"/>
                <p:cNvSpPr/>
                <p:nvPr/>
              </p:nvSpPr>
              <p:spPr>
                <a:xfrm>
                  <a:off x="7710480" y="4391280"/>
                  <a:ext cx="427680" cy="51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7</a:t>
                  </a:r>
                  <a:endParaRPr b="1" lang="en-US" sz="28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sp>
              <p:nvSpPr>
                <p:cNvPr id="985" name="Line 105"/>
                <p:cNvSpPr/>
                <p:nvPr/>
              </p:nvSpPr>
              <p:spPr>
                <a:xfrm>
                  <a:off x="7792200" y="4429440"/>
                  <a:ext cx="3600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986" name="Rectangle 106"/>
              <p:cNvSpPr/>
              <p:nvPr/>
            </p:nvSpPr>
            <p:spPr>
              <a:xfrm>
                <a:off x="7701120" y="4000680"/>
                <a:ext cx="42768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4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987" name="Picture 68" descr=""/>
          <p:cNvPicPr/>
          <p:nvPr/>
        </p:nvPicPr>
        <p:blipFill>
          <a:blip r:embed="rId1"/>
          <a:stretch/>
        </p:blipFill>
        <p:spPr>
          <a:xfrm>
            <a:off x="795240" y="1571760"/>
            <a:ext cx="8062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2"/>
          <p:cNvSpPr/>
          <p:nvPr/>
        </p:nvSpPr>
        <p:spPr>
          <a:xfrm>
            <a:off x="1285920" y="857160"/>
            <a:ext cx="7215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计算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989" name="Object 2"/>
          <p:cNvGraphicFramePr/>
          <p:nvPr/>
        </p:nvGraphicFramePr>
        <p:xfrm>
          <a:off x="2351160" y="1692360"/>
          <a:ext cx="90468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1160" y="1692360"/>
                    <a:ext cx="9046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1" name="Object 3"/>
          <p:cNvGraphicFramePr/>
          <p:nvPr/>
        </p:nvGraphicFramePr>
        <p:xfrm>
          <a:off x="2281320" y="2676600"/>
          <a:ext cx="104616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1320" y="2676600"/>
                    <a:ext cx="10461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3" name="Object 4"/>
          <p:cNvGraphicFramePr/>
          <p:nvPr/>
        </p:nvGraphicFramePr>
        <p:xfrm>
          <a:off x="2228760" y="3676680"/>
          <a:ext cx="107640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28760" y="3676680"/>
                    <a:ext cx="10764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5" name="Object 5"/>
          <p:cNvGraphicFramePr/>
          <p:nvPr/>
        </p:nvGraphicFramePr>
        <p:xfrm>
          <a:off x="5281560" y="1763640"/>
          <a:ext cx="1046160" cy="87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1560" y="1763640"/>
                    <a:ext cx="10461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7" name="Object 6"/>
          <p:cNvGraphicFramePr/>
          <p:nvPr/>
        </p:nvGraphicFramePr>
        <p:xfrm>
          <a:off x="5281560" y="2747880"/>
          <a:ext cx="1046160" cy="87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81560" y="2747880"/>
                    <a:ext cx="10461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9" name="Object 7"/>
          <p:cNvGraphicFramePr/>
          <p:nvPr/>
        </p:nvGraphicFramePr>
        <p:xfrm>
          <a:off x="5310360" y="3747960"/>
          <a:ext cx="1047600" cy="876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0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10360" y="3747960"/>
                    <a:ext cx="10476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1" name="Object 11"/>
          <p:cNvGraphicFramePr/>
          <p:nvPr/>
        </p:nvGraphicFramePr>
        <p:xfrm>
          <a:off x="3214800" y="1695600"/>
          <a:ext cx="622080" cy="876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02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14800" y="1695600"/>
                    <a:ext cx="6220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3" name="Object 12"/>
          <p:cNvGraphicFramePr/>
          <p:nvPr/>
        </p:nvGraphicFramePr>
        <p:xfrm>
          <a:off x="3220920" y="2695680"/>
          <a:ext cx="650880" cy="876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04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20920" y="2695680"/>
                    <a:ext cx="6508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5" name="Object 13"/>
          <p:cNvGraphicFramePr/>
          <p:nvPr/>
        </p:nvGraphicFramePr>
        <p:xfrm>
          <a:off x="3251160" y="3695760"/>
          <a:ext cx="820800" cy="876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06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51160" y="3695760"/>
                    <a:ext cx="8208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7" name="Object 14"/>
          <p:cNvGraphicFramePr/>
          <p:nvPr/>
        </p:nvGraphicFramePr>
        <p:xfrm>
          <a:off x="6251400" y="1766880"/>
          <a:ext cx="820800" cy="876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08" name="Object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51400" y="1766880"/>
                    <a:ext cx="8208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9" name="Object 15"/>
          <p:cNvGraphicFramePr/>
          <p:nvPr/>
        </p:nvGraphicFramePr>
        <p:xfrm>
          <a:off x="6292800" y="2766960"/>
          <a:ext cx="650880" cy="876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10" name="Object 1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92800" y="2766960"/>
                    <a:ext cx="6508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1" name="Object 16"/>
          <p:cNvGraphicFramePr/>
          <p:nvPr/>
        </p:nvGraphicFramePr>
        <p:xfrm>
          <a:off x="6286680" y="3767040"/>
          <a:ext cx="734760" cy="8762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12" name="Object 1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286680" y="3767040"/>
                    <a:ext cx="7347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3:31:23Z</dcterms:created>
  <dc:creator/>
  <dc:description/>
  <cp:keywords/>
  <dc:language>en-US</dc:language>
  <cp:lastModifiedBy/>
  <dcterms:modified xsi:type="dcterms:W3CDTF">2017-12-20T14:36:59Z</dcterms:modified>
  <cp:revision>1</cp:revision>
  <dc:subject/>
  <dc:title/>
</cp:coreProperties>
</file>