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90.wmf" ContentType="image/x-wmf"/>
  <Override PartName="/ppt/media/image25.wmf" ContentType="image/x-wmf"/>
  <Override PartName="/ppt/media/image62.wmf" ContentType="image/x-wmf"/>
  <Override PartName="/ppt/media/image91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20.png" ContentType="image/png"/>
  <Override PartName="/ppt/media/image88.wmf" ContentType="image/x-wmf"/>
  <Override PartName="/ppt/media/image51.wmf" ContentType="image/x-wmf"/>
  <Override PartName="/ppt/media/image21.wmf" ContentType="image/x-wmf"/>
  <Override PartName="/ppt/media/image5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1.png" ContentType="image/png"/>
  <Override PartName="/ppt/media/image7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C13-44EB-4A16-A7E1-9C2AB972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C1F-6776-433B-93EE-CFBE6847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29D-B45E-43C7-985B-3BD6A5C5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D5E-D93A-4C76-BFC8-E5AF3B56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13A-20AF-4C79-9F1F-E442209D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50F3-39D1-4041-8CFD-CF2B06F6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3DC2-46A4-4CD1-BCE3-75F7B896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C6D-948F-481E-9256-4672EA9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583-D13F-45C0-BF59-C01B0B01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7F53-E7E0-4C05-A5E0-9749AF6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221D-262F-431A-BFB4-08DEE68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BCF-C975-45FB-9D2F-7187F93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36B-15AC-4D6F-ABE8-8B91C71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A3A-0907-4044-B7DF-B23A43F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442-DE8F-42D6-9022-507D37B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408-1639-4655-B4EF-8776A057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F2DE-46D6-4472-8056-974F65D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928-B4B9-4D6F-B190-CB9DE3C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8A7-6180-4D7E-ABB8-B0B4279A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06D-7476-472B-927F-CD80A15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706-A892-4865-85E6-9F4FC459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A61-15FF-44C1-A01D-E11268B2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1A5-1D47-4863-893F-C5531380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E09-121E-42D8-B54D-74233AE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3F9-51E3-4E5D-8B11-5C14B4690A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195-3771-44F3-ADE0-32245402F22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3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5.wmf"/><Relationship Id="rId37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5.wmf"/><Relationship Id="rId2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3"/>
          <p:cNvSpPr/>
          <p:nvPr/>
        </p:nvSpPr>
        <p:spPr>
          <a:xfrm>
            <a:off x="1428840" y="17146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9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加减法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组合 6"/>
          <p:cNvGrpSpPr/>
          <p:nvPr/>
        </p:nvGrpSpPr>
        <p:grpSpPr>
          <a:xfrm>
            <a:off x="1857240" y="1695600"/>
            <a:ext cx="5929560" cy="2590560"/>
            <a:chOff x="1857240" y="1695600"/>
            <a:chExt cx="5929560" cy="2590560"/>
          </a:xfrm>
        </p:grpSpPr>
        <p:pic>
          <p:nvPicPr>
            <p:cNvPr id="1167" name="Picture 9" descr=""/>
            <p:cNvPicPr/>
            <p:nvPr/>
          </p:nvPicPr>
          <p:blipFill>
            <a:blip r:embed="rId1"/>
            <a:stretch/>
          </p:blipFill>
          <p:spPr>
            <a:xfrm>
              <a:off x="2643120" y="1695600"/>
              <a:ext cx="514368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8" name="组合 52"/>
            <p:cNvGrpSpPr/>
            <p:nvPr/>
          </p:nvGrpSpPr>
          <p:grpSpPr>
            <a:xfrm>
              <a:off x="1857240" y="2909880"/>
              <a:ext cx="1500120" cy="805320"/>
              <a:chOff x="1857240" y="2909880"/>
              <a:chExt cx="1500120" cy="805320"/>
            </a:xfrm>
          </p:grpSpPr>
          <p:sp>
            <p:nvSpPr>
              <p:cNvPr id="1169" name="直接连接符 18"/>
              <p:cNvSpPr/>
              <p:nvPr/>
            </p:nvSpPr>
            <p:spPr>
              <a:xfrm>
                <a:off x="2142720" y="333864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0" name="Object 44"/>
              <p:cNvGraphicFramePr/>
              <p:nvPr/>
            </p:nvGraphicFramePr>
            <p:xfrm>
              <a:off x="1857240" y="2909880"/>
              <a:ext cx="28548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71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57240" y="2909880"/>
                        <a:ext cx="28548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72" name="组合 56"/>
            <p:cNvGrpSpPr/>
            <p:nvPr/>
          </p:nvGrpSpPr>
          <p:grpSpPr>
            <a:xfrm>
              <a:off x="3571920" y="2266920"/>
              <a:ext cx="1025280" cy="804600"/>
              <a:chOff x="3571920" y="2266920"/>
              <a:chExt cx="1025280" cy="804600"/>
            </a:xfrm>
          </p:grpSpPr>
          <p:sp>
            <p:nvSpPr>
              <p:cNvPr id="1173" name="直接连接符 16"/>
              <p:cNvSpPr/>
              <p:nvPr/>
            </p:nvSpPr>
            <p:spPr>
              <a:xfrm flipV="1">
                <a:off x="3571920" y="2766600"/>
                <a:ext cx="64296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4" name="Object 45"/>
              <p:cNvGraphicFramePr/>
              <p:nvPr/>
            </p:nvGraphicFramePr>
            <p:xfrm>
              <a:off x="4286160" y="226692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75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6160" y="226692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76" name="组合 63"/>
            <p:cNvGrpSpPr/>
            <p:nvPr/>
          </p:nvGrpSpPr>
          <p:grpSpPr>
            <a:xfrm>
              <a:off x="3844800" y="3033720"/>
              <a:ext cx="798480" cy="804600"/>
              <a:chOff x="3844800" y="3033720"/>
              <a:chExt cx="798480" cy="804600"/>
            </a:xfrm>
          </p:grpSpPr>
          <p:sp>
            <p:nvSpPr>
              <p:cNvPr id="1177" name="直接连接符 14"/>
              <p:cNvSpPr/>
              <p:nvPr/>
            </p:nvSpPr>
            <p:spPr>
              <a:xfrm flipV="1">
                <a:off x="3844800" y="3338280"/>
                <a:ext cx="58428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78" name="Object 46"/>
              <p:cNvGraphicFramePr/>
              <p:nvPr/>
            </p:nvGraphicFramePr>
            <p:xfrm>
              <a:off x="4357440" y="3033720"/>
              <a:ext cx="28584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79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357440" y="3033720"/>
                        <a:ext cx="2858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80" name="组合 66"/>
            <p:cNvGrpSpPr/>
            <p:nvPr/>
          </p:nvGrpSpPr>
          <p:grpSpPr>
            <a:xfrm>
              <a:off x="3500280" y="3481560"/>
              <a:ext cx="857160" cy="804600"/>
              <a:chOff x="3500280" y="3481560"/>
              <a:chExt cx="857160" cy="804600"/>
            </a:xfrm>
          </p:grpSpPr>
          <p:sp>
            <p:nvSpPr>
              <p:cNvPr id="1181" name="直接连接符 12"/>
              <p:cNvSpPr/>
              <p:nvPr/>
            </p:nvSpPr>
            <p:spPr>
              <a:xfrm>
                <a:off x="3500280" y="3714840"/>
                <a:ext cx="57132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82" name="Object 47"/>
              <p:cNvGraphicFramePr/>
              <p:nvPr/>
            </p:nvGraphicFramePr>
            <p:xfrm>
              <a:off x="4071960" y="348156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83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071960" y="348156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84" name="Rectangle 2"/>
          <p:cNvSpPr/>
          <p:nvPr/>
        </p:nvSpPr>
        <p:spPr>
          <a:xfrm>
            <a:off x="500040" y="1000080"/>
            <a:ext cx="8215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看乒乓球的比喜欢看举重的多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85" name="Object 11"/>
          <p:cNvGraphicFramePr/>
          <p:nvPr/>
        </p:nvGraphicFramePr>
        <p:xfrm>
          <a:off x="2928960" y="436572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8960" y="436572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13"/>
          <p:cNvGraphicFramePr/>
          <p:nvPr/>
        </p:nvGraphicFramePr>
        <p:xfrm>
          <a:off x="3714840" y="4410000"/>
          <a:ext cx="114120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4840" y="4410000"/>
                    <a:ext cx="1141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14"/>
          <p:cNvGraphicFramePr/>
          <p:nvPr/>
        </p:nvGraphicFramePr>
        <p:xfrm>
          <a:off x="4786200" y="4410000"/>
          <a:ext cx="90828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90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6200" y="4410000"/>
                    <a:ext cx="908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1" name="Object 15"/>
          <p:cNvGraphicFramePr/>
          <p:nvPr/>
        </p:nvGraphicFramePr>
        <p:xfrm>
          <a:off x="5715000" y="4410000"/>
          <a:ext cx="59688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92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15000" y="4410000"/>
                    <a:ext cx="596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3" name="Rectangle 2"/>
          <p:cNvSpPr/>
          <p:nvPr/>
        </p:nvSpPr>
        <p:spPr>
          <a:xfrm>
            <a:off x="2071800" y="5578560"/>
            <a:ext cx="5929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决其他异分母分数加减法问题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3071880" y="5214960"/>
            <a:ext cx="300024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之前先通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1357200" y="1000080"/>
            <a:ext cx="3857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算一算，说一说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96" name="Object 19"/>
          <p:cNvGraphicFramePr/>
          <p:nvPr/>
        </p:nvGraphicFramePr>
        <p:xfrm>
          <a:off x="2697120" y="3767040"/>
          <a:ext cx="108900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3767040"/>
                    <a:ext cx="1089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8" name="Object 21"/>
          <p:cNvGraphicFramePr/>
          <p:nvPr/>
        </p:nvGraphicFramePr>
        <p:xfrm>
          <a:off x="2697120" y="4767120"/>
          <a:ext cx="108900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120" y="4767120"/>
                    <a:ext cx="1089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0" name="Object 22"/>
          <p:cNvGraphicFramePr/>
          <p:nvPr/>
        </p:nvGraphicFramePr>
        <p:xfrm>
          <a:off x="2697120" y="1805040"/>
          <a:ext cx="111600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7120" y="18050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2" name="Object 23"/>
          <p:cNvGraphicFramePr/>
          <p:nvPr/>
        </p:nvGraphicFramePr>
        <p:xfrm>
          <a:off x="2697120" y="2766960"/>
          <a:ext cx="111600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7120" y="276696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4" name="Object 6"/>
          <p:cNvGraphicFramePr/>
          <p:nvPr/>
        </p:nvGraphicFramePr>
        <p:xfrm>
          <a:off x="3786120" y="1857240"/>
          <a:ext cx="1116000" cy="80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6120" y="18572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Object 7"/>
          <p:cNvGraphicFramePr/>
          <p:nvPr/>
        </p:nvGraphicFramePr>
        <p:xfrm>
          <a:off x="4903920" y="1857240"/>
          <a:ext cx="285480" cy="80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3920" y="185724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Object 8"/>
          <p:cNvGraphicFramePr/>
          <p:nvPr/>
        </p:nvGraphicFramePr>
        <p:xfrm>
          <a:off x="3786120" y="2747880"/>
          <a:ext cx="1116000" cy="80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86120" y="274788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0" name="Object 9"/>
          <p:cNvGraphicFramePr/>
          <p:nvPr/>
        </p:nvGraphicFramePr>
        <p:xfrm>
          <a:off x="4903920" y="2747880"/>
          <a:ext cx="285480" cy="80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03920" y="274788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Object 10"/>
          <p:cNvGraphicFramePr/>
          <p:nvPr/>
        </p:nvGraphicFramePr>
        <p:xfrm>
          <a:off x="3786120" y="3767040"/>
          <a:ext cx="111600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6120" y="3767040"/>
                    <a:ext cx="111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4" name="Object 11"/>
          <p:cNvGraphicFramePr/>
          <p:nvPr/>
        </p:nvGraphicFramePr>
        <p:xfrm>
          <a:off x="4903920" y="3767040"/>
          <a:ext cx="311040" cy="80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03920" y="3767040"/>
                    <a:ext cx="3110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6" name="Object 12"/>
          <p:cNvGraphicFramePr/>
          <p:nvPr/>
        </p:nvGraphicFramePr>
        <p:xfrm>
          <a:off x="3786120" y="4767120"/>
          <a:ext cx="1114560" cy="80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86120" y="4767120"/>
                    <a:ext cx="11145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8" name="Object 13"/>
          <p:cNvGraphicFramePr/>
          <p:nvPr/>
        </p:nvGraphicFramePr>
        <p:xfrm>
          <a:off x="4903920" y="4767120"/>
          <a:ext cx="285480" cy="80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9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03920" y="4767120"/>
                    <a:ext cx="28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1071720" y="4286160"/>
            <a:ext cx="77151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相加减，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然后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加减的方法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1000080" y="100008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纳：异分母分数的加减法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22" name="Object 17"/>
          <p:cNvGraphicFramePr/>
          <p:nvPr/>
        </p:nvGraphicFramePr>
        <p:xfrm>
          <a:off x="1846440" y="1714680"/>
          <a:ext cx="243972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1714680"/>
                    <a:ext cx="24397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4" name="Object 18"/>
          <p:cNvGraphicFramePr/>
          <p:nvPr/>
        </p:nvGraphicFramePr>
        <p:xfrm>
          <a:off x="5060880" y="1695600"/>
          <a:ext cx="2440080" cy="80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0880" y="1695600"/>
                    <a:ext cx="24400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6" name="Object 19"/>
          <p:cNvGraphicFramePr/>
          <p:nvPr/>
        </p:nvGraphicFramePr>
        <p:xfrm>
          <a:off x="1882800" y="3357720"/>
          <a:ext cx="238752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2800" y="335772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Object 21"/>
          <p:cNvGraphicFramePr/>
          <p:nvPr/>
        </p:nvGraphicFramePr>
        <p:xfrm>
          <a:off x="5084640" y="3376440"/>
          <a:ext cx="236088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9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4640" y="3376440"/>
                    <a:ext cx="2360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Object 22"/>
          <p:cNvGraphicFramePr/>
          <p:nvPr/>
        </p:nvGraphicFramePr>
        <p:xfrm>
          <a:off x="1882800" y="2590920"/>
          <a:ext cx="2387520" cy="80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1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2800" y="259092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Object 23"/>
          <p:cNvGraphicFramePr/>
          <p:nvPr/>
        </p:nvGraphicFramePr>
        <p:xfrm>
          <a:off x="5097600" y="2571840"/>
          <a:ext cx="2387520" cy="80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3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7600" y="2571840"/>
                    <a:ext cx="2387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321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Rectangle 6"/>
          <p:cNvSpPr/>
          <p:nvPr/>
        </p:nvSpPr>
        <p:spPr>
          <a:xfrm>
            <a:off x="0" y="-270000"/>
            <a:ext cx="184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36" name="Object 57"/>
          <p:cNvGraphicFramePr/>
          <p:nvPr/>
        </p:nvGraphicFramePr>
        <p:xfrm>
          <a:off x="1014480" y="1500120"/>
          <a:ext cx="155736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500120"/>
                    <a:ext cx="15573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8" name="Object 58"/>
          <p:cNvGraphicFramePr/>
          <p:nvPr/>
        </p:nvGraphicFramePr>
        <p:xfrm>
          <a:off x="1165320" y="3375000"/>
          <a:ext cx="126360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9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5320" y="3375000"/>
                    <a:ext cx="1263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0" name="Object 59"/>
          <p:cNvGraphicFramePr/>
          <p:nvPr/>
        </p:nvGraphicFramePr>
        <p:xfrm>
          <a:off x="1165320" y="4303800"/>
          <a:ext cx="1263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1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5320" y="4303800"/>
                    <a:ext cx="1263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Rectangle 2"/>
          <p:cNvSpPr/>
          <p:nvPr/>
        </p:nvSpPr>
        <p:spPr>
          <a:xfrm rot="5400000">
            <a:off x="75276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3" name="Rectangle 2"/>
          <p:cNvSpPr/>
          <p:nvPr/>
        </p:nvSpPr>
        <p:spPr>
          <a:xfrm rot="5400000">
            <a:off x="139572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44" name="Object 60"/>
          <p:cNvGraphicFramePr/>
          <p:nvPr/>
        </p:nvGraphicFramePr>
        <p:xfrm>
          <a:off x="2571840" y="1428840"/>
          <a:ext cx="50004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5" name="Object 6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142884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Object 61"/>
          <p:cNvGraphicFramePr/>
          <p:nvPr/>
        </p:nvGraphicFramePr>
        <p:xfrm>
          <a:off x="2428920" y="3357720"/>
          <a:ext cx="50004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7" name="Object 6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28920" y="335772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Object 62"/>
          <p:cNvGraphicFramePr/>
          <p:nvPr/>
        </p:nvGraphicFramePr>
        <p:xfrm>
          <a:off x="2428920" y="4286160"/>
          <a:ext cx="500040" cy="91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9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4286160"/>
                    <a:ext cx="500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Object 63"/>
          <p:cNvGraphicFramePr/>
          <p:nvPr/>
        </p:nvGraphicFramePr>
        <p:xfrm>
          <a:off x="3479760" y="1500120"/>
          <a:ext cx="1616040" cy="91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1" name="Object 6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79760" y="1500120"/>
                    <a:ext cx="1616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Object 64"/>
          <p:cNvGraphicFramePr/>
          <p:nvPr/>
        </p:nvGraphicFramePr>
        <p:xfrm>
          <a:off x="3697200" y="3375000"/>
          <a:ext cx="1235160" cy="911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3" name="Object 6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7200" y="3375000"/>
                    <a:ext cx="1235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Object 65"/>
          <p:cNvGraphicFramePr/>
          <p:nvPr/>
        </p:nvGraphicFramePr>
        <p:xfrm>
          <a:off x="3697200" y="4303800"/>
          <a:ext cx="1235160" cy="911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5" name="Object 6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97200" y="4303800"/>
                    <a:ext cx="1235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Rectangle 2"/>
          <p:cNvSpPr/>
          <p:nvPr/>
        </p:nvSpPr>
        <p:spPr>
          <a:xfrm rot="5400000">
            <a:off x="324720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7" name="Rectangle 2"/>
          <p:cNvSpPr/>
          <p:nvPr/>
        </p:nvSpPr>
        <p:spPr>
          <a:xfrm rot="5400000">
            <a:off x="389016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58" name="Object 66"/>
          <p:cNvGraphicFramePr/>
          <p:nvPr/>
        </p:nvGraphicFramePr>
        <p:xfrm>
          <a:off x="5153040" y="1428840"/>
          <a:ext cx="324000" cy="911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59" name="Object 6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53040" y="1428840"/>
                    <a:ext cx="324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Object 67"/>
          <p:cNvGraphicFramePr/>
          <p:nvPr/>
        </p:nvGraphicFramePr>
        <p:xfrm>
          <a:off x="5035680" y="3357720"/>
          <a:ext cx="322200" cy="911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1" name="Object 6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35680" y="3357720"/>
                    <a:ext cx="3222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Object 68"/>
          <p:cNvGraphicFramePr/>
          <p:nvPr/>
        </p:nvGraphicFramePr>
        <p:xfrm>
          <a:off x="5035680" y="4286160"/>
          <a:ext cx="322200" cy="911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3" name="Object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35680" y="4286160"/>
                    <a:ext cx="3222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4" name="Object 69"/>
          <p:cNvGraphicFramePr/>
          <p:nvPr/>
        </p:nvGraphicFramePr>
        <p:xfrm>
          <a:off x="5986440" y="1500120"/>
          <a:ext cx="1616040" cy="911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65" name="Object 6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86440" y="1500120"/>
                    <a:ext cx="1616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6" name="Object 70"/>
          <p:cNvGraphicFramePr/>
          <p:nvPr/>
        </p:nvGraphicFramePr>
        <p:xfrm>
          <a:off x="6143760" y="3375000"/>
          <a:ext cx="1293840" cy="911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67" name="Object 7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43760" y="3375000"/>
                    <a:ext cx="12938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71"/>
          <p:cNvGraphicFramePr/>
          <p:nvPr/>
        </p:nvGraphicFramePr>
        <p:xfrm>
          <a:off x="6143760" y="4303800"/>
          <a:ext cx="1293840" cy="911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69" name="Object 7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43760" y="4303800"/>
                    <a:ext cx="12938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Rectangle 2"/>
          <p:cNvSpPr/>
          <p:nvPr/>
        </p:nvSpPr>
        <p:spPr>
          <a:xfrm rot="5400000">
            <a:off x="575388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1" name="Rectangle 2"/>
          <p:cNvSpPr/>
          <p:nvPr/>
        </p:nvSpPr>
        <p:spPr>
          <a:xfrm rot="5400000">
            <a:off x="6396840" y="2682000"/>
            <a:ext cx="1214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72" name="Object 72"/>
          <p:cNvGraphicFramePr/>
          <p:nvPr/>
        </p:nvGraphicFramePr>
        <p:xfrm>
          <a:off x="7558200" y="1428840"/>
          <a:ext cx="528480" cy="911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3" name="Object 7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58200" y="142884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4" name="Object 73"/>
          <p:cNvGraphicFramePr/>
          <p:nvPr/>
        </p:nvGraphicFramePr>
        <p:xfrm>
          <a:off x="7407360" y="3357720"/>
          <a:ext cx="528480" cy="911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75" name="Object 7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07360" y="335772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6" name="Object 74"/>
          <p:cNvGraphicFramePr/>
          <p:nvPr/>
        </p:nvGraphicFramePr>
        <p:xfrm>
          <a:off x="7407360" y="4286160"/>
          <a:ext cx="528480" cy="911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77" name="Object 7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407360" y="4286160"/>
                    <a:ext cx="528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1285920" y="1096920"/>
            <a:ext cx="7215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           的计算过程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279" name="Object 2"/>
          <p:cNvGraphicFramePr/>
          <p:nvPr/>
        </p:nvGraphicFramePr>
        <p:xfrm>
          <a:off x="2500200" y="1096920"/>
          <a:ext cx="16970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096920"/>
                    <a:ext cx="1697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15"/>
          <p:cNvGraphicFramePr/>
          <p:nvPr/>
        </p:nvGraphicFramePr>
        <p:xfrm>
          <a:off x="1679400" y="3500280"/>
          <a:ext cx="30960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2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500280"/>
                    <a:ext cx="309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16"/>
          <p:cNvGraphicFramePr/>
          <p:nvPr/>
        </p:nvGraphicFramePr>
        <p:xfrm>
          <a:off x="2322360" y="3714840"/>
          <a:ext cx="36684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2360" y="3714840"/>
                    <a:ext cx="366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17"/>
          <p:cNvGraphicFramePr/>
          <p:nvPr/>
        </p:nvGraphicFramePr>
        <p:xfrm>
          <a:off x="3108240" y="3500280"/>
          <a:ext cx="30960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08240" y="3500280"/>
                    <a:ext cx="309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18"/>
          <p:cNvGraphicFramePr/>
          <p:nvPr/>
        </p:nvGraphicFramePr>
        <p:xfrm>
          <a:off x="3679920" y="3786120"/>
          <a:ext cx="366480" cy="28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79920" y="3786120"/>
                    <a:ext cx="36648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19"/>
          <p:cNvGraphicFramePr/>
          <p:nvPr/>
        </p:nvGraphicFramePr>
        <p:xfrm>
          <a:off x="4394160" y="3429000"/>
          <a:ext cx="5652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416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Object 20"/>
          <p:cNvGraphicFramePr/>
          <p:nvPr/>
        </p:nvGraphicFramePr>
        <p:xfrm>
          <a:off x="5138640" y="3786120"/>
          <a:ext cx="36684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38640" y="3786120"/>
                    <a:ext cx="366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Object 22"/>
          <p:cNvGraphicFramePr/>
          <p:nvPr/>
        </p:nvGraphicFramePr>
        <p:xfrm>
          <a:off x="5751360" y="3429000"/>
          <a:ext cx="565200" cy="104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4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5136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Object 24"/>
          <p:cNvGraphicFramePr/>
          <p:nvPr/>
        </p:nvGraphicFramePr>
        <p:xfrm>
          <a:off x="6465960" y="3786120"/>
          <a:ext cx="366480" cy="28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65960" y="3786120"/>
                    <a:ext cx="36648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Object 25"/>
          <p:cNvGraphicFramePr/>
          <p:nvPr/>
        </p:nvGraphicFramePr>
        <p:xfrm>
          <a:off x="7108920" y="3429000"/>
          <a:ext cx="565200" cy="104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8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08920" y="3429000"/>
                    <a:ext cx="565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673884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0" name=""/>
          <p:cNvGraphicFramePr/>
          <p:nvPr/>
        </p:nvGraphicFramePr>
        <p:xfrm>
          <a:off x="538164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1" name=""/>
          <p:cNvGraphicFramePr/>
          <p:nvPr/>
        </p:nvGraphicFramePr>
        <p:xfrm>
          <a:off x="4024440" y="2357280"/>
          <a:ext cx="1261800" cy="1032120"/>
        </p:xfrm>
        <a:graphic>
          <a:graphicData uri="http://schemas.openxmlformats.org/drawingml/2006/table">
            <a:tbl>
              <a:tblPr/>
              <a:tblGrid>
                <a:gridCol w="420480"/>
                <a:gridCol w="420840"/>
                <a:gridCol w="42048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260820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420840"/>
                <a:gridCol w="420480"/>
                <a:gridCol w="420840"/>
              </a:tblGrid>
              <a:tr h="103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3" name=""/>
          <p:cNvGraphicFramePr/>
          <p:nvPr/>
        </p:nvGraphicFramePr>
        <p:xfrm>
          <a:off x="1251000" y="2357280"/>
          <a:ext cx="1262160" cy="1032120"/>
        </p:xfrm>
        <a:graphic>
          <a:graphicData uri="http://schemas.openxmlformats.org/drawingml/2006/table">
            <a:tbl>
              <a:tblPr/>
              <a:tblGrid>
                <a:gridCol w="1262160"/>
              </a:tblGrid>
              <a:tr h="51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04" name="Rectangle 2"/>
          <p:cNvSpPr/>
          <p:nvPr/>
        </p:nvSpPr>
        <p:spPr>
          <a:xfrm>
            <a:off x="4465800" y="335772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5" name="Rectangle 2"/>
          <p:cNvSpPr/>
          <p:nvPr/>
        </p:nvSpPr>
        <p:spPr>
          <a:xfrm>
            <a:off x="4465800" y="3786120"/>
            <a:ext cx="500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6" name="Rectangle 2"/>
          <p:cNvSpPr/>
          <p:nvPr/>
        </p:nvSpPr>
        <p:spPr>
          <a:xfrm>
            <a:off x="5823000" y="335772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7" name="Rectangle 2"/>
          <p:cNvSpPr/>
          <p:nvPr/>
        </p:nvSpPr>
        <p:spPr>
          <a:xfrm>
            <a:off x="5823000" y="3857760"/>
            <a:ext cx="428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8" name="Rectangle 2"/>
          <p:cNvSpPr/>
          <p:nvPr/>
        </p:nvSpPr>
        <p:spPr>
          <a:xfrm>
            <a:off x="7180200" y="3357720"/>
            <a:ext cx="428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09" name="Rectangle 2"/>
          <p:cNvSpPr/>
          <p:nvPr/>
        </p:nvSpPr>
        <p:spPr>
          <a:xfrm>
            <a:off x="7180200" y="3857760"/>
            <a:ext cx="428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矩形 4"/>
          <p:cNvSpPr/>
          <p:nvPr/>
        </p:nvSpPr>
        <p:spPr>
          <a:xfrm>
            <a:off x="755640" y="1114560"/>
            <a:ext cx="78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括号里填空，再找规律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311" name="Object 56"/>
          <p:cNvGraphicFramePr/>
          <p:nvPr/>
        </p:nvGraphicFramePr>
        <p:xfrm>
          <a:off x="1357200" y="1785960"/>
          <a:ext cx="171612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Object 57"/>
          <p:cNvGraphicFramePr/>
          <p:nvPr/>
        </p:nvGraphicFramePr>
        <p:xfrm>
          <a:off x="3855960" y="1785960"/>
          <a:ext cx="171612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596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58"/>
          <p:cNvGraphicFramePr/>
          <p:nvPr/>
        </p:nvGraphicFramePr>
        <p:xfrm>
          <a:off x="6143760" y="1785960"/>
          <a:ext cx="171612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6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178596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Object 59"/>
          <p:cNvGraphicFramePr/>
          <p:nvPr/>
        </p:nvGraphicFramePr>
        <p:xfrm>
          <a:off x="1357200" y="2940120"/>
          <a:ext cx="1716120" cy="98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8" name="Object 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2940120"/>
                    <a:ext cx="17161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Object 60"/>
          <p:cNvGraphicFramePr/>
          <p:nvPr/>
        </p:nvGraphicFramePr>
        <p:xfrm>
          <a:off x="3716280" y="2940120"/>
          <a:ext cx="1997280" cy="98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0" name="Object 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6280" y="2940120"/>
                    <a:ext cx="1997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Object 61"/>
          <p:cNvGraphicFramePr/>
          <p:nvPr/>
        </p:nvGraphicFramePr>
        <p:xfrm>
          <a:off x="6145200" y="2940120"/>
          <a:ext cx="1855800" cy="98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2" name="Object 6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5200" y="2940120"/>
                    <a:ext cx="18558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Rectangle 2"/>
          <p:cNvSpPr/>
          <p:nvPr/>
        </p:nvSpPr>
        <p:spPr>
          <a:xfrm>
            <a:off x="264312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4" name="Rectangle 2"/>
          <p:cNvSpPr/>
          <p:nvPr/>
        </p:nvSpPr>
        <p:spPr>
          <a:xfrm>
            <a:off x="507204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5" name="Rectangle 2"/>
          <p:cNvSpPr/>
          <p:nvPr/>
        </p:nvSpPr>
        <p:spPr>
          <a:xfrm>
            <a:off x="7358040" y="2071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6" name="Rectangle 2"/>
          <p:cNvSpPr/>
          <p:nvPr/>
        </p:nvSpPr>
        <p:spPr>
          <a:xfrm>
            <a:off x="2571840" y="3214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5286240" y="321480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328" name="Rectangle 2"/>
          <p:cNvSpPr/>
          <p:nvPr/>
        </p:nvSpPr>
        <p:spPr>
          <a:xfrm>
            <a:off x="7429680" y="321480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248000" y="5006880"/>
            <a:ext cx="4896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写出哪些分数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5" name="Picture 2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40" y="996840"/>
            <a:ext cx="8134200" cy="1717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214280" y="2714760"/>
            <a:ext cx="695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43" descr=""/>
          <p:cNvPicPr/>
          <p:nvPr/>
        </p:nvPicPr>
        <p:blipFill>
          <a:blip r:embed="rId1"/>
          <a:stretch/>
        </p:blipFill>
        <p:spPr>
          <a:xfrm>
            <a:off x="2271600" y="1071720"/>
            <a:ext cx="5300640" cy="4047840"/>
          </a:xfrm>
          <a:prstGeom prst="rect">
            <a:avLst/>
          </a:prstGeom>
          <a:ln w="0">
            <a:noFill/>
          </a:ln>
        </p:spPr>
      </p:pic>
      <p:grpSp>
        <p:nvGrpSpPr>
          <p:cNvPr id="988" name="组合 52"/>
          <p:cNvGrpSpPr/>
          <p:nvPr/>
        </p:nvGrpSpPr>
        <p:grpSpPr>
          <a:xfrm>
            <a:off x="1428840" y="2286000"/>
            <a:ext cx="1500120" cy="804960"/>
            <a:chOff x="1428840" y="2286000"/>
            <a:chExt cx="1500120" cy="804960"/>
          </a:xfrm>
        </p:grpSpPr>
        <p:sp>
          <p:nvSpPr>
            <p:cNvPr id="989" name="直接连接符 47"/>
            <p:cNvSpPr/>
            <p:nvPr/>
          </p:nvSpPr>
          <p:spPr>
            <a:xfrm>
              <a:off x="1714320" y="271476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0" name="Object 44"/>
            <p:cNvGraphicFramePr/>
            <p:nvPr/>
          </p:nvGraphicFramePr>
          <p:xfrm>
            <a:off x="1428840" y="2286000"/>
            <a:ext cx="285480" cy="80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1" name="Object 4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8840" y="2286000"/>
                      <a:ext cx="28548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2" name="组合 56"/>
          <p:cNvGrpSpPr/>
          <p:nvPr/>
        </p:nvGrpSpPr>
        <p:grpSpPr>
          <a:xfrm>
            <a:off x="3357720" y="2000160"/>
            <a:ext cx="1512720" cy="804960"/>
            <a:chOff x="3357720" y="2000160"/>
            <a:chExt cx="1512720" cy="804960"/>
          </a:xfrm>
        </p:grpSpPr>
        <p:sp>
          <p:nvSpPr>
            <p:cNvPr id="993" name="直接连接符 59"/>
            <p:cNvSpPr/>
            <p:nvPr/>
          </p:nvSpPr>
          <p:spPr>
            <a:xfrm>
              <a:off x="3357720" y="2428920"/>
              <a:ext cx="121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4" name="Object 45"/>
            <p:cNvGraphicFramePr/>
            <p:nvPr/>
          </p:nvGraphicFramePr>
          <p:xfrm>
            <a:off x="4559400" y="2000160"/>
            <a:ext cx="311040" cy="804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5" name="Object 4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59400" y="2000160"/>
                      <a:ext cx="3110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6" name="组合 63"/>
          <p:cNvGrpSpPr/>
          <p:nvPr/>
        </p:nvGrpSpPr>
        <p:grpSpPr>
          <a:xfrm>
            <a:off x="3559320" y="2481120"/>
            <a:ext cx="869760" cy="804960"/>
            <a:chOff x="3559320" y="2481120"/>
            <a:chExt cx="869760" cy="804960"/>
          </a:xfrm>
        </p:grpSpPr>
        <p:sp>
          <p:nvSpPr>
            <p:cNvPr id="997" name="直接连接符 64"/>
            <p:cNvSpPr/>
            <p:nvPr/>
          </p:nvSpPr>
          <p:spPr>
            <a:xfrm>
              <a:off x="3559320" y="28573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98" name="Object 46"/>
            <p:cNvGraphicFramePr/>
            <p:nvPr/>
          </p:nvGraphicFramePr>
          <p:xfrm>
            <a:off x="4143600" y="2481120"/>
            <a:ext cx="285480" cy="80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9" name="Object 4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43600" y="2481120"/>
                      <a:ext cx="28548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0" name="组合 66"/>
          <p:cNvGrpSpPr/>
          <p:nvPr/>
        </p:nvGrpSpPr>
        <p:grpSpPr>
          <a:xfrm>
            <a:off x="3286080" y="2909880"/>
            <a:ext cx="798480" cy="804960"/>
            <a:chOff x="3286080" y="2909880"/>
            <a:chExt cx="798480" cy="804960"/>
          </a:xfrm>
        </p:grpSpPr>
        <p:sp>
          <p:nvSpPr>
            <p:cNvPr id="1001" name="直接连接符 67"/>
            <p:cNvSpPr/>
            <p:nvPr/>
          </p:nvSpPr>
          <p:spPr>
            <a:xfrm>
              <a:off x="3286080" y="3090600"/>
              <a:ext cx="57168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02" name="Object 47"/>
            <p:cNvGraphicFramePr/>
            <p:nvPr/>
          </p:nvGraphicFramePr>
          <p:xfrm>
            <a:off x="3798720" y="2909880"/>
            <a:ext cx="285840" cy="80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03" name="Object 4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798720" y="2909880"/>
                      <a:ext cx="2858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4" name="组合 72"/>
          <p:cNvGrpSpPr/>
          <p:nvPr/>
        </p:nvGrpSpPr>
        <p:grpSpPr>
          <a:xfrm>
            <a:off x="1214280" y="4071960"/>
            <a:ext cx="1500480" cy="804960"/>
            <a:chOff x="1214280" y="4071960"/>
            <a:chExt cx="1500480" cy="804960"/>
          </a:xfrm>
        </p:grpSpPr>
        <p:sp>
          <p:nvSpPr>
            <p:cNvPr id="1005" name="直接连接符 73"/>
            <p:cNvSpPr/>
            <p:nvPr/>
          </p:nvSpPr>
          <p:spPr>
            <a:xfrm>
              <a:off x="1500120" y="450072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06" name="Object 48"/>
            <p:cNvGraphicFramePr/>
            <p:nvPr/>
          </p:nvGraphicFramePr>
          <p:xfrm>
            <a:off x="1214280" y="4071960"/>
            <a:ext cx="285840" cy="804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07" name="Object 4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14280" y="4071960"/>
                      <a:ext cx="2858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8" name="组合 75"/>
          <p:cNvGrpSpPr/>
          <p:nvPr/>
        </p:nvGrpSpPr>
        <p:grpSpPr>
          <a:xfrm>
            <a:off x="3344760" y="4286160"/>
            <a:ext cx="1513080" cy="804960"/>
            <a:chOff x="3344760" y="4286160"/>
            <a:chExt cx="1513080" cy="804960"/>
          </a:xfrm>
        </p:grpSpPr>
        <p:sp>
          <p:nvSpPr>
            <p:cNvPr id="1009" name="直接连接符 76"/>
            <p:cNvSpPr/>
            <p:nvPr/>
          </p:nvSpPr>
          <p:spPr>
            <a:xfrm>
              <a:off x="3344760" y="471492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10" name="Object 49"/>
            <p:cNvGraphicFramePr/>
            <p:nvPr/>
          </p:nvGraphicFramePr>
          <p:xfrm>
            <a:off x="4546800" y="4286160"/>
            <a:ext cx="311040" cy="804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11" name="Object 4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46800" y="4286160"/>
                      <a:ext cx="3110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12" name="组合 94"/>
          <p:cNvGrpSpPr/>
          <p:nvPr/>
        </p:nvGrpSpPr>
        <p:grpSpPr>
          <a:xfrm>
            <a:off x="3071880" y="3786120"/>
            <a:ext cx="1357200" cy="804960"/>
            <a:chOff x="3071880" y="3786120"/>
            <a:chExt cx="1357200" cy="804960"/>
          </a:xfrm>
        </p:grpSpPr>
        <p:grpSp>
          <p:nvGrpSpPr>
            <p:cNvPr id="1013" name="组合 80"/>
            <p:cNvGrpSpPr/>
            <p:nvPr/>
          </p:nvGrpSpPr>
          <p:grpSpPr>
            <a:xfrm>
              <a:off x="3071880" y="3786120"/>
              <a:ext cx="1357200" cy="804960"/>
              <a:chOff x="3071880" y="3786120"/>
              <a:chExt cx="1357200" cy="804960"/>
            </a:xfrm>
          </p:grpSpPr>
          <p:sp>
            <p:nvSpPr>
              <p:cNvPr id="1014" name="直接连接符 83"/>
              <p:cNvSpPr/>
              <p:nvPr/>
            </p:nvSpPr>
            <p:spPr>
              <a:xfrm>
                <a:off x="3071880" y="4214880"/>
                <a:ext cx="1071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15" name="Object 50"/>
              <p:cNvGraphicFramePr/>
              <p:nvPr/>
            </p:nvGraphicFramePr>
            <p:xfrm>
              <a:off x="4143600" y="3786120"/>
              <a:ext cx="285480" cy="8049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016" name="Object 50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143600" y="3786120"/>
                        <a:ext cx="28548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17" name="直接连接符 93"/>
            <p:cNvSpPr/>
            <p:nvPr/>
          </p:nvSpPr>
          <p:spPr>
            <a:xfrm>
              <a:off x="3429000" y="4071960"/>
              <a:ext cx="68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1018" name="Rectangle 2"/>
          <p:cNvSpPr/>
          <p:nvPr/>
        </p:nvSpPr>
        <p:spPr>
          <a:xfrm>
            <a:off x="2357280" y="5006880"/>
            <a:ext cx="5857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分数分别表示什么意义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9" name="Rectangle 2"/>
          <p:cNvSpPr/>
          <p:nvPr/>
        </p:nvSpPr>
        <p:spPr>
          <a:xfrm>
            <a:off x="1785960" y="5506920"/>
            <a:ext cx="664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您能提出哪些分数加减法的数学问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30"/>
          <p:cNvGrpSpPr/>
          <p:nvPr/>
        </p:nvGrpSpPr>
        <p:grpSpPr>
          <a:xfrm>
            <a:off x="1606680" y="1714680"/>
            <a:ext cx="5930640" cy="2590560"/>
            <a:chOff x="1606680" y="1714680"/>
            <a:chExt cx="5930640" cy="2590560"/>
          </a:xfrm>
        </p:grpSpPr>
        <p:pic>
          <p:nvPicPr>
            <p:cNvPr id="1021" name="Picture 9" descr=""/>
            <p:cNvPicPr/>
            <p:nvPr/>
          </p:nvPicPr>
          <p:blipFill>
            <a:blip r:embed="rId1"/>
            <a:stretch/>
          </p:blipFill>
          <p:spPr>
            <a:xfrm>
              <a:off x="2392560" y="1714680"/>
              <a:ext cx="5144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2" name="组合 52"/>
            <p:cNvGrpSpPr/>
            <p:nvPr/>
          </p:nvGrpSpPr>
          <p:grpSpPr>
            <a:xfrm>
              <a:off x="1606680" y="2928960"/>
              <a:ext cx="1500480" cy="805320"/>
              <a:chOff x="1606680" y="2928960"/>
              <a:chExt cx="1500480" cy="805320"/>
            </a:xfrm>
          </p:grpSpPr>
          <p:sp>
            <p:nvSpPr>
              <p:cNvPr id="1023" name="直接连接符 47"/>
              <p:cNvSpPr/>
              <p:nvPr/>
            </p:nvSpPr>
            <p:spPr>
              <a:xfrm>
                <a:off x="1892520" y="33577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24" name="Object 44"/>
              <p:cNvGraphicFramePr/>
              <p:nvPr/>
            </p:nvGraphicFramePr>
            <p:xfrm>
              <a:off x="1606680" y="2928960"/>
              <a:ext cx="28584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25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06680" y="2928960"/>
                        <a:ext cx="28584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26" name="组合 56"/>
            <p:cNvGrpSpPr/>
            <p:nvPr/>
          </p:nvGrpSpPr>
          <p:grpSpPr>
            <a:xfrm>
              <a:off x="3321360" y="2286000"/>
              <a:ext cx="1025640" cy="804600"/>
              <a:chOff x="3321360" y="2286000"/>
              <a:chExt cx="1025640" cy="804600"/>
            </a:xfrm>
          </p:grpSpPr>
          <p:sp>
            <p:nvSpPr>
              <p:cNvPr id="1027" name="直接连接符 59"/>
              <p:cNvSpPr/>
              <p:nvPr/>
            </p:nvSpPr>
            <p:spPr>
              <a:xfrm flipV="1">
                <a:off x="3321360" y="2785680"/>
                <a:ext cx="64260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28" name="Object 45"/>
              <p:cNvGraphicFramePr/>
              <p:nvPr/>
            </p:nvGraphicFramePr>
            <p:xfrm>
              <a:off x="4035960" y="228600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29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5960" y="228600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30" name="组合 63"/>
            <p:cNvGrpSpPr/>
            <p:nvPr/>
          </p:nvGrpSpPr>
          <p:grpSpPr>
            <a:xfrm>
              <a:off x="3594600" y="3052800"/>
              <a:ext cx="798480" cy="804600"/>
              <a:chOff x="3594600" y="3052800"/>
              <a:chExt cx="798480" cy="804600"/>
            </a:xfrm>
          </p:grpSpPr>
          <p:sp>
            <p:nvSpPr>
              <p:cNvPr id="1031" name="直接连接符 64"/>
              <p:cNvSpPr/>
              <p:nvPr/>
            </p:nvSpPr>
            <p:spPr>
              <a:xfrm flipV="1">
                <a:off x="3594600" y="3357360"/>
                <a:ext cx="58356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32" name="Object 46"/>
              <p:cNvGraphicFramePr/>
              <p:nvPr/>
            </p:nvGraphicFramePr>
            <p:xfrm>
              <a:off x="4107600" y="3052800"/>
              <a:ext cx="28548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33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07600" y="305280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34" name="组合 66"/>
            <p:cNvGrpSpPr/>
            <p:nvPr/>
          </p:nvGrpSpPr>
          <p:grpSpPr>
            <a:xfrm>
              <a:off x="3250080" y="3500640"/>
              <a:ext cx="857160" cy="804600"/>
              <a:chOff x="3250080" y="3500640"/>
              <a:chExt cx="857160" cy="804600"/>
            </a:xfrm>
          </p:grpSpPr>
          <p:sp>
            <p:nvSpPr>
              <p:cNvPr id="1035" name="直接连接符 67"/>
              <p:cNvSpPr/>
              <p:nvPr/>
            </p:nvSpPr>
            <p:spPr>
              <a:xfrm>
                <a:off x="3250080" y="3733920"/>
                <a:ext cx="57096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36" name="Object 47"/>
              <p:cNvGraphicFramePr/>
              <p:nvPr/>
            </p:nvGraphicFramePr>
            <p:xfrm>
              <a:off x="3821760" y="350064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37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21760" y="350064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38" name="Rectangle 2"/>
          <p:cNvSpPr/>
          <p:nvPr/>
        </p:nvSpPr>
        <p:spPr>
          <a:xfrm>
            <a:off x="571680" y="928800"/>
            <a:ext cx="8072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体操的人数占全班人数的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3286080" y="5143680"/>
            <a:ext cx="385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分数分数单位相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40" name="Object 10"/>
          <p:cNvGraphicFramePr/>
          <p:nvPr/>
        </p:nvGraphicFramePr>
        <p:xfrm>
          <a:off x="3098880" y="435780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1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98880" y="435780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11"/>
          <p:cNvGraphicFramePr/>
          <p:nvPr/>
        </p:nvGraphicFramePr>
        <p:xfrm>
          <a:off x="4000680" y="4410000"/>
          <a:ext cx="85716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3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00680" y="4410000"/>
                    <a:ext cx="8571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12"/>
          <p:cNvGraphicFramePr/>
          <p:nvPr/>
        </p:nvGraphicFramePr>
        <p:xfrm>
          <a:off x="4857840" y="4429080"/>
          <a:ext cx="57132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7840" y="4429080"/>
                    <a:ext cx="571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Rectangle 2"/>
          <p:cNvSpPr/>
          <p:nvPr/>
        </p:nvSpPr>
        <p:spPr>
          <a:xfrm>
            <a:off x="2928960" y="5786280"/>
            <a:ext cx="4286160" cy="5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计算结果能约分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47" name="Object 26"/>
          <p:cNvGraphicFramePr/>
          <p:nvPr/>
        </p:nvGraphicFramePr>
        <p:xfrm>
          <a:off x="5416560" y="4429080"/>
          <a:ext cx="59832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48" name="Object 2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16560" y="4429080"/>
                    <a:ext cx="598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30"/>
          <p:cNvGrpSpPr/>
          <p:nvPr/>
        </p:nvGrpSpPr>
        <p:grpSpPr>
          <a:xfrm>
            <a:off x="1606680" y="1714680"/>
            <a:ext cx="5930640" cy="2590560"/>
            <a:chOff x="1606680" y="1714680"/>
            <a:chExt cx="5930640" cy="2590560"/>
          </a:xfrm>
        </p:grpSpPr>
        <p:pic>
          <p:nvPicPr>
            <p:cNvPr id="1050" name="Picture 9" descr=""/>
            <p:cNvPicPr/>
            <p:nvPr/>
          </p:nvPicPr>
          <p:blipFill>
            <a:blip r:embed="rId1"/>
            <a:stretch/>
          </p:blipFill>
          <p:spPr>
            <a:xfrm>
              <a:off x="2392560" y="1714680"/>
              <a:ext cx="5144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52"/>
            <p:cNvGrpSpPr/>
            <p:nvPr/>
          </p:nvGrpSpPr>
          <p:grpSpPr>
            <a:xfrm>
              <a:off x="1606680" y="2928960"/>
              <a:ext cx="1500480" cy="805320"/>
              <a:chOff x="1606680" y="2928960"/>
              <a:chExt cx="1500480" cy="805320"/>
            </a:xfrm>
          </p:grpSpPr>
          <p:sp>
            <p:nvSpPr>
              <p:cNvPr id="1052" name="直接连接符 47"/>
              <p:cNvSpPr/>
              <p:nvPr/>
            </p:nvSpPr>
            <p:spPr>
              <a:xfrm>
                <a:off x="1892520" y="33577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53" name="Object 44"/>
              <p:cNvGraphicFramePr/>
              <p:nvPr/>
            </p:nvGraphicFramePr>
            <p:xfrm>
              <a:off x="1606680" y="2928960"/>
              <a:ext cx="28584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4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06680" y="2928960"/>
                        <a:ext cx="28584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5" name="组合 56"/>
            <p:cNvGrpSpPr/>
            <p:nvPr/>
          </p:nvGrpSpPr>
          <p:grpSpPr>
            <a:xfrm>
              <a:off x="3321360" y="2286000"/>
              <a:ext cx="1025640" cy="804600"/>
              <a:chOff x="3321360" y="2286000"/>
              <a:chExt cx="1025640" cy="804600"/>
            </a:xfrm>
          </p:grpSpPr>
          <p:sp>
            <p:nvSpPr>
              <p:cNvPr id="1056" name="直接连接符 59"/>
              <p:cNvSpPr/>
              <p:nvPr/>
            </p:nvSpPr>
            <p:spPr>
              <a:xfrm flipV="1">
                <a:off x="3321360" y="2785680"/>
                <a:ext cx="64260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57" name="Object 45"/>
              <p:cNvGraphicFramePr/>
              <p:nvPr/>
            </p:nvGraphicFramePr>
            <p:xfrm>
              <a:off x="4035960" y="228600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58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5960" y="228600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9" name="组合 63"/>
            <p:cNvGrpSpPr/>
            <p:nvPr/>
          </p:nvGrpSpPr>
          <p:grpSpPr>
            <a:xfrm>
              <a:off x="3594600" y="3052800"/>
              <a:ext cx="798480" cy="804600"/>
              <a:chOff x="3594600" y="3052800"/>
              <a:chExt cx="798480" cy="804600"/>
            </a:xfrm>
          </p:grpSpPr>
          <p:sp>
            <p:nvSpPr>
              <p:cNvPr id="1060" name="直接连接符 64"/>
              <p:cNvSpPr/>
              <p:nvPr/>
            </p:nvSpPr>
            <p:spPr>
              <a:xfrm flipV="1">
                <a:off x="3594600" y="3357360"/>
                <a:ext cx="58356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61" name="Object 46"/>
              <p:cNvGraphicFramePr/>
              <p:nvPr/>
            </p:nvGraphicFramePr>
            <p:xfrm>
              <a:off x="4107600" y="3052800"/>
              <a:ext cx="28548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62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07600" y="305280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63" name="组合 66"/>
            <p:cNvGrpSpPr/>
            <p:nvPr/>
          </p:nvGrpSpPr>
          <p:grpSpPr>
            <a:xfrm>
              <a:off x="3250080" y="3500640"/>
              <a:ext cx="857160" cy="804600"/>
              <a:chOff x="3250080" y="3500640"/>
              <a:chExt cx="857160" cy="804600"/>
            </a:xfrm>
          </p:grpSpPr>
          <p:sp>
            <p:nvSpPr>
              <p:cNvPr id="1064" name="直接连接符 67"/>
              <p:cNvSpPr/>
              <p:nvPr/>
            </p:nvSpPr>
            <p:spPr>
              <a:xfrm>
                <a:off x="3250080" y="3733920"/>
                <a:ext cx="57096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065" name="Object 47"/>
              <p:cNvGraphicFramePr/>
              <p:nvPr/>
            </p:nvGraphicFramePr>
            <p:xfrm>
              <a:off x="3821760" y="350064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66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21760" y="350064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67" name="Rectangle 2"/>
          <p:cNvSpPr/>
          <p:nvPr/>
        </p:nvSpPr>
        <p:spPr>
          <a:xfrm>
            <a:off x="642960" y="1077840"/>
            <a:ext cx="7929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体操的人数相差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3143160" y="5000760"/>
            <a:ext cx="385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分数分数单位相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69" name="Object 10"/>
          <p:cNvGraphicFramePr/>
          <p:nvPr/>
        </p:nvGraphicFramePr>
        <p:xfrm>
          <a:off x="3670200" y="4357800"/>
          <a:ext cx="83052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0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70200" y="4357800"/>
                    <a:ext cx="830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11"/>
          <p:cNvGraphicFramePr/>
          <p:nvPr/>
        </p:nvGraphicFramePr>
        <p:xfrm>
          <a:off x="4570560" y="4357800"/>
          <a:ext cx="858600" cy="80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2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0560" y="4357800"/>
                    <a:ext cx="858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Rectangle 2"/>
          <p:cNvSpPr/>
          <p:nvPr/>
        </p:nvSpPr>
        <p:spPr>
          <a:xfrm>
            <a:off x="2286000" y="5506920"/>
            <a:ext cx="50720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解决类似的问题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74" name="Object 9"/>
          <p:cNvGraphicFramePr/>
          <p:nvPr/>
        </p:nvGraphicFramePr>
        <p:xfrm>
          <a:off x="5433840" y="4572000"/>
          <a:ext cx="495360" cy="338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5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3840" y="4572000"/>
                    <a:ext cx="495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45"/>
          <p:cNvGrpSpPr/>
          <p:nvPr/>
        </p:nvGrpSpPr>
        <p:grpSpPr>
          <a:xfrm>
            <a:off x="1671480" y="2538360"/>
            <a:ext cx="6258240" cy="2390760"/>
            <a:chOff x="1671480" y="2538360"/>
            <a:chExt cx="6258240" cy="2390760"/>
          </a:xfrm>
        </p:grpSpPr>
        <p:pic>
          <p:nvPicPr>
            <p:cNvPr id="1077" name="Picture 14" descr=""/>
            <p:cNvPicPr/>
            <p:nvPr/>
          </p:nvPicPr>
          <p:blipFill>
            <a:blip r:embed="rId1"/>
            <a:stretch/>
          </p:blipFill>
          <p:spPr>
            <a:xfrm>
              <a:off x="1956960" y="2538360"/>
              <a:ext cx="5972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8" name="组合 44"/>
            <p:cNvGrpSpPr/>
            <p:nvPr/>
          </p:nvGrpSpPr>
          <p:grpSpPr>
            <a:xfrm>
              <a:off x="1671480" y="3429000"/>
              <a:ext cx="2857680" cy="1305000"/>
              <a:chOff x="1671480" y="3429000"/>
              <a:chExt cx="2857680" cy="1305000"/>
            </a:xfrm>
          </p:grpSpPr>
          <p:grpSp>
            <p:nvGrpSpPr>
              <p:cNvPr id="1079" name="组合 72"/>
              <p:cNvGrpSpPr/>
              <p:nvPr/>
            </p:nvGrpSpPr>
            <p:grpSpPr>
              <a:xfrm>
                <a:off x="1671480" y="3714840"/>
                <a:ext cx="681840" cy="804960"/>
                <a:chOff x="1671480" y="3714840"/>
                <a:chExt cx="681840" cy="804960"/>
              </a:xfrm>
            </p:grpSpPr>
            <p:sp>
              <p:nvSpPr>
                <p:cNvPr id="1080" name="直接连接符 30"/>
                <p:cNvSpPr/>
                <p:nvPr/>
              </p:nvSpPr>
              <p:spPr>
                <a:xfrm>
                  <a:off x="1957680" y="4143600"/>
                  <a:ext cx="39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081" name="Object 48"/>
                <p:cNvGraphicFramePr/>
                <p:nvPr/>
              </p:nvGraphicFramePr>
              <p:xfrm>
                <a:off x="1671480" y="3714840"/>
                <a:ext cx="286200" cy="8049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082" name="Object 48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671480" y="3714840"/>
                          <a:ext cx="28620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83" name="组合 75"/>
              <p:cNvGrpSpPr/>
              <p:nvPr/>
            </p:nvGrpSpPr>
            <p:grpSpPr>
              <a:xfrm>
                <a:off x="3016080" y="3929040"/>
                <a:ext cx="1513080" cy="804960"/>
                <a:chOff x="3016080" y="3929040"/>
                <a:chExt cx="1513080" cy="804960"/>
              </a:xfrm>
            </p:grpSpPr>
            <p:sp>
              <p:nvSpPr>
                <p:cNvPr id="1084" name="直接连接符 33"/>
                <p:cNvSpPr/>
                <p:nvPr/>
              </p:nvSpPr>
              <p:spPr>
                <a:xfrm>
                  <a:off x="3016080" y="4357800"/>
                  <a:ext cx="1214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085" name="Object 49"/>
                <p:cNvGraphicFramePr/>
                <p:nvPr/>
              </p:nvGraphicFramePr>
              <p:xfrm>
                <a:off x="4218120" y="3929040"/>
                <a:ext cx="311040" cy="80496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086" name="Object 49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4218120" y="3929040"/>
                          <a:ext cx="31104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87" name="组合 94"/>
              <p:cNvGrpSpPr/>
              <p:nvPr/>
            </p:nvGrpSpPr>
            <p:grpSpPr>
              <a:xfrm>
                <a:off x="2743200" y="3429000"/>
                <a:ext cx="1357560" cy="804960"/>
                <a:chOff x="2743200" y="3429000"/>
                <a:chExt cx="1357560" cy="804960"/>
              </a:xfrm>
            </p:grpSpPr>
            <p:grpSp>
              <p:nvGrpSpPr>
                <p:cNvPr id="1088" name="组合 80"/>
                <p:cNvGrpSpPr/>
                <p:nvPr/>
              </p:nvGrpSpPr>
              <p:grpSpPr>
                <a:xfrm>
                  <a:off x="2743200" y="3429000"/>
                  <a:ext cx="1357560" cy="804960"/>
                  <a:chOff x="2743200" y="3429000"/>
                  <a:chExt cx="1357560" cy="804960"/>
                </a:xfrm>
              </p:grpSpPr>
              <p:sp>
                <p:nvSpPr>
                  <p:cNvPr id="1089" name="直接连接符 38"/>
                  <p:cNvSpPr/>
                  <p:nvPr/>
                </p:nvSpPr>
                <p:spPr>
                  <a:xfrm>
                    <a:off x="2743200" y="3857760"/>
                    <a:ext cx="1071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ff0000"/>
                      </a:solidFill>
                      <a:latin typeface="楷体_GB2312"/>
                    </a:endParaRPr>
                  </a:p>
                </p:txBody>
              </p:sp>
              <p:graphicFrame>
                <p:nvGraphicFramePr>
                  <p:cNvPr id="1090" name="Object 50"/>
                  <p:cNvGraphicFramePr/>
                  <p:nvPr/>
                </p:nvGraphicFramePr>
                <p:xfrm>
                  <a:off x="3814920" y="3429000"/>
                  <a:ext cx="285840" cy="80496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1091" name="Object 50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3814920" y="3429000"/>
                            <a:ext cx="285840" cy="804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092" name="直接连接符 37"/>
                <p:cNvSpPr/>
                <p:nvPr/>
              </p:nvSpPr>
              <p:spPr>
                <a:xfrm>
                  <a:off x="3100320" y="3714840"/>
                  <a:ext cx="684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093" name="Rectangle 2"/>
          <p:cNvSpPr/>
          <p:nvPr/>
        </p:nvSpPr>
        <p:spPr>
          <a:xfrm>
            <a:off x="642960" y="934920"/>
            <a:ext cx="79297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乒乓球的人数共占总人数的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94" name="Object 45"/>
          <p:cNvGraphicFramePr/>
          <p:nvPr/>
        </p:nvGraphicFramePr>
        <p:xfrm>
          <a:off x="3062160" y="5143680"/>
          <a:ext cx="1051200" cy="80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5" name="Object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62160" y="5143680"/>
                    <a:ext cx="1051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16"/>
          <p:cNvGraphicFramePr/>
          <p:nvPr/>
        </p:nvGraphicFramePr>
        <p:xfrm>
          <a:off x="4062240" y="5143680"/>
          <a:ext cx="11829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2240" y="5143680"/>
                    <a:ext cx="11829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Object 17"/>
          <p:cNvGraphicFramePr/>
          <p:nvPr/>
        </p:nvGraphicFramePr>
        <p:xfrm>
          <a:off x="5205240" y="5143680"/>
          <a:ext cx="723960" cy="80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9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05240" y="5143680"/>
                    <a:ext cx="7239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785880" y="1077840"/>
            <a:ext cx="7929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跳水和乒乓球的人数相差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101" name="组合 14"/>
          <p:cNvGrpSpPr/>
          <p:nvPr/>
        </p:nvGrpSpPr>
        <p:grpSpPr>
          <a:xfrm>
            <a:off x="1671480" y="2181240"/>
            <a:ext cx="6258240" cy="2390760"/>
            <a:chOff x="1671480" y="2181240"/>
            <a:chExt cx="6258240" cy="2390760"/>
          </a:xfrm>
        </p:grpSpPr>
        <p:pic>
          <p:nvPicPr>
            <p:cNvPr id="1102" name="Picture 14" descr=""/>
            <p:cNvPicPr/>
            <p:nvPr/>
          </p:nvPicPr>
          <p:blipFill>
            <a:blip r:embed="rId1"/>
            <a:stretch/>
          </p:blipFill>
          <p:spPr>
            <a:xfrm>
              <a:off x="1956960" y="2181240"/>
              <a:ext cx="59727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72"/>
            <p:cNvGrpSpPr/>
            <p:nvPr/>
          </p:nvGrpSpPr>
          <p:grpSpPr>
            <a:xfrm>
              <a:off x="1671480" y="3357720"/>
              <a:ext cx="681480" cy="804960"/>
              <a:chOff x="1671480" y="3357720"/>
              <a:chExt cx="681480" cy="804960"/>
            </a:xfrm>
          </p:grpSpPr>
          <p:sp>
            <p:nvSpPr>
              <p:cNvPr id="1104" name="直接连接符 30"/>
              <p:cNvSpPr/>
              <p:nvPr/>
            </p:nvSpPr>
            <p:spPr>
              <a:xfrm>
                <a:off x="1957320" y="3786480"/>
                <a:ext cx="39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05" name="Object 48"/>
              <p:cNvGraphicFramePr/>
              <p:nvPr/>
            </p:nvGraphicFramePr>
            <p:xfrm>
              <a:off x="1671480" y="3357720"/>
              <a:ext cx="285840" cy="804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06" name="Object 48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71480" y="3357720"/>
                        <a:ext cx="28584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7" name="组合 75"/>
            <p:cNvGrpSpPr/>
            <p:nvPr/>
          </p:nvGrpSpPr>
          <p:grpSpPr>
            <a:xfrm>
              <a:off x="3016080" y="3571920"/>
              <a:ext cx="1512720" cy="804960"/>
              <a:chOff x="3016080" y="3571920"/>
              <a:chExt cx="1512720" cy="804960"/>
            </a:xfrm>
          </p:grpSpPr>
          <p:sp>
            <p:nvSpPr>
              <p:cNvPr id="1108" name="直接连接符 33"/>
              <p:cNvSpPr/>
              <p:nvPr/>
            </p:nvSpPr>
            <p:spPr>
              <a:xfrm>
                <a:off x="3016080" y="4000680"/>
                <a:ext cx="121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09" name="Object 49"/>
              <p:cNvGraphicFramePr/>
              <p:nvPr/>
            </p:nvGraphicFramePr>
            <p:xfrm>
              <a:off x="4217760" y="3571920"/>
              <a:ext cx="311040" cy="804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10" name="Object 4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17760" y="3571920"/>
                        <a:ext cx="311040" cy="80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11" name="组合 94"/>
            <p:cNvGrpSpPr/>
            <p:nvPr/>
          </p:nvGrpSpPr>
          <p:grpSpPr>
            <a:xfrm>
              <a:off x="2742840" y="3071880"/>
              <a:ext cx="1357200" cy="804960"/>
              <a:chOff x="2742840" y="3071880"/>
              <a:chExt cx="1357200" cy="804960"/>
            </a:xfrm>
          </p:grpSpPr>
          <p:grpSp>
            <p:nvGrpSpPr>
              <p:cNvPr id="1112" name="组合 80"/>
              <p:cNvGrpSpPr/>
              <p:nvPr/>
            </p:nvGrpSpPr>
            <p:grpSpPr>
              <a:xfrm>
                <a:off x="2742840" y="3071880"/>
                <a:ext cx="1357200" cy="804960"/>
                <a:chOff x="2742840" y="3071880"/>
                <a:chExt cx="1357200" cy="804960"/>
              </a:xfrm>
            </p:grpSpPr>
            <p:sp>
              <p:nvSpPr>
                <p:cNvPr id="1113" name="直接连接符 38"/>
                <p:cNvSpPr/>
                <p:nvPr/>
              </p:nvSpPr>
              <p:spPr>
                <a:xfrm>
                  <a:off x="2742840" y="3500640"/>
                  <a:ext cx="1071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graphicFrame>
              <p:nvGraphicFramePr>
                <p:cNvPr id="1114" name="Object 50"/>
                <p:cNvGraphicFramePr/>
                <p:nvPr/>
              </p:nvGraphicFramePr>
              <p:xfrm>
                <a:off x="3814560" y="3071880"/>
                <a:ext cx="285480" cy="8049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1115" name="Object 50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3814560" y="3071880"/>
                          <a:ext cx="285480" cy="80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16" name="直接连接符 37"/>
              <p:cNvSpPr/>
              <p:nvPr/>
            </p:nvSpPr>
            <p:spPr>
              <a:xfrm>
                <a:off x="3099960" y="3357720"/>
                <a:ext cx="68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aphicFrame>
        <p:nvGraphicFramePr>
          <p:cNvPr id="1117" name="Object 46"/>
          <p:cNvGraphicFramePr/>
          <p:nvPr/>
        </p:nvGraphicFramePr>
        <p:xfrm>
          <a:off x="2928960" y="4695840"/>
          <a:ext cx="830160" cy="80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8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28960" y="4695840"/>
                    <a:ext cx="8301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3786120" y="4695840"/>
          <a:ext cx="935280" cy="80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86120" y="4695840"/>
                    <a:ext cx="935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Object 7"/>
          <p:cNvGraphicFramePr/>
          <p:nvPr/>
        </p:nvGraphicFramePr>
        <p:xfrm>
          <a:off x="4714920" y="4714920"/>
          <a:ext cx="571320" cy="80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4920" y="4714920"/>
                    <a:ext cx="5713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56"/>
          <p:cNvGrpSpPr/>
          <p:nvPr/>
        </p:nvGrpSpPr>
        <p:grpSpPr>
          <a:xfrm>
            <a:off x="1143000" y="1714680"/>
            <a:ext cx="6786720" cy="1823760"/>
            <a:chOff x="1143000" y="1714680"/>
            <a:chExt cx="6786720" cy="1823760"/>
          </a:xfrm>
        </p:grpSpPr>
        <p:graphicFrame>
          <p:nvGraphicFramePr>
            <p:cNvPr id="1124" name="Object 43"/>
            <p:cNvGraphicFramePr/>
            <p:nvPr/>
          </p:nvGraphicFramePr>
          <p:xfrm>
            <a:off x="1143000" y="1714680"/>
            <a:ext cx="3386160" cy="80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5" name="Object 4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714680"/>
                      <a:ext cx="338616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6" name="Object 10"/>
            <p:cNvGraphicFramePr/>
            <p:nvPr/>
          </p:nvGraphicFramePr>
          <p:xfrm>
            <a:off x="1143000" y="2714760"/>
            <a:ext cx="2050920" cy="80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2714760"/>
                      <a:ext cx="205092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8" name="Object 45"/>
            <p:cNvGraphicFramePr/>
            <p:nvPr/>
          </p:nvGraphicFramePr>
          <p:xfrm>
            <a:off x="5102280" y="1714680"/>
            <a:ext cx="2827440" cy="80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9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2280" y="1714680"/>
                      <a:ext cx="282744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0" name="Object 46"/>
            <p:cNvGraphicFramePr/>
            <p:nvPr/>
          </p:nvGraphicFramePr>
          <p:xfrm>
            <a:off x="5143680" y="2733840"/>
            <a:ext cx="2751120" cy="80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1" name="Object 4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43680" y="2733840"/>
                      <a:ext cx="275112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2" name="Rectangle 2"/>
          <p:cNvSpPr/>
          <p:nvPr/>
        </p:nvSpPr>
        <p:spPr>
          <a:xfrm>
            <a:off x="1000080" y="8571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计算同分母分数的加减法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3" name="Rectangle 2"/>
          <p:cNvSpPr/>
          <p:nvPr/>
        </p:nvSpPr>
        <p:spPr>
          <a:xfrm>
            <a:off x="1071720" y="3714840"/>
            <a:ext cx="7215120" cy="71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分数相加减，分母不变，分子相加减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2214720" y="4500720"/>
            <a:ext cx="5214960" cy="7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的结果，能约分的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35" name="Rectangle 2"/>
          <p:cNvSpPr/>
          <p:nvPr/>
        </p:nvSpPr>
        <p:spPr>
          <a:xfrm>
            <a:off x="1071720" y="5429160"/>
            <a:ext cx="72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的加减法如何计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6"/>
          <p:cNvGrpSpPr/>
          <p:nvPr/>
        </p:nvGrpSpPr>
        <p:grpSpPr>
          <a:xfrm>
            <a:off x="1857240" y="1695600"/>
            <a:ext cx="5929560" cy="2590560"/>
            <a:chOff x="1857240" y="1695600"/>
            <a:chExt cx="5929560" cy="2590560"/>
          </a:xfrm>
        </p:grpSpPr>
        <p:pic>
          <p:nvPicPr>
            <p:cNvPr id="1137" name="Picture 9" descr=""/>
            <p:cNvPicPr/>
            <p:nvPr/>
          </p:nvPicPr>
          <p:blipFill>
            <a:blip r:embed="rId1"/>
            <a:stretch/>
          </p:blipFill>
          <p:spPr>
            <a:xfrm>
              <a:off x="2643120" y="1695600"/>
              <a:ext cx="514368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52"/>
            <p:cNvGrpSpPr/>
            <p:nvPr/>
          </p:nvGrpSpPr>
          <p:grpSpPr>
            <a:xfrm>
              <a:off x="1857240" y="2909880"/>
              <a:ext cx="1500120" cy="805320"/>
              <a:chOff x="1857240" y="2909880"/>
              <a:chExt cx="1500120" cy="805320"/>
            </a:xfrm>
          </p:grpSpPr>
          <p:sp>
            <p:nvSpPr>
              <p:cNvPr id="1139" name="直接连接符 18"/>
              <p:cNvSpPr/>
              <p:nvPr/>
            </p:nvSpPr>
            <p:spPr>
              <a:xfrm>
                <a:off x="2142720" y="333864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0" name="Object 44"/>
              <p:cNvGraphicFramePr/>
              <p:nvPr/>
            </p:nvGraphicFramePr>
            <p:xfrm>
              <a:off x="1857240" y="2909880"/>
              <a:ext cx="285480" cy="805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41" name="Object 4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57240" y="2909880"/>
                        <a:ext cx="285480" cy="80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2" name="组合 56"/>
            <p:cNvGrpSpPr/>
            <p:nvPr/>
          </p:nvGrpSpPr>
          <p:grpSpPr>
            <a:xfrm>
              <a:off x="3571920" y="2266920"/>
              <a:ext cx="1025280" cy="804600"/>
              <a:chOff x="3571920" y="2266920"/>
              <a:chExt cx="1025280" cy="804600"/>
            </a:xfrm>
          </p:grpSpPr>
          <p:sp>
            <p:nvSpPr>
              <p:cNvPr id="1143" name="直接连接符 16"/>
              <p:cNvSpPr/>
              <p:nvPr/>
            </p:nvSpPr>
            <p:spPr>
              <a:xfrm flipV="1">
                <a:off x="3571920" y="2766600"/>
                <a:ext cx="642960" cy="2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4" name="Object 45"/>
              <p:cNvGraphicFramePr/>
              <p:nvPr/>
            </p:nvGraphicFramePr>
            <p:xfrm>
              <a:off x="4286160" y="2266920"/>
              <a:ext cx="311040" cy="8046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45" name="Object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6160" y="2266920"/>
                        <a:ext cx="3110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6" name="组合 63"/>
            <p:cNvGrpSpPr/>
            <p:nvPr/>
          </p:nvGrpSpPr>
          <p:grpSpPr>
            <a:xfrm>
              <a:off x="3844800" y="3033720"/>
              <a:ext cx="798480" cy="804600"/>
              <a:chOff x="3844800" y="3033720"/>
              <a:chExt cx="798480" cy="804600"/>
            </a:xfrm>
          </p:grpSpPr>
          <p:sp>
            <p:nvSpPr>
              <p:cNvPr id="1147" name="直接连接符 14"/>
              <p:cNvSpPr/>
              <p:nvPr/>
            </p:nvSpPr>
            <p:spPr>
              <a:xfrm flipV="1">
                <a:off x="3844800" y="3338280"/>
                <a:ext cx="58428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48" name="Object 46"/>
              <p:cNvGraphicFramePr/>
              <p:nvPr/>
            </p:nvGraphicFramePr>
            <p:xfrm>
              <a:off x="4357440" y="3033720"/>
              <a:ext cx="285840" cy="80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49" name="Object 4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357440" y="3033720"/>
                        <a:ext cx="28584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50" name="组合 66"/>
            <p:cNvGrpSpPr/>
            <p:nvPr/>
          </p:nvGrpSpPr>
          <p:grpSpPr>
            <a:xfrm>
              <a:off x="3500280" y="3481560"/>
              <a:ext cx="857160" cy="804600"/>
              <a:chOff x="3500280" y="3481560"/>
              <a:chExt cx="857160" cy="804600"/>
            </a:xfrm>
          </p:grpSpPr>
          <p:sp>
            <p:nvSpPr>
              <p:cNvPr id="1151" name="直接连接符 12"/>
              <p:cNvSpPr/>
              <p:nvPr/>
            </p:nvSpPr>
            <p:spPr>
              <a:xfrm>
                <a:off x="3500280" y="3714840"/>
                <a:ext cx="57132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aphicFrame>
            <p:nvGraphicFramePr>
              <p:cNvPr id="1152" name="Object 47"/>
              <p:cNvGraphicFramePr/>
              <p:nvPr/>
            </p:nvGraphicFramePr>
            <p:xfrm>
              <a:off x="4071960" y="3481560"/>
              <a:ext cx="285480" cy="80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53" name="Object 47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071960" y="3481560"/>
                        <a:ext cx="285480" cy="80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54" name="Rectangle 2"/>
          <p:cNvSpPr/>
          <p:nvPr/>
        </p:nvSpPr>
        <p:spPr>
          <a:xfrm>
            <a:off x="500040" y="1000080"/>
            <a:ext cx="8215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同学中喜欢乒乓球和举重的人数占全班人数的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55" name="Object 11"/>
          <p:cNvGraphicFramePr/>
          <p:nvPr/>
        </p:nvGraphicFramePr>
        <p:xfrm>
          <a:off x="2928960" y="4365720"/>
          <a:ext cx="83016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5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8960" y="4365720"/>
                    <a:ext cx="8301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Object 12"/>
          <p:cNvGraphicFramePr/>
          <p:nvPr/>
        </p:nvGraphicFramePr>
        <p:xfrm>
          <a:off x="6599160" y="5124600"/>
          <a:ext cx="830520" cy="80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8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99160" y="5124600"/>
                    <a:ext cx="8305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Rectangle 2"/>
          <p:cNvSpPr/>
          <p:nvPr/>
        </p:nvSpPr>
        <p:spPr>
          <a:xfrm>
            <a:off x="1500120" y="5286240"/>
            <a:ext cx="4776840" cy="57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化为分数单位相同的分数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60" name="Object 13"/>
          <p:cNvGraphicFramePr/>
          <p:nvPr/>
        </p:nvGraphicFramePr>
        <p:xfrm>
          <a:off x="3714840" y="4410000"/>
          <a:ext cx="1141200" cy="80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1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14840" y="4410000"/>
                    <a:ext cx="1141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14"/>
          <p:cNvGraphicFramePr/>
          <p:nvPr/>
        </p:nvGraphicFramePr>
        <p:xfrm>
          <a:off x="4786200" y="4410000"/>
          <a:ext cx="90828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3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6200" y="4410000"/>
                    <a:ext cx="9082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15"/>
          <p:cNvGraphicFramePr/>
          <p:nvPr/>
        </p:nvGraphicFramePr>
        <p:xfrm>
          <a:off x="5715000" y="4410000"/>
          <a:ext cx="596880" cy="80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5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15000" y="4410000"/>
                    <a:ext cx="596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9:01Z</dcterms:created>
  <dc:creator/>
  <dc:description/>
  <cp:keywords/>
  <dc:language>en-US</dc:language>
  <cp:lastModifiedBy/>
  <dcterms:modified xsi:type="dcterms:W3CDTF">2017-12-20T14:36:52Z</dcterms:modified>
  <cp:revision>1</cp:revision>
  <dc:subject/>
  <dc:title/>
</cp:coreProperties>
</file>