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90.wmf" ContentType="image/x-wmf"/>
  <Override PartName="/ppt/media/image25.wmf" ContentType="image/x-wmf"/>
  <Override PartName="/ppt/media/image62.wmf" ContentType="image/x-wmf"/>
  <Override PartName="/ppt/media/image91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2.png" ContentType="image/png"/>
  <Override PartName="/ppt/media/image71.wmf" ContentType="image/x-wmf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20.png" ContentType="image/png"/>
  <Override PartName="/ppt/media/image88.wmf" ContentType="image/x-wmf"/>
  <Override PartName="/ppt/media/image51.wmf" ContentType="image/x-wmf"/>
  <Override PartName="/ppt/media/image21.wmf" ContentType="image/x-wmf"/>
  <Override PartName="/ppt/media/image58.wmf" ContentType="image/x-wmf"/>
  <Override PartName="/ppt/media/image81.wmf" ContentType="image/x-wmf"/>
  <Override PartName="/ppt/media/image16.wmf" ContentType="image/x-wmf"/>
  <Override PartName="/ppt/media/image14.wmf" ContentType="image/x-wmf"/>
  <Override PartName="/ppt/media/image80.wmf" ContentType="image/x-wmf"/>
  <Override PartName="/ppt/media/image15.wmf" ContentType="image/x-wmf"/>
  <Override PartName="/ppt/media/image1.jpeg" ContentType="image/jpeg"/>
  <Override PartName="/ppt/media/image89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1.png" ContentType="image/png"/>
  <Override PartName="/ppt/media/image79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8EF-D9EE-406B-AD87-6431767A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760-230B-4D86-A987-56D20226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B49-223C-417D-AD28-C9671886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AB1-4E76-479E-9A2B-BCFD4763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FDEB-8129-47A3-8473-790F3E23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94F4-1D2F-444D-BA35-C0E52091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940B-AB61-438A-843B-FADD6240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7D04-DEB0-40B9-8871-D2F9C756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DF66-4558-4906-91DC-EAF56598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D6A9-30C4-402D-B063-A073855F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9C6B-A889-494D-AD94-36B107BA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4D2-2FFA-4B7B-96A5-7798F415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A4F3-4955-4694-8395-A69D9E00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025F-735F-4EA6-9A8C-1866E85A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4E9C-2624-4B00-B16B-6AEB4B0B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1EEA-0FAE-4C0E-9193-A1234C59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66EE-BEAF-40C4-94C6-EA956101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A6B-E245-4151-B29A-1670DFF5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BF5-7F4E-46D8-B593-DE5B0DFD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938-7936-44BE-96E2-8FE6B7F6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A24-76E7-4BEF-9D79-67EA815A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FDE-1425-4CD9-A625-C756DF26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6BB-18C7-4722-9CFB-04C52B44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BFE-2125-49BC-87B0-4B978EF4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5FC9-5A35-4D03-9B44-713CC3D1D0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4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0436-4518-4A9D-B7F5-08381E0252C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1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1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5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6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3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8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9.wmf"/><Relationship Id="rId18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5.wmf"/><Relationship Id="rId37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5.wmf"/><Relationship Id="rId21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slideLayout" Target="../slideLayouts/slideLayout2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6.wmf"/><Relationship Id="rId18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wmf"/><Relationship Id="rId1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Box 3"/>
          <p:cNvSpPr/>
          <p:nvPr/>
        </p:nvSpPr>
        <p:spPr>
          <a:xfrm>
            <a:off x="1428840" y="17146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9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加减法</a:t>
            </a:r>
            <a:endParaRPr b="1" lang="en-US" sz="5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3" name="TextBox 3"/>
          <p:cNvSpPr/>
          <p:nvPr/>
        </p:nvSpPr>
        <p:spPr>
          <a:xfrm>
            <a:off x="650880" y="5698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组合 6"/>
          <p:cNvGrpSpPr/>
          <p:nvPr/>
        </p:nvGrpSpPr>
        <p:grpSpPr>
          <a:xfrm>
            <a:off x="1857240" y="1695600"/>
            <a:ext cx="5929560" cy="2590560"/>
            <a:chOff x="1857240" y="1695600"/>
            <a:chExt cx="5929560" cy="2590560"/>
          </a:xfrm>
        </p:grpSpPr>
        <p:pic>
          <p:nvPicPr>
            <p:cNvPr id="1167" name="Picture 9" descr=""/>
            <p:cNvPicPr/>
            <p:nvPr/>
          </p:nvPicPr>
          <p:blipFill>
            <a:blip r:embed="rId1"/>
            <a:stretch/>
          </p:blipFill>
          <p:spPr>
            <a:xfrm>
              <a:off x="2643120" y="1695600"/>
              <a:ext cx="514368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8" name="组合 52"/>
            <p:cNvGrpSpPr/>
            <p:nvPr/>
          </p:nvGrpSpPr>
          <p:grpSpPr>
            <a:xfrm>
              <a:off x="1857240" y="2909880"/>
              <a:ext cx="1500120" cy="805320"/>
              <a:chOff x="1857240" y="2909880"/>
              <a:chExt cx="1500120" cy="805320"/>
            </a:xfrm>
          </p:grpSpPr>
          <p:sp>
            <p:nvSpPr>
              <p:cNvPr id="1169" name="直接连接符 18"/>
              <p:cNvSpPr/>
              <p:nvPr/>
            </p:nvSpPr>
            <p:spPr>
              <a:xfrm>
                <a:off x="2142720" y="333864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70" name="Object 44"/>
              <p:cNvGraphicFramePr/>
              <p:nvPr/>
            </p:nvGraphicFramePr>
            <p:xfrm>
              <a:off x="1857240" y="2909880"/>
              <a:ext cx="285480" cy="8053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171" name="Object 4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57240" y="2909880"/>
                        <a:ext cx="285480" cy="80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72" name="组合 56"/>
            <p:cNvGrpSpPr/>
            <p:nvPr/>
          </p:nvGrpSpPr>
          <p:grpSpPr>
            <a:xfrm>
              <a:off x="3571920" y="2266920"/>
              <a:ext cx="1025280" cy="804600"/>
              <a:chOff x="3571920" y="2266920"/>
              <a:chExt cx="1025280" cy="804600"/>
            </a:xfrm>
          </p:grpSpPr>
          <p:sp>
            <p:nvSpPr>
              <p:cNvPr id="1173" name="直接连接符 16"/>
              <p:cNvSpPr/>
              <p:nvPr/>
            </p:nvSpPr>
            <p:spPr>
              <a:xfrm flipV="1">
                <a:off x="3571920" y="2766600"/>
                <a:ext cx="642960" cy="28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74" name="Object 45"/>
              <p:cNvGraphicFramePr/>
              <p:nvPr/>
            </p:nvGraphicFramePr>
            <p:xfrm>
              <a:off x="4286160" y="2266920"/>
              <a:ext cx="311040" cy="8046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175" name="Object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286160" y="2266920"/>
                        <a:ext cx="31104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76" name="组合 63"/>
            <p:cNvGrpSpPr/>
            <p:nvPr/>
          </p:nvGrpSpPr>
          <p:grpSpPr>
            <a:xfrm>
              <a:off x="3844800" y="3033720"/>
              <a:ext cx="798480" cy="804600"/>
              <a:chOff x="3844800" y="3033720"/>
              <a:chExt cx="798480" cy="804600"/>
            </a:xfrm>
          </p:grpSpPr>
          <p:sp>
            <p:nvSpPr>
              <p:cNvPr id="1177" name="直接连接符 14"/>
              <p:cNvSpPr/>
              <p:nvPr/>
            </p:nvSpPr>
            <p:spPr>
              <a:xfrm flipV="1">
                <a:off x="3844800" y="3338280"/>
                <a:ext cx="584280" cy="7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78" name="Object 46"/>
              <p:cNvGraphicFramePr/>
              <p:nvPr/>
            </p:nvGraphicFramePr>
            <p:xfrm>
              <a:off x="4357440" y="3033720"/>
              <a:ext cx="285840" cy="8046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179" name="Object 46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357440" y="3033720"/>
                        <a:ext cx="28584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80" name="组合 66"/>
            <p:cNvGrpSpPr/>
            <p:nvPr/>
          </p:nvGrpSpPr>
          <p:grpSpPr>
            <a:xfrm>
              <a:off x="3500280" y="3481560"/>
              <a:ext cx="857160" cy="804600"/>
              <a:chOff x="3500280" y="3481560"/>
              <a:chExt cx="857160" cy="804600"/>
            </a:xfrm>
          </p:grpSpPr>
          <p:sp>
            <p:nvSpPr>
              <p:cNvPr id="1181" name="直接连接符 12"/>
              <p:cNvSpPr/>
              <p:nvPr/>
            </p:nvSpPr>
            <p:spPr>
              <a:xfrm>
                <a:off x="3500280" y="3714840"/>
                <a:ext cx="57132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82" name="Object 47"/>
              <p:cNvGraphicFramePr/>
              <p:nvPr/>
            </p:nvGraphicFramePr>
            <p:xfrm>
              <a:off x="4071960" y="3481560"/>
              <a:ext cx="285480" cy="8046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183" name="Object 47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071960" y="3481560"/>
                        <a:ext cx="28548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84" name="Rectangle 2"/>
          <p:cNvSpPr/>
          <p:nvPr/>
        </p:nvSpPr>
        <p:spPr>
          <a:xfrm>
            <a:off x="500040" y="1000080"/>
            <a:ext cx="82152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中喜欢看乒乓球的比喜欢看举重的多几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185" name="Object 11"/>
          <p:cNvGraphicFramePr/>
          <p:nvPr/>
        </p:nvGraphicFramePr>
        <p:xfrm>
          <a:off x="2928960" y="4365720"/>
          <a:ext cx="830160" cy="80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6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28960" y="4365720"/>
                    <a:ext cx="8301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7" name="Object 13"/>
          <p:cNvGraphicFramePr/>
          <p:nvPr/>
        </p:nvGraphicFramePr>
        <p:xfrm>
          <a:off x="3714840" y="4410000"/>
          <a:ext cx="1141200" cy="80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8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14840" y="4410000"/>
                    <a:ext cx="11412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9" name="Object 14"/>
          <p:cNvGraphicFramePr/>
          <p:nvPr/>
        </p:nvGraphicFramePr>
        <p:xfrm>
          <a:off x="4786200" y="4410000"/>
          <a:ext cx="908280" cy="80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90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86200" y="4410000"/>
                    <a:ext cx="9082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1" name="Object 15"/>
          <p:cNvGraphicFramePr/>
          <p:nvPr/>
        </p:nvGraphicFramePr>
        <p:xfrm>
          <a:off x="5715000" y="4410000"/>
          <a:ext cx="596880" cy="80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92" name="Object 1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15000" y="4410000"/>
                    <a:ext cx="5968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3" name="Rectangle 2"/>
          <p:cNvSpPr/>
          <p:nvPr/>
        </p:nvSpPr>
        <p:spPr>
          <a:xfrm>
            <a:off x="2071800" y="5578560"/>
            <a:ext cx="5929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决其他异分母分数加减法问题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94" name="Rectangle 2"/>
          <p:cNvSpPr/>
          <p:nvPr/>
        </p:nvSpPr>
        <p:spPr>
          <a:xfrm>
            <a:off x="3071880" y="5214960"/>
            <a:ext cx="3000240" cy="57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计算之前先通分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1357200" y="1000080"/>
            <a:ext cx="3857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算一算，说一说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196" name="Object 19"/>
          <p:cNvGraphicFramePr/>
          <p:nvPr/>
        </p:nvGraphicFramePr>
        <p:xfrm>
          <a:off x="2697120" y="3767040"/>
          <a:ext cx="1089000" cy="8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3767040"/>
                    <a:ext cx="1089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8" name="Object 21"/>
          <p:cNvGraphicFramePr/>
          <p:nvPr/>
        </p:nvGraphicFramePr>
        <p:xfrm>
          <a:off x="2697120" y="4767120"/>
          <a:ext cx="108900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7120" y="4767120"/>
                    <a:ext cx="1089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0" name="Object 22"/>
          <p:cNvGraphicFramePr/>
          <p:nvPr/>
        </p:nvGraphicFramePr>
        <p:xfrm>
          <a:off x="2697120" y="1805040"/>
          <a:ext cx="1116000" cy="8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7120" y="1805040"/>
                    <a:ext cx="1116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2" name="Object 23"/>
          <p:cNvGraphicFramePr/>
          <p:nvPr/>
        </p:nvGraphicFramePr>
        <p:xfrm>
          <a:off x="2697120" y="2766960"/>
          <a:ext cx="1116000" cy="80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3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97120" y="2766960"/>
                    <a:ext cx="1116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4" name="Object 6"/>
          <p:cNvGraphicFramePr/>
          <p:nvPr/>
        </p:nvGraphicFramePr>
        <p:xfrm>
          <a:off x="3786120" y="1857240"/>
          <a:ext cx="1116000" cy="80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6120" y="1857240"/>
                    <a:ext cx="1116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6" name="Object 7"/>
          <p:cNvGraphicFramePr/>
          <p:nvPr/>
        </p:nvGraphicFramePr>
        <p:xfrm>
          <a:off x="4903920" y="1857240"/>
          <a:ext cx="285480" cy="80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03920" y="1857240"/>
                    <a:ext cx="2854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8" name="Object 8"/>
          <p:cNvGraphicFramePr/>
          <p:nvPr/>
        </p:nvGraphicFramePr>
        <p:xfrm>
          <a:off x="3786120" y="2747880"/>
          <a:ext cx="1116000" cy="80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0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86120" y="2747880"/>
                    <a:ext cx="1116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0" name="Object 9"/>
          <p:cNvGraphicFramePr/>
          <p:nvPr/>
        </p:nvGraphicFramePr>
        <p:xfrm>
          <a:off x="4903920" y="2747880"/>
          <a:ext cx="285480" cy="80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1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03920" y="2747880"/>
                    <a:ext cx="2854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2" name="Object 10"/>
          <p:cNvGraphicFramePr/>
          <p:nvPr/>
        </p:nvGraphicFramePr>
        <p:xfrm>
          <a:off x="3786120" y="3767040"/>
          <a:ext cx="1116000" cy="80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1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86120" y="3767040"/>
                    <a:ext cx="1116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4" name="Object 11"/>
          <p:cNvGraphicFramePr/>
          <p:nvPr/>
        </p:nvGraphicFramePr>
        <p:xfrm>
          <a:off x="4903920" y="3767040"/>
          <a:ext cx="311040" cy="80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15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03920" y="3767040"/>
                    <a:ext cx="3110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6" name="Object 12"/>
          <p:cNvGraphicFramePr/>
          <p:nvPr/>
        </p:nvGraphicFramePr>
        <p:xfrm>
          <a:off x="3786120" y="4767120"/>
          <a:ext cx="1114560" cy="804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17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86120" y="4767120"/>
                    <a:ext cx="11145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8" name="Object 13"/>
          <p:cNvGraphicFramePr/>
          <p:nvPr/>
        </p:nvGraphicFramePr>
        <p:xfrm>
          <a:off x="4903920" y="4767120"/>
          <a:ext cx="285480" cy="804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9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03920" y="4767120"/>
                    <a:ext cx="2854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2"/>
          <p:cNvSpPr/>
          <p:nvPr/>
        </p:nvSpPr>
        <p:spPr>
          <a:xfrm>
            <a:off x="1071720" y="4286160"/>
            <a:ext cx="7715160" cy="85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异分母分数相加减，先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然后按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分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数加减的方法计算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1" name="Rectangle 2"/>
          <p:cNvSpPr/>
          <p:nvPr/>
        </p:nvSpPr>
        <p:spPr>
          <a:xfrm>
            <a:off x="1000080" y="1000080"/>
            <a:ext cx="4786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归纳：异分母分数的加减法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222" name="Object 17"/>
          <p:cNvGraphicFramePr/>
          <p:nvPr/>
        </p:nvGraphicFramePr>
        <p:xfrm>
          <a:off x="1846440" y="1714680"/>
          <a:ext cx="243972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6440" y="1714680"/>
                    <a:ext cx="24397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4" name="Object 18"/>
          <p:cNvGraphicFramePr/>
          <p:nvPr/>
        </p:nvGraphicFramePr>
        <p:xfrm>
          <a:off x="5060880" y="1695600"/>
          <a:ext cx="2440080" cy="80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0880" y="1695600"/>
                    <a:ext cx="24400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6" name="Object 19"/>
          <p:cNvGraphicFramePr/>
          <p:nvPr/>
        </p:nvGraphicFramePr>
        <p:xfrm>
          <a:off x="1882800" y="3357720"/>
          <a:ext cx="238752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7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82800" y="3357720"/>
                    <a:ext cx="23875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8" name="Object 21"/>
          <p:cNvGraphicFramePr/>
          <p:nvPr/>
        </p:nvGraphicFramePr>
        <p:xfrm>
          <a:off x="5084640" y="3376440"/>
          <a:ext cx="2360880" cy="80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9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84640" y="3376440"/>
                    <a:ext cx="23608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0" name="Object 22"/>
          <p:cNvGraphicFramePr/>
          <p:nvPr/>
        </p:nvGraphicFramePr>
        <p:xfrm>
          <a:off x="1882800" y="2590920"/>
          <a:ext cx="2387520" cy="80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1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82800" y="2590920"/>
                    <a:ext cx="23875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2" name="Object 23"/>
          <p:cNvGraphicFramePr/>
          <p:nvPr/>
        </p:nvGraphicFramePr>
        <p:xfrm>
          <a:off x="5097600" y="2571840"/>
          <a:ext cx="2387520" cy="80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3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7600" y="2571840"/>
                    <a:ext cx="23875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3214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5" name="Rectangle 6"/>
          <p:cNvSpPr/>
          <p:nvPr/>
        </p:nvSpPr>
        <p:spPr>
          <a:xfrm>
            <a:off x="0" y="-270000"/>
            <a:ext cx="184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236" name="Object 57"/>
          <p:cNvGraphicFramePr/>
          <p:nvPr/>
        </p:nvGraphicFramePr>
        <p:xfrm>
          <a:off x="1014480" y="1500120"/>
          <a:ext cx="155736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7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1500120"/>
                    <a:ext cx="15573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8" name="Object 58"/>
          <p:cNvGraphicFramePr/>
          <p:nvPr/>
        </p:nvGraphicFramePr>
        <p:xfrm>
          <a:off x="1165320" y="3375000"/>
          <a:ext cx="126360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9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5320" y="3375000"/>
                    <a:ext cx="12636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0" name="Object 59"/>
          <p:cNvGraphicFramePr/>
          <p:nvPr/>
        </p:nvGraphicFramePr>
        <p:xfrm>
          <a:off x="1165320" y="4303800"/>
          <a:ext cx="1263600" cy="91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1" name="Object 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5320" y="4303800"/>
                    <a:ext cx="12636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Rectangle 2"/>
          <p:cNvSpPr/>
          <p:nvPr/>
        </p:nvSpPr>
        <p:spPr>
          <a:xfrm rot="5400000">
            <a:off x="752760" y="2682000"/>
            <a:ext cx="1214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3" name="Rectangle 2"/>
          <p:cNvSpPr/>
          <p:nvPr/>
        </p:nvSpPr>
        <p:spPr>
          <a:xfrm rot="5400000">
            <a:off x="1395720" y="2682000"/>
            <a:ext cx="1214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244" name="Object 60"/>
          <p:cNvGraphicFramePr/>
          <p:nvPr/>
        </p:nvGraphicFramePr>
        <p:xfrm>
          <a:off x="2571840" y="1428840"/>
          <a:ext cx="500040" cy="91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5" name="Object 6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1840" y="1428840"/>
                    <a:ext cx="5000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6" name="Object 61"/>
          <p:cNvGraphicFramePr/>
          <p:nvPr/>
        </p:nvGraphicFramePr>
        <p:xfrm>
          <a:off x="2428920" y="3357720"/>
          <a:ext cx="500040" cy="91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7" name="Object 6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28920" y="3357720"/>
                    <a:ext cx="5000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8" name="Object 62"/>
          <p:cNvGraphicFramePr/>
          <p:nvPr/>
        </p:nvGraphicFramePr>
        <p:xfrm>
          <a:off x="2428920" y="4286160"/>
          <a:ext cx="500040" cy="91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9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8920" y="4286160"/>
                    <a:ext cx="5000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0" name="Object 63"/>
          <p:cNvGraphicFramePr/>
          <p:nvPr/>
        </p:nvGraphicFramePr>
        <p:xfrm>
          <a:off x="3479760" y="1500120"/>
          <a:ext cx="1616040" cy="911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1" name="Object 6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79760" y="1500120"/>
                    <a:ext cx="16160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2" name="Object 64"/>
          <p:cNvGraphicFramePr/>
          <p:nvPr/>
        </p:nvGraphicFramePr>
        <p:xfrm>
          <a:off x="3697200" y="3375000"/>
          <a:ext cx="1235160" cy="911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53" name="Object 6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97200" y="3375000"/>
                    <a:ext cx="12351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4" name="Object 65"/>
          <p:cNvGraphicFramePr/>
          <p:nvPr/>
        </p:nvGraphicFramePr>
        <p:xfrm>
          <a:off x="3697200" y="4303800"/>
          <a:ext cx="1235160" cy="911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55" name="Object 6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97200" y="4303800"/>
                    <a:ext cx="12351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6" name="Rectangle 2"/>
          <p:cNvSpPr/>
          <p:nvPr/>
        </p:nvSpPr>
        <p:spPr>
          <a:xfrm rot="5400000">
            <a:off x="3247200" y="2682000"/>
            <a:ext cx="1214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57" name="Rectangle 2"/>
          <p:cNvSpPr/>
          <p:nvPr/>
        </p:nvSpPr>
        <p:spPr>
          <a:xfrm rot="5400000">
            <a:off x="3890160" y="2682000"/>
            <a:ext cx="1214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258" name="Object 66"/>
          <p:cNvGraphicFramePr/>
          <p:nvPr/>
        </p:nvGraphicFramePr>
        <p:xfrm>
          <a:off x="5153040" y="1428840"/>
          <a:ext cx="324000" cy="911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59" name="Object 6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53040" y="1428840"/>
                    <a:ext cx="3240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0" name="Object 67"/>
          <p:cNvGraphicFramePr/>
          <p:nvPr/>
        </p:nvGraphicFramePr>
        <p:xfrm>
          <a:off x="5035680" y="3357720"/>
          <a:ext cx="322200" cy="911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61" name="Object 6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35680" y="3357720"/>
                    <a:ext cx="3222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2" name="Object 68"/>
          <p:cNvGraphicFramePr/>
          <p:nvPr/>
        </p:nvGraphicFramePr>
        <p:xfrm>
          <a:off x="5035680" y="4286160"/>
          <a:ext cx="322200" cy="911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63" name="Object 6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035680" y="4286160"/>
                    <a:ext cx="3222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4" name="Object 69"/>
          <p:cNvGraphicFramePr/>
          <p:nvPr/>
        </p:nvGraphicFramePr>
        <p:xfrm>
          <a:off x="5986440" y="1500120"/>
          <a:ext cx="1616040" cy="911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65" name="Object 6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86440" y="1500120"/>
                    <a:ext cx="16160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6" name="Object 70"/>
          <p:cNvGraphicFramePr/>
          <p:nvPr/>
        </p:nvGraphicFramePr>
        <p:xfrm>
          <a:off x="6143760" y="3375000"/>
          <a:ext cx="1293840" cy="911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67" name="Object 7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143760" y="3375000"/>
                    <a:ext cx="12938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8" name="Object 71"/>
          <p:cNvGraphicFramePr/>
          <p:nvPr/>
        </p:nvGraphicFramePr>
        <p:xfrm>
          <a:off x="6143760" y="4303800"/>
          <a:ext cx="1293840" cy="911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69" name="Object 7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143760" y="4303800"/>
                    <a:ext cx="12938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0" name="Rectangle 2"/>
          <p:cNvSpPr/>
          <p:nvPr/>
        </p:nvSpPr>
        <p:spPr>
          <a:xfrm rot="5400000">
            <a:off x="5753880" y="2682000"/>
            <a:ext cx="1214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71" name="Rectangle 2"/>
          <p:cNvSpPr/>
          <p:nvPr/>
        </p:nvSpPr>
        <p:spPr>
          <a:xfrm rot="5400000">
            <a:off x="6396840" y="2682000"/>
            <a:ext cx="1214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272" name="Object 72"/>
          <p:cNvGraphicFramePr/>
          <p:nvPr/>
        </p:nvGraphicFramePr>
        <p:xfrm>
          <a:off x="7558200" y="1428840"/>
          <a:ext cx="528480" cy="911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73" name="Object 7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58200" y="1428840"/>
                    <a:ext cx="5284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4" name="Object 73"/>
          <p:cNvGraphicFramePr/>
          <p:nvPr/>
        </p:nvGraphicFramePr>
        <p:xfrm>
          <a:off x="7407360" y="3357720"/>
          <a:ext cx="528480" cy="911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275" name="Object 7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407360" y="3357720"/>
                    <a:ext cx="5284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6" name="Object 74"/>
          <p:cNvGraphicFramePr/>
          <p:nvPr/>
        </p:nvGraphicFramePr>
        <p:xfrm>
          <a:off x="7407360" y="4286160"/>
          <a:ext cx="528480" cy="911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77" name="Object 7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407360" y="4286160"/>
                    <a:ext cx="5284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2"/>
          <p:cNvSpPr/>
          <p:nvPr/>
        </p:nvSpPr>
        <p:spPr>
          <a:xfrm>
            <a:off x="1285920" y="1096920"/>
            <a:ext cx="7215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交流           的计算过程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279" name="Object 2"/>
          <p:cNvGraphicFramePr/>
          <p:nvPr/>
        </p:nvGraphicFramePr>
        <p:xfrm>
          <a:off x="2500200" y="1096920"/>
          <a:ext cx="169704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1096920"/>
                    <a:ext cx="16970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1" name="Object 15"/>
          <p:cNvGraphicFramePr/>
          <p:nvPr/>
        </p:nvGraphicFramePr>
        <p:xfrm>
          <a:off x="1679400" y="3500280"/>
          <a:ext cx="309600" cy="8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2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500280"/>
                    <a:ext cx="3096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3" name="Object 16"/>
          <p:cNvGraphicFramePr/>
          <p:nvPr/>
        </p:nvGraphicFramePr>
        <p:xfrm>
          <a:off x="2322360" y="3714840"/>
          <a:ext cx="36684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22360" y="3714840"/>
                    <a:ext cx="366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5" name="Object 17"/>
          <p:cNvGraphicFramePr/>
          <p:nvPr/>
        </p:nvGraphicFramePr>
        <p:xfrm>
          <a:off x="3108240" y="3500280"/>
          <a:ext cx="309600" cy="87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08240" y="3500280"/>
                    <a:ext cx="3096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7" name="Object 18"/>
          <p:cNvGraphicFramePr/>
          <p:nvPr/>
        </p:nvGraphicFramePr>
        <p:xfrm>
          <a:off x="3679920" y="3786120"/>
          <a:ext cx="366480" cy="28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79920" y="3786120"/>
                    <a:ext cx="366480" cy="2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9" name="Object 19"/>
          <p:cNvGraphicFramePr/>
          <p:nvPr/>
        </p:nvGraphicFramePr>
        <p:xfrm>
          <a:off x="4394160" y="3429000"/>
          <a:ext cx="56520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94160" y="3429000"/>
                    <a:ext cx="5652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1" name="Object 20"/>
          <p:cNvGraphicFramePr/>
          <p:nvPr/>
        </p:nvGraphicFramePr>
        <p:xfrm>
          <a:off x="5138640" y="3786120"/>
          <a:ext cx="366840" cy="3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38640" y="3786120"/>
                    <a:ext cx="366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3" name="Object 22"/>
          <p:cNvGraphicFramePr/>
          <p:nvPr/>
        </p:nvGraphicFramePr>
        <p:xfrm>
          <a:off x="5751360" y="3429000"/>
          <a:ext cx="565200" cy="104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4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51360" y="3429000"/>
                    <a:ext cx="5652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5" name="Object 24"/>
          <p:cNvGraphicFramePr/>
          <p:nvPr/>
        </p:nvGraphicFramePr>
        <p:xfrm>
          <a:off x="6465960" y="3786120"/>
          <a:ext cx="366480" cy="28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6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65960" y="3786120"/>
                    <a:ext cx="366480" cy="2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7" name="Object 25"/>
          <p:cNvGraphicFramePr/>
          <p:nvPr/>
        </p:nvGraphicFramePr>
        <p:xfrm>
          <a:off x="7108920" y="3429000"/>
          <a:ext cx="565200" cy="104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98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108920" y="3429000"/>
                    <a:ext cx="5652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9" name=""/>
          <p:cNvGraphicFramePr/>
          <p:nvPr/>
        </p:nvGraphicFramePr>
        <p:xfrm>
          <a:off x="6738840" y="2357280"/>
          <a:ext cx="1262160" cy="1032120"/>
        </p:xfrm>
        <a:graphic>
          <a:graphicData uri="http://schemas.openxmlformats.org/drawingml/2006/table">
            <a:tbl>
              <a:tblPr/>
              <a:tblGrid>
                <a:gridCol w="420840"/>
                <a:gridCol w="420480"/>
                <a:gridCol w="420840"/>
              </a:tblGrid>
              <a:tr h="51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0" name=""/>
          <p:cNvGraphicFramePr/>
          <p:nvPr/>
        </p:nvGraphicFramePr>
        <p:xfrm>
          <a:off x="5381640" y="2357280"/>
          <a:ext cx="1262160" cy="1032120"/>
        </p:xfrm>
        <a:graphic>
          <a:graphicData uri="http://schemas.openxmlformats.org/drawingml/2006/table">
            <a:tbl>
              <a:tblPr/>
              <a:tblGrid>
                <a:gridCol w="420840"/>
                <a:gridCol w="420480"/>
                <a:gridCol w="420840"/>
              </a:tblGrid>
              <a:tr h="51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1" name=""/>
          <p:cNvGraphicFramePr/>
          <p:nvPr/>
        </p:nvGraphicFramePr>
        <p:xfrm>
          <a:off x="4024440" y="2357280"/>
          <a:ext cx="1261800" cy="1032120"/>
        </p:xfrm>
        <a:graphic>
          <a:graphicData uri="http://schemas.openxmlformats.org/drawingml/2006/table">
            <a:tbl>
              <a:tblPr/>
              <a:tblGrid>
                <a:gridCol w="420480"/>
                <a:gridCol w="420840"/>
                <a:gridCol w="420480"/>
              </a:tblGrid>
              <a:tr h="51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2" name=""/>
          <p:cNvGraphicFramePr/>
          <p:nvPr/>
        </p:nvGraphicFramePr>
        <p:xfrm>
          <a:off x="2608200" y="2357280"/>
          <a:ext cx="1262160" cy="1032120"/>
        </p:xfrm>
        <a:graphic>
          <a:graphicData uri="http://schemas.openxmlformats.org/drawingml/2006/table">
            <a:tbl>
              <a:tblPr/>
              <a:tblGrid>
                <a:gridCol w="420840"/>
                <a:gridCol w="420480"/>
                <a:gridCol w="420840"/>
              </a:tblGrid>
              <a:tr h="103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3" name=""/>
          <p:cNvGraphicFramePr/>
          <p:nvPr/>
        </p:nvGraphicFramePr>
        <p:xfrm>
          <a:off x="1251000" y="2357280"/>
          <a:ext cx="1262160" cy="1032120"/>
        </p:xfrm>
        <a:graphic>
          <a:graphicData uri="http://schemas.openxmlformats.org/drawingml/2006/table">
            <a:tbl>
              <a:tblPr/>
              <a:tblGrid>
                <a:gridCol w="1262160"/>
              </a:tblGrid>
              <a:tr h="51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sp>
        <p:nvSpPr>
          <p:cNvPr id="1304" name="Rectangle 2"/>
          <p:cNvSpPr/>
          <p:nvPr/>
        </p:nvSpPr>
        <p:spPr>
          <a:xfrm>
            <a:off x="4465800" y="3357720"/>
            <a:ext cx="428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05" name="Rectangle 2"/>
          <p:cNvSpPr/>
          <p:nvPr/>
        </p:nvSpPr>
        <p:spPr>
          <a:xfrm>
            <a:off x="4465800" y="3786120"/>
            <a:ext cx="500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06" name="Rectangle 2"/>
          <p:cNvSpPr/>
          <p:nvPr/>
        </p:nvSpPr>
        <p:spPr>
          <a:xfrm>
            <a:off x="5823000" y="3357720"/>
            <a:ext cx="428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07" name="Rectangle 2"/>
          <p:cNvSpPr/>
          <p:nvPr/>
        </p:nvSpPr>
        <p:spPr>
          <a:xfrm>
            <a:off x="5823000" y="3857760"/>
            <a:ext cx="428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08" name="Rectangle 2"/>
          <p:cNvSpPr/>
          <p:nvPr/>
        </p:nvSpPr>
        <p:spPr>
          <a:xfrm>
            <a:off x="7180200" y="3357720"/>
            <a:ext cx="428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09" name="Rectangle 2"/>
          <p:cNvSpPr/>
          <p:nvPr/>
        </p:nvSpPr>
        <p:spPr>
          <a:xfrm>
            <a:off x="7180200" y="3857760"/>
            <a:ext cx="428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矩形 4"/>
          <p:cNvSpPr/>
          <p:nvPr/>
        </p:nvSpPr>
        <p:spPr>
          <a:xfrm>
            <a:off x="755640" y="1114560"/>
            <a:ext cx="78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括号里填空，再找规律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311" name="Object 56"/>
          <p:cNvGraphicFramePr/>
          <p:nvPr/>
        </p:nvGraphicFramePr>
        <p:xfrm>
          <a:off x="1357200" y="1785960"/>
          <a:ext cx="171612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2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785960"/>
                    <a:ext cx="17161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3" name="Object 57"/>
          <p:cNvGraphicFramePr/>
          <p:nvPr/>
        </p:nvGraphicFramePr>
        <p:xfrm>
          <a:off x="3855960" y="1785960"/>
          <a:ext cx="1716120" cy="98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4" name="Object 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5960" y="1785960"/>
                    <a:ext cx="17161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5" name="Object 58"/>
          <p:cNvGraphicFramePr/>
          <p:nvPr/>
        </p:nvGraphicFramePr>
        <p:xfrm>
          <a:off x="6143760" y="1785960"/>
          <a:ext cx="1716120" cy="98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6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3760" y="1785960"/>
                    <a:ext cx="17161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7" name="Object 59"/>
          <p:cNvGraphicFramePr/>
          <p:nvPr/>
        </p:nvGraphicFramePr>
        <p:xfrm>
          <a:off x="1357200" y="2940120"/>
          <a:ext cx="1716120" cy="98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8" name="Object 5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7200" y="2940120"/>
                    <a:ext cx="17161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9" name="Object 60"/>
          <p:cNvGraphicFramePr/>
          <p:nvPr/>
        </p:nvGraphicFramePr>
        <p:xfrm>
          <a:off x="3716280" y="2940120"/>
          <a:ext cx="1997280" cy="98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0" name="Object 6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6280" y="2940120"/>
                    <a:ext cx="19972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1" name="Object 61"/>
          <p:cNvGraphicFramePr/>
          <p:nvPr/>
        </p:nvGraphicFramePr>
        <p:xfrm>
          <a:off x="6145200" y="2940120"/>
          <a:ext cx="1855800" cy="98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2" name="Object 6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45200" y="2940120"/>
                    <a:ext cx="18558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Rectangle 2"/>
          <p:cNvSpPr/>
          <p:nvPr/>
        </p:nvSpPr>
        <p:spPr>
          <a:xfrm>
            <a:off x="2643120" y="2071800"/>
            <a:ext cx="500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24" name="Rectangle 2"/>
          <p:cNvSpPr/>
          <p:nvPr/>
        </p:nvSpPr>
        <p:spPr>
          <a:xfrm>
            <a:off x="5072040" y="2071800"/>
            <a:ext cx="500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25" name="Rectangle 2"/>
          <p:cNvSpPr/>
          <p:nvPr/>
        </p:nvSpPr>
        <p:spPr>
          <a:xfrm>
            <a:off x="7358040" y="2071800"/>
            <a:ext cx="500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26" name="Rectangle 2"/>
          <p:cNvSpPr/>
          <p:nvPr/>
        </p:nvSpPr>
        <p:spPr>
          <a:xfrm>
            <a:off x="2571840" y="3214800"/>
            <a:ext cx="500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27" name="Rectangle 2"/>
          <p:cNvSpPr/>
          <p:nvPr/>
        </p:nvSpPr>
        <p:spPr>
          <a:xfrm>
            <a:off x="5286240" y="3214800"/>
            <a:ext cx="500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28" name="Rectangle 2"/>
          <p:cNvSpPr/>
          <p:nvPr/>
        </p:nvSpPr>
        <p:spPr>
          <a:xfrm>
            <a:off x="7429680" y="321480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248000" y="5006880"/>
            <a:ext cx="4896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能写出哪些分数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5" name="Picture 20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00040" y="996840"/>
            <a:ext cx="8134200" cy="17179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214280" y="2714760"/>
            <a:ext cx="6958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43" descr=""/>
          <p:cNvPicPr/>
          <p:nvPr/>
        </p:nvPicPr>
        <p:blipFill>
          <a:blip r:embed="rId1"/>
          <a:stretch/>
        </p:blipFill>
        <p:spPr>
          <a:xfrm>
            <a:off x="2271600" y="1071720"/>
            <a:ext cx="5300640" cy="4047840"/>
          </a:xfrm>
          <a:prstGeom prst="rect">
            <a:avLst/>
          </a:prstGeom>
          <a:ln w="0">
            <a:noFill/>
          </a:ln>
        </p:spPr>
      </p:pic>
      <p:grpSp>
        <p:nvGrpSpPr>
          <p:cNvPr id="988" name="组合 52"/>
          <p:cNvGrpSpPr/>
          <p:nvPr/>
        </p:nvGrpSpPr>
        <p:grpSpPr>
          <a:xfrm>
            <a:off x="1428840" y="2286000"/>
            <a:ext cx="1500120" cy="804960"/>
            <a:chOff x="1428840" y="2286000"/>
            <a:chExt cx="1500120" cy="804960"/>
          </a:xfrm>
        </p:grpSpPr>
        <p:sp>
          <p:nvSpPr>
            <p:cNvPr id="989" name="直接连接符 47"/>
            <p:cNvSpPr/>
            <p:nvPr/>
          </p:nvSpPr>
          <p:spPr>
            <a:xfrm>
              <a:off x="1714320" y="2714760"/>
              <a:ext cx="121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990" name="Object 44"/>
            <p:cNvGraphicFramePr/>
            <p:nvPr/>
          </p:nvGraphicFramePr>
          <p:xfrm>
            <a:off x="1428840" y="2286000"/>
            <a:ext cx="285480" cy="80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91" name="Object 4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28840" y="2286000"/>
                      <a:ext cx="28548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2" name="组合 56"/>
          <p:cNvGrpSpPr/>
          <p:nvPr/>
        </p:nvGrpSpPr>
        <p:grpSpPr>
          <a:xfrm>
            <a:off x="3357720" y="2000160"/>
            <a:ext cx="1512720" cy="804960"/>
            <a:chOff x="3357720" y="2000160"/>
            <a:chExt cx="1512720" cy="804960"/>
          </a:xfrm>
        </p:grpSpPr>
        <p:sp>
          <p:nvSpPr>
            <p:cNvPr id="993" name="直接连接符 59"/>
            <p:cNvSpPr/>
            <p:nvPr/>
          </p:nvSpPr>
          <p:spPr>
            <a:xfrm>
              <a:off x="3357720" y="2428920"/>
              <a:ext cx="121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994" name="Object 45"/>
            <p:cNvGraphicFramePr/>
            <p:nvPr/>
          </p:nvGraphicFramePr>
          <p:xfrm>
            <a:off x="4559400" y="2000160"/>
            <a:ext cx="311040" cy="804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5" name="Object 4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59400" y="2000160"/>
                      <a:ext cx="31104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6" name="组合 63"/>
          <p:cNvGrpSpPr/>
          <p:nvPr/>
        </p:nvGrpSpPr>
        <p:grpSpPr>
          <a:xfrm>
            <a:off x="3559320" y="2481120"/>
            <a:ext cx="869760" cy="804960"/>
            <a:chOff x="3559320" y="2481120"/>
            <a:chExt cx="869760" cy="804960"/>
          </a:xfrm>
        </p:grpSpPr>
        <p:sp>
          <p:nvSpPr>
            <p:cNvPr id="997" name="直接连接符 64"/>
            <p:cNvSpPr/>
            <p:nvPr/>
          </p:nvSpPr>
          <p:spPr>
            <a:xfrm>
              <a:off x="3559320" y="285732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998" name="Object 46"/>
            <p:cNvGraphicFramePr/>
            <p:nvPr/>
          </p:nvGraphicFramePr>
          <p:xfrm>
            <a:off x="4143600" y="2481120"/>
            <a:ext cx="285480" cy="804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99" name="Object 4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43600" y="2481120"/>
                      <a:ext cx="28548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0" name="组合 66"/>
          <p:cNvGrpSpPr/>
          <p:nvPr/>
        </p:nvGrpSpPr>
        <p:grpSpPr>
          <a:xfrm>
            <a:off x="3286080" y="2909880"/>
            <a:ext cx="798480" cy="804960"/>
            <a:chOff x="3286080" y="2909880"/>
            <a:chExt cx="798480" cy="804960"/>
          </a:xfrm>
        </p:grpSpPr>
        <p:sp>
          <p:nvSpPr>
            <p:cNvPr id="1001" name="直接连接符 67"/>
            <p:cNvSpPr/>
            <p:nvPr/>
          </p:nvSpPr>
          <p:spPr>
            <a:xfrm>
              <a:off x="3286080" y="3090600"/>
              <a:ext cx="57168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002" name="Object 47"/>
            <p:cNvGraphicFramePr/>
            <p:nvPr/>
          </p:nvGraphicFramePr>
          <p:xfrm>
            <a:off x="3798720" y="2909880"/>
            <a:ext cx="285840" cy="804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03" name="Object 47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798720" y="2909880"/>
                      <a:ext cx="28584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4" name="组合 72"/>
          <p:cNvGrpSpPr/>
          <p:nvPr/>
        </p:nvGrpSpPr>
        <p:grpSpPr>
          <a:xfrm>
            <a:off x="1214280" y="4071960"/>
            <a:ext cx="1500480" cy="804960"/>
            <a:chOff x="1214280" y="4071960"/>
            <a:chExt cx="1500480" cy="804960"/>
          </a:xfrm>
        </p:grpSpPr>
        <p:sp>
          <p:nvSpPr>
            <p:cNvPr id="1005" name="直接连接符 73"/>
            <p:cNvSpPr/>
            <p:nvPr/>
          </p:nvSpPr>
          <p:spPr>
            <a:xfrm>
              <a:off x="1500120" y="4500720"/>
              <a:ext cx="121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006" name="Object 48"/>
            <p:cNvGraphicFramePr/>
            <p:nvPr/>
          </p:nvGraphicFramePr>
          <p:xfrm>
            <a:off x="1214280" y="4071960"/>
            <a:ext cx="285840" cy="8049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07" name="Object 48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214280" y="4071960"/>
                      <a:ext cx="28584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8" name="组合 75"/>
          <p:cNvGrpSpPr/>
          <p:nvPr/>
        </p:nvGrpSpPr>
        <p:grpSpPr>
          <a:xfrm>
            <a:off x="3344760" y="4286160"/>
            <a:ext cx="1513080" cy="804960"/>
            <a:chOff x="3344760" y="4286160"/>
            <a:chExt cx="1513080" cy="804960"/>
          </a:xfrm>
        </p:grpSpPr>
        <p:sp>
          <p:nvSpPr>
            <p:cNvPr id="1009" name="直接连接符 76"/>
            <p:cNvSpPr/>
            <p:nvPr/>
          </p:nvSpPr>
          <p:spPr>
            <a:xfrm>
              <a:off x="3344760" y="4714920"/>
              <a:ext cx="121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010" name="Object 49"/>
            <p:cNvGraphicFramePr/>
            <p:nvPr/>
          </p:nvGraphicFramePr>
          <p:xfrm>
            <a:off x="4546800" y="4286160"/>
            <a:ext cx="311040" cy="8049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11" name="Object 49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46800" y="4286160"/>
                      <a:ext cx="31104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12" name="组合 94"/>
          <p:cNvGrpSpPr/>
          <p:nvPr/>
        </p:nvGrpSpPr>
        <p:grpSpPr>
          <a:xfrm>
            <a:off x="3071880" y="3786120"/>
            <a:ext cx="1357200" cy="804960"/>
            <a:chOff x="3071880" y="3786120"/>
            <a:chExt cx="1357200" cy="804960"/>
          </a:xfrm>
        </p:grpSpPr>
        <p:grpSp>
          <p:nvGrpSpPr>
            <p:cNvPr id="1013" name="组合 80"/>
            <p:cNvGrpSpPr/>
            <p:nvPr/>
          </p:nvGrpSpPr>
          <p:grpSpPr>
            <a:xfrm>
              <a:off x="3071880" y="3786120"/>
              <a:ext cx="1357200" cy="804960"/>
              <a:chOff x="3071880" y="3786120"/>
              <a:chExt cx="1357200" cy="804960"/>
            </a:xfrm>
          </p:grpSpPr>
          <p:sp>
            <p:nvSpPr>
              <p:cNvPr id="1014" name="直接连接符 83"/>
              <p:cNvSpPr/>
              <p:nvPr/>
            </p:nvSpPr>
            <p:spPr>
              <a:xfrm>
                <a:off x="3071880" y="4214880"/>
                <a:ext cx="1071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15" name="Object 50"/>
              <p:cNvGraphicFramePr/>
              <p:nvPr/>
            </p:nvGraphicFramePr>
            <p:xfrm>
              <a:off x="4143600" y="3786120"/>
              <a:ext cx="285480" cy="80496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016" name="Object 50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4143600" y="3786120"/>
                        <a:ext cx="285480" cy="80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17" name="直接连接符 93"/>
            <p:cNvSpPr/>
            <p:nvPr/>
          </p:nvSpPr>
          <p:spPr>
            <a:xfrm>
              <a:off x="3429000" y="4071960"/>
              <a:ext cx="68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sp>
        <p:nvSpPr>
          <p:cNvPr id="1018" name="Rectangle 2"/>
          <p:cNvSpPr/>
          <p:nvPr/>
        </p:nvSpPr>
        <p:spPr>
          <a:xfrm>
            <a:off x="2357280" y="5006880"/>
            <a:ext cx="5857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些分数分别表示什么意义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19" name="Rectangle 2"/>
          <p:cNvSpPr/>
          <p:nvPr/>
        </p:nvSpPr>
        <p:spPr>
          <a:xfrm>
            <a:off x="1785960" y="5506920"/>
            <a:ext cx="6643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您能提出哪些分数加减法的数学问题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组合 30"/>
          <p:cNvGrpSpPr/>
          <p:nvPr/>
        </p:nvGrpSpPr>
        <p:grpSpPr>
          <a:xfrm>
            <a:off x="1606680" y="1714680"/>
            <a:ext cx="5930640" cy="2590560"/>
            <a:chOff x="1606680" y="1714680"/>
            <a:chExt cx="5930640" cy="2590560"/>
          </a:xfrm>
        </p:grpSpPr>
        <p:pic>
          <p:nvPicPr>
            <p:cNvPr id="1021" name="Picture 9" descr=""/>
            <p:cNvPicPr/>
            <p:nvPr/>
          </p:nvPicPr>
          <p:blipFill>
            <a:blip r:embed="rId1"/>
            <a:stretch/>
          </p:blipFill>
          <p:spPr>
            <a:xfrm>
              <a:off x="2392560" y="1714680"/>
              <a:ext cx="51447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2" name="组合 52"/>
            <p:cNvGrpSpPr/>
            <p:nvPr/>
          </p:nvGrpSpPr>
          <p:grpSpPr>
            <a:xfrm>
              <a:off x="1606680" y="2928960"/>
              <a:ext cx="1500480" cy="805320"/>
              <a:chOff x="1606680" y="2928960"/>
              <a:chExt cx="1500480" cy="805320"/>
            </a:xfrm>
          </p:grpSpPr>
          <p:sp>
            <p:nvSpPr>
              <p:cNvPr id="1023" name="直接连接符 47"/>
              <p:cNvSpPr/>
              <p:nvPr/>
            </p:nvSpPr>
            <p:spPr>
              <a:xfrm>
                <a:off x="1892520" y="335772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24" name="Object 44"/>
              <p:cNvGraphicFramePr/>
              <p:nvPr/>
            </p:nvGraphicFramePr>
            <p:xfrm>
              <a:off x="1606680" y="2928960"/>
              <a:ext cx="285840" cy="8053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25" name="Object 4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06680" y="2928960"/>
                        <a:ext cx="285840" cy="80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26" name="组合 56"/>
            <p:cNvGrpSpPr/>
            <p:nvPr/>
          </p:nvGrpSpPr>
          <p:grpSpPr>
            <a:xfrm>
              <a:off x="3321360" y="2286000"/>
              <a:ext cx="1025640" cy="804600"/>
              <a:chOff x="3321360" y="2286000"/>
              <a:chExt cx="1025640" cy="804600"/>
            </a:xfrm>
          </p:grpSpPr>
          <p:sp>
            <p:nvSpPr>
              <p:cNvPr id="1027" name="直接连接符 59"/>
              <p:cNvSpPr/>
              <p:nvPr/>
            </p:nvSpPr>
            <p:spPr>
              <a:xfrm flipV="1">
                <a:off x="3321360" y="2785680"/>
                <a:ext cx="642600" cy="28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28" name="Object 45"/>
              <p:cNvGraphicFramePr/>
              <p:nvPr/>
            </p:nvGraphicFramePr>
            <p:xfrm>
              <a:off x="4035960" y="2286000"/>
              <a:ext cx="311040" cy="8046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029" name="Object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035960" y="2286000"/>
                        <a:ext cx="31104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30" name="组合 63"/>
            <p:cNvGrpSpPr/>
            <p:nvPr/>
          </p:nvGrpSpPr>
          <p:grpSpPr>
            <a:xfrm>
              <a:off x="3594600" y="3052800"/>
              <a:ext cx="798480" cy="804600"/>
              <a:chOff x="3594600" y="3052800"/>
              <a:chExt cx="798480" cy="804600"/>
            </a:xfrm>
          </p:grpSpPr>
          <p:sp>
            <p:nvSpPr>
              <p:cNvPr id="1031" name="直接连接符 64"/>
              <p:cNvSpPr/>
              <p:nvPr/>
            </p:nvSpPr>
            <p:spPr>
              <a:xfrm flipV="1">
                <a:off x="3594600" y="3357360"/>
                <a:ext cx="583560" cy="7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32" name="Object 46"/>
              <p:cNvGraphicFramePr/>
              <p:nvPr/>
            </p:nvGraphicFramePr>
            <p:xfrm>
              <a:off x="4107600" y="3052800"/>
              <a:ext cx="285480" cy="8046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33" name="Object 46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107600" y="3052800"/>
                        <a:ext cx="28548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34" name="组合 66"/>
            <p:cNvGrpSpPr/>
            <p:nvPr/>
          </p:nvGrpSpPr>
          <p:grpSpPr>
            <a:xfrm>
              <a:off x="3250080" y="3500640"/>
              <a:ext cx="857160" cy="804600"/>
              <a:chOff x="3250080" y="3500640"/>
              <a:chExt cx="857160" cy="804600"/>
            </a:xfrm>
          </p:grpSpPr>
          <p:sp>
            <p:nvSpPr>
              <p:cNvPr id="1035" name="直接连接符 67"/>
              <p:cNvSpPr/>
              <p:nvPr/>
            </p:nvSpPr>
            <p:spPr>
              <a:xfrm>
                <a:off x="3250080" y="3733920"/>
                <a:ext cx="57096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36" name="Object 47"/>
              <p:cNvGraphicFramePr/>
              <p:nvPr/>
            </p:nvGraphicFramePr>
            <p:xfrm>
              <a:off x="3821760" y="3500640"/>
              <a:ext cx="285480" cy="8046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37" name="Object 47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821760" y="3500640"/>
                        <a:ext cx="28548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038" name="Rectangle 2"/>
          <p:cNvSpPr/>
          <p:nvPr/>
        </p:nvSpPr>
        <p:spPr>
          <a:xfrm>
            <a:off x="571680" y="928800"/>
            <a:ext cx="8072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中喜欢跳水和体操的人数占全班人数的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39" name="Rectangle 2"/>
          <p:cNvSpPr/>
          <p:nvPr/>
        </p:nvSpPr>
        <p:spPr>
          <a:xfrm>
            <a:off x="3286080" y="5143680"/>
            <a:ext cx="3857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分数分数单位相同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040" name="Object 10"/>
          <p:cNvGraphicFramePr/>
          <p:nvPr/>
        </p:nvGraphicFramePr>
        <p:xfrm>
          <a:off x="3098880" y="4357800"/>
          <a:ext cx="830160" cy="80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1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98880" y="4357800"/>
                    <a:ext cx="8301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Object 11"/>
          <p:cNvGraphicFramePr/>
          <p:nvPr/>
        </p:nvGraphicFramePr>
        <p:xfrm>
          <a:off x="4000680" y="4410000"/>
          <a:ext cx="857160" cy="80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43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00680" y="4410000"/>
                    <a:ext cx="8571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Object 12"/>
          <p:cNvGraphicFramePr/>
          <p:nvPr/>
        </p:nvGraphicFramePr>
        <p:xfrm>
          <a:off x="4857840" y="4429080"/>
          <a:ext cx="571320" cy="80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45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57840" y="4429080"/>
                    <a:ext cx="57132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6" name="Rectangle 2"/>
          <p:cNvSpPr/>
          <p:nvPr/>
        </p:nvSpPr>
        <p:spPr>
          <a:xfrm>
            <a:off x="2928960" y="5786280"/>
            <a:ext cx="4286160" cy="50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计算结果能约分要约分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047" name="Object 26"/>
          <p:cNvGraphicFramePr/>
          <p:nvPr/>
        </p:nvGraphicFramePr>
        <p:xfrm>
          <a:off x="5416560" y="4429080"/>
          <a:ext cx="598320" cy="80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48" name="Object 2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16560" y="4429080"/>
                    <a:ext cx="59832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组合 30"/>
          <p:cNvGrpSpPr/>
          <p:nvPr/>
        </p:nvGrpSpPr>
        <p:grpSpPr>
          <a:xfrm>
            <a:off x="1606680" y="1714680"/>
            <a:ext cx="5930640" cy="2590560"/>
            <a:chOff x="1606680" y="1714680"/>
            <a:chExt cx="5930640" cy="2590560"/>
          </a:xfrm>
        </p:grpSpPr>
        <p:pic>
          <p:nvPicPr>
            <p:cNvPr id="1050" name="Picture 9" descr=""/>
            <p:cNvPicPr/>
            <p:nvPr/>
          </p:nvPicPr>
          <p:blipFill>
            <a:blip r:embed="rId1"/>
            <a:stretch/>
          </p:blipFill>
          <p:spPr>
            <a:xfrm>
              <a:off x="2392560" y="1714680"/>
              <a:ext cx="51447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1" name="组合 52"/>
            <p:cNvGrpSpPr/>
            <p:nvPr/>
          </p:nvGrpSpPr>
          <p:grpSpPr>
            <a:xfrm>
              <a:off x="1606680" y="2928960"/>
              <a:ext cx="1500480" cy="805320"/>
              <a:chOff x="1606680" y="2928960"/>
              <a:chExt cx="1500480" cy="805320"/>
            </a:xfrm>
          </p:grpSpPr>
          <p:sp>
            <p:nvSpPr>
              <p:cNvPr id="1052" name="直接连接符 47"/>
              <p:cNvSpPr/>
              <p:nvPr/>
            </p:nvSpPr>
            <p:spPr>
              <a:xfrm>
                <a:off x="1892520" y="335772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53" name="Object 44"/>
              <p:cNvGraphicFramePr/>
              <p:nvPr/>
            </p:nvGraphicFramePr>
            <p:xfrm>
              <a:off x="1606680" y="2928960"/>
              <a:ext cx="285840" cy="8053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54" name="Object 4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06680" y="2928960"/>
                        <a:ext cx="285840" cy="80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55" name="组合 56"/>
            <p:cNvGrpSpPr/>
            <p:nvPr/>
          </p:nvGrpSpPr>
          <p:grpSpPr>
            <a:xfrm>
              <a:off x="3321360" y="2286000"/>
              <a:ext cx="1025640" cy="804600"/>
              <a:chOff x="3321360" y="2286000"/>
              <a:chExt cx="1025640" cy="804600"/>
            </a:xfrm>
          </p:grpSpPr>
          <p:sp>
            <p:nvSpPr>
              <p:cNvPr id="1056" name="直接连接符 59"/>
              <p:cNvSpPr/>
              <p:nvPr/>
            </p:nvSpPr>
            <p:spPr>
              <a:xfrm flipV="1">
                <a:off x="3321360" y="2785680"/>
                <a:ext cx="642600" cy="28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57" name="Object 45"/>
              <p:cNvGraphicFramePr/>
              <p:nvPr/>
            </p:nvGraphicFramePr>
            <p:xfrm>
              <a:off x="4035960" y="2286000"/>
              <a:ext cx="311040" cy="8046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058" name="Object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035960" y="2286000"/>
                        <a:ext cx="31104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59" name="组合 63"/>
            <p:cNvGrpSpPr/>
            <p:nvPr/>
          </p:nvGrpSpPr>
          <p:grpSpPr>
            <a:xfrm>
              <a:off x="3594600" y="3052800"/>
              <a:ext cx="798480" cy="804600"/>
              <a:chOff x="3594600" y="3052800"/>
              <a:chExt cx="798480" cy="804600"/>
            </a:xfrm>
          </p:grpSpPr>
          <p:sp>
            <p:nvSpPr>
              <p:cNvPr id="1060" name="直接连接符 64"/>
              <p:cNvSpPr/>
              <p:nvPr/>
            </p:nvSpPr>
            <p:spPr>
              <a:xfrm flipV="1">
                <a:off x="3594600" y="3357360"/>
                <a:ext cx="583560" cy="7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61" name="Object 46"/>
              <p:cNvGraphicFramePr/>
              <p:nvPr/>
            </p:nvGraphicFramePr>
            <p:xfrm>
              <a:off x="4107600" y="3052800"/>
              <a:ext cx="285480" cy="8046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62" name="Object 46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107600" y="3052800"/>
                        <a:ext cx="28548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63" name="组合 66"/>
            <p:cNvGrpSpPr/>
            <p:nvPr/>
          </p:nvGrpSpPr>
          <p:grpSpPr>
            <a:xfrm>
              <a:off x="3250080" y="3500640"/>
              <a:ext cx="857160" cy="804600"/>
              <a:chOff x="3250080" y="3500640"/>
              <a:chExt cx="857160" cy="804600"/>
            </a:xfrm>
          </p:grpSpPr>
          <p:sp>
            <p:nvSpPr>
              <p:cNvPr id="1064" name="直接连接符 67"/>
              <p:cNvSpPr/>
              <p:nvPr/>
            </p:nvSpPr>
            <p:spPr>
              <a:xfrm>
                <a:off x="3250080" y="3733920"/>
                <a:ext cx="57096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65" name="Object 47"/>
              <p:cNvGraphicFramePr/>
              <p:nvPr/>
            </p:nvGraphicFramePr>
            <p:xfrm>
              <a:off x="3821760" y="3500640"/>
              <a:ext cx="285480" cy="8046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66" name="Object 47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821760" y="3500640"/>
                        <a:ext cx="28548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067" name="Rectangle 2"/>
          <p:cNvSpPr/>
          <p:nvPr/>
        </p:nvSpPr>
        <p:spPr>
          <a:xfrm>
            <a:off x="642960" y="1077840"/>
            <a:ext cx="7929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中喜欢跳水和体操的人数相差几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8" name="Rectangle 2"/>
          <p:cNvSpPr/>
          <p:nvPr/>
        </p:nvSpPr>
        <p:spPr>
          <a:xfrm>
            <a:off x="3143160" y="5000760"/>
            <a:ext cx="3857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分数分数单位相同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069" name="Object 10"/>
          <p:cNvGraphicFramePr/>
          <p:nvPr/>
        </p:nvGraphicFramePr>
        <p:xfrm>
          <a:off x="3670200" y="4357800"/>
          <a:ext cx="830520" cy="80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70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70200" y="4357800"/>
                    <a:ext cx="8305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Object 11"/>
          <p:cNvGraphicFramePr/>
          <p:nvPr/>
        </p:nvGraphicFramePr>
        <p:xfrm>
          <a:off x="4570560" y="4357800"/>
          <a:ext cx="858600" cy="806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72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0560" y="4357800"/>
                    <a:ext cx="8586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Rectangle 2"/>
          <p:cNvSpPr/>
          <p:nvPr/>
        </p:nvSpPr>
        <p:spPr>
          <a:xfrm>
            <a:off x="2286000" y="5506920"/>
            <a:ext cx="50720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解决类似的问题吗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074" name="Object 9"/>
          <p:cNvGraphicFramePr/>
          <p:nvPr/>
        </p:nvGraphicFramePr>
        <p:xfrm>
          <a:off x="5433840" y="4572000"/>
          <a:ext cx="495360" cy="338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75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33840" y="4572000"/>
                    <a:ext cx="4953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6" name="组合 45"/>
          <p:cNvGrpSpPr/>
          <p:nvPr/>
        </p:nvGrpSpPr>
        <p:grpSpPr>
          <a:xfrm>
            <a:off x="1671480" y="2538360"/>
            <a:ext cx="6258240" cy="2390760"/>
            <a:chOff x="1671480" y="2538360"/>
            <a:chExt cx="6258240" cy="2390760"/>
          </a:xfrm>
        </p:grpSpPr>
        <p:pic>
          <p:nvPicPr>
            <p:cNvPr id="1077" name="Picture 14" descr=""/>
            <p:cNvPicPr/>
            <p:nvPr/>
          </p:nvPicPr>
          <p:blipFill>
            <a:blip r:embed="rId1"/>
            <a:stretch/>
          </p:blipFill>
          <p:spPr>
            <a:xfrm>
              <a:off x="1956960" y="2538360"/>
              <a:ext cx="59727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8" name="组合 44"/>
            <p:cNvGrpSpPr/>
            <p:nvPr/>
          </p:nvGrpSpPr>
          <p:grpSpPr>
            <a:xfrm>
              <a:off x="1671480" y="3429000"/>
              <a:ext cx="2857680" cy="1305000"/>
              <a:chOff x="1671480" y="3429000"/>
              <a:chExt cx="2857680" cy="1305000"/>
            </a:xfrm>
          </p:grpSpPr>
          <p:grpSp>
            <p:nvGrpSpPr>
              <p:cNvPr id="1079" name="组合 72"/>
              <p:cNvGrpSpPr/>
              <p:nvPr/>
            </p:nvGrpSpPr>
            <p:grpSpPr>
              <a:xfrm>
                <a:off x="1671480" y="3714840"/>
                <a:ext cx="681840" cy="804960"/>
                <a:chOff x="1671480" y="3714840"/>
                <a:chExt cx="681840" cy="804960"/>
              </a:xfrm>
            </p:grpSpPr>
            <p:sp>
              <p:nvSpPr>
                <p:cNvPr id="1080" name="直接连接符 30"/>
                <p:cNvSpPr/>
                <p:nvPr/>
              </p:nvSpPr>
              <p:spPr>
                <a:xfrm>
                  <a:off x="1957680" y="4143600"/>
                  <a:ext cx="395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graphicFrame>
              <p:nvGraphicFramePr>
                <p:cNvPr id="1081" name="Object 48"/>
                <p:cNvGraphicFramePr/>
                <p:nvPr/>
              </p:nvGraphicFramePr>
              <p:xfrm>
                <a:off x="1671480" y="3714840"/>
                <a:ext cx="286200" cy="8049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082" name="Object 48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671480" y="3714840"/>
                          <a:ext cx="286200" cy="80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83" name="组合 75"/>
              <p:cNvGrpSpPr/>
              <p:nvPr/>
            </p:nvGrpSpPr>
            <p:grpSpPr>
              <a:xfrm>
                <a:off x="3016080" y="3929040"/>
                <a:ext cx="1513080" cy="804960"/>
                <a:chOff x="3016080" y="3929040"/>
                <a:chExt cx="1513080" cy="804960"/>
              </a:xfrm>
            </p:grpSpPr>
            <p:sp>
              <p:nvSpPr>
                <p:cNvPr id="1084" name="直接连接符 33"/>
                <p:cNvSpPr/>
                <p:nvPr/>
              </p:nvSpPr>
              <p:spPr>
                <a:xfrm>
                  <a:off x="3016080" y="4357800"/>
                  <a:ext cx="1214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graphicFrame>
              <p:nvGraphicFramePr>
                <p:cNvPr id="1085" name="Object 49"/>
                <p:cNvGraphicFramePr/>
                <p:nvPr/>
              </p:nvGraphicFramePr>
              <p:xfrm>
                <a:off x="4218120" y="3929040"/>
                <a:ext cx="311040" cy="80496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1086" name="Object 49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4218120" y="3929040"/>
                          <a:ext cx="311040" cy="80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87" name="组合 94"/>
              <p:cNvGrpSpPr/>
              <p:nvPr/>
            </p:nvGrpSpPr>
            <p:grpSpPr>
              <a:xfrm>
                <a:off x="2743200" y="3429000"/>
                <a:ext cx="1357560" cy="804960"/>
                <a:chOff x="2743200" y="3429000"/>
                <a:chExt cx="1357560" cy="804960"/>
              </a:xfrm>
            </p:grpSpPr>
            <p:grpSp>
              <p:nvGrpSpPr>
                <p:cNvPr id="1088" name="组合 80"/>
                <p:cNvGrpSpPr/>
                <p:nvPr/>
              </p:nvGrpSpPr>
              <p:grpSpPr>
                <a:xfrm>
                  <a:off x="2743200" y="3429000"/>
                  <a:ext cx="1357560" cy="804960"/>
                  <a:chOff x="2743200" y="3429000"/>
                  <a:chExt cx="1357560" cy="804960"/>
                </a:xfrm>
              </p:grpSpPr>
              <p:sp>
                <p:nvSpPr>
                  <p:cNvPr id="1089" name="直接连接符 38"/>
                  <p:cNvSpPr/>
                  <p:nvPr/>
                </p:nvSpPr>
                <p:spPr>
                  <a:xfrm>
                    <a:off x="2743200" y="3857760"/>
                    <a:ext cx="1071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ff0000"/>
                      </a:solidFill>
                      <a:latin typeface="楷体_GB2312"/>
                    </a:endParaRPr>
                  </a:p>
                </p:txBody>
              </p:sp>
              <p:graphicFrame>
                <p:nvGraphicFramePr>
                  <p:cNvPr id="1090" name="Object 50"/>
                  <p:cNvGraphicFramePr/>
                  <p:nvPr/>
                </p:nvGraphicFramePr>
                <p:xfrm>
                  <a:off x="3814920" y="3429000"/>
                  <a:ext cx="285840" cy="804960"/>
                </p:xfrm>
                <a:graphic>
                  <a:graphicData uri="http://schemas.openxmlformats.org/presentationml/2006/ole">
                    <p:oleObj r:id="rId6" spid="">
                      <p:embed/>
                      <p:pic>
                        <p:nvPicPr>
                          <p:cNvPr id="1091" name="Object 50" descr=""/>
                          <p:cNvPicPr/>
                          <p:nvPr/>
                        </p:nvPicPr>
                        <p:blipFill>
                          <a:blip r:embed="rId7"/>
                          <a:stretch/>
                        </p:blipFill>
                        <p:spPr>
                          <a:xfrm>
                            <a:off x="3814920" y="3429000"/>
                            <a:ext cx="285840" cy="804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092" name="直接连接符 37"/>
                <p:cNvSpPr/>
                <p:nvPr/>
              </p:nvSpPr>
              <p:spPr>
                <a:xfrm>
                  <a:off x="3100320" y="3714840"/>
                  <a:ext cx="684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1093" name="Rectangle 2"/>
          <p:cNvSpPr/>
          <p:nvPr/>
        </p:nvSpPr>
        <p:spPr>
          <a:xfrm>
            <a:off x="642960" y="934920"/>
            <a:ext cx="792972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：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中喜欢跳水和乒乓球的人数共占总人数的几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094" name="Object 45"/>
          <p:cNvGraphicFramePr/>
          <p:nvPr/>
        </p:nvGraphicFramePr>
        <p:xfrm>
          <a:off x="3062160" y="5143680"/>
          <a:ext cx="1051200" cy="80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5" name="Object 4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62160" y="5143680"/>
                    <a:ext cx="10512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6" name="Object 16"/>
          <p:cNvGraphicFramePr/>
          <p:nvPr/>
        </p:nvGraphicFramePr>
        <p:xfrm>
          <a:off x="4062240" y="5143680"/>
          <a:ext cx="1182960" cy="80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97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2240" y="5143680"/>
                    <a:ext cx="11829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8" name="Object 17"/>
          <p:cNvGraphicFramePr/>
          <p:nvPr/>
        </p:nvGraphicFramePr>
        <p:xfrm>
          <a:off x="5205240" y="5143680"/>
          <a:ext cx="723960" cy="804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9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05240" y="5143680"/>
                    <a:ext cx="7239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2"/>
          <p:cNvSpPr/>
          <p:nvPr/>
        </p:nvSpPr>
        <p:spPr>
          <a:xfrm>
            <a:off x="785880" y="1077840"/>
            <a:ext cx="7929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：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中喜欢跳水和乒乓球的人数相差几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1101" name="组合 14"/>
          <p:cNvGrpSpPr/>
          <p:nvPr/>
        </p:nvGrpSpPr>
        <p:grpSpPr>
          <a:xfrm>
            <a:off x="1671480" y="2181240"/>
            <a:ext cx="6258240" cy="2390760"/>
            <a:chOff x="1671480" y="2181240"/>
            <a:chExt cx="6258240" cy="2390760"/>
          </a:xfrm>
        </p:grpSpPr>
        <p:pic>
          <p:nvPicPr>
            <p:cNvPr id="1102" name="Picture 14" descr=""/>
            <p:cNvPicPr/>
            <p:nvPr/>
          </p:nvPicPr>
          <p:blipFill>
            <a:blip r:embed="rId1"/>
            <a:stretch/>
          </p:blipFill>
          <p:spPr>
            <a:xfrm>
              <a:off x="1956960" y="2181240"/>
              <a:ext cx="59727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3" name="组合 72"/>
            <p:cNvGrpSpPr/>
            <p:nvPr/>
          </p:nvGrpSpPr>
          <p:grpSpPr>
            <a:xfrm>
              <a:off x="1671480" y="3357720"/>
              <a:ext cx="681480" cy="804960"/>
              <a:chOff x="1671480" y="3357720"/>
              <a:chExt cx="681480" cy="804960"/>
            </a:xfrm>
          </p:grpSpPr>
          <p:sp>
            <p:nvSpPr>
              <p:cNvPr id="1104" name="直接连接符 30"/>
              <p:cNvSpPr/>
              <p:nvPr/>
            </p:nvSpPr>
            <p:spPr>
              <a:xfrm>
                <a:off x="1957320" y="3786480"/>
                <a:ext cx="39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05" name="Object 48"/>
              <p:cNvGraphicFramePr/>
              <p:nvPr/>
            </p:nvGraphicFramePr>
            <p:xfrm>
              <a:off x="1671480" y="3357720"/>
              <a:ext cx="285840" cy="804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106" name="Object 48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71480" y="3357720"/>
                        <a:ext cx="285840" cy="80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07" name="组合 75"/>
            <p:cNvGrpSpPr/>
            <p:nvPr/>
          </p:nvGrpSpPr>
          <p:grpSpPr>
            <a:xfrm>
              <a:off x="3016080" y="3571920"/>
              <a:ext cx="1512720" cy="804960"/>
              <a:chOff x="3016080" y="3571920"/>
              <a:chExt cx="1512720" cy="804960"/>
            </a:xfrm>
          </p:grpSpPr>
          <p:sp>
            <p:nvSpPr>
              <p:cNvPr id="1108" name="直接连接符 33"/>
              <p:cNvSpPr/>
              <p:nvPr/>
            </p:nvSpPr>
            <p:spPr>
              <a:xfrm>
                <a:off x="3016080" y="4000680"/>
                <a:ext cx="121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09" name="Object 49"/>
              <p:cNvGraphicFramePr/>
              <p:nvPr/>
            </p:nvGraphicFramePr>
            <p:xfrm>
              <a:off x="4217760" y="3571920"/>
              <a:ext cx="311040" cy="804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110" name="Object 49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217760" y="3571920"/>
                        <a:ext cx="311040" cy="80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11" name="组合 94"/>
            <p:cNvGrpSpPr/>
            <p:nvPr/>
          </p:nvGrpSpPr>
          <p:grpSpPr>
            <a:xfrm>
              <a:off x="2742840" y="3071880"/>
              <a:ext cx="1357200" cy="804960"/>
              <a:chOff x="2742840" y="3071880"/>
              <a:chExt cx="1357200" cy="804960"/>
            </a:xfrm>
          </p:grpSpPr>
          <p:grpSp>
            <p:nvGrpSpPr>
              <p:cNvPr id="1112" name="组合 80"/>
              <p:cNvGrpSpPr/>
              <p:nvPr/>
            </p:nvGrpSpPr>
            <p:grpSpPr>
              <a:xfrm>
                <a:off x="2742840" y="3071880"/>
                <a:ext cx="1357200" cy="804960"/>
                <a:chOff x="2742840" y="3071880"/>
                <a:chExt cx="1357200" cy="804960"/>
              </a:xfrm>
            </p:grpSpPr>
            <p:sp>
              <p:nvSpPr>
                <p:cNvPr id="1113" name="直接连接符 38"/>
                <p:cNvSpPr/>
                <p:nvPr/>
              </p:nvSpPr>
              <p:spPr>
                <a:xfrm>
                  <a:off x="2742840" y="3500640"/>
                  <a:ext cx="1071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graphicFrame>
              <p:nvGraphicFramePr>
                <p:cNvPr id="1114" name="Object 50"/>
                <p:cNvGraphicFramePr/>
                <p:nvPr/>
              </p:nvGraphicFramePr>
              <p:xfrm>
                <a:off x="3814560" y="3071880"/>
                <a:ext cx="285480" cy="80496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1115" name="Object 50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3814560" y="3071880"/>
                          <a:ext cx="285480" cy="80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16" name="直接连接符 37"/>
              <p:cNvSpPr/>
              <p:nvPr/>
            </p:nvSpPr>
            <p:spPr>
              <a:xfrm>
                <a:off x="3099960" y="3357720"/>
                <a:ext cx="684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</p:grpSp>
      <p:graphicFrame>
        <p:nvGraphicFramePr>
          <p:cNvPr id="1117" name="Object 46"/>
          <p:cNvGraphicFramePr/>
          <p:nvPr/>
        </p:nvGraphicFramePr>
        <p:xfrm>
          <a:off x="2928960" y="4695840"/>
          <a:ext cx="830160" cy="80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8" name="Object 4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28960" y="4695840"/>
                    <a:ext cx="8301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Object 6"/>
          <p:cNvGraphicFramePr/>
          <p:nvPr/>
        </p:nvGraphicFramePr>
        <p:xfrm>
          <a:off x="3786120" y="4695840"/>
          <a:ext cx="935280" cy="80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20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86120" y="4695840"/>
                    <a:ext cx="9352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1" name="Object 7"/>
          <p:cNvGraphicFramePr/>
          <p:nvPr/>
        </p:nvGraphicFramePr>
        <p:xfrm>
          <a:off x="4714920" y="4714920"/>
          <a:ext cx="571320" cy="80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22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14920" y="4714920"/>
                    <a:ext cx="57132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组合 56"/>
          <p:cNvGrpSpPr/>
          <p:nvPr/>
        </p:nvGrpSpPr>
        <p:grpSpPr>
          <a:xfrm>
            <a:off x="1143000" y="1714680"/>
            <a:ext cx="6786720" cy="1823760"/>
            <a:chOff x="1143000" y="1714680"/>
            <a:chExt cx="6786720" cy="1823760"/>
          </a:xfrm>
        </p:grpSpPr>
        <p:graphicFrame>
          <p:nvGraphicFramePr>
            <p:cNvPr id="1124" name="Object 43"/>
            <p:cNvGraphicFramePr/>
            <p:nvPr/>
          </p:nvGraphicFramePr>
          <p:xfrm>
            <a:off x="1143000" y="1714680"/>
            <a:ext cx="3386160" cy="80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5" name="Object 4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1714680"/>
                      <a:ext cx="3386160" cy="80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6" name="Object 10"/>
            <p:cNvGraphicFramePr/>
            <p:nvPr/>
          </p:nvGraphicFramePr>
          <p:xfrm>
            <a:off x="1143000" y="2714760"/>
            <a:ext cx="2050920" cy="80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7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2714760"/>
                      <a:ext cx="2050920" cy="80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8" name="Object 45"/>
            <p:cNvGraphicFramePr/>
            <p:nvPr/>
          </p:nvGraphicFramePr>
          <p:xfrm>
            <a:off x="5102280" y="1714680"/>
            <a:ext cx="2827440" cy="80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9" name="Object 4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02280" y="1714680"/>
                      <a:ext cx="2827440" cy="80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0" name="Object 46"/>
            <p:cNvGraphicFramePr/>
            <p:nvPr/>
          </p:nvGraphicFramePr>
          <p:xfrm>
            <a:off x="5143680" y="2733840"/>
            <a:ext cx="2751120" cy="804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1" name="Object 4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43680" y="2733840"/>
                      <a:ext cx="2751120" cy="80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2" name="Rectangle 2"/>
          <p:cNvSpPr/>
          <p:nvPr/>
        </p:nvSpPr>
        <p:spPr>
          <a:xfrm>
            <a:off x="1000080" y="85716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计算同分母分数的加减法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33" name="Rectangle 2"/>
          <p:cNvSpPr/>
          <p:nvPr/>
        </p:nvSpPr>
        <p:spPr>
          <a:xfrm>
            <a:off x="1071720" y="3714840"/>
            <a:ext cx="7215120" cy="71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分母分数相加减，分母不变，分子相加减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34" name="Rectangle 2"/>
          <p:cNvSpPr/>
          <p:nvPr/>
        </p:nvSpPr>
        <p:spPr>
          <a:xfrm>
            <a:off x="2214720" y="4500720"/>
            <a:ext cx="5214960" cy="71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计算的结果，能约分的要约分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35" name="Rectangle 2"/>
          <p:cNvSpPr/>
          <p:nvPr/>
        </p:nvSpPr>
        <p:spPr>
          <a:xfrm>
            <a:off x="1071720" y="5429160"/>
            <a:ext cx="7286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异分母分数的加减法如何计算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6"/>
          <p:cNvGrpSpPr/>
          <p:nvPr/>
        </p:nvGrpSpPr>
        <p:grpSpPr>
          <a:xfrm>
            <a:off x="1857240" y="1695600"/>
            <a:ext cx="5929560" cy="2590560"/>
            <a:chOff x="1857240" y="1695600"/>
            <a:chExt cx="5929560" cy="2590560"/>
          </a:xfrm>
        </p:grpSpPr>
        <p:pic>
          <p:nvPicPr>
            <p:cNvPr id="1137" name="Picture 9" descr=""/>
            <p:cNvPicPr/>
            <p:nvPr/>
          </p:nvPicPr>
          <p:blipFill>
            <a:blip r:embed="rId1"/>
            <a:stretch/>
          </p:blipFill>
          <p:spPr>
            <a:xfrm>
              <a:off x="2643120" y="1695600"/>
              <a:ext cx="514368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8" name="组合 52"/>
            <p:cNvGrpSpPr/>
            <p:nvPr/>
          </p:nvGrpSpPr>
          <p:grpSpPr>
            <a:xfrm>
              <a:off x="1857240" y="2909880"/>
              <a:ext cx="1500120" cy="805320"/>
              <a:chOff x="1857240" y="2909880"/>
              <a:chExt cx="1500120" cy="805320"/>
            </a:xfrm>
          </p:grpSpPr>
          <p:sp>
            <p:nvSpPr>
              <p:cNvPr id="1139" name="直接连接符 18"/>
              <p:cNvSpPr/>
              <p:nvPr/>
            </p:nvSpPr>
            <p:spPr>
              <a:xfrm>
                <a:off x="2142720" y="333864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40" name="Object 44"/>
              <p:cNvGraphicFramePr/>
              <p:nvPr/>
            </p:nvGraphicFramePr>
            <p:xfrm>
              <a:off x="1857240" y="2909880"/>
              <a:ext cx="285480" cy="8053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141" name="Object 4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57240" y="2909880"/>
                        <a:ext cx="285480" cy="80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42" name="组合 56"/>
            <p:cNvGrpSpPr/>
            <p:nvPr/>
          </p:nvGrpSpPr>
          <p:grpSpPr>
            <a:xfrm>
              <a:off x="3571920" y="2266920"/>
              <a:ext cx="1025280" cy="804600"/>
              <a:chOff x="3571920" y="2266920"/>
              <a:chExt cx="1025280" cy="804600"/>
            </a:xfrm>
          </p:grpSpPr>
          <p:sp>
            <p:nvSpPr>
              <p:cNvPr id="1143" name="直接连接符 16"/>
              <p:cNvSpPr/>
              <p:nvPr/>
            </p:nvSpPr>
            <p:spPr>
              <a:xfrm flipV="1">
                <a:off x="3571920" y="2766600"/>
                <a:ext cx="642960" cy="28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44" name="Object 45"/>
              <p:cNvGraphicFramePr/>
              <p:nvPr/>
            </p:nvGraphicFramePr>
            <p:xfrm>
              <a:off x="4286160" y="2266920"/>
              <a:ext cx="311040" cy="8046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145" name="Object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286160" y="2266920"/>
                        <a:ext cx="31104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46" name="组合 63"/>
            <p:cNvGrpSpPr/>
            <p:nvPr/>
          </p:nvGrpSpPr>
          <p:grpSpPr>
            <a:xfrm>
              <a:off x="3844800" y="3033720"/>
              <a:ext cx="798480" cy="804600"/>
              <a:chOff x="3844800" y="3033720"/>
              <a:chExt cx="798480" cy="804600"/>
            </a:xfrm>
          </p:grpSpPr>
          <p:sp>
            <p:nvSpPr>
              <p:cNvPr id="1147" name="直接连接符 14"/>
              <p:cNvSpPr/>
              <p:nvPr/>
            </p:nvSpPr>
            <p:spPr>
              <a:xfrm flipV="1">
                <a:off x="3844800" y="3338280"/>
                <a:ext cx="584280" cy="7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48" name="Object 46"/>
              <p:cNvGraphicFramePr/>
              <p:nvPr/>
            </p:nvGraphicFramePr>
            <p:xfrm>
              <a:off x="4357440" y="3033720"/>
              <a:ext cx="285840" cy="8046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149" name="Object 46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357440" y="3033720"/>
                        <a:ext cx="28584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50" name="组合 66"/>
            <p:cNvGrpSpPr/>
            <p:nvPr/>
          </p:nvGrpSpPr>
          <p:grpSpPr>
            <a:xfrm>
              <a:off x="3500280" y="3481560"/>
              <a:ext cx="857160" cy="804600"/>
              <a:chOff x="3500280" y="3481560"/>
              <a:chExt cx="857160" cy="804600"/>
            </a:xfrm>
          </p:grpSpPr>
          <p:sp>
            <p:nvSpPr>
              <p:cNvPr id="1151" name="直接连接符 12"/>
              <p:cNvSpPr/>
              <p:nvPr/>
            </p:nvSpPr>
            <p:spPr>
              <a:xfrm>
                <a:off x="3500280" y="3714840"/>
                <a:ext cx="57132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52" name="Object 47"/>
              <p:cNvGraphicFramePr/>
              <p:nvPr/>
            </p:nvGraphicFramePr>
            <p:xfrm>
              <a:off x="4071960" y="3481560"/>
              <a:ext cx="285480" cy="8046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153" name="Object 47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071960" y="3481560"/>
                        <a:ext cx="28548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54" name="Rectangle 2"/>
          <p:cNvSpPr/>
          <p:nvPr/>
        </p:nvSpPr>
        <p:spPr>
          <a:xfrm>
            <a:off x="500040" y="1000080"/>
            <a:ext cx="82152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中喜欢乒乓球和举重的人数占全班人数的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155" name="Object 11"/>
          <p:cNvGraphicFramePr/>
          <p:nvPr/>
        </p:nvGraphicFramePr>
        <p:xfrm>
          <a:off x="2928960" y="4365720"/>
          <a:ext cx="830160" cy="80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56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28960" y="4365720"/>
                    <a:ext cx="8301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7" name="Object 12"/>
          <p:cNvGraphicFramePr/>
          <p:nvPr/>
        </p:nvGraphicFramePr>
        <p:xfrm>
          <a:off x="6599160" y="5124600"/>
          <a:ext cx="830520" cy="804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58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99160" y="5124600"/>
                    <a:ext cx="8305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9" name="Rectangle 2"/>
          <p:cNvSpPr/>
          <p:nvPr/>
        </p:nvSpPr>
        <p:spPr>
          <a:xfrm>
            <a:off x="1500120" y="5286240"/>
            <a:ext cx="4776840" cy="57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化为分数单位相同的分数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160" name="Object 13"/>
          <p:cNvGraphicFramePr/>
          <p:nvPr/>
        </p:nvGraphicFramePr>
        <p:xfrm>
          <a:off x="3714840" y="4410000"/>
          <a:ext cx="1141200" cy="80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61" name="Object 1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14840" y="4410000"/>
                    <a:ext cx="11412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2" name="Object 14"/>
          <p:cNvGraphicFramePr/>
          <p:nvPr/>
        </p:nvGraphicFramePr>
        <p:xfrm>
          <a:off x="4786200" y="4410000"/>
          <a:ext cx="908280" cy="80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63" name="Object 1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86200" y="4410000"/>
                    <a:ext cx="9082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4" name="Object 15"/>
          <p:cNvGraphicFramePr/>
          <p:nvPr/>
        </p:nvGraphicFramePr>
        <p:xfrm>
          <a:off x="5715000" y="4410000"/>
          <a:ext cx="596880" cy="80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65" name="Object 1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715000" y="4410000"/>
                    <a:ext cx="5968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29:01Z</dcterms:created>
  <dc:creator/>
  <dc:description/>
  <cp:keywords/>
  <dc:language>en-US</dc:language>
  <cp:lastModifiedBy/>
  <dcterms:modified xsi:type="dcterms:W3CDTF">2017-12-20T14:36:52Z</dcterms:modified>
  <cp:revision>1</cp:revision>
  <dc:subject/>
  <dc:title/>
</cp:coreProperties>
</file>