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0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A201-48AF-48EB-A42A-E2292337CB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D38C-19A0-460B-8106-2CFDDBC2FF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D49D-55B1-4DB4-971D-C5D0308063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9EB6-632B-45CE-9FC6-EB1144610A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ED3B-F7D2-4647-8F33-F8538B5183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A190-8564-4A79-BEA9-208B47D2A9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3F67-E4CB-424D-BB36-AFCC324E4A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B2CA-198F-46E9-A4F3-2C75A50EAA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7FF-1025-4E25-9EB6-592FFE5E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B61-4904-450F-ADEA-E691614D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8A2-D5DD-43F7-84EB-853C8333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0EF-C630-4482-8232-9CD7C54C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B1D-028B-414D-B1A8-05C57F2B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F68-8B83-4E60-A196-DDEAA98B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C46-0DDF-41F4-8B56-2BEF678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480-AB6F-4FB0-BDF3-185457F5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0F7-50E5-4066-989B-12BBCA11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464-D937-4882-898E-9585657E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2F1-3BBD-406F-A050-C0F0E50B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CE0-85C5-46C8-A59A-DF290D26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8AC-3BCC-4AE4-B39C-3C45C021B78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25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slideLayout" Target="../slideLayouts/slideLayout37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7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8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9.wmf"/><Relationship Id="rId32" Type="http://schemas.openxmlformats.org/officeDocument/2006/relationships/slideLayout" Target="../slideLayouts/slideLayout25.xml"/><Relationship Id="rId3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slideLayout" Target="../slideLayouts/slideLayout49.xml"/><Relationship Id="rId2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3"/>
          <p:cNvSpPr/>
          <p:nvPr/>
        </p:nvSpPr>
        <p:spPr>
          <a:xfrm>
            <a:off x="1547640" y="1773360"/>
            <a:ext cx="643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乘法（二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577800" y="60336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857160" y="1219320"/>
            <a:ext cx="7572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几个分数中，哪两个分数的乘积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8"/>
          <p:cNvGraphicFramePr/>
          <p:nvPr/>
        </p:nvGraphicFramePr>
        <p:xfrm>
          <a:off x="1201680" y="2697120"/>
          <a:ext cx="33516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22"/>
          <p:cNvGraphicFramePr/>
          <p:nvPr/>
        </p:nvGraphicFramePr>
        <p:xfrm>
          <a:off x="2108160" y="2697120"/>
          <a:ext cx="33516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816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23"/>
          <p:cNvGraphicFramePr/>
          <p:nvPr/>
        </p:nvGraphicFramePr>
        <p:xfrm>
          <a:off x="2987640" y="2697120"/>
          <a:ext cx="3351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24"/>
          <p:cNvGraphicFramePr/>
          <p:nvPr/>
        </p:nvGraphicFramePr>
        <p:xfrm>
          <a:off x="3824280" y="2697120"/>
          <a:ext cx="47484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5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24280" y="2697120"/>
                    <a:ext cx="4748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25"/>
          <p:cNvGraphicFramePr/>
          <p:nvPr/>
        </p:nvGraphicFramePr>
        <p:xfrm>
          <a:off x="4773600" y="2697120"/>
          <a:ext cx="336600" cy="87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7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73600" y="2697120"/>
                    <a:ext cx="336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26"/>
          <p:cNvGraphicFramePr/>
          <p:nvPr/>
        </p:nvGraphicFramePr>
        <p:xfrm>
          <a:off x="5695920" y="2697120"/>
          <a:ext cx="30636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9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95920" y="2697120"/>
                    <a:ext cx="3063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27"/>
          <p:cNvGraphicFramePr/>
          <p:nvPr/>
        </p:nvGraphicFramePr>
        <p:xfrm>
          <a:off x="6489720" y="2697120"/>
          <a:ext cx="476280" cy="87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1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89720" y="2697120"/>
                    <a:ext cx="4762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28"/>
          <p:cNvGraphicFramePr/>
          <p:nvPr/>
        </p:nvGraphicFramePr>
        <p:xfrm>
          <a:off x="7467480" y="2697120"/>
          <a:ext cx="335160" cy="874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3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4" name="组合 39"/>
          <p:cNvGrpSpPr/>
          <p:nvPr/>
        </p:nvGrpSpPr>
        <p:grpSpPr>
          <a:xfrm>
            <a:off x="1357200" y="3643200"/>
            <a:ext cx="6286680" cy="573120"/>
            <a:chOff x="1357200" y="3643200"/>
            <a:chExt cx="6286680" cy="573120"/>
          </a:xfrm>
        </p:grpSpPr>
        <p:sp>
          <p:nvSpPr>
            <p:cNvPr id="395" name="直接连接符 32"/>
            <p:cNvSpPr/>
            <p:nvPr/>
          </p:nvSpPr>
          <p:spPr>
            <a:xfrm flipH="1">
              <a:off x="1357200" y="3643200"/>
              <a:ext cx="1440" cy="57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34"/>
            <p:cNvSpPr/>
            <p:nvPr/>
          </p:nvSpPr>
          <p:spPr>
            <a:xfrm flipH="1">
              <a:off x="7642440" y="3643200"/>
              <a:ext cx="1440" cy="57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35"/>
            <p:cNvSpPr/>
            <p:nvPr/>
          </p:nvSpPr>
          <p:spPr>
            <a:xfrm>
              <a:off x="1357200" y="4214880"/>
              <a:ext cx="6286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8" name="Object 5"/>
          <p:cNvGraphicFramePr/>
          <p:nvPr/>
        </p:nvGraphicFramePr>
        <p:xfrm>
          <a:off x="3376440" y="4714920"/>
          <a:ext cx="1816200" cy="99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76440" y="4714920"/>
                    <a:ext cx="1816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928800" y="1076400"/>
            <a:ext cx="7572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几个分数中，哪两个分数的乘积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39"/>
          <p:cNvGrpSpPr/>
          <p:nvPr/>
        </p:nvGrpSpPr>
        <p:grpSpPr>
          <a:xfrm>
            <a:off x="2286000" y="3643200"/>
            <a:ext cx="2643120" cy="573120"/>
            <a:chOff x="2286000" y="3643200"/>
            <a:chExt cx="2643120" cy="573120"/>
          </a:xfrm>
        </p:grpSpPr>
        <p:sp>
          <p:nvSpPr>
            <p:cNvPr id="402" name="直接连接符 32"/>
            <p:cNvSpPr/>
            <p:nvPr/>
          </p:nvSpPr>
          <p:spPr>
            <a:xfrm>
              <a:off x="2286000" y="3643200"/>
              <a:ext cx="0" cy="57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34"/>
            <p:cNvSpPr/>
            <p:nvPr/>
          </p:nvSpPr>
          <p:spPr>
            <a:xfrm>
              <a:off x="4929120" y="3643200"/>
              <a:ext cx="0" cy="57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35"/>
            <p:cNvSpPr/>
            <p:nvPr/>
          </p:nvSpPr>
          <p:spPr>
            <a:xfrm>
              <a:off x="2286000" y="4214880"/>
              <a:ext cx="2643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5" name="Object 5"/>
          <p:cNvGraphicFramePr/>
          <p:nvPr/>
        </p:nvGraphicFramePr>
        <p:xfrm>
          <a:off x="2428920" y="4286160"/>
          <a:ext cx="18604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4286160"/>
                    <a:ext cx="1860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7" name="组合 39"/>
          <p:cNvGrpSpPr/>
          <p:nvPr/>
        </p:nvGrpSpPr>
        <p:grpSpPr>
          <a:xfrm>
            <a:off x="4071600" y="2143080"/>
            <a:ext cx="2714760" cy="573120"/>
            <a:chOff x="4071600" y="2143080"/>
            <a:chExt cx="2714760" cy="573120"/>
          </a:xfrm>
        </p:grpSpPr>
        <p:sp>
          <p:nvSpPr>
            <p:cNvPr id="408" name="直接连接符 20"/>
            <p:cNvSpPr/>
            <p:nvPr/>
          </p:nvSpPr>
          <p:spPr>
            <a:xfrm flipV="1">
              <a:off x="6786360" y="2144520"/>
              <a:ext cx="0" cy="55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21"/>
            <p:cNvSpPr/>
            <p:nvPr/>
          </p:nvSpPr>
          <p:spPr>
            <a:xfrm flipV="1">
              <a:off x="4071600" y="2156760"/>
              <a:ext cx="0" cy="55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22"/>
            <p:cNvSpPr/>
            <p:nvPr/>
          </p:nvSpPr>
          <p:spPr>
            <a:xfrm flipH="1" flipV="1">
              <a:off x="4071600" y="2143080"/>
              <a:ext cx="2714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1" name="Object 11"/>
          <p:cNvGraphicFramePr/>
          <p:nvPr/>
        </p:nvGraphicFramePr>
        <p:xfrm>
          <a:off x="5286240" y="4286160"/>
          <a:ext cx="16495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6240" y="4286160"/>
                    <a:ext cx="1649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8"/>
          <p:cNvGraphicFramePr/>
          <p:nvPr/>
        </p:nvGraphicFramePr>
        <p:xfrm>
          <a:off x="1201680" y="2697120"/>
          <a:ext cx="3351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168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2"/>
          <p:cNvGraphicFramePr/>
          <p:nvPr/>
        </p:nvGraphicFramePr>
        <p:xfrm>
          <a:off x="2108160" y="2697120"/>
          <a:ext cx="33516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816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23"/>
          <p:cNvGraphicFramePr/>
          <p:nvPr/>
        </p:nvGraphicFramePr>
        <p:xfrm>
          <a:off x="2987640" y="2697120"/>
          <a:ext cx="335160" cy="87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24"/>
          <p:cNvGraphicFramePr/>
          <p:nvPr/>
        </p:nvGraphicFramePr>
        <p:xfrm>
          <a:off x="3824280" y="2697120"/>
          <a:ext cx="47484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24280" y="2697120"/>
                    <a:ext cx="4748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25"/>
          <p:cNvGraphicFramePr/>
          <p:nvPr/>
        </p:nvGraphicFramePr>
        <p:xfrm>
          <a:off x="4773600" y="2697120"/>
          <a:ext cx="336600" cy="87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73600" y="2697120"/>
                    <a:ext cx="336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26"/>
          <p:cNvGraphicFramePr/>
          <p:nvPr/>
        </p:nvGraphicFramePr>
        <p:xfrm>
          <a:off x="5695920" y="2697120"/>
          <a:ext cx="306360" cy="874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95920" y="2697120"/>
                    <a:ext cx="3063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27"/>
          <p:cNvGraphicFramePr/>
          <p:nvPr/>
        </p:nvGraphicFramePr>
        <p:xfrm>
          <a:off x="6489720" y="2697120"/>
          <a:ext cx="476280" cy="874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89720" y="2697120"/>
                    <a:ext cx="4762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28"/>
          <p:cNvGraphicFramePr/>
          <p:nvPr/>
        </p:nvGraphicFramePr>
        <p:xfrm>
          <a:off x="7467480" y="2697120"/>
          <a:ext cx="335160" cy="87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46748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TextBox 1"/>
          <p:cNvSpPr/>
          <p:nvPr/>
        </p:nvSpPr>
        <p:spPr>
          <a:xfrm>
            <a:off x="2286000" y="5386320"/>
            <a:ext cx="4786200" cy="733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乘积是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两个数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互为倒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1"/>
          <p:cNvSpPr/>
          <p:nvPr/>
        </p:nvSpPr>
        <p:spPr>
          <a:xfrm>
            <a:off x="1071720" y="1000080"/>
            <a:ext cx="7572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找出剩余的数的倒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组合 39"/>
          <p:cNvGrpSpPr/>
          <p:nvPr/>
        </p:nvGrpSpPr>
        <p:grpSpPr>
          <a:xfrm>
            <a:off x="2286000" y="3643200"/>
            <a:ext cx="2643120" cy="573120"/>
            <a:chOff x="2286000" y="3643200"/>
            <a:chExt cx="2643120" cy="573120"/>
          </a:xfrm>
        </p:grpSpPr>
        <p:sp>
          <p:nvSpPr>
            <p:cNvPr id="432" name="直接连接符 32"/>
            <p:cNvSpPr/>
            <p:nvPr/>
          </p:nvSpPr>
          <p:spPr>
            <a:xfrm>
              <a:off x="2286000" y="3643200"/>
              <a:ext cx="0" cy="57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直接连接符 34"/>
            <p:cNvSpPr/>
            <p:nvPr/>
          </p:nvSpPr>
          <p:spPr>
            <a:xfrm>
              <a:off x="4929120" y="3643200"/>
              <a:ext cx="0" cy="57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直接连接符 35"/>
            <p:cNvSpPr/>
            <p:nvPr/>
          </p:nvSpPr>
          <p:spPr>
            <a:xfrm>
              <a:off x="2286000" y="4214880"/>
              <a:ext cx="2643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39"/>
          <p:cNvGrpSpPr/>
          <p:nvPr/>
        </p:nvGrpSpPr>
        <p:grpSpPr>
          <a:xfrm>
            <a:off x="4071600" y="2143080"/>
            <a:ext cx="2714760" cy="573120"/>
            <a:chOff x="4071600" y="2143080"/>
            <a:chExt cx="2714760" cy="573120"/>
          </a:xfrm>
        </p:grpSpPr>
        <p:sp>
          <p:nvSpPr>
            <p:cNvPr id="436" name="直接连接符 20"/>
            <p:cNvSpPr/>
            <p:nvPr/>
          </p:nvSpPr>
          <p:spPr>
            <a:xfrm flipV="1">
              <a:off x="6786360" y="2144520"/>
              <a:ext cx="0" cy="55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21"/>
            <p:cNvSpPr/>
            <p:nvPr/>
          </p:nvSpPr>
          <p:spPr>
            <a:xfrm flipV="1">
              <a:off x="4071600" y="2156760"/>
              <a:ext cx="0" cy="55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22"/>
            <p:cNvSpPr/>
            <p:nvPr/>
          </p:nvSpPr>
          <p:spPr>
            <a:xfrm flipH="1" flipV="1">
              <a:off x="4071600" y="2143080"/>
              <a:ext cx="2714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24"/>
          <p:cNvGrpSpPr/>
          <p:nvPr/>
        </p:nvGrpSpPr>
        <p:grpSpPr>
          <a:xfrm>
            <a:off x="1357200" y="3643200"/>
            <a:ext cx="6286680" cy="357480"/>
            <a:chOff x="1357200" y="3643200"/>
            <a:chExt cx="6286680" cy="357480"/>
          </a:xfrm>
        </p:grpSpPr>
        <p:sp>
          <p:nvSpPr>
            <p:cNvPr id="440" name="直接连接符 25"/>
            <p:cNvSpPr/>
            <p:nvPr/>
          </p:nvSpPr>
          <p:spPr>
            <a:xfrm flipH="1">
              <a:off x="1357200" y="3643200"/>
              <a:ext cx="1440" cy="356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26"/>
            <p:cNvSpPr/>
            <p:nvPr/>
          </p:nvSpPr>
          <p:spPr>
            <a:xfrm flipH="1">
              <a:off x="7642440" y="3643200"/>
              <a:ext cx="1440" cy="356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直接连接符 27"/>
            <p:cNvSpPr/>
            <p:nvPr/>
          </p:nvSpPr>
          <p:spPr>
            <a:xfrm>
              <a:off x="1357200" y="3999240"/>
              <a:ext cx="628668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圆角矩形 28"/>
          <p:cNvSpPr/>
          <p:nvPr/>
        </p:nvSpPr>
        <p:spPr>
          <a:xfrm>
            <a:off x="2857680" y="2643120"/>
            <a:ext cx="571320" cy="9288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928800"/>
              <a:gd name="textAreaBottom" fmla="*/ 901080 h 928800"/>
            </a:gdLst>
            <a:ahLst/>
            <a:rect l="textAreaLeft" t="textAreaTop" r="textAreaRight" b="textAreaBottom"/>
            <a:pathLst>
              <a:path w="21600" h="35107">
                <a:moveTo>
                  <a:pt x="3600" y="0"/>
                </a:moveTo>
                <a:arcTo wR="3600" hR="3600" stAng="16200000" swAng="-5400000"/>
                <a:lnTo>
                  <a:pt x="0" y="31507"/>
                </a:lnTo>
                <a:arcTo wR="3600" hR="3600" stAng="10800000" swAng="-5400000"/>
                <a:lnTo>
                  <a:pt x="18000" y="35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5"/>
          <p:cNvGraphicFramePr/>
          <p:nvPr/>
        </p:nvGraphicFramePr>
        <p:xfrm>
          <a:off x="2693880" y="1714680"/>
          <a:ext cx="5209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1714680"/>
                    <a:ext cx="520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6" name="组合 33"/>
          <p:cNvGrpSpPr/>
          <p:nvPr/>
        </p:nvGrpSpPr>
        <p:grpSpPr>
          <a:xfrm>
            <a:off x="2857680" y="4286160"/>
            <a:ext cx="2428560" cy="990720"/>
            <a:chOff x="2857680" y="4286160"/>
            <a:chExt cx="2428560" cy="990720"/>
          </a:xfrm>
        </p:grpSpPr>
        <p:sp>
          <p:nvSpPr>
            <p:cNvPr id="447" name="TextBox 1"/>
            <p:cNvSpPr/>
            <p:nvPr/>
          </p:nvSpPr>
          <p:spPr>
            <a:xfrm>
              <a:off x="2857680" y="4392000"/>
              <a:ext cx="24285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倒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8" name="Object 13"/>
            <p:cNvGraphicFramePr/>
            <p:nvPr/>
          </p:nvGraphicFramePr>
          <p:xfrm>
            <a:off x="3267000" y="4286160"/>
            <a:ext cx="5191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9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67000" y="4286160"/>
                      <a:ext cx="519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50" name="图片 36" descr="错号.png"/>
          <p:cNvPicPr/>
          <p:nvPr/>
        </p:nvPicPr>
        <p:blipFill>
          <a:blip r:embed="rId5"/>
          <a:stretch/>
        </p:blipFill>
        <p:spPr>
          <a:xfrm>
            <a:off x="4960800" y="4572000"/>
            <a:ext cx="3970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51" name="组合 38"/>
          <p:cNvGrpSpPr/>
          <p:nvPr/>
        </p:nvGrpSpPr>
        <p:grpSpPr>
          <a:xfrm>
            <a:off x="1643040" y="5214960"/>
            <a:ext cx="3429000" cy="892080"/>
            <a:chOff x="1643040" y="5214960"/>
            <a:chExt cx="3429000" cy="892080"/>
          </a:xfrm>
        </p:grpSpPr>
        <p:sp>
          <p:nvSpPr>
            <p:cNvPr id="452" name="TextBox 1"/>
            <p:cNvSpPr/>
            <p:nvPr/>
          </p:nvSpPr>
          <p:spPr>
            <a:xfrm>
              <a:off x="1643040" y="5236920"/>
              <a:ext cx="3429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互为倒数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3" name="Object 14"/>
            <p:cNvGraphicFramePr/>
            <p:nvPr/>
          </p:nvGraphicFramePr>
          <p:xfrm>
            <a:off x="2092320" y="5214960"/>
            <a:ext cx="336240" cy="874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92320" y="5214960"/>
                      <a:ext cx="336240" cy="87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Object 15"/>
            <p:cNvGraphicFramePr/>
            <p:nvPr/>
          </p:nvGraphicFramePr>
          <p:xfrm>
            <a:off x="2808360" y="5232240"/>
            <a:ext cx="334800" cy="874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56" name="Object 1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08360" y="5232240"/>
                      <a:ext cx="334800" cy="87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7" name="组合 39"/>
          <p:cNvGrpSpPr/>
          <p:nvPr/>
        </p:nvGrpSpPr>
        <p:grpSpPr>
          <a:xfrm>
            <a:off x="4572000" y="5214960"/>
            <a:ext cx="3429000" cy="874800"/>
            <a:chOff x="4572000" y="5214960"/>
            <a:chExt cx="3429000" cy="874800"/>
          </a:xfrm>
        </p:grpSpPr>
        <p:sp>
          <p:nvSpPr>
            <p:cNvPr id="458" name="TextBox 1"/>
            <p:cNvSpPr/>
            <p:nvPr/>
          </p:nvSpPr>
          <p:spPr>
            <a:xfrm>
              <a:off x="4572000" y="5219640"/>
              <a:ext cx="3429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  的倒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9" name="Object 16"/>
            <p:cNvGraphicFramePr/>
            <p:nvPr/>
          </p:nvGraphicFramePr>
          <p:xfrm>
            <a:off x="5021280" y="5214960"/>
            <a:ext cx="336240" cy="874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60" name="Object 1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021280" y="5214960"/>
                      <a:ext cx="336240" cy="87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1" name="Object 17"/>
            <p:cNvGraphicFramePr/>
            <p:nvPr/>
          </p:nvGraphicFramePr>
          <p:xfrm>
            <a:off x="5737320" y="5214960"/>
            <a:ext cx="334800" cy="874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62" name="Object 17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737320" y="5214960"/>
                      <a:ext cx="334800" cy="87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3" name="圆角矩形 43"/>
          <p:cNvSpPr/>
          <p:nvPr/>
        </p:nvSpPr>
        <p:spPr>
          <a:xfrm>
            <a:off x="5572080" y="2643120"/>
            <a:ext cx="571680" cy="92880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928800"/>
              <a:gd name="textAreaBottom" fmla="*/ 901080 h 928800"/>
            </a:gdLst>
            <a:ahLst/>
            <a:rect l="textAreaLeft" t="textAreaTop" r="textAreaRight" b="textAreaBottom"/>
            <a:pathLst>
              <a:path w="21600" h="35085">
                <a:moveTo>
                  <a:pt x="3600" y="0"/>
                </a:moveTo>
                <a:arcTo wR="3600" hR="3600" stAng="16200000" swAng="-5400000"/>
                <a:lnTo>
                  <a:pt x="0" y="31485"/>
                </a:lnTo>
                <a:arcTo wR="3600" hR="3600" stAng="10800000" swAng="-5400000"/>
                <a:lnTo>
                  <a:pt x="18000" y="350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Object 18"/>
          <p:cNvGraphicFramePr/>
          <p:nvPr/>
        </p:nvGraphicFramePr>
        <p:xfrm>
          <a:off x="5857920" y="3581280"/>
          <a:ext cx="476280" cy="99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5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57920" y="3581280"/>
                    <a:ext cx="476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8"/>
          <p:cNvGraphicFramePr/>
          <p:nvPr/>
        </p:nvGraphicFramePr>
        <p:xfrm>
          <a:off x="1201680" y="2697120"/>
          <a:ext cx="335160" cy="874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67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0168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22"/>
          <p:cNvGraphicFramePr/>
          <p:nvPr/>
        </p:nvGraphicFramePr>
        <p:xfrm>
          <a:off x="2108160" y="2697120"/>
          <a:ext cx="335160" cy="874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69" name="Object 2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10816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23"/>
          <p:cNvGraphicFramePr/>
          <p:nvPr/>
        </p:nvGraphicFramePr>
        <p:xfrm>
          <a:off x="2987640" y="2697120"/>
          <a:ext cx="335160" cy="874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71" name="Object 2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8764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24"/>
          <p:cNvGraphicFramePr/>
          <p:nvPr/>
        </p:nvGraphicFramePr>
        <p:xfrm>
          <a:off x="3824280" y="2697120"/>
          <a:ext cx="474840" cy="874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73" name="Object 2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24280" y="2697120"/>
                    <a:ext cx="4748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25"/>
          <p:cNvGraphicFramePr/>
          <p:nvPr/>
        </p:nvGraphicFramePr>
        <p:xfrm>
          <a:off x="4773600" y="2697120"/>
          <a:ext cx="336600" cy="8748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75" name="Object 25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773600" y="2697120"/>
                    <a:ext cx="336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26"/>
          <p:cNvGraphicFramePr/>
          <p:nvPr/>
        </p:nvGraphicFramePr>
        <p:xfrm>
          <a:off x="5695920" y="2697120"/>
          <a:ext cx="306360" cy="8748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7" name="Object 2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695920" y="2697120"/>
                    <a:ext cx="3063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27"/>
          <p:cNvGraphicFramePr/>
          <p:nvPr/>
        </p:nvGraphicFramePr>
        <p:xfrm>
          <a:off x="6489720" y="2697120"/>
          <a:ext cx="476280" cy="8748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9" name="Object 27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489720" y="2697120"/>
                    <a:ext cx="4762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28"/>
          <p:cNvGraphicFramePr/>
          <p:nvPr/>
        </p:nvGraphicFramePr>
        <p:xfrm>
          <a:off x="7467480" y="2697120"/>
          <a:ext cx="335160" cy="8748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81" name="Object 28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467480" y="2697120"/>
                    <a:ext cx="3351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Box 1"/>
          <p:cNvSpPr/>
          <p:nvPr/>
        </p:nvSpPr>
        <p:spPr>
          <a:xfrm>
            <a:off x="1071720" y="928800"/>
            <a:ext cx="7572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互为倒数的两个数，它们的分子和分母的位置发生了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5"/>
          <p:cNvGraphicFramePr/>
          <p:nvPr/>
        </p:nvGraphicFramePr>
        <p:xfrm>
          <a:off x="1960560" y="2286000"/>
          <a:ext cx="14716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0560" y="2286000"/>
                    <a:ext cx="14716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0"/>
          <p:cNvGraphicFramePr/>
          <p:nvPr/>
        </p:nvGraphicFramePr>
        <p:xfrm>
          <a:off x="3989520" y="2286000"/>
          <a:ext cx="15145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9520" y="2286000"/>
                    <a:ext cx="1514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21"/>
          <p:cNvGraphicFramePr/>
          <p:nvPr/>
        </p:nvGraphicFramePr>
        <p:xfrm>
          <a:off x="5942160" y="2286000"/>
          <a:ext cx="163008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2160" y="2286000"/>
                    <a:ext cx="16300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9" name="组合 57"/>
          <p:cNvGrpSpPr/>
          <p:nvPr/>
        </p:nvGrpSpPr>
        <p:grpSpPr>
          <a:xfrm>
            <a:off x="2338560" y="2499480"/>
            <a:ext cx="714600" cy="500760"/>
            <a:chOff x="2338560" y="2499480"/>
            <a:chExt cx="714600" cy="500760"/>
          </a:xfrm>
        </p:grpSpPr>
        <p:cxnSp>
          <p:nvCxnSpPr>
            <p:cNvPr id="490" name="直接箭头连接符 50"/>
            <p:cNvCxnSpPr/>
            <p:nvPr/>
          </p:nvCxnSpPr>
          <p:spPr>
            <a:xfrm>
              <a:off x="2338560" y="2499840"/>
              <a:ext cx="714960" cy="500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91" name="直接箭头连接符 51"/>
            <p:cNvCxnSpPr/>
            <p:nvPr/>
          </p:nvCxnSpPr>
          <p:spPr>
            <a:xfrm flipV="1">
              <a:off x="2338560" y="2499480"/>
              <a:ext cx="643320" cy="500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492" name="组合 58"/>
          <p:cNvGrpSpPr/>
          <p:nvPr/>
        </p:nvGrpSpPr>
        <p:grpSpPr>
          <a:xfrm>
            <a:off x="4338720" y="2499480"/>
            <a:ext cx="714600" cy="500760"/>
            <a:chOff x="4338720" y="2499480"/>
            <a:chExt cx="714600" cy="500760"/>
          </a:xfrm>
        </p:grpSpPr>
        <p:cxnSp>
          <p:nvCxnSpPr>
            <p:cNvPr id="493" name="直接箭头连接符 59"/>
            <p:cNvCxnSpPr/>
            <p:nvPr/>
          </p:nvCxnSpPr>
          <p:spPr>
            <a:xfrm>
              <a:off x="4338720" y="2499840"/>
              <a:ext cx="714960" cy="500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94" name="直接箭头连接符 60"/>
            <p:cNvCxnSpPr/>
            <p:nvPr/>
          </p:nvCxnSpPr>
          <p:spPr>
            <a:xfrm flipV="1">
              <a:off x="4338720" y="2499480"/>
              <a:ext cx="643320" cy="500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495" name="组合 61"/>
          <p:cNvGrpSpPr/>
          <p:nvPr/>
        </p:nvGrpSpPr>
        <p:grpSpPr>
          <a:xfrm>
            <a:off x="6481800" y="2499480"/>
            <a:ext cx="714600" cy="500760"/>
            <a:chOff x="6481800" y="2499480"/>
            <a:chExt cx="714600" cy="500760"/>
          </a:xfrm>
        </p:grpSpPr>
        <p:cxnSp>
          <p:nvCxnSpPr>
            <p:cNvPr id="496" name="直接箭头连接符 62"/>
            <p:cNvCxnSpPr/>
            <p:nvPr/>
          </p:nvCxnSpPr>
          <p:spPr>
            <a:xfrm>
              <a:off x="6481800" y="2499840"/>
              <a:ext cx="714960" cy="500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97" name="直接箭头连接符 63"/>
            <p:cNvCxnSpPr/>
            <p:nvPr/>
          </p:nvCxnSpPr>
          <p:spPr>
            <a:xfrm flipV="1">
              <a:off x="6481800" y="2499480"/>
              <a:ext cx="643320" cy="500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498" name="TextBox 1"/>
          <p:cNvSpPr/>
          <p:nvPr/>
        </p:nvSpPr>
        <p:spPr>
          <a:xfrm>
            <a:off x="2624040" y="3431160"/>
            <a:ext cx="4786560" cy="733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、分母的位置互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"/>
          <p:cNvSpPr/>
          <p:nvPr/>
        </p:nvSpPr>
        <p:spPr>
          <a:xfrm>
            <a:off x="857160" y="1219320"/>
            <a:ext cx="7572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倒数是多少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倒数呢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倒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5"/>
          <p:cNvGraphicFramePr/>
          <p:nvPr/>
        </p:nvGraphicFramePr>
        <p:xfrm>
          <a:off x="2071800" y="2286000"/>
          <a:ext cx="12985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2286000"/>
                    <a:ext cx="1298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2" name="组合 20"/>
          <p:cNvGrpSpPr/>
          <p:nvPr/>
        </p:nvGrpSpPr>
        <p:grpSpPr>
          <a:xfrm>
            <a:off x="3965400" y="2295360"/>
            <a:ext cx="3071880" cy="990720"/>
            <a:chOff x="3965400" y="2295360"/>
            <a:chExt cx="3071880" cy="990720"/>
          </a:xfrm>
        </p:grpSpPr>
        <p:sp>
          <p:nvSpPr>
            <p:cNvPr id="503" name="TextBox 1"/>
            <p:cNvSpPr/>
            <p:nvPr/>
          </p:nvSpPr>
          <p:spPr>
            <a:xfrm>
              <a:off x="3965400" y="2310840"/>
              <a:ext cx="30718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倒数是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4" name="Object 6"/>
            <p:cNvGraphicFramePr/>
            <p:nvPr/>
          </p:nvGraphicFramePr>
          <p:xfrm>
            <a:off x="5659200" y="2295360"/>
            <a:ext cx="5191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9200" y="2295360"/>
                      <a:ext cx="519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6" name="TextBox 1"/>
          <p:cNvSpPr/>
          <p:nvPr/>
        </p:nvSpPr>
        <p:spPr>
          <a:xfrm>
            <a:off x="3286080" y="3357720"/>
            <a:ext cx="3071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倒数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1785960" y="4188240"/>
            <a:ext cx="5500800" cy="733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作分母，所以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0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没有倒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1071720" y="1428840"/>
            <a:ext cx="7572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下面各数的倒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8"/>
          <p:cNvGraphicFramePr/>
          <p:nvPr/>
        </p:nvGraphicFramePr>
        <p:xfrm>
          <a:off x="2112840" y="2357280"/>
          <a:ext cx="57780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2357280"/>
                    <a:ext cx="5778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2"/>
          <p:cNvGraphicFramePr/>
          <p:nvPr/>
        </p:nvGraphicFramePr>
        <p:xfrm>
          <a:off x="3338640" y="2357280"/>
          <a:ext cx="37296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8640" y="2357280"/>
                    <a:ext cx="372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23"/>
          <p:cNvGraphicFramePr/>
          <p:nvPr/>
        </p:nvGraphicFramePr>
        <p:xfrm>
          <a:off x="4413240" y="2357280"/>
          <a:ext cx="406440" cy="10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2357280"/>
                    <a:ext cx="406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24"/>
          <p:cNvGraphicFramePr/>
          <p:nvPr/>
        </p:nvGraphicFramePr>
        <p:xfrm>
          <a:off x="5545080" y="2664000"/>
          <a:ext cx="33804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6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5080" y="2664000"/>
                    <a:ext cx="3380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25"/>
          <p:cNvGraphicFramePr/>
          <p:nvPr/>
        </p:nvGraphicFramePr>
        <p:xfrm>
          <a:off x="6507000" y="2357280"/>
          <a:ext cx="579600" cy="106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8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07000" y="2357280"/>
                    <a:ext cx="579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8"/>
          <p:cNvGraphicFramePr/>
          <p:nvPr/>
        </p:nvGraphicFramePr>
        <p:xfrm>
          <a:off x="2127240" y="3714840"/>
          <a:ext cx="576360" cy="1060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7240" y="3714840"/>
                    <a:ext cx="57636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9"/>
          <p:cNvGraphicFramePr/>
          <p:nvPr/>
        </p:nvGraphicFramePr>
        <p:xfrm>
          <a:off x="3384720" y="4021200"/>
          <a:ext cx="30636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84720" y="4021200"/>
                    <a:ext cx="306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10"/>
          <p:cNvGraphicFramePr/>
          <p:nvPr/>
        </p:nvGraphicFramePr>
        <p:xfrm>
          <a:off x="4425840" y="3714840"/>
          <a:ext cx="40644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4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25840" y="3714840"/>
                    <a:ext cx="4064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1"/>
          <p:cNvGraphicFramePr/>
          <p:nvPr/>
        </p:nvGraphicFramePr>
        <p:xfrm>
          <a:off x="5526000" y="3714840"/>
          <a:ext cx="405000" cy="1058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6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26000" y="3714840"/>
                    <a:ext cx="405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2"/>
          <p:cNvGraphicFramePr/>
          <p:nvPr/>
        </p:nvGraphicFramePr>
        <p:xfrm>
          <a:off x="6566040" y="3714840"/>
          <a:ext cx="57780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28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66040" y="3714840"/>
                    <a:ext cx="5778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8"/>
          <p:cNvSpPr/>
          <p:nvPr/>
        </p:nvSpPr>
        <p:spPr>
          <a:xfrm>
            <a:off x="2026080" y="1357200"/>
            <a:ext cx="39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长方形的面积都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"/>
          <p:cNvSpPr/>
          <p:nvPr/>
        </p:nvSpPr>
        <p:spPr>
          <a:xfrm>
            <a:off x="1785960" y="3500280"/>
            <a:ext cx="2143080" cy="214560"/>
          </a:xfrm>
          <a:prstGeom prst="rect">
            <a:avLst/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2764440" y="3000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22"/>
          <p:cNvSpPr/>
          <p:nvPr/>
        </p:nvSpPr>
        <p:spPr>
          <a:xfrm>
            <a:off x="2382840" y="2976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4004280" y="317016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"/>
          <p:cNvSpPr/>
          <p:nvPr/>
        </p:nvSpPr>
        <p:spPr>
          <a:xfrm>
            <a:off x="4929120" y="3357720"/>
            <a:ext cx="785880" cy="1000080"/>
          </a:xfrm>
          <a:prstGeom prst="rect">
            <a:avLst/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7"/>
          <p:cNvSpPr/>
          <p:nvPr/>
        </p:nvSpPr>
        <p:spPr>
          <a:xfrm>
            <a:off x="4949280" y="24033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26"/>
          <p:cNvSpPr/>
          <p:nvPr/>
        </p:nvSpPr>
        <p:spPr>
          <a:xfrm>
            <a:off x="5679360" y="3714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9"/>
          <p:cNvSpPr/>
          <p:nvPr/>
        </p:nvSpPr>
        <p:spPr>
          <a:xfrm>
            <a:off x="5897880" y="34750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6:02:19Z</dcterms:created>
  <dc:creator/>
  <dc:description/>
  <cp:keywords/>
  <dc:language>en-US</dc:language>
  <cp:lastModifiedBy/>
  <dcterms:modified xsi:type="dcterms:W3CDTF">2017-12-20T14:33:54Z</dcterms:modified>
  <cp:revision>1</cp:revision>
  <dc:subject/>
  <dc:title/>
</cp:coreProperties>
</file>