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28.wmf" ContentType="image/x-wmf"/>
  <Override PartName="/ppt/media/image3.wmf" ContentType="image/x-wmf"/>
  <Override PartName="/ppt/media/image2.wmf" ContentType="image/x-wmf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5.wmf" ContentType="image/x-wmf"/>
  <Override PartName="/ppt/media/image1.jpeg" ContentType="image/jpe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823E-6AC8-4B2B-B661-2041275BB3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B1DB-22D4-49B3-AC88-E0AB32F975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1E41-2C02-4E5A-948D-168061ACBE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E00C-1DCF-416C-BE8E-BD95B83643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DA66-A7CB-4857-8712-B1ABB860E88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FF26-EA06-46B3-A49F-9393679EDD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679A-3F3C-48BA-9618-8D7244023A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B55D-FC3D-49AE-AE23-13CDD811D99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8B9E-8EEC-4916-83F9-79F7FF21B8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3297-A97D-4849-B63B-CED871DE08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252-7B86-4442-B5B2-ABFAEC39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EC7-26D8-45D5-86E2-2FF42FD5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830-CF68-4677-AAFD-5F59E7D2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9E2-47A1-464E-B6AE-F9DD8F45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7703-19D3-456C-97FD-FCE828CCA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1326-D474-4261-8359-629F0C70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1333-2B34-4F17-818C-9C5F5AE3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8AF2-4F13-4B7E-9B1B-3798A58F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623B-15A5-448F-9D7B-18E3C169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8888-0B4D-42D5-9BB0-D4FEB56C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BFB3-72CE-4526-B424-EEF84E6C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F84-ED21-4D7E-82B9-0B437D0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F2BE-4A2F-4443-922C-7268A56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B659-D549-491C-B536-26EDB15B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FE66-A9AC-4F8B-A83D-1E673E6E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A6C0-DF5E-495C-8C63-058C317B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DE16-508D-4727-8C17-E996091F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D7D-3DB8-4273-9791-F8ACBD0A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2BD-99C4-415B-B0BC-85D0B19D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B40-7078-4019-80EE-83EB513C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310-ABAC-4EC7-ABB0-C9C7087F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7E6-7F01-4FC5-AC87-72C527E4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550-A9A1-43B3-AE4F-151B5284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BE4-A63A-42E6-B92C-83E199F8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A336-9B93-41DA-AAA1-4594493E25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ACCD-07E9-4B8B-9AC9-9F7431050FF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slideLayout" Target="../slideLayouts/slideLayout109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2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1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33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0.wmf"/><Relationship Id="rId19" Type="http://schemas.openxmlformats.org/officeDocument/2006/relationships/slideLayout" Target="../slideLayouts/slideLayout145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57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Box 3"/>
          <p:cNvSpPr/>
          <p:nvPr/>
        </p:nvSpPr>
        <p:spPr>
          <a:xfrm>
            <a:off x="1619280" y="1700280"/>
            <a:ext cx="643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乘法（二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1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"/>
          <p:cNvSpPr/>
          <p:nvPr/>
        </p:nvSpPr>
        <p:spPr>
          <a:xfrm>
            <a:off x="577800" y="60336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Box 1"/>
          <p:cNvSpPr/>
          <p:nvPr/>
        </p:nvSpPr>
        <p:spPr>
          <a:xfrm>
            <a:off x="785880" y="1000080"/>
            <a:ext cx="807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涂色部分表示一张纸的  ，斜线部分各占  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Object 8"/>
          <p:cNvGraphicFramePr/>
          <p:nvPr/>
        </p:nvGraphicFramePr>
        <p:xfrm>
          <a:off x="4500720" y="982800"/>
          <a:ext cx="307800" cy="87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982800"/>
                    <a:ext cx="3078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7" name="Object 32"/>
          <p:cNvGraphicFramePr/>
          <p:nvPr/>
        </p:nvGraphicFramePr>
        <p:xfrm>
          <a:off x="7286760" y="928800"/>
          <a:ext cx="306360" cy="87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6760" y="928800"/>
                    <a:ext cx="30636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9" name="Picture 33" descr=""/>
          <p:cNvPicPr/>
          <p:nvPr/>
        </p:nvPicPr>
        <p:blipFill>
          <a:blip r:embed="rId5"/>
          <a:stretch/>
        </p:blipFill>
        <p:spPr>
          <a:xfrm>
            <a:off x="1214280" y="2673360"/>
            <a:ext cx="6620040" cy="1838160"/>
          </a:xfrm>
          <a:prstGeom prst="rect">
            <a:avLst/>
          </a:prstGeom>
          <a:ln w="0">
            <a:noFill/>
          </a:ln>
        </p:spPr>
      </p:pic>
      <p:sp>
        <p:nvSpPr>
          <p:cNvPr id="710" name="矩形 7"/>
          <p:cNvSpPr/>
          <p:nvPr/>
        </p:nvSpPr>
        <p:spPr>
          <a:xfrm>
            <a:off x="1071720" y="3602160"/>
            <a:ext cx="300024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8"/>
          <p:cNvSpPr/>
          <p:nvPr/>
        </p:nvSpPr>
        <p:spPr>
          <a:xfrm>
            <a:off x="4929120" y="3602160"/>
            <a:ext cx="3000600" cy="85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圆角矩形标注 9"/>
          <p:cNvSpPr/>
          <p:nvPr/>
        </p:nvSpPr>
        <p:spPr>
          <a:xfrm>
            <a:off x="5643720" y="2143080"/>
            <a:ext cx="1857240" cy="571680"/>
          </a:xfrm>
          <a:prstGeom prst="wedgeRoundRectCallout">
            <a:avLst>
              <a:gd name="adj1" fmla="val 38685"/>
              <a:gd name="adj2" fmla="val -154810"/>
              <a:gd name="adj3" fmla="val 16667"/>
            </a:avLst>
          </a:prstGeom>
          <a:solidFill>
            <a:srgbClr val="ff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涂色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Object 34"/>
          <p:cNvGraphicFramePr/>
          <p:nvPr/>
        </p:nvGraphicFramePr>
        <p:xfrm>
          <a:off x="2287440" y="3929040"/>
          <a:ext cx="430200" cy="111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4" name="Object 3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7440" y="3929040"/>
                    <a:ext cx="4302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35"/>
          <p:cNvGraphicFramePr/>
          <p:nvPr/>
        </p:nvGraphicFramePr>
        <p:xfrm>
          <a:off x="6145200" y="4000680"/>
          <a:ext cx="426960" cy="1118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6" name="Object 3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145200" y="4000680"/>
                    <a:ext cx="42696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TextBox 1"/>
          <p:cNvSpPr/>
          <p:nvPr/>
        </p:nvSpPr>
        <p:spPr>
          <a:xfrm>
            <a:off x="1714680" y="5143680"/>
            <a:ext cx="5500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斜线部分各这张纸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组合 19"/>
          <p:cNvGrpSpPr/>
          <p:nvPr/>
        </p:nvGrpSpPr>
        <p:grpSpPr>
          <a:xfrm>
            <a:off x="714240" y="857160"/>
            <a:ext cx="7572600" cy="874440"/>
            <a:chOff x="714240" y="857160"/>
            <a:chExt cx="7572600" cy="874440"/>
          </a:xfrm>
        </p:grpSpPr>
        <p:sp>
          <p:nvSpPr>
            <p:cNvPr id="719" name="TextBox 1"/>
            <p:cNvSpPr/>
            <p:nvPr/>
          </p:nvSpPr>
          <p:spPr>
            <a:xfrm>
              <a:off x="714240" y="857160"/>
              <a:ext cx="75726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涂色部分表示一张纸的  ，斜线部分是这张纸的几分之几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20" name="Object 8"/>
            <p:cNvGraphicFramePr/>
            <p:nvPr/>
          </p:nvGraphicFramePr>
          <p:xfrm>
            <a:off x="4357800" y="857160"/>
            <a:ext cx="306360" cy="874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1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57800" y="857160"/>
                      <a:ext cx="306360" cy="87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22" name="Picture 6" descr=""/>
          <p:cNvPicPr/>
          <p:nvPr/>
        </p:nvPicPr>
        <p:blipFill>
          <a:blip r:embed="rId3"/>
          <a:stretch/>
        </p:blipFill>
        <p:spPr>
          <a:xfrm>
            <a:off x="2595600" y="2490840"/>
            <a:ext cx="2762280" cy="17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3" name="Object 9"/>
          <p:cNvGraphicFramePr/>
          <p:nvPr/>
        </p:nvGraphicFramePr>
        <p:xfrm>
          <a:off x="5396040" y="2714760"/>
          <a:ext cx="1176120" cy="111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4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040" y="2714760"/>
                    <a:ext cx="117612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Object 18"/>
          <p:cNvGraphicFramePr/>
          <p:nvPr/>
        </p:nvGraphicFramePr>
        <p:xfrm>
          <a:off x="3214800" y="4903920"/>
          <a:ext cx="392040" cy="1118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6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14800" y="4903920"/>
                    <a:ext cx="39204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Object 19"/>
          <p:cNvGraphicFramePr/>
          <p:nvPr/>
        </p:nvGraphicFramePr>
        <p:xfrm>
          <a:off x="3697200" y="5275440"/>
          <a:ext cx="426960" cy="46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8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97200" y="5275440"/>
                    <a:ext cx="426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20"/>
          <p:cNvGraphicFramePr/>
          <p:nvPr/>
        </p:nvGraphicFramePr>
        <p:xfrm>
          <a:off x="4162320" y="4903920"/>
          <a:ext cx="428760" cy="1118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30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62320" y="4903920"/>
                    <a:ext cx="42876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1" name="Object 21"/>
          <p:cNvGraphicFramePr/>
          <p:nvPr/>
        </p:nvGraphicFramePr>
        <p:xfrm>
          <a:off x="4629240" y="5237280"/>
          <a:ext cx="74772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32" name="Object 2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29240" y="5237280"/>
                    <a:ext cx="74772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矩形 22"/>
          <p:cNvSpPr/>
          <p:nvPr/>
        </p:nvSpPr>
        <p:spPr>
          <a:xfrm>
            <a:off x="2571840" y="2428920"/>
            <a:ext cx="2714400" cy="10000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23"/>
          <p:cNvSpPr/>
          <p:nvPr/>
        </p:nvSpPr>
        <p:spPr>
          <a:xfrm>
            <a:off x="2714760" y="2500200"/>
            <a:ext cx="642960" cy="85752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1"/>
          <p:cNvSpPr/>
          <p:nvPr/>
        </p:nvSpPr>
        <p:spPr>
          <a:xfrm>
            <a:off x="2143080" y="4119480"/>
            <a:ext cx="5786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何列式表示？看图写出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6" name="Object 22"/>
          <p:cNvGraphicFramePr/>
          <p:nvPr/>
        </p:nvGraphicFramePr>
        <p:xfrm>
          <a:off x="2786040" y="2214720"/>
          <a:ext cx="428760" cy="1120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37" name="Object 2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786040" y="2214720"/>
                    <a:ext cx="4287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Object 23"/>
          <p:cNvGraphicFramePr/>
          <p:nvPr/>
        </p:nvGraphicFramePr>
        <p:xfrm>
          <a:off x="4662360" y="4951440"/>
          <a:ext cx="785880" cy="11206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39" name="Object 23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62360" y="4951440"/>
                    <a:ext cx="78588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6" descr=""/>
          <p:cNvPicPr/>
          <p:nvPr/>
        </p:nvPicPr>
        <p:blipFill>
          <a:blip r:embed="rId1"/>
          <a:stretch/>
        </p:blipFill>
        <p:spPr>
          <a:xfrm>
            <a:off x="2643120" y="2451240"/>
            <a:ext cx="2562120" cy="1704960"/>
          </a:xfrm>
          <a:prstGeom prst="rect">
            <a:avLst/>
          </a:prstGeom>
          <a:ln w="0">
            <a:noFill/>
          </a:ln>
        </p:spPr>
      </p:pic>
      <p:grpSp>
        <p:nvGrpSpPr>
          <p:cNvPr id="741" name="组合 19"/>
          <p:cNvGrpSpPr/>
          <p:nvPr/>
        </p:nvGrpSpPr>
        <p:grpSpPr>
          <a:xfrm>
            <a:off x="714240" y="857160"/>
            <a:ext cx="7572600" cy="874440"/>
            <a:chOff x="714240" y="857160"/>
            <a:chExt cx="7572600" cy="874440"/>
          </a:xfrm>
        </p:grpSpPr>
        <p:sp>
          <p:nvSpPr>
            <p:cNvPr id="742" name="TextBox 1"/>
            <p:cNvSpPr/>
            <p:nvPr/>
          </p:nvSpPr>
          <p:spPr>
            <a:xfrm>
              <a:off x="714240" y="857160"/>
              <a:ext cx="75726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涂色部分表示一张纸的  ，斜线部分是这张纸的几分之几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43" name="Object 8"/>
            <p:cNvGraphicFramePr/>
            <p:nvPr/>
          </p:nvGraphicFramePr>
          <p:xfrm>
            <a:off x="4357800" y="857160"/>
            <a:ext cx="306360" cy="874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4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357800" y="857160"/>
                      <a:ext cx="306360" cy="87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45" name="Object 9"/>
          <p:cNvGraphicFramePr/>
          <p:nvPr/>
        </p:nvGraphicFramePr>
        <p:xfrm>
          <a:off x="5396040" y="2736720"/>
          <a:ext cx="1176120" cy="111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6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040" y="2736720"/>
                    <a:ext cx="117612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18"/>
          <p:cNvGraphicFramePr/>
          <p:nvPr/>
        </p:nvGraphicFramePr>
        <p:xfrm>
          <a:off x="3357720" y="4854600"/>
          <a:ext cx="392040" cy="111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48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7720" y="4854600"/>
                    <a:ext cx="39204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19"/>
          <p:cNvGraphicFramePr/>
          <p:nvPr/>
        </p:nvGraphicFramePr>
        <p:xfrm>
          <a:off x="3840120" y="5226120"/>
          <a:ext cx="426960" cy="469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50" name="Object 1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40120" y="5226120"/>
                    <a:ext cx="426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20"/>
          <p:cNvGraphicFramePr/>
          <p:nvPr/>
        </p:nvGraphicFramePr>
        <p:xfrm>
          <a:off x="4305240" y="4854600"/>
          <a:ext cx="428760" cy="111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52" name="Object 2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05240" y="4854600"/>
                    <a:ext cx="4287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矩形 22"/>
          <p:cNvSpPr/>
          <p:nvPr/>
        </p:nvSpPr>
        <p:spPr>
          <a:xfrm>
            <a:off x="2571840" y="2379600"/>
            <a:ext cx="2714400" cy="10000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23"/>
          <p:cNvSpPr/>
          <p:nvPr/>
        </p:nvSpPr>
        <p:spPr>
          <a:xfrm>
            <a:off x="2643120" y="2451240"/>
            <a:ext cx="1928880" cy="85716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"/>
          <p:cNvSpPr/>
          <p:nvPr/>
        </p:nvSpPr>
        <p:spPr>
          <a:xfrm>
            <a:off x="2786040" y="4094280"/>
            <a:ext cx="3857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试一试：列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Object 22"/>
          <p:cNvGraphicFramePr/>
          <p:nvPr/>
        </p:nvGraphicFramePr>
        <p:xfrm>
          <a:off x="2786040" y="2236680"/>
          <a:ext cx="428760" cy="1121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57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86040" y="2236680"/>
                    <a:ext cx="42876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Object 23"/>
          <p:cNvGraphicFramePr/>
          <p:nvPr/>
        </p:nvGraphicFramePr>
        <p:xfrm>
          <a:off x="4786200" y="4879800"/>
          <a:ext cx="785880" cy="1121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59" name="Object 23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86200" y="4879800"/>
                    <a:ext cx="785880" cy="11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9" descr=""/>
          <p:cNvPicPr/>
          <p:nvPr/>
        </p:nvPicPr>
        <p:blipFill>
          <a:blip r:embed="rId1"/>
          <a:stretch/>
        </p:blipFill>
        <p:spPr>
          <a:xfrm>
            <a:off x="1500120" y="3705120"/>
            <a:ext cx="2943360" cy="2009880"/>
          </a:xfrm>
          <a:prstGeom prst="rect">
            <a:avLst/>
          </a:prstGeom>
          <a:ln w="0">
            <a:noFill/>
          </a:ln>
        </p:spPr>
      </p:pic>
      <p:sp>
        <p:nvSpPr>
          <p:cNvPr id="761" name="TextBox 1"/>
          <p:cNvSpPr/>
          <p:nvPr/>
        </p:nvSpPr>
        <p:spPr>
          <a:xfrm>
            <a:off x="928800" y="100008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乘法算式在图中画斜线表示计算结果，再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7" descr=""/>
          <p:cNvPicPr/>
          <p:nvPr/>
        </p:nvPicPr>
        <p:blipFill>
          <a:blip r:embed="rId2"/>
          <a:stretch/>
        </p:blipFill>
        <p:spPr>
          <a:xfrm>
            <a:off x="1566720" y="2565360"/>
            <a:ext cx="2928960" cy="1106640"/>
          </a:xfrm>
          <a:prstGeom prst="rect">
            <a:avLst/>
          </a:prstGeom>
          <a:ln w="0">
            <a:noFill/>
          </a:ln>
        </p:spPr>
      </p:pic>
      <p:grpSp>
        <p:nvGrpSpPr>
          <p:cNvPr id="763" name="组合 30"/>
          <p:cNvGrpSpPr/>
          <p:nvPr/>
        </p:nvGrpSpPr>
        <p:grpSpPr>
          <a:xfrm>
            <a:off x="1657440" y="3919680"/>
            <a:ext cx="428400" cy="999720"/>
            <a:chOff x="1657440" y="3919680"/>
            <a:chExt cx="428400" cy="999720"/>
          </a:xfrm>
        </p:grpSpPr>
        <p:sp>
          <p:nvSpPr>
            <p:cNvPr id="764" name="Rectangle 145"/>
            <p:cNvSpPr/>
            <p:nvPr/>
          </p:nvSpPr>
          <p:spPr>
            <a:xfrm>
              <a:off x="1657440" y="3919680"/>
              <a:ext cx="428400" cy="428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45"/>
            <p:cNvSpPr/>
            <p:nvPr/>
          </p:nvSpPr>
          <p:spPr>
            <a:xfrm>
              <a:off x="1657440" y="4491000"/>
              <a:ext cx="428400" cy="428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1"/>
          <p:cNvSpPr/>
          <p:nvPr/>
        </p:nvSpPr>
        <p:spPr>
          <a:xfrm>
            <a:off x="3438360" y="264312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1"/>
          <p:cNvSpPr/>
          <p:nvPr/>
        </p:nvSpPr>
        <p:spPr>
          <a:xfrm>
            <a:off x="3429000" y="314316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2" descr=""/>
          <p:cNvPicPr/>
          <p:nvPr/>
        </p:nvPicPr>
        <p:blipFill>
          <a:blip r:embed="rId5"/>
          <a:stretch/>
        </p:blipFill>
        <p:spPr>
          <a:xfrm>
            <a:off x="4805280" y="2573280"/>
            <a:ext cx="2833920" cy="1060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9" descr=""/>
          <p:cNvPicPr/>
          <p:nvPr/>
        </p:nvPicPr>
        <p:blipFill>
          <a:blip r:embed="rId6"/>
          <a:stretch/>
        </p:blipFill>
        <p:spPr>
          <a:xfrm>
            <a:off x="4781520" y="3705120"/>
            <a:ext cx="2943360" cy="2009880"/>
          </a:xfrm>
          <a:prstGeom prst="rect">
            <a:avLst/>
          </a:prstGeom>
          <a:ln w="0">
            <a:noFill/>
          </a:ln>
        </p:spPr>
      </p:pic>
      <p:grpSp>
        <p:nvGrpSpPr>
          <p:cNvPr id="770" name="组合 30"/>
          <p:cNvGrpSpPr/>
          <p:nvPr/>
        </p:nvGrpSpPr>
        <p:grpSpPr>
          <a:xfrm>
            <a:off x="4924440" y="3919680"/>
            <a:ext cx="428760" cy="999720"/>
            <a:chOff x="4924440" y="3919680"/>
            <a:chExt cx="428760" cy="999720"/>
          </a:xfrm>
        </p:grpSpPr>
        <p:sp>
          <p:nvSpPr>
            <p:cNvPr id="771" name="Rectangle 145"/>
            <p:cNvSpPr/>
            <p:nvPr/>
          </p:nvSpPr>
          <p:spPr>
            <a:xfrm>
              <a:off x="4924440" y="3919680"/>
              <a:ext cx="428760" cy="428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45"/>
            <p:cNvSpPr/>
            <p:nvPr/>
          </p:nvSpPr>
          <p:spPr>
            <a:xfrm>
              <a:off x="4924440" y="4491000"/>
              <a:ext cx="428760" cy="4284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TextBox 1"/>
          <p:cNvSpPr/>
          <p:nvPr/>
        </p:nvSpPr>
        <p:spPr>
          <a:xfrm>
            <a:off x="6572160" y="264312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"/>
          <p:cNvSpPr/>
          <p:nvPr/>
        </p:nvSpPr>
        <p:spPr>
          <a:xfrm>
            <a:off x="6572160" y="308628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组合 30"/>
          <p:cNvGrpSpPr/>
          <p:nvPr/>
        </p:nvGrpSpPr>
        <p:grpSpPr>
          <a:xfrm>
            <a:off x="5495760" y="3919680"/>
            <a:ext cx="428760" cy="999720"/>
            <a:chOff x="5495760" y="3919680"/>
            <a:chExt cx="428760" cy="999720"/>
          </a:xfrm>
        </p:grpSpPr>
        <p:sp>
          <p:nvSpPr>
            <p:cNvPr id="776" name="Rectangle 145"/>
            <p:cNvSpPr/>
            <p:nvPr/>
          </p:nvSpPr>
          <p:spPr>
            <a:xfrm>
              <a:off x="5495760" y="3919680"/>
              <a:ext cx="428760" cy="428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45"/>
            <p:cNvSpPr/>
            <p:nvPr/>
          </p:nvSpPr>
          <p:spPr>
            <a:xfrm>
              <a:off x="5495760" y="4491000"/>
              <a:ext cx="428760" cy="428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组合 30"/>
          <p:cNvGrpSpPr/>
          <p:nvPr/>
        </p:nvGrpSpPr>
        <p:grpSpPr>
          <a:xfrm>
            <a:off x="6067440" y="3919680"/>
            <a:ext cx="428760" cy="999720"/>
            <a:chOff x="6067440" y="3919680"/>
            <a:chExt cx="428760" cy="999720"/>
          </a:xfrm>
        </p:grpSpPr>
        <p:sp>
          <p:nvSpPr>
            <p:cNvPr id="779" name="Rectangle 145"/>
            <p:cNvSpPr/>
            <p:nvPr/>
          </p:nvSpPr>
          <p:spPr>
            <a:xfrm>
              <a:off x="6067440" y="3919680"/>
              <a:ext cx="428760" cy="4287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45"/>
            <p:cNvSpPr/>
            <p:nvPr/>
          </p:nvSpPr>
          <p:spPr>
            <a:xfrm>
              <a:off x="6067440" y="4491000"/>
              <a:ext cx="428760" cy="4284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组合 30"/>
          <p:cNvGrpSpPr/>
          <p:nvPr/>
        </p:nvGrpSpPr>
        <p:grpSpPr>
          <a:xfrm>
            <a:off x="6567480" y="3919680"/>
            <a:ext cx="428760" cy="999720"/>
            <a:chOff x="6567480" y="3919680"/>
            <a:chExt cx="428760" cy="999720"/>
          </a:xfrm>
        </p:grpSpPr>
        <p:sp>
          <p:nvSpPr>
            <p:cNvPr id="782" name="Rectangle 145"/>
            <p:cNvSpPr/>
            <p:nvPr/>
          </p:nvSpPr>
          <p:spPr>
            <a:xfrm>
              <a:off x="6567480" y="3919680"/>
              <a:ext cx="428760" cy="4287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45"/>
            <p:cNvSpPr/>
            <p:nvPr/>
          </p:nvSpPr>
          <p:spPr>
            <a:xfrm>
              <a:off x="6567480" y="4491000"/>
              <a:ext cx="428760" cy="4284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圆角矩形 69"/>
          <p:cNvSpPr/>
          <p:nvPr/>
        </p:nvSpPr>
        <p:spPr>
          <a:xfrm>
            <a:off x="1571760" y="4000680"/>
            <a:ext cx="5929200" cy="22860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68"/>
          <p:cNvSpPr/>
          <p:nvPr/>
        </p:nvSpPr>
        <p:spPr>
          <a:xfrm>
            <a:off x="1857240" y="1500120"/>
            <a:ext cx="5429520" cy="25005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7" descr=""/>
          <p:cNvPicPr/>
          <p:nvPr/>
        </p:nvPicPr>
        <p:blipFill>
          <a:blip r:embed="rId1"/>
          <a:stretch/>
        </p:blipFill>
        <p:spPr>
          <a:xfrm>
            <a:off x="1714680" y="4626000"/>
            <a:ext cx="2786040" cy="10526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2" descr=""/>
          <p:cNvPicPr/>
          <p:nvPr/>
        </p:nvPicPr>
        <p:blipFill>
          <a:blip r:embed="rId2"/>
          <a:stretch/>
        </p:blipFill>
        <p:spPr>
          <a:xfrm>
            <a:off x="4714920" y="4632480"/>
            <a:ext cx="2690640" cy="1008000"/>
          </a:xfrm>
          <a:prstGeom prst="rect">
            <a:avLst/>
          </a:prstGeom>
          <a:ln w="0">
            <a:noFill/>
          </a:ln>
        </p:spPr>
      </p:pic>
      <p:sp>
        <p:nvSpPr>
          <p:cNvPr id="788" name="TextBox 1"/>
          <p:cNvSpPr/>
          <p:nvPr/>
        </p:nvSpPr>
        <p:spPr>
          <a:xfrm>
            <a:off x="642960" y="90504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的分子分母与两个乘数的分子分母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下弧形箭头 25"/>
          <p:cNvSpPr/>
          <p:nvPr/>
        </p:nvSpPr>
        <p:spPr>
          <a:xfrm>
            <a:off x="2071800" y="3357720"/>
            <a:ext cx="1071360" cy="214200"/>
          </a:xfrm>
          <a:custGeom>
            <a:avLst/>
            <a:gdLst>
              <a:gd name="textAreaLeft" fmla="*/ 247680 w 1071360"/>
              <a:gd name="textAreaRight" fmla="*/ 797040 w 107136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-3649607"/>
                <a:lnTo>
                  <a:pt x="21283" y="5400"/>
                </a:lnTo>
                <a:lnTo>
                  <a:pt x="20520" y="0"/>
                </a:lnTo>
                <a:lnTo>
                  <a:pt x="19123" y="5400"/>
                </a:lnTo>
                <a:lnTo>
                  <a:pt x="19663" y="5400"/>
                </a:lnTo>
                <a:arcTo wR="9990" hR="21600" stAng="1750393" swAng="3563555"/>
                <a:lnTo>
                  <a:pt x="10530" y="21568"/>
                </a:lnTo>
                <a:arcTo wR="9990" hR="21600" stAng="5486052" swAng="5313948"/>
                <a:close/>
              </a:path>
              <a:path fill="darkenLess"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86052"/>
                <a:lnTo>
                  <a:pt x="10530" y="21568"/>
                </a:lnTo>
                <a:arcTo wR="9990" hR="21600" stAng="5486052" swAng="5313948"/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下弧形箭头 26"/>
          <p:cNvSpPr/>
          <p:nvPr/>
        </p:nvSpPr>
        <p:spPr>
          <a:xfrm>
            <a:off x="3143160" y="3286080"/>
            <a:ext cx="1071720" cy="214200"/>
          </a:xfrm>
          <a:custGeom>
            <a:avLst/>
            <a:gdLst>
              <a:gd name="textAreaLeft" fmla="*/ 247680 w 1071720"/>
              <a:gd name="textAreaRight" fmla="*/ 797040 w 10717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-3649607"/>
                <a:lnTo>
                  <a:pt x="21283" y="5400"/>
                </a:lnTo>
                <a:lnTo>
                  <a:pt x="20520" y="0"/>
                </a:lnTo>
                <a:lnTo>
                  <a:pt x="19123" y="5400"/>
                </a:lnTo>
                <a:lnTo>
                  <a:pt x="19663" y="5400"/>
                </a:lnTo>
                <a:arcTo wR="9990" hR="21600" stAng="1750393" swAng="3563555"/>
                <a:lnTo>
                  <a:pt x="10530" y="21568"/>
                </a:lnTo>
                <a:arcTo wR="9990" hR="21600" stAng="5486052" swAng="5313948"/>
                <a:close/>
              </a:path>
              <a:path fill="darkenLess"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86052"/>
                <a:lnTo>
                  <a:pt x="10530" y="21568"/>
                </a:lnTo>
                <a:arcTo wR="9990" hR="21600" stAng="5486052" swAng="5313948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"/>
          <p:cNvSpPr/>
          <p:nvPr/>
        </p:nvSpPr>
        <p:spPr>
          <a:xfrm>
            <a:off x="2509920" y="347652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下弧形箭头 28"/>
          <p:cNvSpPr/>
          <p:nvPr/>
        </p:nvSpPr>
        <p:spPr>
          <a:xfrm flipH="1" rot="10800000">
            <a:off x="2071800" y="1928520"/>
            <a:ext cx="1000080" cy="214200"/>
          </a:xfrm>
          <a:custGeom>
            <a:avLst/>
            <a:gdLst>
              <a:gd name="textAreaLeft" fmla="*/ 230040 w 1000080"/>
              <a:gd name="textAreaRight" fmla="*/ 743760 w 10000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32" hR="21600" stAng="10800000" swAng="-5400000"/>
                <a:lnTo>
                  <a:pt x="11090" y="21600"/>
                </a:lnTo>
                <a:arcTo wR="9932" hR="21600" stAng="5400000" swAng="-3641074"/>
                <a:lnTo>
                  <a:pt x="21285" y="5400"/>
                </a:lnTo>
                <a:lnTo>
                  <a:pt x="20443" y="0"/>
                </a:lnTo>
                <a:lnTo>
                  <a:pt x="18971" y="5400"/>
                </a:lnTo>
                <a:lnTo>
                  <a:pt x="19549" y="5400"/>
                </a:lnTo>
                <a:arcTo wR="9932" hR="21600" stAng="1758926" swAng="3548789"/>
                <a:lnTo>
                  <a:pt x="10511" y="21563"/>
                </a:lnTo>
                <a:arcTo wR="9932" hR="21600" stAng="5492286" swAng="5307714"/>
                <a:close/>
              </a:path>
              <a:path fill="darkenLess" w="21600" h="21600">
                <a:moveTo>
                  <a:pt x="0" y="0"/>
                </a:moveTo>
                <a:arcTo wR="9932" hR="21600" stAng="10800000" swAng="-5400000"/>
                <a:lnTo>
                  <a:pt x="11090" y="21600"/>
                </a:lnTo>
                <a:arcTo wR="9932" hR="21600" stAng="5400000" swAng="92286"/>
                <a:lnTo>
                  <a:pt x="10511" y="21563"/>
                </a:lnTo>
                <a:arcTo wR="9932" hR="21600" stAng="5492286" swAng="5307714"/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下弧形箭头 30"/>
          <p:cNvSpPr/>
          <p:nvPr/>
        </p:nvSpPr>
        <p:spPr>
          <a:xfrm flipH="1" rot="10800000">
            <a:off x="3071880" y="1928520"/>
            <a:ext cx="1071360" cy="214200"/>
          </a:xfrm>
          <a:custGeom>
            <a:avLst/>
            <a:gdLst>
              <a:gd name="textAreaLeft" fmla="*/ 247680 w 1071360"/>
              <a:gd name="textAreaRight" fmla="*/ 797040 w 107136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-3649607"/>
                <a:lnTo>
                  <a:pt x="21283" y="5400"/>
                </a:lnTo>
                <a:lnTo>
                  <a:pt x="20520" y="0"/>
                </a:lnTo>
                <a:lnTo>
                  <a:pt x="19123" y="5400"/>
                </a:lnTo>
                <a:lnTo>
                  <a:pt x="19663" y="5400"/>
                </a:lnTo>
                <a:arcTo wR="9990" hR="21600" stAng="1750393" swAng="3563555"/>
                <a:lnTo>
                  <a:pt x="10530" y="21568"/>
                </a:lnTo>
                <a:arcTo wR="9990" hR="21600" stAng="5486052" swAng="5313948"/>
                <a:close/>
              </a:path>
              <a:path fill="darkenLess"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86052"/>
                <a:lnTo>
                  <a:pt x="10530" y="21568"/>
                </a:lnTo>
                <a:arcTo wR="9990" hR="21600" stAng="5486052" swAng="5313948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"/>
          <p:cNvSpPr/>
          <p:nvPr/>
        </p:nvSpPr>
        <p:spPr>
          <a:xfrm>
            <a:off x="2428920" y="14763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×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"/>
          <p:cNvSpPr/>
          <p:nvPr/>
        </p:nvSpPr>
        <p:spPr>
          <a:xfrm>
            <a:off x="5295960" y="342900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"/>
          <p:cNvSpPr/>
          <p:nvPr/>
        </p:nvSpPr>
        <p:spPr>
          <a:xfrm>
            <a:off x="5224320" y="1428840"/>
            <a:ext cx="22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×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7" name="Object 22"/>
          <p:cNvGraphicFramePr/>
          <p:nvPr/>
        </p:nvGraphicFramePr>
        <p:xfrm>
          <a:off x="1981080" y="2143080"/>
          <a:ext cx="392400" cy="11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8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143080"/>
                    <a:ext cx="3924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9" name="Object 23"/>
          <p:cNvGraphicFramePr/>
          <p:nvPr/>
        </p:nvGraphicFramePr>
        <p:xfrm>
          <a:off x="2463840" y="2514600"/>
          <a:ext cx="42696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63840" y="2514600"/>
                    <a:ext cx="426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1" name="Object 24"/>
          <p:cNvGraphicFramePr/>
          <p:nvPr/>
        </p:nvGraphicFramePr>
        <p:xfrm>
          <a:off x="2928960" y="2143080"/>
          <a:ext cx="428760" cy="111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2143080"/>
                    <a:ext cx="4287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Object 26"/>
          <p:cNvGraphicFramePr/>
          <p:nvPr/>
        </p:nvGraphicFramePr>
        <p:xfrm>
          <a:off x="3429000" y="2143080"/>
          <a:ext cx="785880" cy="1120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04" name="Object 2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2143080"/>
                    <a:ext cx="78588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8"/>
          <p:cNvGraphicFramePr/>
          <p:nvPr/>
        </p:nvGraphicFramePr>
        <p:xfrm>
          <a:off x="4786200" y="2166840"/>
          <a:ext cx="392400" cy="11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6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86200" y="2166840"/>
                    <a:ext cx="3924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7" name="Object 19"/>
          <p:cNvGraphicFramePr/>
          <p:nvPr/>
        </p:nvGraphicFramePr>
        <p:xfrm>
          <a:off x="5268960" y="2538360"/>
          <a:ext cx="42696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8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68960" y="2538360"/>
                    <a:ext cx="42696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20"/>
          <p:cNvGraphicFramePr/>
          <p:nvPr/>
        </p:nvGraphicFramePr>
        <p:xfrm>
          <a:off x="5734080" y="2166840"/>
          <a:ext cx="428760" cy="1119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0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34080" y="2166840"/>
                    <a:ext cx="4287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23"/>
          <p:cNvGraphicFramePr/>
          <p:nvPr/>
        </p:nvGraphicFramePr>
        <p:xfrm>
          <a:off x="6215040" y="2192400"/>
          <a:ext cx="785880" cy="1120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12" name="Object 2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15040" y="2192400"/>
                    <a:ext cx="78588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下弧形箭头 31"/>
          <p:cNvSpPr/>
          <p:nvPr/>
        </p:nvSpPr>
        <p:spPr>
          <a:xfrm>
            <a:off x="4857840" y="3309840"/>
            <a:ext cx="1071360" cy="214560"/>
          </a:xfrm>
          <a:custGeom>
            <a:avLst/>
            <a:gdLst>
              <a:gd name="textAreaLeft" fmla="*/ 247680 w 1071360"/>
              <a:gd name="textAreaRight" fmla="*/ 797040 w 107136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-3649607"/>
                <a:lnTo>
                  <a:pt x="21283" y="5400"/>
                </a:lnTo>
                <a:lnTo>
                  <a:pt x="20520" y="0"/>
                </a:lnTo>
                <a:lnTo>
                  <a:pt x="19123" y="5400"/>
                </a:lnTo>
                <a:lnTo>
                  <a:pt x="19663" y="5400"/>
                </a:lnTo>
                <a:arcTo wR="9990" hR="21600" stAng="1750393" swAng="3563555"/>
                <a:lnTo>
                  <a:pt x="10530" y="21568"/>
                </a:lnTo>
                <a:arcTo wR="9990" hR="21600" stAng="5486052" swAng="5313948"/>
                <a:close/>
              </a:path>
              <a:path fill="darkenLess"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86052"/>
                <a:lnTo>
                  <a:pt x="10530" y="21568"/>
                </a:lnTo>
                <a:arcTo wR="9990" hR="21600" stAng="5486052" swAng="5313948"/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下弧形箭头 32"/>
          <p:cNvSpPr/>
          <p:nvPr/>
        </p:nvSpPr>
        <p:spPr>
          <a:xfrm>
            <a:off x="5929200" y="3309840"/>
            <a:ext cx="1071720" cy="214560"/>
          </a:xfrm>
          <a:custGeom>
            <a:avLst/>
            <a:gdLst>
              <a:gd name="textAreaLeft" fmla="*/ 247680 w 1071720"/>
              <a:gd name="textAreaRight" fmla="*/ 797040 w 10717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-3649607"/>
                <a:lnTo>
                  <a:pt x="21283" y="5400"/>
                </a:lnTo>
                <a:lnTo>
                  <a:pt x="20520" y="0"/>
                </a:lnTo>
                <a:lnTo>
                  <a:pt x="19123" y="5400"/>
                </a:lnTo>
                <a:lnTo>
                  <a:pt x="19663" y="5400"/>
                </a:lnTo>
                <a:arcTo wR="9990" hR="21600" stAng="1750393" swAng="3563555"/>
                <a:lnTo>
                  <a:pt x="10530" y="21568"/>
                </a:lnTo>
                <a:arcTo wR="9990" hR="21600" stAng="5486052" swAng="5313948"/>
                <a:close/>
              </a:path>
              <a:path fill="darkenLess"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86052"/>
                <a:lnTo>
                  <a:pt x="10530" y="21568"/>
                </a:lnTo>
                <a:arcTo wR="9990" hR="21600" stAng="5486052" swAng="5313948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下弧形箭头 40"/>
          <p:cNvSpPr/>
          <p:nvPr/>
        </p:nvSpPr>
        <p:spPr>
          <a:xfrm flipH="1" rot="10800000">
            <a:off x="4929120" y="1881000"/>
            <a:ext cx="1000080" cy="214200"/>
          </a:xfrm>
          <a:custGeom>
            <a:avLst/>
            <a:gdLst>
              <a:gd name="textAreaLeft" fmla="*/ 230040 w 1000080"/>
              <a:gd name="textAreaRight" fmla="*/ 743760 w 10000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32" hR="21600" stAng="10800000" swAng="-5400000"/>
                <a:lnTo>
                  <a:pt x="11090" y="21600"/>
                </a:lnTo>
                <a:arcTo wR="9932" hR="21600" stAng="5400000" swAng="-3641074"/>
                <a:lnTo>
                  <a:pt x="21285" y="5400"/>
                </a:lnTo>
                <a:lnTo>
                  <a:pt x="20443" y="0"/>
                </a:lnTo>
                <a:lnTo>
                  <a:pt x="18971" y="5400"/>
                </a:lnTo>
                <a:lnTo>
                  <a:pt x="19549" y="5400"/>
                </a:lnTo>
                <a:arcTo wR="9932" hR="21600" stAng="1758926" swAng="3548789"/>
                <a:lnTo>
                  <a:pt x="10511" y="21563"/>
                </a:lnTo>
                <a:arcTo wR="9932" hR="21600" stAng="5492286" swAng="5307714"/>
                <a:close/>
              </a:path>
              <a:path fill="darkenLess" w="21600" h="21600">
                <a:moveTo>
                  <a:pt x="0" y="0"/>
                </a:moveTo>
                <a:arcTo wR="9932" hR="21600" stAng="10800000" swAng="-5400000"/>
                <a:lnTo>
                  <a:pt x="11090" y="21600"/>
                </a:lnTo>
                <a:arcTo wR="9932" hR="21600" stAng="5400000" swAng="92286"/>
                <a:lnTo>
                  <a:pt x="10511" y="21563"/>
                </a:lnTo>
                <a:arcTo wR="9932" hR="21600" stAng="5492286" swAng="5307714"/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下弧形箭头 41"/>
          <p:cNvSpPr/>
          <p:nvPr/>
        </p:nvSpPr>
        <p:spPr>
          <a:xfrm flipH="1" rot="10800000">
            <a:off x="5928120" y="1881000"/>
            <a:ext cx="1071720" cy="214200"/>
          </a:xfrm>
          <a:custGeom>
            <a:avLst/>
            <a:gdLst>
              <a:gd name="textAreaLeft" fmla="*/ 247320 w 1071720"/>
              <a:gd name="textAreaRight" fmla="*/ 796680 w 10717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-3649607"/>
                <a:lnTo>
                  <a:pt x="21283" y="5400"/>
                </a:lnTo>
                <a:lnTo>
                  <a:pt x="20520" y="0"/>
                </a:lnTo>
                <a:lnTo>
                  <a:pt x="19123" y="5400"/>
                </a:lnTo>
                <a:lnTo>
                  <a:pt x="19663" y="5400"/>
                </a:lnTo>
                <a:arcTo wR="9990" hR="21600" stAng="1750393" swAng="3563555"/>
                <a:lnTo>
                  <a:pt x="10530" y="21568"/>
                </a:lnTo>
                <a:arcTo wR="9990" hR="21600" stAng="5486052" swAng="5313948"/>
                <a:close/>
              </a:path>
              <a:path fill="darkenLess"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86052"/>
                <a:lnTo>
                  <a:pt x="10530" y="21568"/>
                </a:lnTo>
                <a:arcTo wR="9990" hR="21600" stAng="5486052" swAng="5313948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下弧形箭头 42"/>
          <p:cNvSpPr/>
          <p:nvPr/>
        </p:nvSpPr>
        <p:spPr>
          <a:xfrm>
            <a:off x="2000160" y="5643720"/>
            <a:ext cx="785880" cy="214200"/>
          </a:xfrm>
          <a:custGeom>
            <a:avLst/>
            <a:gdLst>
              <a:gd name="textAreaLeft" fmla="*/ 176400 w 785880"/>
              <a:gd name="textAreaRight" fmla="*/ 582840 w 7858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96" hR="21600" stAng="10800000" swAng="-5400000"/>
                <a:lnTo>
                  <a:pt x="11169" y="21600"/>
                </a:lnTo>
                <a:arcTo wR="9696" hR="21600" stAng="5400000" swAng="-3605484"/>
                <a:lnTo>
                  <a:pt x="21292" y="5400"/>
                </a:lnTo>
                <a:lnTo>
                  <a:pt x="20128" y="0"/>
                </a:lnTo>
                <a:lnTo>
                  <a:pt x="18347" y="5400"/>
                </a:lnTo>
                <a:lnTo>
                  <a:pt x="19083" y="5400"/>
                </a:lnTo>
                <a:arcTo wR="9696" hR="21600" stAng="1794516" swAng="3487973"/>
                <a:lnTo>
                  <a:pt x="10432" y="21538"/>
                </a:lnTo>
                <a:arcTo wR="9696" hR="21600" stAng="5517511" swAng="5282489"/>
                <a:close/>
              </a:path>
              <a:path fill="darkenLess" w="21600" h="21600">
                <a:moveTo>
                  <a:pt x="0" y="0"/>
                </a:moveTo>
                <a:arcTo wR="9696" hR="21600" stAng="10800000" swAng="-5400000"/>
                <a:lnTo>
                  <a:pt x="11169" y="21600"/>
                </a:lnTo>
                <a:arcTo wR="9696" hR="21600" stAng="5400000" swAng="117511"/>
                <a:lnTo>
                  <a:pt x="10432" y="21538"/>
                </a:lnTo>
                <a:arcTo wR="9696" hR="21600" stAng="5517511" swAng="5282489"/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下弧形箭头 43"/>
          <p:cNvSpPr/>
          <p:nvPr/>
        </p:nvSpPr>
        <p:spPr>
          <a:xfrm>
            <a:off x="2857680" y="5643720"/>
            <a:ext cx="928440" cy="214200"/>
          </a:xfrm>
          <a:custGeom>
            <a:avLst/>
            <a:gdLst>
              <a:gd name="textAreaLeft" fmla="*/ 212040 w 928440"/>
              <a:gd name="textAreaRight" fmla="*/ 689760 w 92844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66" hR="21600" stAng="10800000" swAng="-5400000"/>
                <a:lnTo>
                  <a:pt x="11112" y="21600"/>
                </a:lnTo>
                <a:arcTo wR="9866" hR="21600" stAng="5400000" swAng="-3631197"/>
                <a:lnTo>
                  <a:pt x="21287" y="5400"/>
                </a:lnTo>
                <a:lnTo>
                  <a:pt x="20354" y="0"/>
                </a:lnTo>
                <a:lnTo>
                  <a:pt x="18795" y="5400"/>
                </a:lnTo>
                <a:lnTo>
                  <a:pt x="19418" y="5400"/>
                </a:lnTo>
                <a:arcTo wR="9866" hR="21600" stAng="1768803" swAng="3531873"/>
                <a:lnTo>
                  <a:pt x="10489" y="21557"/>
                </a:lnTo>
                <a:arcTo wR="9866" hR="21600" stAng="5499324" swAng="5300676"/>
                <a:close/>
              </a:path>
              <a:path fill="darkenLess" w="21600" h="21600">
                <a:moveTo>
                  <a:pt x="0" y="0"/>
                </a:moveTo>
                <a:arcTo wR="9866" hR="21600" stAng="10800000" swAng="-5400000"/>
                <a:lnTo>
                  <a:pt x="11112" y="21600"/>
                </a:lnTo>
                <a:arcTo wR="9866" hR="21600" stAng="5400000" swAng="99324"/>
                <a:lnTo>
                  <a:pt x="10489" y="21557"/>
                </a:lnTo>
                <a:arcTo wR="9866" hR="21600" stAng="5499324" swAng="5300676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1"/>
          <p:cNvSpPr/>
          <p:nvPr/>
        </p:nvSpPr>
        <p:spPr>
          <a:xfrm>
            <a:off x="2143080" y="5786280"/>
            <a:ext cx="22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×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下弧形箭头 45"/>
          <p:cNvSpPr/>
          <p:nvPr/>
        </p:nvSpPr>
        <p:spPr>
          <a:xfrm flipH="1" rot="10800000">
            <a:off x="2000160" y="4500360"/>
            <a:ext cx="857520" cy="214200"/>
          </a:xfrm>
          <a:custGeom>
            <a:avLst/>
            <a:gdLst>
              <a:gd name="textAreaLeft" fmla="*/ 194400 w 857520"/>
              <a:gd name="textAreaRight" fmla="*/ 636840 w 8575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-3619483"/>
                <a:lnTo>
                  <a:pt x="21289" y="5400"/>
                </a:lnTo>
                <a:lnTo>
                  <a:pt x="20250" y="0"/>
                </a:lnTo>
                <a:lnTo>
                  <a:pt x="18589" y="5400"/>
                </a:lnTo>
                <a:lnTo>
                  <a:pt x="19264" y="5400"/>
                </a:lnTo>
                <a:arcTo wR="9788" hR="21600" stAng="1780517" swAng="3511832"/>
                <a:lnTo>
                  <a:pt x="10462" y="21549"/>
                </a:lnTo>
                <a:arcTo wR="9788" hR="21600" stAng="5507651" swAng="5292349"/>
                <a:close/>
              </a:path>
              <a:path fill="darkenLess"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107651"/>
                <a:lnTo>
                  <a:pt x="10462" y="21549"/>
                </a:lnTo>
                <a:arcTo wR="9788" hR="21600" stAng="5507651" swAng="5292349"/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下弧形箭头 46"/>
          <p:cNvSpPr/>
          <p:nvPr/>
        </p:nvSpPr>
        <p:spPr>
          <a:xfrm flipH="1" rot="10800000">
            <a:off x="2928960" y="4429080"/>
            <a:ext cx="928800" cy="285840"/>
          </a:xfrm>
          <a:custGeom>
            <a:avLst/>
            <a:gdLst>
              <a:gd name="textAreaLeft" fmla="*/ 205200 w 928800"/>
              <a:gd name="textAreaRight" fmla="*/ 687600 w 92880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-3583559"/>
                <a:lnTo>
                  <a:pt x="21297" y="5400"/>
                </a:lnTo>
                <a:lnTo>
                  <a:pt x="19939" y="0"/>
                </a:lnTo>
                <a:lnTo>
                  <a:pt x="17974" y="5400"/>
                </a:lnTo>
                <a:lnTo>
                  <a:pt x="18805" y="5400"/>
                </a:lnTo>
                <a:arcTo wR="9554" hR="21600" stAng="1816441" swAng="3450944"/>
                <a:lnTo>
                  <a:pt x="10385" y="21518"/>
                </a:lnTo>
                <a:arcTo wR="9554" hR="21600" stAng="5532615" swAng="5267385"/>
                <a:close/>
              </a:path>
              <a:path fill="darkenLess" w="21600" h="21600">
                <a:moveTo>
                  <a:pt x="0" y="0"/>
                </a:moveTo>
                <a:arcTo wR="9554" hR="21600" stAng="10800000" swAng="-5400000"/>
                <a:lnTo>
                  <a:pt x="11215" y="21600"/>
                </a:lnTo>
                <a:arcTo wR="9554" hR="21600" stAng="5400000" swAng="132615"/>
                <a:lnTo>
                  <a:pt x="10385" y="21518"/>
                </a:lnTo>
                <a:arcTo wR="9554" hR="21600" stAng="5532615" swAng="5267385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1"/>
          <p:cNvSpPr/>
          <p:nvPr/>
        </p:nvSpPr>
        <p:spPr>
          <a:xfrm>
            <a:off x="2214720" y="39765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1"/>
          <p:cNvSpPr/>
          <p:nvPr/>
        </p:nvSpPr>
        <p:spPr>
          <a:xfrm>
            <a:off x="5172120" y="578628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×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1"/>
          <p:cNvSpPr/>
          <p:nvPr/>
        </p:nvSpPr>
        <p:spPr>
          <a:xfrm>
            <a:off x="5224320" y="4000680"/>
            <a:ext cx="22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下弧形箭头 58"/>
          <p:cNvSpPr/>
          <p:nvPr/>
        </p:nvSpPr>
        <p:spPr>
          <a:xfrm>
            <a:off x="4929120" y="5572080"/>
            <a:ext cx="785880" cy="214200"/>
          </a:xfrm>
          <a:custGeom>
            <a:avLst/>
            <a:gdLst>
              <a:gd name="textAreaLeft" fmla="*/ 176400 w 785880"/>
              <a:gd name="textAreaRight" fmla="*/ 582840 w 7858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96" hR="21600" stAng="10800000" swAng="-5400000"/>
                <a:lnTo>
                  <a:pt x="11169" y="21600"/>
                </a:lnTo>
                <a:arcTo wR="9696" hR="21600" stAng="5400000" swAng="-3605484"/>
                <a:lnTo>
                  <a:pt x="21292" y="5400"/>
                </a:lnTo>
                <a:lnTo>
                  <a:pt x="20128" y="0"/>
                </a:lnTo>
                <a:lnTo>
                  <a:pt x="18347" y="5400"/>
                </a:lnTo>
                <a:lnTo>
                  <a:pt x="19083" y="5400"/>
                </a:lnTo>
                <a:arcTo wR="9696" hR="21600" stAng="1794516" swAng="3487973"/>
                <a:lnTo>
                  <a:pt x="10432" y="21538"/>
                </a:lnTo>
                <a:arcTo wR="9696" hR="21600" stAng="5517511" swAng="5282489"/>
                <a:close/>
              </a:path>
              <a:path fill="darkenLess" w="21600" h="21600">
                <a:moveTo>
                  <a:pt x="0" y="0"/>
                </a:moveTo>
                <a:arcTo wR="9696" hR="21600" stAng="10800000" swAng="-5400000"/>
                <a:lnTo>
                  <a:pt x="11169" y="21600"/>
                </a:lnTo>
                <a:arcTo wR="9696" hR="21600" stAng="5400000" swAng="117511"/>
                <a:lnTo>
                  <a:pt x="10432" y="21538"/>
                </a:lnTo>
                <a:arcTo wR="9696" hR="21600" stAng="5517511" swAng="5282489"/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下弧形箭头 59"/>
          <p:cNvSpPr/>
          <p:nvPr/>
        </p:nvSpPr>
        <p:spPr>
          <a:xfrm>
            <a:off x="5715000" y="5572080"/>
            <a:ext cx="1143000" cy="214200"/>
          </a:xfrm>
          <a:custGeom>
            <a:avLst/>
            <a:gdLst>
              <a:gd name="textAreaLeft" fmla="*/ 265680 w 1143000"/>
              <a:gd name="textAreaRight" fmla="*/ 850680 w 114300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41" hR="21600" stAng="10800000" swAng="-5400000"/>
                <a:lnTo>
                  <a:pt x="11054" y="21600"/>
                </a:lnTo>
                <a:arcTo wR="10041" hR="21600" stAng="5400000" swAng="-3656975"/>
                <a:lnTo>
                  <a:pt x="21281" y="5400"/>
                </a:lnTo>
                <a:lnTo>
                  <a:pt x="20588" y="0"/>
                </a:lnTo>
                <a:lnTo>
                  <a:pt x="19256" y="5400"/>
                </a:lnTo>
                <a:lnTo>
                  <a:pt x="19762" y="5400"/>
                </a:lnTo>
                <a:arcTo wR="10041" hR="21600" stAng="1743025" swAng="3576275"/>
                <a:lnTo>
                  <a:pt x="10547" y="21572"/>
                </a:lnTo>
                <a:arcTo wR="10041" hR="21600" stAng="5480700" swAng="5319300"/>
                <a:close/>
              </a:path>
              <a:path fill="darkenLess" w="21600" h="21600">
                <a:moveTo>
                  <a:pt x="0" y="0"/>
                </a:moveTo>
                <a:arcTo wR="10041" hR="21600" stAng="10800000" swAng="-5400000"/>
                <a:lnTo>
                  <a:pt x="11054" y="21600"/>
                </a:lnTo>
                <a:arcTo wR="10041" hR="21600" stAng="5400000" swAng="80700"/>
                <a:lnTo>
                  <a:pt x="10547" y="21572"/>
                </a:lnTo>
                <a:arcTo wR="10041" hR="21600" stAng="5480700" swAng="5319300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下弧形箭头 60"/>
          <p:cNvSpPr/>
          <p:nvPr/>
        </p:nvSpPr>
        <p:spPr>
          <a:xfrm flipH="1" rot="10800000">
            <a:off x="4928040" y="4500360"/>
            <a:ext cx="785880" cy="214200"/>
          </a:xfrm>
          <a:custGeom>
            <a:avLst/>
            <a:gdLst>
              <a:gd name="textAreaLeft" fmla="*/ 176400 w 785880"/>
              <a:gd name="textAreaRight" fmla="*/ 582840 w 7858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96" hR="21600" stAng="10800000" swAng="-5400000"/>
                <a:lnTo>
                  <a:pt x="11169" y="21600"/>
                </a:lnTo>
                <a:arcTo wR="9696" hR="21600" stAng="5400000" swAng="-3605484"/>
                <a:lnTo>
                  <a:pt x="21292" y="5400"/>
                </a:lnTo>
                <a:lnTo>
                  <a:pt x="20128" y="0"/>
                </a:lnTo>
                <a:lnTo>
                  <a:pt x="18347" y="5400"/>
                </a:lnTo>
                <a:lnTo>
                  <a:pt x="19083" y="5400"/>
                </a:lnTo>
                <a:arcTo wR="9696" hR="21600" stAng="1794516" swAng="3487973"/>
                <a:lnTo>
                  <a:pt x="10432" y="21538"/>
                </a:lnTo>
                <a:arcTo wR="9696" hR="21600" stAng="5517511" swAng="5282489"/>
                <a:close/>
              </a:path>
              <a:path fill="darkenLess" w="21600" h="21600">
                <a:moveTo>
                  <a:pt x="0" y="0"/>
                </a:moveTo>
                <a:arcTo wR="9696" hR="21600" stAng="10800000" swAng="-5400000"/>
                <a:lnTo>
                  <a:pt x="11169" y="21600"/>
                </a:lnTo>
                <a:arcTo wR="9696" hR="21600" stAng="5400000" swAng="117511"/>
                <a:lnTo>
                  <a:pt x="10432" y="21538"/>
                </a:lnTo>
                <a:arcTo wR="9696" hR="21600" stAng="5517511" swAng="5282489"/>
                <a:close/>
              </a:path>
            </a:pathLst>
          </a:cu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下弧形箭头 61"/>
          <p:cNvSpPr/>
          <p:nvPr/>
        </p:nvSpPr>
        <p:spPr>
          <a:xfrm flipH="1" rot="10800000">
            <a:off x="5785200" y="4500360"/>
            <a:ext cx="1071720" cy="214200"/>
          </a:xfrm>
          <a:custGeom>
            <a:avLst/>
            <a:gdLst>
              <a:gd name="textAreaLeft" fmla="*/ 247320 w 1071720"/>
              <a:gd name="textAreaRight" fmla="*/ 796680 w 10717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-3649607"/>
                <a:lnTo>
                  <a:pt x="21283" y="5400"/>
                </a:lnTo>
                <a:lnTo>
                  <a:pt x="20520" y="0"/>
                </a:lnTo>
                <a:lnTo>
                  <a:pt x="19123" y="5400"/>
                </a:lnTo>
                <a:lnTo>
                  <a:pt x="19663" y="5400"/>
                </a:lnTo>
                <a:arcTo wR="9990" hR="21600" stAng="1750393" swAng="3563555"/>
                <a:lnTo>
                  <a:pt x="10530" y="21568"/>
                </a:lnTo>
                <a:arcTo wR="9990" hR="21600" stAng="5486052" swAng="5313948"/>
                <a:close/>
              </a:path>
              <a:path fill="darkenLess" w="21600" h="21600">
                <a:moveTo>
                  <a:pt x="0" y="0"/>
                </a:moveTo>
                <a:arcTo wR="9990" hR="21600" stAng="10800000" swAng="-5400000"/>
                <a:lnTo>
                  <a:pt x="11070" y="21600"/>
                </a:lnTo>
                <a:arcTo wR="9990" hR="21600" stAng="5400000" swAng="86052"/>
                <a:lnTo>
                  <a:pt x="10530" y="21568"/>
                </a:lnTo>
                <a:arcTo wR="9990" hR="21600" stAng="5486052" swAng="5313948"/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1"/>
          <p:cNvSpPr/>
          <p:nvPr/>
        </p:nvSpPr>
        <p:spPr>
          <a:xfrm>
            <a:off x="3371760" y="464976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1"/>
          <p:cNvSpPr/>
          <p:nvPr/>
        </p:nvSpPr>
        <p:spPr>
          <a:xfrm>
            <a:off x="3362400" y="514980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"/>
          <p:cNvSpPr/>
          <p:nvPr/>
        </p:nvSpPr>
        <p:spPr>
          <a:xfrm>
            <a:off x="6357960" y="464976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"/>
          <p:cNvSpPr/>
          <p:nvPr/>
        </p:nvSpPr>
        <p:spPr>
          <a:xfrm>
            <a:off x="6357960" y="514368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"/>
          <p:cNvSpPr/>
          <p:nvPr/>
        </p:nvSpPr>
        <p:spPr>
          <a:xfrm>
            <a:off x="928800" y="3286080"/>
            <a:ext cx="7358040" cy="733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和分数相乘，用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子相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积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母相乘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积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19" descr=""/>
          <p:cNvPicPr/>
          <p:nvPr/>
        </p:nvPicPr>
        <p:blipFill>
          <a:blip r:embed="rId1"/>
          <a:stretch/>
        </p:blipFill>
        <p:spPr>
          <a:xfrm>
            <a:off x="1862280" y="3624120"/>
            <a:ext cx="5209920" cy="13050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8" descr=""/>
          <p:cNvPicPr/>
          <p:nvPr/>
        </p:nvPicPr>
        <p:blipFill>
          <a:blip r:embed="rId2"/>
          <a:stretch/>
        </p:blipFill>
        <p:spPr>
          <a:xfrm>
            <a:off x="1857240" y="2111400"/>
            <a:ext cx="5058000" cy="1419120"/>
          </a:xfrm>
          <a:prstGeom prst="rect">
            <a:avLst/>
          </a:prstGeom>
          <a:ln w="0">
            <a:noFill/>
          </a:ln>
        </p:spPr>
      </p:pic>
      <p:sp>
        <p:nvSpPr>
          <p:cNvPr id="836" name="TextBox 1"/>
          <p:cNvSpPr/>
          <p:nvPr/>
        </p:nvSpPr>
        <p:spPr>
          <a:xfrm>
            <a:off x="1000080" y="857160"/>
            <a:ext cx="6215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试一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先约分再计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1"/>
          <p:cNvSpPr/>
          <p:nvPr/>
        </p:nvSpPr>
        <p:spPr>
          <a:xfrm>
            <a:off x="3857760" y="2286000"/>
            <a:ext cx="8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1"/>
          <p:cNvSpPr/>
          <p:nvPr/>
        </p:nvSpPr>
        <p:spPr>
          <a:xfrm>
            <a:off x="5357880" y="228600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1"/>
          <p:cNvSpPr/>
          <p:nvPr/>
        </p:nvSpPr>
        <p:spPr>
          <a:xfrm>
            <a:off x="3867120" y="288144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1"/>
          <p:cNvSpPr/>
          <p:nvPr/>
        </p:nvSpPr>
        <p:spPr>
          <a:xfrm>
            <a:off x="5357880" y="288144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23"/>
          <p:cNvSpPr/>
          <p:nvPr/>
        </p:nvSpPr>
        <p:spPr>
          <a:xfrm>
            <a:off x="5500800" y="2244600"/>
            <a:ext cx="642960" cy="571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"/>
          <p:cNvSpPr/>
          <p:nvPr/>
        </p:nvSpPr>
        <p:spPr>
          <a:xfrm>
            <a:off x="5581800" y="2000160"/>
            <a:ext cx="8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直接连接符 25"/>
          <p:cNvSpPr/>
          <p:nvPr/>
        </p:nvSpPr>
        <p:spPr>
          <a:xfrm>
            <a:off x="3929040" y="2887560"/>
            <a:ext cx="642960" cy="571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1"/>
          <p:cNvSpPr/>
          <p:nvPr/>
        </p:nvSpPr>
        <p:spPr>
          <a:xfrm>
            <a:off x="3652920" y="302436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Object 8"/>
          <p:cNvGraphicFramePr/>
          <p:nvPr/>
        </p:nvGraphicFramePr>
        <p:xfrm>
          <a:off x="6894360" y="2244600"/>
          <a:ext cx="4636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4360" y="2244600"/>
                    <a:ext cx="4636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7" name="TextBox 1"/>
          <p:cNvSpPr/>
          <p:nvPr/>
        </p:nvSpPr>
        <p:spPr>
          <a:xfrm>
            <a:off x="3938760" y="3720960"/>
            <a:ext cx="8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"/>
          <p:cNvSpPr/>
          <p:nvPr/>
        </p:nvSpPr>
        <p:spPr>
          <a:xfrm>
            <a:off x="5429160" y="372744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"/>
          <p:cNvSpPr/>
          <p:nvPr/>
        </p:nvSpPr>
        <p:spPr>
          <a:xfrm>
            <a:off x="3929040" y="435780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"/>
          <p:cNvSpPr/>
          <p:nvPr/>
        </p:nvSpPr>
        <p:spPr>
          <a:xfrm>
            <a:off x="5419800" y="433404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33"/>
          <p:cNvSpPr/>
          <p:nvPr/>
        </p:nvSpPr>
        <p:spPr>
          <a:xfrm>
            <a:off x="4000680" y="3720960"/>
            <a:ext cx="642600" cy="571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1"/>
          <p:cNvSpPr/>
          <p:nvPr/>
        </p:nvSpPr>
        <p:spPr>
          <a:xfrm>
            <a:off x="4081320" y="343548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37"/>
          <p:cNvSpPr/>
          <p:nvPr/>
        </p:nvSpPr>
        <p:spPr>
          <a:xfrm>
            <a:off x="5500800" y="4363920"/>
            <a:ext cx="642960" cy="571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"/>
          <p:cNvSpPr/>
          <p:nvPr/>
        </p:nvSpPr>
        <p:spPr>
          <a:xfrm>
            <a:off x="5224320" y="454824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21"/>
          <p:cNvGraphicFramePr/>
          <p:nvPr/>
        </p:nvGraphicFramePr>
        <p:xfrm>
          <a:off x="6913440" y="3720960"/>
          <a:ext cx="42732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13440" y="3720960"/>
                    <a:ext cx="4273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7" name="直接连接符 41"/>
          <p:cNvSpPr/>
          <p:nvPr/>
        </p:nvSpPr>
        <p:spPr>
          <a:xfrm>
            <a:off x="5500800" y="3714840"/>
            <a:ext cx="64296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"/>
          <p:cNvSpPr/>
          <p:nvPr/>
        </p:nvSpPr>
        <p:spPr>
          <a:xfrm>
            <a:off x="5581800" y="3429000"/>
            <a:ext cx="8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45"/>
          <p:cNvSpPr/>
          <p:nvPr/>
        </p:nvSpPr>
        <p:spPr>
          <a:xfrm>
            <a:off x="4071960" y="4357800"/>
            <a:ext cx="642960" cy="57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"/>
          <p:cNvSpPr/>
          <p:nvPr/>
        </p:nvSpPr>
        <p:spPr>
          <a:xfrm>
            <a:off x="3724200" y="454824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1"/>
          <p:cNvSpPr/>
          <p:nvPr/>
        </p:nvSpPr>
        <p:spPr>
          <a:xfrm>
            <a:off x="1071720" y="5119560"/>
            <a:ext cx="7429320" cy="7336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和分数相乘，能约分的要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约分再计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矩形 45"/>
          <p:cNvSpPr/>
          <p:nvPr/>
        </p:nvSpPr>
        <p:spPr>
          <a:xfrm>
            <a:off x="2383920" y="1357200"/>
            <a:ext cx="23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想一想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矩形 49"/>
          <p:cNvSpPr/>
          <p:nvPr/>
        </p:nvSpPr>
        <p:spPr>
          <a:xfrm>
            <a:off x="2717280" y="220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40"/>
          <p:cNvSpPr/>
          <p:nvPr/>
        </p:nvSpPr>
        <p:spPr>
          <a:xfrm>
            <a:off x="3004200" y="200016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41"/>
          <p:cNvSpPr/>
          <p:nvPr/>
        </p:nvSpPr>
        <p:spPr>
          <a:xfrm>
            <a:off x="3349800" y="221472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42"/>
          <p:cNvSpPr/>
          <p:nvPr/>
        </p:nvSpPr>
        <p:spPr>
          <a:xfrm>
            <a:off x="3668400" y="200016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43"/>
          <p:cNvSpPr/>
          <p:nvPr/>
        </p:nvSpPr>
        <p:spPr>
          <a:xfrm>
            <a:off x="2413800" y="200016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44"/>
          <p:cNvSpPr/>
          <p:nvPr/>
        </p:nvSpPr>
        <p:spPr>
          <a:xfrm>
            <a:off x="4699800" y="204624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76"/>
          <p:cNvSpPr/>
          <p:nvPr/>
        </p:nvSpPr>
        <p:spPr>
          <a:xfrm>
            <a:off x="2683440" y="3390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46"/>
          <p:cNvSpPr/>
          <p:nvPr/>
        </p:nvSpPr>
        <p:spPr>
          <a:xfrm>
            <a:off x="2977920" y="318924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47"/>
          <p:cNvSpPr/>
          <p:nvPr/>
        </p:nvSpPr>
        <p:spPr>
          <a:xfrm>
            <a:off x="3287880" y="340344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矩形 48"/>
          <p:cNvSpPr/>
          <p:nvPr/>
        </p:nvSpPr>
        <p:spPr>
          <a:xfrm>
            <a:off x="3605760" y="3189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3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9"/>
          <p:cNvSpPr/>
          <p:nvPr/>
        </p:nvSpPr>
        <p:spPr>
          <a:xfrm>
            <a:off x="2413800" y="318924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50"/>
          <p:cNvSpPr/>
          <p:nvPr/>
        </p:nvSpPr>
        <p:spPr>
          <a:xfrm>
            <a:off x="4622040" y="32479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82"/>
          <p:cNvSpPr/>
          <p:nvPr/>
        </p:nvSpPr>
        <p:spPr>
          <a:xfrm>
            <a:off x="2718360" y="4521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52"/>
          <p:cNvSpPr/>
          <p:nvPr/>
        </p:nvSpPr>
        <p:spPr>
          <a:xfrm>
            <a:off x="3012840" y="431964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53"/>
          <p:cNvSpPr/>
          <p:nvPr/>
        </p:nvSpPr>
        <p:spPr>
          <a:xfrm>
            <a:off x="3294360" y="453384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54"/>
          <p:cNvSpPr/>
          <p:nvPr/>
        </p:nvSpPr>
        <p:spPr>
          <a:xfrm>
            <a:off x="3612240" y="439092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7×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55"/>
          <p:cNvSpPr/>
          <p:nvPr/>
        </p:nvSpPr>
        <p:spPr>
          <a:xfrm>
            <a:off x="2423160" y="431964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56"/>
          <p:cNvSpPr/>
          <p:nvPr/>
        </p:nvSpPr>
        <p:spPr>
          <a:xfrm>
            <a:off x="4523760" y="435780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直接连接符 57"/>
          <p:cNvSpPr/>
          <p:nvPr/>
        </p:nvSpPr>
        <p:spPr>
          <a:xfrm>
            <a:off x="3714120" y="2643120"/>
            <a:ext cx="214200" cy="21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直接连接符 58"/>
          <p:cNvSpPr/>
          <p:nvPr/>
        </p:nvSpPr>
        <p:spPr>
          <a:xfrm>
            <a:off x="4214160" y="2143080"/>
            <a:ext cx="214200" cy="21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59"/>
          <p:cNvSpPr/>
          <p:nvPr/>
        </p:nvSpPr>
        <p:spPr>
          <a:xfrm>
            <a:off x="3578400" y="271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60"/>
          <p:cNvSpPr/>
          <p:nvPr/>
        </p:nvSpPr>
        <p:spPr>
          <a:xfrm>
            <a:off x="4345200" y="1895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直接连接符 61"/>
          <p:cNvSpPr/>
          <p:nvPr/>
        </p:nvSpPr>
        <p:spPr>
          <a:xfrm>
            <a:off x="3643200" y="3357720"/>
            <a:ext cx="214560" cy="21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62"/>
          <p:cNvSpPr/>
          <p:nvPr/>
        </p:nvSpPr>
        <p:spPr>
          <a:xfrm>
            <a:off x="3363840" y="3071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直接连接符 63"/>
          <p:cNvSpPr/>
          <p:nvPr/>
        </p:nvSpPr>
        <p:spPr>
          <a:xfrm>
            <a:off x="4214160" y="3786120"/>
            <a:ext cx="214200" cy="21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64"/>
          <p:cNvSpPr/>
          <p:nvPr/>
        </p:nvSpPr>
        <p:spPr>
          <a:xfrm>
            <a:off x="4345200" y="3786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直接连接符 65"/>
          <p:cNvSpPr/>
          <p:nvPr/>
        </p:nvSpPr>
        <p:spPr>
          <a:xfrm>
            <a:off x="4143240" y="3357720"/>
            <a:ext cx="214560" cy="21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66"/>
          <p:cNvSpPr/>
          <p:nvPr/>
        </p:nvSpPr>
        <p:spPr>
          <a:xfrm>
            <a:off x="4273560" y="3071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直接连接符 67"/>
          <p:cNvSpPr/>
          <p:nvPr/>
        </p:nvSpPr>
        <p:spPr>
          <a:xfrm>
            <a:off x="3643200" y="3786120"/>
            <a:ext cx="214560" cy="21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矩形 68"/>
          <p:cNvSpPr/>
          <p:nvPr/>
        </p:nvSpPr>
        <p:spPr>
          <a:xfrm>
            <a:off x="3345120" y="3786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矩形 2"/>
          <p:cNvSpPr/>
          <p:nvPr/>
        </p:nvSpPr>
        <p:spPr>
          <a:xfrm>
            <a:off x="846000" y="928800"/>
            <a:ext cx="7583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、一个书包的原价是</a:t>
            </a:r>
            <a:r>
              <a:rPr b="0" lang="en-US" sz="2800" spc="-1" strike="noStrike">
                <a:solidFill>
                  <a:srgbClr val="0d0d0d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0d0d0d"/>
                </a:solidFill>
                <a:latin typeface="黑体"/>
                <a:ea typeface="黑体"/>
              </a:rPr>
              <a:t>元，打九折后的价钱是多少元？（九折是指现价是原价的   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矩形 8"/>
          <p:cNvSpPr/>
          <p:nvPr/>
        </p:nvSpPr>
        <p:spPr>
          <a:xfrm>
            <a:off x="3674520" y="2608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矩形 9"/>
          <p:cNvSpPr/>
          <p:nvPr/>
        </p:nvSpPr>
        <p:spPr>
          <a:xfrm>
            <a:off x="2439720" y="2604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矩形 10"/>
          <p:cNvSpPr/>
          <p:nvPr/>
        </p:nvSpPr>
        <p:spPr>
          <a:xfrm>
            <a:off x="3013920" y="240336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矩形 11"/>
          <p:cNvSpPr/>
          <p:nvPr/>
        </p:nvSpPr>
        <p:spPr>
          <a:xfrm>
            <a:off x="3970080" y="2604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12"/>
          <p:cNvSpPr/>
          <p:nvPr/>
        </p:nvSpPr>
        <p:spPr>
          <a:xfrm>
            <a:off x="4019400" y="2763720"/>
            <a:ext cx="428760" cy="236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13"/>
          <p:cNvSpPr/>
          <p:nvPr/>
        </p:nvSpPr>
        <p:spPr>
          <a:xfrm>
            <a:off x="4078440" y="2357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14"/>
          <p:cNvSpPr/>
          <p:nvPr/>
        </p:nvSpPr>
        <p:spPr>
          <a:xfrm>
            <a:off x="4921200" y="3110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矩形 15"/>
          <p:cNvSpPr/>
          <p:nvPr/>
        </p:nvSpPr>
        <p:spPr>
          <a:xfrm>
            <a:off x="3174480" y="3548160"/>
            <a:ext cx="30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打九折后的价钱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矩形 16"/>
          <p:cNvSpPr/>
          <p:nvPr/>
        </p:nvSpPr>
        <p:spPr>
          <a:xfrm>
            <a:off x="4528440" y="240336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17"/>
          <p:cNvSpPr/>
          <p:nvPr/>
        </p:nvSpPr>
        <p:spPr>
          <a:xfrm>
            <a:off x="4791240" y="3000240"/>
            <a:ext cx="285480" cy="158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18"/>
          <p:cNvSpPr/>
          <p:nvPr/>
        </p:nvSpPr>
        <p:spPr>
          <a:xfrm>
            <a:off x="5317560" y="2560680"/>
            <a:ext cx="163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5" name="Object 2"/>
          <p:cNvGraphicFramePr/>
          <p:nvPr/>
        </p:nvGraphicFramePr>
        <p:xfrm>
          <a:off x="6286680" y="1571760"/>
          <a:ext cx="42048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571760"/>
                    <a:ext cx="4204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7T06:02:19Z</dcterms:created>
  <dc:creator/>
  <dc:description/>
  <cp:keywords/>
  <dc:language>en-US</dc:language>
  <cp:lastModifiedBy/>
  <dcterms:modified xsi:type="dcterms:W3CDTF">2017-12-20T14:33:50Z</dcterms:modified>
  <cp:revision>1</cp:revision>
  <dc:subject/>
  <dc:title/>
</cp:coreProperties>
</file>