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411-87F6-4BA2-8423-E14203DC15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CF3-3DE7-474B-85A1-A2AB361AB8F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F187-F2C2-4CF9-AB94-C7B9F0294AC6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DB0-78B9-4D5D-9AB7-6A0EC64D3B99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5F7-ECF7-4BC8-A573-430EDDA5082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1C2-DB65-43C7-AFCC-A7D57F0A948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1DFC-9216-4697-BF8D-260B990C144A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B03F-11F4-45D2-BEA2-802F83A8D32F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E44C-4B26-41DA-9C8F-B8865CCB69C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E7B9-86D5-4094-99DA-4305FB18A5E0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E26-8822-4E26-B8B0-CB27CE85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FB4-2C5E-4BEA-A4E1-E903B80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BAD-2188-481A-882E-6D4AEF0A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634-898E-4E1E-8D32-2EAE61CA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AD7-803B-407B-8FA7-D9D2CE26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07D3-D577-4114-BFD2-121F55F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621E-7649-4FB4-A823-66A31DF8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54A2-7461-4C23-937C-E09C270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9F3-40EB-4975-8CCB-E02465A4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A3CA-AFBB-4544-9CF6-AA63C34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C9AA-BEF4-483D-88AB-F4BB6A8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BEE-DA94-4375-A663-BBFB1412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11B-EC7E-469C-A088-C0B6949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0BE2-9357-4FDF-AEA9-BBC59B2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FCC-60FF-46C8-BA28-88D5DAE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7E9-84C6-413D-9784-3B652059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E17-6E16-4881-AD45-F74FEDB9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DF8-090F-4EA3-8580-E5F4699B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F16-183B-41FA-BA67-22529DF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42C-A756-4D8C-9964-0339618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D82-AA4D-4746-A66C-A421AC5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B56-0959-4D8F-B15F-A377011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87E-E80A-46C9-AD3E-CC4D92D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033-264B-4DAA-8250-5C869D5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84A-A36C-4593-B558-01C7FEF5C3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3EA8-D35D-4A0A-BFB8-24799869BD0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slideLayout" Target="../slideLayouts/slideLayout205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217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8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3"/>
          <p:cNvSpPr/>
          <p:nvPr/>
        </p:nvSpPr>
        <p:spPr>
          <a:xfrm>
            <a:off x="1844640" y="185724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2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除法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611280" y="6033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圆角矩形 9"/>
          <p:cNvSpPr/>
          <p:nvPr/>
        </p:nvSpPr>
        <p:spPr>
          <a:xfrm>
            <a:off x="1000080" y="2000160"/>
            <a:ext cx="6983280" cy="16574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整数除以分数等于整数乘这个分数的倒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8"/>
          <p:cNvSpPr/>
          <p:nvPr/>
        </p:nvSpPr>
        <p:spPr>
          <a:xfrm>
            <a:off x="1187280" y="1204920"/>
            <a:ext cx="4857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数除以分数的计算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Box 8"/>
          <p:cNvSpPr/>
          <p:nvPr/>
        </p:nvSpPr>
        <p:spPr>
          <a:xfrm>
            <a:off x="2581200" y="113364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几条裙子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椭圆 10"/>
          <p:cNvSpPr/>
          <p:nvPr/>
        </p:nvSpPr>
        <p:spPr>
          <a:xfrm>
            <a:off x="1747800" y="1271520"/>
            <a:ext cx="2858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矩形 37"/>
          <p:cNvSpPr/>
          <p:nvPr/>
        </p:nvSpPr>
        <p:spPr>
          <a:xfrm>
            <a:off x="4341960" y="1701720"/>
            <a:ext cx="936360" cy="792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Box 8"/>
          <p:cNvSpPr/>
          <p:nvPr/>
        </p:nvSpPr>
        <p:spPr>
          <a:xfrm>
            <a:off x="3962520" y="177336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条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Box 8"/>
          <p:cNvSpPr/>
          <p:nvPr/>
        </p:nvSpPr>
        <p:spPr>
          <a:xfrm>
            <a:off x="1357200" y="2357280"/>
            <a:ext cx="705672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先求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布做几条裙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Box 8"/>
          <p:cNvSpPr/>
          <p:nvPr/>
        </p:nvSpPr>
        <p:spPr>
          <a:xfrm>
            <a:off x="4559400" y="1778040"/>
            <a:ext cx="1073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9" name="Object 75"/>
          <p:cNvGraphicFramePr/>
          <p:nvPr/>
        </p:nvGraphicFramePr>
        <p:xfrm>
          <a:off x="2279520" y="928800"/>
          <a:ext cx="39708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928800"/>
                    <a:ext cx="397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Object 76"/>
          <p:cNvGraphicFramePr/>
          <p:nvPr/>
        </p:nvGraphicFramePr>
        <p:xfrm>
          <a:off x="2890800" y="1643040"/>
          <a:ext cx="152244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2" name="Object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0" y="1643040"/>
                    <a:ext cx="15224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3" name="Object 77"/>
          <p:cNvGraphicFramePr/>
          <p:nvPr/>
        </p:nvGraphicFramePr>
        <p:xfrm>
          <a:off x="2624040" y="3119400"/>
          <a:ext cx="95904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4" name="Object 7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4040" y="3119400"/>
                    <a:ext cx="9590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Object 78"/>
          <p:cNvGraphicFramePr/>
          <p:nvPr/>
        </p:nvGraphicFramePr>
        <p:xfrm>
          <a:off x="3533760" y="3119400"/>
          <a:ext cx="1224000" cy="102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6" name="Object 7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33760" y="3119400"/>
                    <a:ext cx="1224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Object 79"/>
          <p:cNvGraphicFramePr/>
          <p:nvPr/>
        </p:nvGraphicFramePr>
        <p:xfrm>
          <a:off x="4689360" y="3119400"/>
          <a:ext cx="172080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8" name="Object 7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9360" y="3119400"/>
                    <a:ext cx="17208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9" name="组合 84"/>
          <p:cNvGrpSpPr/>
          <p:nvPr/>
        </p:nvGrpSpPr>
        <p:grpSpPr>
          <a:xfrm>
            <a:off x="1676520" y="4191120"/>
            <a:ext cx="6737400" cy="1023840"/>
            <a:chOff x="1676520" y="4191120"/>
            <a:chExt cx="6737400" cy="1023840"/>
          </a:xfrm>
        </p:grpSpPr>
        <p:sp>
          <p:nvSpPr>
            <p:cNvPr id="1220" name="TextBox 8"/>
            <p:cNvSpPr/>
            <p:nvPr/>
          </p:nvSpPr>
          <p:spPr>
            <a:xfrm>
              <a:off x="1862280" y="4214880"/>
              <a:ext cx="6551640" cy="90144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就是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的   ，也就是  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×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1" name="Object 80"/>
            <p:cNvGraphicFramePr/>
            <p:nvPr/>
          </p:nvGraphicFramePr>
          <p:xfrm>
            <a:off x="1676520" y="4191120"/>
            <a:ext cx="396720" cy="102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22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6520" y="4191120"/>
                      <a:ext cx="39672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3" name="Object 81"/>
            <p:cNvGraphicFramePr/>
            <p:nvPr/>
          </p:nvGraphicFramePr>
          <p:xfrm>
            <a:off x="4033800" y="4191120"/>
            <a:ext cx="396720" cy="102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4" name="Object 8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33800" y="4191120"/>
                      <a:ext cx="39672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5" name="Object 82"/>
            <p:cNvGraphicFramePr/>
            <p:nvPr/>
          </p:nvGraphicFramePr>
          <p:xfrm>
            <a:off x="6034320" y="4191120"/>
            <a:ext cx="396720" cy="102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26" name="Object 8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34320" y="4191120"/>
                      <a:ext cx="39672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7" name="Object 83"/>
            <p:cNvGraphicFramePr/>
            <p:nvPr/>
          </p:nvGraphicFramePr>
          <p:xfrm>
            <a:off x="6880320" y="4191120"/>
            <a:ext cx="561960" cy="102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28" name="Object 8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80320" y="4191120"/>
                      <a:ext cx="56196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29" name="Object 84"/>
          <p:cNvGraphicFramePr/>
          <p:nvPr/>
        </p:nvGraphicFramePr>
        <p:xfrm>
          <a:off x="3247920" y="5191200"/>
          <a:ext cx="1521000" cy="102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30" name="Object 8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47920" y="5191200"/>
                    <a:ext cx="1521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1" name="Object 85"/>
          <p:cNvGraphicFramePr/>
          <p:nvPr/>
        </p:nvGraphicFramePr>
        <p:xfrm>
          <a:off x="4702320" y="5143680"/>
          <a:ext cx="1455480" cy="102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32" name="Object 8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02320" y="5143680"/>
                    <a:ext cx="1455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3" name="Object 86"/>
          <p:cNvGraphicFramePr/>
          <p:nvPr/>
        </p:nvGraphicFramePr>
        <p:xfrm>
          <a:off x="6111720" y="5416560"/>
          <a:ext cx="33192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34" name="Object 8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11720" y="5416560"/>
                    <a:ext cx="331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Box 8"/>
          <p:cNvSpPr/>
          <p:nvPr/>
        </p:nvSpPr>
        <p:spPr>
          <a:xfrm>
            <a:off x="2405160" y="106200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几条裙子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椭圆 10"/>
          <p:cNvSpPr/>
          <p:nvPr/>
        </p:nvSpPr>
        <p:spPr>
          <a:xfrm>
            <a:off x="1571760" y="1200240"/>
            <a:ext cx="28548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矩形 37"/>
          <p:cNvSpPr/>
          <p:nvPr/>
        </p:nvSpPr>
        <p:spPr>
          <a:xfrm>
            <a:off x="4710240" y="1630440"/>
            <a:ext cx="93636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Box 8"/>
          <p:cNvSpPr/>
          <p:nvPr/>
        </p:nvSpPr>
        <p:spPr>
          <a:xfrm>
            <a:off x="4357800" y="170172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条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Box 8"/>
          <p:cNvSpPr/>
          <p:nvPr/>
        </p:nvSpPr>
        <p:spPr>
          <a:xfrm>
            <a:off x="2158920" y="2206800"/>
            <a:ext cx="705636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根据商不变的性质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Box 8"/>
          <p:cNvSpPr/>
          <p:nvPr/>
        </p:nvSpPr>
        <p:spPr>
          <a:xfrm>
            <a:off x="4927680" y="1706400"/>
            <a:ext cx="1073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1" name="Object 72"/>
          <p:cNvGraphicFramePr/>
          <p:nvPr/>
        </p:nvGraphicFramePr>
        <p:xfrm>
          <a:off x="2071800" y="857160"/>
          <a:ext cx="39672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2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857160"/>
                    <a:ext cx="39672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3" name="Object 73"/>
          <p:cNvGraphicFramePr/>
          <p:nvPr/>
        </p:nvGraphicFramePr>
        <p:xfrm>
          <a:off x="3143160" y="1547640"/>
          <a:ext cx="1522440" cy="10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1547640"/>
                    <a:ext cx="152244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5" name="Object 74"/>
          <p:cNvGraphicFramePr/>
          <p:nvPr/>
        </p:nvGraphicFramePr>
        <p:xfrm>
          <a:off x="3649680" y="2832120"/>
          <a:ext cx="115740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9680" y="2832120"/>
                    <a:ext cx="1157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7" name="Object 75"/>
          <p:cNvGraphicFramePr/>
          <p:nvPr/>
        </p:nvGraphicFramePr>
        <p:xfrm>
          <a:off x="3286080" y="3854520"/>
          <a:ext cx="3735360" cy="112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8" name="Object 7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3854520"/>
                    <a:ext cx="37353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9" name="Object 76"/>
          <p:cNvGraphicFramePr/>
          <p:nvPr/>
        </p:nvGraphicFramePr>
        <p:xfrm>
          <a:off x="3286080" y="4929120"/>
          <a:ext cx="178452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0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86080" y="4929120"/>
                    <a:ext cx="17845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Object 77"/>
          <p:cNvGraphicFramePr/>
          <p:nvPr/>
        </p:nvGraphicFramePr>
        <p:xfrm>
          <a:off x="3300480" y="5927760"/>
          <a:ext cx="628560" cy="430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2" name="Object 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0480" y="5927760"/>
                    <a:ext cx="6285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圆角矩形 9"/>
          <p:cNvSpPr/>
          <p:nvPr/>
        </p:nvSpPr>
        <p:spPr>
          <a:xfrm>
            <a:off x="468360" y="2060640"/>
            <a:ext cx="7991280" cy="2736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数除以分数的意义与整数除法的意义相同，计算时，分数除以分数可以转化成被除数乘除数的倒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Box 8"/>
          <p:cNvSpPr/>
          <p:nvPr/>
        </p:nvSpPr>
        <p:spPr>
          <a:xfrm>
            <a:off x="1187280" y="1204920"/>
            <a:ext cx="4857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除以分数的计算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Picture 31" descr=""/>
          <p:cNvPicPr/>
          <p:nvPr/>
        </p:nvPicPr>
        <p:blipFill>
          <a:blip r:embed="rId1"/>
          <a:stretch/>
        </p:blipFill>
        <p:spPr>
          <a:xfrm>
            <a:off x="0" y="1925640"/>
            <a:ext cx="8964720" cy="325908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5"/>
          <p:cNvSpPr/>
          <p:nvPr/>
        </p:nvSpPr>
        <p:spPr>
          <a:xfrm>
            <a:off x="720720" y="1357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算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Box 8"/>
          <p:cNvSpPr/>
          <p:nvPr/>
        </p:nvSpPr>
        <p:spPr>
          <a:xfrm>
            <a:off x="1584360" y="2117880"/>
            <a:ext cx="13698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Box 8"/>
          <p:cNvSpPr/>
          <p:nvPr/>
        </p:nvSpPr>
        <p:spPr>
          <a:xfrm>
            <a:off x="1584360" y="3173400"/>
            <a:ext cx="13698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8"/>
          <p:cNvSpPr/>
          <p:nvPr/>
        </p:nvSpPr>
        <p:spPr>
          <a:xfrm>
            <a:off x="1357200" y="4181400"/>
            <a:ext cx="137016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Box 8"/>
          <p:cNvSpPr/>
          <p:nvPr/>
        </p:nvSpPr>
        <p:spPr>
          <a:xfrm>
            <a:off x="3527280" y="2165400"/>
            <a:ext cx="137016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8"/>
          <p:cNvSpPr/>
          <p:nvPr/>
        </p:nvSpPr>
        <p:spPr>
          <a:xfrm>
            <a:off x="3600360" y="3173400"/>
            <a:ext cx="137016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Box 8"/>
          <p:cNvSpPr/>
          <p:nvPr/>
        </p:nvSpPr>
        <p:spPr>
          <a:xfrm>
            <a:off x="3600360" y="4181400"/>
            <a:ext cx="137016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3" name="Object 39"/>
          <p:cNvGraphicFramePr/>
          <p:nvPr/>
        </p:nvGraphicFramePr>
        <p:xfrm>
          <a:off x="6037200" y="2023920"/>
          <a:ext cx="928800" cy="10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4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37200" y="2023920"/>
                    <a:ext cx="92880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5" name="Object 40"/>
          <p:cNvGraphicFramePr/>
          <p:nvPr/>
        </p:nvGraphicFramePr>
        <p:xfrm>
          <a:off x="6058080" y="3070080"/>
          <a:ext cx="728640" cy="102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6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58080" y="3070080"/>
                    <a:ext cx="7286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7" name="Object 41"/>
          <p:cNvGraphicFramePr/>
          <p:nvPr/>
        </p:nvGraphicFramePr>
        <p:xfrm>
          <a:off x="6058080" y="4095720"/>
          <a:ext cx="728640" cy="102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8" name="Object 4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58080" y="4095720"/>
                    <a:ext cx="7286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9" name="Object 42"/>
          <p:cNvGraphicFramePr/>
          <p:nvPr/>
        </p:nvGraphicFramePr>
        <p:xfrm>
          <a:off x="8209080" y="2023920"/>
          <a:ext cx="728640" cy="102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0" name="Object 4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209080" y="2023920"/>
                    <a:ext cx="72864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1" name="Object 43"/>
          <p:cNvGraphicFramePr/>
          <p:nvPr/>
        </p:nvGraphicFramePr>
        <p:xfrm>
          <a:off x="8143920" y="3071880"/>
          <a:ext cx="927000" cy="102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2" name="Object 4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43920" y="3071880"/>
                    <a:ext cx="927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3" name="Object 44"/>
          <p:cNvGraphicFramePr/>
          <p:nvPr/>
        </p:nvGraphicFramePr>
        <p:xfrm>
          <a:off x="8143920" y="4392720"/>
          <a:ext cx="62856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74" name="Object 4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143920" y="4392720"/>
                    <a:ext cx="6285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Text Box 5"/>
          <p:cNvSpPr/>
          <p:nvPr/>
        </p:nvSpPr>
        <p:spPr>
          <a:xfrm>
            <a:off x="75564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Picture 9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81720" cy="107604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8"/>
          <p:cNvSpPr/>
          <p:nvPr/>
        </p:nvSpPr>
        <p:spPr>
          <a:xfrm>
            <a:off x="1987560" y="3500280"/>
            <a:ext cx="1370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组合 25"/>
          <p:cNvGrpSpPr/>
          <p:nvPr/>
        </p:nvGrpSpPr>
        <p:grpSpPr>
          <a:xfrm>
            <a:off x="2700360" y="3284640"/>
            <a:ext cx="1008000" cy="1054080"/>
            <a:chOff x="2700360" y="3284640"/>
            <a:chExt cx="1008000" cy="1054080"/>
          </a:xfrm>
        </p:grpSpPr>
        <p:sp>
          <p:nvSpPr>
            <p:cNvPr id="1279" name="TextBox 8"/>
            <p:cNvSpPr/>
            <p:nvPr/>
          </p:nvSpPr>
          <p:spPr>
            <a:xfrm>
              <a:off x="2700360" y="3284640"/>
              <a:ext cx="577440" cy="627840"/>
            </a:xfrm>
            <a:custGeom>
              <a:avLst/>
              <a:gdLst>
                <a:gd name="textAreaLeft" fmla="*/ 53640 w 577440"/>
                <a:gd name="textAreaRight" fmla="*/ 523800 w 57744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484">
                  <a:moveTo>
                    <a:pt x="6866" y="0"/>
                  </a:moveTo>
                  <a:arcTo wR="6866" hR="6866" stAng="16200000" swAng="-5400000"/>
                  <a:lnTo>
                    <a:pt x="0" y="16618"/>
                  </a:lnTo>
                  <a:arcTo wR="6866" hR="6866" stAng="10800000" swAng="-5400000"/>
                  <a:lnTo>
                    <a:pt x="14734" y="23484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直接连接符 14"/>
            <p:cNvSpPr/>
            <p:nvPr/>
          </p:nvSpPr>
          <p:spPr>
            <a:xfrm>
              <a:off x="2701800" y="3843360"/>
              <a:ext cx="50328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TextBox 8"/>
            <p:cNvSpPr/>
            <p:nvPr/>
          </p:nvSpPr>
          <p:spPr>
            <a:xfrm>
              <a:off x="2700360" y="3699360"/>
              <a:ext cx="10080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TextBox 8"/>
          <p:cNvSpPr/>
          <p:nvPr/>
        </p:nvSpPr>
        <p:spPr>
          <a:xfrm>
            <a:off x="3201840" y="3500280"/>
            <a:ext cx="1370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8"/>
          <p:cNvSpPr/>
          <p:nvPr/>
        </p:nvSpPr>
        <p:spPr>
          <a:xfrm>
            <a:off x="3635280" y="3500280"/>
            <a:ext cx="1370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组合 25"/>
          <p:cNvGrpSpPr/>
          <p:nvPr/>
        </p:nvGrpSpPr>
        <p:grpSpPr>
          <a:xfrm>
            <a:off x="4349880" y="3284640"/>
            <a:ext cx="1008000" cy="1072800"/>
            <a:chOff x="4349880" y="3284640"/>
            <a:chExt cx="1008000" cy="1072800"/>
          </a:xfrm>
        </p:grpSpPr>
        <p:sp>
          <p:nvSpPr>
            <p:cNvPr id="1285" name="TextBox 8"/>
            <p:cNvSpPr/>
            <p:nvPr/>
          </p:nvSpPr>
          <p:spPr>
            <a:xfrm>
              <a:off x="4349880" y="3284640"/>
              <a:ext cx="577440" cy="627840"/>
            </a:xfrm>
            <a:custGeom>
              <a:avLst/>
              <a:gdLst>
                <a:gd name="textAreaLeft" fmla="*/ 53640 w 577440"/>
                <a:gd name="textAreaRight" fmla="*/ 523800 w 57744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484">
                  <a:moveTo>
                    <a:pt x="6866" y="0"/>
                  </a:moveTo>
                  <a:arcTo wR="6866" hR="6866" stAng="16200000" swAng="-5400000"/>
                  <a:lnTo>
                    <a:pt x="0" y="16618"/>
                  </a:lnTo>
                  <a:arcTo wR="6866" hR="6866" stAng="10800000" swAng="-5400000"/>
                  <a:lnTo>
                    <a:pt x="14734" y="23484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直接连接符 22"/>
            <p:cNvSpPr/>
            <p:nvPr/>
          </p:nvSpPr>
          <p:spPr>
            <a:xfrm>
              <a:off x="4351320" y="3843360"/>
              <a:ext cx="50328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TextBox 8"/>
            <p:cNvSpPr/>
            <p:nvPr/>
          </p:nvSpPr>
          <p:spPr>
            <a:xfrm>
              <a:off x="4349880" y="3718080"/>
              <a:ext cx="100800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TextBox 8"/>
          <p:cNvSpPr/>
          <p:nvPr/>
        </p:nvSpPr>
        <p:spPr>
          <a:xfrm>
            <a:off x="4786200" y="3500280"/>
            <a:ext cx="21621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Box 8"/>
          <p:cNvSpPr/>
          <p:nvPr/>
        </p:nvSpPr>
        <p:spPr>
          <a:xfrm>
            <a:off x="2411280" y="4657680"/>
            <a:ext cx="4248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它的长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5"/>
          <p:cNvSpPr/>
          <p:nvPr/>
        </p:nvSpPr>
        <p:spPr>
          <a:xfrm>
            <a:off x="2390760" y="4500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提出什么问题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6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组合 54"/>
          <p:cNvGrpSpPr/>
          <p:nvPr/>
        </p:nvGrpSpPr>
        <p:grpSpPr>
          <a:xfrm>
            <a:off x="1157400" y="1916280"/>
            <a:ext cx="7200720" cy="1726920"/>
            <a:chOff x="1157400" y="1916280"/>
            <a:chExt cx="7200720" cy="1726920"/>
          </a:xfrm>
        </p:grpSpPr>
        <p:grpSp>
          <p:nvGrpSpPr>
            <p:cNvPr id="953" name="组合 46"/>
            <p:cNvGrpSpPr/>
            <p:nvPr/>
          </p:nvGrpSpPr>
          <p:grpSpPr>
            <a:xfrm>
              <a:off x="1157400" y="1916280"/>
              <a:ext cx="7200720" cy="1726920"/>
              <a:chOff x="1157400" y="1916280"/>
              <a:chExt cx="7200720" cy="1726920"/>
            </a:xfrm>
          </p:grpSpPr>
          <p:sp>
            <p:nvSpPr>
              <p:cNvPr id="954" name="TextBox 8"/>
              <p:cNvSpPr/>
              <p:nvPr/>
            </p:nvSpPr>
            <p:spPr>
              <a:xfrm>
                <a:off x="1157400" y="1916280"/>
                <a:ext cx="7200720" cy="90144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用一个长方形表示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米布，把它平均分成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份，其中的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份就是   米。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" name="组合 25"/>
              <p:cNvGrpSpPr/>
              <p:nvPr/>
            </p:nvGrpSpPr>
            <p:grpSpPr>
              <a:xfrm>
                <a:off x="4469760" y="2526120"/>
                <a:ext cx="936000" cy="1117080"/>
                <a:chOff x="4469760" y="2526120"/>
                <a:chExt cx="936000" cy="1117080"/>
              </a:xfrm>
            </p:grpSpPr>
            <p:sp>
              <p:nvSpPr>
                <p:cNvPr id="956" name="TextBox 8"/>
                <p:cNvSpPr/>
                <p:nvPr/>
              </p:nvSpPr>
              <p:spPr>
                <a:xfrm>
                  <a:off x="4469760" y="2526120"/>
                  <a:ext cx="577080" cy="628200"/>
                </a:xfrm>
                <a:custGeom>
                  <a:avLst/>
                  <a:gdLst>
                    <a:gd name="textAreaLeft" fmla="*/ 53640 w 577080"/>
                    <a:gd name="textAreaRight" fmla="*/ 523440 w 577080"/>
                    <a:gd name="textAreaTop" fmla="*/ 53640 h 628200"/>
                    <a:gd name="textAreaBottom" fmla="*/ 574560 h 628200"/>
                  </a:gdLst>
                  <a:ahLst/>
                  <a:rect l="textAreaLeft" t="textAreaTop" r="textAreaRight" b="textAreaBottom"/>
                  <a:pathLst>
                    <a:path w="21600" h="23512">
                      <a:moveTo>
                        <a:pt x="6866" y="0"/>
                      </a:moveTo>
                      <a:arcTo wR="6866" hR="6866" stAng="16200000" swAng="-5400000"/>
                      <a:lnTo>
                        <a:pt x="0" y="16646"/>
                      </a:lnTo>
                      <a:arcTo wR="6866" hR="6866" stAng="10800000" swAng="-5400000"/>
                      <a:lnTo>
                        <a:pt x="14734" y="23512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TextBox 8"/>
                <p:cNvSpPr/>
                <p:nvPr/>
              </p:nvSpPr>
              <p:spPr>
                <a:xfrm>
                  <a:off x="4470840" y="3003840"/>
                  <a:ext cx="93492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8" name="直接连接符 50"/>
            <p:cNvSpPr/>
            <p:nvPr/>
          </p:nvSpPr>
          <p:spPr>
            <a:xfrm>
              <a:off x="4471920" y="3094200"/>
              <a:ext cx="50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组合 53"/>
          <p:cNvGrpSpPr/>
          <p:nvPr/>
        </p:nvGrpSpPr>
        <p:grpSpPr>
          <a:xfrm>
            <a:off x="1200240" y="1928880"/>
            <a:ext cx="7200720" cy="1714320"/>
            <a:chOff x="1200240" y="1928880"/>
            <a:chExt cx="7200720" cy="1714320"/>
          </a:xfrm>
        </p:grpSpPr>
        <p:sp>
          <p:nvSpPr>
            <p:cNvPr id="960" name="TextBox 8"/>
            <p:cNvSpPr/>
            <p:nvPr/>
          </p:nvSpPr>
          <p:spPr>
            <a:xfrm>
              <a:off x="1200240" y="1928880"/>
              <a:ext cx="7200720" cy="90144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要求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布可以做多少个小书信袋，也就是求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里面有多少个   米。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组合 25"/>
            <p:cNvGrpSpPr/>
            <p:nvPr/>
          </p:nvGrpSpPr>
          <p:grpSpPr>
            <a:xfrm>
              <a:off x="4477680" y="2525400"/>
              <a:ext cx="936000" cy="1117800"/>
              <a:chOff x="4477680" y="2525400"/>
              <a:chExt cx="936000" cy="1117800"/>
            </a:xfrm>
          </p:grpSpPr>
          <p:sp>
            <p:nvSpPr>
              <p:cNvPr id="962" name="TextBox 8"/>
              <p:cNvSpPr/>
              <p:nvPr/>
            </p:nvSpPr>
            <p:spPr>
              <a:xfrm>
                <a:off x="4477680" y="252540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Box 8"/>
              <p:cNvSpPr/>
              <p:nvPr/>
            </p:nvSpPr>
            <p:spPr>
              <a:xfrm>
                <a:off x="4478760" y="300384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直接连接符 51"/>
            <p:cNvSpPr/>
            <p:nvPr/>
          </p:nvSpPr>
          <p:spPr>
            <a:xfrm>
              <a:off x="4468680" y="3071880"/>
              <a:ext cx="502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TextBox 8"/>
          <p:cNvSpPr/>
          <p:nvPr/>
        </p:nvSpPr>
        <p:spPr>
          <a:xfrm>
            <a:off x="1444680" y="89208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多少个小书信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椭圆 10"/>
          <p:cNvSpPr/>
          <p:nvPr/>
        </p:nvSpPr>
        <p:spPr>
          <a:xfrm>
            <a:off x="1042920" y="1030320"/>
            <a:ext cx="2858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Box 8"/>
          <p:cNvSpPr/>
          <p:nvPr/>
        </p:nvSpPr>
        <p:spPr>
          <a:xfrm>
            <a:off x="2525760" y="1603440"/>
            <a:ext cx="2736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怎样列算式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组合 25"/>
          <p:cNvGrpSpPr/>
          <p:nvPr/>
        </p:nvGrpSpPr>
        <p:grpSpPr>
          <a:xfrm>
            <a:off x="3173400" y="1397160"/>
            <a:ext cx="934920" cy="1071360"/>
            <a:chOff x="3173400" y="1397160"/>
            <a:chExt cx="934920" cy="1071360"/>
          </a:xfrm>
        </p:grpSpPr>
        <p:sp>
          <p:nvSpPr>
            <p:cNvPr id="969" name="TextBox 8"/>
            <p:cNvSpPr/>
            <p:nvPr/>
          </p:nvSpPr>
          <p:spPr>
            <a:xfrm>
              <a:off x="3173400" y="1397160"/>
              <a:ext cx="576720" cy="62820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8200"/>
                <a:gd name="textAreaBottom" fmla="*/ 574560 h 628200"/>
              </a:gdLst>
              <a:ahLst/>
              <a:rect l="textAreaLeft" t="textAreaTop" r="textAreaRight" b="textAreaBottom"/>
              <a:pathLst>
                <a:path w="21600" h="23527">
                  <a:moveTo>
                    <a:pt x="6866" y="0"/>
                  </a:moveTo>
                  <a:arcTo wR="6866" hR="6866" stAng="16200000" swAng="-5400000"/>
                  <a:lnTo>
                    <a:pt x="0" y="16661"/>
                  </a:lnTo>
                  <a:arcTo wR="6866" hR="6866" stAng="10800000" swAng="-5400000"/>
                  <a:lnTo>
                    <a:pt x="14734" y="23527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直接连接符 23"/>
            <p:cNvSpPr/>
            <p:nvPr/>
          </p:nvSpPr>
          <p:spPr>
            <a:xfrm>
              <a:off x="3174840" y="19288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Box 8"/>
            <p:cNvSpPr/>
            <p:nvPr/>
          </p:nvSpPr>
          <p:spPr>
            <a:xfrm>
              <a:off x="3173760" y="1829160"/>
              <a:ext cx="9345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TextBox 8"/>
          <p:cNvSpPr/>
          <p:nvPr/>
        </p:nvSpPr>
        <p:spPr>
          <a:xfrm>
            <a:off x="2525760" y="154764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Box 8"/>
          <p:cNvSpPr/>
          <p:nvPr/>
        </p:nvSpPr>
        <p:spPr>
          <a:xfrm>
            <a:off x="2165400" y="155088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矩形 37"/>
          <p:cNvSpPr/>
          <p:nvPr/>
        </p:nvSpPr>
        <p:spPr>
          <a:xfrm>
            <a:off x="4181400" y="1467000"/>
            <a:ext cx="93672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8"/>
          <p:cNvSpPr/>
          <p:nvPr/>
        </p:nvSpPr>
        <p:spPr>
          <a:xfrm>
            <a:off x="3603600" y="155880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（个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矩形 41"/>
          <p:cNvSpPr/>
          <p:nvPr/>
        </p:nvSpPr>
        <p:spPr>
          <a:xfrm>
            <a:off x="1012680" y="436572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矩形 42"/>
          <p:cNvSpPr/>
          <p:nvPr/>
        </p:nvSpPr>
        <p:spPr>
          <a:xfrm>
            <a:off x="173196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矩形 43"/>
          <p:cNvSpPr/>
          <p:nvPr/>
        </p:nvSpPr>
        <p:spPr>
          <a:xfrm>
            <a:off x="2452680" y="436572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矩形 44"/>
          <p:cNvSpPr/>
          <p:nvPr/>
        </p:nvSpPr>
        <p:spPr>
          <a:xfrm>
            <a:off x="317196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矩形 45"/>
          <p:cNvSpPr/>
          <p:nvPr/>
        </p:nvSpPr>
        <p:spPr>
          <a:xfrm>
            <a:off x="389268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右大括号 47"/>
          <p:cNvSpPr/>
          <p:nvPr/>
        </p:nvSpPr>
        <p:spPr>
          <a:xfrm rot="16200000">
            <a:off x="2650320" y="2400840"/>
            <a:ext cx="325440" cy="360072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3600720"/>
              <a:gd name="textAreaBottom" fmla="*/ 34765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3"/>
                  <a:pt x="10800" y="2386"/>
                </a:cubicBezTo>
                <a:lnTo>
                  <a:pt x="10800" y="8414"/>
                </a:lnTo>
                <a:cubicBezTo>
                  <a:pt x="10800" y="9607"/>
                  <a:pt x="16200" y="10800"/>
                  <a:pt x="21600" y="10800"/>
                </a:cubicBezTo>
                <a:cubicBezTo>
                  <a:pt x="16200" y="10800"/>
                  <a:pt x="10800" y="11993"/>
                  <a:pt x="10800" y="13186"/>
                </a:cubicBezTo>
                <a:lnTo>
                  <a:pt x="10800" y="19214"/>
                </a:lnTo>
                <a:cubicBezTo>
                  <a:pt x="10800" y="2040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Box 8"/>
          <p:cNvSpPr/>
          <p:nvPr/>
        </p:nvSpPr>
        <p:spPr>
          <a:xfrm>
            <a:off x="2452680" y="357192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右大括号 49"/>
          <p:cNvSpPr/>
          <p:nvPr/>
        </p:nvSpPr>
        <p:spPr>
          <a:xfrm rot="5400000">
            <a:off x="1317240" y="5132160"/>
            <a:ext cx="135000" cy="744840"/>
          </a:xfrm>
          <a:custGeom>
            <a:avLst/>
            <a:gdLst>
              <a:gd name="textAreaLeft" fmla="*/ 0 w 135000"/>
              <a:gd name="textAreaRight" fmla="*/ 48600 w 135000"/>
              <a:gd name="textAreaTop" fmla="*/ 51480 h 744840"/>
              <a:gd name="textAreaBottom" fmla="*/ 693360 h 7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2"/>
                  <a:pt x="10800" y="4784"/>
                </a:cubicBezTo>
                <a:lnTo>
                  <a:pt x="10800" y="6016"/>
                </a:lnTo>
                <a:cubicBezTo>
                  <a:pt x="10800" y="8408"/>
                  <a:pt x="16200" y="10800"/>
                  <a:pt x="21600" y="10800"/>
                </a:cubicBezTo>
                <a:cubicBezTo>
                  <a:pt x="16200" y="10800"/>
                  <a:pt x="10800" y="13192"/>
                  <a:pt x="10800" y="15584"/>
                </a:cubicBezTo>
                <a:lnTo>
                  <a:pt x="10800" y="16816"/>
                </a:lnTo>
                <a:cubicBezTo>
                  <a:pt x="10800" y="1920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组合 43"/>
          <p:cNvGrpSpPr/>
          <p:nvPr/>
        </p:nvGrpSpPr>
        <p:grpSpPr>
          <a:xfrm>
            <a:off x="1074600" y="5357880"/>
            <a:ext cx="968400" cy="1071360"/>
            <a:chOff x="1074600" y="5357880"/>
            <a:chExt cx="968400" cy="1071360"/>
          </a:xfrm>
        </p:grpSpPr>
        <p:grpSp>
          <p:nvGrpSpPr>
            <p:cNvPr id="985" name="组合 25"/>
            <p:cNvGrpSpPr/>
            <p:nvPr/>
          </p:nvGrpSpPr>
          <p:grpSpPr>
            <a:xfrm>
              <a:off x="1074600" y="5357880"/>
              <a:ext cx="938520" cy="1071360"/>
              <a:chOff x="1074600" y="5357880"/>
              <a:chExt cx="938520" cy="1071360"/>
            </a:xfrm>
          </p:grpSpPr>
          <p:sp>
            <p:nvSpPr>
              <p:cNvPr id="986" name="TextBox 8"/>
              <p:cNvSpPr/>
              <p:nvPr/>
            </p:nvSpPr>
            <p:spPr>
              <a:xfrm>
                <a:off x="1074600" y="5357880"/>
                <a:ext cx="577440" cy="628200"/>
              </a:xfrm>
              <a:custGeom>
                <a:avLst/>
                <a:gdLst>
                  <a:gd name="textAreaLeft" fmla="*/ 53640 w 577440"/>
                  <a:gd name="textAreaRight" fmla="*/ 523800 w 57744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498">
                    <a:moveTo>
                      <a:pt x="6866" y="0"/>
                    </a:moveTo>
                    <a:arcTo wR="6866" hR="6866" stAng="16200000" swAng="-5400000"/>
                    <a:lnTo>
                      <a:pt x="0" y="16632"/>
                    </a:lnTo>
                    <a:arcTo wR="6866" hR="6866" stAng="10800000" swAng="-5400000"/>
                    <a:lnTo>
                      <a:pt x="14734" y="23498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直接连接符 55"/>
              <p:cNvSpPr/>
              <p:nvPr/>
            </p:nvSpPr>
            <p:spPr>
              <a:xfrm>
                <a:off x="1076040" y="5902200"/>
                <a:ext cx="505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TextBox 8"/>
              <p:cNvSpPr/>
              <p:nvPr/>
            </p:nvSpPr>
            <p:spPr>
              <a:xfrm>
                <a:off x="1077120" y="5789880"/>
                <a:ext cx="93600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TextBox 8"/>
            <p:cNvSpPr/>
            <p:nvPr/>
          </p:nvSpPr>
          <p:spPr>
            <a:xfrm>
              <a:off x="1464840" y="5565240"/>
              <a:ext cx="578160" cy="627840"/>
            </a:xfrm>
            <a:custGeom>
              <a:avLst/>
              <a:gdLst>
                <a:gd name="textAreaLeft" fmla="*/ 53640 w 578160"/>
                <a:gd name="textAreaRight" fmla="*/ 524520 w 57816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455">
                  <a:moveTo>
                    <a:pt x="6866" y="0"/>
                  </a:moveTo>
                  <a:arcTo wR="6866" hR="6866" stAng="16200000" swAng="-5400000"/>
                  <a:lnTo>
                    <a:pt x="0" y="16589"/>
                  </a:lnTo>
                  <a:arcTo wR="6866" hR="6866" stAng="10800000" swAng="-5400000"/>
                  <a:lnTo>
                    <a:pt x="14734" y="23455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矩形 69"/>
          <p:cNvSpPr/>
          <p:nvPr/>
        </p:nvSpPr>
        <p:spPr>
          <a:xfrm>
            <a:off x="4613400" y="4365720"/>
            <a:ext cx="7189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矩形 70"/>
          <p:cNvSpPr/>
          <p:nvPr/>
        </p:nvSpPr>
        <p:spPr>
          <a:xfrm>
            <a:off x="533232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矩形 71"/>
          <p:cNvSpPr/>
          <p:nvPr/>
        </p:nvSpPr>
        <p:spPr>
          <a:xfrm>
            <a:off x="6053040" y="436572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矩形 72"/>
          <p:cNvSpPr/>
          <p:nvPr/>
        </p:nvSpPr>
        <p:spPr>
          <a:xfrm>
            <a:off x="677232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矩形 73"/>
          <p:cNvSpPr/>
          <p:nvPr/>
        </p:nvSpPr>
        <p:spPr>
          <a:xfrm>
            <a:off x="7493040" y="436572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右大括号 74"/>
          <p:cNvSpPr/>
          <p:nvPr/>
        </p:nvSpPr>
        <p:spPr>
          <a:xfrm rot="16200000">
            <a:off x="6250680" y="2400840"/>
            <a:ext cx="325440" cy="360036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3600360"/>
              <a:gd name="textAreaBottom" fmla="*/ 34761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3"/>
                  <a:pt x="10800" y="2386"/>
                </a:cubicBezTo>
                <a:lnTo>
                  <a:pt x="10800" y="8414"/>
                </a:lnTo>
                <a:cubicBezTo>
                  <a:pt x="10800" y="9607"/>
                  <a:pt x="16200" y="10800"/>
                  <a:pt x="21600" y="10800"/>
                </a:cubicBezTo>
                <a:cubicBezTo>
                  <a:pt x="16200" y="10800"/>
                  <a:pt x="10800" y="11993"/>
                  <a:pt x="10800" y="13186"/>
                </a:cubicBezTo>
                <a:lnTo>
                  <a:pt x="10800" y="19214"/>
                </a:lnTo>
                <a:cubicBezTo>
                  <a:pt x="10800" y="2040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Box 8"/>
          <p:cNvSpPr/>
          <p:nvPr/>
        </p:nvSpPr>
        <p:spPr>
          <a:xfrm>
            <a:off x="6053040" y="357192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右大括号 76"/>
          <p:cNvSpPr/>
          <p:nvPr/>
        </p:nvSpPr>
        <p:spPr>
          <a:xfrm rot="16200000">
            <a:off x="4446360" y="18720"/>
            <a:ext cx="325440" cy="720900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7209000"/>
              <a:gd name="textAreaBottom" fmla="*/ 7084800 h 720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6"/>
                  <a:pt x="10800" y="1192"/>
                </a:cubicBezTo>
                <a:lnTo>
                  <a:pt x="10800" y="9608"/>
                </a:lnTo>
                <a:cubicBezTo>
                  <a:pt x="10800" y="10204"/>
                  <a:pt x="16200" y="10800"/>
                  <a:pt x="21600" y="10800"/>
                </a:cubicBezTo>
                <a:cubicBezTo>
                  <a:pt x="16200" y="10800"/>
                  <a:pt x="10800" y="11396"/>
                  <a:pt x="10800" y="11992"/>
                </a:cubicBezTo>
                <a:lnTo>
                  <a:pt x="10800" y="20408"/>
                </a:lnTo>
                <a:cubicBezTo>
                  <a:pt x="10800" y="210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Box 8"/>
          <p:cNvSpPr/>
          <p:nvPr/>
        </p:nvSpPr>
        <p:spPr>
          <a:xfrm>
            <a:off x="4253040" y="288432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8"/>
          <p:cNvSpPr/>
          <p:nvPr/>
        </p:nvSpPr>
        <p:spPr>
          <a:xfrm>
            <a:off x="1544760" y="928800"/>
            <a:ext cx="6984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多少个小书信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椭圆 10"/>
          <p:cNvSpPr/>
          <p:nvPr/>
        </p:nvSpPr>
        <p:spPr>
          <a:xfrm>
            <a:off x="1143000" y="1066680"/>
            <a:ext cx="2858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组合 25"/>
          <p:cNvGrpSpPr/>
          <p:nvPr/>
        </p:nvGrpSpPr>
        <p:grpSpPr>
          <a:xfrm>
            <a:off x="3273480" y="1366920"/>
            <a:ext cx="934920" cy="1071360"/>
            <a:chOff x="3273480" y="1366920"/>
            <a:chExt cx="934920" cy="1071360"/>
          </a:xfrm>
        </p:grpSpPr>
        <p:sp>
          <p:nvSpPr>
            <p:cNvPr id="1002" name="TextBox 8"/>
            <p:cNvSpPr/>
            <p:nvPr/>
          </p:nvSpPr>
          <p:spPr>
            <a:xfrm>
              <a:off x="3273480" y="1366920"/>
              <a:ext cx="576720" cy="62820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8200"/>
                <a:gd name="textAreaBottom" fmla="*/ 574560 h 628200"/>
              </a:gdLst>
              <a:ahLst/>
              <a:rect l="textAreaLeft" t="textAreaTop" r="textAreaRight" b="textAreaBottom"/>
              <a:pathLst>
                <a:path w="21600" h="23527">
                  <a:moveTo>
                    <a:pt x="6866" y="0"/>
                  </a:moveTo>
                  <a:arcTo wR="6866" hR="6866" stAng="16200000" swAng="-5400000"/>
                  <a:lnTo>
                    <a:pt x="0" y="16661"/>
                  </a:lnTo>
                  <a:arcTo wR="6866" hR="6866" stAng="10800000" swAng="-5400000"/>
                  <a:lnTo>
                    <a:pt x="14734" y="23527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直接连接符 23"/>
            <p:cNvSpPr/>
            <p:nvPr/>
          </p:nvSpPr>
          <p:spPr>
            <a:xfrm>
              <a:off x="3274920" y="19461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TextBox 8"/>
            <p:cNvSpPr/>
            <p:nvPr/>
          </p:nvSpPr>
          <p:spPr>
            <a:xfrm>
              <a:off x="3273840" y="1798920"/>
              <a:ext cx="9345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TextBox 8"/>
          <p:cNvSpPr/>
          <p:nvPr/>
        </p:nvSpPr>
        <p:spPr>
          <a:xfrm>
            <a:off x="2625840" y="158436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Box 8"/>
          <p:cNvSpPr/>
          <p:nvPr/>
        </p:nvSpPr>
        <p:spPr>
          <a:xfrm>
            <a:off x="2265480" y="158760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矩形 37"/>
          <p:cNvSpPr/>
          <p:nvPr/>
        </p:nvSpPr>
        <p:spPr>
          <a:xfrm>
            <a:off x="4281480" y="149688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3703680" y="156852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（个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Picture 3" descr=""/>
          <p:cNvPicPr/>
          <p:nvPr/>
        </p:nvPicPr>
        <p:blipFill>
          <a:blip r:embed="rId1"/>
          <a:stretch/>
        </p:blipFill>
        <p:spPr>
          <a:xfrm>
            <a:off x="752400" y="2432160"/>
            <a:ext cx="3863880" cy="191448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63"/>
          <p:cNvGrpSpPr/>
          <p:nvPr/>
        </p:nvGrpSpPr>
        <p:grpSpPr>
          <a:xfrm>
            <a:off x="4610160" y="2441520"/>
            <a:ext cx="4105080" cy="1711080"/>
            <a:chOff x="4610160" y="2441520"/>
            <a:chExt cx="4105080" cy="1711080"/>
          </a:xfrm>
        </p:grpSpPr>
        <p:sp>
          <p:nvSpPr>
            <p:cNvPr id="1011" name="TextBox 8"/>
            <p:cNvSpPr/>
            <p:nvPr/>
          </p:nvSpPr>
          <p:spPr>
            <a:xfrm>
              <a:off x="4610160" y="2445480"/>
              <a:ext cx="4105080" cy="168732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里面有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   ，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里面有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×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个    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组合 25"/>
            <p:cNvGrpSpPr/>
            <p:nvPr/>
          </p:nvGrpSpPr>
          <p:grpSpPr>
            <a:xfrm>
              <a:off x="6698520" y="2441520"/>
              <a:ext cx="936360" cy="1071360"/>
              <a:chOff x="6698520" y="2441520"/>
              <a:chExt cx="936360" cy="1071360"/>
            </a:xfrm>
          </p:grpSpPr>
          <p:sp>
            <p:nvSpPr>
              <p:cNvPr id="1013" name="TextBox 8"/>
              <p:cNvSpPr/>
              <p:nvPr/>
            </p:nvSpPr>
            <p:spPr>
              <a:xfrm>
                <a:off x="6698520" y="244152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直接连接符 57"/>
              <p:cNvSpPr/>
              <p:nvPr/>
            </p:nvSpPr>
            <p:spPr>
              <a:xfrm>
                <a:off x="6702120" y="3009960"/>
                <a:ext cx="50184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Box 8"/>
              <p:cNvSpPr/>
              <p:nvPr/>
            </p:nvSpPr>
            <p:spPr>
              <a:xfrm>
                <a:off x="6699600" y="2873520"/>
                <a:ext cx="9352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组合 25"/>
            <p:cNvGrpSpPr/>
            <p:nvPr/>
          </p:nvGrpSpPr>
          <p:grpSpPr>
            <a:xfrm>
              <a:off x="7130880" y="3081240"/>
              <a:ext cx="936360" cy="1071360"/>
              <a:chOff x="7130880" y="3081240"/>
              <a:chExt cx="936360" cy="1071360"/>
            </a:xfrm>
          </p:grpSpPr>
          <p:sp>
            <p:nvSpPr>
              <p:cNvPr id="1017" name="TextBox 8"/>
              <p:cNvSpPr/>
              <p:nvPr/>
            </p:nvSpPr>
            <p:spPr>
              <a:xfrm>
                <a:off x="7130880" y="308124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直接连接符 61"/>
              <p:cNvSpPr/>
              <p:nvPr/>
            </p:nvSpPr>
            <p:spPr>
              <a:xfrm>
                <a:off x="7134120" y="3652920"/>
                <a:ext cx="50328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TextBox 8"/>
              <p:cNvSpPr/>
              <p:nvPr/>
            </p:nvSpPr>
            <p:spPr>
              <a:xfrm>
                <a:off x="7131960" y="3513240"/>
                <a:ext cx="9352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0" name="组合 25"/>
          <p:cNvGrpSpPr/>
          <p:nvPr/>
        </p:nvGrpSpPr>
        <p:grpSpPr>
          <a:xfrm>
            <a:off x="3273480" y="4160880"/>
            <a:ext cx="934920" cy="1226160"/>
            <a:chOff x="3273480" y="4160880"/>
            <a:chExt cx="934920" cy="1226160"/>
          </a:xfrm>
        </p:grpSpPr>
        <p:sp>
          <p:nvSpPr>
            <p:cNvPr id="1021" name="TextBox 8"/>
            <p:cNvSpPr/>
            <p:nvPr/>
          </p:nvSpPr>
          <p:spPr>
            <a:xfrm>
              <a:off x="3273480" y="4160880"/>
              <a:ext cx="577080" cy="688680"/>
            </a:xfrm>
            <a:custGeom>
              <a:avLst/>
              <a:gdLst>
                <a:gd name="textAreaLeft" fmla="*/ 53640 w 577080"/>
                <a:gd name="textAreaRight" fmla="*/ 523440 w 577080"/>
                <a:gd name="textAreaTop" fmla="*/ 53640 h 688680"/>
                <a:gd name="textAreaBottom" fmla="*/ 635040 h 688680"/>
              </a:gdLst>
              <a:ahLst/>
              <a:rect l="textAreaLeft" t="textAreaTop" r="textAreaRight" b="textAreaBottom"/>
              <a:pathLst>
                <a:path w="21600" h="25775">
                  <a:moveTo>
                    <a:pt x="6866" y="0"/>
                  </a:moveTo>
                  <a:arcTo wR="6866" hR="6866" stAng="16200000" swAng="-5400000"/>
                  <a:lnTo>
                    <a:pt x="0" y="18909"/>
                  </a:lnTo>
                  <a:arcTo wR="6866" hR="6866" stAng="10800000" swAng="-5400000"/>
                  <a:lnTo>
                    <a:pt x="14734" y="25775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直接连接符 79"/>
            <p:cNvSpPr/>
            <p:nvPr/>
          </p:nvSpPr>
          <p:spPr>
            <a:xfrm>
              <a:off x="3274920" y="4795920"/>
              <a:ext cx="5032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Box 8"/>
            <p:cNvSpPr/>
            <p:nvPr/>
          </p:nvSpPr>
          <p:spPr>
            <a:xfrm>
              <a:off x="3273480" y="4673160"/>
              <a:ext cx="934920" cy="7138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TextBox 8"/>
          <p:cNvSpPr/>
          <p:nvPr/>
        </p:nvSpPr>
        <p:spPr>
          <a:xfrm>
            <a:off x="2335320" y="4386240"/>
            <a:ext cx="165708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Box 8"/>
          <p:cNvSpPr/>
          <p:nvPr/>
        </p:nvSpPr>
        <p:spPr>
          <a:xfrm>
            <a:off x="3778200" y="4384800"/>
            <a:ext cx="165564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×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5145120" y="4379760"/>
            <a:ext cx="165564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Box 8"/>
          <p:cNvSpPr/>
          <p:nvPr/>
        </p:nvSpPr>
        <p:spPr>
          <a:xfrm>
            <a:off x="4289400" y="1568520"/>
            <a:ext cx="107172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"/>
          <p:cNvSpPr/>
          <p:nvPr/>
        </p:nvSpPr>
        <p:spPr>
          <a:xfrm>
            <a:off x="1112760" y="5456160"/>
            <a:ext cx="66960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答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小书信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Box 8"/>
          <p:cNvSpPr/>
          <p:nvPr/>
        </p:nvSpPr>
        <p:spPr>
          <a:xfrm>
            <a:off x="2268360" y="2532240"/>
            <a:ext cx="576360" cy="62784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528">
                <a:moveTo>
                  <a:pt x="6866" y="0"/>
                </a:moveTo>
                <a:arcTo wR="6866" hR="6866" stAng="16200000" swAng="-5400000"/>
                <a:lnTo>
                  <a:pt x="0" y="16662"/>
                </a:lnTo>
                <a:arcTo wR="6866" hR="6866" stAng="10800000" swAng="-5400000"/>
                <a:lnTo>
                  <a:pt x="14734" y="23528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直接连接符 88"/>
          <p:cNvSpPr/>
          <p:nvPr/>
        </p:nvSpPr>
        <p:spPr>
          <a:xfrm>
            <a:off x="2270160" y="3143160"/>
            <a:ext cx="503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Box 8"/>
          <p:cNvSpPr/>
          <p:nvPr/>
        </p:nvSpPr>
        <p:spPr>
          <a:xfrm>
            <a:off x="2268360" y="3000240"/>
            <a:ext cx="935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Box 8"/>
          <p:cNvSpPr/>
          <p:nvPr/>
        </p:nvSpPr>
        <p:spPr>
          <a:xfrm>
            <a:off x="1547640" y="2781360"/>
            <a:ext cx="720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Box 8"/>
          <p:cNvSpPr/>
          <p:nvPr/>
        </p:nvSpPr>
        <p:spPr>
          <a:xfrm>
            <a:off x="2844720" y="2778120"/>
            <a:ext cx="1295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Box 8"/>
          <p:cNvSpPr/>
          <p:nvPr/>
        </p:nvSpPr>
        <p:spPr>
          <a:xfrm>
            <a:off x="3565440" y="2820960"/>
            <a:ext cx="576360" cy="62784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528">
                <a:moveTo>
                  <a:pt x="6866" y="0"/>
                </a:moveTo>
                <a:arcTo wR="6866" hR="6866" stAng="16200000" swAng="-5400000"/>
                <a:lnTo>
                  <a:pt x="0" y="16662"/>
                </a:lnTo>
                <a:arcTo wR="6866" hR="6866" stAng="10800000" swAng="-5400000"/>
                <a:lnTo>
                  <a:pt x="14734" y="23528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Box 8"/>
          <p:cNvSpPr/>
          <p:nvPr/>
        </p:nvSpPr>
        <p:spPr>
          <a:xfrm>
            <a:off x="4068720" y="2778120"/>
            <a:ext cx="719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Box 8"/>
          <p:cNvSpPr/>
          <p:nvPr/>
        </p:nvSpPr>
        <p:spPr>
          <a:xfrm>
            <a:off x="4933800" y="2781360"/>
            <a:ext cx="576360" cy="62784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528">
                <a:moveTo>
                  <a:pt x="6866" y="0"/>
                </a:moveTo>
                <a:arcTo wR="6866" hR="6866" stAng="16200000" swAng="-5400000"/>
                <a:lnTo>
                  <a:pt x="0" y="16662"/>
                </a:lnTo>
                <a:arcTo wR="6866" hR="6866" stAng="10800000" swAng="-5400000"/>
                <a:lnTo>
                  <a:pt x="14734" y="23528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Box 8"/>
          <p:cNvSpPr/>
          <p:nvPr/>
        </p:nvSpPr>
        <p:spPr>
          <a:xfrm>
            <a:off x="5437080" y="2778120"/>
            <a:ext cx="1295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Box 8"/>
          <p:cNvSpPr/>
          <p:nvPr/>
        </p:nvSpPr>
        <p:spPr>
          <a:xfrm>
            <a:off x="6013440" y="2781360"/>
            <a:ext cx="9349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9" name="肘形连接符 140"/>
          <p:cNvCxnSpPr>
            <a:stCxn id="1032" idx="2"/>
            <a:endCxn id="1035" idx="2"/>
          </p:cNvCxnSpPr>
          <p:nvPr/>
        </p:nvCxnSpPr>
        <p:spPr>
          <a:xfrm flipH="1" flipV="1" rot="5400000">
            <a:off x="3165840" y="2158200"/>
            <a:ext cx="3960" cy="2521800"/>
          </a:xfrm>
          <a:prstGeom prst="bentConnector3">
            <a:avLst>
              <a:gd name="adj1" fmla="val -7200000"/>
            </a:avLst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40" name="TextBox 8"/>
          <p:cNvSpPr/>
          <p:nvPr/>
        </p:nvSpPr>
        <p:spPr>
          <a:xfrm>
            <a:off x="2500200" y="3643200"/>
            <a:ext cx="1727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变乘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Box 8"/>
          <p:cNvSpPr/>
          <p:nvPr/>
        </p:nvSpPr>
        <p:spPr>
          <a:xfrm>
            <a:off x="1260360" y="2781360"/>
            <a:ext cx="7192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肘形连接符 140"/>
          <p:cNvCxnSpPr>
            <a:stCxn id="1029" idx="0"/>
            <a:endCxn id="1036" idx="0"/>
          </p:cNvCxnSpPr>
          <p:nvPr/>
        </p:nvCxnSpPr>
        <p:spPr>
          <a:xfrm flipH="1" rot="16200000">
            <a:off x="3764160" y="1323720"/>
            <a:ext cx="249840" cy="2666160"/>
          </a:xfrm>
          <a:prstGeom prst="bentConnector3">
            <a:avLst>
              <a:gd name="adj1" fmla="val -9163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3" name="TextBox 8"/>
          <p:cNvSpPr/>
          <p:nvPr/>
        </p:nvSpPr>
        <p:spPr>
          <a:xfrm>
            <a:off x="3214800" y="1646280"/>
            <a:ext cx="1728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倒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组合 55"/>
          <p:cNvGrpSpPr/>
          <p:nvPr/>
        </p:nvGrpSpPr>
        <p:grpSpPr>
          <a:xfrm>
            <a:off x="785880" y="4357800"/>
            <a:ext cx="8891640" cy="1115640"/>
            <a:chOff x="785880" y="4357800"/>
            <a:chExt cx="8891640" cy="1115640"/>
          </a:xfrm>
        </p:grpSpPr>
        <p:sp>
          <p:nvSpPr>
            <p:cNvPr id="1045" name="TextBox 8"/>
            <p:cNvSpPr/>
            <p:nvPr/>
          </p:nvSpPr>
          <p:spPr>
            <a:xfrm>
              <a:off x="785880" y="4573800"/>
              <a:ext cx="889164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   互为倒数，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除以   等于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乘   的倒数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6" name="组合 25"/>
            <p:cNvGrpSpPr/>
            <p:nvPr/>
          </p:nvGrpSpPr>
          <p:grpSpPr>
            <a:xfrm>
              <a:off x="1531800" y="4357800"/>
              <a:ext cx="938160" cy="1053720"/>
              <a:chOff x="1531800" y="4357800"/>
              <a:chExt cx="938160" cy="1053720"/>
            </a:xfrm>
          </p:grpSpPr>
          <p:sp>
            <p:nvSpPr>
              <p:cNvPr id="1047" name="TextBox 8"/>
              <p:cNvSpPr/>
              <p:nvPr/>
            </p:nvSpPr>
            <p:spPr>
              <a:xfrm>
                <a:off x="1534680" y="4357800"/>
                <a:ext cx="577080" cy="62784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499">
                    <a:moveTo>
                      <a:pt x="6866" y="0"/>
                    </a:moveTo>
                    <a:arcTo wR="6866" hR="6866" stAng="16200000" swAng="-5400000"/>
                    <a:lnTo>
                      <a:pt x="0" y="16633"/>
                    </a:lnTo>
                    <a:arcTo wR="6866" hR="6866" stAng="10800000" swAng="-5400000"/>
                    <a:lnTo>
                      <a:pt x="14734" y="23499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直接连接符 176"/>
              <p:cNvSpPr/>
              <p:nvPr/>
            </p:nvSpPr>
            <p:spPr>
              <a:xfrm>
                <a:off x="1531800" y="4886280"/>
                <a:ext cx="503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TextBox 8"/>
              <p:cNvSpPr/>
              <p:nvPr/>
            </p:nvSpPr>
            <p:spPr>
              <a:xfrm>
                <a:off x="1534680" y="4772160"/>
                <a:ext cx="9352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组合 25"/>
            <p:cNvGrpSpPr/>
            <p:nvPr/>
          </p:nvGrpSpPr>
          <p:grpSpPr>
            <a:xfrm>
              <a:off x="4672080" y="4357800"/>
              <a:ext cx="934920" cy="1115640"/>
              <a:chOff x="4672080" y="4357800"/>
              <a:chExt cx="934920" cy="1115640"/>
            </a:xfrm>
          </p:grpSpPr>
          <p:sp>
            <p:nvSpPr>
              <p:cNvPr id="1051" name="TextBox 8"/>
              <p:cNvSpPr/>
              <p:nvPr/>
            </p:nvSpPr>
            <p:spPr>
              <a:xfrm>
                <a:off x="4672440" y="4357800"/>
                <a:ext cx="577080" cy="62784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499">
                    <a:moveTo>
                      <a:pt x="6866" y="0"/>
                    </a:moveTo>
                    <a:arcTo wR="6866" hR="6866" stAng="16200000" swAng="-5400000"/>
                    <a:lnTo>
                      <a:pt x="0" y="16633"/>
                    </a:lnTo>
                    <a:arcTo wR="6866" hR="6866" stAng="10800000" swAng="-5400000"/>
                    <a:lnTo>
                      <a:pt x="14734" y="23499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直接连接符 49"/>
              <p:cNvSpPr/>
              <p:nvPr/>
            </p:nvSpPr>
            <p:spPr>
              <a:xfrm>
                <a:off x="4674960" y="4915080"/>
                <a:ext cx="503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TextBox 8"/>
              <p:cNvSpPr/>
              <p:nvPr/>
            </p:nvSpPr>
            <p:spPr>
              <a:xfrm>
                <a:off x="4672080" y="483408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组合 25"/>
            <p:cNvGrpSpPr/>
            <p:nvPr/>
          </p:nvGrpSpPr>
          <p:grpSpPr>
            <a:xfrm>
              <a:off x="6461280" y="4357800"/>
              <a:ext cx="1003320" cy="1115640"/>
              <a:chOff x="6461280" y="4357800"/>
              <a:chExt cx="1003320" cy="1115640"/>
            </a:xfrm>
          </p:grpSpPr>
          <p:sp>
            <p:nvSpPr>
              <p:cNvPr id="1055" name="TextBox 8"/>
              <p:cNvSpPr/>
              <p:nvPr/>
            </p:nvSpPr>
            <p:spPr>
              <a:xfrm>
                <a:off x="6530040" y="4357800"/>
                <a:ext cx="577080" cy="62784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7840"/>
                  <a:gd name="textAreaBottom" fmla="*/ 574200 h 627840"/>
                </a:gdLst>
                <a:ahLst/>
                <a:rect l="textAreaLeft" t="textAreaTop" r="textAreaRight" b="textAreaBottom"/>
                <a:pathLst>
                  <a:path w="21600" h="23499">
                    <a:moveTo>
                      <a:pt x="6866" y="0"/>
                    </a:moveTo>
                    <a:arcTo wR="6866" hR="6866" stAng="16200000" swAng="-5400000"/>
                    <a:lnTo>
                      <a:pt x="0" y="16633"/>
                    </a:lnTo>
                    <a:arcTo wR="6866" hR="6866" stAng="10800000" swAng="-5400000"/>
                    <a:lnTo>
                      <a:pt x="14734" y="23499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直接连接符 53"/>
              <p:cNvSpPr/>
              <p:nvPr/>
            </p:nvSpPr>
            <p:spPr>
              <a:xfrm>
                <a:off x="6461280" y="4915080"/>
                <a:ext cx="503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Box 8"/>
              <p:cNvSpPr/>
              <p:nvPr/>
            </p:nvSpPr>
            <p:spPr>
              <a:xfrm>
                <a:off x="6529320" y="4834080"/>
                <a:ext cx="93528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Box 8"/>
          <p:cNvSpPr/>
          <p:nvPr/>
        </p:nvSpPr>
        <p:spPr>
          <a:xfrm>
            <a:off x="1187280" y="91908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多少个大书信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椭圆 10"/>
          <p:cNvSpPr/>
          <p:nvPr/>
        </p:nvSpPr>
        <p:spPr>
          <a:xfrm>
            <a:off x="785880" y="1057320"/>
            <a:ext cx="285840" cy="285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Box 8"/>
          <p:cNvSpPr/>
          <p:nvPr/>
        </p:nvSpPr>
        <p:spPr>
          <a:xfrm>
            <a:off x="2195640" y="1630440"/>
            <a:ext cx="2736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怎样列算式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组合 25"/>
          <p:cNvGrpSpPr/>
          <p:nvPr/>
        </p:nvGrpSpPr>
        <p:grpSpPr>
          <a:xfrm>
            <a:off x="2916360" y="1424160"/>
            <a:ext cx="934920" cy="1071360"/>
            <a:chOff x="2916360" y="1424160"/>
            <a:chExt cx="934920" cy="1071360"/>
          </a:xfrm>
        </p:grpSpPr>
        <p:sp>
          <p:nvSpPr>
            <p:cNvPr id="1062" name="TextBox 8"/>
            <p:cNvSpPr/>
            <p:nvPr/>
          </p:nvSpPr>
          <p:spPr>
            <a:xfrm>
              <a:off x="2916360" y="1424160"/>
              <a:ext cx="576720" cy="62820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8200"/>
                <a:gd name="textAreaBottom" fmla="*/ 574560 h 628200"/>
              </a:gdLst>
              <a:ahLst/>
              <a:rect l="textAreaLeft" t="textAreaTop" r="textAreaRight" b="textAreaBottom"/>
              <a:pathLst>
                <a:path w="21600" h="23527">
                  <a:moveTo>
                    <a:pt x="6866" y="0"/>
                  </a:moveTo>
                  <a:arcTo wR="6866" hR="6866" stAng="16200000" swAng="-5400000"/>
                  <a:lnTo>
                    <a:pt x="0" y="16661"/>
                  </a:lnTo>
                  <a:arcTo wR="6866" hR="6866" stAng="10800000" swAng="-5400000"/>
                  <a:lnTo>
                    <a:pt x="14734" y="23527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直接连接符 98"/>
            <p:cNvSpPr/>
            <p:nvPr/>
          </p:nvSpPr>
          <p:spPr>
            <a:xfrm>
              <a:off x="2917800" y="200016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TextBox 8"/>
            <p:cNvSpPr/>
            <p:nvPr/>
          </p:nvSpPr>
          <p:spPr>
            <a:xfrm>
              <a:off x="2916720" y="1856160"/>
              <a:ext cx="9345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TextBox 8"/>
          <p:cNvSpPr/>
          <p:nvPr/>
        </p:nvSpPr>
        <p:spPr>
          <a:xfrm>
            <a:off x="2268360" y="1655640"/>
            <a:ext cx="578160" cy="627840"/>
          </a:xfrm>
          <a:custGeom>
            <a:avLst/>
            <a:gdLst>
              <a:gd name="textAreaLeft" fmla="*/ 53640 w 578160"/>
              <a:gd name="textAreaRight" fmla="*/ 524520 w 5781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55">
                <a:moveTo>
                  <a:pt x="6866" y="0"/>
                </a:moveTo>
                <a:arcTo wR="6866" hR="6866" stAng="16200000" swAng="-5400000"/>
                <a:lnTo>
                  <a:pt x="0" y="16589"/>
                </a:lnTo>
                <a:arcTo wR="6866" hR="6866" stAng="10800000" swAng="-5400000"/>
                <a:lnTo>
                  <a:pt x="14734" y="23455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Box 8"/>
          <p:cNvSpPr/>
          <p:nvPr/>
        </p:nvSpPr>
        <p:spPr>
          <a:xfrm>
            <a:off x="1908000" y="1657440"/>
            <a:ext cx="578160" cy="627840"/>
          </a:xfrm>
          <a:custGeom>
            <a:avLst/>
            <a:gdLst>
              <a:gd name="textAreaLeft" fmla="*/ 53640 w 578160"/>
              <a:gd name="textAreaRight" fmla="*/ 524520 w 5781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55">
                <a:moveTo>
                  <a:pt x="6866" y="0"/>
                </a:moveTo>
                <a:arcTo wR="6866" hR="6866" stAng="16200000" swAng="-5400000"/>
                <a:lnTo>
                  <a:pt x="0" y="16589"/>
                </a:lnTo>
                <a:arcTo wR="6866" hR="6866" stAng="10800000" swAng="-5400000"/>
                <a:lnTo>
                  <a:pt x="14734" y="23455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矩形 102"/>
          <p:cNvSpPr/>
          <p:nvPr/>
        </p:nvSpPr>
        <p:spPr>
          <a:xfrm>
            <a:off x="3924360" y="1494000"/>
            <a:ext cx="93672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Box 8"/>
          <p:cNvSpPr/>
          <p:nvPr/>
        </p:nvSpPr>
        <p:spPr>
          <a:xfrm>
            <a:off x="3346560" y="158580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（个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组合 104"/>
          <p:cNvGrpSpPr/>
          <p:nvPr/>
        </p:nvGrpSpPr>
        <p:grpSpPr>
          <a:xfrm>
            <a:off x="900000" y="2063880"/>
            <a:ext cx="7201080" cy="1727280"/>
            <a:chOff x="900000" y="2063880"/>
            <a:chExt cx="7201080" cy="1727280"/>
          </a:xfrm>
        </p:grpSpPr>
        <p:sp>
          <p:nvSpPr>
            <p:cNvPr id="1070" name="TextBox 8"/>
            <p:cNvSpPr/>
            <p:nvPr/>
          </p:nvSpPr>
          <p:spPr>
            <a:xfrm>
              <a:off x="900000" y="2063880"/>
              <a:ext cx="7201080" cy="90144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用一个长方形表示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布，把它平均分成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份，其中的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份就是   米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组合 25"/>
            <p:cNvGrpSpPr/>
            <p:nvPr/>
          </p:nvGrpSpPr>
          <p:grpSpPr>
            <a:xfrm>
              <a:off x="4212360" y="2720160"/>
              <a:ext cx="936000" cy="1071000"/>
              <a:chOff x="4212360" y="2720160"/>
              <a:chExt cx="936000" cy="1071000"/>
            </a:xfrm>
          </p:grpSpPr>
          <p:sp>
            <p:nvSpPr>
              <p:cNvPr id="1072" name="TextBox 8"/>
              <p:cNvSpPr/>
              <p:nvPr/>
            </p:nvSpPr>
            <p:spPr>
              <a:xfrm>
                <a:off x="4212360" y="272016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直接连接符 108"/>
              <p:cNvSpPr/>
              <p:nvPr/>
            </p:nvSpPr>
            <p:spPr>
              <a:xfrm>
                <a:off x="4214520" y="3214800"/>
                <a:ext cx="503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TextBox 8"/>
              <p:cNvSpPr/>
              <p:nvPr/>
            </p:nvSpPr>
            <p:spPr>
              <a:xfrm>
                <a:off x="4213440" y="315180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5" name="矩形 110"/>
          <p:cNvSpPr/>
          <p:nvPr/>
        </p:nvSpPr>
        <p:spPr>
          <a:xfrm>
            <a:off x="755640" y="429588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矩形 111"/>
          <p:cNvSpPr/>
          <p:nvPr/>
        </p:nvSpPr>
        <p:spPr>
          <a:xfrm>
            <a:off x="147492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矩形 112"/>
          <p:cNvSpPr/>
          <p:nvPr/>
        </p:nvSpPr>
        <p:spPr>
          <a:xfrm>
            <a:off x="2195640" y="4295880"/>
            <a:ext cx="7189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矩形 113"/>
          <p:cNvSpPr/>
          <p:nvPr/>
        </p:nvSpPr>
        <p:spPr>
          <a:xfrm>
            <a:off x="291456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矩形 114"/>
          <p:cNvSpPr/>
          <p:nvPr/>
        </p:nvSpPr>
        <p:spPr>
          <a:xfrm>
            <a:off x="363528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右大括号 115"/>
          <p:cNvSpPr/>
          <p:nvPr/>
        </p:nvSpPr>
        <p:spPr>
          <a:xfrm rot="16200000">
            <a:off x="2392920" y="2259720"/>
            <a:ext cx="325440" cy="360036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3600360"/>
              <a:gd name="textAreaBottom" fmla="*/ 34761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3"/>
                  <a:pt x="10800" y="2386"/>
                </a:cubicBezTo>
                <a:lnTo>
                  <a:pt x="10800" y="8414"/>
                </a:lnTo>
                <a:cubicBezTo>
                  <a:pt x="10800" y="9607"/>
                  <a:pt x="16200" y="10800"/>
                  <a:pt x="21600" y="10800"/>
                </a:cubicBezTo>
                <a:cubicBezTo>
                  <a:pt x="16200" y="10800"/>
                  <a:pt x="10800" y="11993"/>
                  <a:pt x="10800" y="13186"/>
                </a:cubicBezTo>
                <a:lnTo>
                  <a:pt x="10800" y="19214"/>
                </a:lnTo>
                <a:cubicBezTo>
                  <a:pt x="10800" y="2040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Box 8"/>
          <p:cNvSpPr/>
          <p:nvPr/>
        </p:nvSpPr>
        <p:spPr>
          <a:xfrm>
            <a:off x="2195640" y="343044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右大括号 117"/>
          <p:cNvSpPr/>
          <p:nvPr/>
        </p:nvSpPr>
        <p:spPr>
          <a:xfrm rot="5400000">
            <a:off x="1312920" y="4800600"/>
            <a:ext cx="325440" cy="144000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1440000"/>
              <a:gd name="textAreaBottom" fmla="*/ 13158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83"/>
                  <a:pt x="10800" y="5966"/>
                </a:cubicBezTo>
                <a:lnTo>
                  <a:pt x="10800" y="4834"/>
                </a:lnTo>
                <a:cubicBezTo>
                  <a:pt x="10800" y="7817"/>
                  <a:pt x="16200" y="10800"/>
                  <a:pt x="21600" y="10800"/>
                </a:cubicBezTo>
                <a:cubicBezTo>
                  <a:pt x="16200" y="10800"/>
                  <a:pt x="10800" y="13783"/>
                  <a:pt x="10800" y="16766"/>
                </a:cubicBezTo>
                <a:lnTo>
                  <a:pt x="10800" y="15634"/>
                </a:lnTo>
                <a:cubicBezTo>
                  <a:pt x="10800" y="1861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组合 43"/>
          <p:cNvGrpSpPr/>
          <p:nvPr/>
        </p:nvGrpSpPr>
        <p:grpSpPr>
          <a:xfrm>
            <a:off x="919080" y="5357880"/>
            <a:ext cx="1081080" cy="1071360"/>
            <a:chOff x="919080" y="5357880"/>
            <a:chExt cx="1081080" cy="1071360"/>
          </a:xfrm>
        </p:grpSpPr>
        <p:grpSp>
          <p:nvGrpSpPr>
            <p:cNvPr id="1084" name="组合 25"/>
            <p:cNvGrpSpPr/>
            <p:nvPr/>
          </p:nvGrpSpPr>
          <p:grpSpPr>
            <a:xfrm>
              <a:off x="919080" y="5357880"/>
              <a:ext cx="937440" cy="1071360"/>
              <a:chOff x="919080" y="5357880"/>
              <a:chExt cx="937440" cy="1071360"/>
            </a:xfrm>
          </p:grpSpPr>
          <p:sp>
            <p:nvSpPr>
              <p:cNvPr id="1085" name="TextBox 8"/>
              <p:cNvSpPr/>
              <p:nvPr/>
            </p:nvSpPr>
            <p:spPr>
              <a:xfrm>
                <a:off x="919080" y="535788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直接连接符 122"/>
              <p:cNvSpPr/>
              <p:nvPr/>
            </p:nvSpPr>
            <p:spPr>
              <a:xfrm>
                <a:off x="920520" y="5902200"/>
                <a:ext cx="50328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Box 8"/>
              <p:cNvSpPr/>
              <p:nvPr/>
            </p:nvSpPr>
            <p:spPr>
              <a:xfrm>
                <a:off x="921600" y="578988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TextBox 8"/>
            <p:cNvSpPr/>
            <p:nvPr/>
          </p:nvSpPr>
          <p:spPr>
            <a:xfrm>
              <a:off x="1422720" y="5565240"/>
              <a:ext cx="577440" cy="627840"/>
            </a:xfrm>
            <a:custGeom>
              <a:avLst/>
              <a:gdLst>
                <a:gd name="textAreaLeft" fmla="*/ 53640 w 577440"/>
                <a:gd name="textAreaRight" fmla="*/ 523800 w 577440"/>
                <a:gd name="textAreaTop" fmla="*/ 53640 h 627840"/>
                <a:gd name="textAreaBottom" fmla="*/ 574200 h 627840"/>
              </a:gdLst>
              <a:ahLst/>
              <a:rect l="textAreaLeft" t="textAreaTop" r="textAreaRight" b="textAreaBottom"/>
              <a:pathLst>
                <a:path w="21600" h="23484">
                  <a:moveTo>
                    <a:pt x="6866" y="0"/>
                  </a:moveTo>
                  <a:arcTo wR="6866" hR="6866" stAng="16200000" swAng="-5400000"/>
                  <a:lnTo>
                    <a:pt x="0" y="16618"/>
                  </a:lnTo>
                  <a:arcTo wR="6866" hR="6866" stAng="10800000" swAng="-5400000"/>
                  <a:lnTo>
                    <a:pt x="14734" y="23484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组合 124"/>
          <p:cNvGrpSpPr/>
          <p:nvPr/>
        </p:nvGrpSpPr>
        <p:grpSpPr>
          <a:xfrm>
            <a:off x="900000" y="2063880"/>
            <a:ext cx="7201080" cy="1727280"/>
            <a:chOff x="900000" y="2063880"/>
            <a:chExt cx="7201080" cy="1727280"/>
          </a:xfrm>
        </p:grpSpPr>
        <p:sp>
          <p:nvSpPr>
            <p:cNvPr id="1090" name="TextBox 8"/>
            <p:cNvSpPr/>
            <p:nvPr/>
          </p:nvSpPr>
          <p:spPr>
            <a:xfrm>
              <a:off x="900000" y="2063880"/>
              <a:ext cx="7201080" cy="90144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要求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布可以做多少个小书信袋，也就是求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米里面有多少个   米。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组合 25"/>
            <p:cNvGrpSpPr/>
            <p:nvPr/>
          </p:nvGrpSpPr>
          <p:grpSpPr>
            <a:xfrm>
              <a:off x="4212360" y="2720160"/>
              <a:ext cx="936000" cy="1071000"/>
              <a:chOff x="4212360" y="2720160"/>
              <a:chExt cx="936000" cy="1071000"/>
            </a:xfrm>
          </p:grpSpPr>
          <p:sp>
            <p:nvSpPr>
              <p:cNvPr id="1092" name="TextBox 8"/>
              <p:cNvSpPr/>
              <p:nvPr/>
            </p:nvSpPr>
            <p:spPr>
              <a:xfrm>
                <a:off x="4212360" y="272016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直接连接符 128"/>
              <p:cNvSpPr/>
              <p:nvPr/>
            </p:nvSpPr>
            <p:spPr>
              <a:xfrm>
                <a:off x="4214520" y="3214800"/>
                <a:ext cx="50328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TextBox 8"/>
              <p:cNvSpPr/>
              <p:nvPr/>
            </p:nvSpPr>
            <p:spPr>
              <a:xfrm>
                <a:off x="4213440" y="315180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5" name="矩形 130"/>
          <p:cNvSpPr/>
          <p:nvPr/>
        </p:nvSpPr>
        <p:spPr>
          <a:xfrm>
            <a:off x="4356000" y="429588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矩形 131"/>
          <p:cNvSpPr/>
          <p:nvPr/>
        </p:nvSpPr>
        <p:spPr>
          <a:xfrm>
            <a:off x="507528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矩形 132"/>
          <p:cNvSpPr/>
          <p:nvPr/>
        </p:nvSpPr>
        <p:spPr>
          <a:xfrm>
            <a:off x="5796000" y="4295880"/>
            <a:ext cx="71928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133"/>
          <p:cNvSpPr/>
          <p:nvPr/>
        </p:nvSpPr>
        <p:spPr>
          <a:xfrm>
            <a:off x="651528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34"/>
          <p:cNvSpPr/>
          <p:nvPr/>
        </p:nvSpPr>
        <p:spPr>
          <a:xfrm>
            <a:off x="7236000" y="4295880"/>
            <a:ext cx="720720" cy="107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右大括号 135"/>
          <p:cNvSpPr/>
          <p:nvPr/>
        </p:nvSpPr>
        <p:spPr>
          <a:xfrm rot="16200000">
            <a:off x="5993640" y="2259720"/>
            <a:ext cx="325440" cy="360072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3600720"/>
              <a:gd name="textAreaBottom" fmla="*/ 34765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3"/>
                  <a:pt x="10800" y="2386"/>
                </a:cubicBezTo>
                <a:lnTo>
                  <a:pt x="10800" y="8414"/>
                </a:lnTo>
                <a:cubicBezTo>
                  <a:pt x="10800" y="9607"/>
                  <a:pt x="16200" y="10800"/>
                  <a:pt x="21600" y="10800"/>
                </a:cubicBezTo>
                <a:cubicBezTo>
                  <a:pt x="16200" y="10800"/>
                  <a:pt x="10800" y="11993"/>
                  <a:pt x="10800" y="13186"/>
                </a:cubicBezTo>
                <a:lnTo>
                  <a:pt x="10800" y="19214"/>
                </a:lnTo>
                <a:cubicBezTo>
                  <a:pt x="10800" y="2040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Box 8"/>
          <p:cNvSpPr/>
          <p:nvPr/>
        </p:nvSpPr>
        <p:spPr>
          <a:xfrm>
            <a:off x="5796000" y="343044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右大括号 137"/>
          <p:cNvSpPr/>
          <p:nvPr/>
        </p:nvSpPr>
        <p:spPr>
          <a:xfrm rot="16200000">
            <a:off x="4189320" y="-191880"/>
            <a:ext cx="325440" cy="7209000"/>
          </a:xfrm>
          <a:custGeom>
            <a:avLst/>
            <a:gdLst>
              <a:gd name="textAreaLeft" fmla="*/ 0 w 325440"/>
              <a:gd name="textAreaRight" fmla="*/ 117360 w 325440"/>
              <a:gd name="textAreaTop" fmla="*/ 124200 h 7209000"/>
              <a:gd name="textAreaBottom" fmla="*/ 7084800 h 720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6"/>
                  <a:pt x="10800" y="1192"/>
                </a:cubicBezTo>
                <a:lnTo>
                  <a:pt x="10800" y="9608"/>
                </a:lnTo>
                <a:cubicBezTo>
                  <a:pt x="10800" y="10204"/>
                  <a:pt x="16200" y="10800"/>
                  <a:pt x="21600" y="10800"/>
                </a:cubicBezTo>
                <a:cubicBezTo>
                  <a:pt x="16200" y="10800"/>
                  <a:pt x="10800" y="11396"/>
                  <a:pt x="10800" y="11992"/>
                </a:cubicBezTo>
                <a:lnTo>
                  <a:pt x="10800" y="20408"/>
                </a:lnTo>
                <a:cubicBezTo>
                  <a:pt x="10800" y="2100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Box 8"/>
          <p:cNvSpPr/>
          <p:nvPr/>
        </p:nvSpPr>
        <p:spPr>
          <a:xfrm>
            <a:off x="3995640" y="2643120"/>
            <a:ext cx="863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8"/>
          <p:cNvSpPr/>
          <p:nvPr/>
        </p:nvSpPr>
        <p:spPr>
          <a:xfrm>
            <a:off x="1187280" y="100332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多少个大书信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椭圆 10"/>
          <p:cNvSpPr/>
          <p:nvPr/>
        </p:nvSpPr>
        <p:spPr>
          <a:xfrm>
            <a:off x="785880" y="1141560"/>
            <a:ext cx="28584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组合 25"/>
          <p:cNvGrpSpPr/>
          <p:nvPr/>
        </p:nvGrpSpPr>
        <p:grpSpPr>
          <a:xfrm>
            <a:off x="2916360" y="1441440"/>
            <a:ext cx="934920" cy="1068120"/>
            <a:chOff x="2916360" y="1441440"/>
            <a:chExt cx="934920" cy="1068120"/>
          </a:xfrm>
        </p:grpSpPr>
        <p:sp>
          <p:nvSpPr>
            <p:cNvPr id="1107" name="TextBox 8"/>
            <p:cNvSpPr/>
            <p:nvPr/>
          </p:nvSpPr>
          <p:spPr>
            <a:xfrm>
              <a:off x="2916360" y="1441440"/>
              <a:ext cx="576720" cy="62820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8200"/>
                <a:gd name="textAreaBottom" fmla="*/ 574560 h 628200"/>
              </a:gdLst>
              <a:ahLst/>
              <a:rect l="textAreaLeft" t="textAreaTop" r="textAreaRight" b="textAreaBottom"/>
              <a:pathLst>
                <a:path w="21600" h="23527">
                  <a:moveTo>
                    <a:pt x="6866" y="0"/>
                  </a:moveTo>
                  <a:arcTo wR="6866" hR="6866" stAng="16200000" swAng="-5400000"/>
                  <a:lnTo>
                    <a:pt x="0" y="16661"/>
                  </a:lnTo>
                  <a:arcTo wR="6866" hR="6866" stAng="10800000" swAng="-5400000"/>
                  <a:lnTo>
                    <a:pt x="14734" y="23527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直接连接符 23"/>
            <p:cNvSpPr/>
            <p:nvPr/>
          </p:nvSpPr>
          <p:spPr>
            <a:xfrm>
              <a:off x="2917800" y="201312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TextBox 8"/>
            <p:cNvSpPr/>
            <p:nvPr/>
          </p:nvSpPr>
          <p:spPr>
            <a:xfrm>
              <a:off x="2916720" y="1870200"/>
              <a:ext cx="9345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TextBox 8"/>
          <p:cNvSpPr/>
          <p:nvPr/>
        </p:nvSpPr>
        <p:spPr>
          <a:xfrm>
            <a:off x="2268360" y="1658880"/>
            <a:ext cx="578160" cy="627840"/>
          </a:xfrm>
          <a:custGeom>
            <a:avLst/>
            <a:gdLst>
              <a:gd name="textAreaLeft" fmla="*/ 53640 w 578160"/>
              <a:gd name="textAreaRight" fmla="*/ 524520 w 5781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55">
                <a:moveTo>
                  <a:pt x="6866" y="0"/>
                </a:moveTo>
                <a:arcTo wR="6866" hR="6866" stAng="16200000" swAng="-5400000"/>
                <a:lnTo>
                  <a:pt x="0" y="16589"/>
                </a:lnTo>
                <a:arcTo wR="6866" hR="6866" stAng="10800000" swAng="-5400000"/>
                <a:lnTo>
                  <a:pt x="14734" y="23455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"/>
          <p:cNvSpPr/>
          <p:nvPr/>
        </p:nvSpPr>
        <p:spPr>
          <a:xfrm>
            <a:off x="1908000" y="1662120"/>
            <a:ext cx="578160" cy="627840"/>
          </a:xfrm>
          <a:custGeom>
            <a:avLst/>
            <a:gdLst>
              <a:gd name="textAreaLeft" fmla="*/ 53640 w 578160"/>
              <a:gd name="textAreaRight" fmla="*/ 524520 w 57816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55">
                <a:moveTo>
                  <a:pt x="6866" y="0"/>
                </a:moveTo>
                <a:arcTo wR="6866" hR="6866" stAng="16200000" swAng="-5400000"/>
                <a:lnTo>
                  <a:pt x="0" y="16589"/>
                </a:lnTo>
                <a:arcTo wR="6866" hR="6866" stAng="10800000" swAng="-5400000"/>
                <a:lnTo>
                  <a:pt x="14734" y="23455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矩形 37"/>
          <p:cNvSpPr/>
          <p:nvPr/>
        </p:nvSpPr>
        <p:spPr>
          <a:xfrm>
            <a:off x="3924360" y="1571760"/>
            <a:ext cx="936720" cy="792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3346560" y="164304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（个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组合 25"/>
          <p:cNvGrpSpPr/>
          <p:nvPr/>
        </p:nvGrpSpPr>
        <p:grpSpPr>
          <a:xfrm>
            <a:off x="1909800" y="4464000"/>
            <a:ext cx="934920" cy="1210320"/>
            <a:chOff x="1909800" y="4464000"/>
            <a:chExt cx="934920" cy="1210320"/>
          </a:xfrm>
        </p:grpSpPr>
        <p:sp>
          <p:nvSpPr>
            <p:cNvPr id="1115" name="TextBox 8"/>
            <p:cNvSpPr/>
            <p:nvPr/>
          </p:nvSpPr>
          <p:spPr>
            <a:xfrm>
              <a:off x="1909800" y="4464000"/>
              <a:ext cx="577080" cy="688680"/>
            </a:xfrm>
            <a:custGeom>
              <a:avLst/>
              <a:gdLst>
                <a:gd name="textAreaLeft" fmla="*/ 53640 w 577080"/>
                <a:gd name="textAreaRight" fmla="*/ 523440 w 577080"/>
                <a:gd name="textAreaTop" fmla="*/ 53640 h 688680"/>
                <a:gd name="textAreaBottom" fmla="*/ 635040 h 688680"/>
              </a:gdLst>
              <a:ahLst/>
              <a:rect l="textAreaLeft" t="textAreaTop" r="textAreaRight" b="textAreaBottom"/>
              <a:pathLst>
                <a:path w="21600" h="25775">
                  <a:moveTo>
                    <a:pt x="6866" y="0"/>
                  </a:moveTo>
                  <a:arcTo wR="6866" hR="6866" stAng="16200000" swAng="-5400000"/>
                  <a:lnTo>
                    <a:pt x="0" y="18909"/>
                  </a:lnTo>
                  <a:arcTo wR="6866" hR="6866" stAng="10800000" swAng="-5400000"/>
                  <a:lnTo>
                    <a:pt x="14734" y="25775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直接连接符 79"/>
            <p:cNvSpPr/>
            <p:nvPr/>
          </p:nvSpPr>
          <p:spPr>
            <a:xfrm>
              <a:off x="1911240" y="508464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Box 8"/>
            <p:cNvSpPr/>
            <p:nvPr/>
          </p:nvSpPr>
          <p:spPr>
            <a:xfrm>
              <a:off x="1909800" y="4960440"/>
              <a:ext cx="934920" cy="7138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TextBox 8"/>
          <p:cNvSpPr/>
          <p:nvPr/>
        </p:nvSpPr>
        <p:spPr>
          <a:xfrm>
            <a:off x="1128600" y="4718160"/>
            <a:ext cx="165744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Box 8"/>
          <p:cNvSpPr/>
          <p:nvPr/>
        </p:nvSpPr>
        <p:spPr>
          <a:xfrm>
            <a:off x="2411280" y="4672080"/>
            <a:ext cx="24480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×5÷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Box 8"/>
          <p:cNvSpPr/>
          <p:nvPr/>
        </p:nvSpPr>
        <p:spPr>
          <a:xfrm>
            <a:off x="4286160" y="4664160"/>
            <a:ext cx="16560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Box 8"/>
          <p:cNvSpPr/>
          <p:nvPr/>
        </p:nvSpPr>
        <p:spPr>
          <a:xfrm>
            <a:off x="4076640" y="1643040"/>
            <a:ext cx="107172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Box 8"/>
          <p:cNvSpPr/>
          <p:nvPr/>
        </p:nvSpPr>
        <p:spPr>
          <a:xfrm>
            <a:off x="1857240" y="5432400"/>
            <a:ext cx="6696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大书信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Picture 2" descr=""/>
          <p:cNvPicPr/>
          <p:nvPr/>
        </p:nvPicPr>
        <p:blipFill>
          <a:blip r:embed="rId1"/>
          <a:stretch/>
        </p:blipFill>
        <p:spPr>
          <a:xfrm>
            <a:off x="539640" y="2435400"/>
            <a:ext cx="3946680" cy="1963440"/>
          </a:xfrm>
          <a:prstGeom prst="rect">
            <a:avLst/>
          </a:prstGeom>
          <a:ln w="0">
            <a:noFill/>
          </a:ln>
        </p:spPr>
      </p:pic>
      <p:grpSp>
        <p:nvGrpSpPr>
          <p:cNvPr id="1124" name="组合 41"/>
          <p:cNvGrpSpPr/>
          <p:nvPr/>
        </p:nvGrpSpPr>
        <p:grpSpPr>
          <a:xfrm>
            <a:off x="4427640" y="2147760"/>
            <a:ext cx="4752720" cy="2473200"/>
            <a:chOff x="4427640" y="2147760"/>
            <a:chExt cx="4752720" cy="2473200"/>
          </a:xfrm>
        </p:grpSpPr>
        <p:sp>
          <p:nvSpPr>
            <p:cNvPr id="1125" name="TextBox 8"/>
            <p:cNvSpPr/>
            <p:nvPr/>
          </p:nvSpPr>
          <p:spPr>
            <a:xfrm>
              <a:off x="4427640" y="2147760"/>
              <a:ext cx="4752720" cy="247320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里面有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×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个   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每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   看作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份，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里面就有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×5÷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个   。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6" name="组合 25"/>
            <p:cNvGrpSpPr/>
            <p:nvPr/>
          </p:nvGrpSpPr>
          <p:grpSpPr>
            <a:xfrm>
              <a:off x="7812360" y="2230200"/>
              <a:ext cx="936000" cy="1140840"/>
              <a:chOff x="7812360" y="2230200"/>
              <a:chExt cx="936000" cy="1140840"/>
            </a:xfrm>
          </p:grpSpPr>
          <p:sp>
            <p:nvSpPr>
              <p:cNvPr id="1127" name="TextBox 8"/>
              <p:cNvSpPr/>
              <p:nvPr/>
            </p:nvSpPr>
            <p:spPr>
              <a:xfrm>
                <a:off x="7812360" y="223020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直接连接符 57"/>
              <p:cNvSpPr/>
              <p:nvPr/>
            </p:nvSpPr>
            <p:spPr>
              <a:xfrm>
                <a:off x="7815240" y="2795040"/>
                <a:ext cx="50328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TextBox 8"/>
              <p:cNvSpPr/>
              <p:nvPr/>
            </p:nvSpPr>
            <p:spPr>
              <a:xfrm>
                <a:off x="7813440" y="273168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组合 25"/>
            <p:cNvGrpSpPr/>
            <p:nvPr/>
          </p:nvGrpSpPr>
          <p:grpSpPr>
            <a:xfrm>
              <a:off x="5651640" y="2869920"/>
              <a:ext cx="936000" cy="1149480"/>
              <a:chOff x="5651640" y="2869920"/>
              <a:chExt cx="936000" cy="1149480"/>
            </a:xfrm>
          </p:grpSpPr>
          <p:sp>
            <p:nvSpPr>
              <p:cNvPr id="1131" name="TextBox 8"/>
              <p:cNvSpPr/>
              <p:nvPr/>
            </p:nvSpPr>
            <p:spPr>
              <a:xfrm>
                <a:off x="5651640" y="286992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直接连接符 61"/>
              <p:cNvSpPr/>
              <p:nvPr/>
            </p:nvSpPr>
            <p:spPr>
              <a:xfrm>
                <a:off x="5654520" y="3443040"/>
                <a:ext cx="50328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Box 8"/>
              <p:cNvSpPr/>
              <p:nvPr/>
            </p:nvSpPr>
            <p:spPr>
              <a:xfrm>
                <a:off x="5652720" y="338004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组合 25"/>
            <p:cNvGrpSpPr/>
            <p:nvPr/>
          </p:nvGrpSpPr>
          <p:grpSpPr>
            <a:xfrm>
              <a:off x="7812360" y="3515760"/>
              <a:ext cx="936000" cy="1071360"/>
              <a:chOff x="7812360" y="3515760"/>
              <a:chExt cx="936000" cy="1071360"/>
            </a:xfrm>
          </p:grpSpPr>
          <p:sp>
            <p:nvSpPr>
              <p:cNvPr id="1135" name="TextBox 8"/>
              <p:cNvSpPr/>
              <p:nvPr/>
            </p:nvSpPr>
            <p:spPr>
              <a:xfrm>
                <a:off x="7812360" y="3515760"/>
                <a:ext cx="577080" cy="628200"/>
              </a:xfrm>
              <a:custGeom>
                <a:avLst/>
                <a:gdLst>
                  <a:gd name="textAreaLeft" fmla="*/ 53640 w 577080"/>
                  <a:gd name="textAreaRight" fmla="*/ 523440 w 577080"/>
                  <a:gd name="textAreaTop" fmla="*/ 53640 h 628200"/>
                  <a:gd name="textAreaBottom" fmla="*/ 574560 h 628200"/>
                </a:gdLst>
                <a:ahLst/>
                <a:rect l="textAreaLeft" t="textAreaTop" r="textAreaRight" b="textAreaBottom"/>
                <a:pathLst>
                  <a:path w="21600" h="23512">
                    <a:moveTo>
                      <a:pt x="6866" y="0"/>
                    </a:moveTo>
                    <a:arcTo wR="6866" hR="6866" stAng="16200000" swAng="-5400000"/>
                    <a:lnTo>
                      <a:pt x="0" y="16646"/>
                    </a:lnTo>
                    <a:arcTo wR="6866" hR="6866" stAng="10800000" swAng="-5400000"/>
                    <a:lnTo>
                      <a:pt x="14734" y="23512"/>
                    </a:lnTo>
                    <a:arcTo wR="6866" hR="6866" stAng="5400000" swAng="-5400000"/>
                    <a:lnTo>
                      <a:pt x="21600" y="6866"/>
                    </a:lnTo>
                    <a:arcTo wR="6866" hR="686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直接连接符 39"/>
              <p:cNvSpPr/>
              <p:nvPr/>
            </p:nvSpPr>
            <p:spPr>
              <a:xfrm>
                <a:off x="7815240" y="4084560"/>
                <a:ext cx="503280" cy="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TextBox 8"/>
              <p:cNvSpPr/>
              <p:nvPr/>
            </p:nvSpPr>
            <p:spPr>
              <a:xfrm>
                <a:off x="7813440" y="3947760"/>
                <a:ext cx="934920" cy="63936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8" name="组合 25"/>
          <p:cNvGrpSpPr/>
          <p:nvPr/>
        </p:nvGrpSpPr>
        <p:grpSpPr>
          <a:xfrm>
            <a:off x="5510160" y="4444920"/>
            <a:ext cx="934920" cy="1226160"/>
            <a:chOff x="5510160" y="4444920"/>
            <a:chExt cx="934920" cy="1226160"/>
          </a:xfrm>
        </p:grpSpPr>
        <p:sp>
          <p:nvSpPr>
            <p:cNvPr id="1139" name="TextBox 8"/>
            <p:cNvSpPr/>
            <p:nvPr/>
          </p:nvSpPr>
          <p:spPr>
            <a:xfrm>
              <a:off x="5510160" y="4444920"/>
              <a:ext cx="577080" cy="688680"/>
            </a:xfrm>
            <a:custGeom>
              <a:avLst/>
              <a:gdLst>
                <a:gd name="textAreaLeft" fmla="*/ 53640 w 577080"/>
                <a:gd name="textAreaRight" fmla="*/ 523440 w 577080"/>
                <a:gd name="textAreaTop" fmla="*/ 53640 h 688680"/>
                <a:gd name="textAreaBottom" fmla="*/ 635040 h 688680"/>
              </a:gdLst>
              <a:ahLst/>
              <a:rect l="textAreaLeft" t="textAreaTop" r="textAreaRight" b="textAreaBottom"/>
              <a:pathLst>
                <a:path w="21600" h="25775">
                  <a:moveTo>
                    <a:pt x="6866" y="0"/>
                  </a:moveTo>
                  <a:arcTo wR="6866" hR="6866" stAng="16200000" swAng="-5400000"/>
                  <a:lnTo>
                    <a:pt x="0" y="18909"/>
                  </a:lnTo>
                  <a:arcTo wR="6866" hR="6866" stAng="10800000" swAng="-5400000"/>
                  <a:lnTo>
                    <a:pt x="14734" y="25775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直接连接符 44"/>
            <p:cNvSpPr/>
            <p:nvPr/>
          </p:nvSpPr>
          <p:spPr>
            <a:xfrm>
              <a:off x="5511600" y="5084640"/>
              <a:ext cx="503280" cy="0"/>
            </a:xfrm>
            <a:prstGeom prst="line">
              <a:avLst/>
            </a:prstGeom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TextBox 8"/>
            <p:cNvSpPr/>
            <p:nvPr/>
          </p:nvSpPr>
          <p:spPr>
            <a:xfrm>
              <a:off x="5510160" y="4957200"/>
              <a:ext cx="934920" cy="71388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TextBox 8"/>
          <p:cNvSpPr/>
          <p:nvPr/>
        </p:nvSpPr>
        <p:spPr>
          <a:xfrm>
            <a:off x="5929200" y="4664160"/>
            <a:ext cx="165600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Box 8"/>
          <p:cNvSpPr/>
          <p:nvPr/>
        </p:nvSpPr>
        <p:spPr>
          <a:xfrm>
            <a:off x="2446200" y="2335320"/>
            <a:ext cx="576360" cy="74988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749880"/>
              <a:gd name="textAreaBottom" fmla="*/ 696240 h 749880"/>
            </a:gdLst>
            <a:ahLst/>
            <a:rect l="textAreaLeft" t="textAreaTop" r="textAreaRight" b="textAreaBottom"/>
            <a:pathLst>
              <a:path w="21600" h="28099">
                <a:moveTo>
                  <a:pt x="6866" y="0"/>
                </a:moveTo>
                <a:arcTo wR="6866" hR="6866" stAng="16200000" swAng="-5400000"/>
                <a:lnTo>
                  <a:pt x="0" y="21233"/>
                </a:lnTo>
                <a:arcTo wR="6866" hR="6866" stAng="10800000" swAng="-5400000"/>
                <a:lnTo>
                  <a:pt x="14734" y="2809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88"/>
          <p:cNvSpPr/>
          <p:nvPr/>
        </p:nvSpPr>
        <p:spPr>
          <a:xfrm>
            <a:off x="2448000" y="30099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Box 8"/>
          <p:cNvSpPr/>
          <p:nvPr/>
        </p:nvSpPr>
        <p:spPr>
          <a:xfrm>
            <a:off x="2446200" y="2871720"/>
            <a:ext cx="93528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Box 8"/>
          <p:cNvSpPr/>
          <p:nvPr/>
        </p:nvSpPr>
        <p:spPr>
          <a:xfrm>
            <a:off x="1725480" y="2584440"/>
            <a:ext cx="720720" cy="776880"/>
          </a:xfrm>
          <a:custGeom>
            <a:avLst/>
            <a:gdLst>
              <a:gd name="textAreaLeft" fmla="*/ 66960 w 720720"/>
              <a:gd name="textAreaRight" fmla="*/ 653760 w 720720"/>
              <a:gd name="textAreaTop" fmla="*/ 66960 h 776880"/>
              <a:gd name="textAreaBottom" fmla="*/ 709920 h 776880"/>
            </a:gdLst>
            <a:ahLst/>
            <a:rect l="textAreaLeft" t="textAreaTop" r="textAreaRight" b="textAreaBottom"/>
            <a:pathLst>
              <a:path w="21600" h="23282">
                <a:moveTo>
                  <a:pt x="6866" y="0"/>
                </a:moveTo>
                <a:arcTo wR="6866" hR="6866" stAng="16200000" swAng="-5400000"/>
                <a:lnTo>
                  <a:pt x="0" y="16416"/>
                </a:lnTo>
                <a:arcTo wR="6866" hR="6866" stAng="10800000" swAng="-5400000"/>
                <a:lnTo>
                  <a:pt x="14734" y="23282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Box 8"/>
          <p:cNvSpPr/>
          <p:nvPr/>
        </p:nvSpPr>
        <p:spPr>
          <a:xfrm>
            <a:off x="3022560" y="2581200"/>
            <a:ext cx="129528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Box 8"/>
          <p:cNvSpPr/>
          <p:nvPr/>
        </p:nvSpPr>
        <p:spPr>
          <a:xfrm>
            <a:off x="3743280" y="2624040"/>
            <a:ext cx="576360" cy="74988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749880"/>
              <a:gd name="textAreaBottom" fmla="*/ 696240 h 749880"/>
            </a:gdLst>
            <a:ahLst/>
            <a:rect l="textAreaLeft" t="textAreaTop" r="textAreaRight" b="textAreaBottom"/>
            <a:pathLst>
              <a:path w="21600" h="28099">
                <a:moveTo>
                  <a:pt x="6866" y="0"/>
                </a:moveTo>
                <a:arcTo wR="6866" hR="6866" stAng="16200000" swAng="-5400000"/>
                <a:lnTo>
                  <a:pt x="0" y="21233"/>
                </a:lnTo>
                <a:arcTo wR="6866" hR="6866" stAng="10800000" swAng="-5400000"/>
                <a:lnTo>
                  <a:pt x="14734" y="2809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Box 8"/>
          <p:cNvSpPr/>
          <p:nvPr/>
        </p:nvSpPr>
        <p:spPr>
          <a:xfrm>
            <a:off x="4246560" y="2581200"/>
            <a:ext cx="719280" cy="776880"/>
          </a:xfrm>
          <a:custGeom>
            <a:avLst/>
            <a:gdLst>
              <a:gd name="textAreaLeft" fmla="*/ 66960 w 719280"/>
              <a:gd name="textAreaRight" fmla="*/ 652320 w 719280"/>
              <a:gd name="textAreaTop" fmla="*/ 66960 h 776880"/>
              <a:gd name="textAreaBottom" fmla="*/ 709920 h 776880"/>
            </a:gdLst>
            <a:ahLst/>
            <a:rect l="textAreaLeft" t="textAreaTop" r="textAreaRight" b="textAreaBottom"/>
            <a:pathLst>
              <a:path w="21600" h="23329">
                <a:moveTo>
                  <a:pt x="6866" y="0"/>
                </a:moveTo>
                <a:arcTo wR="6866" hR="6866" stAng="16200000" swAng="-5400000"/>
                <a:lnTo>
                  <a:pt x="0" y="16463"/>
                </a:lnTo>
                <a:arcTo wR="6866" hR="6866" stAng="10800000" swAng="-5400000"/>
                <a:lnTo>
                  <a:pt x="14734" y="2332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Box 8"/>
          <p:cNvSpPr/>
          <p:nvPr/>
        </p:nvSpPr>
        <p:spPr>
          <a:xfrm>
            <a:off x="5614920" y="2581200"/>
            <a:ext cx="129564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Box 8"/>
          <p:cNvSpPr/>
          <p:nvPr/>
        </p:nvSpPr>
        <p:spPr>
          <a:xfrm>
            <a:off x="6191280" y="2584440"/>
            <a:ext cx="93492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2" name="肘形连接符 140"/>
          <p:cNvCxnSpPr>
            <a:stCxn id="1146" idx="2"/>
            <a:endCxn id="1149" idx="2"/>
          </p:cNvCxnSpPr>
          <p:nvPr/>
        </p:nvCxnSpPr>
        <p:spPr>
          <a:xfrm flipH="1" flipV="1" rot="5400000">
            <a:off x="3342960" y="2111400"/>
            <a:ext cx="3960" cy="2520360"/>
          </a:xfrm>
          <a:prstGeom prst="bentConnector3">
            <a:avLst>
              <a:gd name="adj1" fmla="val -26680000"/>
            </a:avLst>
          </a:prstGeom>
          <a:ln w="1908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53" name="TextBox 8"/>
          <p:cNvSpPr/>
          <p:nvPr/>
        </p:nvSpPr>
        <p:spPr>
          <a:xfrm>
            <a:off x="2878200" y="4168800"/>
            <a:ext cx="172728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变乘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Box 8"/>
          <p:cNvSpPr/>
          <p:nvPr/>
        </p:nvSpPr>
        <p:spPr>
          <a:xfrm>
            <a:off x="1438200" y="2584440"/>
            <a:ext cx="719280" cy="776880"/>
          </a:xfrm>
          <a:custGeom>
            <a:avLst/>
            <a:gdLst>
              <a:gd name="textAreaLeft" fmla="*/ 66960 w 719280"/>
              <a:gd name="textAreaRight" fmla="*/ 652320 w 719280"/>
              <a:gd name="textAreaTop" fmla="*/ 66960 h 776880"/>
              <a:gd name="textAreaBottom" fmla="*/ 709920 h 776880"/>
            </a:gdLst>
            <a:ahLst/>
            <a:rect l="textAreaLeft" t="textAreaTop" r="textAreaRight" b="textAreaBottom"/>
            <a:pathLst>
              <a:path w="21600" h="23329">
                <a:moveTo>
                  <a:pt x="6866" y="0"/>
                </a:moveTo>
                <a:arcTo wR="6866" hR="6866" stAng="16200000" swAng="-5400000"/>
                <a:lnTo>
                  <a:pt x="0" y="16463"/>
                </a:lnTo>
                <a:arcTo wR="6866" hR="6866" stAng="10800000" swAng="-5400000"/>
                <a:lnTo>
                  <a:pt x="14734" y="2332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5" name="肘形连接符 140"/>
          <p:cNvCxnSpPr>
            <a:stCxn id="1143" idx="0"/>
          </p:cNvCxnSpPr>
          <p:nvPr/>
        </p:nvCxnSpPr>
        <p:spPr>
          <a:xfrm flipH="1" rot="16200000">
            <a:off x="3940920" y="1127160"/>
            <a:ext cx="249840" cy="2665800"/>
          </a:xfrm>
          <a:prstGeom prst="bentConnector3">
            <a:avLst>
              <a:gd name="adj1" fmla="val -246464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6" name="TextBox 8"/>
          <p:cNvSpPr/>
          <p:nvPr/>
        </p:nvSpPr>
        <p:spPr>
          <a:xfrm>
            <a:off x="3309840" y="1000080"/>
            <a:ext cx="172872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变倒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Box 8"/>
          <p:cNvSpPr/>
          <p:nvPr/>
        </p:nvSpPr>
        <p:spPr>
          <a:xfrm>
            <a:off x="5110200" y="2336760"/>
            <a:ext cx="576360" cy="749880"/>
          </a:xfrm>
          <a:custGeom>
            <a:avLst/>
            <a:gdLst>
              <a:gd name="textAreaLeft" fmla="*/ 53640 w 576360"/>
              <a:gd name="textAreaRight" fmla="*/ 522720 w 576360"/>
              <a:gd name="textAreaTop" fmla="*/ 53640 h 749880"/>
              <a:gd name="textAreaBottom" fmla="*/ 696240 h 749880"/>
            </a:gdLst>
            <a:ahLst/>
            <a:rect l="textAreaLeft" t="textAreaTop" r="textAreaRight" b="textAreaBottom"/>
            <a:pathLst>
              <a:path w="21600" h="28099">
                <a:moveTo>
                  <a:pt x="6866" y="0"/>
                </a:moveTo>
                <a:arcTo wR="6866" hR="6866" stAng="16200000" swAng="-5400000"/>
                <a:lnTo>
                  <a:pt x="0" y="21233"/>
                </a:lnTo>
                <a:arcTo wR="6866" hR="6866" stAng="10800000" swAng="-5400000"/>
                <a:lnTo>
                  <a:pt x="14734" y="2809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直接连接符 33"/>
          <p:cNvSpPr/>
          <p:nvPr/>
        </p:nvSpPr>
        <p:spPr>
          <a:xfrm>
            <a:off x="5111640" y="30114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8"/>
          <p:cNvSpPr/>
          <p:nvPr/>
        </p:nvSpPr>
        <p:spPr>
          <a:xfrm>
            <a:off x="5110200" y="2873520"/>
            <a:ext cx="934920" cy="7894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组合 42"/>
          <p:cNvGrpSpPr/>
          <p:nvPr/>
        </p:nvGrpSpPr>
        <p:grpSpPr>
          <a:xfrm>
            <a:off x="357120" y="5032440"/>
            <a:ext cx="9072720" cy="1115640"/>
            <a:chOff x="357120" y="5032440"/>
            <a:chExt cx="9072720" cy="1115640"/>
          </a:xfrm>
        </p:grpSpPr>
        <p:grpSp>
          <p:nvGrpSpPr>
            <p:cNvPr id="1161" name="组合 40"/>
            <p:cNvGrpSpPr/>
            <p:nvPr/>
          </p:nvGrpSpPr>
          <p:grpSpPr>
            <a:xfrm>
              <a:off x="357120" y="5032440"/>
              <a:ext cx="9072720" cy="1115640"/>
              <a:chOff x="357120" y="5032440"/>
              <a:chExt cx="9072720" cy="1115640"/>
            </a:xfrm>
          </p:grpSpPr>
          <p:sp>
            <p:nvSpPr>
              <p:cNvPr id="1162" name="TextBox 8"/>
              <p:cNvSpPr/>
              <p:nvPr/>
            </p:nvSpPr>
            <p:spPr>
              <a:xfrm>
                <a:off x="537480" y="5248440"/>
                <a:ext cx="8892360" cy="713880"/>
              </a:xfrm>
              <a:prstGeom prst="roundRect">
                <a:avLst>
                  <a:gd name="adj" fmla="val 3178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和   互为倒数，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除以   等于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乘   的倒数。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组合 25"/>
              <p:cNvGrpSpPr/>
              <p:nvPr/>
            </p:nvGrpSpPr>
            <p:grpSpPr>
              <a:xfrm>
                <a:off x="1329480" y="5032440"/>
                <a:ext cx="934920" cy="1115640"/>
                <a:chOff x="1329480" y="5032440"/>
                <a:chExt cx="934920" cy="1115640"/>
              </a:xfrm>
            </p:grpSpPr>
            <p:sp>
              <p:nvSpPr>
                <p:cNvPr id="1164" name="TextBox 8"/>
                <p:cNvSpPr/>
                <p:nvPr/>
              </p:nvSpPr>
              <p:spPr>
                <a:xfrm>
                  <a:off x="1329480" y="5032440"/>
                  <a:ext cx="577080" cy="627840"/>
                </a:xfrm>
                <a:custGeom>
                  <a:avLst/>
                  <a:gdLst>
                    <a:gd name="textAreaLeft" fmla="*/ 53640 w 577080"/>
                    <a:gd name="textAreaRight" fmla="*/ 523440 w 577080"/>
                    <a:gd name="textAreaTop" fmla="*/ 53640 h 627840"/>
                    <a:gd name="textAreaBottom" fmla="*/ 574200 h 627840"/>
                  </a:gdLst>
                  <a:ahLst/>
                  <a:rect l="textAreaLeft" t="textAreaTop" r="textAreaRight" b="textAreaBottom"/>
                  <a:pathLst>
                    <a:path w="21600" h="23499">
                      <a:moveTo>
                        <a:pt x="6866" y="0"/>
                      </a:moveTo>
                      <a:arcTo wR="6866" hR="6866" stAng="16200000" swAng="-5400000"/>
                      <a:lnTo>
                        <a:pt x="0" y="16633"/>
                      </a:lnTo>
                      <a:arcTo wR="6866" hR="6866" stAng="10800000" swAng="-5400000"/>
                      <a:lnTo>
                        <a:pt x="14734" y="23499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TextBox 8"/>
                <p:cNvSpPr/>
                <p:nvPr/>
              </p:nvSpPr>
              <p:spPr>
                <a:xfrm>
                  <a:off x="1329480" y="5508720"/>
                  <a:ext cx="93492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组合 25"/>
              <p:cNvGrpSpPr/>
              <p:nvPr/>
            </p:nvGrpSpPr>
            <p:grpSpPr>
              <a:xfrm>
                <a:off x="5065920" y="5032440"/>
                <a:ext cx="934920" cy="1115640"/>
                <a:chOff x="5065920" y="5032440"/>
                <a:chExt cx="934920" cy="1115640"/>
              </a:xfrm>
            </p:grpSpPr>
            <p:sp>
              <p:nvSpPr>
                <p:cNvPr id="1167" name="TextBox 8"/>
                <p:cNvSpPr/>
                <p:nvPr/>
              </p:nvSpPr>
              <p:spPr>
                <a:xfrm>
                  <a:off x="5066280" y="5032440"/>
                  <a:ext cx="577080" cy="627840"/>
                </a:xfrm>
                <a:custGeom>
                  <a:avLst/>
                  <a:gdLst>
                    <a:gd name="textAreaLeft" fmla="*/ 53640 w 577080"/>
                    <a:gd name="textAreaRight" fmla="*/ 523440 w 577080"/>
                    <a:gd name="textAreaTop" fmla="*/ 53640 h 627840"/>
                    <a:gd name="textAreaBottom" fmla="*/ 574200 h 627840"/>
                  </a:gdLst>
                  <a:ahLst/>
                  <a:rect l="textAreaLeft" t="textAreaTop" r="textAreaRight" b="textAreaBottom"/>
                  <a:pathLst>
                    <a:path w="21600" h="23499">
                      <a:moveTo>
                        <a:pt x="6866" y="0"/>
                      </a:moveTo>
                      <a:arcTo wR="6866" hR="6866" stAng="16200000" swAng="-5400000"/>
                      <a:lnTo>
                        <a:pt x="0" y="16633"/>
                      </a:lnTo>
                      <a:arcTo wR="6866" hR="6866" stAng="10800000" swAng="-5400000"/>
                      <a:lnTo>
                        <a:pt x="14734" y="23499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TextBox 8"/>
                <p:cNvSpPr/>
                <p:nvPr/>
              </p:nvSpPr>
              <p:spPr>
                <a:xfrm>
                  <a:off x="5065920" y="5508720"/>
                  <a:ext cx="93492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组合 25"/>
              <p:cNvGrpSpPr/>
              <p:nvPr/>
            </p:nvGrpSpPr>
            <p:grpSpPr>
              <a:xfrm>
                <a:off x="7137720" y="5032440"/>
                <a:ext cx="934920" cy="1115640"/>
                <a:chOff x="7137720" y="5032440"/>
                <a:chExt cx="934920" cy="1115640"/>
              </a:xfrm>
            </p:grpSpPr>
            <p:sp>
              <p:nvSpPr>
                <p:cNvPr id="1170" name="TextBox 8"/>
                <p:cNvSpPr/>
                <p:nvPr/>
              </p:nvSpPr>
              <p:spPr>
                <a:xfrm>
                  <a:off x="7138080" y="5032440"/>
                  <a:ext cx="577080" cy="627840"/>
                </a:xfrm>
                <a:custGeom>
                  <a:avLst/>
                  <a:gdLst>
                    <a:gd name="textAreaLeft" fmla="*/ 53640 w 577080"/>
                    <a:gd name="textAreaRight" fmla="*/ 523440 w 577080"/>
                    <a:gd name="textAreaTop" fmla="*/ 53640 h 627840"/>
                    <a:gd name="textAreaBottom" fmla="*/ 574200 h 627840"/>
                  </a:gdLst>
                  <a:ahLst/>
                  <a:rect l="textAreaLeft" t="textAreaTop" r="textAreaRight" b="textAreaBottom"/>
                  <a:pathLst>
                    <a:path w="21600" h="23499">
                      <a:moveTo>
                        <a:pt x="6866" y="0"/>
                      </a:moveTo>
                      <a:arcTo wR="6866" hR="6866" stAng="16200000" swAng="-5400000"/>
                      <a:lnTo>
                        <a:pt x="0" y="16633"/>
                      </a:lnTo>
                      <a:arcTo wR="6866" hR="6866" stAng="10800000" swAng="-5400000"/>
                      <a:lnTo>
                        <a:pt x="14734" y="23499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TextBox 8"/>
                <p:cNvSpPr/>
                <p:nvPr/>
              </p:nvSpPr>
              <p:spPr>
                <a:xfrm>
                  <a:off x="7137720" y="5508720"/>
                  <a:ext cx="93492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组合 25"/>
              <p:cNvGrpSpPr/>
              <p:nvPr/>
            </p:nvGrpSpPr>
            <p:grpSpPr>
              <a:xfrm>
                <a:off x="357120" y="5032440"/>
                <a:ext cx="934920" cy="1053720"/>
                <a:chOff x="357120" y="5032440"/>
                <a:chExt cx="934920" cy="1053720"/>
              </a:xfrm>
            </p:grpSpPr>
            <p:sp>
              <p:nvSpPr>
                <p:cNvPr id="1173" name="TextBox 8"/>
                <p:cNvSpPr/>
                <p:nvPr/>
              </p:nvSpPr>
              <p:spPr>
                <a:xfrm>
                  <a:off x="357120" y="5032440"/>
                  <a:ext cx="577080" cy="627840"/>
                </a:xfrm>
                <a:custGeom>
                  <a:avLst/>
                  <a:gdLst>
                    <a:gd name="textAreaLeft" fmla="*/ 53640 w 577080"/>
                    <a:gd name="textAreaRight" fmla="*/ 523440 w 577080"/>
                    <a:gd name="textAreaTop" fmla="*/ 53640 h 627840"/>
                    <a:gd name="textAreaBottom" fmla="*/ 574200 h 627840"/>
                  </a:gdLst>
                  <a:ahLst/>
                  <a:rect l="textAreaLeft" t="textAreaTop" r="textAreaRight" b="textAreaBottom"/>
                  <a:pathLst>
                    <a:path w="21600" h="23499">
                      <a:moveTo>
                        <a:pt x="6866" y="0"/>
                      </a:moveTo>
                      <a:arcTo wR="6866" hR="6866" stAng="16200000" swAng="-5400000"/>
                      <a:lnTo>
                        <a:pt x="0" y="16633"/>
                      </a:lnTo>
                      <a:arcTo wR="6866" hR="6866" stAng="10800000" swAng="-5400000"/>
                      <a:lnTo>
                        <a:pt x="14734" y="23499"/>
                      </a:lnTo>
                      <a:arcTo wR="6866" hR="6866" stAng="5400000" swAng="-5400000"/>
                      <a:lnTo>
                        <a:pt x="21600" y="6866"/>
                      </a:lnTo>
                      <a:arcTo wR="6866" hR="686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直接连接符 38"/>
                <p:cNvSpPr/>
                <p:nvPr/>
              </p:nvSpPr>
              <p:spPr>
                <a:xfrm>
                  <a:off x="358560" y="5589720"/>
                  <a:ext cx="5032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TextBox 8"/>
                <p:cNvSpPr/>
                <p:nvPr/>
              </p:nvSpPr>
              <p:spPr>
                <a:xfrm>
                  <a:off x="357120" y="5446800"/>
                  <a:ext cx="934920" cy="639360"/>
                </a:xfrm>
                <a:prstGeom prst="roundRect">
                  <a:avLst>
                    <a:gd name="adj" fmla="val 3178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6" name="直接连接符 39"/>
            <p:cNvSpPr/>
            <p:nvPr/>
          </p:nvSpPr>
          <p:spPr>
            <a:xfrm>
              <a:off x="1320480" y="5589720"/>
              <a:ext cx="502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直接连接符 40"/>
            <p:cNvSpPr/>
            <p:nvPr/>
          </p:nvSpPr>
          <p:spPr>
            <a:xfrm>
              <a:off x="5032440" y="5589720"/>
              <a:ext cx="502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直接连接符 41"/>
            <p:cNvSpPr/>
            <p:nvPr/>
          </p:nvSpPr>
          <p:spPr>
            <a:xfrm>
              <a:off x="7104240" y="5589720"/>
              <a:ext cx="502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8"/>
          <p:cNvSpPr/>
          <p:nvPr/>
        </p:nvSpPr>
        <p:spPr>
          <a:xfrm>
            <a:off x="2087640" y="928800"/>
            <a:ext cx="6985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布可以做多少个大书信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椭圆 10"/>
          <p:cNvSpPr/>
          <p:nvPr/>
        </p:nvSpPr>
        <p:spPr>
          <a:xfrm>
            <a:off x="1685880" y="1066680"/>
            <a:ext cx="2858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组合 25"/>
          <p:cNvGrpSpPr/>
          <p:nvPr/>
        </p:nvGrpSpPr>
        <p:grpSpPr>
          <a:xfrm>
            <a:off x="3816360" y="1366920"/>
            <a:ext cx="934920" cy="1071360"/>
            <a:chOff x="3816360" y="1366920"/>
            <a:chExt cx="934920" cy="1071360"/>
          </a:xfrm>
        </p:grpSpPr>
        <p:sp>
          <p:nvSpPr>
            <p:cNvPr id="1182" name="TextBox 8"/>
            <p:cNvSpPr/>
            <p:nvPr/>
          </p:nvSpPr>
          <p:spPr>
            <a:xfrm>
              <a:off x="3816360" y="1366920"/>
              <a:ext cx="576720" cy="628200"/>
            </a:xfrm>
            <a:custGeom>
              <a:avLst/>
              <a:gdLst>
                <a:gd name="textAreaLeft" fmla="*/ 53640 w 576720"/>
                <a:gd name="textAreaRight" fmla="*/ 523080 w 576720"/>
                <a:gd name="textAreaTop" fmla="*/ 53640 h 628200"/>
                <a:gd name="textAreaBottom" fmla="*/ 574560 h 628200"/>
              </a:gdLst>
              <a:ahLst/>
              <a:rect l="textAreaLeft" t="textAreaTop" r="textAreaRight" b="textAreaBottom"/>
              <a:pathLst>
                <a:path w="21600" h="23527">
                  <a:moveTo>
                    <a:pt x="6866" y="0"/>
                  </a:moveTo>
                  <a:arcTo wR="6866" hR="6866" stAng="16200000" swAng="-5400000"/>
                  <a:lnTo>
                    <a:pt x="0" y="16661"/>
                  </a:lnTo>
                  <a:arcTo wR="6866" hR="6866" stAng="10800000" swAng="-5400000"/>
                  <a:lnTo>
                    <a:pt x="14734" y="23527"/>
                  </a:lnTo>
                  <a:arcTo wR="6866" hR="6866" stAng="5400000" swAng="-5400000"/>
                  <a:lnTo>
                    <a:pt x="21600" y="6866"/>
                  </a:lnTo>
                  <a:arcTo wR="6866" hR="686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直接连接符 23"/>
            <p:cNvSpPr/>
            <p:nvPr/>
          </p:nvSpPr>
          <p:spPr>
            <a:xfrm>
              <a:off x="3817800" y="193824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Box 8"/>
            <p:cNvSpPr/>
            <p:nvPr/>
          </p:nvSpPr>
          <p:spPr>
            <a:xfrm>
              <a:off x="3816720" y="1798920"/>
              <a:ext cx="934560" cy="639360"/>
            </a:xfrm>
            <a:prstGeom prst="roundRect">
              <a:avLst>
                <a:gd name="adj" fmla="val 317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TextBox 8"/>
          <p:cNvSpPr/>
          <p:nvPr/>
        </p:nvSpPr>
        <p:spPr>
          <a:xfrm>
            <a:off x="3168720" y="158436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Box 8"/>
          <p:cNvSpPr/>
          <p:nvPr/>
        </p:nvSpPr>
        <p:spPr>
          <a:xfrm>
            <a:off x="2808360" y="1587600"/>
            <a:ext cx="577800" cy="627840"/>
          </a:xfrm>
          <a:custGeom>
            <a:avLst/>
            <a:gdLst>
              <a:gd name="textAreaLeft" fmla="*/ 53640 w 577800"/>
              <a:gd name="textAreaRight" fmla="*/ 524160 w 577800"/>
              <a:gd name="textAreaTop" fmla="*/ 53640 h 627840"/>
              <a:gd name="textAreaBottom" fmla="*/ 574200 h 627840"/>
            </a:gdLst>
            <a:ahLst/>
            <a:rect l="textAreaLeft" t="textAreaTop" r="textAreaRight" b="textAreaBottom"/>
            <a:pathLst>
              <a:path w="21600" h="23469">
                <a:moveTo>
                  <a:pt x="6866" y="0"/>
                </a:moveTo>
                <a:arcTo wR="6866" hR="6866" stAng="16200000" swAng="-5400000"/>
                <a:lnTo>
                  <a:pt x="0" y="16603"/>
                </a:lnTo>
                <a:arcTo wR="6866" hR="6866" stAng="10800000" swAng="-5400000"/>
                <a:lnTo>
                  <a:pt x="14734" y="23469"/>
                </a:lnTo>
                <a:arcTo wR="6866" hR="6866" stAng="5400000" swAng="-5400000"/>
                <a:lnTo>
                  <a:pt x="21600" y="6866"/>
                </a:lnTo>
                <a:arcTo wR="6866" hR="686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矩形 37"/>
          <p:cNvSpPr/>
          <p:nvPr/>
        </p:nvSpPr>
        <p:spPr>
          <a:xfrm>
            <a:off x="4824360" y="149688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4246560" y="1568520"/>
            <a:ext cx="3313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（个）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Box 8"/>
          <p:cNvSpPr/>
          <p:nvPr/>
        </p:nvSpPr>
        <p:spPr>
          <a:xfrm>
            <a:off x="4976640" y="1568520"/>
            <a:ext cx="1071720" cy="71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Box 8"/>
          <p:cNvSpPr/>
          <p:nvPr/>
        </p:nvSpPr>
        <p:spPr>
          <a:xfrm>
            <a:off x="1892160" y="2143080"/>
            <a:ext cx="482292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根据商不变的性质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1" name="Object 50"/>
          <p:cNvGraphicFramePr/>
          <p:nvPr/>
        </p:nvGraphicFramePr>
        <p:xfrm>
          <a:off x="3786120" y="2857680"/>
          <a:ext cx="64296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2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6120" y="2857680"/>
                    <a:ext cx="64296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3" name="Object 51"/>
          <p:cNvGraphicFramePr/>
          <p:nvPr/>
        </p:nvGraphicFramePr>
        <p:xfrm>
          <a:off x="3429000" y="3535200"/>
          <a:ext cx="227808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4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535200"/>
                    <a:ext cx="22780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Object 52"/>
          <p:cNvGraphicFramePr/>
          <p:nvPr/>
        </p:nvGraphicFramePr>
        <p:xfrm>
          <a:off x="3429000" y="4303800"/>
          <a:ext cx="146052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6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303800"/>
                    <a:ext cx="1460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53"/>
          <p:cNvGraphicFramePr/>
          <p:nvPr/>
        </p:nvGraphicFramePr>
        <p:xfrm>
          <a:off x="3429000" y="5000760"/>
          <a:ext cx="84132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8" name="Object 5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5000760"/>
                    <a:ext cx="8413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9" name="Object 54"/>
          <p:cNvGraphicFramePr/>
          <p:nvPr/>
        </p:nvGraphicFramePr>
        <p:xfrm>
          <a:off x="3429000" y="5680080"/>
          <a:ext cx="471600" cy="32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0" name="Object 5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5680080"/>
                    <a:ext cx="4716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58:22Z</dcterms:created>
  <dc:creator/>
  <dc:description/>
  <cp:keywords/>
  <dc:language>en-US</dc:language>
  <cp:lastModifiedBy/>
  <dcterms:modified xsi:type="dcterms:W3CDTF">2017-12-20T14:34:27Z</dcterms:modified>
  <cp:revision>1</cp:revision>
  <dc:subject/>
  <dc:title/>
</cp:coreProperties>
</file>