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3FEB-F419-450B-9BBA-D524711372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D8A1-0165-45EF-8508-FC616167F5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EE1-4A2F-4CF8-B5BA-2F653C6255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62A1-3FA5-4084-9788-3F44962C42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3D6C-612A-415E-A4AE-A00CCFD0D5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9BA9-13C0-494E-AE4E-92007023C5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2D6-5394-4C71-ADE4-F93ED03319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9C60-F25A-4C0E-918F-64FD5EF394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B10D-AF5A-4ED8-9169-8F4884CA3A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3F2-7AF0-477D-A8B0-D89968C7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25C-F1CC-4BD2-83A0-58A6DC5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E9D-4838-443C-9BBF-C02FA5E3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57C-4FBD-4EA8-B8C5-E6681BBA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CBC-3B60-4883-89CE-42C21002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378-BC78-4BD2-BB00-8AECC4F5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156-B44F-4E36-AE4B-DF14B8C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137-BB61-44FA-9204-CE5AD211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791-5F01-4BE0-A6E9-BCE4EC29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E65-240D-4D40-AF23-0A4F1B4E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41A-184D-413C-95B6-3E239E9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BE7-EA48-4E05-98A9-F681857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B8B6-3EB3-4770-A1EC-6ECAE9FB60A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49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73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97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09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"/>
          <p:cNvSpPr/>
          <p:nvPr/>
        </p:nvSpPr>
        <p:spPr>
          <a:xfrm>
            <a:off x="1844640" y="18572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除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611280" y="6033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642960" y="928800"/>
            <a:ext cx="80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条丝带长   米，做一朵花要   米。这条丝带可以做多少朵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785960" y="2262240"/>
            <a:ext cx="58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8"/>
          <p:cNvGraphicFramePr/>
          <p:nvPr/>
        </p:nvGraphicFramePr>
        <p:xfrm>
          <a:off x="2517840" y="843120"/>
          <a:ext cx="5540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843120"/>
                    <a:ext cx="554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4"/>
          <p:cNvGraphicFramePr/>
          <p:nvPr/>
        </p:nvGraphicFramePr>
        <p:xfrm>
          <a:off x="5572080" y="857160"/>
          <a:ext cx="55404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080" y="85716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1571760" y="355752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右大括号 18"/>
          <p:cNvSpPr/>
          <p:nvPr/>
        </p:nvSpPr>
        <p:spPr>
          <a:xfrm rot="5400000">
            <a:off x="2291400" y="3223440"/>
            <a:ext cx="360360" cy="1800000"/>
          </a:xfrm>
          <a:custGeom>
            <a:avLst/>
            <a:gdLst>
              <a:gd name="textAreaLeft" fmla="*/ 0 w 360360"/>
              <a:gd name="textAreaRight" fmla="*/ 129960 w 360360"/>
              <a:gd name="textAreaTop" fmla="*/ 64800 h 1800000"/>
              <a:gd name="textAreaBottom" fmla="*/ 1735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5"/>
                  <a:pt x="10800" y="2489"/>
                </a:cubicBezTo>
                <a:lnTo>
                  <a:pt x="10800" y="8311"/>
                </a:lnTo>
                <a:cubicBezTo>
                  <a:pt x="10800" y="9556"/>
                  <a:pt x="16200" y="10800"/>
                  <a:pt x="21600" y="10800"/>
                </a:cubicBezTo>
                <a:cubicBezTo>
                  <a:pt x="16200" y="10800"/>
                  <a:pt x="10800" y="12045"/>
                  <a:pt x="10800" y="13289"/>
                </a:cubicBezTo>
                <a:lnTo>
                  <a:pt x="10800" y="19111"/>
                </a:lnTo>
                <a:cubicBezTo>
                  <a:pt x="10800" y="20356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右大括号 20"/>
          <p:cNvSpPr/>
          <p:nvPr/>
        </p:nvSpPr>
        <p:spPr>
          <a:xfrm flipH="1" rot="5400000">
            <a:off x="4178160" y="635760"/>
            <a:ext cx="285840" cy="5500440"/>
          </a:xfrm>
          <a:custGeom>
            <a:avLst/>
            <a:gdLst>
              <a:gd name="textAreaLeft" fmla="*/ 360 w 285840"/>
              <a:gd name="textAreaRight" fmla="*/ 103680 w 285840"/>
              <a:gd name="textAreaTop" fmla="*/ 51480 h 5500440"/>
              <a:gd name="textAreaBottom" fmla="*/ 5448960 h 55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16200" y="10800"/>
                  <a:pt x="21600" y="10800"/>
                </a:cubicBezTo>
                <a:cubicBezTo>
                  <a:pt x="162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5"/>
          <p:cNvGraphicFramePr/>
          <p:nvPr/>
        </p:nvGraphicFramePr>
        <p:xfrm>
          <a:off x="4071960" y="2286000"/>
          <a:ext cx="977760" cy="10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286000"/>
                    <a:ext cx="97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6"/>
          <p:cNvGraphicFramePr/>
          <p:nvPr/>
        </p:nvGraphicFramePr>
        <p:xfrm>
          <a:off x="2022480" y="4200480"/>
          <a:ext cx="977760" cy="10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22480" y="4200480"/>
                    <a:ext cx="97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7"/>
          <p:cNvGraphicFramePr/>
          <p:nvPr/>
        </p:nvGraphicFramePr>
        <p:xfrm>
          <a:off x="1428840" y="5129280"/>
          <a:ext cx="319392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3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8840" y="5129280"/>
                    <a:ext cx="3193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右大括号 21"/>
          <p:cNvSpPr/>
          <p:nvPr/>
        </p:nvSpPr>
        <p:spPr>
          <a:xfrm rot="5400000">
            <a:off x="4134240" y="32090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64800 h 1800360"/>
              <a:gd name="textAreaBottom" fmla="*/ 1735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5"/>
                  <a:pt x="10800" y="2489"/>
                </a:cubicBezTo>
                <a:lnTo>
                  <a:pt x="10800" y="8311"/>
                </a:lnTo>
                <a:cubicBezTo>
                  <a:pt x="10800" y="9556"/>
                  <a:pt x="16200" y="10800"/>
                  <a:pt x="21600" y="10800"/>
                </a:cubicBezTo>
                <a:cubicBezTo>
                  <a:pt x="16200" y="10800"/>
                  <a:pt x="10800" y="12045"/>
                  <a:pt x="10800" y="13289"/>
                </a:cubicBezTo>
                <a:lnTo>
                  <a:pt x="10800" y="19111"/>
                </a:lnTo>
                <a:cubicBezTo>
                  <a:pt x="10800" y="20356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Object 18"/>
          <p:cNvGraphicFramePr/>
          <p:nvPr/>
        </p:nvGraphicFramePr>
        <p:xfrm>
          <a:off x="3865680" y="4186080"/>
          <a:ext cx="977760" cy="101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6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5680" y="4186080"/>
                    <a:ext cx="977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右大括号 23"/>
          <p:cNvSpPr/>
          <p:nvPr/>
        </p:nvSpPr>
        <p:spPr>
          <a:xfrm rot="5400000">
            <a:off x="5934600" y="320904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64800 h 1800360"/>
              <a:gd name="textAreaBottom" fmla="*/ 1735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5"/>
                  <a:pt x="10800" y="2489"/>
                </a:cubicBezTo>
                <a:lnTo>
                  <a:pt x="10800" y="8311"/>
                </a:lnTo>
                <a:cubicBezTo>
                  <a:pt x="10800" y="9556"/>
                  <a:pt x="16200" y="10800"/>
                  <a:pt x="21600" y="10800"/>
                </a:cubicBezTo>
                <a:cubicBezTo>
                  <a:pt x="16200" y="10800"/>
                  <a:pt x="10800" y="12045"/>
                  <a:pt x="10800" y="13289"/>
                </a:cubicBezTo>
                <a:lnTo>
                  <a:pt x="10800" y="19111"/>
                </a:lnTo>
                <a:cubicBezTo>
                  <a:pt x="10800" y="20356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19"/>
          <p:cNvGraphicFramePr/>
          <p:nvPr/>
        </p:nvGraphicFramePr>
        <p:xfrm>
          <a:off x="5665680" y="4186080"/>
          <a:ext cx="978120" cy="101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9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65680" y="4186080"/>
                    <a:ext cx="978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4"/>
          <p:cNvSpPr/>
          <p:nvPr/>
        </p:nvSpPr>
        <p:spPr>
          <a:xfrm>
            <a:off x="4786200" y="535788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会列式计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642960" y="901800"/>
            <a:ext cx="80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条丝带长   米，做一朵花要   米。这条丝带可以做多少朵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8"/>
          <p:cNvGraphicFramePr/>
          <p:nvPr/>
        </p:nvGraphicFramePr>
        <p:xfrm>
          <a:off x="2517840" y="816120"/>
          <a:ext cx="5540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816120"/>
                    <a:ext cx="554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4"/>
          <p:cNvGraphicFramePr/>
          <p:nvPr/>
        </p:nvGraphicFramePr>
        <p:xfrm>
          <a:off x="5572080" y="830160"/>
          <a:ext cx="55404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080" y="83016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Text Box 4"/>
          <p:cNvSpPr/>
          <p:nvPr/>
        </p:nvSpPr>
        <p:spPr>
          <a:xfrm>
            <a:off x="2071800" y="228600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做朵数＝总米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朵花米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15"/>
          <p:cNvGraphicFramePr/>
          <p:nvPr/>
        </p:nvGraphicFramePr>
        <p:xfrm>
          <a:off x="4143240" y="2700360"/>
          <a:ext cx="554040" cy="10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270036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 Box 4"/>
          <p:cNvSpPr/>
          <p:nvPr/>
        </p:nvSpPr>
        <p:spPr>
          <a:xfrm>
            <a:off x="4857840" y="29764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16"/>
          <p:cNvGraphicFramePr/>
          <p:nvPr/>
        </p:nvGraphicFramePr>
        <p:xfrm>
          <a:off x="5589720" y="2714760"/>
          <a:ext cx="554040" cy="101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9720" y="2714760"/>
                    <a:ext cx="554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4"/>
          <p:cNvSpPr/>
          <p:nvPr/>
        </p:nvSpPr>
        <p:spPr>
          <a:xfrm>
            <a:off x="2214720" y="5643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分数除法如何计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571840" y="36910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一：换算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7"/>
          <p:cNvGraphicFramePr/>
          <p:nvPr/>
        </p:nvGraphicFramePr>
        <p:xfrm>
          <a:off x="2011320" y="4214880"/>
          <a:ext cx="234648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5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11320" y="4214880"/>
                    <a:ext cx="2346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18"/>
          <p:cNvGraphicFramePr/>
          <p:nvPr/>
        </p:nvGraphicFramePr>
        <p:xfrm>
          <a:off x="4726080" y="4214880"/>
          <a:ext cx="2346120" cy="101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7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6080" y="4214880"/>
                    <a:ext cx="2346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4"/>
          <p:cNvSpPr/>
          <p:nvPr/>
        </p:nvSpPr>
        <p:spPr>
          <a:xfrm>
            <a:off x="3571920" y="5143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÷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642960" y="901800"/>
            <a:ext cx="80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条丝带长   米，做一朵花要   米。这条丝带可以做多少朵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8"/>
          <p:cNvGraphicFramePr/>
          <p:nvPr/>
        </p:nvGraphicFramePr>
        <p:xfrm>
          <a:off x="2517840" y="816120"/>
          <a:ext cx="5540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816120"/>
                    <a:ext cx="554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14"/>
          <p:cNvGraphicFramePr/>
          <p:nvPr/>
        </p:nvGraphicFramePr>
        <p:xfrm>
          <a:off x="5572080" y="830160"/>
          <a:ext cx="55404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080" y="83016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 Box 4"/>
          <p:cNvSpPr/>
          <p:nvPr/>
        </p:nvSpPr>
        <p:spPr>
          <a:xfrm>
            <a:off x="2071800" y="30718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分数的分数单位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4"/>
          <p:cNvGraphicFramePr/>
          <p:nvPr/>
        </p:nvGraphicFramePr>
        <p:xfrm>
          <a:off x="3000240" y="2071800"/>
          <a:ext cx="554040" cy="10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07180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Text Box 4"/>
          <p:cNvSpPr/>
          <p:nvPr/>
        </p:nvSpPr>
        <p:spPr>
          <a:xfrm>
            <a:off x="3429000" y="23194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3857760" y="2057400"/>
          <a:ext cx="554040" cy="10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7760" y="2057400"/>
                    <a:ext cx="5540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4"/>
          <p:cNvSpPr/>
          <p:nvPr/>
        </p:nvSpPr>
        <p:spPr>
          <a:xfrm>
            <a:off x="1214280" y="5572080"/>
            <a:ext cx="7286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分母分数相除，只要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相除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可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768920" y="23288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÷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268880" y="232884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143080" y="354816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里面有几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785960" y="40719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6"/>
          <p:cNvGraphicFramePr/>
          <p:nvPr/>
        </p:nvGraphicFramePr>
        <p:xfrm>
          <a:off x="1357200" y="4572000"/>
          <a:ext cx="130356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57200" y="4572000"/>
                    <a:ext cx="13035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9"/>
          <p:cNvGraphicFramePr/>
          <p:nvPr/>
        </p:nvGraphicFramePr>
        <p:xfrm>
          <a:off x="3786120" y="4572000"/>
          <a:ext cx="1303560" cy="101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4572000"/>
                    <a:ext cx="13035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0"/>
          <p:cNvGraphicFramePr/>
          <p:nvPr/>
        </p:nvGraphicFramePr>
        <p:xfrm>
          <a:off x="5927760" y="4572000"/>
          <a:ext cx="1628640" cy="101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27760" y="4572000"/>
                    <a:ext cx="16286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ext Box 4"/>
          <p:cNvSpPr/>
          <p:nvPr/>
        </p:nvSpPr>
        <p:spPr>
          <a:xfrm>
            <a:off x="2571840" y="47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12"/>
          <p:cNvGraphicFramePr/>
          <p:nvPr/>
        </p:nvGraphicFramePr>
        <p:xfrm>
          <a:off x="5072040" y="4557600"/>
          <a:ext cx="358920" cy="101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72040" y="4557600"/>
                    <a:ext cx="358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13"/>
          <p:cNvGraphicFramePr/>
          <p:nvPr/>
        </p:nvGraphicFramePr>
        <p:xfrm>
          <a:off x="7499520" y="4557600"/>
          <a:ext cx="358560" cy="101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99520" y="4557600"/>
                    <a:ext cx="3585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2162160" y="100008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异分母分数除法如何计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4"/>
          <p:cNvGraphicFramePr/>
          <p:nvPr/>
        </p:nvGraphicFramePr>
        <p:xfrm>
          <a:off x="3116160" y="1614600"/>
          <a:ext cx="126684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6160" y="1614600"/>
                    <a:ext cx="12668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Text Box 4"/>
          <p:cNvSpPr/>
          <p:nvPr/>
        </p:nvSpPr>
        <p:spPr>
          <a:xfrm>
            <a:off x="2295360" y="254808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使它们的分数单位相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081160" y="304812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通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795840" y="304812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16"/>
          <p:cNvGraphicFramePr/>
          <p:nvPr/>
        </p:nvGraphicFramePr>
        <p:xfrm>
          <a:off x="2295360" y="3571920"/>
          <a:ext cx="114300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5360" y="3571920"/>
                    <a:ext cx="1143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7"/>
          <p:cNvGraphicFramePr/>
          <p:nvPr/>
        </p:nvGraphicFramePr>
        <p:xfrm>
          <a:off x="4295880" y="3571920"/>
          <a:ext cx="114300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5880" y="3571920"/>
                    <a:ext cx="1143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8"/>
          <p:cNvGraphicFramePr/>
          <p:nvPr/>
        </p:nvGraphicFramePr>
        <p:xfrm>
          <a:off x="3929040" y="4586400"/>
          <a:ext cx="240984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4586400"/>
                    <a:ext cx="24098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9"/>
          <p:cNvGraphicFramePr/>
          <p:nvPr/>
        </p:nvGraphicFramePr>
        <p:xfrm>
          <a:off x="6248520" y="4614840"/>
          <a:ext cx="68076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4614840"/>
                    <a:ext cx="6807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20"/>
          <p:cNvGraphicFramePr/>
          <p:nvPr/>
        </p:nvGraphicFramePr>
        <p:xfrm>
          <a:off x="4295880" y="1614600"/>
          <a:ext cx="371520" cy="9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95880" y="1614600"/>
                    <a:ext cx="3715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Text Box 4"/>
          <p:cNvSpPr/>
          <p:nvPr/>
        </p:nvSpPr>
        <p:spPr>
          <a:xfrm>
            <a:off x="2143080" y="478620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63"/>
          <p:cNvSpPr/>
          <p:nvPr/>
        </p:nvSpPr>
        <p:spPr>
          <a:xfrm>
            <a:off x="5715000" y="3286080"/>
            <a:ext cx="1000080" cy="292896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2"/>
          <p:cNvSpPr/>
          <p:nvPr/>
        </p:nvSpPr>
        <p:spPr>
          <a:xfrm>
            <a:off x="2643120" y="3286080"/>
            <a:ext cx="1000080" cy="292896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357200" y="85716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下面的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1677960" y="1471680"/>
          <a:ext cx="123660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71680"/>
                    <a:ext cx="1236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53"/>
          <p:cNvGraphicFramePr/>
          <p:nvPr/>
        </p:nvGraphicFramePr>
        <p:xfrm>
          <a:off x="2832120" y="1428840"/>
          <a:ext cx="52560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2120" y="1428840"/>
                    <a:ext cx="525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54"/>
          <p:cNvGraphicFramePr/>
          <p:nvPr/>
        </p:nvGraphicFramePr>
        <p:xfrm>
          <a:off x="3963960" y="1471680"/>
          <a:ext cx="123660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3960" y="1471680"/>
                    <a:ext cx="1236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55"/>
          <p:cNvGraphicFramePr/>
          <p:nvPr/>
        </p:nvGraphicFramePr>
        <p:xfrm>
          <a:off x="5118120" y="1428840"/>
          <a:ext cx="52560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8120" y="1428840"/>
                    <a:ext cx="525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 Box 4"/>
          <p:cNvSpPr/>
          <p:nvPr/>
        </p:nvSpPr>
        <p:spPr>
          <a:xfrm>
            <a:off x="1071720" y="23572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两分数的积与两分数的分子、分母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56"/>
          <p:cNvGraphicFramePr/>
          <p:nvPr/>
        </p:nvGraphicFramePr>
        <p:xfrm>
          <a:off x="6058080" y="1471680"/>
          <a:ext cx="126648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6" name="Object 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58080" y="1471680"/>
                    <a:ext cx="12664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57"/>
          <p:cNvGraphicFramePr/>
          <p:nvPr/>
        </p:nvGraphicFramePr>
        <p:xfrm>
          <a:off x="7226280" y="1428840"/>
          <a:ext cx="525600" cy="95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8" name="Object 5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26280" y="1428840"/>
                    <a:ext cx="525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58"/>
          <p:cNvGraphicFramePr/>
          <p:nvPr/>
        </p:nvGraphicFramePr>
        <p:xfrm>
          <a:off x="2714760" y="3286080"/>
          <a:ext cx="281124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0" name="Object 5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14760" y="3286080"/>
                    <a:ext cx="28112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直接连接符 40"/>
          <p:cNvSpPr/>
          <p:nvPr/>
        </p:nvSpPr>
        <p:spPr>
          <a:xfrm>
            <a:off x="1928880" y="1714680"/>
            <a:ext cx="42840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42"/>
          <p:cNvSpPr/>
          <p:nvPr/>
        </p:nvSpPr>
        <p:spPr>
          <a:xfrm flipV="1">
            <a:off x="2000160" y="1714320"/>
            <a:ext cx="285840" cy="50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59"/>
          <p:cNvGraphicFramePr/>
          <p:nvPr/>
        </p:nvGraphicFramePr>
        <p:xfrm>
          <a:off x="5459400" y="3286080"/>
          <a:ext cx="1236600" cy="957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4" name="Object 5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59400" y="3286080"/>
                    <a:ext cx="1236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60"/>
          <p:cNvGraphicFramePr/>
          <p:nvPr/>
        </p:nvGraphicFramePr>
        <p:xfrm>
          <a:off x="2768760" y="4257720"/>
          <a:ext cx="3803400" cy="957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6" name="Object 6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68760" y="4257720"/>
                    <a:ext cx="3803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61"/>
          <p:cNvGraphicFramePr/>
          <p:nvPr/>
        </p:nvGraphicFramePr>
        <p:xfrm>
          <a:off x="2714760" y="5257800"/>
          <a:ext cx="3862080" cy="957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68" name="Object 6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14760" y="5257800"/>
                    <a:ext cx="38620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21"/>
          <p:cNvSpPr/>
          <p:nvPr/>
        </p:nvSpPr>
        <p:spPr>
          <a:xfrm>
            <a:off x="5715000" y="1143000"/>
            <a:ext cx="1000080" cy="292896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2"/>
          <p:cNvSpPr/>
          <p:nvPr/>
        </p:nvSpPr>
        <p:spPr>
          <a:xfrm>
            <a:off x="2643120" y="1143000"/>
            <a:ext cx="1000080" cy="292896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Object 22"/>
          <p:cNvGraphicFramePr/>
          <p:nvPr/>
        </p:nvGraphicFramePr>
        <p:xfrm>
          <a:off x="2714760" y="1143000"/>
          <a:ext cx="281124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1143000"/>
                    <a:ext cx="28112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3"/>
          <p:cNvGraphicFramePr/>
          <p:nvPr/>
        </p:nvGraphicFramePr>
        <p:xfrm>
          <a:off x="5459400" y="1143000"/>
          <a:ext cx="123660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9400" y="1143000"/>
                    <a:ext cx="1236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4"/>
          <p:cNvGraphicFramePr/>
          <p:nvPr/>
        </p:nvGraphicFramePr>
        <p:xfrm>
          <a:off x="2768760" y="2114640"/>
          <a:ext cx="380340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6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2114640"/>
                    <a:ext cx="3803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25"/>
          <p:cNvGraphicFramePr/>
          <p:nvPr/>
        </p:nvGraphicFramePr>
        <p:xfrm>
          <a:off x="2714760" y="3114720"/>
          <a:ext cx="386208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8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3114720"/>
                    <a:ext cx="38620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Box 1"/>
          <p:cNvSpPr/>
          <p:nvPr/>
        </p:nvSpPr>
        <p:spPr>
          <a:xfrm>
            <a:off x="785880" y="4143240"/>
            <a:ext cx="7929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数除以乙数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外），等于甲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乙数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26"/>
          <p:cNvGraphicFramePr/>
          <p:nvPr/>
        </p:nvGraphicFramePr>
        <p:xfrm>
          <a:off x="3643200" y="4757760"/>
          <a:ext cx="216396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1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3200" y="4757760"/>
                    <a:ext cx="2163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"/>
          <p:cNvSpPr/>
          <p:nvPr/>
        </p:nvSpPr>
        <p:spPr>
          <a:xfrm>
            <a:off x="1285920" y="928800"/>
            <a:ext cx="657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将下列除法算式改为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Object 6"/>
          <p:cNvGraphicFramePr/>
          <p:nvPr/>
        </p:nvGraphicFramePr>
        <p:xfrm>
          <a:off x="1571760" y="1685880"/>
          <a:ext cx="129528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685880"/>
                    <a:ext cx="1295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9"/>
          <p:cNvGraphicFramePr/>
          <p:nvPr/>
        </p:nvGraphicFramePr>
        <p:xfrm>
          <a:off x="2828880" y="1719360"/>
          <a:ext cx="90180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8880" y="1719360"/>
                    <a:ext cx="9018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11"/>
          <p:cNvGraphicFramePr/>
          <p:nvPr/>
        </p:nvGraphicFramePr>
        <p:xfrm>
          <a:off x="4984920" y="1714680"/>
          <a:ext cx="1295280" cy="101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4920" y="1714680"/>
                    <a:ext cx="1295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12"/>
          <p:cNvGraphicFramePr/>
          <p:nvPr/>
        </p:nvGraphicFramePr>
        <p:xfrm>
          <a:off x="6242040" y="1747800"/>
          <a:ext cx="90180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2040" y="1747800"/>
                    <a:ext cx="9018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3"/>
          <p:cNvGraphicFramePr/>
          <p:nvPr/>
        </p:nvGraphicFramePr>
        <p:xfrm>
          <a:off x="1555920" y="3086280"/>
          <a:ext cx="1326960" cy="101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5920" y="3086280"/>
                    <a:ext cx="132696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4"/>
          <p:cNvGraphicFramePr/>
          <p:nvPr/>
        </p:nvGraphicFramePr>
        <p:xfrm>
          <a:off x="2828880" y="3119400"/>
          <a:ext cx="90180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3119400"/>
                    <a:ext cx="9018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15"/>
          <p:cNvGraphicFramePr/>
          <p:nvPr/>
        </p:nvGraphicFramePr>
        <p:xfrm>
          <a:off x="4822920" y="3114720"/>
          <a:ext cx="1619280" cy="101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6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22920" y="3114720"/>
                    <a:ext cx="1619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16"/>
          <p:cNvGraphicFramePr/>
          <p:nvPr/>
        </p:nvGraphicFramePr>
        <p:xfrm>
          <a:off x="6348240" y="3147840"/>
          <a:ext cx="1224000" cy="99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8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48240" y="3147840"/>
                    <a:ext cx="12240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17"/>
          <p:cNvGraphicFramePr/>
          <p:nvPr/>
        </p:nvGraphicFramePr>
        <p:xfrm>
          <a:off x="1652760" y="4371840"/>
          <a:ext cx="1164960" cy="101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0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52760" y="4371840"/>
                    <a:ext cx="11649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18"/>
          <p:cNvGraphicFramePr/>
          <p:nvPr/>
        </p:nvGraphicFramePr>
        <p:xfrm>
          <a:off x="2844720" y="4405320"/>
          <a:ext cx="901800" cy="995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2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44720" y="4405320"/>
                    <a:ext cx="9018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19"/>
          <p:cNvGraphicFramePr/>
          <p:nvPr/>
        </p:nvGraphicFramePr>
        <p:xfrm>
          <a:off x="4902120" y="4694400"/>
          <a:ext cx="1490760" cy="425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4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02120" y="4694400"/>
                    <a:ext cx="149076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20"/>
          <p:cNvGraphicFramePr/>
          <p:nvPr/>
        </p:nvGraphicFramePr>
        <p:xfrm>
          <a:off x="6364440" y="4433760"/>
          <a:ext cx="1223640" cy="99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6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64440" y="4433760"/>
                    <a:ext cx="12236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714240" y="10000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在括号里或圆圈里填入正确的数或运算符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Object 6"/>
          <p:cNvGraphicFramePr/>
          <p:nvPr/>
        </p:nvGraphicFramePr>
        <p:xfrm>
          <a:off x="1793880" y="1614600"/>
          <a:ext cx="233208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1614600"/>
                    <a:ext cx="2332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9"/>
          <p:cNvGraphicFramePr/>
          <p:nvPr/>
        </p:nvGraphicFramePr>
        <p:xfrm>
          <a:off x="3652920" y="1647720"/>
          <a:ext cx="3538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2920" y="1647720"/>
                    <a:ext cx="353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0"/>
          <p:cNvGraphicFramePr/>
          <p:nvPr/>
        </p:nvGraphicFramePr>
        <p:xfrm>
          <a:off x="4923000" y="1614600"/>
          <a:ext cx="2363760" cy="10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3000" y="1614600"/>
                    <a:ext cx="2363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11"/>
          <p:cNvGraphicFramePr/>
          <p:nvPr/>
        </p:nvGraphicFramePr>
        <p:xfrm>
          <a:off x="5581800" y="1614600"/>
          <a:ext cx="38556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1800" y="1614600"/>
                    <a:ext cx="3855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2"/>
          <p:cNvGraphicFramePr/>
          <p:nvPr/>
        </p:nvGraphicFramePr>
        <p:xfrm>
          <a:off x="1770120" y="2757600"/>
          <a:ext cx="236376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2757600"/>
                    <a:ext cx="2363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3"/>
          <p:cNvGraphicFramePr/>
          <p:nvPr/>
        </p:nvGraphicFramePr>
        <p:xfrm>
          <a:off x="3146400" y="2790720"/>
          <a:ext cx="35388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6400" y="2790720"/>
                    <a:ext cx="353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4"/>
          <p:cNvGraphicFramePr/>
          <p:nvPr/>
        </p:nvGraphicFramePr>
        <p:xfrm>
          <a:off x="5000760" y="2771640"/>
          <a:ext cx="2428920" cy="101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2771640"/>
                    <a:ext cx="24289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TextBox 1"/>
          <p:cNvSpPr/>
          <p:nvPr/>
        </p:nvSpPr>
        <p:spPr>
          <a:xfrm>
            <a:off x="5357880" y="300024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4:21Z</dcterms:modified>
  <cp:revision>1</cp:revision>
  <dc:subject/>
  <dc:title/>
</cp:coreProperties>
</file>