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3AF3-3651-4B09-9DFE-41F4D64B0D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B84E-F3B5-4AC8-9B23-2944D6F005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9199-B6C6-4F84-93C6-F56B4EA052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A7D-8ECA-4BDA-B0C4-C6093224A7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EE04-F1A8-41C5-99B5-A392817F0B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9615-9C2F-492A-874D-86F23E76B54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616-629E-4F4A-8937-E9A53ABC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2E9-DA92-48E0-B4AB-FC6801D2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49A-551D-426D-8A63-1AFC8456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E7A-DBCD-4456-89BA-CEDD22AF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881-CFF1-4440-8AE1-8991E566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DBB-1B17-41F9-8F86-303CD69A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9F5-246E-4611-A475-0C64F784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1F1-A57E-4506-95C8-5B1AF8D9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F75-B9FA-4CE2-8AF4-EE9CEB4F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D803-F16B-4C3F-87CE-203A6B6F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115-2A51-465D-B4AC-5670AF11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5FF-BE6E-4C7E-9EAC-C326286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1110-A1E7-46D1-A8FA-23AE7F3B79D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1116000" y="1773360"/>
            <a:ext cx="7586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2.14 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简单的分数应用问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650880" y="620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3"/>
          <p:cNvSpPr/>
          <p:nvPr/>
        </p:nvSpPr>
        <p:spPr>
          <a:xfrm>
            <a:off x="571680" y="10447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品店运来豆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相当于花生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来花生油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Object 2"/>
          <p:cNvGraphicFramePr/>
          <p:nvPr/>
        </p:nvGraphicFramePr>
        <p:xfrm>
          <a:off x="7862760" y="836640"/>
          <a:ext cx="36684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62760" y="836640"/>
                    <a:ext cx="36684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4"/>
          <p:cNvGraphicFramePr/>
          <p:nvPr/>
        </p:nvGraphicFramePr>
        <p:xfrm>
          <a:off x="2689200" y="4681440"/>
          <a:ext cx="376560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9200" y="4681440"/>
                    <a:ext cx="37656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TextBox 1"/>
          <p:cNvSpPr/>
          <p:nvPr/>
        </p:nvSpPr>
        <p:spPr>
          <a:xfrm>
            <a:off x="2428920" y="5548320"/>
            <a:ext cx="52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运来花生油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1685880" y="2000160"/>
            <a:ext cx="6029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3"/>
          <p:cNvSpPr/>
          <p:nvPr/>
        </p:nvSpPr>
        <p:spPr>
          <a:xfrm>
            <a:off x="642960" y="979560"/>
            <a:ext cx="7858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明体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他的体重是爸爸的   ，小明爸爸体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2"/>
          <p:cNvGraphicFramePr/>
          <p:nvPr/>
        </p:nvGraphicFramePr>
        <p:xfrm>
          <a:off x="7140600" y="857160"/>
          <a:ext cx="51912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0600" y="857160"/>
                    <a:ext cx="5191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TextBox 1"/>
          <p:cNvSpPr/>
          <p:nvPr/>
        </p:nvSpPr>
        <p:spPr>
          <a:xfrm>
            <a:off x="1928880" y="226224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用方程解决这个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"/>
          <p:cNvSpPr/>
          <p:nvPr/>
        </p:nvSpPr>
        <p:spPr>
          <a:xfrm>
            <a:off x="1928880" y="278604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爸爸的体重看作单位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组合 24"/>
          <p:cNvGrpSpPr/>
          <p:nvPr/>
        </p:nvGrpSpPr>
        <p:grpSpPr>
          <a:xfrm>
            <a:off x="1928880" y="3267000"/>
            <a:ext cx="6429240" cy="947880"/>
            <a:chOff x="1928880" y="3267000"/>
            <a:chExt cx="6429240" cy="947880"/>
          </a:xfrm>
        </p:grpSpPr>
        <p:sp>
          <p:nvSpPr>
            <p:cNvPr id="506" name="TextBox 1"/>
            <p:cNvSpPr/>
            <p:nvPr/>
          </p:nvSpPr>
          <p:spPr>
            <a:xfrm>
              <a:off x="1928880" y="3458160"/>
              <a:ext cx="642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明的体重是爸爸体重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7" name="Object 3"/>
            <p:cNvGraphicFramePr/>
            <p:nvPr/>
          </p:nvGraphicFramePr>
          <p:xfrm>
            <a:off x="5910480" y="3267000"/>
            <a:ext cx="519120" cy="94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10480" y="3267000"/>
                      <a:ext cx="519120" cy="9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9" name="组合 25"/>
          <p:cNvGrpSpPr/>
          <p:nvPr/>
        </p:nvGrpSpPr>
        <p:grpSpPr>
          <a:xfrm>
            <a:off x="2143080" y="4195440"/>
            <a:ext cx="4500720" cy="948240"/>
            <a:chOff x="2143080" y="4195440"/>
            <a:chExt cx="4500720" cy="948240"/>
          </a:xfrm>
        </p:grpSpPr>
        <p:sp>
          <p:nvSpPr>
            <p:cNvPr id="510" name="TextBox 1"/>
            <p:cNvSpPr/>
            <p:nvPr/>
          </p:nvSpPr>
          <p:spPr>
            <a:xfrm>
              <a:off x="2143080" y="4386960"/>
              <a:ext cx="450072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爸爸体重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×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小明体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1" name="Object 15"/>
            <p:cNvGraphicFramePr/>
            <p:nvPr/>
          </p:nvGraphicFramePr>
          <p:xfrm>
            <a:off x="3929040" y="4195440"/>
            <a:ext cx="519120" cy="948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2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29040" y="4195440"/>
                      <a:ext cx="519120" cy="94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3" name="TextBox 1"/>
          <p:cNvSpPr/>
          <p:nvPr/>
        </p:nvSpPr>
        <p:spPr>
          <a:xfrm>
            <a:off x="5072040" y="4905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28"/>
          <p:cNvSpPr/>
          <p:nvPr/>
        </p:nvSpPr>
        <p:spPr>
          <a:xfrm>
            <a:off x="2214720" y="4294080"/>
            <a:ext cx="1500120" cy="714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"/>
          <p:cNvSpPr/>
          <p:nvPr/>
        </p:nvSpPr>
        <p:spPr>
          <a:xfrm>
            <a:off x="2786040" y="49766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13"/>
          <p:cNvGrpSpPr/>
          <p:nvPr/>
        </p:nvGrpSpPr>
        <p:grpSpPr>
          <a:xfrm>
            <a:off x="3071880" y="5338800"/>
            <a:ext cx="2357280" cy="1209600"/>
            <a:chOff x="3071880" y="5338800"/>
            <a:chExt cx="2357280" cy="1209600"/>
          </a:xfrm>
        </p:grpSpPr>
        <p:sp>
          <p:nvSpPr>
            <p:cNvPr id="517" name="TextBox 1"/>
            <p:cNvSpPr/>
            <p:nvPr/>
          </p:nvSpPr>
          <p:spPr>
            <a:xfrm>
              <a:off x="3071880" y="5601240"/>
              <a:ext cx="235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8" name="Object 14"/>
            <p:cNvGraphicFramePr/>
            <p:nvPr/>
          </p:nvGraphicFramePr>
          <p:xfrm>
            <a:off x="3730680" y="5338800"/>
            <a:ext cx="734760" cy="94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0680" y="5338800"/>
                      <a:ext cx="734760" cy="9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3"/>
          <p:cNvSpPr/>
          <p:nvPr/>
        </p:nvSpPr>
        <p:spPr>
          <a:xfrm>
            <a:off x="642960" y="97956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明体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他的体重是爸爸的   ，小明爸爸体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7140600" y="857160"/>
          <a:ext cx="51912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0600" y="857160"/>
                    <a:ext cx="5191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TextBox 1"/>
          <p:cNvSpPr/>
          <p:nvPr/>
        </p:nvSpPr>
        <p:spPr>
          <a:xfrm>
            <a:off x="1785960" y="190512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小明爸爸的体重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13"/>
          <p:cNvGrpSpPr/>
          <p:nvPr/>
        </p:nvGrpSpPr>
        <p:grpSpPr>
          <a:xfrm>
            <a:off x="3486240" y="2357280"/>
            <a:ext cx="2300040" cy="947880"/>
            <a:chOff x="3486240" y="2357280"/>
            <a:chExt cx="2300040" cy="947880"/>
          </a:xfrm>
        </p:grpSpPr>
        <p:sp>
          <p:nvSpPr>
            <p:cNvPr id="525" name="TextBox 1"/>
            <p:cNvSpPr/>
            <p:nvPr/>
          </p:nvSpPr>
          <p:spPr>
            <a:xfrm>
              <a:off x="3795480" y="2548440"/>
              <a:ext cx="199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6" name="Object 14"/>
            <p:cNvGraphicFramePr/>
            <p:nvPr/>
          </p:nvGraphicFramePr>
          <p:xfrm>
            <a:off x="3486240" y="2357280"/>
            <a:ext cx="520560" cy="94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7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86240" y="2357280"/>
                      <a:ext cx="520560" cy="9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8" name="TextBox 1"/>
          <p:cNvSpPr/>
          <p:nvPr/>
        </p:nvSpPr>
        <p:spPr>
          <a:xfrm>
            <a:off x="4000680" y="4691160"/>
            <a:ext cx="19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"/>
          <p:cNvSpPr/>
          <p:nvPr/>
        </p:nvSpPr>
        <p:spPr>
          <a:xfrm>
            <a:off x="2071800" y="511956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小明爸爸的体重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21"/>
          <p:cNvGrpSpPr/>
          <p:nvPr/>
        </p:nvGrpSpPr>
        <p:grpSpPr>
          <a:xfrm>
            <a:off x="3500280" y="2928960"/>
            <a:ext cx="3857760" cy="947880"/>
            <a:chOff x="3500280" y="2928960"/>
            <a:chExt cx="3857760" cy="947880"/>
          </a:xfrm>
        </p:grpSpPr>
        <p:sp>
          <p:nvSpPr>
            <p:cNvPr id="531" name="TextBox 1"/>
            <p:cNvSpPr/>
            <p:nvPr/>
          </p:nvSpPr>
          <p:spPr>
            <a:xfrm>
              <a:off x="3500280" y="3159000"/>
              <a:ext cx="38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2" name="Object 16"/>
            <p:cNvGraphicFramePr/>
            <p:nvPr/>
          </p:nvGraphicFramePr>
          <p:xfrm>
            <a:off x="5286240" y="2928960"/>
            <a:ext cx="520560" cy="94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3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86240" y="2928960"/>
                      <a:ext cx="520560" cy="9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4" name="组合 21"/>
          <p:cNvGrpSpPr/>
          <p:nvPr/>
        </p:nvGrpSpPr>
        <p:grpSpPr>
          <a:xfrm>
            <a:off x="3500280" y="3838680"/>
            <a:ext cx="3857760" cy="947520"/>
            <a:chOff x="3500280" y="3838680"/>
            <a:chExt cx="3857760" cy="947520"/>
          </a:xfrm>
        </p:grpSpPr>
        <p:sp>
          <p:nvSpPr>
            <p:cNvPr id="535" name="TextBox 1"/>
            <p:cNvSpPr/>
            <p:nvPr/>
          </p:nvSpPr>
          <p:spPr>
            <a:xfrm>
              <a:off x="3500280" y="4068360"/>
              <a:ext cx="38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6" name="Object 23"/>
            <p:cNvGraphicFramePr/>
            <p:nvPr/>
          </p:nvGraphicFramePr>
          <p:xfrm>
            <a:off x="5286240" y="3838680"/>
            <a:ext cx="520560" cy="94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7" name="Object 2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86240" y="3838680"/>
                      <a:ext cx="520560" cy="94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8" name="TextBox 1"/>
          <p:cNvSpPr/>
          <p:nvPr/>
        </p:nvSpPr>
        <p:spPr>
          <a:xfrm>
            <a:off x="2071800" y="564372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何验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642960" y="117144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明体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他的体重是爸爸的   ，小明爸爸体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Object 2"/>
          <p:cNvGraphicFramePr/>
          <p:nvPr/>
        </p:nvGraphicFramePr>
        <p:xfrm>
          <a:off x="7140600" y="976320"/>
          <a:ext cx="51912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0600" y="976320"/>
                    <a:ext cx="5191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2" name="组合 21"/>
          <p:cNvGrpSpPr/>
          <p:nvPr/>
        </p:nvGrpSpPr>
        <p:grpSpPr>
          <a:xfrm>
            <a:off x="2857680" y="3143160"/>
            <a:ext cx="3857400" cy="947880"/>
            <a:chOff x="2857680" y="3143160"/>
            <a:chExt cx="3857400" cy="947880"/>
          </a:xfrm>
        </p:grpSpPr>
        <p:sp>
          <p:nvSpPr>
            <p:cNvPr id="543" name="TextBox 1"/>
            <p:cNvSpPr/>
            <p:nvPr/>
          </p:nvSpPr>
          <p:spPr>
            <a:xfrm>
              <a:off x="2857680" y="3373200"/>
              <a:ext cx="38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5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千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Object 16"/>
            <p:cNvGraphicFramePr/>
            <p:nvPr/>
          </p:nvGraphicFramePr>
          <p:xfrm>
            <a:off x="3643200" y="3143160"/>
            <a:ext cx="520560" cy="94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43200" y="3143160"/>
                      <a:ext cx="520560" cy="9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6" name="组合 17"/>
          <p:cNvGrpSpPr/>
          <p:nvPr/>
        </p:nvGrpSpPr>
        <p:grpSpPr>
          <a:xfrm>
            <a:off x="1785960" y="2214720"/>
            <a:ext cx="6786720" cy="947520"/>
            <a:chOff x="1785960" y="2214720"/>
            <a:chExt cx="6786720" cy="947520"/>
          </a:xfrm>
        </p:grpSpPr>
        <p:sp>
          <p:nvSpPr>
            <p:cNvPr id="547" name="TextBox 1"/>
            <p:cNvSpPr/>
            <p:nvPr/>
          </p:nvSpPr>
          <p:spPr>
            <a:xfrm>
              <a:off x="1785960" y="2448000"/>
              <a:ext cx="67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爸爸体重的   是不是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千克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8" name="Object 6"/>
            <p:cNvGraphicFramePr/>
            <p:nvPr/>
          </p:nvGraphicFramePr>
          <p:xfrm>
            <a:off x="3643200" y="2214720"/>
            <a:ext cx="520560" cy="94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43200" y="2214720"/>
                      <a:ext cx="520560" cy="94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0" name="TextBox 1"/>
          <p:cNvSpPr/>
          <p:nvPr/>
        </p:nvSpPr>
        <p:spPr>
          <a:xfrm>
            <a:off x="1785960" y="414324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有其他验算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3"/>
          <p:cNvSpPr/>
          <p:nvPr/>
        </p:nvSpPr>
        <p:spPr>
          <a:xfrm>
            <a:off x="642960" y="89856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校图书室有故事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册，故事书是科技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科技书有多少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2"/>
          <p:cNvGraphicFramePr/>
          <p:nvPr/>
        </p:nvGraphicFramePr>
        <p:xfrm>
          <a:off x="8001000" y="1123920"/>
          <a:ext cx="33660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1123920"/>
                    <a:ext cx="3366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TextBox 1"/>
          <p:cNvSpPr/>
          <p:nvPr/>
        </p:nvSpPr>
        <p:spPr>
          <a:xfrm>
            <a:off x="2357280" y="235728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科技书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13"/>
          <p:cNvGrpSpPr/>
          <p:nvPr/>
        </p:nvGrpSpPr>
        <p:grpSpPr>
          <a:xfrm>
            <a:off x="3857760" y="2857680"/>
            <a:ext cx="2071440" cy="947520"/>
            <a:chOff x="3857760" y="2857680"/>
            <a:chExt cx="2071440" cy="947520"/>
          </a:xfrm>
        </p:grpSpPr>
        <p:sp>
          <p:nvSpPr>
            <p:cNvPr id="556" name="TextBox 1"/>
            <p:cNvSpPr/>
            <p:nvPr/>
          </p:nvSpPr>
          <p:spPr>
            <a:xfrm>
              <a:off x="3938760" y="3048840"/>
              <a:ext cx="19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7" name="Object 14"/>
            <p:cNvGraphicFramePr/>
            <p:nvPr/>
          </p:nvGraphicFramePr>
          <p:xfrm>
            <a:off x="3857760" y="2857680"/>
            <a:ext cx="338040" cy="94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8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7760" y="2857680"/>
                      <a:ext cx="338040" cy="94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9" name="TextBox 1"/>
          <p:cNvSpPr/>
          <p:nvPr/>
        </p:nvSpPr>
        <p:spPr>
          <a:xfrm>
            <a:off x="4071960" y="5191200"/>
            <a:ext cx="19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"/>
          <p:cNvSpPr/>
          <p:nvPr/>
        </p:nvSpPr>
        <p:spPr>
          <a:xfrm>
            <a:off x="2643120" y="569124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科技书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21"/>
          <p:cNvGrpSpPr/>
          <p:nvPr/>
        </p:nvGrpSpPr>
        <p:grpSpPr>
          <a:xfrm>
            <a:off x="3571920" y="3429000"/>
            <a:ext cx="3857760" cy="947880"/>
            <a:chOff x="3571920" y="3429000"/>
            <a:chExt cx="3857760" cy="947880"/>
          </a:xfrm>
        </p:grpSpPr>
        <p:sp>
          <p:nvSpPr>
            <p:cNvPr id="562" name="TextBox 1"/>
            <p:cNvSpPr/>
            <p:nvPr/>
          </p:nvSpPr>
          <p:spPr>
            <a:xfrm>
              <a:off x="3571920" y="3659040"/>
              <a:ext cx="38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60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3" name="Object 16"/>
            <p:cNvGraphicFramePr/>
            <p:nvPr/>
          </p:nvGraphicFramePr>
          <p:xfrm>
            <a:off x="5643720" y="3429000"/>
            <a:ext cx="336240" cy="947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4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43720" y="3429000"/>
                      <a:ext cx="336240" cy="9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5" name="组合 21"/>
          <p:cNvGrpSpPr/>
          <p:nvPr/>
        </p:nvGrpSpPr>
        <p:grpSpPr>
          <a:xfrm>
            <a:off x="3571920" y="4338720"/>
            <a:ext cx="3857760" cy="947520"/>
            <a:chOff x="3571920" y="4338720"/>
            <a:chExt cx="3857760" cy="947520"/>
          </a:xfrm>
        </p:grpSpPr>
        <p:sp>
          <p:nvSpPr>
            <p:cNvPr id="566" name="TextBox 1"/>
            <p:cNvSpPr/>
            <p:nvPr/>
          </p:nvSpPr>
          <p:spPr>
            <a:xfrm>
              <a:off x="3571920" y="4568400"/>
              <a:ext cx="38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60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7" name="Object 5"/>
            <p:cNvGraphicFramePr/>
            <p:nvPr/>
          </p:nvGraphicFramePr>
          <p:xfrm>
            <a:off x="5500800" y="4338720"/>
            <a:ext cx="336240" cy="94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8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00800" y="4338720"/>
                      <a:ext cx="336240" cy="94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3"/>
          <p:cNvSpPr/>
          <p:nvPr/>
        </p:nvSpPr>
        <p:spPr>
          <a:xfrm>
            <a:off x="571680" y="97488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看线段图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143000" y="1501920"/>
            <a:ext cx="7167600" cy="24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1"/>
          <p:cNvGraphicFramePr/>
          <p:nvPr/>
        </p:nvGraphicFramePr>
        <p:xfrm>
          <a:off x="2776680" y="4143240"/>
          <a:ext cx="333684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6680" y="4143240"/>
                    <a:ext cx="333684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TextBox 1"/>
          <p:cNvSpPr/>
          <p:nvPr/>
        </p:nvSpPr>
        <p:spPr>
          <a:xfrm>
            <a:off x="2857680" y="507204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桃子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571680" y="974880"/>
            <a:ext cx="78580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出下面句子中表示单位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数量，再列出数量关系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篮球的个数是排球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客车的速度是货车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Object 2"/>
          <p:cNvGraphicFramePr/>
          <p:nvPr/>
        </p:nvGraphicFramePr>
        <p:xfrm>
          <a:off x="4786200" y="1714680"/>
          <a:ext cx="366840" cy="9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714680"/>
                    <a:ext cx="36684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3"/>
          <p:cNvGraphicFramePr/>
          <p:nvPr/>
        </p:nvGraphicFramePr>
        <p:xfrm>
          <a:off x="4786200" y="3695760"/>
          <a:ext cx="36684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3695760"/>
                    <a:ext cx="36684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TextBox 1"/>
          <p:cNvSpPr/>
          <p:nvPr/>
        </p:nvSpPr>
        <p:spPr>
          <a:xfrm>
            <a:off x="2071800" y="25718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排球价格是单位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"/>
          <p:cNvSpPr/>
          <p:nvPr/>
        </p:nvSpPr>
        <p:spPr>
          <a:xfrm>
            <a:off x="1500120" y="44766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货车的速度是单位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1981080" y="3000240"/>
          <a:ext cx="4591080" cy="94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000240"/>
                    <a:ext cx="45910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5"/>
          <p:cNvGraphicFramePr/>
          <p:nvPr/>
        </p:nvGraphicFramePr>
        <p:xfrm>
          <a:off x="1785960" y="4981680"/>
          <a:ext cx="459108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5960" y="4981680"/>
                    <a:ext cx="45910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571680" y="974880"/>
            <a:ext cx="7858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出下面句子中表示单位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数量，再列出数量关系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衣价格的   是裤子的价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Object 2"/>
          <p:cNvGraphicFramePr/>
          <p:nvPr/>
        </p:nvGraphicFramePr>
        <p:xfrm>
          <a:off x="3371760" y="1714680"/>
          <a:ext cx="336600" cy="9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1760" y="1714680"/>
                    <a:ext cx="3366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TextBox 1"/>
          <p:cNvSpPr/>
          <p:nvPr/>
        </p:nvSpPr>
        <p:spPr>
          <a:xfrm>
            <a:off x="2143080" y="26193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上衣的价格是单位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3"/>
          <p:cNvGraphicFramePr/>
          <p:nvPr/>
        </p:nvGraphicFramePr>
        <p:xfrm>
          <a:off x="2428920" y="3124080"/>
          <a:ext cx="459108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3124080"/>
                    <a:ext cx="45910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3"/>
          <p:cNvSpPr/>
          <p:nvPr/>
        </p:nvSpPr>
        <p:spPr>
          <a:xfrm>
            <a:off x="571680" y="10447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玩具厂实际投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元，相当于计划投资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计划投资多少万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Object 2"/>
          <p:cNvGraphicFramePr/>
          <p:nvPr/>
        </p:nvGraphicFramePr>
        <p:xfrm>
          <a:off x="7786800" y="836640"/>
          <a:ext cx="519120" cy="9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836640"/>
                    <a:ext cx="51912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3"/>
          <p:cNvGraphicFramePr/>
          <p:nvPr/>
        </p:nvGraphicFramePr>
        <p:xfrm>
          <a:off x="3087720" y="4562640"/>
          <a:ext cx="296856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7720" y="4562640"/>
                    <a:ext cx="296856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TextBox 1"/>
          <p:cNvSpPr/>
          <p:nvPr/>
        </p:nvSpPr>
        <p:spPr>
          <a:xfrm>
            <a:off x="2984400" y="549108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计划投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1514520" y="2000160"/>
            <a:ext cx="61149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6:02:19Z</dcterms:created>
  <dc:creator/>
  <dc:description/>
  <cp:keywords/>
  <dc:language>en-US</dc:language>
  <cp:lastModifiedBy/>
  <dcterms:modified xsi:type="dcterms:W3CDTF">2017-12-20T14:35:12Z</dcterms:modified>
  <cp:revision>1</cp:revision>
  <dc:subject/>
  <dc:title/>
</cp:coreProperties>
</file>