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31A-0A73-4F0C-8867-A36F25BF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90A-CA4A-416A-AC6D-3F3D214F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152-31E1-4951-BA1E-F3DEBD29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9563-A4F9-4F36-8389-3F41739C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CD3A-760C-4046-A3B6-0BCCD2D1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F091-4F88-4319-B7F9-EC71389E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CE1E-1D39-474C-A020-7A908203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2E9F-E596-4286-90A3-5B92342D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D249-191F-43A7-BBC6-803541AC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B67E-A9A0-418F-B98D-6FAB84E9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8B49-6DBF-4B53-B4B3-7E0EE845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564-4D51-4FD5-AB96-D764A430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C0CA-6265-4302-9BFC-2C2B6EE6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B615-FE42-4C76-B4DF-EDCDFF73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7293-2CF4-44E1-A4F5-262EC762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2133-BCE3-4F08-AD53-B8EEF7C1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A2EC-DD0B-4E79-A453-6B32D358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00E-69C1-4FFA-B0B4-25B69884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CE5-1C49-432A-8916-38DB70E4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729-5D45-4F3F-96F2-2AF351CE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EE0C-3CBB-4E6A-AF36-682065D2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04E-D79A-4B8B-A3AB-B28DA5F5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5FC-579D-4730-A68B-D6510B81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839-41FB-4A7C-A4F9-0D3877FF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7D71-D43D-463E-8D10-E07BF71809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9196-40AD-4BAD-ACFC-24065EDABA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5" descr=""/>
          <p:cNvPicPr/>
          <p:nvPr/>
        </p:nvPicPr>
        <p:blipFill>
          <a:blip r:embed="rId1"/>
          <a:stretch/>
        </p:blipFill>
        <p:spPr>
          <a:xfrm>
            <a:off x="2249640" y="1901880"/>
            <a:ext cx="4206600" cy="1176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ff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770560" y="1341360"/>
            <a:ext cx="3710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长方体或正方体底面的面积叫做</a:t>
            </a:r>
            <a:r>
              <a:rPr b="1" lang="zh-CN" sz="2600" spc="-1" strike="noStrike">
                <a:solidFill>
                  <a:srgbClr val="008000"/>
                </a:solidFill>
                <a:latin typeface="Times New Roman"/>
              </a:rPr>
              <a:t>底面积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。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794160" y="335772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长方体的体积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长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宽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高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2340000" y="1989000"/>
            <a:ext cx="4392720" cy="1278000"/>
          </a:xfrm>
          <a:prstGeom prst="rect">
            <a:avLst/>
          </a:prstGeom>
          <a:ln w="9360">
            <a:solidFill>
              <a:srgbClr val="002ec2"/>
            </a:solidFill>
            <a:miter/>
          </a:ln>
        </p:spPr>
      </p:pic>
      <p:sp>
        <p:nvSpPr>
          <p:cNvPr id="149" name="Text Box 6"/>
          <p:cNvSpPr/>
          <p:nvPr/>
        </p:nvSpPr>
        <p:spPr>
          <a:xfrm>
            <a:off x="4902120" y="335772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正方体的体积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棱长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棱长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棱长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532760" y="4524480"/>
            <a:ext cx="50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所以，长方体和正方体的体积也可以这样来计算。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431080" y="5100480"/>
            <a:ext cx="424368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8000"/>
                </a:solidFill>
                <a:latin typeface="Times New Roman"/>
              </a:rPr>
              <a:t>长方体（或正方体）的体积</a:t>
            </a:r>
            <a:r>
              <a:rPr b="1" lang="zh-CN" sz="2600" spc="-1" strike="noStrike">
                <a:solidFill>
                  <a:srgbClr val="008000"/>
                </a:solidFill>
                <a:latin typeface="Times New Roman"/>
              </a:rPr>
              <a:t>=</a:t>
            </a:r>
            <a:r>
              <a:rPr b="1" lang="zh-CN" sz="2600" spc="-1" strike="noStrike">
                <a:solidFill>
                  <a:srgbClr val="008000"/>
                </a:solidFill>
                <a:latin typeface="Times New Roman"/>
              </a:rPr>
              <a:t>底面积</a:t>
            </a:r>
            <a:r>
              <a:rPr b="1" lang="zh-CN" sz="2600" spc="-1" strike="noStrike">
                <a:solidFill>
                  <a:srgbClr val="008000"/>
                </a:solidFill>
                <a:latin typeface="Times New Roman"/>
              </a:rPr>
              <a:t>×</a:t>
            </a:r>
            <a:r>
              <a:rPr b="1" lang="zh-CN" sz="2600" spc="-1" strike="noStrike">
                <a:solidFill>
                  <a:srgbClr val="008000"/>
                </a:solidFill>
                <a:latin typeface="Times New Roman"/>
              </a:rPr>
              <a:t>高 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641680" y="5589720"/>
            <a:ext cx="434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如果用字母表示底面积，上面的公式可以写成：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534560" y="6108840"/>
            <a:ext cx="97776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8000"/>
                </a:solidFill>
                <a:latin typeface="Times New Roman"/>
              </a:rPr>
              <a:t>V=Sh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2503080" y="4056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底面积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2484360" y="3789360"/>
            <a:ext cx="79236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6" name="Line 13"/>
          <p:cNvSpPr/>
          <p:nvPr/>
        </p:nvSpPr>
        <p:spPr>
          <a:xfrm flipV="1">
            <a:off x="2843280" y="3789000"/>
            <a:ext cx="0" cy="360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6703560" y="4056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底面积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6443640" y="3789360"/>
            <a:ext cx="144144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 flipV="1">
            <a:off x="7043760" y="3789000"/>
            <a:ext cx="0" cy="360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318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  <a:ea typeface="黑体"/>
              </a:rPr>
              <a:t>综合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24000" y="620640"/>
            <a:ext cx="8540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c2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2ec2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2ec2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2ec2"/>
                </a:solidFill>
                <a:latin typeface="黑体"/>
                <a:ea typeface="黑体"/>
              </a:rPr>
              <a:t>、一个长方体纸板箱的占地面积是</a:t>
            </a:r>
            <a:r>
              <a:rPr b="1" lang="zh-CN" sz="3200" spc="-1" strike="noStrike">
                <a:solidFill>
                  <a:srgbClr val="002ec2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002ec2"/>
                </a:solidFill>
                <a:latin typeface="黑体"/>
                <a:ea typeface="黑体"/>
              </a:rPr>
              <a:t>平方厘米，高是</a:t>
            </a:r>
            <a:r>
              <a:rPr b="1" lang="zh-CN" sz="3200" spc="-1" strike="noStrike">
                <a:solidFill>
                  <a:srgbClr val="002ec2"/>
                </a:solidFill>
                <a:latin typeface="黑体"/>
                <a:ea typeface="黑体"/>
              </a:rPr>
              <a:t>50</a:t>
            </a:r>
            <a:r>
              <a:rPr b="1" lang="zh-CN" sz="3200" spc="-1" strike="noStrike">
                <a:solidFill>
                  <a:srgbClr val="002ec2"/>
                </a:solidFill>
                <a:latin typeface="黑体"/>
                <a:ea typeface="黑体"/>
              </a:rPr>
              <a:t>厘米，它的体积是多少立方厘米？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76360" y="22050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100×50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5000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立方厘米）</a:t>
            </a:r>
            <a:endParaRPr b="1" lang="en-US" sz="40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16120" y="3068640"/>
            <a:ext cx="492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2ec2"/>
                </a:solidFill>
                <a:latin typeface="Times New Roman"/>
                <a:ea typeface="宋体"/>
              </a:rPr>
              <a:t>(</a:t>
            </a:r>
            <a:r>
              <a:rPr b="1" i="1" lang="en-US" sz="3200" spc="-1" strike="noStrike">
                <a:solidFill>
                  <a:srgbClr val="002ec2"/>
                </a:solidFill>
                <a:latin typeface="Times New Roman"/>
                <a:ea typeface="宋体"/>
              </a:rPr>
              <a:t>2</a:t>
            </a:r>
            <a:r>
              <a:rPr b="1" i="1" lang="zh-CN" sz="3200" spc="-1" strike="noStrike">
                <a:solidFill>
                  <a:srgbClr val="002ec2"/>
                </a:solidFill>
                <a:latin typeface="Times New Roman"/>
                <a:ea typeface="宋体"/>
              </a:rPr>
              <a:t>) </a:t>
            </a:r>
            <a:r>
              <a:rPr b="1" i="1" lang="zh-CN" sz="3200" spc="-1" strike="noStrike">
                <a:solidFill>
                  <a:srgbClr val="002ec2"/>
                </a:solidFill>
                <a:latin typeface="Times New Roman"/>
                <a:ea typeface="宋体"/>
              </a:rPr>
              <a:t>、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宋体"/>
              </a:rPr>
              <a:t>一个长方体的底面边长是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宋体"/>
              </a:rPr>
              <a:t>分米，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宋体"/>
              </a:rPr>
              <a:t>高是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宋体"/>
              </a:rPr>
              <a:t>10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宋体"/>
              </a:rPr>
              <a:t>分米，它的体积是多少立方分米？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1116000" y="4219560"/>
            <a:ext cx="1079640" cy="1944720"/>
            <a:chOff x="1116000" y="4219560"/>
            <a:chExt cx="1079640" cy="1944720"/>
          </a:xfrm>
        </p:grpSpPr>
        <p:sp>
          <p:nvSpPr>
            <p:cNvPr id="165" name="AutoShape 7"/>
            <p:cNvSpPr/>
            <p:nvPr/>
          </p:nvSpPr>
          <p:spPr>
            <a:xfrm>
              <a:off x="1116000" y="4219560"/>
              <a:ext cx="1079640" cy="1944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1393560" y="4219560"/>
              <a:ext cx="0" cy="154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 flipH="1">
              <a:off x="1393560" y="5766480"/>
              <a:ext cx="802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 flipV="1">
              <a:off x="1116000" y="5766120"/>
              <a:ext cx="277560" cy="39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 flipH="1">
              <a:off x="1116000" y="6164280"/>
              <a:ext cx="802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 flipV="1">
              <a:off x="1918080" y="5766120"/>
              <a:ext cx="277560" cy="39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1" name="Line 13"/>
            <p:cNvSpPr/>
            <p:nvPr/>
          </p:nvSpPr>
          <p:spPr>
            <a:xfrm flipV="1">
              <a:off x="1177560" y="5766120"/>
              <a:ext cx="277560" cy="39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2" name="Line 14"/>
            <p:cNvSpPr/>
            <p:nvPr/>
          </p:nvSpPr>
          <p:spPr>
            <a:xfrm flipV="1">
              <a:off x="1239120" y="5766120"/>
              <a:ext cx="277560" cy="39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 flipV="1">
              <a:off x="1301040" y="5766120"/>
              <a:ext cx="277560" cy="39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 flipV="1">
              <a:off x="1362600" y="5766120"/>
              <a:ext cx="277560" cy="39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 flipV="1">
              <a:off x="1424520" y="5766120"/>
              <a:ext cx="277560" cy="39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 flipV="1">
              <a:off x="1486080" y="5766120"/>
              <a:ext cx="277560" cy="39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 flipV="1">
              <a:off x="1547640" y="5766120"/>
              <a:ext cx="277560" cy="39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1609560" y="5766120"/>
              <a:ext cx="277560" cy="39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1671120" y="5766120"/>
              <a:ext cx="277560" cy="39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1732680" y="5766120"/>
              <a:ext cx="277560" cy="39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V="1">
              <a:off x="1856160" y="5766120"/>
              <a:ext cx="277560" cy="39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V="1">
              <a:off x="1794600" y="5766120"/>
              <a:ext cx="277560" cy="39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83" name="Text Box 27"/>
          <p:cNvSpPr/>
          <p:nvPr/>
        </p:nvSpPr>
        <p:spPr>
          <a:xfrm>
            <a:off x="3436560" y="4795920"/>
            <a:ext cx="34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2×2×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立方分米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1268280" y="6056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ec2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  <a:ea typeface="宋体"/>
              </a:rPr>
              <a:t>分米</a:t>
            </a:r>
            <a:endParaRPr b="1" lang="en-US" sz="20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2205000" y="569736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ec2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  <a:ea typeface="宋体"/>
              </a:rPr>
              <a:t>分米</a:t>
            </a:r>
            <a:endParaRPr b="1" lang="en-US" sz="20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432080" y="24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966320" y="692280"/>
            <a:ext cx="549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某体育场有一个长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6.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米、宽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米、深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长方体沙坑，已知每立方米黄沙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.7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吨，填满这个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沙坑需要用黄沙多少吨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528640" y="206064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.7 ×(6.5 ×4 ×0.5)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905120" y="2819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= 1.7 ×13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905120" y="3733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= 22.1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600200" y="4724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填满这个沙坑需要用黄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22.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吨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580680" y="1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综合应用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2195640" y="2637000"/>
            <a:ext cx="3962160" cy="22096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2195640" y="4292640"/>
            <a:ext cx="3962160" cy="220968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195640" y="2637000"/>
            <a:ext cx="3962160" cy="22096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6804000" y="3860640"/>
            <a:ext cx="2209680" cy="2133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741960" y="1890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考考你</a:t>
            </a:r>
            <a:endParaRPr b="1" lang="en-US" sz="54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2286000" y="762120"/>
            <a:ext cx="3962520" cy="22096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2286000" y="2438280"/>
            <a:ext cx="3962520" cy="221004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2286000" y="762120"/>
            <a:ext cx="3962520" cy="22096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6781680" y="304920"/>
            <a:ext cx="2210040" cy="2133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6781680" y="304920"/>
            <a:ext cx="2210040" cy="21333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3" name="AutoShape 21"/>
          <p:cNvSpPr/>
          <p:nvPr/>
        </p:nvSpPr>
        <p:spPr>
          <a:xfrm>
            <a:off x="2895480" y="2514600"/>
            <a:ext cx="2210040" cy="2133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4" name="AutoShape 22"/>
          <p:cNvSpPr/>
          <p:nvPr/>
        </p:nvSpPr>
        <p:spPr>
          <a:xfrm rot="16159800">
            <a:off x="3846240" y="3160080"/>
            <a:ext cx="228600" cy="3352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3560400" y="4952880"/>
            <a:ext cx="10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米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6" name="AutoShape 24"/>
          <p:cNvSpPr/>
          <p:nvPr/>
        </p:nvSpPr>
        <p:spPr>
          <a:xfrm rot="2716200">
            <a:off x="5943960" y="40384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998680" y="4495680"/>
            <a:ext cx="10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米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8" name="AutoShape 26"/>
          <p:cNvSpPr/>
          <p:nvPr/>
        </p:nvSpPr>
        <p:spPr>
          <a:xfrm>
            <a:off x="6248520" y="24382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6455880" y="2971800"/>
            <a:ext cx="10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米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2350440" y="5486400"/>
            <a:ext cx="46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一个长方体水箱，长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分米，宽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分米，水深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分米。把一个铁球浸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152280" y="60199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没在水中，水面升高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分米。这个铁球的体积是多少立方分米？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2" name="AutoShape 30"/>
          <p:cNvSpPr/>
          <p:nvPr/>
        </p:nvSpPr>
        <p:spPr>
          <a:xfrm>
            <a:off x="7391520" y="1413000"/>
            <a:ext cx="380880" cy="2701800"/>
          </a:xfrm>
          <a:custGeom>
            <a:avLst/>
            <a:gdLst>
              <a:gd name="textAreaLeft" fmla="*/ 0 w 380880"/>
              <a:gd name="textAreaRight" fmla="*/ 137520 w 380880"/>
              <a:gd name="textAreaTop" fmla="*/ 150840 h 2701800"/>
              <a:gd name="textAreaBottom" fmla="*/ 2550960 h 27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29"/>
                  <a:pt x="10800" y="3858"/>
                </a:cubicBezTo>
                <a:lnTo>
                  <a:pt x="10800" y="6942"/>
                </a:lnTo>
                <a:cubicBezTo>
                  <a:pt x="10800" y="8871"/>
                  <a:pt x="16200" y="10800"/>
                  <a:pt x="21600" y="10800"/>
                </a:cubicBezTo>
                <a:cubicBezTo>
                  <a:pt x="16200" y="10800"/>
                  <a:pt x="10800" y="12729"/>
                  <a:pt x="10800" y="14658"/>
                </a:cubicBezTo>
                <a:lnTo>
                  <a:pt x="10800" y="17742"/>
                </a:lnTo>
                <a:cubicBezTo>
                  <a:pt x="10800" y="1967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3" name="Text Box 31"/>
          <p:cNvSpPr/>
          <p:nvPr/>
        </p:nvSpPr>
        <p:spPr>
          <a:xfrm>
            <a:off x="7945200" y="2057400"/>
            <a:ext cx="10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米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2286000" y="1413000"/>
            <a:ext cx="3941640" cy="1558800"/>
          </a:xfrm>
          <a:prstGeom prst="cube">
            <a:avLst>
              <a:gd name="adj" fmla="val 336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871920" y="15228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GungsuhChe"/>
              </a:rPr>
              <a:t>★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解法一：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963160" y="228600"/>
            <a:ext cx="27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7×5 ×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7 ×5 ×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502000" y="83808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=175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05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832840" y="1447920"/>
            <a:ext cx="20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=70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立方分米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117240" y="2133720"/>
            <a:ext cx="30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答：这个铁球的体积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立方分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439920" y="3200400"/>
            <a:ext cx="13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GungsuhChe"/>
              </a:rPr>
              <a:t>★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解法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: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900880" y="320040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7×5 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2593080" y="380988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=35 ×2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832840" y="4495680"/>
            <a:ext cx="20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=70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立方分米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193200" y="5334120"/>
            <a:ext cx="30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答：这个铁球的体积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立方分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4"/>
          <p:cNvSpPr/>
          <p:nvPr/>
        </p:nvSpPr>
        <p:spPr>
          <a:xfrm>
            <a:off x="2529720" y="1197000"/>
            <a:ext cx="4143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猜想：长方体的体积与长方体的什么有关系？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3564000" y="1628640"/>
            <a:ext cx="4824360" cy="33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85" name="图片 7" descr="QQ截图20160519105539.png"/>
          <p:cNvPicPr/>
          <p:nvPr/>
        </p:nvPicPr>
        <p:blipFill>
          <a:blip r:embed="rId1"/>
          <a:stretch/>
        </p:blipFill>
        <p:spPr>
          <a:xfrm>
            <a:off x="2771640" y="907920"/>
            <a:ext cx="3095640" cy="40928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8" descr="QQ截图20160519105539.png"/>
          <p:cNvPicPr/>
          <p:nvPr/>
        </p:nvPicPr>
        <p:blipFill>
          <a:blip r:embed="rId2"/>
          <a:stretch/>
        </p:blipFill>
        <p:spPr>
          <a:xfrm>
            <a:off x="5796000" y="981000"/>
            <a:ext cx="2376360" cy="3743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4182120" y="6922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c2"/>
                </a:solidFill>
                <a:latin typeface="Times New Roman"/>
              </a:rPr>
              <a:t>长方体的体积与长方体的长、宽、高有关系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250920" y="3357720"/>
          <a:ext cx="8640720" cy="3024000"/>
        </p:xfrm>
        <a:graphic>
          <a:graphicData uri="http://schemas.openxmlformats.org/drawingml/2006/table">
            <a:tbl>
              <a:tblPr/>
              <a:tblGrid>
                <a:gridCol w="1527120"/>
                <a:gridCol w="1163520"/>
                <a:gridCol w="1163880"/>
                <a:gridCol w="1238040"/>
                <a:gridCol w="2063880"/>
                <a:gridCol w="1484280"/>
              </a:tblGrid>
              <a:tr h="940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长</a:t>
                      </a:r>
                      <a:r>
                        <a:rPr b="0" lang="zh-CN" sz="28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\cm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宽</a:t>
                      </a:r>
                      <a:r>
                        <a:rPr b="0" lang="zh-CN" sz="28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\cm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高</a:t>
                      </a:r>
                      <a:r>
                        <a:rPr b="0" lang="zh-CN" sz="28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\cm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小正方体数量</a:t>
                      </a:r>
                      <a:r>
                        <a:rPr b="0" lang="zh-CN" sz="20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\</a:t>
                      </a:r>
                      <a:r>
                        <a:rPr b="0" lang="zh-CN" sz="20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个</a:t>
                      </a:r>
                      <a:endParaRPr b="1" lang="en-US" sz="20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体积＼</a:t>
                      </a:r>
                      <a:r>
                        <a:rPr b="0" lang="zh-CN" sz="28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cm</a:t>
                      </a:r>
                      <a:r>
                        <a:rPr b="0" lang="zh-CN" sz="2400" spc="-1" strike="noStrike" baseline="30000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长方体</a:t>
                      </a:r>
                      <a:r>
                        <a:rPr b="0" lang="zh-CN" sz="28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长方体</a:t>
                      </a:r>
                      <a:r>
                        <a:rPr b="0" lang="zh-CN" sz="28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长方体</a:t>
                      </a:r>
                      <a:r>
                        <a:rPr b="0" lang="zh-CN" sz="28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长方体</a:t>
                      </a:r>
                      <a:r>
                        <a:rPr b="0" lang="zh-CN" sz="2800" spc="-1" strike="noStrike">
                          <a:solidFill>
                            <a:srgbClr val="002ec2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Box 4"/>
          <p:cNvSpPr/>
          <p:nvPr/>
        </p:nvSpPr>
        <p:spPr>
          <a:xfrm>
            <a:off x="2193480" y="360360"/>
            <a:ext cx="491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合作要求（完成导学案合作探究一）：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、小组用小正方体自由拼摆长方体，并记录所摆长方体，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填写表格。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、仔细观察每组数据，讨论分析长方体的长、宽、高与长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方体的体积有什么关系。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、把你们的发现用一句话或一个式子表示出来。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145600" y="1598760"/>
            <a:ext cx="37364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长方体的体积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长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宽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高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042920" y="2349360"/>
            <a:ext cx="388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如果用字母</a:t>
            </a: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V</a:t>
            </a: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表示长方体的体积，用</a:t>
            </a: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a</a:t>
            </a: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、</a:t>
            </a: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b</a:t>
            </a: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、</a:t>
            </a: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h</a:t>
            </a: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分别表示长方体的长、宽、高，那么长方体的体积公式可以写成：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165480" y="4854600"/>
            <a:ext cx="14792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V = abh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5076720" y="2637000"/>
            <a:ext cx="3382920" cy="1858320"/>
            <a:chOff x="5076720" y="2637000"/>
            <a:chExt cx="3382920" cy="1858320"/>
          </a:xfrm>
        </p:grpSpPr>
        <p:sp>
          <p:nvSpPr>
            <p:cNvPr id="96" name="AutoShape 7"/>
            <p:cNvSpPr/>
            <p:nvPr/>
          </p:nvSpPr>
          <p:spPr>
            <a:xfrm>
              <a:off x="5076720" y="2637000"/>
              <a:ext cx="3166920" cy="1512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6298920" y="4005360"/>
              <a:ext cx="50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2ec2"/>
                  </a:solidFill>
                  <a:latin typeface="楷体_GB2312"/>
                </a:rPr>
                <a:t>a</a:t>
              </a: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7954920" y="3876840"/>
              <a:ext cx="504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2ec2"/>
                  </a:solidFill>
                  <a:latin typeface="楷体_GB2312"/>
                </a:rPr>
                <a:t>b</a:t>
              </a: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9" name="Text Box 10"/>
            <p:cNvSpPr/>
            <p:nvPr/>
          </p:nvSpPr>
          <p:spPr>
            <a:xfrm>
              <a:off x="7524720" y="3284640"/>
              <a:ext cx="503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2ec2"/>
                  </a:solidFill>
                  <a:latin typeface="楷体_GB2312"/>
                </a:rPr>
                <a:t>h</a:t>
              </a: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ff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43000" y="1523880"/>
            <a:ext cx="48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计算下面长方体的体积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2057400" y="2268360"/>
            <a:ext cx="1913040" cy="1743480"/>
            <a:chOff x="2057400" y="2268360"/>
            <a:chExt cx="1913040" cy="1743480"/>
          </a:xfrm>
        </p:grpSpPr>
        <p:sp>
          <p:nvSpPr>
            <p:cNvPr id="102" name="AutoShape 4"/>
            <p:cNvSpPr/>
            <p:nvPr/>
          </p:nvSpPr>
          <p:spPr>
            <a:xfrm>
              <a:off x="2057400" y="2286000"/>
              <a:ext cx="1447920" cy="1676160"/>
            </a:xfrm>
            <a:prstGeom prst="cube">
              <a:avLst>
                <a:gd name="adj" fmla="val 25000"/>
              </a:avLst>
            </a:prstGeom>
            <a:solidFill>
              <a:srgbClr val="66ccff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215800" y="3612960"/>
              <a:ext cx="85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</a:rPr>
                <a:t>2 </a:t>
              </a: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</a:rPr>
                <a:t>厘米</a:t>
              </a:r>
              <a:endParaRPr b="1" lang="en-US" sz="20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 rot="5400000">
              <a:off x="1847520" y="3124440"/>
              <a:ext cx="85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</a:rPr>
                <a:t>3 </a:t>
              </a: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</a:rPr>
                <a:t>厘米</a:t>
              </a:r>
              <a:endParaRPr b="1" lang="en-US" sz="20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814480" y="226836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</a:rPr>
                <a:t>0.8 </a:t>
              </a: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</a:rPr>
                <a:t>厘米</a:t>
              </a:r>
              <a:endParaRPr b="1" lang="en-US" sz="20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4830120" y="2590920"/>
            <a:ext cx="2713680" cy="1448280"/>
            <a:chOff x="4830120" y="2590920"/>
            <a:chExt cx="2713680" cy="1448280"/>
          </a:xfrm>
        </p:grpSpPr>
        <p:sp>
          <p:nvSpPr>
            <p:cNvPr id="107" name="AutoShape 9"/>
            <p:cNvSpPr/>
            <p:nvPr/>
          </p:nvSpPr>
          <p:spPr>
            <a:xfrm>
              <a:off x="5334120" y="2590920"/>
              <a:ext cx="2209680" cy="1442880"/>
            </a:xfrm>
            <a:prstGeom prst="cube">
              <a:avLst>
                <a:gd name="adj" fmla="val 70768"/>
              </a:avLst>
            </a:prstGeom>
            <a:solidFill>
              <a:srgbClr val="66ccff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4830120" y="3640320"/>
              <a:ext cx="100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</a:rPr>
                <a:t>0. 4</a:t>
              </a: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</a:rPr>
                <a:t>米</a:t>
              </a:r>
              <a:endParaRPr b="1" lang="en-US" sz="20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9" name="Text Box 11"/>
            <p:cNvSpPr/>
            <p:nvPr/>
          </p:nvSpPr>
          <p:spPr>
            <a:xfrm>
              <a:off x="5505480" y="325908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</a:rPr>
                <a:t>2 </a:t>
              </a: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</a:rPr>
                <a:t>米</a:t>
              </a:r>
              <a:endParaRPr b="1" lang="en-US" sz="20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0" name="Text Box 12"/>
            <p:cNvSpPr/>
            <p:nvPr/>
          </p:nvSpPr>
          <p:spPr>
            <a:xfrm>
              <a:off x="6732720" y="2878200"/>
              <a:ext cx="5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</a:rPr>
                <a:t>6</a:t>
              </a: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</a:rPr>
                <a:t>米</a:t>
              </a:r>
              <a:endParaRPr b="1" lang="en-US" sz="20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11" name="Text Box 13"/>
          <p:cNvSpPr/>
          <p:nvPr/>
        </p:nvSpPr>
        <p:spPr>
          <a:xfrm>
            <a:off x="1355760" y="4332240"/>
            <a:ext cx="350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V = </a:t>
            </a:r>
            <a:r>
              <a:rPr b="1" lang="en-GB" sz="2800" spc="-1" strike="noStrike">
                <a:solidFill>
                  <a:srgbClr val="002ec2"/>
                </a:solidFill>
                <a:latin typeface="楷体_GB2312"/>
              </a:rPr>
              <a:t>abh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ec2"/>
                </a:solidFill>
                <a:latin typeface="楷体_GB2312"/>
              </a:rPr>
              <a:t>  </a:t>
            </a:r>
            <a:r>
              <a:rPr b="1" lang="en-GB" sz="2800" spc="-1" strike="noStrike">
                <a:solidFill>
                  <a:srgbClr val="002ec2"/>
                </a:solidFill>
                <a:latin typeface="楷体_GB2312"/>
              </a:rPr>
              <a:t>= 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2×0.8×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  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= 4.8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</a:rPr>
              <a:t>（立方厘米）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876920" y="4343400"/>
            <a:ext cx="358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V = </a:t>
            </a:r>
            <a:r>
              <a:rPr b="1" lang="en-GB" sz="2800" spc="-1" strike="noStrike">
                <a:solidFill>
                  <a:srgbClr val="002ec2"/>
                </a:solidFill>
                <a:latin typeface="楷体_GB2312"/>
              </a:rPr>
              <a:t>abh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ec2"/>
                </a:solidFill>
                <a:latin typeface="楷体_GB2312"/>
              </a:rPr>
              <a:t>  </a:t>
            </a:r>
            <a:r>
              <a:rPr b="1" lang="en-GB" sz="2800" spc="-1" strike="noStrike">
                <a:solidFill>
                  <a:srgbClr val="002ec2"/>
                </a:solidFill>
                <a:latin typeface="楷体_GB2312"/>
              </a:rPr>
              <a:t>= 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6×2×0.4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  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= </a:t>
            </a:r>
            <a:r>
              <a:rPr b="1" lang="en-US" sz="2800" spc="-1" strike="noStrike">
                <a:solidFill>
                  <a:srgbClr val="002ec2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.8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</a:rPr>
              <a:t>（立方米）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13" name="Picture 15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5"/>
          <p:cNvSpPr/>
          <p:nvPr/>
        </p:nvSpPr>
        <p:spPr>
          <a:xfrm>
            <a:off x="539640" y="4579920"/>
            <a:ext cx="8136000" cy="15130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219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3564000" y="1557360"/>
            <a:ext cx="3744720" cy="230184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900000" y="50133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ec2"/>
                </a:solidFill>
                <a:latin typeface="Times New Roman"/>
                <a:ea typeface="黑体"/>
              </a:rPr>
              <a:t>长方体的体积 ＝   长   </a:t>
            </a:r>
            <a:r>
              <a:rPr b="1" lang="en-US" sz="3600" spc="-1" strike="noStrike">
                <a:solidFill>
                  <a:srgbClr val="002ec2"/>
                </a:solidFill>
                <a:latin typeface="Times New Roman"/>
                <a:ea typeface="黑体"/>
              </a:rPr>
              <a:t>×   </a:t>
            </a:r>
            <a:r>
              <a:rPr b="1" lang="zh-CN" sz="3600" spc="-1" strike="noStrike">
                <a:solidFill>
                  <a:srgbClr val="002ec2"/>
                </a:solidFill>
                <a:latin typeface="Times New Roman"/>
                <a:ea typeface="黑体"/>
              </a:rPr>
              <a:t>宽   </a:t>
            </a:r>
            <a:r>
              <a:rPr b="1" lang="en-US" sz="3600" spc="-1" strike="noStrike">
                <a:solidFill>
                  <a:srgbClr val="002ec2"/>
                </a:solidFill>
                <a:latin typeface="Times New Roman"/>
                <a:ea typeface="黑体"/>
              </a:rPr>
              <a:t>×   </a:t>
            </a:r>
            <a:r>
              <a:rPr b="1" lang="zh-CN" sz="3600" spc="-1" strike="noStrike">
                <a:solidFill>
                  <a:srgbClr val="002ec2"/>
                </a:solidFill>
                <a:latin typeface="Times New Roman"/>
                <a:ea typeface="黑体"/>
              </a:rPr>
              <a:t>高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17" name="Group 5"/>
          <p:cNvGrpSpPr/>
          <p:nvPr/>
        </p:nvGrpSpPr>
        <p:grpSpPr>
          <a:xfrm>
            <a:off x="6732720" y="1557360"/>
            <a:ext cx="2232000" cy="2376360"/>
            <a:chOff x="6732720" y="1557360"/>
            <a:chExt cx="2232000" cy="2376360"/>
          </a:xfrm>
        </p:grpSpPr>
        <p:sp>
          <p:nvSpPr>
            <p:cNvPr id="118" name="Freeform 22"/>
            <p:cNvSpPr/>
            <p:nvPr/>
          </p:nvSpPr>
          <p:spPr>
            <a:xfrm>
              <a:off x="6732720" y="1557360"/>
              <a:ext cx="2232000" cy="237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9" name="Freeform 16"/>
            <p:cNvSpPr/>
            <p:nvPr/>
          </p:nvSpPr>
          <p:spPr>
            <a:xfrm>
              <a:off x="6732720" y="1557360"/>
              <a:ext cx="576360" cy="23036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20" name="Line 26"/>
          <p:cNvSpPr/>
          <p:nvPr/>
        </p:nvSpPr>
        <p:spPr>
          <a:xfrm>
            <a:off x="3564000" y="3860640"/>
            <a:ext cx="1728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1" name="Line 27"/>
          <p:cNvSpPr/>
          <p:nvPr/>
        </p:nvSpPr>
        <p:spPr>
          <a:xfrm flipV="1">
            <a:off x="5292720" y="2133360"/>
            <a:ext cx="0" cy="1726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2" name="Line 28"/>
          <p:cNvSpPr/>
          <p:nvPr/>
        </p:nvSpPr>
        <p:spPr>
          <a:xfrm flipV="1">
            <a:off x="5292720" y="3284640"/>
            <a:ext cx="576360" cy="57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4064760" y="3873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ec2"/>
                </a:solidFill>
                <a:latin typeface="Times New Roman"/>
                <a:ea typeface="方正艺黑简体"/>
              </a:rPr>
              <a:t>棱长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4" name="Rectangle 30"/>
          <p:cNvSpPr/>
          <p:nvPr/>
        </p:nvSpPr>
        <p:spPr>
          <a:xfrm>
            <a:off x="5742720" y="3406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ec2"/>
                </a:solidFill>
                <a:latin typeface="Times New Roman"/>
                <a:ea typeface="方正艺黑简体"/>
              </a:rPr>
              <a:t>棱长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5" name="Rectangle 31"/>
          <p:cNvSpPr/>
          <p:nvPr/>
        </p:nvSpPr>
        <p:spPr>
          <a:xfrm>
            <a:off x="4532760" y="2705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ec2"/>
                </a:solidFill>
                <a:latin typeface="Times New Roman"/>
                <a:ea typeface="方正艺黑简体"/>
              </a:rPr>
              <a:t>棱长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6" name="Rectangle 32"/>
          <p:cNvSpPr/>
          <p:nvPr/>
        </p:nvSpPr>
        <p:spPr>
          <a:xfrm>
            <a:off x="4449960" y="5019840"/>
            <a:ext cx="729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方正艺黑简体"/>
              </a:rPr>
              <a:t>棱长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6105960" y="5013360"/>
            <a:ext cx="729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方正艺黑简体"/>
              </a:rPr>
              <a:t>棱长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8" name="Rectangle 34"/>
          <p:cNvSpPr/>
          <p:nvPr/>
        </p:nvSpPr>
        <p:spPr>
          <a:xfrm>
            <a:off x="7636320" y="5013360"/>
            <a:ext cx="729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方正艺黑简体"/>
              </a:rPr>
              <a:t>棱长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9" name="Rectangle 35"/>
          <p:cNvSpPr/>
          <p:nvPr/>
        </p:nvSpPr>
        <p:spPr>
          <a:xfrm>
            <a:off x="828720" y="5013360"/>
            <a:ext cx="6476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方正艺黑简体"/>
              </a:rPr>
              <a:t>正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0" name="矩形 19"/>
          <p:cNvSpPr/>
          <p:nvPr/>
        </p:nvSpPr>
        <p:spPr>
          <a:xfrm>
            <a:off x="-71280" y="1063800"/>
            <a:ext cx="925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同桌讨论：正方体的体积怎么计算，完成导学案合作探究二。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08092E-006 L -0.15746 -2.08092E-006 E">
                                      <p:cBhvr>
                                        <p:cTn id="45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361600" y="1598760"/>
            <a:ext cx="4376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正方体的体积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棱长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棱长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棱长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042920" y="2541600"/>
            <a:ext cx="388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如果用字母</a:t>
            </a: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V</a:t>
            </a: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表示正方体的体积，用</a:t>
            </a: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a</a:t>
            </a: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表示它的棱长，那么正方体的体积公式可以写成：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173760" y="4854600"/>
            <a:ext cx="1186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V = a</a:t>
            </a:r>
            <a:r>
              <a:rPr b="1" lang="zh-CN" sz="28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5435640" y="2421000"/>
            <a:ext cx="2016000" cy="2361600"/>
            <a:chOff x="5435640" y="2421000"/>
            <a:chExt cx="2016000" cy="2361600"/>
          </a:xfrm>
        </p:grpSpPr>
        <p:sp>
          <p:nvSpPr>
            <p:cNvPr id="136" name="AutoShape 7"/>
            <p:cNvSpPr/>
            <p:nvPr/>
          </p:nvSpPr>
          <p:spPr>
            <a:xfrm>
              <a:off x="5435640" y="2421000"/>
              <a:ext cx="2016000" cy="2016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6669000" y="3284640"/>
              <a:ext cx="27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2ec2"/>
                  </a:solidFill>
                  <a:latin typeface="楷体_GB2312"/>
                </a:rPr>
                <a:t>a</a:t>
              </a: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5867280" y="4292640"/>
              <a:ext cx="279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2ec2"/>
                  </a:solidFill>
                  <a:latin typeface="楷体_GB2312"/>
                </a:rPr>
                <a:t>a</a:t>
              </a: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7164360" y="4005360"/>
              <a:ext cx="27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2ec2"/>
                  </a:solidFill>
                  <a:latin typeface="楷体_GB2312"/>
                </a:rPr>
                <a:t>a</a:t>
              </a: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2989080" y="1504800"/>
            <a:ext cx="3059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一块正方形的石料，棱长是 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6 dm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。这块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料的体积是多少立方分米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990720" y="3429000"/>
            <a:ext cx="2133360" cy="213372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399120" y="2908440"/>
            <a:ext cx="295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V= a</a:t>
            </a:r>
            <a:r>
              <a:rPr b="1" lang="zh-CN" sz="2800" spc="-1" strike="noStrike" baseline="30000">
                <a:solidFill>
                  <a:srgbClr val="002ec2"/>
                </a:solidFill>
                <a:latin typeface="楷体_GB2312"/>
              </a:rPr>
              <a:t>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2ec2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= 6</a:t>
            </a:r>
            <a:r>
              <a:rPr b="1" lang="zh-CN" sz="2800" spc="-1" strike="noStrike" baseline="30000">
                <a:solidFill>
                  <a:srgbClr val="002ec2"/>
                </a:solidFill>
                <a:latin typeface="楷体_GB2312"/>
              </a:rPr>
              <a:t>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2ec2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= 6×6×6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楷体_GB2312"/>
              </a:rPr>
              <a:t>  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= 216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</a:rPr>
              <a:t>（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</a:rPr>
              <a:t>dm</a:t>
            </a:r>
            <a:r>
              <a:rPr b="1" lang="zh-CN" sz="2800" spc="-1" strike="noStrike" baseline="30000">
                <a:solidFill>
                  <a:srgbClr val="cc33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</a:rPr>
              <a:t>） 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083040" y="5950080"/>
            <a:ext cx="358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答：这块石料的体积是</a:t>
            </a:r>
            <a:r>
              <a:rPr b="1" lang="zh-CN" sz="2600" spc="-1" strike="noStrike">
                <a:solidFill>
                  <a:srgbClr val="cc3300"/>
                </a:solidFill>
                <a:latin typeface="楷体_GB2312"/>
              </a:rPr>
              <a:t>216</a:t>
            </a: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dm</a:t>
            </a:r>
            <a:r>
              <a:rPr b="1" lang="zh-CN" sz="2600" spc="-1" strike="noStrike" baseline="30000">
                <a:solidFill>
                  <a:srgbClr val="002ec2"/>
                </a:solidFill>
                <a:latin typeface="楷体_GB2312"/>
              </a:rPr>
              <a:t>3</a:t>
            </a:r>
            <a:r>
              <a:rPr b="1" lang="zh-CN" sz="2600" spc="-1" strike="noStrike">
                <a:solidFill>
                  <a:srgbClr val="002ec2"/>
                </a:solidFill>
                <a:latin typeface="楷体_GB2312"/>
              </a:rPr>
              <a:t>。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0T01:40:21Z</dcterms:created>
  <dc:creator/>
  <dc:description/>
  <cp:keywords/>
  <dc:language>en-US</dc:language>
  <cp:lastModifiedBy/>
  <dcterms:modified xsi:type="dcterms:W3CDTF">2017-12-23T07:11:07Z</dcterms:modified>
  <cp:revision>1</cp:revision>
  <dc:subject/>
  <dc:title/>
</cp:coreProperties>
</file>