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5.png" ContentType="image/png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9.png" ContentType="image/png"/>
  <Override PartName="/ppt/media/chimes.wav" ContentType="audio/x-wav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BCF-E7EE-43B3-9BB4-81EF401C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E70-4688-4E1C-9BAA-A4FC611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6DE-3A37-40B5-896C-85E9233F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32A-A5E9-41D4-8D4D-4A876479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A46-FE00-4290-8DBB-5C0BB9D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3E2-99F3-454E-BDFF-60E3418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6B3-DC00-47E4-AAC6-E48891E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9D9-1D44-4B01-930A-D54316DA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C2D-B6DA-43D6-AE5D-807213A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CA5-F6C6-4D7F-9774-DF6DB9E2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F4A-59A8-4AB7-912B-C1C7CA46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AFE-ACAD-4BD2-80B5-C903B8C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AC5-5731-4642-BC0E-C64635B398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4.png"/><Relationship Id="rId6" Type="http://schemas.openxmlformats.org/officeDocument/2006/relationships/image" Target="../media/image2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2178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长方体和正方体的面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468360" y="1052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涂油漆的面积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68360" y="2762280"/>
            <a:ext cx="6840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面面积的和是长方体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32400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小闹钟的包装盒是正方体的（如右图）。它的棱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这个包装盒的表面积是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076720" y="620640"/>
            <a:ext cx="2962440" cy="18576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4"/>
          <p:cNvGrpSpPr/>
          <p:nvPr/>
        </p:nvGrpSpPr>
        <p:grpSpPr>
          <a:xfrm>
            <a:off x="611280" y="3284640"/>
            <a:ext cx="8208720" cy="1439640"/>
            <a:chOff x="611280" y="3284640"/>
            <a:chExt cx="8208720" cy="1439640"/>
          </a:xfrm>
        </p:grpSpPr>
        <p:sp>
          <p:nvSpPr>
            <p:cNvPr id="164" name="TextBox 5"/>
            <p:cNvSpPr/>
            <p:nvPr/>
          </p:nvSpPr>
          <p:spPr>
            <a:xfrm>
              <a:off x="611280" y="3284640"/>
              <a:ext cx="820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×16×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6×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3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厘米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Object 3"/>
            <p:cNvGraphicFramePr/>
            <p:nvPr/>
          </p:nvGraphicFramePr>
          <p:xfrm>
            <a:off x="2555280" y="4004640"/>
            <a:ext cx="1152000" cy="719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55280" y="4004640"/>
                      <a:ext cx="1152000" cy="71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7" name="TextBox 7"/>
          <p:cNvSpPr/>
          <p:nvPr/>
        </p:nvSpPr>
        <p:spPr>
          <a:xfrm>
            <a:off x="468360" y="54975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这个包装盒的表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533520" y="4572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展开图形上找出相对的面，并用上、下、前、后、左、右标出，再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标出每条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C:\Users\Administrator\AppData\Roaming\Tencent\Users\1433793736\QQ\WinTemp\RichOle\IVER0GL)6T]XL9N]O0XN@AV.png"/>
          <p:cNvPicPr/>
          <p:nvPr/>
        </p:nvPicPr>
        <p:blipFill>
          <a:blip r:embed="rId1"/>
          <a:stretch/>
        </p:blipFill>
        <p:spPr>
          <a:xfrm>
            <a:off x="2071800" y="2286000"/>
            <a:ext cx="5754600" cy="27208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4786200" y="3286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215040" y="3286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786200" y="25002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215040" y="42148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500800" y="32860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29280" y="32860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6858000" y="33577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857840" y="41432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7072200" y="41432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000840" y="3357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286680" y="26431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072200" y="25718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357800" y="32860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9120" y="2857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357800" y="2428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357880" y="3357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6357960" y="38577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643720" y="42148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643720" y="25002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357960" y="47149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857840" y="20001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500960" y="32860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33520" y="4572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将这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展开图形围成正方体后，哪两个面分别相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C:\Users\Administrator\AppData\Roaming\Tencent\Users\1433793736\QQ\WinTemp\RichOle\%$T3`KCCO9EL[`D~N~WM%}I.png"/>
          <p:cNvPicPr/>
          <p:nvPr/>
        </p:nvPicPr>
        <p:blipFill>
          <a:blip r:embed="rId1"/>
          <a:stretch/>
        </p:blipFill>
        <p:spPr>
          <a:xfrm>
            <a:off x="376200" y="2071800"/>
            <a:ext cx="2979720" cy="3571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"/>
          <p:cNvSpPr/>
          <p:nvPr/>
        </p:nvSpPr>
        <p:spPr>
          <a:xfrm>
            <a:off x="4071960" y="21430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5572080" y="21430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071960" y="29289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 二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572080" y="29289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407196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三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5720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33520" y="45720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光华街口装了一个新的长方体铁皮邮箱，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做这个邮箱至少需要多少平方厘米的铁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785880" y="314316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0×40×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0×78×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0×78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428760" y="3857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928880" y="38577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28760" y="4500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180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500040" y="521496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804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114560" y="5832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答：做这个邮箱至少需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8040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571840" y="39290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643200" y="38577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57800" y="38577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14200" y="35712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中队委员把一个棱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正方体纸箱的各面都贴上红纸，将它作为给希望小学捐款的“爱心箱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929040" y="1857240"/>
            <a:ext cx="5072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他们至少需要多少平方厘米的红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143240" y="3071880"/>
            <a:ext cx="4714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只在棱上粘贴胶带纸，一卷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胶带纸够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C:\Users\Administrator\AppData\Roaming\Tencent\Users\1433793736\QQ\WinTemp\RichOle\XBL0XECA}ZKAW%DTEOJ88(D.png"/>
          <p:cNvPicPr/>
          <p:nvPr/>
        </p:nvPicPr>
        <p:blipFill>
          <a:blip r:embed="rId1"/>
          <a:stretch/>
        </p:blipFill>
        <p:spPr>
          <a:xfrm>
            <a:off x="0" y="250020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9"/>
          <p:cNvSpPr/>
          <p:nvPr/>
        </p:nvSpPr>
        <p:spPr>
          <a:xfrm>
            <a:off x="1785960" y="2858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6×46×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428840" y="1000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1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916360" y="10526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357200" y="17146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696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平方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214280" y="242892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答：他们至少需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2696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平方厘米的红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3571920" y="10717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00040" y="2858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00040" y="31431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714680" y="3214800"/>
            <a:ext cx="24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6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571760" y="385776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52(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厘米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1143000" y="5500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答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5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胶带不够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500120" y="435780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5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5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643040" y="500076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52c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＞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5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圆角矩形 2"/>
          <p:cNvSpPr/>
          <p:nvPr/>
        </p:nvSpPr>
        <p:spPr>
          <a:xfrm>
            <a:off x="357120" y="1500120"/>
            <a:ext cx="8286840" cy="2928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28760" y="214308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长方体的表面积＝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长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宽＋长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高＋宽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高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)×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1428840" y="307188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正方体的表面积＝棱长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×</a:t>
            </a:r>
            <a:r>
              <a:rPr b="1" lang="zh-CN" sz="3200" spc="-1" strike="noStrike">
                <a:solidFill>
                  <a:srgbClr val="1f497d"/>
                </a:solidFill>
                <a:latin typeface="宋体"/>
              </a:rPr>
              <a:t>棱长</a:t>
            </a:r>
            <a:r>
              <a:rPr b="1" lang="en-US" sz="3200" spc="-1" strike="noStrike">
                <a:solidFill>
                  <a:srgbClr val="1f497d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3786120" y="642960"/>
            <a:ext cx="2143080" cy="500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alibri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1482480" y="437760"/>
            <a:ext cx="628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做一个长方体的鱼缸，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至少需要多少平方分米的玻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每平方分米玻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钱，至少需要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钱买玻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857160" y="2500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×4×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×6×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×6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571680" y="3071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3040" y="3071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42960" y="3571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1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42960" y="40006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8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平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1071720" y="450072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答：至少需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8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平方分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2214720" y="30718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2786040" y="3071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357720" y="30718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85880" y="51436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×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2143080" y="514368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85880" y="5715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答：至少需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元钱买的玻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380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口答填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5800" y="1523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正方体有（         ）个面，它们都是（               ），正方形各面的（         ）相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27432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是一个（              ），它的棱长是（         ）厘米，它的棱长之和是（          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857160" y="4286160"/>
            <a:ext cx="1981440" cy="1828800"/>
          </a:xfrm>
          <a:prstGeom prst="cube">
            <a:avLst>
              <a:gd name="adj" fmla="val 3775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1542960" y="428616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 flipH="1">
            <a:off x="1542600" y="542916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856800" y="5429160"/>
            <a:ext cx="68580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1542960" y="421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575440" y="4667400"/>
            <a:ext cx="9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2273760" y="5429160"/>
            <a:ext cx="9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"/>
          <p:cNvSpPr/>
          <p:nvPr/>
        </p:nvSpPr>
        <p:spPr>
          <a:xfrm>
            <a:off x="4071960" y="150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143000" y="20001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5730840" y="1928880"/>
            <a:ext cx="7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4"/>
          <p:cNvSpPr/>
          <p:nvPr/>
        </p:nvSpPr>
        <p:spPr>
          <a:xfrm>
            <a:off x="3915360" y="27147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1358640" y="32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6286680" y="31431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714840" y="435780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个正方体有（         ）个面，一般都是（               ），相对的面（         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7788240" y="43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4"/>
          <p:cNvSpPr/>
          <p:nvPr/>
        </p:nvSpPr>
        <p:spPr>
          <a:xfrm>
            <a:off x="6698160" y="4786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5516280" y="521496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179280" y="404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取一个正方体纸盒和一个长方体纸盒，按图展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354400" y="1111320"/>
            <a:ext cx="4665600" cy="3397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7"/>
          <p:cNvGrpSpPr/>
          <p:nvPr/>
        </p:nvGrpSpPr>
        <p:grpSpPr>
          <a:xfrm>
            <a:off x="826920" y="4797360"/>
            <a:ext cx="7201080" cy="1689120"/>
            <a:chOff x="826920" y="4797360"/>
            <a:chExt cx="7201080" cy="1689120"/>
          </a:xfrm>
        </p:grpSpPr>
        <p:sp>
          <p:nvSpPr>
            <p:cNvPr id="65" name="AutoShape 9"/>
            <p:cNvSpPr/>
            <p:nvPr/>
          </p:nvSpPr>
          <p:spPr>
            <a:xfrm>
              <a:off x="2627280" y="4797360"/>
              <a:ext cx="5400720" cy="1008000"/>
            </a:xfrm>
            <a:prstGeom prst="wedgeRoundRectCallout">
              <a:avLst>
                <a:gd name="adj1" fmla="val -58851"/>
                <a:gd name="adj2" fmla="val 40675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你还可以沿哪些剪开，形成长方体和正方体的展开图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3" descr="C:\Users\Administrator\Desktop\14.png"/>
            <p:cNvPicPr/>
            <p:nvPr/>
          </p:nvPicPr>
          <p:blipFill>
            <a:blip r:embed="rId2"/>
            <a:stretch/>
          </p:blipFill>
          <p:spPr>
            <a:xfrm>
              <a:off x="826920" y="5228640"/>
              <a:ext cx="952560" cy="125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324000" y="620640"/>
            <a:ext cx="6048360" cy="2727360"/>
            <a:chOff x="324000" y="620640"/>
            <a:chExt cx="6048360" cy="2727360"/>
          </a:xfrm>
        </p:grpSpPr>
        <p:sp>
          <p:nvSpPr>
            <p:cNvPr id="68" name="AutoShape 9"/>
            <p:cNvSpPr/>
            <p:nvPr/>
          </p:nvSpPr>
          <p:spPr>
            <a:xfrm>
              <a:off x="2068560" y="620640"/>
              <a:ext cx="4303800" cy="1295280"/>
            </a:xfrm>
            <a:prstGeom prst="wedgeRoundRectCallout">
              <a:avLst>
                <a:gd name="adj1" fmla="val -58851"/>
                <a:gd name="adj2" fmla="val 40675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展开后的各个面在立方体图中哪两个面是相对的，哪几个面是相邻的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C:\Users\Administrator\Desktop\15.png"/>
            <p:cNvPicPr/>
            <p:nvPr/>
          </p:nvPicPr>
          <p:blipFill>
            <a:blip r:embed="rId1"/>
            <a:stretch/>
          </p:blipFill>
          <p:spPr>
            <a:xfrm>
              <a:off x="324000" y="1844640"/>
              <a:ext cx="1710720" cy="15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7"/>
          <p:cNvGrpSpPr/>
          <p:nvPr/>
        </p:nvGrpSpPr>
        <p:grpSpPr>
          <a:xfrm>
            <a:off x="3724200" y="3164040"/>
            <a:ext cx="4303800" cy="3289320"/>
            <a:chOff x="3724200" y="3164040"/>
            <a:chExt cx="4303800" cy="3289320"/>
          </a:xfrm>
        </p:grpSpPr>
        <p:sp>
          <p:nvSpPr>
            <p:cNvPr id="71" name="AutoShape 9"/>
            <p:cNvSpPr/>
            <p:nvPr/>
          </p:nvSpPr>
          <p:spPr>
            <a:xfrm>
              <a:off x="3724200" y="3164040"/>
              <a:ext cx="4303800" cy="1297080"/>
            </a:xfrm>
            <a:prstGeom prst="wedgeRoundRectCallout">
              <a:avLst>
                <a:gd name="adj1" fmla="val -2305"/>
                <a:gd name="adj2" fmla="val 9074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把展开图还原、展开、再还原、再展开，这样反复几次可能就清楚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" descr="C:\Users\Administrator\Desktop\16.png"/>
            <p:cNvPicPr/>
            <p:nvPr/>
          </p:nvPicPr>
          <p:blipFill>
            <a:blip r:embed="rId2"/>
            <a:stretch/>
          </p:blipFill>
          <p:spPr>
            <a:xfrm>
              <a:off x="5740560" y="4748400"/>
              <a:ext cx="1532160" cy="17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C:\Users\Administrator\Desktop\79.png"/>
          <p:cNvPicPr/>
          <p:nvPr/>
        </p:nvPicPr>
        <p:blipFill>
          <a:blip r:embed="rId1"/>
          <a:stretch/>
        </p:blipFill>
        <p:spPr>
          <a:xfrm>
            <a:off x="6192720" y="1052640"/>
            <a:ext cx="2124360" cy="111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Administrator\Desktop\78.png"/>
          <p:cNvPicPr/>
          <p:nvPr/>
        </p:nvPicPr>
        <p:blipFill>
          <a:blip r:embed="rId2"/>
          <a:stretch/>
        </p:blipFill>
        <p:spPr>
          <a:xfrm>
            <a:off x="900000" y="404640"/>
            <a:ext cx="2000520" cy="214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826920" y="3589200"/>
            <a:ext cx="3638880" cy="214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5867280" y="3141720"/>
            <a:ext cx="3000600" cy="3181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340000" y="1393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2492280" y="2041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1332000" y="2349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236000" y="1413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740720" y="18255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6804000" y="18972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900000" y="37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050920" y="3841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2627280" y="38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3203640" y="386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3708360" y="4346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3780000" y="49212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6443640" y="3284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6372360" y="4005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86728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6516720" y="522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7164360" y="5713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8101080" y="5157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8028000" y="39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34920" y="4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79280" y="620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折纸材料中，哪些能沿着虚线折成长方体或正方体，哪些不能？剪下课本后面附页上的材料，动手折一折，想一想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54040" y="2421000"/>
            <a:ext cx="1827360" cy="140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700360" y="2817720"/>
            <a:ext cx="1962000" cy="103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888080" y="2421000"/>
            <a:ext cx="1733400" cy="1409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7178760" y="2133720"/>
            <a:ext cx="1939680" cy="1914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5"/>
          <a:stretch/>
        </p:blipFill>
        <p:spPr>
          <a:xfrm>
            <a:off x="179280" y="4530600"/>
            <a:ext cx="2705040" cy="11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6"/>
          <a:stretch/>
        </p:blipFill>
        <p:spPr>
          <a:xfrm>
            <a:off x="3392640" y="4508640"/>
            <a:ext cx="2004840" cy="157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7"/>
          <a:stretch/>
        </p:blipFill>
        <p:spPr>
          <a:xfrm>
            <a:off x="5618160" y="4365720"/>
            <a:ext cx="33750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9"/>
          <p:cNvSpPr/>
          <p:nvPr/>
        </p:nvSpPr>
        <p:spPr>
          <a:xfrm>
            <a:off x="1403280" y="333360"/>
            <a:ext cx="7632720" cy="1943280"/>
          </a:xfrm>
          <a:prstGeom prst="wedgeRoundRectCallout">
            <a:avLst>
              <a:gd name="adj1" fmla="val -51578"/>
              <a:gd name="adj2" fmla="val 49777"/>
              <a:gd name="adj3" fmla="val 16667"/>
            </a:avLst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正方体，其展开图分别如下所示。只有当动物和它喜欢的食物在正方体的相对面上时，它才能吃到食物。想想看，哪些正方体中的动物可以吃到它喜欢的食物。说说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Administrator\Desktop\9.png"/>
          <p:cNvPicPr/>
          <p:nvPr/>
        </p:nvPicPr>
        <p:blipFill>
          <a:blip r:embed="rId1"/>
          <a:stretch/>
        </p:blipFill>
        <p:spPr>
          <a:xfrm>
            <a:off x="468360" y="2421000"/>
            <a:ext cx="134460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68360" y="4552920"/>
            <a:ext cx="2190600" cy="161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3"/>
          <a:stretch/>
        </p:blipFill>
        <p:spPr>
          <a:xfrm>
            <a:off x="3564000" y="4149720"/>
            <a:ext cx="1633320" cy="203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5703840" y="4762440"/>
            <a:ext cx="188604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7677000" y="4292640"/>
            <a:ext cx="1467000" cy="1806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8244000" y="5157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5796000" y="513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4140360" y="4202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116000" y="4653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116000" y="5210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2050920" y="513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1619280" y="5641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3708360" y="5157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421164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8"/>
          <p:cNvSpPr/>
          <p:nvPr/>
        </p:nvSpPr>
        <p:spPr>
          <a:xfrm>
            <a:off x="4716360" y="5157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6227640" y="5157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6588000" y="5570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7093080" y="5589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8244000" y="5570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8244000" y="4724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8244000" y="4292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2411280" y="283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小猫能吃到鱼，小猴能吃到桃。它们刚好处于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50920" y="1159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把一块长方体木料（如右图，图中单位：厘米）的各个面上涂上一层油脂。涂油脂的面积有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324000" y="198900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、下每个面，长              ，宽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左、右每个面，长               ，宽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前、后每个面，长                ，宽    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Administrator\Desktop\101.png"/>
          <p:cNvPicPr/>
          <p:nvPr/>
        </p:nvPicPr>
        <p:blipFill>
          <a:blip r:embed="rId1"/>
          <a:stretch/>
        </p:blipFill>
        <p:spPr>
          <a:xfrm>
            <a:off x="6659640" y="333360"/>
            <a:ext cx="2085840" cy="1457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7596360" y="981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8244000" y="12492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7236000" y="1609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348000" y="19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5219640" y="1969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348000" y="24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21964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348000" y="2852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29272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7"/>
          <p:cNvGrpSpPr/>
          <p:nvPr/>
        </p:nvGrpSpPr>
        <p:grpSpPr>
          <a:xfrm>
            <a:off x="4732200" y="3716280"/>
            <a:ext cx="4303800" cy="2816280"/>
            <a:chOff x="4732200" y="3716280"/>
            <a:chExt cx="4303800" cy="2816280"/>
          </a:xfrm>
        </p:grpSpPr>
        <p:sp>
          <p:nvSpPr>
            <p:cNvPr id="141" name="AutoShape 9"/>
            <p:cNvSpPr/>
            <p:nvPr/>
          </p:nvSpPr>
          <p:spPr>
            <a:xfrm>
              <a:off x="4732200" y="3716280"/>
              <a:ext cx="4303800" cy="1295280"/>
            </a:xfrm>
            <a:prstGeom prst="wedgeRoundRectCallout">
              <a:avLst>
                <a:gd name="adj1" fmla="val -250"/>
                <a:gd name="adj2" fmla="val 8505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涂油脂的面积就是这个长方体木料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面积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4" descr="C:\Users\Administrator\Desktop\16.png"/>
            <p:cNvPicPr/>
            <p:nvPr/>
          </p:nvPicPr>
          <p:blipFill>
            <a:blip r:embed="rId2"/>
            <a:stretch/>
          </p:blipFill>
          <p:spPr>
            <a:xfrm>
              <a:off x="7163640" y="5228640"/>
              <a:ext cx="1172160" cy="130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"/>
          <p:cNvGraphicFramePr/>
          <p:nvPr/>
        </p:nvGraphicFramePr>
        <p:xfrm>
          <a:off x="3683160" y="1854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1854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组合 6"/>
          <p:cNvGrpSpPr/>
          <p:nvPr/>
        </p:nvGrpSpPr>
        <p:grpSpPr>
          <a:xfrm>
            <a:off x="468360" y="2349360"/>
            <a:ext cx="8207280" cy="1511280"/>
            <a:chOff x="468360" y="2349360"/>
            <a:chExt cx="8207280" cy="1511280"/>
          </a:xfrm>
        </p:grpSpPr>
        <p:sp>
          <p:nvSpPr>
            <p:cNvPr id="146" name="TextBox 3"/>
            <p:cNvSpPr/>
            <p:nvPr/>
          </p:nvSpPr>
          <p:spPr>
            <a:xfrm>
              <a:off x="468360" y="2349360"/>
              <a:ext cx="8207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5×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×4×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4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厘米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Object 3"/>
            <p:cNvGraphicFramePr/>
            <p:nvPr/>
          </p:nvGraphicFramePr>
          <p:xfrm>
            <a:off x="2196000" y="3141000"/>
            <a:ext cx="1151640" cy="71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6000" y="3141000"/>
                      <a:ext cx="1151640" cy="71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组合 8"/>
          <p:cNvGrpSpPr/>
          <p:nvPr/>
        </p:nvGrpSpPr>
        <p:grpSpPr>
          <a:xfrm>
            <a:off x="5003640" y="404640"/>
            <a:ext cx="3448080" cy="2941920"/>
            <a:chOff x="5003640" y="404640"/>
            <a:chExt cx="3448080" cy="2941920"/>
          </a:xfrm>
        </p:grpSpPr>
        <p:sp>
          <p:nvSpPr>
            <p:cNvPr id="150" name="AutoShape 9"/>
            <p:cNvSpPr/>
            <p:nvPr/>
          </p:nvSpPr>
          <p:spPr>
            <a:xfrm>
              <a:off x="5003640" y="404640"/>
              <a:ext cx="3448080" cy="1368720"/>
            </a:xfrm>
            <a:prstGeom prst="wedgeRoundRectCallout">
              <a:avLst>
                <a:gd name="adj1" fmla="val -2305"/>
                <a:gd name="adj2" fmla="val 90740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长方体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面，相对的两个面形状相同，面积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C:\Users\Administrator\Desktop\15.png"/>
            <p:cNvPicPr/>
            <p:nvPr/>
          </p:nvPicPr>
          <p:blipFill>
            <a:blip r:embed="rId5"/>
            <a:stretch/>
          </p:blipFill>
          <p:spPr>
            <a:xfrm flipH="1">
              <a:off x="6443640" y="1916640"/>
              <a:ext cx="1445040" cy="14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组合 10"/>
          <p:cNvGrpSpPr/>
          <p:nvPr/>
        </p:nvGrpSpPr>
        <p:grpSpPr>
          <a:xfrm>
            <a:off x="826920" y="4292640"/>
            <a:ext cx="4392720" cy="2565360"/>
            <a:chOff x="826920" y="4292640"/>
            <a:chExt cx="4392720" cy="2565360"/>
          </a:xfrm>
        </p:grpSpPr>
        <p:sp>
          <p:nvSpPr>
            <p:cNvPr id="153" name="AutoShape 9"/>
            <p:cNvSpPr/>
            <p:nvPr/>
          </p:nvSpPr>
          <p:spPr>
            <a:xfrm>
              <a:off x="1402920" y="4292640"/>
              <a:ext cx="3816720" cy="647640"/>
            </a:xfrm>
            <a:prstGeom prst="wedgeRoundRectCallout">
              <a:avLst>
                <a:gd name="adj1" fmla="val -38634"/>
                <a:gd name="adj2" fmla="val 97564"/>
                <a:gd name="adj3" fmla="val 16667"/>
              </a:avLst>
            </a:prstGeom>
            <a:solidFill>
              <a:srgbClr val="8eb4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这样做比较简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5" descr=""/>
            <p:cNvPicPr/>
            <p:nvPr/>
          </p:nvPicPr>
          <p:blipFill>
            <a:blip r:embed="rId6"/>
            <a:stretch/>
          </p:blipFill>
          <p:spPr>
            <a:xfrm>
              <a:off x="826920" y="5243400"/>
              <a:ext cx="122580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11"/>
          <p:cNvGrpSpPr/>
          <p:nvPr/>
        </p:nvGrpSpPr>
        <p:grpSpPr>
          <a:xfrm>
            <a:off x="4427640" y="5141880"/>
            <a:ext cx="4608360" cy="1455840"/>
            <a:chOff x="4427640" y="5141880"/>
            <a:chExt cx="4608360" cy="1455840"/>
          </a:xfrm>
        </p:grpSpPr>
        <p:sp>
          <p:nvSpPr>
            <p:cNvPr id="156" name="TextBox 12"/>
            <p:cNvSpPr/>
            <p:nvPr/>
          </p:nvSpPr>
          <p:spPr>
            <a:xfrm>
              <a:off x="4427640" y="5141880"/>
              <a:ext cx="4608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×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4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厘米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6"/>
            <p:cNvGraphicFramePr/>
            <p:nvPr/>
          </p:nvGraphicFramePr>
          <p:xfrm>
            <a:off x="6299640" y="5877720"/>
            <a:ext cx="646560" cy="72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99640" y="5877720"/>
                      <a:ext cx="646560" cy="72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8:14:35Z</dcterms:created>
  <dc:creator/>
  <dc:description/>
  <dc:language>en-US</dc:language>
  <cp:lastModifiedBy/>
  <dcterms:modified xsi:type="dcterms:W3CDTF">2017-12-08T12:47:27Z</dcterms:modified>
  <cp:revision>15</cp:revision>
  <dc:subject/>
  <dc:title/>
</cp:coreProperties>
</file>