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chimes.wav" ContentType="audio/x-wav"/>
  <Override PartName="/ppt/media/image6.jpeg" ContentType="image/jpeg"/>
  <Override PartName="/ppt/media/camera.wav" ContentType="audio/x-wav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5CEC-D1EA-472A-BAD0-A2376748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D1D-0CA5-4908-AAF0-241632FB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D59-38A9-4D96-B100-52ED0C99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B7F9-4EAF-4B24-B67B-E936F114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A77-1688-4FD5-BB6A-262067A7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A08F-D552-4CE0-9C30-F91642A4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B737-F509-4DAC-8AB1-9FA56D5E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2E7-5B0D-43EE-B1EC-37A2D2AA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4321-6541-4B4C-A2E2-52B272FF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4BC3-6C30-46E9-BEBE-EE6E401F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B934-A0DB-41CF-9A8C-8F7AAD1C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9164-3C1A-4A03-82E8-C6C9CB6D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89F-50DF-49BC-B9E6-5D55D404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A6B-3B3A-4807-99A6-CC160C18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275-2EBD-431A-89E3-6C76E093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2DC-C663-48C4-A42D-EC014074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DFD-D4D5-43CE-96C7-35A887CC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67A-F68A-4F40-94C5-65DE73A7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D43-9165-4DB2-9E30-01175E1B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44C7-F59E-49E0-AEE6-EF7542B2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6804000" y="2060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4211640" y="292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116000" y="1704960"/>
            <a:ext cx="67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9900"/>
                </a:solidFill>
                <a:latin typeface="Arial"/>
                <a:ea typeface="华文彩云"/>
              </a:rPr>
              <a:t>长方体和正方体的认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692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北京版五年级数学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22482 0.19214 C -0.22205 0.15607 -0.21996 0.12116 -0.20851 0.0874 C -0.19687 0.05226 -0.18194 -0.01595 -0.15903 -0.01364 C -0.13715 -0.01109 -0.09097 0.1059 -0.07378 0.10174 C -0.05625 0.09711 -0.07552 -0.02659 -0.05677 -0.03815 C -0.03559 -0.05086 0.02483 0.0363 0.04497 0.02128 C 0.06424 0.00602 0.04271 -0.11953 0.06129 -0.12462 C 0.07743 -0.12971 0.13281 -0.00508 0.14792 -0.01317 C 0.16198 -0.02404 0.1309 -0.17896 0.14618 -0.18751 C 0.16024 -0.1963 0.21754 -0.05687 0.22274 -0.05734 C 0.24584 -0.06913 0.23143 -0.19676 0.2309 -0.22219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344 -0.00486 L -0.59844 0.2467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50920" y="692280"/>
            <a:ext cx="8642160" cy="5832360"/>
            <a:chOff x="250920" y="692280"/>
            <a:chExt cx="8642160" cy="5832360"/>
          </a:xfrm>
        </p:grpSpPr>
        <p:sp>
          <p:nvSpPr>
            <p:cNvPr id="177" name="Rectangle 4"/>
            <p:cNvSpPr/>
            <p:nvPr/>
          </p:nvSpPr>
          <p:spPr>
            <a:xfrm>
              <a:off x="250920" y="692280"/>
              <a:ext cx="8642160" cy="5832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250920" y="1916280"/>
              <a:ext cx="86421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250920" y="4437000"/>
              <a:ext cx="756108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900000" y="1197000"/>
              <a:ext cx="691200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900000" y="692280"/>
              <a:ext cx="0" cy="5832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1403280" y="1197000"/>
              <a:ext cx="0" cy="53276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1835280" y="1197000"/>
              <a:ext cx="0" cy="53276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68360" y="692280"/>
              <a:ext cx="0" cy="5832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4643280" y="1197000"/>
              <a:ext cx="0" cy="53276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6227640" y="1197000"/>
              <a:ext cx="0" cy="53276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7812000" y="692280"/>
              <a:ext cx="0" cy="5832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5"/>
          <p:cNvSpPr/>
          <p:nvPr/>
        </p:nvSpPr>
        <p:spPr>
          <a:xfrm>
            <a:off x="251280" y="7506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251280" y="22593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方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3840" y="45676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方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146240" y="62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同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168000" y="644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      同      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8060400" y="98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2884320" y="126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的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9652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69204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969480" y="126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01120" y="126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1833120" y="126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861840" y="2577960"/>
            <a:ext cx="51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1319040" y="2577960"/>
            <a:ext cx="6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1814400" y="2577960"/>
            <a:ext cx="51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61840" y="4883040"/>
            <a:ext cx="51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1276200" y="4869000"/>
            <a:ext cx="6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1814400" y="4941720"/>
            <a:ext cx="51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2268360" y="2060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面一般都是长方形（也可能有两个相对的面是正方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2268360" y="479268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面一般都是相等的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4573440" y="2349360"/>
            <a:ext cx="18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对的面的面积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4573440" y="4719600"/>
            <a:ext cx="18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个面的面积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156360" y="1989000"/>
            <a:ext cx="18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一组互相平行的四条棱的长度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230880" y="4724280"/>
            <a:ext cx="18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棱的长度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740720" y="2997360"/>
            <a:ext cx="14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方体是特殊的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755640" y="1989000"/>
            <a:ext cx="3456000" cy="1783080"/>
            <a:chOff x="755640" y="1989000"/>
            <a:chExt cx="3456000" cy="1783080"/>
          </a:xfrm>
        </p:grpSpPr>
        <p:sp>
          <p:nvSpPr>
            <p:cNvPr id="215" name="Line 4"/>
            <p:cNvSpPr/>
            <p:nvPr/>
          </p:nvSpPr>
          <p:spPr>
            <a:xfrm flipH="1">
              <a:off x="3779280" y="1989000"/>
              <a:ext cx="431640" cy="4320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"/>
            <p:cNvGrpSpPr/>
            <p:nvPr/>
          </p:nvGrpSpPr>
          <p:grpSpPr>
            <a:xfrm>
              <a:off x="755640" y="1989000"/>
              <a:ext cx="3456000" cy="1783080"/>
              <a:chOff x="755640" y="1989000"/>
              <a:chExt cx="3456000" cy="1783080"/>
            </a:xfrm>
          </p:grpSpPr>
          <p:sp>
            <p:nvSpPr>
              <p:cNvPr id="217" name="Line 6"/>
              <p:cNvSpPr/>
              <p:nvPr/>
            </p:nvSpPr>
            <p:spPr>
              <a:xfrm>
                <a:off x="755640" y="2421000"/>
                <a:ext cx="302400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7"/>
              <p:cNvSpPr/>
              <p:nvPr/>
            </p:nvSpPr>
            <p:spPr>
              <a:xfrm>
                <a:off x="3779640" y="2421000"/>
                <a:ext cx="0" cy="13507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8"/>
              <p:cNvSpPr/>
              <p:nvPr/>
            </p:nvSpPr>
            <p:spPr>
              <a:xfrm>
                <a:off x="4211640" y="1989000"/>
                <a:ext cx="0" cy="1350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"/>
              <p:cNvSpPr/>
              <p:nvPr/>
            </p:nvSpPr>
            <p:spPr>
              <a:xfrm flipH="1">
                <a:off x="755640" y="1989000"/>
                <a:ext cx="432000" cy="432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0"/>
              <p:cNvSpPr/>
              <p:nvPr/>
            </p:nvSpPr>
            <p:spPr>
              <a:xfrm>
                <a:off x="755640" y="3772080"/>
                <a:ext cx="302400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1"/>
              <p:cNvSpPr/>
              <p:nvPr/>
            </p:nvSpPr>
            <p:spPr>
              <a:xfrm>
                <a:off x="1187640" y="1989000"/>
                <a:ext cx="302364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2"/>
              <p:cNvSpPr/>
              <p:nvPr/>
            </p:nvSpPr>
            <p:spPr>
              <a:xfrm flipH="1">
                <a:off x="755640" y="3339360"/>
                <a:ext cx="432000" cy="432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1187640" y="1989000"/>
                <a:ext cx="0" cy="1350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1187640" y="3339360"/>
                <a:ext cx="302364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 flipH="1">
                <a:off x="3779280" y="3339360"/>
                <a:ext cx="431640" cy="432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755640" y="2421000"/>
                <a:ext cx="0" cy="13507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Rectangle 17"/>
          <p:cNvSpPr/>
          <p:nvPr/>
        </p:nvSpPr>
        <p:spPr>
          <a:xfrm>
            <a:off x="34920" y="4975200"/>
            <a:ext cx="94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长方体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条棱可以分成几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相交于同一顶点的三条棱长度相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8"/>
          <p:cNvGrpSpPr/>
          <p:nvPr/>
        </p:nvGrpSpPr>
        <p:grpSpPr>
          <a:xfrm>
            <a:off x="5580000" y="1341360"/>
            <a:ext cx="3024360" cy="647640"/>
            <a:chOff x="5580000" y="1341360"/>
            <a:chExt cx="3024360" cy="647640"/>
          </a:xfrm>
        </p:grpSpPr>
        <p:sp>
          <p:nvSpPr>
            <p:cNvPr id="230" name="Line 19"/>
            <p:cNvSpPr/>
            <p:nvPr/>
          </p:nvSpPr>
          <p:spPr>
            <a:xfrm>
              <a:off x="5580000" y="1773360"/>
              <a:ext cx="30243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5580000" y="1989000"/>
              <a:ext cx="30243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1"/>
            <p:cNvSpPr/>
            <p:nvPr/>
          </p:nvSpPr>
          <p:spPr>
            <a:xfrm>
              <a:off x="5580000" y="1557360"/>
              <a:ext cx="30243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>
              <a:off x="5580000" y="1341360"/>
              <a:ext cx="30243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3"/>
          <p:cNvGrpSpPr/>
          <p:nvPr/>
        </p:nvGrpSpPr>
        <p:grpSpPr>
          <a:xfrm>
            <a:off x="5579640" y="2421000"/>
            <a:ext cx="2879280" cy="431640"/>
            <a:chOff x="5579640" y="2421000"/>
            <a:chExt cx="2879280" cy="431640"/>
          </a:xfrm>
        </p:grpSpPr>
        <p:sp>
          <p:nvSpPr>
            <p:cNvPr id="235" name="Line 24"/>
            <p:cNvSpPr/>
            <p:nvPr/>
          </p:nvSpPr>
          <p:spPr>
            <a:xfrm flipH="1">
              <a:off x="5579640" y="2421000"/>
              <a:ext cx="50292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 flipH="1">
              <a:off x="6370200" y="2421000"/>
              <a:ext cx="50472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 flipH="1">
              <a:off x="7162200" y="2421000"/>
              <a:ext cx="50436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7"/>
            <p:cNvSpPr/>
            <p:nvPr/>
          </p:nvSpPr>
          <p:spPr>
            <a:xfrm flipH="1">
              <a:off x="7956000" y="2421000"/>
              <a:ext cx="50292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5651640" y="3068640"/>
            <a:ext cx="2305080" cy="1351080"/>
            <a:chOff x="5651640" y="3068640"/>
            <a:chExt cx="2305080" cy="1351080"/>
          </a:xfrm>
        </p:grpSpPr>
        <p:sp>
          <p:nvSpPr>
            <p:cNvPr id="240" name="Line 29"/>
            <p:cNvSpPr/>
            <p:nvPr/>
          </p:nvSpPr>
          <p:spPr>
            <a:xfrm>
              <a:off x="5651640" y="3068640"/>
              <a:ext cx="0" cy="1351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0"/>
            <p:cNvSpPr/>
            <p:nvPr/>
          </p:nvSpPr>
          <p:spPr>
            <a:xfrm>
              <a:off x="6372360" y="3068640"/>
              <a:ext cx="0" cy="1351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1"/>
            <p:cNvSpPr/>
            <p:nvPr/>
          </p:nvSpPr>
          <p:spPr>
            <a:xfrm>
              <a:off x="7164360" y="3068640"/>
              <a:ext cx="0" cy="1351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2"/>
            <p:cNvSpPr/>
            <p:nvPr/>
          </p:nvSpPr>
          <p:spPr>
            <a:xfrm>
              <a:off x="7956720" y="3068640"/>
              <a:ext cx="0" cy="1351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33"/>
          <p:cNvSpPr/>
          <p:nvPr/>
        </p:nvSpPr>
        <p:spPr>
          <a:xfrm>
            <a:off x="473472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琥珀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473472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琥珀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4745880" y="343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琥珀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6012000" y="2563920"/>
            <a:ext cx="0" cy="2160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2268360" y="4724280"/>
            <a:ext cx="374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 flipH="1">
            <a:off x="6012000" y="4003560"/>
            <a:ext cx="720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68360" y="1844640"/>
            <a:ext cx="4464360" cy="28796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5973840" y="4687920"/>
            <a:ext cx="54000" cy="54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780000" y="4724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琥珀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300720" y="42195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琥珀"/>
              </a:rPr>
              <a:t>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5292720" y="31399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琥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2987280" y="4003560"/>
            <a:ext cx="374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2987640" y="1844640"/>
            <a:ext cx="0" cy="21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2268360" y="4003560"/>
            <a:ext cx="719280" cy="7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2268360" y="1844640"/>
            <a:ext cx="4461120" cy="2879640"/>
          </a:xfrm>
          <a:prstGeom prst="cube">
            <a:avLst>
              <a:gd name="adj" fmla="val 253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55640" y="692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微软简中圆"/>
              </a:rPr>
              <a:t>说出下列每个长方体的长、宽、高各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1187280" y="1989000"/>
            <a:ext cx="1584000" cy="792360"/>
            <a:chOff x="1187280" y="1989000"/>
            <a:chExt cx="1584000" cy="792360"/>
          </a:xfrm>
        </p:grpSpPr>
        <p:sp>
          <p:nvSpPr>
            <p:cNvPr id="263" name="AutoShape 5"/>
            <p:cNvSpPr/>
            <p:nvPr/>
          </p:nvSpPr>
          <p:spPr>
            <a:xfrm>
              <a:off x="1187280" y="1989000"/>
              <a:ext cx="1582920" cy="7923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 flipH="1">
              <a:off x="1442880" y="2572560"/>
              <a:ext cx="1328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1442880" y="1989000"/>
              <a:ext cx="0" cy="58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 flipH="1">
              <a:off x="1187280" y="2572560"/>
              <a:ext cx="255600" cy="20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9"/>
          <p:cNvSpPr/>
          <p:nvPr/>
        </p:nvSpPr>
        <p:spPr>
          <a:xfrm>
            <a:off x="757080" y="3357720"/>
            <a:ext cx="2664000" cy="863280"/>
          </a:xfrm>
          <a:prstGeom prst="cube">
            <a:avLst>
              <a:gd name="adj" fmla="val 68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169236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900000" y="1268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单位：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19564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2700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3133800" y="3862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169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68360" y="3862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924360" y="148428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（　　）厘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（　　）厘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（　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507672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507672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507672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3924360" y="306864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（　　）厘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（　　）厘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（　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507672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507672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507672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5"/>
          <p:cNvSpPr/>
          <p:nvPr/>
        </p:nvSpPr>
        <p:spPr>
          <a:xfrm>
            <a:off x="1187280" y="4724280"/>
            <a:ext cx="1513080" cy="1492200"/>
          </a:xfrm>
          <a:prstGeom prst="cube">
            <a:avLst>
              <a:gd name="adj" fmla="val 70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1332000" y="5784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7"/>
          <p:cNvSpPr/>
          <p:nvPr/>
        </p:nvSpPr>
        <p:spPr>
          <a:xfrm>
            <a:off x="1187280" y="6140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2195640" y="56404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3924360" y="474516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（　　）厘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（　　）厘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（　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5076720" y="4745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5076720" y="531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076720" y="5824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95280" y="836640"/>
            <a:ext cx="1728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03280" y="1773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）长方体有（　）个面，（　）条棱， （　）个顶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04720" y="3197160"/>
            <a:ext cx="882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）长方体相对的面（　　　　　　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　　  相对的棱长度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56400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593892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微软简魏碑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0000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5148360" y="32097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微软简魏碑"/>
                <a:ea typeface="微软简魏碑"/>
              </a:rPr>
              <a:t>完全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4213080" y="39290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微软简魏碑"/>
                <a:ea typeface="微软简魏碑"/>
              </a:rPr>
              <a:t>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503280" y="4638600"/>
            <a:ext cx="75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）一个长方体最多可能有（　）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面是正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6012000" y="46497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微软简魏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979640" y="6361200"/>
            <a:ext cx="487692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4016520" y="6216480"/>
            <a:ext cx="487656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8604360" y="4167360"/>
            <a:ext cx="0" cy="228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457200" y="1295280"/>
            <a:ext cx="8218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正方体有（         ）个面，它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都是（               ），    正方形各面的（         ）相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419720" y="1295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209680" y="2057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115640" y="28242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2120" y="3886200"/>
            <a:ext cx="77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.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长方体有（       ）个面，它们一般都是（             ），长方形相对的面的（          ）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34340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195640" y="4437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1258920" y="5013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91440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1908000" y="1905120"/>
            <a:ext cx="52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微软简魏碑"/>
                <a:ea typeface="微软简魏碑"/>
              </a:rPr>
              <a:t>     </a:t>
            </a:r>
            <a:r>
              <a:rPr b="1" lang="zh-CN" sz="3600" spc="-1" strike="noStrike">
                <a:solidFill>
                  <a:srgbClr val="993300"/>
                </a:solidFill>
                <a:latin typeface="微软简魏碑"/>
                <a:ea typeface="微软简魏碑"/>
              </a:rPr>
              <a:t>一个正方体的棱长总和是</a:t>
            </a:r>
            <a:r>
              <a:rPr b="1" lang="en-US" sz="3600" spc="-1" strike="noStrike">
                <a:solidFill>
                  <a:srgbClr val="993300"/>
                </a:solidFill>
                <a:latin typeface="微软简魏碑"/>
                <a:ea typeface="微软简魏碑"/>
              </a:rPr>
              <a:t>48</a:t>
            </a:r>
            <a:r>
              <a:rPr b="1" lang="zh-CN" sz="3600" spc="-1" strike="noStrike">
                <a:solidFill>
                  <a:srgbClr val="993300"/>
                </a:solidFill>
                <a:latin typeface="微软简魏碑"/>
                <a:ea typeface="微软简魏碑"/>
              </a:rPr>
              <a:t>分米，它一条棱长多少分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4932360" y="4149720"/>
            <a:ext cx="1800360" cy="1828800"/>
            <a:chOff x="4932360" y="4149720"/>
            <a:chExt cx="1800360" cy="1828800"/>
          </a:xfrm>
        </p:grpSpPr>
        <p:sp>
          <p:nvSpPr>
            <p:cNvPr id="316" name="AutoShape 5"/>
            <p:cNvSpPr/>
            <p:nvPr/>
          </p:nvSpPr>
          <p:spPr>
            <a:xfrm>
              <a:off x="4932360" y="4149720"/>
              <a:ext cx="1800360" cy="18288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6301080" y="4221000"/>
              <a:ext cx="431640" cy="17290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5005440" y="4149720"/>
              <a:ext cx="1727280" cy="43164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09" dur="2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0" dur="2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1" dur="2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2050920" y="1628640"/>
            <a:ext cx="5761080" cy="24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611280" y="4459320"/>
            <a:ext cx="7993080" cy="15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上面是（　　）形，长（　）厘米，宽（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右面是（　　）形，长（　）厘米，宽（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前面是（　　）形，长（　）厘米，宽（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395280" y="1773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268360" y="98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所提供的条件，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7"/>
          <p:cNvGrpSpPr/>
          <p:nvPr/>
        </p:nvGrpSpPr>
        <p:grpSpPr>
          <a:xfrm>
            <a:off x="2916000" y="2060640"/>
            <a:ext cx="4392720" cy="1960200"/>
            <a:chOff x="2916000" y="2060640"/>
            <a:chExt cx="4392720" cy="1960200"/>
          </a:xfrm>
        </p:grpSpPr>
        <p:grpSp>
          <p:nvGrpSpPr>
            <p:cNvPr id="325" name="Group 8"/>
            <p:cNvGrpSpPr/>
            <p:nvPr/>
          </p:nvGrpSpPr>
          <p:grpSpPr>
            <a:xfrm>
              <a:off x="2916000" y="2060640"/>
              <a:ext cx="2232000" cy="1368000"/>
              <a:chOff x="2916000" y="2060640"/>
              <a:chExt cx="2232000" cy="1368000"/>
            </a:xfrm>
          </p:grpSpPr>
          <p:sp>
            <p:nvSpPr>
              <p:cNvPr id="326" name="AutoShape 9"/>
              <p:cNvSpPr/>
              <p:nvPr/>
            </p:nvSpPr>
            <p:spPr>
              <a:xfrm>
                <a:off x="2916360" y="2060640"/>
                <a:ext cx="2230200" cy="1368000"/>
              </a:xfrm>
              <a:prstGeom prst="cube">
                <a:avLst>
                  <a:gd name="adj" fmla="val 25000"/>
                </a:avLst>
              </a:prstGeom>
              <a:noFill/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10"/>
              <p:cNvSpPr/>
              <p:nvPr/>
            </p:nvSpPr>
            <p:spPr>
              <a:xfrm flipH="1">
                <a:off x="3276360" y="3068280"/>
                <a:ext cx="1871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1"/>
              <p:cNvSpPr/>
              <p:nvPr/>
            </p:nvSpPr>
            <p:spPr>
              <a:xfrm>
                <a:off x="3276720" y="2060640"/>
                <a:ext cx="0" cy="1007640"/>
              </a:xfrm>
              <a:prstGeom prst="line">
                <a:avLst/>
              </a:prstGeom>
              <a:ln w="25560">
                <a:solidFill>
                  <a:srgbClr val="d6009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2"/>
              <p:cNvSpPr/>
              <p:nvPr/>
            </p:nvSpPr>
            <p:spPr>
              <a:xfrm flipH="1">
                <a:off x="2916000" y="3068280"/>
                <a:ext cx="360360" cy="360000"/>
              </a:xfrm>
              <a:prstGeom prst="line">
                <a:avLst/>
              </a:prstGeom>
              <a:ln w="25560">
                <a:solidFill>
                  <a:srgbClr val="d6009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13"/>
            <p:cNvSpPr/>
            <p:nvPr/>
          </p:nvSpPr>
          <p:spPr>
            <a:xfrm>
              <a:off x="3564000" y="35002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859280" y="321120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4356000" y="27079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5364000" y="21319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位：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7"/>
          <p:cNvGrpSpPr/>
          <p:nvPr/>
        </p:nvGrpSpPr>
        <p:grpSpPr>
          <a:xfrm>
            <a:off x="2411280" y="5011560"/>
            <a:ext cx="5040360" cy="471960"/>
            <a:chOff x="2411280" y="5011560"/>
            <a:chExt cx="5040360" cy="471960"/>
          </a:xfrm>
        </p:grpSpPr>
        <p:sp>
          <p:nvSpPr>
            <p:cNvPr id="335" name="Text Box 18"/>
            <p:cNvSpPr/>
            <p:nvPr/>
          </p:nvSpPr>
          <p:spPr>
            <a:xfrm>
              <a:off x="2411280" y="50115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长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9"/>
            <p:cNvSpPr/>
            <p:nvPr/>
          </p:nvSpPr>
          <p:spPr>
            <a:xfrm>
              <a:off x="4354560" y="5084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0"/>
            <p:cNvSpPr/>
            <p:nvPr/>
          </p:nvSpPr>
          <p:spPr>
            <a:xfrm>
              <a:off x="6514920" y="5084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1"/>
          <p:cNvGrpSpPr/>
          <p:nvPr/>
        </p:nvGrpSpPr>
        <p:grpSpPr>
          <a:xfrm>
            <a:off x="2411280" y="5587920"/>
            <a:ext cx="5040360" cy="471960"/>
            <a:chOff x="2411280" y="5587920"/>
            <a:chExt cx="5040360" cy="471960"/>
          </a:xfrm>
        </p:grpSpPr>
        <p:sp>
          <p:nvSpPr>
            <p:cNvPr id="339" name="Text Box 22"/>
            <p:cNvSpPr/>
            <p:nvPr/>
          </p:nvSpPr>
          <p:spPr>
            <a:xfrm>
              <a:off x="2411280" y="5587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长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3"/>
            <p:cNvSpPr/>
            <p:nvPr/>
          </p:nvSpPr>
          <p:spPr>
            <a:xfrm>
              <a:off x="4354560" y="566100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4"/>
            <p:cNvSpPr/>
            <p:nvPr/>
          </p:nvSpPr>
          <p:spPr>
            <a:xfrm>
              <a:off x="6514920" y="5661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2411280" y="4508640"/>
            <a:ext cx="5040360" cy="459720"/>
            <a:chOff x="2411280" y="4508640"/>
            <a:chExt cx="5040360" cy="459720"/>
          </a:xfrm>
        </p:grpSpPr>
        <p:sp>
          <p:nvSpPr>
            <p:cNvPr id="343" name="Text Box 26"/>
            <p:cNvSpPr/>
            <p:nvPr/>
          </p:nvSpPr>
          <p:spPr>
            <a:xfrm>
              <a:off x="2411280" y="4508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长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7"/>
            <p:cNvSpPr/>
            <p:nvPr/>
          </p:nvSpPr>
          <p:spPr>
            <a:xfrm>
              <a:off x="4354560" y="4508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6514920" y="4508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29" descr="园"/>
          <p:cNvPicPr/>
          <p:nvPr/>
        </p:nvPicPr>
        <p:blipFill>
          <a:blip r:embed="rId1"/>
          <a:stretch/>
        </p:blipFill>
        <p:spPr>
          <a:xfrm>
            <a:off x="611280" y="765000"/>
            <a:ext cx="934920" cy="935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2050920" y="1628640"/>
            <a:ext cx="5761080" cy="24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611280" y="4459320"/>
            <a:ext cx="7993080" cy="15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上面是（　　）形，长（　）厘米，宽（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右面是（　　）形，长（　）厘米，宽（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前面是（　　）形，长（　）厘米，宽（　）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539640" y="2421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268360" y="98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所提供的条件，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7"/>
          <p:cNvGrpSpPr/>
          <p:nvPr/>
        </p:nvGrpSpPr>
        <p:grpSpPr>
          <a:xfrm>
            <a:off x="3419640" y="1700280"/>
            <a:ext cx="2939760" cy="2305080"/>
            <a:chOff x="3419640" y="1700280"/>
            <a:chExt cx="2939760" cy="2305080"/>
          </a:xfrm>
        </p:grpSpPr>
        <p:sp>
          <p:nvSpPr>
            <p:cNvPr id="353" name="Line 8"/>
            <p:cNvSpPr/>
            <p:nvPr/>
          </p:nvSpPr>
          <p:spPr>
            <a:xfrm>
              <a:off x="3419640" y="3573720"/>
              <a:ext cx="99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V="1">
              <a:off x="4414680" y="1700280"/>
              <a:ext cx="0" cy="187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 flipV="1">
              <a:off x="4414680" y="3122280"/>
              <a:ext cx="53352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1"/>
            <p:cNvSpPr/>
            <p:nvPr/>
          </p:nvSpPr>
          <p:spPr>
            <a:xfrm>
              <a:off x="3780000" y="3637080"/>
              <a:ext cx="404640" cy="368280"/>
            </a:xfrm>
            <a:prstGeom prst="rect">
              <a:avLst/>
            </a:prstGeom>
            <a:solidFill>
              <a:srgbClr val="ffffff"/>
            </a:solidFill>
            <a:ln cap="rnd" w="3240">
              <a:solidFill>
                <a:srgbClr val="66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4716360" y="3365640"/>
              <a:ext cx="360360" cy="368280"/>
            </a:xfrm>
            <a:prstGeom prst="rect">
              <a:avLst/>
            </a:prstGeom>
            <a:solidFill>
              <a:srgbClr val="ffffff"/>
            </a:solidFill>
            <a:ln cap="rnd" w="3240">
              <a:solidFill>
                <a:srgbClr val="66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3995640" y="2787840"/>
              <a:ext cx="320760" cy="368280"/>
            </a:xfrm>
            <a:prstGeom prst="rect">
              <a:avLst/>
            </a:prstGeom>
            <a:solidFill>
              <a:srgbClr val="ffffff"/>
            </a:solidFill>
            <a:ln cap="rnd" w="3240">
              <a:solidFill>
                <a:srgbClr val="66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264280" y="2351160"/>
              <a:ext cx="1095120" cy="459720"/>
            </a:xfrm>
            <a:prstGeom prst="rect">
              <a:avLst/>
            </a:prstGeom>
            <a:solidFill>
              <a:srgbClr val="ffffff"/>
            </a:solidFill>
            <a:ln cap="rnd" w="3240">
              <a:solidFill>
                <a:srgbClr val="cc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位：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2411280" y="4508640"/>
            <a:ext cx="5040360" cy="459720"/>
            <a:chOff x="2411280" y="4508640"/>
            <a:chExt cx="5040360" cy="459720"/>
          </a:xfrm>
        </p:grpSpPr>
        <p:sp>
          <p:nvSpPr>
            <p:cNvPr id="361" name="Text Box 16"/>
            <p:cNvSpPr/>
            <p:nvPr/>
          </p:nvSpPr>
          <p:spPr>
            <a:xfrm>
              <a:off x="2411280" y="4508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正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7"/>
            <p:cNvSpPr/>
            <p:nvPr/>
          </p:nvSpPr>
          <p:spPr>
            <a:xfrm>
              <a:off x="4354560" y="4508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514920" y="4508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2411280" y="5059440"/>
            <a:ext cx="5040360" cy="459720"/>
            <a:chOff x="2411280" y="5059440"/>
            <a:chExt cx="5040360" cy="459720"/>
          </a:xfrm>
        </p:grpSpPr>
        <p:sp>
          <p:nvSpPr>
            <p:cNvPr id="365" name="Text Box 20"/>
            <p:cNvSpPr/>
            <p:nvPr/>
          </p:nvSpPr>
          <p:spPr>
            <a:xfrm>
              <a:off x="2411280" y="50594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长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1"/>
            <p:cNvSpPr/>
            <p:nvPr/>
          </p:nvSpPr>
          <p:spPr>
            <a:xfrm>
              <a:off x="4354560" y="50594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2"/>
            <p:cNvSpPr/>
            <p:nvPr/>
          </p:nvSpPr>
          <p:spPr>
            <a:xfrm>
              <a:off x="6514920" y="50594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3"/>
          <p:cNvGrpSpPr/>
          <p:nvPr/>
        </p:nvGrpSpPr>
        <p:grpSpPr>
          <a:xfrm>
            <a:off x="2411280" y="5589720"/>
            <a:ext cx="5040360" cy="459720"/>
            <a:chOff x="2411280" y="5589720"/>
            <a:chExt cx="5040360" cy="459720"/>
          </a:xfrm>
        </p:grpSpPr>
        <p:sp>
          <p:nvSpPr>
            <p:cNvPr id="369" name="Text Box 24"/>
            <p:cNvSpPr/>
            <p:nvPr/>
          </p:nvSpPr>
          <p:spPr>
            <a:xfrm>
              <a:off x="2411280" y="5589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长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5"/>
            <p:cNvSpPr/>
            <p:nvPr/>
          </p:nvSpPr>
          <p:spPr>
            <a:xfrm>
              <a:off x="4354560" y="558972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6"/>
            <p:cNvSpPr/>
            <p:nvPr/>
          </p:nvSpPr>
          <p:spPr>
            <a:xfrm>
              <a:off x="6514920" y="558972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Picture 27" descr="园"/>
          <p:cNvPicPr/>
          <p:nvPr/>
        </p:nvPicPr>
        <p:blipFill>
          <a:blip r:embed="rId1"/>
          <a:stretch/>
        </p:blipFill>
        <p:spPr>
          <a:xfrm>
            <a:off x="755640" y="907920"/>
            <a:ext cx="9349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971640" y="292428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 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长方体和正方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步了解长方体和正方体的一些基本特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区别长方体和正方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95280" y="4005360"/>
            <a:ext cx="8353440" cy="2474640"/>
          </a:xfrm>
          <a:prstGeom prst="rect">
            <a:avLst/>
          </a:prstGeom>
          <a:solidFill>
            <a:srgbClr val="d8e4d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95280" y="1465200"/>
            <a:ext cx="3960720" cy="2475000"/>
          </a:xfrm>
          <a:prstGeom prst="rect">
            <a:avLst/>
          </a:prstGeom>
          <a:solidFill>
            <a:srgbClr val="f5e8f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788000" y="1438200"/>
            <a:ext cx="3960720" cy="2475000"/>
          </a:xfrm>
          <a:prstGeom prst="rect">
            <a:avLst/>
          </a:prstGeom>
          <a:solidFill>
            <a:srgbClr val="f7ead1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036062540"/>
          <p:cNvPicPr/>
          <p:nvPr/>
        </p:nvPicPr>
        <p:blipFill>
          <a:blip r:embed="rId1"/>
          <a:stretch/>
        </p:blipFill>
        <p:spPr>
          <a:xfrm rot="20787000">
            <a:off x="2492280" y="4327560"/>
            <a:ext cx="4824360" cy="175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zeiss_usp_wuerfel"/>
          <p:cNvPicPr/>
          <p:nvPr/>
        </p:nvPicPr>
        <p:blipFill>
          <a:blip r:embed="rId2"/>
          <a:stretch/>
        </p:blipFill>
        <p:spPr>
          <a:xfrm>
            <a:off x="5580000" y="146520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124981667"/>
          <p:cNvPicPr/>
          <p:nvPr/>
        </p:nvPicPr>
        <p:blipFill>
          <a:blip r:embed="rId3"/>
          <a:stretch/>
        </p:blipFill>
        <p:spPr>
          <a:xfrm>
            <a:off x="611280" y="1608120"/>
            <a:ext cx="3601800" cy="2225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4335480" y="620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彩云"/>
              </a:rPr>
              <a:t>认一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200592111333456"/>
          <p:cNvPicPr/>
          <p:nvPr/>
        </p:nvPicPr>
        <p:blipFill>
          <a:blip r:embed="rId4"/>
          <a:stretch/>
        </p:blipFill>
        <p:spPr>
          <a:xfrm>
            <a:off x="7812000" y="53290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50920" y="2492280"/>
            <a:ext cx="2819160" cy="2286000"/>
            <a:chOff x="250920" y="2492280"/>
            <a:chExt cx="2819160" cy="2286000"/>
          </a:xfrm>
        </p:grpSpPr>
        <p:sp>
          <p:nvSpPr>
            <p:cNvPr id="59" name="AutoShape 3"/>
            <p:cNvSpPr/>
            <p:nvPr/>
          </p:nvSpPr>
          <p:spPr>
            <a:xfrm>
              <a:off x="250920" y="2492280"/>
              <a:ext cx="2819160" cy="228600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"/>
            <p:cNvSpPr/>
            <p:nvPr/>
          </p:nvSpPr>
          <p:spPr>
            <a:xfrm>
              <a:off x="2231640" y="3101760"/>
              <a:ext cx="1440" cy="16765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250920" y="4321080"/>
              <a:ext cx="2209320" cy="14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 flipV="1">
              <a:off x="2460240" y="3787560"/>
              <a:ext cx="609480" cy="5335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326880" y="3406680"/>
              <a:ext cx="198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北   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 flipV="1">
              <a:off x="2688840" y="3101400"/>
              <a:ext cx="228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V="1">
              <a:off x="2688840" y="3406320"/>
              <a:ext cx="228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426708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（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3307320" y="2565360"/>
            <a:ext cx="2688120" cy="1995120"/>
            <a:chOff x="3307320" y="2565360"/>
            <a:chExt cx="2688120" cy="1995120"/>
          </a:xfrm>
        </p:grpSpPr>
        <p:sp>
          <p:nvSpPr>
            <p:cNvPr id="68" name="AutoShape 12"/>
            <p:cNvSpPr/>
            <p:nvPr/>
          </p:nvSpPr>
          <p:spPr>
            <a:xfrm>
              <a:off x="3429000" y="2641320"/>
              <a:ext cx="2286000" cy="190476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 flipH="1">
              <a:off x="3429000" y="3098520"/>
              <a:ext cx="182880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 flipH="1">
              <a:off x="3429000" y="3784320"/>
              <a:ext cx="182880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3733920" y="2565360"/>
              <a:ext cx="1828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上海制笔销售公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宜兴洋新兴化工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 rot="20195400">
              <a:off x="3276720" y="37076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高级碳素墨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4033080" y="3174840"/>
              <a:ext cx="1102320" cy="12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Dolphin"/>
                  <a:ea typeface="隶书"/>
                </a:rPr>
                <a:t>新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 rot="20433000">
              <a:off x="3353040" y="34794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2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9"/>
          <p:cNvGrpSpPr/>
          <p:nvPr/>
        </p:nvGrpSpPr>
        <p:grpSpPr>
          <a:xfrm>
            <a:off x="6012000" y="2565360"/>
            <a:ext cx="2818800" cy="2743200"/>
            <a:chOff x="6012000" y="2565360"/>
            <a:chExt cx="2818800" cy="2743200"/>
          </a:xfrm>
        </p:grpSpPr>
        <p:sp>
          <p:nvSpPr>
            <p:cNvPr id="76" name="AutoShape 20"/>
            <p:cNvSpPr/>
            <p:nvPr/>
          </p:nvSpPr>
          <p:spPr>
            <a:xfrm>
              <a:off x="6012000" y="2565360"/>
              <a:ext cx="2590560" cy="2362320"/>
            </a:xfrm>
            <a:prstGeom prst="parallelogram">
              <a:avLst>
                <a:gd name="adj" fmla="val 27415"/>
              </a:avLst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>
              <a:off x="8602560" y="2565360"/>
              <a:ext cx="228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7993080" y="4927680"/>
              <a:ext cx="151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 flipH="1">
              <a:off x="8145360" y="2793960"/>
              <a:ext cx="68544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4"/>
            <p:cNvSpPr/>
            <p:nvPr/>
          </p:nvSpPr>
          <p:spPr>
            <a:xfrm>
              <a:off x="6012000" y="492768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>
              <a:off x="6087960" y="5308560"/>
              <a:ext cx="205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>
              <a:off x="6012000" y="5004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7"/>
            <p:cNvSpPr/>
            <p:nvPr/>
          </p:nvSpPr>
          <p:spPr>
            <a:xfrm>
              <a:off x="6012000" y="50799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6087960" y="515628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6087960" y="523260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 flipV="1">
              <a:off x="7993080" y="2641680"/>
              <a:ext cx="68544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 flipV="1">
              <a:off x="8069040" y="2718000"/>
              <a:ext cx="685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 flipV="1">
              <a:off x="8145360" y="2717640"/>
              <a:ext cx="6091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2484360" y="2276640"/>
            <a:ext cx="4608720" cy="5760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059280" y="2276640"/>
            <a:ext cx="4032000" cy="180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484360" y="2852640"/>
            <a:ext cx="4032360" cy="1800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2484360" y="2205000"/>
            <a:ext cx="576360" cy="244800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2481120" y="4076640"/>
            <a:ext cx="4608720" cy="57636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6516720" y="2205000"/>
            <a:ext cx="576360" cy="244800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2480760" y="2276640"/>
            <a:ext cx="4608720" cy="2376360"/>
            <a:chOff x="2480760" y="2276640"/>
            <a:chExt cx="4608720" cy="2376360"/>
          </a:xfrm>
        </p:grpSpPr>
        <p:sp>
          <p:nvSpPr>
            <p:cNvPr id="97" name="Line 10"/>
            <p:cNvSpPr/>
            <p:nvPr/>
          </p:nvSpPr>
          <p:spPr>
            <a:xfrm flipH="1">
              <a:off x="6513480" y="2276640"/>
              <a:ext cx="576000" cy="5760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1"/>
            <p:cNvGrpSpPr/>
            <p:nvPr/>
          </p:nvGrpSpPr>
          <p:grpSpPr>
            <a:xfrm>
              <a:off x="2480760" y="2276640"/>
              <a:ext cx="4608720" cy="2376360"/>
              <a:chOff x="2480760" y="2276640"/>
              <a:chExt cx="4608720" cy="2376360"/>
            </a:xfrm>
          </p:grpSpPr>
          <p:sp>
            <p:nvSpPr>
              <p:cNvPr id="99" name="Line 12"/>
              <p:cNvSpPr/>
              <p:nvPr/>
            </p:nvSpPr>
            <p:spPr>
              <a:xfrm>
                <a:off x="2481120" y="2852640"/>
                <a:ext cx="403236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3"/>
              <p:cNvSpPr/>
              <p:nvPr/>
            </p:nvSpPr>
            <p:spPr>
              <a:xfrm>
                <a:off x="6513480" y="2852640"/>
                <a:ext cx="0" cy="1800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7089480" y="2276640"/>
                <a:ext cx="0" cy="1800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5"/>
              <p:cNvSpPr/>
              <p:nvPr/>
            </p:nvSpPr>
            <p:spPr>
              <a:xfrm flipH="1">
                <a:off x="2480760" y="2276640"/>
                <a:ext cx="576360" cy="576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6"/>
              <p:cNvSpPr/>
              <p:nvPr/>
            </p:nvSpPr>
            <p:spPr>
              <a:xfrm>
                <a:off x="2481120" y="4653000"/>
                <a:ext cx="403236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>
                <a:off x="3057480" y="2276640"/>
                <a:ext cx="403200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 flipH="1">
                <a:off x="2480760" y="4076640"/>
                <a:ext cx="576360" cy="576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9"/>
              <p:cNvSpPr/>
              <p:nvPr/>
            </p:nvSpPr>
            <p:spPr>
              <a:xfrm>
                <a:off x="3057480" y="2276640"/>
                <a:ext cx="0" cy="1800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0"/>
              <p:cNvSpPr/>
              <p:nvPr/>
            </p:nvSpPr>
            <p:spPr>
              <a:xfrm>
                <a:off x="3057480" y="4076640"/>
                <a:ext cx="4032000" cy="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1"/>
              <p:cNvSpPr/>
              <p:nvPr/>
            </p:nvSpPr>
            <p:spPr>
              <a:xfrm flipH="1">
                <a:off x="6513480" y="4076640"/>
                <a:ext cx="576000" cy="576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2"/>
              <p:cNvSpPr/>
              <p:nvPr/>
            </p:nvSpPr>
            <p:spPr>
              <a:xfrm>
                <a:off x="2481120" y="2852640"/>
                <a:ext cx="0" cy="1800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Text Box 23"/>
          <p:cNvSpPr/>
          <p:nvPr/>
        </p:nvSpPr>
        <p:spPr>
          <a:xfrm>
            <a:off x="1244880" y="2448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简魏碑"/>
              </a:rPr>
              <a:t>顶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2481120" y="2852640"/>
            <a:ext cx="403236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3057480" y="2276640"/>
            <a:ext cx="403236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6513120" y="2276640"/>
            <a:ext cx="576360" cy="576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 flipH="1">
            <a:off x="6513120" y="4076640"/>
            <a:ext cx="576360" cy="576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513480" y="2852640"/>
            <a:ext cx="0" cy="1800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7089840" y="2276640"/>
            <a:ext cx="0" cy="1800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2481120" y="4653000"/>
            <a:ext cx="403236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2481120" y="2852640"/>
            <a:ext cx="0" cy="1800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 flipH="1">
            <a:off x="2480760" y="2276640"/>
            <a:ext cx="576360" cy="576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3057480" y="4076640"/>
            <a:ext cx="4032360" cy="0"/>
          </a:xfrm>
          <a:prstGeom prst="line">
            <a:avLst/>
          </a:prstGeom>
          <a:ln w="63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 flipH="1">
            <a:off x="2480760" y="4076640"/>
            <a:ext cx="576360" cy="576360"/>
          </a:xfrm>
          <a:prstGeom prst="line">
            <a:avLst/>
          </a:prstGeom>
          <a:ln w="63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3057480" y="2276640"/>
            <a:ext cx="0" cy="1800000"/>
          </a:xfrm>
          <a:prstGeom prst="line">
            <a:avLst/>
          </a:prstGeom>
          <a:ln w="63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6"/>
          <p:cNvSpPr/>
          <p:nvPr/>
        </p:nvSpPr>
        <p:spPr>
          <a:xfrm>
            <a:off x="2408400" y="27795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7"/>
          <p:cNvSpPr/>
          <p:nvPr/>
        </p:nvSpPr>
        <p:spPr>
          <a:xfrm>
            <a:off x="2984400" y="220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8"/>
          <p:cNvSpPr/>
          <p:nvPr/>
        </p:nvSpPr>
        <p:spPr>
          <a:xfrm>
            <a:off x="6442200" y="27795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9"/>
          <p:cNvSpPr/>
          <p:nvPr/>
        </p:nvSpPr>
        <p:spPr>
          <a:xfrm>
            <a:off x="7018200" y="220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0"/>
          <p:cNvSpPr/>
          <p:nvPr/>
        </p:nvSpPr>
        <p:spPr>
          <a:xfrm>
            <a:off x="2409840" y="45799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1"/>
          <p:cNvSpPr/>
          <p:nvPr/>
        </p:nvSpPr>
        <p:spPr>
          <a:xfrm>
            <a:off x="2986200" y="400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2"/>
          <p:cNvSpPr/>
          <p:nvPr/>
        </p:nvSpPr>
        <p:spPr>
          <a:xfrm>
            <a:off x="6443640" y="45799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3"/>
          <p:cNvSpPr/>
          <p:nvPr/>
        </p:nvSpPr>
        <p:spPr>
          <a:xfrm>
            <a:off x="7020000" y="400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1390680" y="3240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微软简魏碑"/>
              </a:rPr>
              <a:t>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1360440" y="3978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微软简魏碑"/>
              </a:rPr>
              <a:t>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971640" y="306540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）长方体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简中圆"/>
                <a:ea typeface="微软简中圆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个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）每个面都是什么形状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）哪些面是完全相同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）长方体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简中圆"/>
                <a:ea typeface="微软简中圆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条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）哪些棱长度相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）长方体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微软简中圆"/>
                <a:ea typeface="微软简中圆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微软简中圆"/>
                <a:ea typeface="微软简中圆"/>
              </a:rPr>
              <a:t>个顶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987640" y="958680"/>
            <a:ext cx="3457440" cy="1906920"/>
            <a:chOff x="2987640" y="958680"/>
            <a:chExt cx="3457440" cy="1906920"/>
          </a:xfrm>
        </p:grpSpPr>
        <p:sp>
          <p:nvSpPr>
            <p:cNvPr id="136" name="AutoShape 5"/>
            <p:cNvSpPr/>
            <p:nvPr/>
          </p:nvSpPr>
          <p:spPr>
            <a:xfrm>
              <a:off x="2987640" y="981000"/>
              <a:ext cx="3457440" cy="1884600"/>
            </a:xfrm>
            <a:prstGeom prst="cube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3492360" y="958680"/>
              <a:ext cx="0" cy="1462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 flipV="1">
              <a:off x="2987640" y="2420640"/>
              <a:ext cx="504720" cy="431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3492360" y="2421000"/>
              <a:ext cx="288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484360" y="77148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ff"/>
                </a:solidFill>
                <a:latin typeface="Arial"/>
                <a:ea typeface="华文彩云"/>
              </a:rPr>
              <a:t>研　究　报　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16000" y="1844640"/>
          <a:ext cx="7129440" cy="4032360"/>
        </p:xfrm>
        <a:graphic>
          <a:graphicData uri="http://schemas.openxmlformats.org/drawingml/2006/table">
            <a:tbl>
              <a:tblPr/>
              <a:tblGrid>
                <a:gridCol w="1380960"/>
                <a:gridCol w="574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12a0d"/>
                          </a:solidFill>
                          <a:latin typeface="Arial"/>
                          <a:ea typeface="经典行书简"/>
                        </a:rPr>
                        <a:t>我们的发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12a0d"/>
                          </a:solidFill>
                          <a:latin typeface="Arial"/>
                          <a:ea typeface="经典行书简"/>
                        </a:rPr>
                        <a:t>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12a0d"/>
                          </a:solidFill>
                          <a:latin typeface="Arial"/>
                          <a:ea typeface="经典行书简"/>
                        </a:rPr>
                        <a:t>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12a0d"/>
                          </a:solidFill>
                          <a:latin typeface="Arial"/>
                          <a:ea typeface="经典行书简"/>
                        </a:rPr>
                        <a:t>顶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21"/>
          <p:cNvSpPr/>
          <p:nvPr/>
        </p:nvSpPr>
        <p:spPr>
          <a:xfrm>
            <a:off x="2700360" y="2774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212a0d"/>
                </a:solidFill>
                <a:latin typeface="Arial"/>
              </a:rPr>
              <a:t>个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相对</a:t>
            </a:r>
            <a:r>
              <a:rPr b="1" lang="zh-CN" sz="2800" spc="-1" strike="noStrike">
                <a:solidFill>
                  <a:srgbClr val="212a0d"/>
                </a:solidFill>
                <a:latin typeface="Arial"/>
              </a:rPr>
              <a:t>的面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完全相同</a:t>
            </a:r>
            <a:r>
              <a:rPr b="1" lang="zh-CN" sz="2800" spc="-1" strike="noStrike">
                <a:solidFill>
                  <a:srgbClr val="212a0d"/>
                </a:solidFill>
                <a:latin typeface="Arial"/>
              </a:rPr>
              <a:t>的长方形（特殊情况有两个相对的面是正方形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557440" y="458136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212a0d"/>
                </a:solidFill>
                <a:latin typeface="Arial"/>
              </a:rPr>
              <a:t>条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相对</a:t>
            </a:r>
            <a:r>
              <a:rPr b="1" lang="zh-CN" sz="2800" spc="-1" strike="noStrike">
                <a:solidFill>
                  <a:srgbClr val="212a0d"/>
                </a:solidFill>
                <a:latin typeface="Arial"/>
              </a:rPr>
              <a:t>的棱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长度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2484360" y="52862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3813120" y="2421000"/>
            <a:ext cx="1838520" cy="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203640" y="3040200"/>
            <a:ext cx="1828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3203280" y="2430360"/>
            <a:ext cx="609480" cy="609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5032080" y="2430360"/>
            <a:ext cx="609480" cy="609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5641920" y="2421000"/>
            <a:ext cx="9720" cy="187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5003640" y="4292640"/>
            <a:ext cx="648000" cy="5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3203640" y="3040200"/>
            <a:ext cx="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032440" y="3040200"/>
            <a:ext cx="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3813120" y="2430360"/>
            <a:ext cx="0" cy="18288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>
            <a:off x="3203280" y="4259160"/>
            <a:ext cx="609480" cy="60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3813120" y="4292640"/>
            <a:ext cx="18288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3203640" y="2421000"/>
            <a:ext cx="2448000" cy="24480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3851280" y="2421000"/>
            <a:ext cx="0" cy="182880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3241800" y="4292280"/>
            <a:ext cx="609480" cy="57636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851280" y="4292640"/>
            <a:ext cx="1800360" cy="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4041720" y="250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微软简魏碑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3889440" y="364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微软简魏碑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5108400" y="3344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微软简魏碑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755640" y="11253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方体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923920" y="56800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简中圆"/>
              </a:rPr>
              <a:t>正方体是特殊的长方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4592520" y="508176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方体可以看成是长、宽、高都相等的长方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79280" y="620640"/>
            <a:ext cx="8785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1332000" y="2997360"/>
            <a:ext cx="5761080" cy="28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652920" y="3232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微软简魏碑"/>
              </a:rPr>
              <a:t>长方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41200" y="9079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简魏碑"/>
              </a:rPr>
              <a:t>长方体和正方体的关系可以用下图表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2771640" y="4005360"/>
            <a:ext cx="2952720" cy="1439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676680" y="4311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微软简魏碑"/>
              </a:rPr>
              <a:t>正方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8T01:44:02Z</dcterms:created>
  <dc:creator/>
  <dc:description/>
  <dc:language>en-US</dc:language>
  <cp:lastModifiedBy/>
  <dcterms:modified xsi:type="dcterms:W3CDTF">2016-09-18T01:44:06Z</dcterms:modified>
  <cp:revision>1</cp:revision>
  <dc:subject/>
  <dc:title/>
</cp:coreProperties>
</file>