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8.wmf" ContentType="image/x-wmf"/>
  <Override PartName="/ppt/media/image42.png" ContentType="image/pn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wmf" ContentType="image/x-wmf"/>
  <Override PartName="/ppt/media/image45.wmf" ContentType="image/x-wmf"/>
  <Override PartName="/ppt/media/image46.wmf" ContentType="image/x-wmf"/>
  <Override PartName="/ppt/media/image36.png" ContentType="image/png"/>
  <Override PartName="/ppt/media/image47.wmf" ContentType="image/x-wmf"/>
  <Override PartName="/ppt/media/image48.wmf" ContentType="image/x-wmf"/>
  <Override PartName="/ppt/media/image30.png" ContentType="image/png"/>
  <Override PartName="/ppt/media/image37.wmf" ContentType="image/x-wmf"/>
  <Override PartName="/ppt/media/image51.wmf" ContentType="image/x-wmf"/>
  <Override PartName="/ppt/media/image11.png" ContentType="image/png"/>
  <Override PartName="/ppt/media/image9.png" ContentType="image/png"/>
  <Override PartName="/ppt/media/image17.wmf" ContentType="image/x-wmf"/>
  <Override PartName="/ppt/media/image40.wmf" ContentType="image/x-wmf"/>
  <Override PartName="/ppt/media/image7.png" ContentType="image/png"/>
  <Override PartName="/ppt/media/image10.png" ContentType="image/png"/>
  <Override PartName="/ppt/media/image50.wmf" ContentType="image/x-wmf"/>
  <Override PartName="/ppt/media/image1.jpeg" ContentType="image/jpeg"/>
  <Override PartName="/ppt/media/image52.wmf" ContentType="image/x-wmf"/>
  <Override PartName="/ppt/media/image12.png" ContentType="image/png"/>
  <Override PartName="/ppt/media/image13.png" ContentType="image/png"/>
  <Override PartName="/ppt/media/image53.wmf" ContentType="image/x-wmf"/>
  <Override PartName="/ppt/media/image39.jpeg" ContentType="image/jpeg"/>
  <Override PartName="/ppt/media/image8.png" ContentType="image/png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5091-B950-42D2-BA4E-5584F51F0D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709-7D9B-4F79-B3E8-6F96DDA243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7E1F-2CA2-437B-86BC-73B5EE0EEF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A9D-385B-4306-B6E6-25AD3AB5AF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327D-4C43-4D8C-A97C-D148C6BA34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1AE4-1A91-49CD-8CA9-79EAE78E2D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4E3-6190-47B6-B4BD-460349A401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0405-5461-4370-93E5-7985B06414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1482-3247-4E2D-B80B-BF8A64B044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B76-5317-4422-809B-60835BC82A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E610-DEAE-4310-8E30-9877954010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6ED-7B78-496B-BA81-9006B7B1A8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B91-4A2C-4FD0-91E8-9964DE3076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588-9E3A-4BAE-A4EB-53CF40C20C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F0D0-3935-4EA9-96AA-876C38E1E7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D235-01E4-46B6-80CE-CEAB54BE0F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3BE-16EA-44E8-B4F6-E8FCCEB59C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9552-3E8C-4626-AE22-26CA5601B2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D584-CD26-4783-A489-981D50F1CA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62F1-96EC-4998-93EF-DFFF48E37D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824C-12A9-46C0-9294-94C4C1B814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D6C-F414-4205-82A4-F74716B7AF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8D38-7B2D-487D-A33C-7C3FEF08A8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9A2-58EE-4D79-8E9C-40ECC06A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923-4033-46CC-AE76-7EB61E0E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ED8-9A7D-4C1F-8CF2-F9921D53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F9C-972E-4676-B4F0-18ABDB38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CF5-6612-43F2-89B9-841C140B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851-B550-445C-89D2-4B873A3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DE3-3BD0-4C33-85EB-95F25E6A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EB3-137F-428E-9886-EBC8DAC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1BD-C145-44EA-B56A-0D0EE8E3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076-8988-44D6-8230-3197799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082-BE1C-48FE-ABCD-BC0E2AB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BE2-3935-4E48-8C38-8626208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4C7-39C8-4B92-B028-AD78A288F5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39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image" Target="../media/image4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0.wmf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1.wmf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image" Target="../media/image1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7.wmf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4"/>
          <p:cNvSpPr/>
          <p:nvPr/>
        </p:nvSpPr>
        <p:spPr>
          <a:xfrm>
            <a:off x="1042920" y="3056040"/>
            <a:ext cx="691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长方体和正方体的体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4"/>
          <p:cNvSpPr/>
          <p:nvPr/>
        </p:nvSpPr>
        <p:spPr>
          <a:xfrm>
            <a:off x="620640" y="1052640"/>
            <a:ext cx="388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棱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的正方体木块，摆成右图中不同形状的模型。你知道它们的体积是多少立方厘米吗？哪个模型的体积最大，哪个体积最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1362240" cy="127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1523880" cy="87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7705800" y="1341360"/>
            <a:ext cx="1438200" cy="101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1324080" cy="857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5"/>
          <a:stretch/>
        </p:blipFill>
        <p:spPr>
          <a:xfrm>
            <a:off x="6372360" y="2924280"/>
            <a:ext cx="139068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6"/>
          <a:stretch/>
        </p:blipFill>
        <p:spPr>
          <a:xfrm>
            <a:off x="7819920" y="2781360"/>
            <a:ext cx="1324080" cy="1114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5003640" y="2349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6732720" y="234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8172360" y="240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8244000" y="398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6732720" y="4005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5076720" y="40575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6"/>
          <p:cNvGrpSpPr/>
          <p:nvPr/>
        </p:nvGrpSpPr>
        <p:grpSpPr>
          <a:xfrm>
            <a:off x="395280" y="4734000"/>
            <a:ext cx="6480360" cy="1868400"/>
            <a:chOff x="395280" y="4734000"/>
            <a:chExt cx="6480360" cy="1868400"/>
          </a:xfrm>
        </p:grpSpPr>
        <p:sp>
          <p:nvSpPr>
            <p:cNvPr id="129" name="AutoShape 9"/>
            <p:cNvSpPr/>
            <p:nvPr/>
          </p:nvSpPr>
          <p:spPr>
            <a:xfrm>
              <a:off x="2276280" y="4734000"/>
              <a:ext cx="4599360" cy="1216080"/>
            </a:xfrm>
            <a:prstGeom prst="wedgeRoundRectCallout">
              <a:avLst>
                <a:gd name="adj1" fmla="val -56199"/>
                <a:gd name="adj2" fmla="val 9430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我发现：体积的大小由体积单位的个数决定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6" descr="C:\Users\Administrator\Desktop\115_副本.png"/>
            <p:cNvPicPr/>
            <p:nvPr/>
          </p:nvPicPr>
          <p:blipFill>
            <a:blip r:embed="rId7"/>
            <a:stretch/>
          </p:blipFill>
          <p:spPr>
            <a:xfrm flipH="1">
              <a:off x="395280" y="5013360"/>
              <a:ext cx="1368000" cy="158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4"/>
          <p:cNvSpPr/>
          <p:nvPr/>
        </p:nvSpPr>
        <p:spPr>
          <a:xfrm>
            <a:off x="44280" y="115920"/>
            <a:ext cx="712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么能知道一块豆腐的体积是多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08000" y="1268280"/>
            <a:ext cx="5464080" cy="1513080"/>
          </a:xfrm>
          <a:prstGeom prst="wedgeRoundRectCallout">
            <a:avLst>
              <a:gd name="adj1" fmla="val -32013"/>
              <a:gd name="adj2" fmla="val 94847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看它有多少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厘米的体积单位，可以把它切成一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厘米的小立方体。看看有几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355920" y="3213000"/>
            <a:ext cx="5537160" cy="1863720"/>
          </a:xfrm>
          <a:prstGeom prst="wedgeRoundRectCallout">
            <a:avLst>
              <a:gd name="adj1" fmla="val 15592"/>
              <a:gd name="adj2" fmla="val 81634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不破坏豆腐的形状，而是量出豆腐的长、宽、高，然后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厘米的体积单位摆成一个和豆腐形状完全一样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立方体 4"/>
          <p:cNvSpPr/>
          <p:nvPr/>
        </p:nvSpPr>
        <p:spPr>
          <a:xfrm>
            <a:off x="7020000" y="260280"/>
            <a:ext cx="1728720" cy="79236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Users\Administrator\Desktop\9.png"/>
          <p:cNvPicPr/>
          <p:nvPr/>
        </p:nvPicPr>
        <p:blipFill>
          <a:blip r:embed="rId1"/>
          <a:stretch/>
        </p:blipFill>
        <p:spPr>
          <a:xfrm>
            <a:off x="179280" y="3573360"/>
            <a:ext cx="1168560" cy="1438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Administrator\Desktop\16.png"/>
          <p:cNvPicPr/>
          <p:nvPr/>
        </p:nvPicPr>
        <p:blipFill>
          <a:blip r:embed="rId2"/>
          <a:stretch/>
        </p:blipFill>
        <p:spPr>
          <a:xfrm>
            <a:off x="5292720" y="5157720"/>
            <a:ext cx="13669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"/>
          <p:cNvGrpSpPr/>
          <p:nvPr/>
        </p:nvGrpSpPr>
        <p:grpSpPr>
          <a:xfrm>
            <a:off x="3203640" y="2924280"/>
            <a:ext cx="5256000" cy="3744720"/>
            <a:chOff x="3203640" y="2924280"/>
            <a:chExt cx="5256000" cy="3744720"/>
          </a:xfrm>
        </p:grpSpPr>
        <p:sp>
          <p:nvSpPr>
            <p:cNvPr id="138" name="AutoShape 9"/>
            <p:cNvSpPr/>
            <p:nvPr/>
          </p:nvSpPr>
          <p:spPr>
            <a:xfrm>
              <a:off x="3203640" y="2924280"/>
              <a:ext cx="4319640" cy="1512720"/>
            </a:xfrm>
            <a:prstGeom prst="wedgeRoundRectCallout">
              <a:avLst>
                <a:gd name="adj1" fmla="val 43828"/>
                <a:gd name="adj2" fmla="val 91921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在摆的过程中，我发现体积单位的个数与长方体的长、宽、高有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" descr="C:\Users\Administrator\Desktop\15.png"/>
            <p:cNvPicPr/>
            <p:nvPr/>
          </p:nvPicPr>
          <p:blipFill>
            <a:blip r:embed="rId1"/>
            <a:stretch/>
          </p:blipFill>
          <p:spPr>
            <a:xfrm flipH="1">
              <a:off x="6659640" y="4940640"/>
              <a:ext cx="1800000" cy="172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028960" cy="1314720"/>
          </a:xfrm>
          <a:prstGeom prst="rect">
            <a:avLst/>
          </a:prstGeom>
          <a:ln w="0">
            <a:noFill/>
          </a:ln>
        </p:spPr>
      </p:pic>
      <p:sp>
        <p:nvSpPr>
          <p:cNvPr id="141" name="立方体 5"/>
          <p:cNvSpPr/>
          <p:nvPr/>
        </p:nvSpPr>
        <p:spPr>
          <a:xfrm>
            <a:off x="1763640" y="1341360"/>
            <a:ext cx="1728720" cy="79236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2916360" y="153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3348000" y="1897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340000" y="2041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4"/>
          <p:cNvSpPr/>
          <p:nvPr/>
        </p:nvSpPr>
        <p:spPr>
          <a:xfrm>
            <a:off x="34920" y="115920"/>
            <a:ext cx="712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44280" y="4132440"/>
            <a:ext cx="712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论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方体的体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6"/>
          <p:cNvGrpSpPr/>
          <p:nvPr/>
        </p:nvGrpSpPr>
        <p:grpSpPr>
          <a:xfrm>
            <a:off x="324000" y="836640"/>
            <a:ext cx="6744960" cy="2917800"/>
            <a:chOff x="324000" y="836640"/>
            <a:chExt cx="6744960" cy="2917800"/>
          </a:xfrm>
        </p:grpSpPr>
        <p:sp>
          <p:nvSpPr>
            <p:cNvPr id="148" name="AutoShape 9"/>
            <p:cNvSpPr/>
            <p:nvPr/>
          </p:nvSpPr>
          <p:spPr>
            <a:xfrm>
              <a:off x="324000" y="836640"/>
              <a:ext cx="6480000" cy="1079280"/>
            </a:xfrm>
            <a:prstGeom prst="wedgeRoundRectCallout">
              <a:avLst>
                <a:gd name="adj1" fmla="val 31541"/>
                <a:gd name="adj2" fmla="val 74171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长方体体积的大小就是它含有体积单位的数量，正好是长、宽、高的乘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2" descr="C:\Users\Administrator\Desktop\119_副本.png"/>
            <p:cNvPicPr/>
            <p:nvPr/>
          </p:nvPicPr>
          <p:blipFill>
            <a:blip r:embed="rId1"/>
            <a:stretch/>
          </p:blipFill>
          <p:spPr>
            <a:xfrm>
              <a:off x="5580000" y="2204640"/>
              <a:ext cx="1488960" cy="154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TextBox 7"/>
          <p:cNvSpPr/>
          <p:nvPr/>
        </p:nvSpPr>
        <p:spPr>
          <a:xfrm>
            <a:off x="468360" y="5283360"/>
            <a:ext cx="3959280" cy="947160"/>
          </a:xfrm>
          <a:prstGeom prst="rect">
            <a:avLst/>
          </a:prstGeom>
          <a:solidFill>
            <a:srgbClr val="92d05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长方体的体积，那么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立方体 8"/>
          <p:cNvSpPr/>
          <p:nvPr/>
        </p:nvSpPr>
        <p:spPr>
          <a:xfrm>
            <a:off x="5435640" y="5300640"/>
            <a:ext cx="2089080" cy="865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0"/>
          <p:cNvSpPr/>
          <p:nvPr/>
        </p:nvSpPr>
        <p:spPr>
          <a:xfrm>
            <a:off x="5651640" y="5300640"/>
            <a:ext cx="0" cy="57636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"/>
          <p:cNvSpPr/>
          <p:nvPr/>
        </p:nvSpPr>
        <p:spPr>
          <a:xfrm flipV="1">
            <a:off x="5435640" y="5877000"/>
            <a:ext cx="216000" cy="28872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6"/>
          <p:cNvSpPr/>
          <p:nvPr/>
        </p:nvSpPr>
        <p:spPr>
          <a:xfrm>
            <a:off x="5651640" y="5877000"/>
            <a:ext cx="18730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258920" y="765000"/>
            <a:ext cx="3960720" cy="947160"/>
          </a:xfrm>
          <a:prstGeom prst="rect">
            <a:avLst/>
          </a:prstGeom>
          <a:solidFill>
            <a:srgbClr val="ffc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因为正方体是特殊的长方体，所以正方体的体积＝棱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332000" y="3429000"/>
            <a:ext cx="3960720" cy="94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正方体的体积，那么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4211640" y="3860640"/>
          <a:ext cx="3780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3860640"/>
                    <a:ext cx="37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立方体 5"/>
          <p:cNvSpPr/>
          <p:nvPr/>
        </p:nvSpPr>
        <p:spPr>
          <a:xfrm>
            <a:off x="6516720" y="765000"/>
            <a:ext cx="1440000" cy="1368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7"/>
          <p:cNvSpPr/>
          <p:nvPr/>
        </p:nvSpPr>
        <p:spPr>
          <a:xfrm>
            <a:off x="6875640" y="765000"/>
            <a:ext cx="0" cy="100836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6875640" y="1773360"/>
            <a:ext cx="10810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"/>
          <p:cNvSpPr/>
          <p:nvPr/>
        </p:nvSpPr>
        <p:spPr>
          <a:xfrm flipH="1">
            <a:off x="6516360" y="1773360"/>
            <a:ext cx="358920" cy="36036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4"/>
          <p:cNvSpPr/>
          <p:nvPr/>
        </p:nvSpPr>
        <p:spPr>
          <a:xfrm>
            <a:off x="836640" y="115920"/>
            <a:ext cx="712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下图，有一块长方体的砖（图中单位：分米）。这块砖的体积是多少立方分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立方体 2"/>
          <p:cNvSpPr/>
          <p:nvPr/>
        </p:nvSpPr>
        <p:spPr>
          <a:xfrm>
            <a:off x="611280" y="1557360"/>
            <a:ext cx="1728720" cy="719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900000" y="2257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619280" y="17002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195640" y="1969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564000" y="1413000"/>
            <a:ext cx="3311640" cy="1008000"/>
          </a:xfrm>
          <a:prstGeom prst="wedgeRoundRectCallout">
            <a:avLst>
              <a:gd name="adj1" fmla="val 43828"/>
              <a:gd name="adj2" fmla="val 91921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求砖的体积，就是求长方体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C:\Users\Administrator\Desktop\9.png"/>
          <p:cNvPicPr/>
          <p:nvPr/>
        </p:nvPicPr>
        <p:blipFill>
          <a:blip r:embed="rId1"/>
          <a:stretch/>
        </p:blipFill>
        <p:spPr>
          <a:xfrm>
            <a:off x="6804000" y="2492280"/>
            <a:ext cx="10810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12"/>
          <p:cNvGrpSpPr/>
          <p:nvPr/>
        </p:nvGrpSpPr>
        <p:grpSpPr>
          <a:xfrm>
            <a:off x="1052640" y="3525840"/>
            <a:ext cx="4887720" cy="695160"/>
            <a:chOff x="1052640" y="3525840"/>
            <a:chExt cx="4887720" cy="695160"/>
          </a:xfrm>
        </p:grpSpPr>
        <p:sp>
          <p:nvSpPr>
            <p:cNvPr id="171" name="TextBox 8"/>
            <p:cNvSpPr/>
            <p:nvPr/>
          </p:nvSpPr>
          <p:spPr>
            <a:xfrm>
              <a:off x="1052640" y="3625200"/>
              <a:ext cx="48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×1.2×0.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72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分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Object 2"/>
            <p:cNvGraphicFramePr/>
            <p:nvPr/>
          </p:nvGraphicFramePr>
          <p:xfrm>
            <a:off x="5292360" y="3525840"/>
            <a:ext cx="520920" cy="695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92360" y="3525840"/>
                      <a:ext cx="52092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4" name="组合 13"/>
          <p:cNvGrpSpPr/>
          <p:nvPr/>
        </p:nvGrpSpPr>
        <p:grpSpPr>
          <a:xfrm>
            <a:off x="900000" y="4462560"/>
            <a:ext cx="7120080" cy="695160"/>
            <a:chOff x="900000" y="4462560"/>
            <a:chExt cx="7120080" cy="695160"/>
          </a:xfrm>
        </p:grpSpPr>
        <p:sp>
          <p:nvSpPr>
            <p:cNvPr id="175" name="Text Box 34"/>
            <p:cNvSpPr/>
            <p:nvPr/>
          </p:nvSpPr>
          <p:spPr>
            <a:xfrm>
              <a:off x="900000" y="4518000"/>
              <a:ext cx="712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答：这块砖的体积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72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Object 3"/>
            <p:cNvGraphicFramePr/>
            <p:nvPr/>
          </p:nvGraphicFramePr>
          <p:xfrm>
            <a:off x="6211800" y="4462560"/>
            <a:ext cx="520560" cy="69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7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11800" y="4462560"/>
                      <a:ext cx="52056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4"/>
          <p:cNvSpPr/>
          <p:nvPr/>
        </p:nvSpPr>
        <p:spPr>
          <a:xfrm>
            <a:off x="34920" y="387360"/>
            <a:ext cx="91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长方体和正方体的体积（图中单位：分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93720" y="1268280"/>
            <a:ext cx="175428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313240" y="1197000"/>
            <a:ext cx="1059120" cy="10382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755640" y="15382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500720" y="14842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1"/>
          <p:cNvGrpSpPr/>
          <p:nvPr/>
        </p:nvGrpSpPr>
        <p:grpSpPr>
          <a:xfrm>
            <a:off x="684000" y="2717640"/>
            <a:ext cx="6552000" cy="3268800"/>
            <a:chOff x="684000" y="2717640"/>
            <a:chExt cx="6552000" cy="3268800"/>
          </a:xfrm>
        </p:grpSpPr>
        <p:sp>
          <p:nvSpPr>
            <p:cNvPr id="184" name="AutoShape 9"/>
            <p:cNvSpPr/>
            <p:nvPr/>
          </p:nvSpPr>
          <p:spPr>
            <a:xfrm>
              <a:off x="1548000" y="2717640"/>
              <a:ext cx="5688000" cy="1719360"/>
            </a:xfrm>
            <a:prstGeom prst="wedgeRoundRectCallout">
              <a:avLst>
                <a:gd name="adj1" fmla="val -46134"/>
                <a:gd name="adj2" fmla="val 73055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我发现长与宽棱长的积就是长方体或正方体的底面积。所以，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长方体（或正方体）＝底面积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×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高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4" descr="C:\Users\Administrator\Desktop\16.png"/>
            <p:cNvPicPr/>
            <p:nvPr/>
          </p:nvPicPr>
          <p:blipFill>
            <a:blip r:embed="rId3"/>
            <a:stretch/>
          </p:blipFill>
          <p:spPr>
            <a:xfrm flipH="1">
              <a:off x="684000" y="4653000"/>
              <a:ext cx="108756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组合 12"/>
          <p:cNvGrpSpPr/>
          <p:nvPr/>
        </p:nvGrpSpPr>
        <p:grpSpPr>
          <a:xfrm>
            <a:off x="3924360" y="4653000"/>
            <a:ext cx="4680000" cy="2205000"/>
            <a:chOff x="3924360" y="4653000"/>
            <a:chExt cx="4680000" cy="2205000"/>
          </a:xfrm>
        </p:grpSpPr>
        <p:sp>
          <p:nvSpPr>
            <p:cNvPr id="187" name="AutoShape 9"/>
            <p:cNvSpPr/>
            <p:nvPr/>
          </p:nvSpPr>
          <p:spPr>
            <a:xfrm>
              <a:off x="3924360" y="4653000"/>
              <a:ext cx="4680000" cy="1008000"/>
            </a:xfrm>
            <a:prstGeom prst="wedgeRoundRectCallout">
              <a:avLst>
                <a:gd name="adj1" fmla="val -3120"/>
                <a:gd name="adj2" fmla="val 86069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如果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表示长方体或正方体的底面积，那么，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" descr="C:\Users\Administrator\Desktop\15.png"/>
            <p:cNvPicPr/>
            <p:nvPr/>
          </p:nvPicPr>
          <p:blipFill>
            <a:blip r:embed="rId4"/>
            <a:stretch/>
          </p:blipFill>
          <p:spPr>
            <a:xfrm flipH="1">
              <a:off x="6660000" y="5718600"/>
              <a:ext cx="1200600" cy="113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4"/>
          <p:cNvSpPr/>
          <p:nvPr/>
        </p:nvSpPr>
        <p:spPr>
          <a:xfrm>
            <a:off x="1916280" y="244440"/>
            <a:ext cx="7119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左图表示一个棱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正方体，它的体积是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×1×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×10×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6443640" y="620640"/>
          <a:ext cx="87156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620640"/>
                    <a:ext cx="87156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7088040" y="1197000"/>
          <a:ext cx="79704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8040" y="1197000"/>
                    <a:ext cx="7970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39640" y="1052640"/>
            <a:ext cx="11908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20"/>
          <p:cNvGrpSpPr/>
          <p:nvPr/>
        </p:nvGrpSpPr>
        <p:grpSpPr>
          <a:xfrm>
            <a:off x="1908000" y="2205000"/>
            <a:ext cx="6985080" cy="3456000"/>
            <a:chOff x="1908000" y="2205000"/>
            <a:chExt cx="6985080" cy="3456000"/>
          </a:xfrm>
        </p:grpSpPr>
        <p:grpSp>
          <p:nvGrpSpPr>
            <p:cNvPr id="196" name="组合 11"/>
            <p:cNvGrpSpPr/>
            <p:nvPr/>
          </p:nvGrpSpPr>
          <p:grpSpPr>
            <a:xfrm>
              <a:off x="1908000" y="2205000"/>
              <a:ext cx="5977080" cy="1369800"/>
              <a:chOff x="1908000" y="2205000"/>
              <a:chExt cx="5977080" cy="1369800"/>
            </a:xfrm>
          </p:grpSpPr>
          <p:sp>
            <p:nvSpPr>
              <p:cNvPr id="197" name="AutoShape 9"/>
              <p:cNvSpPr/>
              <p:nvPr/>
            </p:nvSpPr>
            <p:spPr>
              <a:xfrm>
                <a:off x="1908000" y="2205000"/>
                <a:ext cx="5977080" cy="1368720"/>
              </a:xfrm>
              <a:prstGeom prst="wedgeRoundRectCallout">
                <a:avLst>
                  <a:gd name="adj1" fmla="val 43828"/>
                  <a:gd name="adj2" fmla="val 91921"/>
                  <a:gd name="adj3" fmla="val 16667"/>
                </a:avLst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可以得到下面的结论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米     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0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分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或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8" name="Object 4"/>
              <p:cNvGraphicFramePr/>
              <p:nvPr/>
            </p:nvGraphicFramePr>
            <p:xfrm>
              <a:off x="4212360" y="2637000"/>
              <a:ext cx="576000" cy="5040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99" name="Object 4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212360" y="2637000"/>
                        <a:ext cx="576000" cy="50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0" name="Object 5"/>
              <p:cNvGraphicFramePr/>
              <p:nvPr/>
            </p:nvGraphicFramePr>
            <p:xfrm>
              <a:off x="6300720" y="2637000"/>
              <a:ext cx="576000" cy="503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01" name="Object 5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300720" y="2637000"/>
                        <a:ext cx="576000" cy="50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2" name="Object 6"/>
              <p:cNvGraphicFramePr/>
              <p:nvPr/>
            </p:nvGraphicFramePr>
            <p:xfrm>
              <a:off x="6152040" y="2997000"/>
              <a:ext cx="796680" cy="5778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03" name="Object 6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152040" y="2997000"/>
                        <a:ext cx="796680" cy="57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4" name="Object 8"/>
              <p:cNvGraphicFramePr/>
              <p:nvPr/>
            </p:nvGraphicFramePr>
            <p:xfrm>
              <a:off x="4284360" y="3082680"/>
              <a:ext cx="871560" cy="4903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05" name="Object 8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284360" y="3082680"/>
                        <a:ext cx="871560" cy="49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06" name="Picture 9" descr="C:\Users\Administrator\Desktop\14.png"/>
            <p:cNvPicPr/>
            <p:nvPr/>
          </p:nvPicPr>
          <p:blipFill>
            <a:blip r:embed="rId14"/>
            <a:stretch/>
          </p:blipFill>
          <p:spPr>
            <a:xfrm flipH="1">
              <a:off x="7525080" y="3987000"/>
              <a:ext cx="1368000" cy="167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19"/>
          <p:cNvGrpSpPr/>
          <p:nvPr/>
        </p:nvGrpSpPr>
        <p:grpSpPr>
          <a:xfrm>
            <a:off x="826920" y="4076640"/>
            <a:ext cx="4392720" cy="2781360"/>
            <a:chOff x="826920" y="4076640"/>
            <a:chExt cx="4392720" cy="2781360"/>
          </a:xfrm>
        </p:grpSpPr>
        <p:sp>
          <p:nvSpPr>
            <p:cNvPr id="208" name="AutoShape 9"/>
            <p:cNvSpPr/>
            <p:nvPr/>
          </p:nvSpPr>
          <p:spPr>
            <a:xfrm>
              <a:off x="826920" y="4076640"/>
              <a:ext cx="4392720" cy="1513080"/>
            </a:xfrm>
            <a:prstGeom prst="wedgeRoundRectCallout">
              <a:avLst>
                <a:gd name="adj1" fmla="val -10564"/>
                <a:gd name="adj2" fmla="val 76319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能推算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米    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dm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cm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9" name="Object 10"/>
            <p:cNvGraphicFramePr/>
            <p:nvPr/>
          </p:nvGraphicFramePr>
          <p:xfrm>
            <a:off x="2339280" y="4508640"/>
            <a:ext cx="576000" cy="504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339280" y="4508640"/>
                      <a:ext cx="576000" cy="50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Object 11"/>
            <p:cNvGraphicFramePr/>
            <p:nvPr/>
          </p:nvGraphicFramePr>
          <p:xfrm>
            <a:off x="4427640" y="4507920"/>
            <a:ext cx="576000" cy="50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2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427640" y="4507920"/>
                      <a:ext cx="576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12"/>
            <p:cNvGraphicFramePr/>
            <p:nvPr/>
          </p:nvGraphicFramePr>
          <p:xfrm>
            <a:off x="2194920" y="5011920"/>
            <a:ext cx="576000" cy="504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4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194920" y="5011920"/>
                      <a:ext cx="576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Object 13"/>
            <p:cNvGraphicFramePr/>
            <p:nvPr/>
          </p:nvGraphicFramePr>
          <p:xfrm>
            <a:off x="4067640" y="5013000"/>
            <a:ext cx="576000" cy="504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6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67640" y="5013000"/>
                      <a:ext cx="576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7" name="Picture 14" descr="C:\Users\Administrator\Desktop\115_副本.png"/>
            <p:cNvPicPr/>
            <p:nvPr/>
          </p:nvPicPr>
          <p:blipFill>
            <a:blip r:embed="rId23"/>
            <a:stretch/>
          </p:blipFill>
          <p:spPr>
            <a:xfrm>
              <a:off x="2771280" y="5477040"/>
              <a:ext cx="1114920" cy="138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9"/>
          <p:cNvSpPr/>
          <p:nvPr/>
        </p:nvSpPr>
        <p:spPr>
          <a:xfrm>
            <a:off x="755640" y="620640"/>
            <a:ext cx="5256360" cy="1152720"/>
          </a:xfrm>
          <a:prstGeom prst="wedgeRoundRectCallout">
            <a:avLst>
              <a:gd name="adj1" fmla="val 59527"/>
              <a:gd name="adj2" fmla="val 41856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发现相邻的两个体积单位之间的进率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C:\Users\Administrator\Desktop\102.png"/>
          <p:cNvPicPr/>
          <p:nvPr/>
        </p:nvPicPr>
        <p:blipFill>
          <a:blip r:embed="rId1"/>
          <a:stretch/>
        </p:blipFill>
        <p:spPr>
          <a:xfrm>
            <a:off x="6875640" y="907920"/>
            <a:ext cx="1512720" cy="17384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9"/>
          <p:cNvSpPr/>
          <p:nvPr/>
        </p:nvSpPr>
        <p:spPr>
          <a:xfrm>
            <a:off x="2411280" y="3284640"/>
            <a:ext cx="5400720" cy="1512720"/>
          </a:xfrm>
          <a:prstGeom prst="wedgeRoundRectCallout">
            <a:avLst>
              <a:gd name="adj1" fmla="val -58032"/>
              <a:gd name="adj2" fmla="val 41856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们已经学过了体积单位，面积单位和长度单位，让我们列表整理一下，这样便于记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Users\Administrator\Desktop\119_副本.png"/>
          <p:cNvPicPr/>
          <p:nvPr/>
        </p:nvPicPr>
        <p:blipFill>
          <a:blip r:embed="rId2"/>
          <a:stretch/>
        </p:blipFill>
        <p:spPr>
          <a:xfrm>
            <a:off x="324000" y="4437000"/>
            <a:ext cx="15476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79280" y="1111320"/>
          <a:ext cx="8820360" cy="4046400"/>
        </p:xfrm>
        <a:graphic>
          <a:graphicData uri="http://schemas.openxmlformats.org/drawingml/2006/table">
            <a:tbl>
              <a:tblPr/>
              <a:tblGrid>
                <a:gridCol w="1764000"/>
                <a:gridCol w="1763640"/>
                <a:gridCol w="1765080"/>
                <a:gridCol w="1764000"/>
                <a:gridCol w="1763640"/>
              </a:tblGrid>
              <a:tr h="151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位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邻两个单位间的进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长度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米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厘米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面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米（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厘米（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  （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米（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厘米（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Object 4"/>
          <p:cNvGraphicFramePr/>
          <p:nvPr/>
        </p:nvGraphicFramePr>
        <p:xfrm>
          <a:off x="2700360" y="3429000"/>
          <a:ext cx="692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429000"/>
                    <a:ext cx="692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2195640" y="4221000"/>
          <a:ext cx="8809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221000"/>
                    <a:ext cx="880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2276640" y="3429000"/>
          <a:ext cx="7110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6640" y="3429000"/>
                    <a:ext cx="711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7"/>
          <p:cNvGraphicFramePr/>
          <p:nvPr/>
        </p:nvGraphicFramePr>
        <p:xfrm>
          <a:off x="4694400" y="3429000"/>
          <a:ext cx="93636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4400" y="3429000"/>
                    <a:ext cx="936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8"/>
          <p:cNvGraphicFramePr/>
          <p:nvPr/>
        </p:nvGraphicFramePr>
        <p:xfrm>
          <a:off x="6535800" y="3429000"/>
          <a:ext cx="8953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35800" y="3429000"/>
                    <a:ext cx="895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2863800" y="4305240"/>
          <a:ext cx="65088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63800" y="4305240"/>
                    <a:ext cx="650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"/>
          <p:cNvGraphicFramePr/>
          <p:nvPr/>
        </p:nvGraphicFramePr>
        <p:xfrm>
          <a:off x="4686480" y="4305240"/>
          <a:ext cx="89532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6480" y="4305240"/>
                    <a:ext cx="895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6507000" y="4221000"/>
          <a:ext cx="85572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07000" y="4221000"/>
                    <a:ext cx="85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2"/>
          <p:cNvGraphicFramePr/>
          <p:nvPr/>
        </p:nvGraphicFramePr>
        <p:xfrm>
          <a:off x="4267080" y="4221000"/>
          <a:ext cx="881280" cy="64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0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4221000"/>
                    <a:ext cx="881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3"/>
          <p:cNvGraphicFramePr/>
          <p:nvPr/>
        </p:nvGraphicFramePr>
        <p:xfrm>
          <a:off x="6067440" y="4221000"/>
          <a:ext cx="880920" cy="64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2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67440" y="4221000"/>
                    <a:ext cx="880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9"/>
          <p:cNvSpPr/>
          <p:nvPr/>
        </p:nvSpPr>
        <p:spPr>
          <a:xfrm>
            <a:off x="2716200" y="2133720"/>
            <a:ext cx="2071800" cy="647640"/>
          </a:xfrm>
          <a:prstGeom prst="wedgeRoundRectCallout">
            <a:avLst>
              <a:gd name="adj1" fmla="val 43828"/>
              <a:gd name="adj2" fmla="val 91921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的苹果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5597640" y="2286000"/>
            <a:ext cx="2070000" cy="647640"/>
          </a:xfrm>
          <a:prstGeom prst="wedgeRoundRectCallout">
            <a:avLst>
              <a:gd name="adj1" fmla="val 8231"/>
              <a:gd name="adj2" fmla="val 105574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的梨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057480" y="2997360"/>
            <a:ext cx="46101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4"/>
          <p:cNvSpPr/>
          <p:nvPr/>
        </p:nvSpPr>
        <p:spPr>
          <a:xfrm>
            <a:off x="-181080" y="1197000"/>
            <a:ext cx="71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天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324000" y="224316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）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8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4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  （    ）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60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   ）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9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6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  （              ）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8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5600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  ）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3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2"/>
          <p:cNvGraphicFramePr/>
          <p:nvPr/>
        </p:nvGraphicFramePr>
        <p:xfrm>
          <a:off x="681120" y="2171880"/>
          <a:ext cx="6508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71880"/>
                    <a:ext cx="6508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"/>
          <p:cNvGraphicFramePr/>
          <p:nvPr/>
        </p:nvGraphicFramePr>
        <p:xfrm>
          <a:off x="2700360" y="2184480"/>
          <a:ext cx="89532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184480"/>
                    <a:ext cx="895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4"/>
          <p:cNvGraphicFramePr/>
          <p:nvPr/>
        </p:nvGraphicFramePr>
        <p:xfrm>
          <a:off x="8396280" y="3395520"/>
          <a:ext cx="85572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96280" y="3395520"/>
                    <a:ext cx="85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7"/>
          <p:cNvGraphicFramePr/>
          <p:nvPr/>
        </p:nvGraphicFramePr>
        <p:xfrm>
          <a:off x="8388360" y="2963880"/>
          <a:ext cx="85572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8360" y="2963880"/>
                    <a:ext cx="8557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8540640" y="2530440"/>
          <a:ext cx="85572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40640" y="2530440"/>
                    <a:ext cx="85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7812000" y="2171880"/>
          <a:ext cx="895320" cy="56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12000" y="2171880"/>
                    <a:ext cx="895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10"/>
          <p:cNvGraphicFramePr/>
          <p:nvPr/>
        </p:nvGraphicFramePr>
        <p:xfrm>
          <a:off x="8396280" y="3840120"/>
          <a:ext cx="85572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96280" y="3840120"/>
                    <a:ext cx="85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1"/>
          <p:cNvGraphicFramePr/>
          <p:nvPr/>
        </p:nvGraphicFramePr>
        <p:xfrm>
          <a:off x="5940360" y="3840120"/>
          <a:ext cx="89532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0360" y="3840120"/>
                    <a:ext cx="895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2"/>
          <p:cNvGraphicFramePr/>
          <p:nvPr/>
        </p:nvGraphicFramePr>
        <p:xfrm>
          <a:off x="6012000" y="3395520"/>
          <a:ext cx="650880" cy="563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2000" y="3395520"/>
                    <a:ext cx="650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5937120" y="2184480"/>
          <a:ext cx="65088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37120" y="2184480"/>
                    <a:ext cx="6508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"/>
          <p:cNvGraphicFramePr/>
          <p:nvPr/>
        </p:nvGraphicFramePr>
        <p:xfrm>
          <a:off x="5940360" y="2530440"/>
          <a:ext cx="650880" cy="56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6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2530440"/>
                    <a:ext cx="650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5"/>
          <p:cNvGraphicFramePr/>
          <p:nvPr/>
        </p:nvGraphicFramePr>
        <p:xfrm>
          <a:off x="5867280" y="2976480"/>
          <a:ext cx="89532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2976480"/>
                    <a:ext cx="895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1012680" y="2530440"/>
          <a:ext cx="89532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12680" y="2530440"/>
                    <a:ext cx="895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7"/>
          <p:cNvGraphicFramePr/>
          <p:nvPr/>
        </p:nvGraphicFramePr>
        <p:xfrm>
          <a:off x="1123920" y="2963880"/>
          <a:ext cx="855720" cy="563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23920" y="2963880"/>
                    <a:ext cx="8557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8"/>
          <p:cNvGraphicFramePr/>
          <p:nvPr/>
        </p:nvGraphicFramePr>
        <p:xfrm>
          <a:off x="3460680" y="3048120"/>
          <a:ext cx="895320" cy="563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4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60680" y="3048120"/>
                    <a:ext cx="895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9"/>
          <p:cNvGraphicFramePr/>
          <p:nvPr/>
        </p:nvGraphicFramePr>
        <p:xfrm>
          <a:off x="3348000" y="2543040"/>
          <a:ext cx="650880" cy="563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76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48000" y="2543040"/>
                    <a:ext cx="650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0"/>
          <p:cNvGraphicFramePr/>
          <p:nvPr/>
        </p:nvGraphicFramePr>
        <p:xfrm>
          <a:off x="4065480" y="3395520"/>
          <a:ext cx="650880" cy="563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78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065480" y="3395520"/>
                    <a:ext cx="650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21"/>
          <p:cNvGraphicFramePr/>
          <p:nvPr/>
        </p:nvGraphicFramePr>
        <p:xfrm>
          <a:off x="3560760" y="3840120"/>
          <a:ext cx="650880" cy="563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80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60760" y="3840120"/>
                    <a:ext cx="650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22"/>
          <p:cNvGraphicFramePr/>
          <p:nvPr/>
        </p:nvGraphicFramePr>
        <p:xfrm>
          <a:off x="1413000" y="3827520"/>
          <a:ext cx="855360" cy="563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82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13000" y="3827520"/>
                    <a:ext cx="855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23"/>
          <p:cNvGraphicFramePr/>
          <p:nvPr/>
        </p:nvGraphicFramePr>
        <p:xfrm>
          <a:off x="971640" y="3395520"/>
          <a:ext cx="895320" cy="5637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84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971640" y="3395520"/>
                    <a:ext cx="895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Box 23"/>
          <p:cNvSpPr/>
          <p:nvPr/>
        </p:nvSpPr>
        <p:spPr>
          <a:xfrm>
            <a:off x="1835280" y="2257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2556000" y="2689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2411280" y="3068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6"/>
          <p:cNvSpPr/>
          <p:nvPr/>
        </p:nvSpPr>
        <p:spPr>
          <a:xfrm>
            <a:off x="2700360" y="3481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2411280" y="39132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8"/>
          <p:cNvSpPr/>
          <p:nvPr/>
        </p:nvSpPr>
        <p:spPr>
          <a:xfrm>
            <a:off x="7020000" y="2257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9"/>
          <p:cNvSpPr/>
          <p:nvPr/>
        </p:nvSpPr>
        <p:spPr>
          <a:xfrm>
            <a:off x="7164360" y="2708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0"/>
          <p:cNvSpPr/>
          <p:nvPr/>
        </p:nvSpPr>
        <p:spPr>
          <a:xfrm>
            <a:off x="7380360" y="306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1"/>
          <p:cNvSpPr/>
          <p:nvPr/>
        </p:nvSpPr>
        <p:spPr>
          <a:xfrm>
            <a:off x="7093080" y="3500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8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2"/>
          <p:cNvSpPr/>
          <p:nvPr/>
        </p:nvSpPr>
        <p:spPr>
          <a:xfrm>
            <a:off x="7236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4"/>
          <p:cNvSpPr/>
          <p:nvPr/>
        </p:nvSpPr>
        <p:spPr>
          <a:xfrm>
            <a:off x="692280" y="1758960"/>
            <a:ext cx="7119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棱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的正方体的体积是（     ）分米  ，表面积是（    ）分米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把棱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的正方体分成棱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的小正方体后，再把这些小正方体排成一排，这一排长（  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2"/>
          <p:cNvGraphicFramePr/>
          <p:nvPr/>
        </p:nvGraphicFramePr>
        <p:xfrm>
          <a:off x="1386000" y="2136600"/>
          <a:ext cx="882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2136600"/>
                    <a:ext cx="882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3"/>
          <p:cNvGraphicFramePr/>
          <p:nvPr/>
        </p:nvGraphicFramePr>
        <p:xfrm>
          <a:off x="5076720" y="2136600"/>
          <a:ext cx="100656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136600"/>
                    <a:ext cx="10065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Box 4"/>
          <p:cNvSpPr/>
          <p:nvPr/>
        </p:nvSpPr>
        <p:spPr>
          <a:xfrm>
            <a:off x="6659640" y="175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3780000" y="2185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334800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4"/>
          <p:cNvSpPr/>
          <p:nvPr/>
        </p:nvSpPr>
        <p:spPr>
          <a:xfrm>
            <a:off x="2203560" y="2968560"/>
            <a:ext cx="712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课啦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9"/>
          <p:cNvSpPr/>
          <p:nvPr/>
        </p:nvSpPr>
        <p:spPr>
          <a:xfrm>
            <a:off x="826920" y="836640"/>
            <a:ext cx="2953080" cy="863640"/>
          </a:xfrm>
          <a:prstGeom prst="wedgeRoundRectCallout">
            <a:avLst>
              <a:gd name="adj1" fmla="val -28606"/>
              <a:gd name="adj2" fmla="val 107282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苹果和梨哪个更大一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500720" y="988920"/>
            <a:ext cx="2374920" cy="863640"/>
          </a:xfrm>
          <a:prstGeom prst="wedgeRoundRectCallout">
            <a:avLst>
              <a:gd name="adj1" fmla="val 43828"/>
              <a:gd name="adj2" fmla="val 91921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们可以做个试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1544400" cy="162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63836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Administrator\Desktop\114_副本.png"/>
          <p:cNvPicPr/>
          <p:nvPr/>
        </p:nvPicPr>
        <p:blipFill>
          <a:blip r:embed="rId3"/>
          <a:stretch/>
        </p:blipFill>
        <p:spPr>
          <a:xfrm>
            <a:off x="2556000" y="2565360"/>
            <a:ext cx="1224000" cy="120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Administrator\Desktop\114_副本.jpg"/>
          <p:cNvPicPr/>
          <p:nvPr/>
        </p:nvPicPr>
        <p:blipFill>
          <a:blip r:embed="rId4"/>
          <a:stretch/>
        </p:blipFill>
        <p:spPr>
          <a:xfrm>
            <a:off x="3995640" y="267012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4"/>
          <p:cNvSpPr/>
          <p:nvPr/>
        </p:nvSpPr>
        <p:spPr>
          <a:xfrm>
            <a:off x="179280" y="414972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准备两个完全一样并带有刻度的玻璃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往杯子中倒入同样多适量的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5364000" y="4149720"/>
            <a:ext cx="1067040" cy="12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6673680" y="4135320"/>
            <a:ext cx="1067040" cy="123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7"/>
          <a:stretch/>
        </p:blipFill>
        <p:spPr>
          <a:xfrm>
            <a:off x="5508720" y="5516640"/>
            <a:ext cx="90468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8"/>
          <a:stretch/>
        </p:blipFill>
        <p:spPr>
          <a:xfrm>
            <a:off x="6835680" y="5535720"/>
            <a:ext cx="9050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395280" y="1181160"/>
            <a:ext cx="574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记录下水面的高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苹果和梨分别放入这两个杯子中，使它们全部浸入水中（注意：水不要溢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4"/>
          <p:cNvSpPr/>
          <p:nvPr/>
        </p:nvSpPr>
        <p:spPr>
          <a:xfrm>
            <a:off x="395280" y="606600"/>
            <a:ext cx="7705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个杯子里面的水面高度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哪个杯子里面的水面比较高，哪个杯子里的水面比较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547560" y="5716440"/>
            <a:ext cx="7337520" cy="1169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所占空间的大小，叫做物体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7"/>
          <p:cNvGrpSpPr/>
          <p:nvPr/>
        </p:nvGrpSpPr>
        <p:grpSpPr>
          <a:xfrm>
            <a:off x="755640" y="2349360"/>
            <a:ext cx="6840720" cy="3311640"/>
            <a:chOff x="755640" y="2349360"/>
            <a:chExt cx="6840720" cy="3311640"/>
          </a:xfrm>
        </p:grpSpPr>
        <p:sp>
          <p:nvSpPr>
            <p:cNvPr id="67" name="AutoShape 9"/>
            <p:cNvSpPr/>
            <p:nvPr/>
          </p:nvSpPr>
          <p:spPr>
            <a:xfrm>
              <a:off x="755640" y="2349360"/>
              <a:ext cx="6840720" cy="1368360"/>
            </a:xfrm>
            <a:prstGeom prst="wedgeRoundRectCallout">
              <a:avLst>
                <a:gd name="adj1" fmla="val 23347"/>
                <a:gd name="adj2" fmla="val 76828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右面杯子里的水面高，左面杯子里的水面低。装苹果的杯子水面高，说明苹果占的空间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2" descr="C:\Users\Administrator\Desktop\115_副本.png"/>
            <p:cNvPicPr/>
            <p:nvPr/>
          </p:nvPicPr>
          <p:blipFill>
            <a:blip r:embed="rId1"/>
            <a:stretch/>
          </p:blipFill>
          <p:spPr>
            <a:xfrm>
              <a:off x="5833440" y="3893040"/>
              <a:ext cx="1402920" cy="176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4"/>
          <p:cNvSpPr/>
          <p:nvPr/>
        </p:nvSpPr>
        <p:spPr>
          <a:xfrm>
            <a:off x="547560" y="620640"/>
            <a:ext cx="712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文具的体积大？哪个文具的体积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57132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Administrator\Desktop\116_副本.png"/>
          <p:cNvPicPr/>
          <p:nvPr/>
        </p:nvPicPr>
        <p:blipFill>
          <a:blip r:embed="rId2"/>
          <a:stretch/>
        </p:blipFill>
        <p:spPr>
          <a:xfrm>
            <a:off x="684360" y="1700280"/>
            <a:ext cx="2133360" cy="187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Administrator\Desktop\117_副本.png"/>
          <p:cNvPicPr/>
          <p:nvPr/>
        </p:nvPicPr>
        <p:blipFill>
          <a:blip r:embed="rId3"/>
          <a:stretch/>
        </p:blipFill>
        <p:spPr>
          <a:xfrm>
            <a:off x="3059280" y="1844640"/>
            <a:ext cx="200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9"/>
          <p:cNvSpPr/>
          <p:nvPr/>
        </p:nvSpPr>
        <p:spPr>
          <a:xfrm>
            <a:off x="755640" y="907920"/>
            <a:ext cx="4321080" cy="720720"/>
          </a:xfrm>
          <a:prstGeom prst="wedgeRoundRectCallout">
            <a:avLst>
              <a:gd name="adj1" fmla="val -36731"/>
              <a:gd name="adj2" fmla="val 112402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哪个礼品盒的体积大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3924360" y="2205000"/>
            <a:ext cx="4599000" cy="1216080"/>
          </a:xfrm>
          <a:prstGeom prst="wedgeRoundRectCallout">
            <a:avLst>
              <a:gd name="adj1" fmla="val -5222"/>
              <a:gd name="adj2" fmla="val 84643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像长度、面积一样，计量体积的大小有统一的体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547560" y="5213520"/>
            <a:ext cx="712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的体积单位有立方厘米、立方分米和立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Desktop\112.png"/>
          <p:cNvPicPr/>
          <p:nvPr/>
        </p:nvPicPr>
        <p:blipFill>
          <a:blip r:embed="rId1"/>
          <a:stretch/>
        </p:blipFill>
        <p:spPr>
          <a:xfrm>
            <a:off x="179280" y="1916280"/>
            <a:ext cx="1368360" cy="144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Desktop\9.png"/>
          <p:cNvPicPr/>
          <p:nvPr/>
        </p:nvPicPr>
        <p:blipFill>
          <a:blip r:embed="rId2"/>
          <a:stretch/>
        </p:blipFill>
        <p:spPr>
          <a:xfrm>
            <a:off x="6227640" y="3429000"/>
            <a:ext cx="1224000" cy="14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5364000" y="549360"/>
            <a:ext cx="1667160" cy="1542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4"/>
          <a:stretch/>
        </p:blipFill>
        <p:spPr>
          <a:xfrm>
            <a:off x="7164360" y="620640"/>
            <a:ext cx="16477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4"/>
          <p:cNvSpPr/>
          <p:nvPr/>
        </p:nvSpPr>
        <p:spPr>
          <a:xfrm>
            <a:off x="547560" y="189000"/>
            <a:ext cx="7120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棱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的正方体，它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  ，记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539640" y="3416400"/>
            <a:ext cx="7120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棱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的正方体，它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   ，记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dm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棱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正方体，它的体积是（    ）米  ，记作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4807080" y="1859040"/>
          <a:ext cx="8892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859040"/>
                    <a:ext cx="88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"/>
          <p:cNvGraphicFramePr/>
          <p:nvPr/>
        </p:nvGraphicFramePr>
        <p:xfrm>
          <a:off x="900000" y="549360"/>
          <a:ext cx="5763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549360"/>
                    <a:ext cx="576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2771640" y="620640"/>
          <a:ext cx="57636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620640"/>
                    <a:ext cx="57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4"/>
          <p:cNvGraphicFramePr/>
          <p:nvPr/>
        </p:nvGraphicFramePr>
        <p:xfrm>
          <a:off x="971640" y="3789360"/>
          <a:ext cx="5760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789360"/>
                    <a:ext cx="576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5"/>
          <p:cNvGraphicFramePr/>
          <p:nvPr/>
        </p:nvGraphicFramePr>
        <p:xfrm>
          <a:off x="2916360" y="3860640"/>
          <a:ext cx="57600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3860640"/>
                    <a:ext cx="576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立方体 9"/>
          <p:cNvSpPr/>
          <p:nvPr/>
        </p:nvSpPr>
        <p:spPr>
          <a:xfrm>
            <a:off x="826920" y="1628640"/>
            <a:ext cx="1224000" cy="107964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6516720" y="1197000"/>
          <a:ext cx="57636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16720" y="1197000"/>
                    <a:ext cx="57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7"/>
          <p:cNvGraphicFramePr/>
          <p:nvPr/>
        </p:nvGraphicFramePr>
        <p:xfrm>
          <a:off x="4356000" y="1700280"/>
          <a:ext cx="57636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56000" y="1700280"/>
                    <a:ext cx="57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组合 14"/>
          <p:cNvGrpSpPr/>
          <p:nvPr/>
        </p:nvGrpSpPr>
        <p:grpSpPr>
          <a:xfrm>
            <a:off x="2195640" y="1204920"/>
            <a:ext cx="6427800" cy="2684520"/>
            <a:chOff x="2195640" y="1204920"/>
            <a:chExt cx="6427800" cy="2684520"/>
          </a:xfrm>
        </p:grpSpPr>
        <p:sp>
          <p:nvSpPr>
            <p:cNvPr id="98" name="AutoShape 9"/>
            <p:cNvSpPr/>
            <p:nvPr/>
          </p:nvSpPr>
          <p:spPr>
            <a:xfrm>
              <a:off x="2195640" y="1204920"/>
              <a:ext cx="5904000" cy="1216080"/>
            </a:xfrm>
            <a:prstGeom prst="wedgeRoundRectCallout">
              <a:avLst>
                <a:gd name="adj1" fmla="val 33337"/>
                <a:gd name="adj2" fmla="val 73726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粒蚕豆的体积大约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cm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用橡皮泥捏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cm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作品与同学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8" descr="C:\Users\Administrator\Desktop\11.png"/>
            <p:cNvPicPr/>
            <p:nvPr/>
          </p:nvPicPr>
          <p:blipFill>
            <a:blip r:embed="rId15"/>
            <a:stretch/>
          </p:blipFill>
          <p:spPr>
            <a:xfrm>
              <a:off x="7452000" y="2636640"/>
              <a:ext cx="1171440" cy="1252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0" name="Object 9"/>
          <p:cNvGraphicFramePr/>
          <p:nvPr/>
        </p:nvGraphicFramePr>
        <p:xfrm>
          <a:off x="900000" y="4869000"/>
          <a:ext cx="576360" cy="57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4869000"/>
                    <a:ext cx="576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0"/>
          <p:cNvGraphicFramePr/>
          <p:nvPr/>
        </p:nvGraphicFramePr>
        <p:xfrm>
          <a:off x="6516720" y="1268280"/>
          <a:ext cx="576360" cy="576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16720" y="1268280"/>
                    <a:ext cx="57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1"/>
          <p:cNvGraphicFramePr/>
          <p:nvPr/>
        </p:nvGraphicFramePr>
        <p:xfrm>
          <a:off x="4356000" y="1700280"/>
          <a:ext cx="576360" cy="576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356000" y="1700280"/>
                    <a:ext cx="57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19"/>
          <p:cNvSpPr/>
          <p:nvPr/>
        </p:nvSpPr>
        <p:spPr>
          <a:xfrm>
            <a:off x="68040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2"/>
          <p:cNvGrpSpPr/>
          <p:nvPr/>
        </p:nvGrpSpPr>
        <p:grpSpPr>
          <a:xfrm>
            <a:off x="2627280" y="4940280"/>
            <a:ext cx="1008000" cy="576360"/>
            <a:chOff x="2627280" y="4940280"/>
            <a:chExt cx="1008000" cy="576360"/>
          </a:xfrm>
        </p:grpSpPr>
        <p:sp>
          <p:nvSpPr>
            <p:cNvPr id="108" name="TextBox 20"/>
            <p:cNvSpPr/>
            <p:nvPr/>
          </p:nvSpPr>
          <p:spPr>
            <a:xfrm>
              <a:off x="2627280" y="49402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Object 12"/>
            <p:cNvGraphicFramePr/>
            <p:nvPr/>
          </p:nvGraphicFramePr>
          <p:xfrm>
            <a:off x="3059280" y="4940280"/>
            <a:ext cx="576000" cy="576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0" name="Object 12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059280" y="4940280"/>
                      <a:ext cx="5760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1" name="Picture 14" descr="C:\Users\Administrator\Desktop\116_副本.png"/>
          <p:cNvPicPr/>
          <p:nvPr/>
        </p:nvPicPr>
        <p:blipFill>
          <a:blip r:embed="rId24"/>
          <a:stretch/>
        </p:blipFill>
        <p:spPr>
          <a:xfrm>
            <a:off x="4741920" y="4809960"/>
            <a:ext cx="2133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4"/>
          <p:cNvSpPr/>
          <p:nvPr/>
        </p:nvSpPr>
        <p:spPr>
          <a:xfrm>
            <a:off x="547560" y="836640"/>
            <a:ext cx="49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长的木条搭成一个互相垂直的架子（如右图），把它放在教室的墙角，感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方米有多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171880" cy="2124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395280" y="326700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着，哪些物体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方厘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方分米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8T12:01:30Z</dcterms:created>
  <dc:creator/>
  <dc:description/>
  <dc:language>en-US</dc:language>
  <cp:lastModifiedBy/>
  <dcterms:modified xsi:type="dcterms:W3CDTF">2015-06-08T02:05:35Z</dcterms:modified>
  <cp:revision>1</cp:revision>
  <dc:subject/>
  <dc:title/>
</cp:coreProperties>
</file>