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71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33668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067200"/>
            <a:ext cx="26496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27880"/>
            <a:ext cx="8229240" cy="442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06720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6680"/>
            <a:ext cx="401580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067200"/>
            <a:ext cx="8229240" cy="158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" Target="slide2.xml"/><Relationship Id="rId5" Type="http://schemas.openxmlformats.org/officeDocument/2006/relationships/slide" Target="slide1.xml"/><Relationship Id="rId6" Type="http://schemas.openxmlformats.org/officeDocument/2006/relationships/slide" Target="slide5.xml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536663" descr="图片144"/>
          <p:cNvPicPr/>
          <p:nvPr/>
        </p:nvPicPr>
        <p:blipFill>
          <a:blip r:embed="rId3"/>
          <a:stretch/>
        </p:blipFill>
        <p:spPr>
          <a:xfrm>
            <a:off x="3835440" y="711360"/>
            <a:ext cx="2816280" cy="285480"/>
          </a:xfrm>
          <a:prstGeom prst="rect">
            <a:avLst/>
          </a:prstGeom>
          <a:ln w="0">
            <a:noFill/>
          </a:ln>
        </p:spPr>
      </p:pic>
      <p:sp>
        <p:nvSpPr>
          <p:cNvPr id="38" name="矩形 536644">
            <a:hlinkClick r:id="rId4" action="ppaction://hlinksldjump"/>
          </p:cNvPr>
          <p:cNvSpPr/>
          <p:nvPr/>
        </p:nvSpPr>
        <p:spPr>
          <a:xfrm>
            <a:off x="3878280" y="749160"/>
            <a:ext cx="91908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矩形 536650">
            <a:hlinkClick r:id="rId5" action="ppaction://hlinksldjump"/>
          </p:cNvPr>
          <p:cNvSpPr/>
          <p:nvPr/>
        </p:nvSpPr>
        <p:spPr>
          <a:xfrm>
            <a:off x="1917720" y="542880"/>
            <a:ext cx="1434960" cy="380880"/>
          </a:xfrm>
          <a:prstGeom prst="rect">
            <a:avLst/>
          </a:prstGeom>
          <a:solidFill>
            <a:srgbClr val="bbe0e3">
              <a:alpha val="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矩形 536664">
            <a:hlinkClick r:id="rId6" action="ppaction://hlinksldjump"/>
          </p:cNvPr>
          <p:cNvSpPr/>
          <p:nvPr/>
        </p:nvSpPr>
        <p:spPr>
          <a:xfrm>
            <a:off x="4994280" y="749160"/>
            <a:ext cx="1089000" cy="209520"/>
          </a:xfrm>
          <a:prstGeom prst="rect">
            <a:avLst/>
          </a:prstGeom>
          <a:solidFill>
            <a:srgbClr val="bbe0e3">
              <a:alpha val="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240" cy="95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6680"/>
            <a:ext cx="82292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368675"/>
          <p:cNvSpPr/>
          <p:nvPr/>
        </p:nvSpPr>
        <p:spPr>
          <a:xfrm>
            <a:off x="1101600" y="1994040"/>
            <a:ext cx="69408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黑体"/>
                <a:ea typeface="黑体"/>
              </a:rPr>
              <a:t>单元整合提升</a:t>
            </a:r>
            <a:endParaRPr b="1" lang="en-US" sz="48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80" name="Picture 5" descr="2004121511115859383"/>
          <p:cNvPicPr/>
          <p:nvPr/>
        </p:nvPicPr>
        <p:blipFill>
          <a:blip r:embed="rId1"/>
          <a:stretch/>
        </p:blipFill>
        <p:spPr>
          <a:xfrm>
            <a:off x="19080" y="4229280"/>
            <a:ext cx="90993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046529"/>
          <p:cNvSpPr/>
          <p:nvPr/>
        </p:nvSpPr>
        <p:spPr>
          <a:xfrm>
            <a:off x="263520" y="1523880"/>
            <a:ext cx="862020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甲的  相当于乙的  中，甲与乙的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原式可变形为：甲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乙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  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，所以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正方体的棱长总和与棱长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正方体的棱长总和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÷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棱长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12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一定），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买东西时，付出的钱与找回的钱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14" name="对象 1046530"/>
          <p:cNvGraphicFramePr/>
          <p:nvPr/>
        </p:nvGraphicFramePr>
        <p:xfrm>
          <a:off x="2921040" y="1595520"/>
          <a:ext cx="2030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对象 10465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21040" y="159552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对象 1046531"/>
          <p:cNvGraphicFramePr/>
          <p:nvPr/>
        </p:nvGraphicFramePr>
        <p:xfrm>
          <a:off x="4589640" y="1585800"/>
          <a:ext cx="1904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对象 104653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89640" y="1585800"/>
                    <a:ext cx="190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对象 1046532"/>
          <p:cNvGraphicFramePr/>
          <p:nvPr/>
        </p:nvGraphicFramePr>
        <p:xfrm>
          <a:off x="3354480" y="2184480"/>
          <a:ext cx="2030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" name="对象 104653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54480" y="2184480"/>
                    <a:ext cx="2030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文本框 1056769"/>
          <p:cNvSpPr/>
          <p:nvPr/>
        </p:nvSpPr>
        <p:spPr>
          <a:xfrm>
            <a:off x="254160" y="169848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表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，且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21" name="对象 1056770"/>
          <p:cNvGraphicFramePr/>
          <p:nvPr/>
        </p:nvGraphicFramePr>
        <p:xfrm>
          <a:off x="3290760" y="2282760"/>
          <a:ext cx="2286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对象 105677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90760" y="2282760"/>
                    <a:ext cx="2286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1227240" y="3138480"/>
          <a:ext cx="6257880" cy="85716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2640"/>
                <a:gridCol w="782640"/>
                <a:gridCol w="782640"/>
                <a:gridCol w="782640"/>
                <a:gridCol w="782640"/>
                <a:gridCol w="782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文本框 1056888"/>
          <p:cNvSpPr/>
          <p:nvPr/>
        </p:nvSpPr>
        <p:spPr>
          <a:xfrm>
            <a:off x="1916280" y="3378600"/>
            <a:ext cx="968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5" name="文本框 1056889"/>
          <p:cNvSpPr/>
          <p:nvPr/>
        </p:nvSpPr>
        <p:spPr>
          <a:xfrm>
            <a:off x="2809800" y="295956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6" name="文本框 1056890"/>
          <p:cNvSpPr/>
          <p:nvPr/>
        </p:nvSpPr>
        <p:spPr>
          <a:xfrm>
            <a:off x="3584520" y="3378600"/>
            <a:ext cx="7430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7" name="文本框 1056891"/>
          <p:cNvSpPr/>
          <p:nvPr/>
        </p:nvSpPr>
        <p:spPr>
          <a:xfrm>
            <a:off x="4253040" y="2959560"/>
            <a:ext cx="96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8" name="文本框 1056892"/>
          <p:cNvSpPr/>
          <p:nvPr/>
        </p:nvSpPr>
        <p:spPr>
          <a:xfrm>
            <a:off x="5040360" y="3378600"/>
            <a:ext cx="968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2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29" name="文本框 1056893"/>
          <p:cNvSpPr/>
          <p:nvPr/>
        </p:nvSpPr>
        <p:spPr>
          <a:xfrm>
            <a:off x="5934240" y="2959560"/>
            <a:ext cx="7426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文本框 1057793"/>
          <p:cNvSpPr/>
          <p:nvPr/>
        </p:nvSpPr>
        <p:spPr>
          <a:xfrm>
            <a:off x="254160" y="1698480"/>
            <a:ext cx="86198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，且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y=2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42880" y="2550960"/>
          <a:ext cx="6258240" cy="857520"/>
        </p:xfrm>
        <a:graphic>
          <a:graphicData uri="http://schemas.openxmlformats.org/drawingml/2006/table">
            <a:tbl>
              <a:tblPr/>
              <a:tblGrid>
                <a:gridCol w="781200"/>
                <a:gridCol w="781200"/>
                <a:gridCol w="782640"/>
                <a:gridCol w="782640"/>
                <a:gridCol w="782640"/>
                <a:gridCol w="782640"/>
                <a:gridCol w="782640"/>
                <a:gridCol w="782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x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y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.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2" name="文本框 1057911"/>
          <p:cNvSpPr/>
          <p:nvPr/>
        </p:nvSpPr>
        <p:spPr>
          <a:xfrm>
            <a:off x="2206800" y="281340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3" name="文本框 1057912"/>
          <p:cNvSpPr/>
          <p:nvPr/>
        </p:nvSpPr>
        <p:spPr>
          <a:xfrm>
            <a:off x="2811600" y="2381760"/>
            <a:ext cx="1171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.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4" name="文本框 1057913"/>
          <p:cNvSpPr/>
          <p:nvPr/>
        </p:nvSpPr>
        <p:spPr>
          <a:xfrm>
            <a:off x="3413160" y="2813400"/>
            <a:ext cx="153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5" name="文本框 1057914"/>
          <p:cNvSpPr/>
          <p:nvPr/>
        </p:nvSpPr>
        <p:spPr>
          <a:xfrm>
            <a:off x="4187880" y="2381760"/>
            <a:ext cx="1530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6" name="文本框 1057915"/>
          <p:cNvSpPr/>
          <p:nvPr/>
        </p:nvSpPr>
        <p:spPr>
          <a:xfrm>
            <a:off x="5330880" y="281340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37" name="文本框 1057916"/>
          <p:cNvSpPr/>
          <p:nvPr/>
        </p:nvSpPr>
        <p:spPr>
          <a:xfrm>
            <a:off x="6118200" y="2381760"/>
            <a:ext cx="819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文本框 1047553"/>
          <p:cNvSpPr/>
          <p:nvPr/>
        </p:nvSpPr>
        <p:spPr>
          <a:xfrm>
            <a:off x="254160" y="16984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同学们进行打字比赛，打一份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40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个字的稿件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上表补充完整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844560" y="2424240"/>
          <a:ext cx="7156440" cy="1285920"/>
        </p:xfrm>
        <a:graphic>
          <a:graphicData uri="http://schemas.openxmlformats.org/drawingml/2006/table">
            <a:tbl>
              <a:tblPr/>
              <a:tblGrid>
                <a:gridCol w="2152800"/>
                <a:gridCol w="1250640"/>
                <a:gridCol w="1251000"/>
                <a:gridCol w="1251000"/>
                <a:gridCol w="125100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张亮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马明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李海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胡丽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用时间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速度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（字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）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文本框 1047666"/>
          <p:cNvSpPr/>
          <p:nvPr/>
        </p:nvSpPr>
        <p:spPr>
          <a:xfrm>
            <a:off x="4294080" y="3276000"/>
            <a:ext cx="115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1" name="文本框 1047667"/>
          <p:cNvSpPr/>
          <p:nvPr/>
        </p:nvSpPr>
        <p:spPr>
          <a:xfrm>
            <a:off x="5551560" y="3108600"/>
            <a:ext cx="115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96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2" name="文本框 1047668"/>
          <p:cNvSpPr/>
          <p:nvPr/>
        </p:nvSpPr>
        <p:spPr>
          <a:xfrm>
            <a:off x="6796080" y="3276000"/>
            <a:ext cx="115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1048577"/>
          <p:cNvSpPr/>
          <p:nvPr/>
        </p:nvSpPr>
        <p:spPr>
          <a:xfrm>
            <a:off x="254160" y="1698480"/>
            <a:ext cx="861984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打字的速度和时间成什么比例？把关系式写出来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成反比例，打字的速度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时间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总字数（一定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李华打这份稿件用了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钟，你知道他每分钟打多少字吗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400÷48=5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个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文本框 1049601"/>
          <p:cNvSpPr/>
          <p:nvPr/>
        </p:nvSpPr>
        <p:spPr>
          <a:xfrm>
            <a:off x="254160" y="1206360"/>
            <a:ext cx="8619840" cy="31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的图像表示买一种练习本的数量与总价之间的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看图填写下表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5" name="图片 1049602" descr=""/>
          <p:cNvPicPr/>
          <p:nvPr/>
        </p:nvPicPr>
        <p:blipFill>
          <a:blip r:embed="rId1"/>
          <a:stretch/>
        </p:blipFill>
        <p:spPr>
          <a:xfrm>
            <a:off x="3146400" y="1778040"/>
            <a:ext cx="2689200" cy="203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1149480" y="4575240"/>
          <a:ext cx="6645240" cy="857160"/>
        </p:xfrm>
        <a:graphic>
          <a:graphicData uri="http://schemas.openxmlformats.org/drawingml/2006/table">
            <a:tbl>
              <a:tblPr/>
              <a:tblGrid>
                <a:gridCol w="1168200"/>
                <a:gridCol w="781200"/>
                <a:gridCol w="782640"/>
                <a:gridCol w="782640"/>
                <a:gridCol w="782640"/>
                <a:gridCol w="782640"/>
                <a:gridCol w="782640"/>
                <a:gridCol w="78264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数量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本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8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总价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元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…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文本框 1049721"/>
          <p:cNvSpPr/>
          <p:nvPr/>
        </p:nvSpPr>
        <p:spPr>
          <a:xfrm>
            <a:off x="2239920" y="4826520"/>
            <a:ext cx="93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8" name="文本框 1049722"/>
          <p:cNvSpPr/>
          <p:nvPr/>
        </p:nvSpPr>
        <p:spPr>
          <a:xfrm>
            <a:off x="3243240" y="4826520"/>
            <a:ext cx="4986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49" name="文本框 1049723"/>
          <p:cNvSpPr/>
          <p:nvPr/>
        </p:nvSpPr>
        <p:spPr>
          <a:xfrm>
            <a:off x="3801960" y="4826520"/>
            <a:ext cx="93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4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0" name="文本框 1049724"/>
          <p:cNvSpPr/>
          <p:nvPr/>
        </p:nvSpPr>
        <p:spPr>
          <a:xfrm>
            <a:off x="4589640" y="4826520"/>
            <a:ext cx="93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7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1" name="文本框 1049725"/>
          <p:cNvSpPr/>
          <p:nvPr/>
        </p:nvSpPr>
        <p:spPr>
          <a:xfrm>
            <a:off x="5479920" y="4826520"/>
            <a:ext cx="711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2" name="文本框 1049726"/>
          <p:cNvSpPr/>
          <p:nvPr/>
        </p:nvSpPr>
        <p:spPr>
          <a:xfrm>
            <a:off x="6045120" y="4826520"/>
            <a:ext cx="11430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3.5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文本框 1050625"/>
          <p:cNvSpPr/>
          <p:nvPr/>
        </p:nvSpPr>
        <p:spPr>
          <a:xfrm>
            <a:off x="254160" y="1698480"/>
            <a:ext cx="861984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这种练习本的单价是多少？如果要买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本，应付多少元钱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单价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.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元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/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本，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5×1.5=22.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元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答：应付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2.5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元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051649"/>
          <p:cNvSpPr/>
          <p:nvPr/>
        </p:nvSpPr>
        <p:spPr>
          <a:xfrm>
            <a:off x="254160" y="167004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是在一幅地图上量得的图上距离与实际距离的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把表格填写完整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870120" y="2567160"/>
          <a:ext cx="7094520" cy="857160"/>
        </p:xfrm>
        <a:graphic>
          <a:graphicData uri="http://schemas.openxmlformats.org/drawingml/2006/table">
            <a:tbl>
              <a:tblPr/>
              <a:tblGrid>
                <a:gridCol w="1731960"/>
                <a:gridCol w="893520"/>
                <a:gridCol w="893880"/>
                <a:gridCol w="893880"/>
                <a:gridCol w="893520"/>
                <a:gridCol w="893880"/>
                <a:gridCol w="893880"/>
              </a:tblGrid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图上距离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c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5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实际距离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/km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2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4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60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200" spc="-1" strike="noStrike">
                        <a:solidFill>
                          <a:srgbClr val="000000"/>
                        </a:solidFill>
                        <a:latin typeface="宋体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6" name="文本框 1051755"/>
          <p:cNvSpPr/>
          <p:nvPr/>
        </p:nvSpPr>
        <p:spPr>
          <a:xfrm>
            <a:off x="5246640" y="2955600"/>
            <a:ext cx="949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7" name="文本框 1051756"/>
          <p:cNvSpPr/>
          <p:nvPr/>
        </p:nvSpPr>
        <p:spPr>
          <a:xfrm>
            <a:off x="5997600" y="2955600"/>
            <a:ext cx="123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0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8" name="文本框 1051757"/>
          <p:cNvSpPr/>
          <p:nvPr/>
        </p:nvSpPr>
        <p:spPr>
          <a:xfrm>
            <a:off x="6899400" y="2955600"/>
            <a:ext cx="1238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12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文本框 1052673"/>
          <p:cNvSpPr/>
          <p:nvPr/>
        </p:nvSpPr>
        <p:spPr>
          <a:xfrm>
            <a:off x="282600" y="1255680"/>
            <a:ext cx="8620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表中的数据，在下图中描出图上距离与实际距离对应的点，再顺次连接起来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0" name="组合 1052676"/>
          <p:cNvGrpSpPr/>
          <p:nvPr/>
        </p:nvGrpSpPr>
        <p:grpSpPr>
          <a:xfrm>
            <a:off x="1504800" y="2435400"/>
            <a:ext cx="6104160" cy="3095280"/>
            <a:chOff x="1504800" y="2435400"/>
            <a:chExt cx="6104160" cy="3095280"/>
          </a:xfrm>
        </p:grpSpPr>
        <p:sp>
          <p:nvSpPr>
            <p:cNvPr id="161" name="矩形 1052675"/>
            <p:cNvSpPr/>
            <p:nvPr/>
          </p:nvSpPr>
          <p:spPr>
            <a:xfrm>
              <a:off x="1504800" y="2435400"/>
              <a:ext cx="6096240" cy="30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62" name="图片 1052677" descr=""/>
            <p:cNvPicPr/>
            <p:nvPr/>
          </p:nvPicPr>
          <p:blipFill>
            <a:blip r:embed="rId1"/>
            <a:stretch/>
          </p:blipFill>
          <p:spPr>
            <a:xfrm>
              <a:off x="1504800" y="2435400"/>
              <a:ext cx="6104160" cy="309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3" name="直接连接符 1052678"/>
          <p:cNvSpPr/>
          <p:nvPr/>
        </p:nvSpPr>
        <p:spPr>
          <a:xfrm flipV="1">
            <a:off x="1809720" y="2939760"/>
            <a:ext cx="4326120" cy="2143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文本框 1053697"/>
          <p:cNvSpPr/>
          <p:nvPr/>
        </p:nvSpPr>
        <p:spPr>
          <a:xfrm>
            <a:off x="254160" y="1565280"/>
            <a:ext cx="86198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根据图像判断，这幅图的比例尺是多少？如果图上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厘米，实际距离是多少千米？如果实际距离是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千米，图上距离是多少厘米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∶200000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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2.5×20=5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千米）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4÷20=0.7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厘米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答：比例尺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∶200000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，实际距离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50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千米。如果实际距离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14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千米，图上距离是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0.7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厘米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377026" descr=""/>
          <p:cNvPicPr/>
          <p:nvPr/>
        </p:nvPicPr>
        <p:blipFill>
          <a:blip r:embed="rId1"/>
          <a:stretch/>
        </p:blipFill>
        <p:spPr>
          <a:xfrm>
            <a:off x="1784520" y="1735200"/>
            <a:ext cx="521964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文本框 1054721"/>
          <p:cNvSpPr/>
          <p:nvPr/>
        </p:nvSpPr>
        <p:spPr>
          <a:xfrm>
            <a:off x="263520" y="1231920"/>
            <a:ext cx="862020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动脑筋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间会客室地面用边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的正方形地砖铺，需要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4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块。如果改用边长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0.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米的正方形地砖，需要多少块？（用成反比例的知识解答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解：设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块。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0.3×0.3×640=0.4×0.4×x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x=3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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答：需要</a:t>
            </a: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60</a:t>
            </a: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块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pSp>
        <p:nvGrpSpPr>
          <p:cNvPr id="166" name="组合 1054724"/>
          <p:cNvGrpSpPr/>
          <p:nvPr/>
        </p:nvGrpSpPr>
        <p:grpSpPr>
          <a:xfrm>
            <a:off x="6303960" y="3071880"/>
            <a:ext cx="2422440" cy="1793880"/>
            <a:chOff x="6303960" y="3071880"/>
            <a:chExt cx="2422440" cy="1793880"/>
          </a:xfrm>
        </p:grpSpPr>
        <p:sp>
          <p:nvSpPr>
            <p:cNvPr id="167" name="矩形 1054723"/>
            <p:cNvSpPr/>
            <p:nvPr/>
          </p:nvSpPr>
          <p:spPr>
            <a:xfrm>
              <a:off x="6303960" y="3071880"/>
              <a:ext cx="2415960" cy="17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0000"/>
                </a:solidFill>
                <a:latin typeface="宋体"/>
              </a:endParaRPr>
            </a:p>
          </p:txBody>
        </p:sp>
        <p:pic>
          <p:nvPicPr>
            <p:cNvPr id="168" name="图片 1054725" descr=""/>
            <p:cNvPicPr/>
            <p:nvPr/>
          </p:nvPicPr>
          <p:blipFill>
            <a:blip r:embed="rId1"/>
            <a:stretch/>
          </p:blipFill>
          <p:spPr>
            <a:xfrm>
              <a:off x="6303960" y="3071880"/>
              <a:ext cx="2422440" cy="17938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69" name="对象 1054726"/>
          <p:cNvGraphicFramePr/>
          <p:nvPr/>
        </p:nvGraphicFramePr>
        <p:xfrm>
          <a:off x="679320" y="3843360"/>
          <a:ext cx="1473480" cy="609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0" name="对象 105472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79320" y="3843360"/>
                    <a:ext cx="1473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文本框 1025025"/>
          <p:cNvSpPr/>
          <p:nvPr/>
        </p:nvSpPr>
        <p:spPr>
          <a:xfrm>
            <a:off x="254160" y="1089000"/>
            <a:ext cx="861984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【单元</a:t>
            </a:r>
            <a:r>
              <a:rPr b="1" lang="en-US" sz="22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ff"/>
                </a:solidFill>
                <a:latin typeface="宋体"/>
              </a:rPr>
              <a:t>题通】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融会考点：成正、反比例关系的意义、判断是否成正比例关系或成反比例关系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下面各题中的两种量是否成比例？成比例的是成正比例还是成反比例？为什么？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单价一定，总价和数量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  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单价（一定），成正比例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总页数一定，已看页数与未看页数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比例，不成相比或相乘的关系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83" name="对象 1025030"/>
          <p:cNvGraphicFramePr/>
          <p:nvPr/>
        </p:nvGraphicFramePr>
        <p:xfrm>
          <a:off x="536400" y="4121280"/>
          <a:ext cx="584280" cy="64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对象 10250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121280"/>
                    <a:ext cx="584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1013761"/>
          <p:cNvSpPr/>
          <p:nvPr/>
        </p:nvSpPr>
        <p:spPr>
          <a:xfrm>
            <a:off x="263520" y="1992240"/>
            <a:ext cx="86202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总字数一定，平均每分钟写的字数与所用时间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平均每分钟写的字数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时间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总字数（一定），成反比例。 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的前项一定，比的后项和比值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比的后项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比值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比的前项（一定），成反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012737"/>
          <p:cNvSpPr/>
          <p:nvPr/>
        </p:nvSpPr>
        <p:spPr>
          <a:xfrm>
            <a:off x="196920" y="1698480"/>
            <a:ext cx="916308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填空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已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×B=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   ）比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；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当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时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x=8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则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∶y=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∶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7" name="文本框 1012748"/>
          <p:cNvSpPr/>
          <p:nvPr/>
        </p:nvSpPr>
        <p:spPr>
          <a:xfrm>
            <a:off x="2778120" y="268632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反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8" name="文本框 1012749"/>
          <p:cNvSpPr/>
          <p:nvPr/>
        </p:nvSpPr>
        <p:spPr>
          <a:xfrm>
            <a:off x="2778120" y="318168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9" name="文本框 1012750"/>
          <p:cNvSpPr/>
          <p:nvPr/>
        </p:nvSpPr>
        <p:spPr>
          <a:xfrm>
            <a:off x="2778120" y="368964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0" name="文本框 1012751"/>
          <p:cNvSpPr/>
          <p:nvPr/>
        </p:nvSpPr>
        <p:spPr>
          <a:xfrm>
            <a:off x="4946760" y="4197600"/>
            <a:ext cx="54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8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1" name="文本框 1012752"/>
          <p:cNvSpPr/>
          <p:nvPr/>
        </p:nvSpPr>
        <p:spPr>
          <a:xfrm>
            <a:off x="6064200" y="4197600"/>
            <a:ext cx="5461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2" name="文本框 1012753"/>
          <p:cNvSpPr/>
          <p:nvPr/>
        </p:nvSpPr>
        <p:spPr>
          <a:xfrm>
            <a:off x="7997760" y="4180320"/>
            <a:ext cx="7812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宋体"/>
              </a:rPr>
              <a:t>正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文本框 1055745"/>
          <p:cNvSpPr/>
          <p:nvPr/>
        </p:nvSpPr>
        <p:spPr>
          <a:xfrm>
            <a:off x="195120" y="1943280"/>
            <a:ext cx="894888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两个加数的和一定，一个加数和另一个加数成反比例。（   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相关联的两个量不是成正比例就是成反比例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全班人数一定，出勤人数和缺勤人数成反比例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4" name="文本框 1055746"/>
          <p:cNvSpPr/>
          <p:nvPr/>
        </p:nvSpPr>
        <p:spPr>
          <a:xfrm>
            <a:off x="7862760" y="240084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5" name="文本框 1055747"/>
          <p:cNvSpPr/>
          <p:nvPr/>
        </p:nvSpPr>
        <p:spPr>
          <a:xfrm>
            <a:off x="6745320" y="290880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6" name="文本框 1055748"/>
          <p:cNvSpPr/>
          <p:nvPr/>
        </p:nvSpPr>
        <p:spPr>
          <a:xfrm>
            <a:off x="7024680" y="341676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×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文本框 1043457"/>
          <p:cNvSpPr/>
          <p:nvPr/>
        </p:nvSpPr>
        <p:spPr>
          <a:xfrm>
            <a:off x="254160" y="15937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选一选。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下面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的关系中不成比例的是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A÷  =B÷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　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+B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=8     C.2A-0.9B=0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柱体的高一定，圆柱体的体积与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成正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半径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直径   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底面积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的半径和周长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　　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　　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比例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98" name="对象 1043458"/>
          <p:cNvGraphicFramePr/>
          <p:nvPr/>
        </p:nvGraphicFramePr>
        <p:xfrm>
          <a:off x="1077840" y="2664000"/>
          <a:ext cx="190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对象 104345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2664000"/>
                    <a:ext cx="190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文本框 1043459"/>
          <p:cNvSpPr/>
          <p:nvPr/>
        </p:nvSpPr>
        <p:spPr>
          <a:xfrm>
            <a:off x="4991040" y="205776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1" name="文本框 1043460"/>
          <p:cNvSpPr/>
          <p:nvPr/>
        </p:nvSpPr>
        <p:spPr>
          <a:xfrm>
            <a:off x="5270400" y="3061080"/>
            <a:ext cx="8384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C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2" name="文本框 1043461"/>
          <p:cNvSpPr/>
          <p:nvPr/>
        </p:nvSpPr>
        <p:spPr>
          <a:xfrm>
            <a:off x="3022560" y="4064400"/>
            <a:ext cx="8380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文本框 1044481"/>
          <p:cNvSpPr/>
          <p:nvPr/>
        </p:nvSpPr>
        <p:spPr>
          <a:xfrm>
            <a:off x="254160" y="2043000"/>
            <a:ext cx="86198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如果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=8N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；如果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=  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M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N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  ）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正比例　　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成反比例　　    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不成比例　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4" name="对象 1044482"/>
          <p:cNvGraphicFramePr/>
          <p:nvPr/>
        </p:nvGraphicFramePr>
        <p:xfrm>
          <a:off x="5261040" y="2104920"/>
          <a:ext cx="2793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对象 104448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1040" y="2104920"/>
                    <a:ext cx="2793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文本框 1044483"/>
          <p:cNvSpPr/>
          <p:nvPr/>
        </p:nvSpPr>
        <p:spPr>
          <a:xfrm>
            <a:off x="3360600" y="203256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A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7" name="文本框 1044484"/>
          <p:cNvSpPr/>
          <p:nvPr/>
        </p:nvSpPr>
        <p:spPr>
          <a:xfrm>
            <a:off x="6459480" y="2032560"/>
            <a:ext cx="72072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文本框 1045505"/>
          <p:cNvSpPr/>
          <p:nvPr/>
        </p:nvSpPr>
        <p:spPr>
          <a:xfrm>
            <a:off x="254160" y="1379520"/>
            <a:ext cx="861984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判断各题中的两种量是否成比例？成比例的是成正比例还是成反比例？为什么？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分）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圆的半径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r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一定，圆的面积和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π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         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πr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（不一定），不成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梯形的面积一定，梯形上、下底的和与高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梯形上、下底的和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×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高</a:t>
            </a:r>
            <a:r>
              <a:rPr b="1" lang="en-US" sz="2200" spc="-1" strike="noStrike">
                <a:solidFill>
                  <a:srgbClr val="ff3300"/>
                </a:solidFill>
                <a:latin typeface="宋体"/>
              </a:rPr>
              <a:t>=  </a:t>
            </a: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梯形的面积（一定），成反比例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（弱项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）正方体的体积和棱长。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3300"/>
                </a:solidFill>
                <a:latin typeface="宋体"/>
              </a:rPr>
              <a:t>不成比例</a:t>
            </a:r>
            <a:endParaRPr b="1" lang="en-US" sz="2200" spc="-1" strike="noStrike">
              <a:solidFill>
                <a:srgbClr val="000000"/>
              </a:solidFill>
              <a:latin typeface="宋体"/>
            </a:endParaRPr>
          </a:p>
        </p:txBody>
      </p:sp>
      <p:graphicFrame>
        <p:nvGraphicFramePr>
          <p:cNvPr id="109" name="对象 1045506"/>
          <p:cNvGraphicFramePr/>
          <p:nvPr/>
        </p:nvGraphicFramePr>
        <p:xfrm>
          <a:off x="473040" y="2968560"/>
          <a:ext cx="106668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对象 104550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2968560"/>
                    <a:ext cx="10666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对象 1045507"/>
          <p:cNvGraphicFramePr/>
          <p:nvPr/>
        </p:nvGraphicFramePr>
        <p:xfrm>
          <a:off x="3313080" y="3960720"/>
          <a:ext cx="20340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对象 104550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3080" y="3960720"/>
                    <a:ext cx="2034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2T00:30:10Z</dcterms:created>
  <dc:creator>世纪金榜</dc:creator>
  <dc:description/>
  <dc:language>en-US</dc:language>
  <cp:lastModifiedBy>admin</cp:lastModifiedBy>
  <dcterms:modified xsi:type="dcterms:W3CDTF">2018-01-22T00:44:22Z</dcterms:modified>
  <cp:revision>1305</cp:revision>
  <dc:subject/>
  <dc:title>世纪金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  <property fmtid="{D5CDD505-2E9C-101B-9397-08002B2CF9AE}" pid="3" name="Version">
    <vt:r8>1</vt:r8>
  </property>
</Properties>
</file>