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7.png" ContentType="image/png"/>
  <Override PartName="/ppt/media/image35.wmf" ContentType="image/x-wmf"/>
  <Override PartName="/ppt/media/image15.png" ContentType="image/png"/>
  <Override PartName="/ppt/media/image19.wmf" ContentType="image/x-wmf"/>
  <Override PartName="/ppt/media/image36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gif" ContentType="image/gi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15A-1989-4271-BD22-FE942503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FB8-CFBB-48EE-98C8-DE971EA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85D-7847-4F00-BD1D-9ED57614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E00-D75D-4248-A058-8834DDA8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F34-8208-481F-AE72-BEDE3A6A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B7F-977B-4B71-A816-E84F3948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5A5-38ED-4C5A-B54E-1A1BA6D4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3AD-63CA-491C-80AF-CE8DFC47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265-8EA7-4507-8511-057E4C06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205-386A-4B7D-AC20-4387FA08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62D-8712-4C5D-8BE7-4D5BF6DD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AC1-8B0B-467A-9F2E-C4FB5D3E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C030-75B2-4FD6-96E4-FA82793C44B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3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4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95360" y="153036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的体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 圆柱和圆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2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3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56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57" name="椭圆 40" descr=""/>
            <p:cNvPicPr/>
            <p:nvPr/>
          </p:nvPicPr>
          <p:blipFill>
            <a:blip r:embed="rId8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0" name="椭圆 41" descr=""/>
            <p:cNvPicPr/>
            <p:nvPr/>
          </p:nvPicPr>
          <p:blipFill>
            <a:blip r:embed="rId9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3" name="椭圆 42" descr=""/>
            <p:cNvPicPr/>
            <p:nvPr/>
          </p:nvPicPr>
          <p:blipFill>
            <a:blip r:embed="rId10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66" name="椭圆 43" descr=""/>
            <p:cNvPicPr/>
            <p:nvPr/>
          </p:nvPicPr>
          <p:blipFill>
            <a:blip r:embed="rId11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69" name="椭圆 44" descr=""/>
            <p:cNvPicPr/>
            <p:nvPr/>
          </p:nvPicPr>
          <p:blipFill>
            <a:blip r:embed="rId12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2" name="椭圆 45" descr=""/>
            <p:cNvPicPr/>
            <p:nvPr/>
          </p:nvPicPr>
          <p:blipFill>
            <a:blip r:embed="rId13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Calibri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955800" y="2286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个圆柱形水桶底面积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分米，里面的水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，现将一根底面积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分米的圆柱形铁棒垂直插到水桶底面，这时铁棒还有一部分露在外面，现在水高多少分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258920" y="4110120"/>
            <a:ext cx="514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×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立方分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÷(1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4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分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4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分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现在水高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分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7"/>
          <p:cNvGrpSpPr/>
          <p:nvPr/>
        </p:nvGrpSpPr>
        <p:grpSpPr>
          <a:xfrm>
            <a:off x="512640" y="1373040"/>
            <a:ext cx="2810160" cy="668520"/>
            <a:chOff x="512640" y="1373040"/>
            <a:chExt cx="2810160" cy="668520"/>
          </a:xfrm>
        </p:grpSpPr>
        <p:sp>
          <p:nvSpPr>
            <p:cNvPr id="141" name="圆角矩形 5"/>
            <p:cNvSpPr/>
            <p:nvPr/>
          </p:nvSpPr>
          <p:spPr>
            <a:xfrm>
              <a:off x="1396800" y="1485720"/>
              <a:ext cx="19260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ff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文本框 13"/>
            <p:cNvSpPr/>
            <p:nvPr/>
          </p:nvSpPr>
          <p:spPr>
            <a:xfrm>
              <a:off x="1397160" y="14731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3730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20"/>
          <p:cNvSpPr/>
          <p:nvPr/>
        </p:nvSpPr>
        <p:spPr>
          <a:xfrm>
            <a:off x="1600200" y="4167360"/>
            <a:ext cx="527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解：设这时两个容器中的水深是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)×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)×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这时两个容器中的水深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55800" y="228600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甲、乙两个圆柱形容器，底面积的比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∶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甲容器中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乙容器中水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现在往两个容器中注入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样多的水，直到水的高度一样为止，这时两个容器中的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深是多少厘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76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Rectangle 2"/>
          <p:cNvSpPr/>
          <p:nvPr/>
        </p:nvSpPr>
        <p:spPr>
          <a:xfrm>
            <a:off x="1233360" y="2136600"/>
            <a:ext cx="729936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旋转问题中的圆柱的体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增加的表面积求圆柱的体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圆柱拼切近似的长方体为背景的体积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“等积变形”的数学思想解决圆柱的体积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综合利用容积知识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综合运用转化思想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"/>
          <p:cNvGrpSpPr/>
          <p:nvPr/>
        </p:nvGrpSpPr>
        <p:grpSpPr>
          <a:xfrm>
            <a:off x="512640" y="1373040"/>
            <a:ext cx="2810160" cy="668520"/>
            <a:chOff x="512640" y="1373040"/>
            <a:chExt cx="2810160" cy="668520"/>
          </a:xfrm>
        </p:grpSpPr>
        <p:sp>
          <p:nvSpPr>
            <p:cNvPr id="81" name="圆角矩形 12"/>
            <p:cNvSpPr/>
            <p:nvPr/>
          </p:nvSpPr>
          <p:spPr>
            <a:xfrm>
              <a:off x="1396800" y="1485720"/>
              <a:ext cx="19260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ff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文本框 13"/>
            <p:cNvSpPr/>
            <p:nvPr/>
          </p:nvSpPr>
          <p:spPr>
            <a:xfrm>
              <a:off x="1397160" y="14731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3730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8"/>
          <p:cNvSpPr/>
          <p:nvPr/>
        </p:nvSpPr>
        <p:spPr>
          <a:xfrm>
            <a:off x="955800" y="228600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求如图所示的图形绕轴旋转一周后形成的立体图形的体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6372360" y="3068640"/>
            <a:ext cx="1241280" cy="177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1625760" y="3716280"/>
            <a:ext cx="478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    ×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.42(    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体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.42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对象 1"/>
          <p:cNvGraphicFramePr/>
          <p:nvPr/>
        </p:nvGraphicFramePr>
        <p:xfrm>
          <a:off x="3444840" y="3870360"/>
          <a:ext cx="22860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4840" y="387036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对象 2"/>
          <p:cNvGraphicFramePr/>
          <p:nvPr/>
        </p:nvGraphicFramePr>
        <p:xfrm>
          <a:off x="4846680" y="3841920"/>
          <a:ext cx="44460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对象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6680" y="3841920"/>
                    <a:ext cx="4446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对象 3"/>
          <p:cNvGraphicFramePr/>
          <p:nvPr/>
        </p:nvGraphicFramePr>
        <p:xfrm>
          <a:off x="4579920" y="4307040"/>
          <a:ext cx="44460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对象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9920" y="4307040"/>
                    <a:ext cx="4446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1835280" y="3500280"/>
            <a:ext cx="478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0.24÷2÷3.14÷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(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×3.14×1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5.6(   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这个圆柱的体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5.6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对象 1"/>
          <p:cNvGraphicFramePr/>
          <p:nvPr/>
        </p:nvGraphicFramePr>
        <p:xfrm>
          <a:off x="5046840" y="4083120"/>
          <a:ext cx="4442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6840" y="4083120"/>
                    <a:ext cx="444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对象 2"/>
          <p:cNvGraphicFramePr/>
          <p:nvPr/>
        </p:nvGraphicFramePr>
        <p:xfrm>
          <a:off x="5473800" y="4530600"/>
          <a:ext cx="44424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3800" y="4530600"/>
                    <a:ext cx="4442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对象 3"/>
          <p:cNvGraphicFramePr/>
          <p:nvPr/>
        </p:nvGraphicFramePr>
        <p:xfrm>
          <a:off x="2700360" y="4098960"/>
          <a:ext cx="25380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对象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098960"/>
                    <a:ext cx="2538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8"/>
          <p:cNvSpPr/>
          <p:nvPr/>
        </p:nvSpPr>
        <p:spPr>
          <a:xfrm>
            <a:off x="955800" y="228600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个圆柱高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若高增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圆柱的表面积就增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.24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这个圆柱的体积是多少立方厘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对象 5"/>
          <p:cNvGraphicFramePr/>
          <p:nvPr/>
        </p:nvGraphicFramePr>
        <p:xfrm>
          <a:off x="1967040" y="2887560"/>
          <a:ext cx="444240" cy="29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对象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7040" y="2887560"/>
                    <a:ext cx="4442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334120" y="2720880"/>
            <a:ext cx="24303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1692360" y="3284640"/>
            <a:ext cx="478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5 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 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.6÷4×1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(    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这根钢材的体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对象 1"/>
          <p:cNvGraphicFramePr/>
          <p:nvPr/>
        </p:nvGraphicFramePr>
        <p:xfrm>
          <a:off x="4746600" y="3892680"/>
          <a:ext cx="48276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46600" y="3892680"/>
                    <a:ext cx="4827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对象 2"/>
          <p:cNvGraphicFramePr/>
          <p:nvPr/>
        </p:nvGraphicFramePr>
        <p:xfrm>
          <a:off x="5191200" y="4334040"/>
          <a:ext cx="4824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91200" y="4334040"/>
                    <a:ext cx="4824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8"/>
          <p:cNvSpPr/>
          <p:nvPr/>
        </p:nvSpPr>
        <p:spPr>
          <a:xfrm>
            <a:off x="955800" y="1628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把一根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圆柱形钢材截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段后， 如图所示，表面积比原来增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6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这根钢材的体积是多少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对象 3"/>
          <p:cNvGraphicFramePr/>
          <p:nvPr/>
        </p:nvGraphicFramePr>
        <p:xfrm>
          <a:off x="3025800" y="2209680"/>
          <a:ext cx="482400" cy="29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对象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25800" y="2209680"/>
                    <a:ext cx="4824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1979640" y="3745080"/>
            <a:ext cx="478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0÷2÷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(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     ×1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85(   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圆柱的高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 c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体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85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对象 1"/>
          <p:cNvGraphicFramePr/>
          <p:nvPr/>
        </p:nvGraphicFramePr>
        <p:xfrm>
          <a:off x="5230800" y="4343400"/>
          <a:ext cx="44460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0800" y="4343400"/>
                    <a:ext cx="4446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对象 2"/>
          <p:cNvGraphicFramePr/>
          <p:nvPr/>
        </p:nvGraphicFramePr>
        <p:xfrm>
          <a:off x="5999040" y="4754520"/>
          <a:ext cx="44460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99040" y="4754520"/>
                    <a:ext cx="4446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对象 3"/>
          <p:cNvGraphicFramePr/>
          <p:nvPr/>
        </p:nvGraphicFramePr>
        <p:xfrm>
          <a:off x="3754440" y="4311720"/>
          <a:ext cx="25416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对象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4440" y="4311720"/>
                    <a:ext cx="2541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8"/>
          <p:cNvSpPr/>
          <p:nvPr/>
        </p:nvSpPr>
        <p:spPr>
          <a:xfrm>
            <a:off x="988920" y="191628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把一个底面半径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圆柱切拼成一个近似的长方体，表面积增加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圆柱的高是多少厘米？体积是多少立方厘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对象 5"/>
          <p:cNvGraphicFramePr/>
          <p:nvPr/>
        </p:nvGraphicFramePr>
        <p:xfrm>
          <a:off x="3119400" y="2505240"/>
          <a:ext cx="44460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对象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19400" y="2505240"/>
                    <a:ext cx="4446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4"/>
          <p:cNvSpPr/>
          <p:nvPr/>
        </p:nvSpPr>
        <p:spPr>
          <a:xfrm>
            <a:off x="971640" y="153360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一支牙膏出口处直径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m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小红每次刷牙都挤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长的牙膏，这支牙膏可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。现将出口处的直径改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m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小红还是按习惯每次挤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长的牙膏。这样，这支牙膏只能用几次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332000" y="378936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m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5c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m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6c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×3.14×              ×1÷[3.14×               ×1]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次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这支牙膏只能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次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对象 1"/>
          <p:cNvGraphicFramePr/>
          <p:nvPr/>
        </p:nvGraphicFramePr>
        <p:xfrm>
          <a:off x="2843280" y="4302000"/>
          <a:ext cx="9777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4302000"/>
                    <a:ext cx="977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对象 2"/>
          <p:cNvGraphicFramePr/>
          <p:nvPr/>
        </p:nvGraphicFramePr>
        <p:xfrm>
          <a:off x="5219640" y="4317840"/>
          <a:ext cx="97812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317840"/>
                    <a:ext cx="978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955800" y="2286000"/>
            <a:ext cx="7576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09560" indent="-709560">
              <a:lnSpc>
                <a:spcPct val="150000"/>
              </a:lnSpc>
              <a:tabLst>
                <a:tab algn="l" pos="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个圆柱形贮油桶，从里面量得底面半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现贮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10 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正好占油桶容积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求油桶的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076800" y="3427560"/>
            <a:ext cx="1806840" cy="1150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63600" y="4224240"/>
            <a:ext cx="478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 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 d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710 L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7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710÷25%÷(3.14×     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(d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油桶的高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 d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对象 1"/>
          <p:cNvGraphicFramePr/>
          <p:nvPr/>
        </p:nvGraphicFramePr>
        <p:xfrm>
          <a:off x="4067280" y="4797360"/>
          <a:ext cx="380880" cy="2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4797360"/>
                    <a:ext cx="3808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对象 2"/>
          <p:cNvGraphicFramePr/>
          <p:nvPr/>
        </p:nvGraphicFramePr>
        <p:xfrm>
          <a:off x="5200560" y="4341960"/>
          <a:ext cx="48276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00560" y="4341960"/>
                    <a:ext cx="4827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4"/>
          <p:cNvSpPr/>
          <p:nvPr/>
        </p:nvSpPr>
        <p:spPr>
          <a:xfrm>
            <a:off x="971640" y="153360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一种饮料瓶的瓶身是圆柱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包括瓶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容积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 m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现在瓶中装有一些饮料，正放时饮料高度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倒放时，空余部分的高度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瓶中现有多少毫升的饮料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1873080" y="4865760"/>
            <a:ext cx="478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÷(2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)×2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(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瓶中现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 mL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饮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3625920" y="3284640"/>
            <a:ext cx="29876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Administrator</cp:lastModifiedBy>
  <dcterms:modified xsi:type="dcterms:W3CDTF">2018-01-12T10:26:56Z</dcterms:modified>
  <cp:revision>1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