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9F8-D9C7-4738-9F0B-FDC4C724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29A-F57A-4528-B724-80949D4A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279-950D-42A5-B7EF-CC51C2F6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C89-3093-4525-BEC0-2CA7E9CF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762-27F1-45A7-A808-7C9EC08D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0EF-1871-4719-B306-A09D6410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22E-E259-49B9-B449-53A4807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2C1-C6F5-4382-8858-C6FE233F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701-A32D-46CA-B810-FDD1C1B7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791-A2B6-425E-97E2-5A2E5DD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A48-0149-4092-8EA7-AEE40EC7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36C-AF90-432C-9B4B-9797082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2E2-B3BD-4BAA-A1C1-5715AF7C5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7208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绘制平面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0"/>
          <p:cNvSpPr/>
          <p:nvPr/>
        </p:nvSpPr>
        <p:spPr>
          <a:xfrm>
            <a:off x="108000" y="14270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常生活中，人们为了清楚地呈现某块地面以及相关建筑物占地大小和位置关系，常常需要绘制平面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63640" y="2786040"/>
            <a:ext cx="3992760" cy="355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667640" y="4417920"/>
            <a:ext cx="1030320" cy="17337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4"/>
          <p:cNvSpPr/>
          <p:nvPr/>
        </p:nvSpPr>
        <p:spPr>
          <a:xfrm>
            <a:off x="6156360" y="3170160"/>
            <a:ext cx="2663640" cy="1152720"/>
          </a:xfrm>
          <a:prstGeom prst="wedgeRoundRectCallout">
            <a:avLst>
              <a:gd name="adj1" fmla="val -5375"/>
              <a:gd name="adj2" fmla="val 75759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能知道些什么？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2"/>
          <p:cNvGrpSpPr/>
          <p:nvPr/>
        </p:nvGrpSpPr>
        <p:grpSpPr>
          <a:xfrm>
            <a:off x="49320" y="603360"/>
            <a:ext cx="3244680" cy="525240"/>
            <a:chOff x="49320" y="603360"/>
            <a:chExt cx="3244680" cy="525240"/>
          </a:xfrm>
        </p:grpSpPr>
        <p:grpSp>
          <p:nvGrpSpPr>
            <p:cNvPr id="51" name="圆角矩形 5"/>
            <p:cNvGrpSpPr/>
            <p:nvPr/>
          </p:nvGrpSpPr>
          <p:grpSpPr>
            <a:xfrm>
              <a:off x="196920" y="603360"/>
              <a:ext cx="3097080" cy="525240"/>
              <a:chOff x="196920" y="603360"/>
              <a:chExt cx="3097080" cy="525240"/>
            </a:xfrm>
          </p:grpSpPr>
          <p:pic>
            <p:nvPicPr>
              <p:cNvPr id="52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20" y="603360"/>
                <a:ext cx="30970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38680" y="688320"/>
                <a:ext cx="29534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了解任务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组合 4"/>
            <p:cNvGrpSpPr/>
            <p:nvPr/>
          </p:nvGrpSpPr>
          <p:grpSpPr>
            <a:xfrm>
              <a:off x="49320" y="729720"/>
              <a:ext cx="428760" cy="187200"/>
              <a:chOff x="49320" y="729720"/>
              <a:chExt cx="428760" cy="187200"/>
            </a:xfrm>
          </p:grpSpPr>
          <p:sp>
            <p:nvSpPr>
              <p:cNvPr id="55" name="椭圆 11"/>
              <p:cNvSpPr/>
              <p:nvPr/>
            </p:nvSpPr>
            <p:spPr>
              <a:xfrm rot="16200000">
                <a:off x="364320" y="80316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椭圆 13"/>
              <p:cNvGrpSpPr/>
              <p:nvPr/>
            </p:nvGrpSpPr>
            <p:grpSpPr>
              <a:xfrm>
                <a:off x="344520" y="842760"/>
                <a:ext cx="120240" cy="65880"/>
                <a:chOff x="344520" y="842760"/>
                <a:chExt cx="120240" cy="65880"/>
              </a:xfrm>
            </p:grpSpPr>
            <p:pic>
              <p:nvPicPr>
                <p:cNvPr id="57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4520" y="84276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16200000">
                  <a:off x="381240" y="833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椭圆 29"/>
              <p:cNvSpPr/>
              <p:nvPr/>
            </p:nvSpPr>
            <p:spPr>
              <a:xfrm rot="16200000">
                <a:off x="364320" y="698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椭圆 30"/>
              <p:cNvGrpSpPr/>
              <p:nvPr/>
            </p:nvGrpSpPr>
            <p:grpSpPr>
              <a:xfrm>
                <a:off x="344520" y="738360"/>
                <a:ext cx="120240" cy="65880"/>
                <a:chOff x="344520" y="738360"/>
                <a:chExt cx="120240" cy="65880"/>
              </a:xfrm>
            </p:grpSpPr>
            <p:pic>
              <p:nvPicPr>
                <p:cNvPr id="61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4520" y="73836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6200000">
                  <a:off x="381240" y="72828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圆角矩形 31"/>
              <p:cNvGrpSpPr/>
              <p:nvPr/>
            </p:nvGrpSpPr>
            <p:grpSpPr>
              <a:xfrm>
                <a:off x="49320" y="863640"/>
                <a:ext cx="393480" cy="51840"/>
                <a:chOff x="49320" y="863640"/>
                <a:chExt cx="393480" cy="51840"/>
              </a:xfrm>
            </p:grpSpPr>
            <p:pic>
              <p:nvPicPr>
                <p:cNvPr id="64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20" y="863640"/>
                  <a:ext cx="3934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242640" y="7290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32"/>
              <p:cNvGrpSpPr/>
              <p:nvPr/>
            </p:nvGrpSpPr>
            <p:grpSpPr>
              <a:xfrm>
                <a:off x="49320" y="839520"/>
                <a:ext cx="393480" cy="51840"/>
                <a:chOff x="49320" y="839520"/>
                <a:chExt cx="393480" cy="51840"/>
              </a:xfrm>
            </p:grpSpPr>
            <p:pic>
              <p:nvPicPr>
                <p:cNvPr id="67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20" y="839520"/>
                  <a:ext cx="3934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242640" y="7030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33"/>
              <p:cNvGrpSpPr/>
              <p:nvPr/>
            </p:nvGrpSpPr>
            <p:grpSpPr>
              <a:xfrm>
                <a:off x="49320" y="759240"/>
                <a:ext cx="393480" cy="48600"/>
                <a:chOff x="49320" y="759240"/>
                <a:chExt cx="393480" cy="48600"/>
              </a:xfrm>
            </p:grpSpPr>
            <p:pic>
              <p:nvPicPr>
                <p:cNvPr id="70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9320" y="759240"/>
                  <a:ext cx="3934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42640" y="6213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圆角矩形 34"/>
              <p:cNvGrpSpPr/>
              <p:nvPr/>
            </p:nvGrpSpPr>
            <p:grpSpPr>
              <a:xfrm>
                <a:off x="49320" y="731520"/>
                <a:ext cx="393480" cy="51840"/>
                <a:chOff x="49320" y="731520"/>
                <a:chExt cx="393480" cy="51840"/>
              </a:xfrm>
            </p:grpSpPr>
            <p:pic>
              <p:nvPicPr>
                <p:cNvPr id="73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9320" y="731520"/>
                  <a:ext cx="3934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242640" y="5950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0"/>
          <p:cNvSpPr/>
          <p:nvPr/>
        </p:nvSpPr>
        <p:spPr>
          <a:xfrm>
            <a:off x="108000" y="9158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绘制学校校园某个场所或建筑物的平面图，需要考虑哪些 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66560" y="2276640"/>
            <a:ext cx="8210880" cy="32652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4"/>
          <p:cNvSpPr/>
          <p:nvPr/>
        </p:nvSpPr>
        <p:spPr>
          <a:xfrm>
            <a:off x="6083280" y="2508120"/>
            <a:ext cx="2152800" cy="1441440"/>
          </a:xfrm>
          <a:prstGeom prst="wedgeRoundRectCallout">
            <a:avLst>
              <a:gd name="adj1" fmla="val -3814"/>
              <a:gd name="adj2" fmla="val 75342"/>
              <a:gd name="adj3" fmla="val 16667"/>
            </a:avLst>
          </a:prstGeom>
          <a:gradFill rotWithShape="0">
            <a:gsLst>
              <a:gs pos="0">
                <a:srgbClr val="cdcdff"/>
              </a:gs>
              <a:gs pos="100000">
                <a:srgbClr val="f3f3ff"/>
              </a:gs>
            </a:gsLst>
            <a:lin ang="5400000"/>
          </a:gradFill>
          <a:ln w="12600">
            <a:solidFill>
              <a:srgbClr val="cbb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准备测量工具， 小组同学分工合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4"/>
          <p:cNvSpPr/>
          <p:nvPr/>
        </p:nvSpPr>
        <p:spPr>
          <a:xfrm>
            <a:off x="3276720" y="2508120"/>
            <a:ext cx="2077920" cy="1382760"/>
          </a:xfrm>
          <a:prstGeom prst="wedgeRoundRectCallout">
            <a:avLst>
              <a:gd name="adj1" fmla="val -2990"/>
              <a:gd name="adj2" fmla="val 72018"/>
              <a:gd name="adj3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注意到它们与 周围建筑物的位 置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4"/>
          <p:cNvSpPr/>
          <p:nvPr/>
        </p:nvSpPr>
        <p:spPr>
          <a:xfrm>
            <a:off x="611280" y="2508120"/>
            <a:ext cx="2376360" cy="1441440"/>
          </a:xfrm>
          <a:prstGeom prst="wedgeRoundRectCallout">
            <a:avLst>
              <a:gd name="adj1" fmla="val 2953"/>
              <a:gd name="adj2" fmla="val 73055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根据它们的占地 形状和大小，选择 合适的比例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539640" y="4102200"/>
            <a:ext cx="115272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4991040" y="3813120"/>
            <a:ext cx="7207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7537320" y="3965400"/>
            <a:ext cx="7192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96840" y="1650960"/>
            <a:ext cx="856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小组打算绘制哪个活动场所或建筑物的平面图？需要做哪些准备工作？先讨论下面的问题，再进行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69800" y="2982960"/>
            <a:ext cx="8425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较长的距离，可以选择什么工具？采用什么方法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469800" y="37051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场地或建筑物的形状比较复杂，应该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6"/>
          <p:cNvSpPr/>
          <p:nvPr/>
        </p:nvSpPr>
        <p:spPr>
          <a:xfrm>
            <a:off x="468360" y="4413240"/>
            <a:ext cx="8928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确定活动场所、建筑物之间的位置关系？需要哪些工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88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8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活动准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92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94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98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01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04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07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10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79280" y="1701720"/>
            <a:ext cx="8701200" cy="33591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4"/>
          <p:cNvSpPr/>
          <p:nvPr/>
        </p:nvSpPr>
        <p:spPr>
          <a:xfrm>
            <a:off x="6083280" y="1876320"/>
            <a:ext cx="2521080" cy="1495440"/>
          </a:xfrm>
          <a:prstGeom prst="wedgeRoundRectCallout">
            <a:avLst>
              <a:gd name="adj1" fmla="val -2101"/>
              <a:gd name="adj2" fmla="val 75097"/>
              <a:gd name="adj3" fmla="val 16667"/>
            </a:avLst>
          </a:prstGeom>
          <a:gradFill rotWithShape="0">
            <a:gsLst>
              <a:gs pos="0">
                <a:srgbClr val="cdcdff"/>
              </a:gs>
              <a:gs pos="100000">
                <a:srgbClr val="f3f3ff"/>
              </a:gs>
            </a:gsLst>
            <a:lin ang="5400000"/>
          </a:gradFill>
          <a:ln w="12600">
            <a:solidFill>
              <a:srgbClr val="cbb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位置关系时， 要选定观测点，使 用指南针和卷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4"/>
          <p:cNvSpPr/>
          <p:nvPr/>
        </p:nvSpPr>
        <p:spPr>
          <a:xfrm>
            <a:off x="324000" y="1893960"/>
            <a:ext cx="2735280" cy="1535040"/>
          </a:xfrm>
          <a:prstGeom prst="wedgeRoundRectCallout">
            <a:avLst>
              <a:gd name="adj1" fmla="val 1157"/>
              <a:gd name="adj2" fmla="val 76046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较长的距离，可以用卷尺、长绳，也可以走一走估计长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3419640" y="1911240"/>
            <a:ext cx="2304720" cy="1536840"/>
          </a:xfrm>
          <a:prstGeom prst="wedgeRoundRectCallout">
            <a:avLst>
              <a:gd name="adj1" fmla="val 291"/>
              <a:gd name="adj2" fmla="val 71092"/>
              <a:gd name="adj3" fmla="val 16667"/>
            </a:avLst>
          </a:prstGeom>
          <a:gradFill rotWithShape="0">
            <a:gsLst>
              <a:gs pos="0">
                <a:srgbClr val="ffb2bf"/>
              </a:gs>
              <a:gs pos="100000">
                <a:srgbClr val="ffe7eb"/>
              </a:gs>
            </a:gsLst>
            <a:lin ang="18900000"/>
          </a:gradFill>
          <a:ln w="12600">
            <a:solidFill>
              <a:srgbClr val="f18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状复杂的，可 以把它分解成几 个简单的图形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324000" y="3429000"/>
            <a:ext cx="8283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348000" y="3621240"/>
            <a:ext cx="719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7883640" y="3429000"/>
            <a:ext cx="7207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5"/>
          <p:cNvSpPr/>
          <p:nvPr/>
        </p:nvSpPr>
        <p:spPr>
          <a:xfrm>
            <a:off x="395280" y="12351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一组，先分工，再实际测量，并绘制平面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4681440" cy="4033800"/>
          </a:xfrm>
          <a:prstGeom prst="rect">
            <a:avLst/>
          </a:prstGeom>
          <a:ln w="0">
            <a:noFill/>
          </a:ln>
        </p:spPr>
      </p:pic>
      <p:sp>
        <p:nvSpPr>
          <p:cNvPr id="121" name="矩形 8"/>
          <p:cNvSpPr/>
          <p:nvPr/>
        </p:nvSpPr>
        <p:spPr>
          <a:xfrm>
            <a:off x="466560" y="58993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各小组完成的平面图，说说测绘过程中的收获和体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23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24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分组测绘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127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129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133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136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139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142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145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2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